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media/image10.jpeg" ContentType="image/jpe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  <p:sldId id="282" r:id="rId54"/>
    <p:sldId id="283" r:id="rId55"/>
    <p:sldId id="284" r:id="rId56"/>
    <p:sldId id="285" r:id="rId57"/>
    <p:sldId id="286" r:id="rId58"/>
    <p:sldId id="287" r:id="rId59"/>
    <p:sldId id="288" r:id="rId60"/>
    <p:sldId id="289" r:id="rId61"/>
    <p:sldId id="290" r:id="rId62"/>
    <p:sldId id="291" r:id="rId63"/>
    <p:sldId id="292" r:id="rId64"/>
    <p:sldId id="293" r:id="rId65"/>
    <p:sldId id="294" r:id="rId66"/>
    <p:sldId id="295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slide" Target="slides/slide27.xml"/><Relationship Id="rId55" Type="http://schemas.openxmlformats.org/officeDocument/2006/relationships/slide" Target="slides/slide28.xml"/><Relationship Id="rId56" Type="http://schemas.openxmlformats.org/officeDocument/2006/relationships/slide" Target="slides/slide29.xml"/><Relationship Id="rId57" Type="http://schemas.openxmlformats.org/officeDocument/2006/relationships/slide" Target="slides/slide30.xml"/><Relationship Id="rId58" Type="http://schemas.openxmlformats.org/officeDocument/2006/relationships/slide" Target="slides/slide31.xml"/><Relationship Id="rId59" Type="http://schemas.openxmlformats.org/officeDocument/2006/relationships/slide" Target="slides/slide32.xml"/><Relationship Id="rId60" Type="http://schemas.openxmlformats.org/officeDocument/2006/relationships/slide" Target="slides/slide33.xml"/><Relationship Id="rId61" Type="http://schemas.openxmlformats.org/officeDocument/2006/relationships/slide" Target="slides/slide34.xml"/><Relationship Id="rId62" Type="http://schemas.openxmlformats.org/officeDocument/2006/relationships/slide" Target="slides/slide35.xml"/><Relationship Id="rId63" Type="http://schemas.openxmlformats.org/officeDocument/2006/relationships/slide" Target="slides/slide36.xml"/><Relationship Id="rId64" Type="http://schemas.openxmlformats.org/officeDocument/2006/relationships/slide" Target="slides/slide37.xml"/><Relationship Id="rId65" Type="http://schemas.openxmlformats.org/officeDocument/2006/relationships/slide" Target="slides/slide38.xml"/><Relationship Id="rId66" Type="http://schemas.openxmlformats.org/officeDocument/2006/relationships/slide" Target="slides/slide39.xml"/><Relationship Id="rId67" Type="http://schemas.openxmlformats.org/officeDocument/2006/relationships/slide" Target="slides/slide40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E654-2A56-47F9-BB48-03F28456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D420-1BAF-4B07-9CCE-31FD7297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E9A3E6-A69E-4CF5-9C4A-4A895804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E74990-6BEB-4B7F-96AF-AD51E15A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B2CDEF-BD90-4C9E-BB33-BFA729EF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AB2174-7CDF-409B-AE9E-133A897A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CA0934-52F4-4CCF-9A11-4926EF4F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B5FBD7-D7FB-41FE-92E0-65198DA9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68D7AE-8A68-4EAB-973B-A2D179D7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3D2C52-59AD-4C12-81B2-5EA5137F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62D5DC-39E0-4B7C-A847-7EB0F67E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9128D-3116-40F5-9908-C136D0EF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50D-2A28-4E0B-8A1F-1E9B62EF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D676A-0F48-4B26-A8FA-3F716187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07E07-7BB3-487A-A610-B801B817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173BF-2910-4E8E-A78F-C2E71D75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E6178-C7C4-4D6C-9363-728B0EEA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6981D-A099-4667-A95E-41D59BE4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0736D-E141-4B62-B3F2-9C81D5A7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E99C4-A753-4272-95DB-D6ED97AF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F1278-6411-4232-9137-BFE09338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1D654-80A9-4AAF-AA97-EF79E01D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D9BD5-1E0F-44BE-9F24-16009A8C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CD83-3A98-4A59-89F5-3024E8C3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38F5A-7D31-49A4-A051-A6D07325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479CC1-0F33-4CBF-81EC-855A4F93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F646F5-1151-4755-AA0B-A3B1599E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9B4397-0AE4-4EEF-B706-788E95C5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EBEB98-8FFE-4FCF-B5A6-3AD5F566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555588-40D1-4169-8111-7D57C64C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B96DC4-6DAF-4437-BD18-CF7EE801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025F8C-4FF5-47D4-9163-70E908F2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F8F5E7-32AA-4433-8C72-CD094F27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ABE93B-5F02-4631-96F8-13B7AAED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D24C-55F4-4CE8-BBEB-A6C1EA28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046263-E363-4AB2-819B-81865D42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C18415-A38D-4834-AF7D-85F1BEEA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AED8E5-15A9-4310-9E00-71FFB567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7871C-4635-49A1-AB21-4C0D1679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FF9D8-5BAD-4E07-ADF5-E50CED88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6FB5B-55F7-4096-9827-6DE83D98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0B5D7-2011-44E9-9316-75F51D7B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BB68B-40EC-4022-9704-2B5F652F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729E6-FA17-4845-A4A3-56D2F1F7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4979B-FA98-4149-ACBF-30E90C58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10AF-5084-4692-A160-9332A90C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53CAE-327D-47AF-9E26-B3F03808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C2639-6AD3-491F-8CDA-2DE2F83C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D00B2-6CC5-4E46-989F-B0F1D651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4D9FB-719C-4969-8E65-B89C4C39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D6825-B1B0-47E8-8B7E-DC24B7F6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1299C-CC9C-46AF-A247-CE29D70D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F2BB0C-3CD9-4BAA-9046-7954A8B5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752952-AF85-4699-848E-89F760D8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9A49A2-5BE7-43E8-ACB1-8F9146CB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D8CBE-7F89-4754-B5CB-99CACF59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23BA-592F-4469-8509-BFC3F927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C78C6-E700-4A12-9046-49A8AA8A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C17D35-BCDE-4966-B1C2-83DC384D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E36E2B-1B53-4F41-9B1E-DD180982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F0299B-046C-4ED1-BEBC-FF9AC215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2107F-10B3-4F84-821A-9E57DE6A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59C86B-DBC8-4A63-B4F7-3D122856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BF4B2-081B-45BB-B569-EEBF0539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B38111-F0C0-4EDD-8951-39F3DE7D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1241D3-5B27-4DA1-90C1-B6C041E3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757BA-1F9D-4AB3-B1D3-55080CE7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6E86-AB44-405F-97DA-CF789088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040B99-0BEC-47B8-8E24-8AA3720F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CA497-EFC4-4A4A-A318-AD827073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59B417-3DDF-4ECF-BAAE-4676BA92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78982-A959-4581-8703-BC9E6758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7BFA10-CA3B-4557-B296-D2D8F587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46CC19-3510-45ED-B946-6DA5A695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4275A3-6DB5-4311-B7DE-EDFE4D59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82FEAE-EC04-405C-9EF8-5B0A7B63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0441D-4463-4977-A7C6-7A618A5C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1A074F-6714-4F32-86E6-D2925298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8B3A-6B55-4EEB-B09F-EC5C93BF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A2D857-A64B-4483-AC02-A4EAEA04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E6F502-7D92-4BCA-A146-E980BD27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1D21CE-0E86-4972-8D9E-E5BCD200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4E283-B18C-4E2E-9747-116844AA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41DCCD-2297-4ECD-A228-F3186EBD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1980B3-3E01-4BA0-B776-FAB34915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4ED142-669F-4163-A7E2-A224619F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52C399-F3AA-4A28-ADC9-DA413131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92AEE2-CC5D-4C74-BCDB-D0371435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A38801-5E21-4CFB-A873-C6896CB5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E282-1BD0-4D8D-89C1-34E33DB5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6B64D5-975F-473E-8911-F698B0FB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0D766F-C9D7-416B-B48F-384947BE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8DF893-8308-484E-B23F-B4F304A6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7B7B54-9249-468E-B446-9AB76B16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A156C7-38DF-4D6A-998B-636D4FE7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D09F5B-022D-412D-BBF6-3DFA2A31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0880FC-648A-46B0-9AB9-B531525B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9A7D27-E91A-490B-9DCF-19846ABB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CDED2A-86FD-4505-8C83-433AD7B5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EABA80-B28E-405C-A634-8C3C6AAF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F2E2-8E5F-41B5-9B69-7951ED16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947600-B733-4675-A61B-CEDA40F1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355FF1-A6DF-45E0-A829-66ADA959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304950-BE89-48D2-A937-9A39A361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69FAA5-BA56-43E4-9849-C33CAF75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E555ED-B60E-4D18-AF57-AD346B8B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C33BA6-64EC-410C-8026-9C2442B3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08A0E8-FEEE-49E6-A7C7-62DBEDFE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12D5C8-6B26-4202-81AB-3C8D0767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2BF6D6-C35C-4326-85E5-7C6F5FB2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3716E1-9622-4060-873A-C54AD067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335-E550-4133-A1FE-764A42B8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DEB0-C8C9-41A5-85F8-7E120CD5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08DA62-34E6-496E-8FB2-11265D90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74D0C2-0351-4F4B-B699-303EA308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FF9140-B4FD-4AF1-97AF-5A3E272C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FD6343-E80C-45F7-99A3-6C038513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5D5871-94D6-46D8-B896-33074C94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796F858-6199-4880-BFC5-BDFD649C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D27A919-F86F-4DBB-9DCB-D0AFEB41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89720FF-8028-410B-BBCE-1BAE6AD0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B1C0404-B7B0-49C9-A960-6780F536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EA37DEA-1D09-41ED-BFA3-9EB7BBCA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84E7-753E-4639-8762-94693B1A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ED22850-23DF-4D09-BDAF-6850D14C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C28E4D3-09CB-4235-BB3D-ABCC91DF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D0DD7ED-53D9-4935-A591-26340810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A185FFF-4B49-4E67-84DA-02CC2A68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6DFF450-8C40-4B6F-BD01-BF6264BD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66B8E29-5B71-4980-9BFC-3B5B4067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472C294-F10A-45AB-B8B9-A39837A9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697B02-1F26-4732-947F-62DAE012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C04DBD-D98F-4EA4-8A5D-FB28EA62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F714E0-7663-4D17-9410-32E8600F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7755-23FD-4207-BFF8-8C67E5BD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C7EC67-3567-4398-B9B7-99FC9490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5E38B3-E88F-412C-B549-0811391F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4AC35F-52D2-43A8-A973-71911157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D88F2C-8981-4C9D-A838-48BDEA80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E35875-08EE-4701-AF6E-39875A70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C870A4-E66B-4095-B83B-D70FABF8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4B7309-2650-418C-9894-3303F10E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6A5068-4EE9-410E-9200-AE900703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A4B26E-1B12-47E1-8270-824A69E1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A2518A-C61E-46C8-8629-849EE123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676D-F573-4952-9F7E-6434CCCA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D9EDE2-8A21-4FE5-B21D-03CA9B83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68BFB8-30DD-432C-AB88-73768E9B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1F00A6-49A6-48CA-9156-0C6BC988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8CC178-6A87-4DC1-963B-F0016A6C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9F628A-864C-4F7F-9B27-A118C488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67F494-7755-481C-BB30-7C9B18BD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1D765E-36F8-4937-B6F5-443DAF0F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C1D45F-79EB-42B1-BD94-A73AA075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68C8FA-23EE-4034-BFD1-7051DA30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558E48-E63C-479C-B8F9-DB08D9D3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12EF-EE63-48DB-9349-13A97C53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C19417-C384-4000-A232-AB65C2AA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EFDE73-153E-4FF8-A95D-0D27EBAF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0561FF-085A-47A4-A7E7-4B15979D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A60E25-DB6E-4528-81E9-36A22B6C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23393D-87E5-45E5-A33C-8F36F5E5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DC2899-8C44-4FB2-9826-82FFD41F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24A115-4237-42A9-BF3F-5F586B7E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162252-5F24-4F38-B263-B13E80AE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DAF727-7D13-46F2-9F6C-9F8B6956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C9F2BB-8363-4F43-A2A7-72E9367D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F41DA-ED7D-445A-86CD-A7891DB5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B21BE0-D90A-4235-8E44-C134BFDC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B49A3B-BF8B-452F-BB5F-B40C00EE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57DE39-1627-43ED-9F84-EF2A2B2D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A345CF-9DFF-41B3-AA01-60AD59C5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0AD79E-9C60-4D94-905E-BD5388D8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97F5D6-1B54-4506-8130-AA7B6576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EA2BDB-8068-4884-8415-158AA372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2D6924-1399-4AD5-B808-EE6DBFB6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ADAF5C-7F44-41F1-855D-367324F4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88F670-A506-4D4D-8875-AB0C4A03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1566C-85C9-48C7-9771-08805CA1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3F9F19-5198-42A0-A076-12733C91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571BC7-B26F-4A57-8FA3-BE34CFC4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362048-D17E-4FEE-A6A1-806FF254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B3CF81-5781-4BC4-9AC4-0687417A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B9FC9E-8123-4C7C-9CC5-3E63E7C5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D99B59-64A2-498F-85F6-C6F74F26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799198-64F5-4348-BFF6-7F32720C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A701B2-40AF-40C5-8B28-8D9D8449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52C09B-9F00-41B0-8A30-7909424C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058DDC-CE16-4391-A4A1-7B2D00DC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7A671-B8FA-4A7D-B59F-07556E18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4B3AC1-4257-455E-A7DB-9D0DCD8B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47C529-442E-4693-BCF3-9870A4A9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28439E-C3C2-4D73-A7A9-D8E4D95D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81EAF1-30FD-45BF-BA45-C7257EDD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68AD08-6722-4B76-9210-4AA086FA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30C14C-E666-425A-9D99-94E3DD62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4F5239-1A51-405D-8F4B-3F0203BF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56C191-610F-4027-96A7-08333645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D2ACE7-50EE-41CA-8AD9-8D973AEE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AC835A-DA2E-411C-9966-848AE346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A6F0D-5A97-4D8C-8A3D-519A7C40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42EE43-E516-4ABD-B56C-A82BC278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4292B2-0F1B-4960-B1C3-10FA6EB0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72ACDD-0DA2-48C2-996E-E087C0CE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022F9C-14B0-41E5-8581-9CD7E63A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BF4A33-472C-4284-AA02-1AEA7FB9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F57FC7-DE90-42EF-933B-421CE5F2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11AEB6-B4F6-4643-9A03-710CBE5A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92D12E-5D24-4EEE-837A-BD967073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712856-FE3C-4CAD-8EF2-7E0BD02A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E70C5C-0A0A-435C-8FA3-46263574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CD104-3B38-4472-AF7F-4EC5B35B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4DFEFB-F216-4C4C-85A2-B550865B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E93BF4-E017-463A-A549-E9D3D9C2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E714F5-7067-41DE-9699-06812B75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0CB520-4661-4DC5-8BC1-AC349498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E8F040-93EC-40FA-AD3E-F9DAB438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B519B0-8B7F-4895-A4C8-4180DFD3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42BF3C-3BAC-43F3-8A84-A746C81A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14E5D6-DF30-48CB-BBDF-C0EF39A2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2BA601-1EF9-43EB-A84A-C87393A4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493F92-D3F3-4256-8BE5-599BB32C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B075-4EDA-48DC-9B73-7F87DFE3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35E36-EE24-4A76-9B2C-D43E68A0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7C9095-3756-4BA7-A7C6-95746B9A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5E2EBF-FB9F-4F5A-9109-311D7FC2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D31E58-276D-4822-AB57-745BAB01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43849B-B9A4-4040-9531-9ABAA3AA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DD23DD-891F-4FCA-BB9E-58E42D26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E01890-A210-4DFC-B56E-BEA5D666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82E142-97A1-4FCB-9A4B-EACC324E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164DFD-52F3-4B1B-9685-2DD8B6DE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B3C2C2-C465-40A1-A94C-9B91127D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2DDF28-59B8-46CE-9794-AC576E2A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6A57A-2F9B-40EA-8B3A-9BD150B6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F9561B-7323-419F-B19F-84430EFA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3529B9-0923-4A29-A047-3E3F10AA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D90105-4A8A-462E-A88E-C82C7FC1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F7884-94BE-46CC-A7EB-87F591DC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CF336-AB25-43F9-A0FD-2292FC83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83CE3-4119-44C2-9707-97BC5294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067F7-AAF6-48FE-8718-BB9C4602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51D0D-473C-476D-A11C-52322379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F80BB-BF86-44CB-9D86-795DAD18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52A4A-CA57-43A0-8358-298E42BC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DF499-D6EF-4BDD-862B-FC5395E2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7407-9850-4870-8A29-E31414CF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F5265-97E7-4C31-A5E5-184AA27E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21306-6C59-48BE-862B-9FFCA7BB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4D8EE-8FEA-4B8A-8A96-B62394BF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3C4F6-3582-48BC-AD0E-AB7D7525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2E104-DA9E-461D-AE0E-0B0BE55F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8F537-C62B-4F09-B9A6-41F70A34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93780-08AB-4627-B8B7-7F60D195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9C0BF-47A2-471C-897E-E15447E8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98B31-9DF9-4936-AE44-C3E30DD3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966C23-89F0-4A7E-AAB0-F05815B9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29A-F039-435F-933B-E32A491C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6274D6-60BE-4A92-B860-D612CB4B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17B11A-A3C7-486A-9DD8-81E64CEC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2B7454-F785-4597-8940-8C0222A4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3E201F-CE17-44D3-B30C-BEB4B5A8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C24AA7-CFAE-46B2-AF87-BE4EC640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C6595-5646-4355-BF6F-D7EA1F77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1D639A-575B-4E40-B2A0-9642606C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6CACC6-E483-4584-A9B3-59AD7FCF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29FA8-A214-4ED2-A217-8F52E883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108E8-1064-4D39-BB3F-BB6832CE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8CD-E465-4E75-B4B3-B7A1DD95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0F9ADA-0FA7-4665-A958-BD4683AC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C06B2-9CA4-4AA4-B613-D5B50D3A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E854D-6B5F-4C87-9A83-2412BBE5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8972F-4B90-4DA6-AF24-68660101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98F1C-81E1-4450-BF4C-C01513F8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B03C3-510B-48AE-927E-1F87874E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E8E7F-8BE3-48C7-87B5-3F265050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D8A30-F484-4377-8673-7F8E8944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8DFB7-4D8E-40AF-BA04-6BE1DBD0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7E062-A03B-428E-B265-CCBBE55F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C94D-1C3F-4DAC-8CE1-4225C56C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65302-26F8-4911-B991-F5CA2CF3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80ED1-2022-41F0-AE74-1BA42C9A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823C2-12CB-4C7F-A1D1-21423A9E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2F32F-03D8-4E27-8FD3-734EF737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B17E9-5848-4C24-B5F6-35C7652F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47E3F-75AC-48EF-B130-88B5FD43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7C2B8-573C-43B7-BEF7-A5C679FD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C4D2B-05D7-499E-83E9-74A731AC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B57B9-CD06-4D24-92F6-49510E18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73D6B-8297-4B4D-AF4E-D58C5D9C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59C-0934-49F1-BAC4-EAE871BC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EE2C6-B848-479F-9E21-BB5B510A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55D2B-EF35-4B62-B940-E3236B40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7DE4F-4431-4171-92B6-E3A00F24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EEE96-711F-4C54-B239-2078421F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B73FE-29F6-4245-959F-2D6EBB74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82B1E-9760-4875-8685-D73F6962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2FE0B-CAA6-4C72-9C8B-81AFDAF8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564F2-F2BD-4F38-9F0C-4DCC4035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61756-7B2D-46C7-9C02-2296DA57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75885-5D27-4A86-9E42-72A96B42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F132-A88D-4E9F-B41C-A57060B6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F4BBE-2DFD-4C42-9CEE-074A6182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51C73-22F6-4711-94C4-1EBC1F0E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C2A4F-6F44-4E88-97A4-F6B1DD24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72D8B-D302-4B3F-AFDB-9DE62530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70906-C1C9-48A8-B586-DFC07917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F24B7-7E3F-4B20-A2F3-87D982D8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CA86A-8C0F-45D0-AFC5-5D610CE8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F4D96B-F0AA-43BF-9511-81B5C7AA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3CA286-B0D3-4C60-8657-ED6B8644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25AC2E-3477-4BF2-BD9E-FE83DD88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000000"/>
                </a:solidFill>
                <a:latin typeface="Verdana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Verdana"/>
                <a:ea typeface="Angsana Ne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ngsana New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129C-8CBE-4AA0-9688-86C75A17673F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Angsana Ne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ffffff"/>
                </a:solidFill>
                <a:latin typeface="Tahoma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ffffff"/>
                </a:solidFill>
                <a:latin typeface="Tahoma"/>
                <a:ea typeface="Angsana Ne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ngsana New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E1E6-75B1-4D29-B1CF-C8A9CF21C12B}" type="slidenum">
              <a:rPr b="0" lang="en-US" sz="1000" spc="-1" strike="noStrike">
                <a:solidFill>
                  <a:srgbClr val="ffffff"/>
                </a:solidFill>
                <a:latin typeface="Tahoma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898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15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16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17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19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22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23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1113" name="PlaceHolder 1"/>
          <p:cNvSpPr>
            <a:spLocks noGrp="1"/>
          </p:cNvSpPr>
          <p:nvPr>
            <p:ph type="sldNum" idx="3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EAD8-A530-4169-A3F9-A209BE2B89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dt" idx="3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 type="ftr" idx="3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4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155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71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73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74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76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78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79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80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81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3AB7-7C01-4ACD-A3A8-449C5AC8EC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41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C8E5-7368-4B06-B25D-86CEAC0EE66C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46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5F6E-779C-4866-B45E-585C8FB75816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50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54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</p:grpSp>
      </p:grpSp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9445-0296-41C1-BD0D-9E050A15A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58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grpSp>
          <p:nvGrpSpPr>
            <p:cNvPr id="162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</p:grpSp>
      </p:grpSp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54A4-A357-473E-AF24-5C208AB1F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6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167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67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grpSp>
          <p:nvGrpSpPr>
            <p:cNvPr id="167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67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</p:grpSp>
        <p:sp>
          <p:nvSpPr>
            <p:cNvPr id="168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68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0D57-962B-44D1-A415-BF72ECECB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73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173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73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grpSp>
          <p:nvGrpSpPr>
            <p:cNvPr id="173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73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</p:grpSp>
        <p:sp>
          <p:nvSpPr>
            <p:cNvPr id="174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grpSp>
        <p:nvGrpSpPr>
          <p:cNvPr id="174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4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CA8C-5E6D-4AB3-B871-C1E22EA34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 type="ftr" idx="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9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790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grpSp>
          <p:nvGrpSpPr>
            <p:cNvPr id="1791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792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</p:grpSp>
      </p:grpSp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 type="dt" idx="5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rial"/>
                <a:ea typeface="Angsana Ne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 type="ftr" idx="5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ngsana New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 type="sldNum" idx="5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A00D-D38F-4816-9661-5E1F2716C3D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000000"/>
                </a:solidFill>
                <a:latin typeface="Verdana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Verdana"/>
                <a:ea typeface="Angsana Ne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ngsana New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2E18-963F-462D-A83F-6073A6A47C8F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Angsana Ne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83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grpSp>
          <p:nvGrpSpPr>
            <p:cNvPr id="183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83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</p:grpSp>
        <p:grpSp>
          <p:nvGrpSpPr>
            <p:cNvPr id="184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84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</p:grpSp>
      </p:grpSp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dt" idx="58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rial"/>
                <a:ea typeface="Angsana Ne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ftr" idx="59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ngsana New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sldNum" idx="6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9418-00C8-4D80-BD1A-6942C195EE6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8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1894" name="PlaceHolder 1"/>
          <p:cNvSpPr>
            <a:spLocks noGrp="1"/>
          </p:cNvSpPr>
          <p:nvPr>
            <p:ph type="dt" idx="6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ngsana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ftr" idx="6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ngsana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 type="sldNum" idx="6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AC8C-B4A5-40DC-8A5A-D13EA18B80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93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dt" idx="6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ngsana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ngsana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508F-B575-4D52-8CDA-A90BB1B49E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983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 type="dt" idx="6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 type="ftr" idx="6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PlaceHolder 5"/>
          <p:cNvSpPr>
            <a:spLocks noGrp="1"/>
          </p:cNvSpPr>
          <p:nvPr>
            <p:ph type="sldNum" idx="6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D255-955F-47A3-A4BD-9AFD7999611D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7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028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 type="dt" idx="7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 type="ftr" idx="7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 type="sldNum" idx="7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60A9-9CB7-48F0-9BAB-3652EB11D3A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 type="dt" idx="7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D73A-8740-428E-BF44-43344E85BE2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 type="dt" idx="7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 type="sldNum" idx="7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A8C3-E6D9-4E19-BFFD-A6ADDFDF32A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60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Angsan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ngsana Ne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0BF6-DC14-414C-BFB6-5AA0148778B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3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Angsan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ngsana Ne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4441-7268-458A-84F3-D3DD2E4CBB0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305A-044E-4726-B949-4C941B910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31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330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DE2D-F342-4393-8687-1F023EDAA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7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2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2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3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ngsana Ne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44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45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46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46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47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47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47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48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48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48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49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49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sp>
              <p:nvSpPr>
                <p:cNvPr id="50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ngsana New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ngsana New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</p:grpSp>
          <p:sp>
            <p:nvSpPr>
              <p:cNvPr id="53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</p:grp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ffffff"/>
                </a:solidFill>
                <a:latin typeface="Arial Black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Arial Black"/>
                <a:ea typeface="Angsana Ne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Angsana Ne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CA11-FC2D-450B-B11F-54553AC66922}" type="slidenum">
              <a:rPr b="0" lang="en-US" sz="1400" spc="-1" strike="noStrike">
                <a:solidFill>
                  <a:srgbClr val="ffffff"/>
                </a:solidFill>
                <a:latin typeface="Arial Black"/>
                <a:ea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0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0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0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0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0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1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1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1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1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1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1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1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2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2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2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2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2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2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2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3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3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3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3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3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3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4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4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4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4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4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5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5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5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5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5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5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6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6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6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6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6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6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6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7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sp>
                <p:nvSpPr>
                  <p:cNvPr id="67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grpSp>
                <p:nvGrpSpPr>
                  <p:cNvPr id="67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7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7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7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8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8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8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8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8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8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9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9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9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9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9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69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9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70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0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0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ngsana New"/>
                      </a:endParaRPr>
                    </a:p>
                  </p:txBody>
                </p:sp>
              </p:grpSp>
            </p:grpSp>
          </p:grpSp>
          <p:grpSp>
            <p:nvGrpSpPr>
              <p:cNvPr id="70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0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Angsana New"/>
                    </a:endParaRPr>
                  </a:p>
                </p:txBody>
              </p:sp>
            </p:grpSp>
            <p:sp>
              <p:nvSpPr>
                <p:cNvPr id="71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ngsana New"/>
                  </a:endParaRPr>
                </a:p>
              </p:txBody>
            </p:sp>
          </p:grpSp>
        </p:grpSp>
        <p:grpSp>
          <p:nvGrpSpPr>
            <p:cNvPr id="71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1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ngsana New"/>
                </a:endParaRPr>
              </a:p>
            </p:txBody>
          </p:sp>
        </p:grpSp>
      </p:grp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ffffff"/>
                </a:solidFill>
                <a:latin typeface="Arial Black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Arial Black"/>
                <a:ea typeface="Angsana Ne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Angsana Ne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66E1-DF1F-4A10-84C5-4280E89BFB9C}" type="slidenum">
              <a:rPr b="0" lang="en-US" sz="1400" spc="-1" strike="noStrike">
                <a:solidFill>
                  <a:srgbClr val="ffffff"/>
                </a:solidFill>
                <a:latin typeface="Arial Black"/>
                <a:ea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7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ngsana New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041D-87BF-4150-9588-D1170FE10836}" type="slidenum">
              <a:rPr b="0" lang="en-US" sz="1000" spc="-1" strike="noStrike">
                <a:solidFill>
                  <a:srgbClr val="ffffff"/>
                </a:solidFill>
                <a:latin typeface="Tahoma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ffffff"/>
                </a:solidFill>
                <a:latin typeface="Tahoma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ffffff"/>
                </a:solidFill>
                <a:latin typeface="Tahoma"/>
                <a:ea typeface="Angsana Ne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9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"/>
          <p:cNvSpPr/>
          <p:nvPr/>
        </p:nvSpPr>
        <p:spPr>
          <a:xfrm>
            <a:off x="-501120" y="1557360"/>
            <a:ext cx="107452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UPC"/>
                <a:ea typeface="AngsanaUPC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AngsanaUPC"/>
                <a:ea typeface="AngsanaUPC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AngsanaUPC"/>
                <a:ea typeface="AngsanaUPC"/>
              </a:rPr>
              <a:t>CSA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UPC"/>
                <a:ea typeface="AngsanaUPC"/>
              </a:rPr>
              <a:t>           </a:t>
            </a:r>
            <a:r>
              <a:rPr b="1" lang="th-TH" sz="4400" spc="-1" strike="noStrike">
                <a:solidFill>
                  <a:srgbClr val="ffffff"/>
                </a:solidFill>
                <a:latin typeface="AngsanaUPC"/>
              </a:rPr>
              <a:t>การประเมินการควบคุมด้วยตนเอง</a:t>
            </a:r>
            <a:r>
              <a:rPr b="1" lang="th-TH" sz="4400" spc="-1" strike="noStrike">
                <a:solidFill>
                  <a:srgbClr val="ffffff"/>
                </a:solidFill>
                <a:latin typeface="AngsanaUPC"/>
                <a:ea typeface="AngsanaUPC"/>
              </a:rPr>
              <a:t>         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UPC"/>
              </a:rPr>
              <a:t>       </a:t>
            </a:r>
            <a:r>
              <a:rPr b="1" lang="th-TH" sz="44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ngsanaUPC"/>
              </a:rPr>
              <a:t>(Control Self-Assessment</a:t>
            </a:r>
            <a:r>
              <a:rPr b="1" lang="en-US" sz="3600" spc="-1" strike="noStrike">
                <a:solidFill>
                  <a:srgbClr val="ffffff"/>
                </a:solidFill>
                <a:latin typeface="AngsanaUPC"/>
              </a:rPr>
              <a:t>)</a:t>
            </a:r>
            <a:r>
              <a:rPr b="1" lang="th-TH" sz="3600" spc="-1" strike="noStrike">
                <a:solidFill>
                  <a:srgbClr val="ffffff"/>
                </a:solidFill>
                <a:latin typeface="AngsanaUPC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UPC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53" name=""/>
          <p:cNvSpPr/>
          <p:nvPr/>
        </p:nvSpPr>
        <p:spPr>
          <a:xfrm>
            <a:off x="3059280" y="4292640"/>
            <a:ext cx="3673440" cy="71280"/>
          </a:xfrm>
          <a:custGeom>
            <a:avLst/>
            <a:gdLst>
              <a:gd name="textAreaLeft" fmla="*/ 1513440 w 3673440"/>
              <a:gd name="textAreaRight" fmla="*/ 2160000 w 367344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54" name=""/>
          <p:cNvSpPr/>
          <p:nvPr/>
        </p:nvSpPr>
        <p:spPr>
          <a:xfrm>
            <a:off x="5550840" y="5894280"/>
            <a:ext cx="290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800000"/>
                </a:solidFill>
                <a:latin typeface="AngsanaUPC"/>
                <a:cs typeface="AngsanaUPC"/>
              </a:rPr>
              <a:t>จุมภฏ  ระเบียบโล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55" name=""/>
          <p:cNvSpPr/>
          <p:nvPr/>
        </p:nvSpPr>
        <p:spPr>
          <a:xfrm>
            <a:off x="5637600" y="566424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ุมภฏ  ระเบียบโลก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"/>
          <p:cNvSpPr/>
          <p:nvPr/>
        </p:nvSpPr>
        <p:spPr>
          <a:xfrm>
            <a:off x="4284720" y="1989000"/>
            <a:ext cx="360360" cy="2737080"/>
          </a:xfrm>
          <a:custGeom>
            <a:avLst/>
            <a:gdLst>
              <a:gd name="textAreaLeft" fmla="*/ 48240 w 360360"/>
              <a:gd name="textAreaRight" fmla="*/ 312120 w 360360"/>
              <a:gd name="textAreaTop" fmla="*/ 478800 h 2737080"/>
              <a:gd name="textAreaBottom" fmla="*/ 1984320 h 27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25" name=""/>
          <p:cNvSpPr/>
          <p:nvPr/>
        </p:nvSpPr>
        <p:spPr>
          <a:xfrm>
            <a:off x="4788000" y="1989000"/>
            <a:ext cx="360360" cy="2665440"/>
          </a:xfrm>
          <a:custGeom>
            <a:avLst/>
            <a:gdLst>
              <a:gd name="textAreaLeft" fmla="*/ 48240 w 360360"/>
              <a:gd name="textAreaRight" fmla="*/ 312120 w 360360"/>
              <a:gd name="textAreaTop" fmla="*/ 466200 h 2665440"/>
              <a:gd name="textAreaBottom" fmla="*/ 193248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26" name=""/>
          <p:cNvSpPr/>
          <p:nvPr/>
        </p:nvSpPr>
        <p:spPr>
          <a:xfrm>
            <a:off x="2987640" y="836640"/>
            <a:ext cx="3313080" cy="18003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นำการประชุม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(Facilitator)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27" name=""/>
          <p:cNvSpPr/>
          <p:nvPr/>
        </p:nvSpPr>
        <p:spPr>
          <a:xfrm>
            <a:off x="395280" y="2852640"/>
            <a:ext cx="3816360" cy="301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เชี่ยวชาญ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กี่ยวกับ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ระบวนการประชุม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28" name=""/>
          <p:cNvSpPr/>
          <p:nvPr/>
        </p:nvSpPr>
        <p:spPr>
          <a:xfrm>
            <a:off x="5219640" y="3068640"/>
            <a:ext cx="3600360" cy="223344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เชี่ยวชาญ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กี่ยวกับเรื่องที่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ำลังพิจารณา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29" name=""/>
          <p:cNvSpPr/>
          <p:nvPr/>
        </p:nvSpPr>
        <p:spPr>
          <a:xfrm>
            <a:off x="6156360" y="2852640"/>
            <a:ext cx="2087640" cy="280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30" name=""/>
          <p:cNvSpPr/>
          <p:nvPr/>
        </p:nvSpPr>
        <p:spPr>
          <a:xfrm flipH="1">
            <a:off x="6011640" y="2708280"/>
            <a:ext cx="2089080" cy="3024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"/>
          <p:cNvSpPr/>
          <p:nvPr/>
        </p:nvSpPr>
        <p:spPr>
          <a:xfrm>
            <a:off x="151920" y="2590920"/>
            <a:ext cx="4478040" cy="3934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  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hi-IN" sz="3600" spc="-1" strike="noStrike" u="sng">
                <a:solidFill>
                  <a:srgbClr val="ffffff"/>
                </a:solidFill>
                <a:uFillTx/>
                <a:latin typeface="Angsana New"/>
                <a:cs typeface="Angsana New"/>
              </a:rPr>
              <a:t>กระบวนการ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0066"/>
              </a:buClr>
              <a:buFont typeface="Web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มุ่งไปที่วัตถุประสงค์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0066"/>
              </a:buClr>
              <a:buFont typeface="Web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ค้นหาสิ่งที่ผิดพลาด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0066"/>
              </a:buClr>
              <a:buFont typeface="Web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ค้นหาวิธีการปรับปรุ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ก้ไข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32" name=""/>
          <p:cNvSpPr/>
          <p:nvPr/>
        </p:nvSpPr>
        <p:spPr>
          <a:xfrm>
            <a:off x="2057400" y="1066680"/>
            <a:ext cx="609480" cy="2362320"/>
          </a:xfrm>
          <a:custGeom>
            <a:avLst/>
            <a:gdLst>
              <a:gd name="textAreaLeft" fmla="*/ 81360 w 609480"/>
              <a:gd name="textAreaRight" fmla="*/ 528120 w 609480"/>
              <a:gd name="textAreaTop" fmla="*/ 413280 h 2362320"/>
              <a:gd name="textAreaBottom" fmla="*/ 171288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33" name=""/>
          <p:cNvSpPr/>
          <p:nvPr/>
        </p:nvSpPr>
        <p:spPr>
          <a:xfrm>
            <a:off x="4572000" y="914400"/>
            <a:ext cx="4343400" cy="88722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ยอมรับตนเองเป็นส่ว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หนึ่งของผู้ร่วม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ป็นกลา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อบถาม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,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ไม่ใช่เล่าเรื่อง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หรือชี้นำ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ช่วยให้ทุกคนออกควา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ห็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ให้ได้ผลสรุปเป็นความ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ต้องการของผู้ร่วม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ประชุมตลอดเวลา   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34" name=""/>
          <p:cNvSpPr/>
          <p:nvPr/>
        </p:nvSpPr>
        <p:spPr>
          <a:xfrm rot="18273000">
            <a:off x="3695400" y="800280"/>
            <a:ext cx="533520" cy="3809880"/>
          </a:xfrm>
          <a:custGeom>
            <a:avLst/>
            <a:gdLst>
              <a:gd name="textAreaLeft" fmla="*/ 71280 w 533520"/>
              <a:gd name="textAreaRight" fmla="*/ 462240 w 533520"/>
              <a:gd name="textAreaTop" fmla="*/ 666720 h 3809880"/>
              <a:gd name="textAreaBottom" fmla="*/ 27622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35" name=""/>
          <p:cNvSpPr/>
          <p:nvPr/>
        </p:nvSpPr>
        <p:spPr>
          <a:xfrm>
            <a:off x="762120" y="304920"/>
            <a:ext cx="3200400" cy="1734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นำการประชุม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(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Facilitator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"/>
          <p:cNvSpPr/>
          <p:nvPr/>
        </p:nvSpPr>
        <p:spPr>
          <a:xfrm>
            <a:off x="1566720" y="333360"/>
            <a:ext cx="62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หน้าที่ของ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FACILITATOR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37" name=""/>
          <p:cNvSpPr/>
          <p:nvPr/>
        </p:nvSpPr>
        <p:spPr>
          <a:xfrm>
            <a:off x="-605160" y="1273320"/>
            <a:ext cx="11132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ทำสิ่งต่างๆให้สำเร็จโดยง่าย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ช่วยให้ผู้เข้าร่วมประชุมมีการพูดคุยกั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ช่วยให้ผู้เข้าประชุมเกิดความร่วมมือในการรับผิดชอบสิ่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ที่ต้องการปรับปรุงแก้ไข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ดูแลให้ผู้เข้าร่วมการประชุมปฏิบัติตามกติกาที่ตกลงกั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อบถามเพื่อค้นหารายละเอียด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รวบรวมความคิดเห็นเพื่อให้ที่ประชุมพิจารณ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ช่วยลดหรือหลีกเลี่ยงความขัดแย้งที่เกิดขึ้นใน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วางตัวเป็นกลา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ทำตัวเป็นเสมือนเพื่อนร่วมงานกับผู้เข้าร่วม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"/>
          <p:cNvSpPr/>
          <p:nvPr/>
        </p:nvSpPr>
        <p:spPr>
          <a:xfrm>
            <a:off x="-139320" y="333360"/>
            <a:ext cx="97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ิ่งที่ควรระมัดระวังในการเป็น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Facilitator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39" name=""/>
          <p:cNvSpPr/>
          <p:nvPr/>
        </p:nvSpPr>
        <p:spPr>
          <a:xfrm>
            <a:off x="-1274040" y="1273320"/>
            <a:ext cx="12427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ไม่กล้านำเสนอข้อมูลและความคิดเห็นเพื่อให้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ดำเนินไปสู่การสรุปผล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มีความคิดเห็นที่มุ่งจะให้มีการควบคุมมากเกินไปจำทำให้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เข้าร่วมประชุมเกิดความอึดอัดว่าทำให้การปฏิบัติงา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กิดความล่าช้าไม่คล่องตัว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ไม่พยายามเข้าใจความคิดเห็นที่ขัดแย้งของผู้เข้า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นื่องจากมั่นใจว่าการเป็นผู้ตรวจสอบภายในจะมีความคิด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ห็นถูกต้องอยู่เสมอ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บุคลิกและการแสดงออกที่แข็งกร้าวทำให้ไม่สามารถสื่อสาร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ับผู้เข้าร่วมประชุมได้ดี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/>
          <p:nvPr/>
        </p:nvSpPr>
        <p:spPr>
          <a:xfrm>
            <a:off x="1317240" y="612720"/>
            <a:ext cx="728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ิ่งที่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Facilitator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ไม่ควรปฏิบัติ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41" name=""/>
          <p:cNvSpPr/>
          <p:nvPr/>
        </p:nvSpPr>
        <p:spPr>
          <a:xfrm>
            <a:off x="-534600" y="1847880"/>
            <a:ext cx="10516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พูดเองตอบเอ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สดงให้เห็นความต้องการผลสรุปเมื่อเริ่ม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พูดแทนคนอื่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สดงความไม่สนใจต่อคำพูดของผู้เข้า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ใช้คำพูดที่แสดงความไม่พอใจต่อผู้แสดงความคิดเห็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รุปคำพูดคนอื่นให้เบี่ยงเบนไปตามที่ตนเองต้องการ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สดงว่าตนเองเป็นผู้รู้ในเรื่องที่กำลัง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ขัดจังหวะเมื่อผู้เข้าประชุมเสนอความคิดเห็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"/>
          <p:cNvSpPr/>
          <p:nvPr/>
        </p:nvSpPr>
        <p:spPr>
          <a:xfrm>
            <a:off x="-1410480" y="476280"/>
            <a:ext cx="1210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ลักษณะผู้เข้าร่วมประชุมที่ดีในการประเมินการควบคุม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43" name=""/>
          <p:cNvSpPr/>
          <p:nvPr/>
        </p:nvSpPr>
        <p:spPr>
          <a:xfrm>
            <a:off x="-1474560" y="1341360"/>
            <a:ext cx="1238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สดงความสนใจและติดตามเรื่องที่กำลังประชุมอย่างต่อเนื่อ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สดงให้เห็นว่าถึงการแสดงออกที่จริงใจด้วยข้อมูลที่ถูกต้อ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พูดอย่างชัดเจนด้วยคำพูดที่จูงใจผู้ฟั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ใช้สายตามองไปที่ผู้ฟังเพื่อทุกท่านเกิดความสนใจและนำไป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ทบทว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มีความรู้สึกที่ดีต่อข้อเสนอที่ตรงข้ามกับความคิดเห็นของตนเอ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มีความคิดสร้างสรรค์ต่อข้อเสนอของคนอื่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ร้างบรรยากาศที่ไม่เกิดความเครียดใน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"/>
          <p:cNvSpPr/>
          <p:nvPr/>
        </p:nvSpPr>
        <p:spPr>
          <a:xfrm>
            <a:off x="756360" y="252360"/>
            <a:ext cx="786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วิธีการที่ทำให้เกิดความเห็นร่วมกัน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45" name=""/>
          <p:cNvSpPr/>
          <p:nvPr/>
        </p:nvSpPr>
        <p:spPr>
          <a:xfrm>
            <a:off x="-1197360" y="1125360"/>
            <a:ext cx="12007080" cy="56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ที่ประชุมกำหนด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Ground Rule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พื่อเป็นกรอบใน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จ้งให้ผู้เข้าประชุมยอมรับผลการประชุมเพื่อนำไปดำเนินการ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ชี้แจงวัตถุประสงค์ในการดำเนินการแต่ละครั้งให้ทุกคนเข้าใจ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ถามผู้เข้าร่วมประชุมแต่ละคนเพื่อให้แสดงความคิดเห็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ให้ผู้เข้าประชุมแสดงความคิดเห็นข้อเสนอใน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ให้ผู้เข้าประชุมแสดงความคิดเห็นเมื่อมีผู้โต้แย้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มื่อมีข้อเสนอที่แตกต่างให้ที่ประชุมพิจารณาเพื่อหาข้อสรุป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ข้อเสนอที่ไม่สามารถสรุปเพื่อหาความเห็นร่วมกันได้ให้ใช้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ฎเกณฑ์ที่กำหนดไว้ใน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Ground Rule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พื่อตัดสิ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"/>
          <p:cNvSpPr/>
          <p:nvPr/>
        </p:nvSpPr>
        <p:spPr>
          <a:xfrm>
            <a:off x="-172080" y="252360"/>
            <a:ext cx="943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ารเตรียมการนำ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CSA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มาใช้ในการปฏิบัติ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47" name=""/>
          <p:cNvSpPr/>
          <p:nvPr/>
        </p:nvSpPr>
        <p:spPr>
          <a:xfrm>
            <a:off x="-861120" y="1200240"/>
            <a:ext cx="11341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มั่นใจว่าผู้เข้าร่วมการประชุมเข้าใจวิธีการเรื่อง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CSA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พิจารณาวัฒนธรรมในการทำงานของหน่วยงา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ลือกวัตถุประสงค์ให้ตรงกับความต้องการที่จะดำเนินการ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ทำความเข้าใจขั้นตอนและวิธีปฏิบัติงานและความเสี่ยงงา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ที่จะนำมาดำเนินการด้วยวิธีการ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CSA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คัดเลือกผู้เข้าประชุมให้มีบุคคลที่ไม่ต้องการน้อยที่สุด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ำหนดแนวทางในการอภิปราย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ัดทำเอกสารวาระการประชุมให้ผู้เข้าประชุมทราบล่วงหน้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ัดเตรียมสถานที่และดำเนินการ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"/>
          <p:cNvSpPr/>
          <p:nvPr/>
        </p:nvSpPr>
        <p:spPr>
          <a:xfrm>
            <a:off x="-880200" y="1484280"/>
            <a:ext cx="7633080" cy="5180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วัตถุประสงค์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รักษาผลตอบแทนการลงทุนไว้ที่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15%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พิ่มยอดเงินฝาก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10%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พิ่มยอดบัตรเครดิต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100,000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ฉบับ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ลดค่าใช้จ่าย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10%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49" name=""/>
          <p:cNvSpPr/>
          <p:nvPr/>
        </p:nvSpPr>
        <p:spPr>
          <a:xfrm>
            <a:off x="4560840" y="1484280"/>
            <a:ext cx="5423400" cy="5031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รับผิดชอบ 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........................................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........................................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........................................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........................................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50" name=""/>
          <p:cNvSpPr/>
          <p:nvPr/>
        </p:nvSpPr>
        <p:spPr>
          <a:xfrm>
            <a:off x="-1410120" y="549360"/>
            <a:ext cx="120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ารคัดเลือกวัตถุประสงค์เพื่อการประเมินการควบคุม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"/>
          <p:cNvSpPr/>
          <p:nvPr/>
        </p:nvSpPr>
        <p:spPr>
          <a:xfrm>
            <a:off x="-1410120" y="404640"/>
            <a:ext cx="120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ารคัดเลือกวัตถุประสงค์เพื่อการประเมินการควบคุม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52" name=""/>
          <p:cNvSpPr/>
          <p:nvPr/>
        </p:nvSpPr>
        <p:spPr>
          <a:xfrm>
            <a:off x="-864000" y="1263600"/>
            <a:ext cx="712872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วัตถุประสงค์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รักษาผลตอบแทนการลงทุนไว้ที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15%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พิ่มยอดเงินกู้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ประชาสัมพันธ์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ปรับปรุงขั้นตอนการให้กู้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ลดค่าใช้จ่าย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พิ่มยอดบัตรเครดิต 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100,000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ฉบับ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ประชาสัมพันธ์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ัดเตรียมพนักงา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ปรับปรุงระบบ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53" name=""/>
          <p:cNvSpPr/>
          <p:nvPr/>
        </p:nvSpPr>
        <p:spPr>
          <a:xfrm>
            <a:off x="5559480" y="1646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54" name=""/>
          <p:cNvSpPr/>
          <p:nvPr/>
        </p:nvSpPr>
        <p:spPr>
          <a:xfrm>
            <a:off x="4543920" y="1268280"/>
            <a:ext cx="495216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 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รับผิดชอบ         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บริหาร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.....................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หัวหน้าหน่วยงา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หัวหน้าหน่วยงา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ทุกหน่วยงา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ทุกหน่วยงา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บริหาร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.....................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หัวหน้าหน่วยงา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หัวหน้าหน่วยงา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ทุกหน่วยงา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"/>
          <p:cNvSpPr/>
          <p:nvPr/>
        </p:nvSpPr>
        <p:spPr>
          <a:xfrm>
            <a:off x="4500720" y="404640"/>
            <a:ext cx="4103640" cy="1800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ประธานไม่สามารถ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ควบคุมการประชุมได้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ตามเวลาและวาระ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57" name=""/>
          <p:cNvSpPr/>
          <p:nvPr/>
        </p:nvSpPr>
        <p:spPr>
          <a:xfrm>
            <a:off x="4859280" y="2492280"/>
            <a:ext cx="3960720" cy="201636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เข้า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ไม่มีความรู้ความเข้าใจ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ประเด็นที่กำลังพิจารณ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58" name=""/>
          <p:cNvSpPr/>
          <p:nvPr/>
        </p:nvSpPr>
        <p:spPr>
          <a:xfrm>
            <a:off x="5219640" y="4724280"/>
            <a:ext cx="3600360" cy="18003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เข้า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ไม่สนใจประเด็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ที่กำลังพิจารณ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59" name=""/>
          <p:cNvSpPr/>
          <p:nvPr/>
        </p:nvSpPr>
        <p:spPr>
          <a:xfrm>
            <a:off x="1908000" y="4797360"/>
            <a:ext cx="3168720" cy="180036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เข้า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รบกวน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60" name=""/>
          <p:cNvSpPr/>
          <p:nvPr/>
        </p:nvSpPr>
        <p:spPr>
          <a:xfrm>
            <a:off x="250920" y="2852640"/>
            <a:ext cx="3456000" cy="194472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รุปผล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ต่ไม่มีผู้รับผิดชอบ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ดำเนินการ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61" name=""/>
          <p:cNvSpPr/>
          <p:nvPr/>
        </p:nvSpPr>
        <p:spPr>
          <a:xfrm rot="15676800">
            <a:off x="5075640" y="1700280"/>
            <a:ext cx="360360" cy="1079640"/>
          </a:xfrm>
          <a:custGeom>
            <a:avLst/>
            <a:gdLst>
              <a:gd name="textAreaLeft" fmla="*/ 48240 w 360360"/>
              <a:gd name="textAreaRight" fmla="*/ 312120 w 36036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62" name=""/>
          <p:cNvSpPr/>
          <p:nvPr/>
        </p:nvSpPr>
        <p:spPr>
          <a:xfrm rot="18190800">
            <a:off x="4571280" y="2708640"/>
            <a:ext cx="360360" cy="1079640"/>
          </a:xfrm>
          <a:custGeom>
            <a:avLst/>
            <a:gdLst>
              <a:gd name="textAreaLeft" fmla="*/ 48240 w 360360"/>
              <a:gd name="textAreaRight" fmla="*/ 312120 w 36036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63" name=""/>
          <p:cNvSpPr/>
          <p:nvPr/>
        </p:nvSpPr>
        <p:spPr>
          <a:xfrm rot="19138800">
            <a:off x="4840200" y="2633760"/>
            <a:ext cx="144720" cy="2952720"/>
          </a:xfrm>
          <a:prstGeom prst="downArrow">
            <a:avLst>
              <a:gd name="adj1" fmla="val 50000"/>
              <a:gd name="adj2" fmla="val 510075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64" name=""/>
          <p:cNvSpPr/>
          <p:nvPr/>
        </p:nvSpPr>
        <p:spPr>
          <a:xfrm rot="20715600">
            <a:off x="4093920" y="2991960"/>
            <a:ext cx="144360" cy="2737080"/>
          </a:xfrm>
          <a:prstGeom prst="downArrow">
            <a:avLst>
              <a:gd name="adj1" fmla="val 50000"/>
              <a:gd name="adj2" fmla="val 474002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65" name=""/>
          <p:cNvSpPr/>
          <p:nvPr/>
        </p:nvSpPr>
        <p:spPr>
          <a:xfrm rot="1206000">
            <a:off x="3311280" y="2815920"/>
            <a:ext cx="360360" cy="865080"/>
          </a:xfrm>
          <a:custGeom>
            <a:avLst/>
            <a:gdLst>
              <a:gd name="textAreaLeft" fmla="*/ 48240 w 360360"/>
              <a:gd name="textAreaRight" fmla="*/ 312120 w 36036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66" name=""/>
          <p:cNvSpPr/>
          <p:nvPr/>
        </p:nvSpPr>
        <p:spPr>
          <a:xfrm>
            <a:off x="2771640" y="1844640"/>
            <a:ext cx="2303640" cy="1224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0066"/>
                </a:solidFill>
                <a:latin typeface="Angsana New"/>
                <a:ea typeface="Angsana New"/>
              </a:rPr>
              <a:t> </a:t>
            </a:r>
            <a:r>
              <a:rPr b="1" lang="th-TH" sz="4400" spc="-1" strike="noStrike">
                <a:solidFill>
                  <a:srgbClr val="ff0066"/>
                </a:solidFill>
                <a:latin typeface="Angsana New"/>
                <a:ea typeface="Angsana New"/>
              </a:rPr>
              <a:t>  </a:t>
            </a:r>
            <a:r>
              <a:rPr b="1" lang="en-US" sz="8000" spc="-1" strike="noStrike">
                <a:solidFill>
                  <a:srgbClr val="ff0066"/>
                </a:solidFill>
                <a:latin typeface="Angsana New"/>
                <a:ea typeface="Angsana New"/>
              </a:rPr>
              <a:t>???</a:t>
            </a:r>
            <a:r>
              <a:rPr b="1" lang="th-TH" sz="4400" spc="-1" strike="noStrike">
                <a:solidFill>
                  <a:srgbClr val="ff0066"/>
                </a:solidFill>
                <a:latin typeface="Angsana New"/>
                <a:ea typeface="Angsana New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67" name=""/>
          <p:cNvSpPr/>
          <p:nvPr/>
        </p:nvSpPr>
        <p:spPr>
          <a:xfrm rot="18190800">
            <a:off x="2483640" y="1629000"/>
            <a:ext cx="360360" cy="1079640"/>
          </a:xfrm>
          <a:custGeom>
            <a:avLst/>
            <a:gdLst>
              <a:gd name="textAreaLeft" fmla="*/ 48240 w 360360"/>
              <a:gd name="textAreaRight" fmla="*/ 312120 w 36036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68" name=""/>
          <p:cNvSpPr/>
          <p:nvPr/>
        </p:nvSpPr>
        <p:spPr>
          <a:xfrm>
            <a:off x="468360" y="260280"/>
            <a:ext cx="3095640" cy="1800360"/>
          </a:xfrm>
          <a:prstGeom prst="ellipse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ารประชุม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พื่อแก้ไขปัญหา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"/>
          <p:cNvSpPr/>
          <p:nvPr/>
        </p:nvSpPr>
        <p:spPr>
          <a:xfrm>
            <a:off x="-62280" y="1341360"/>
            <a:ext cx="602208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วัตถุประสงค์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ลดค่าใช้จ่าย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งดการทำงานล่วงเวล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ลดงบประมาณการจัดซื้อ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ปิดสาข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ปรับปรุงระบบงา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ประวัติลูกค้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ินเชื่อ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โปรแกรมการประมวลผล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56" name=""/>
          <p:cNvSpPr/>
          <p:nvPr/>
        </p:nvSpPr>
        <p:spPr>
          <a:xfrm>
            <a:off x="4572720" y="1341360"/>
            <a:ext cx="512316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รับผิดชอบ         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ทุกหน่วยง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บัญชี   สินเชื่อ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าขาภาคเหนือ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ภาคใต้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หัวหน้าหน่วยงานคอมพิว  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ตอร์และสินเชื่อ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57" name=""/>
          <p:cNvSpPr/>
          <p:nvPr/>
        </p:nvSpPr>
        <p:spPr>
          <a:xfrm>
            <a:off x="-1410120" y="404640"/>
            <a:ext cx="120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ารคัดเลือกวัตถุประสงค์เพื่อการประเมินการควบคุม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"/>
          <p:cNvSpPr/>
          <p:nvPr/>
        </p:nvSpPr>
        <p:spPr>
          <a:xfrm>
            <a:off x="-97200" y="692280"/>
            <a:ext cx="941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ารเลือกวัตถุประสงค์เพื่อการจัดทำ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CSA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ากผลการตรวจสอบภายใน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59" name=""/>
          <p:cNvSpPr/>
          <p:nvPr/>
        </p:nvSpPr>
        <p:spPr>
          <a:xfrm>
            <a:off x="150480" y="2133720"/>
            <a:ext cx="5377680" cy="3934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      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วัตถุประสงค์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บันทึกบัญชีถูกต้องครบถ้ว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บัญชีลูกหนี้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บัญชีเจ้าหนี้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บัญชีทรัพย์สิ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60" name=""/>
          <p:cNvSpPr/>
          <p:nvPr/>
        </p:nvSpPr>
        <p:spPr>
          <a:xfrm>
            <a:off x="4270320" y="2133720"/>
            <a:ext cx="5190120" cy="3934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รับผิดชอบ            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อำนวยการฝ่ายบัญชี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หัวหน้าแผนก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หัวหน้าแผนก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หัวหน้าแผนก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61" name=""/>
          <p:cNvSpPr/>
          <p:nvPr/>
        </p:nvSpPr>
        <p:spPr>
          <a:xfrm>
            <a:off x="4140360" y="2349360"/>
            <a:ext cx="1512720" cy="432000"/>
          </a:xfrm>
          <a:custGeom>
            <a:avLst/>
            <a:gdLst>
              <a:gd name="textAreaLeft" fmla="*/ 264600 w 1512720"/>
              <a:gd name="textAreaRight" fmla="*/ 1096920 w 151272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"/>
          <p:cNvSpPr/>
          <p:nvPr/>
        </p:nvSpPr>
        <p:spPr>
          <a:xfrm>
            <a:off x="-97200" y="333360"/>
            <a:ext cx="941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ารเลือกวัตถุประสงค์เพื่อการจัดทำ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CSA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ากผลการตรวจสอบภายใน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63" name=""/>
          <p:cNvSpPr/>
          <p:nvPr/>
        </p:nvSpPr>
        <p:spPr>
          <a:xfrm>
            <a:off x="1023840" y="21366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64" name=""/>
          <p:cNvSpPr/>
          <p:nvPr/>
        </p:nvSpPr>
        <p:spPr>
          <a:xfrm>
            <a:off x="950760" y="20638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65" name=""/>
          <p:cNvSpPr/>
          <p:nvPr/>
        </p:nvSpPr>
        <p:spPr>
          <a:xfrm>
            <a:off x="-658440" y="1844640"/>
            <a:ext cx="6944400" cy="448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วัตถุประสงค์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บันทึกบัญชีลูกหนี้ถูกต้องครบถ้ว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ัดทำเอกสารการกู้เงินถูกต้อ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ารจ่ายเงินกู้เป็นไปตา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ระเบียบที่กำหนด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ระบบข้อมูลลูกหนี้ทันสมัย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ารเปลี่ยนแปลงเงื่อนไขโปร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กรมได้รับอนุมัติ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66" name=""/>
          <p:cNvSpPr/>
          <p:nvPr/>
        </p:nvSpPr>
        <p:spPr>
          <a:xfrm>
            <a:off x="4866120" y="1847880"/>
            <a:ext cx="4833360" cy="448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รับผิดชอบ         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ทุกแผนกที่เกี่ยวข้อ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ผนกสินเชื่อ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ผนกการเงิ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ผนกประมวลผล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ศูนย์คอมพิวเตอร์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67" name=""/>
          <p:cNvSpPr/>
          <p:nvPr/>
        </p:nvSpPr>
        <p:spPr>
          <a:xfrm>
            <a:off x="4716360" y="1773360"/>
            <a:ext cx="1584360" cy="50328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"/>
          <p:cNvSpPr/>
          <p:nvPr/>
        </p:nvSpPr>
        <p:spPr>
          <a:xfrm>
            <a:off x="-883800" y="260280"/>
            <a:ext cx="1142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ารเลือกวัตถุประสงค์เพื่อการจัดทำ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CSA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ากผลการสำรวจตามระบวนการตรวจสอบภายใน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69" name=""/>
          <p:cNvSpPr/>
          <p:nvPr/>
        </p:nvSpPr>
        <p:spPr>
          <a:xfrm>
            <a:off x="-1177200" y="1844640"/>
            <a:ext cx="1179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ำหนดปัจจัยที่จะทำให้การทำงานประสบความสำเร็จตามวัตถุ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ประสงค์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( Critical Success Factors )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000000"/>
              </a:buClr>
              <a:buFont typeface="Angsana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ำหนดวิธีการให้คะแนนจากผลการสัมภาษณ์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000000"/>
              </a:buClr>
              <a:buFont typeface="Angsana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ัมภาษณ์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000000"/>
              </a:buClr>
              <a:buFont typeface="Angsana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วิเคราะห์ผลจากคะแนน ปัญหา และอุปสรรค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000000"/>
              </a:buClr>
              <a:buFont typeface="Angsana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ัดเรียงปัญหาและอุปสรรคตามความสำคัญ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000000"/>
              </a:buClr>
              <a:buFont typeface="Angsana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ำหนดวัตถุประสงค์แต่ละเรื่องเพื่อนำ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CSA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มาใช้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"/>
          <p:cNvSpPr/>
          <p:nvPr/>
        </p:nvSpPr>
        <p:spPr>
          <a:xfrm>
            <a:off x="-883800" y="260280"/>
            <a:ext cx="1142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ารเลือกวัตถุประสงค์เพื่อการจัดทำ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CSA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ากผลการสำรวจตามระบวนการตรวจสอบภายใน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71" name=""/>
          <p:cNvSpPr/>
          <p:nvPr/>
        </p:nvSpPr>
        <p:spPr>
          <a:xfrm>
            <a:off x="-1473840" y="1773360"/>
            <a:ext cx="11891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ารให้คะแนนตามระดับความคิดเห็นของผู้ถูกสัมภาษณ์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ต่ละคนจากคำถามหรือข้อความที่ได้เตรียมไว้ล่วงหน้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0000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ยอมรับว่าเป็นเรื่องสำคัญมาก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000000"/>
              </a:buClr>
              <a:buFont typeface="Angsana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ยอมรับว่าเป็นเรื่องสำคัญ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000000"/>
              </a:buClr>
              <a:buFont typeface="Angsana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ยอมรับ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000000"/>
              </a:buClr>
              <a:buFont typeface="Angsana Ne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ไม่ค่อยเห็นว่าเป็นเรื่องสำคัญ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5.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ไม่สำคัญ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"/>
          <p:cNvSpPr/>
          <p:nvPr/>
        </p:nvSpPr>
        <p:spPr>
          <a:xfrm>
            <a:off x="-883800" y="260280"/>
            <a:ext cx="1142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ารเลือกวัตถุประสงค์เพื่อการจัดทำ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CSA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ากผลการสำรวจตามระบวนการตรวจสอบภายใน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73" name=""/>
          <p:cNvSpPr/>
          <p:nvPr/>
        </p:nvSpPr>
        <p:spPr>
          <a:xfrm>
            <a:off x="-1473840" y="1773360"/>
            <a:ext cx="1189152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ารให้คะแนนตามระดับความคิดเห็นของผู้ถูกสัมภาษณ์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ต่ละคนจากคำถามหรือข้อความที่ได้เตรียมไว้ล่วงหน้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ระดับความสำคัญ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ระดับความมั่นใจ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ngsana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ำคัญมาก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1.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ั่นใจมาก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ngsana New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ำคัญ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2.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ั่นใจ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lvl="1" marL="990720" indent="-533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3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ม่มีความเห็น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3.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ม่มีความเห็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ngsana New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ม่ค่อยสำคัญ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4.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ม่ค่อยมั่นใจ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lvl="1" marL="990720" indent="-533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5.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ม่สำคัญ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5.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ม่มั่นใจ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"/>
          <p:cNvSpPr/>
          <p:nvPr/>
        </p:nvSpPr>
        <p:spPr>
          <a:xfrm>
            <a:off x="2751120" y="709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75" name=""/>
          <p:cNvSpPr/>
          <p:nvPr/>
        </p:nvSpPr>
        <p:spPr>
          <a:xfrm>
            <a:off x="452520" y="476280"/>
            <a:ext cx="847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ติกาการประชุม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( Ground Rules )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76" name=""/>
          <p:cNvSpPr/>
          <p:nvPr/>
        </p:nvSpPr>
        <p:spPr>
          <a:xfrm>
            <a:off x="644760" y="1413000"/>
            <a:ext cx="7735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พูดในสิ่งที่ตรงประเด็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พูดด้วยความตั้งใจจริ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ให้ความสนใจต่อประเด็นที่กำลัง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ไม่ทำให้การประชุมหยุดชะงัก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ไม่แสดงตนเป็นส่วนเกินใน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ตรงต่อกำหนดเวลา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ยอมรับผลสรุปจาก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รับผิดชอบต่อผล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อื่นๆ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"/>
          <p:cNvSpPr/>
          <p:nvPr/>
        </p:nvSpPr>
        <p:spPr>
          <a:xfrm>
            <a:off x="-152280" y="404640"/>
            <a:ext cx="936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ทคนิคในการตั้งคำถามเพื่อการประเมินฯ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78" name=""/>
          <p:cNvSpPr/>
          <p:nvPr/>
        </p:nvSpPr>
        <p:spPr>
          <a:xfrm>
            <a:off x="-939240" y="1487520"/>
            <a:ext cx="11589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คำถามเพื่อให้ผู้เข้าประชุมให้ข้อมูลเกี่ยวกับการควบค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ที่ใช้อยู่ในปัจจุบั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คำถามที่ชี้เฉพาะเกี่ยวกับการควบคุมในเรื่องที่ต้องการแก้ไข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คำถามที่ต้องการให้ผู้เข้าประชุมได้รับทราบปัญหาต่างๆ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คำถามที่ต้องการให้ผู้เข้าร่วมประชุมช่วยพิจารณาวิธีการ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ปรับปรุงแก้ไข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คำถามที่ต้องการให้เกิดความเห็นร่วมกันในวิธีการปรับปรุ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ก้ไขปัญห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6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คำถามเพื่อการสรุปผล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"/>
          <p:cNvSpPr/>
          <p:nvPr/>
        </p:nvSpPr>
        <p:spPr>
          <a:xfrm>
            <a:off x="402120" y="404640"/>
            <a:ext cx="842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คำถามที่ใช้ในการประเมินการควบคุม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80" name=""/>
          <p:cNvSpPr/>
          <p:nvPr/>
        </p:nvSpPr>
        <p:spPr>
          <a:xfrm>
            <a:off x="-547920" y="1344600"/>
            <a:ext cx="849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0066"/>
                </a:solidFill>
                <a:latin typeface="Angsana New"/>
                <a:cs typeface="Angsana New"/>
              </a:rPr>
              <a:t>พิจารณาวิธีการควบค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ท่านเข้าใจเกี่ยวกับวัตถุประสงค์อย่างไร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งานดังกล่าวอยู่ในความรับผิดชอบของใคร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มีการวัดผลหรือการรายงานข้อมูลอย่างไร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มีการสอบทานระหว่างหน่วยงานหรือไม่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มีการควบคุมงานอย่างไร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..........................................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.........................................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........................................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"/>
          <p:cNvSpPr/>
          <p:nvPr/>
        </p:nvSpPr>
        <p:spPr>
          <a:xfrm>
            <a:off x="402120" y="404640"/>
            <a:ext cx="842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คำถามที่ใช้ในการประเมินการควบคุม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82" name=""/>
          <p:cNvSpPr/>
          <p:nvPr/>
        </p:nvSpPr>
        <p:spPr>
          <a:xfrm>
            <a:off x="-927360" y="1415880"/>
            <a:ext cx="11810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0066"/>
                </a:solidFill>
                <a:latin typeface="Angsana New"/>
                <a:cs typeface="Angsana New"/>
              </a:rPr>
              <a:t>พิจารณาปัญหาที่ทำให้การปฏิบัติงานไม่บรรลุวัตถุประสงค์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มีอะไรเกิดขึ้นทำให้การปฏิบัติงานไม่บรรลุวัตถุประสงค์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หากไม่ทำสิ่งเหล่านั้นจะกระทบต่อวัตถุประสงค์อย่างไร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ปัญหาที่เกิดขึ้นเป็นปัญหาใหม่หรือเคยเกิดมาแล้ว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ก้ปัญหาด้วยตนเองหรือขอความร่วมมือจากหน่วยงานอื่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บังคับบัญชาได้รับทราบและดำเนินการอย่างไร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ที่ผ่านมาผู้ปฏิบัติงานรายงานอย่างไร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…………………………………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..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"/>
          <p:cNvSpPr/>
          <p:nvPr/>
        </p:nvSpPr>
        <p:spPr>
          <a:xfrm>
            <a:off x="4343400" y="990720"/>
            <a:ext cx="3886200" cy="213336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ารประเมิ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ารควบคุมด้วยตนเอ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C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ontrol Self-Assessment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70" name=""/>
          <p:cNvSpPr/>
          <p:nvPr/>
        </p:nvSpPr>
        <p:spPr>
          <a:xfrm>
            <a:off x="457200" y="2057400"/>
            <a:ext cx="2666880" cy="144792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ารจ้า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ที่ปรึกษาภายนอก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71" name=""/>
          <p:cNvSpPr/>
          <p:nvPr/>
        </p:nvSpPr>
        <p:spPr>
          <a:xfrm>
            <a:off x="3429000" y="380880"/>
            <a:ext cx="2666880" cy="152424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ที่ปรึกษ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ภายในองค์กร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72" name=""/>
          <p:cNvSpPr/>
          <p:nvPr/>
        </p:nvSpPr>
        <p:spPr>
          <a:xfrm>
            <a:off x="304920" y="304920"/>
            <a:ext cx="2895480" cy="1600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ารให้คำปรึกษา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Consulting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73" name=""/>
          <p:cNvSpPr/>
          <p:nvPr/>
        </p:nvSpPr>
        <p:spPr>
          <a:xfrm>
            <a:off x="1776600" y="3429000"/>
            <a:ext cx="303516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ัมภาษณ์ลูกค้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74" name=""/>
          <p:cNvSpPr/>
          <p:nvPr/>
        </p:nvSpPr>
        <p:spPr>
          <a:xfrm>
            <a:off x="2116080" y="4038480"/>
            <a:ext cx="2878200" cy="642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ัดทำแผนงา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75" name=""/>
          <p:cNvSpPr/>
          <p:nvPr/>
        </p:nvSpPr>
        <p:spPr>
          <a:xfrm>
            <a:off x="2199960" y="4648320"/>
            <a:ext cx="4461480" cy="642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สนอแผนงานต่อลูกค้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76" name=""/>
          <p:cNvSpPr/>
          <p:nvPr/>
        </p:nvSpPr>
        <p:spPr>
          <a:xfrm>
            <a:off x="2461680" y="5257800"/>
            <a:ext cx="5468760" cy="6426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ออกแบบ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,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ร้าง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,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นำไปปฏิบัติ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77" name=""/>
          <p:cNvSpPr/>
          <p:nvPr/>
        </p:nvSpPr>
        <p:spPr>
          <a:xfrm>
            <a:off x="3125160" y="5867280"/>
            <a:ext cx="1890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ลสำเร็จ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78" name=""/>
          <p:cNvSpPr/>
          <p:nvPr/>
        </p:nvSpPr>
        <p:spPr>
          <a:xfrm rot="20149200">
            <a:off x="22320" y="3809880"/>
            <a:ext cx="3138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วงจรการทำงา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ัมภาษณ์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ก้ไข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ัมภาษณ์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-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ก้ไข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79" name=""/>
          <p:cNvSpPr/>
          <p:nvPr/>
        </p:nvSpPr>
        <p:spPr>
          <a:xfrm rot="20076000">
            <a:off x="2484000" y="3933360"/>
            <a:ext cx="149400" cy="2260800"/>
          </a:xfrm>
          <a:custGeom>
            <a:avLst/>
            <a:gdLst>
              <a:gd name="textAreaLeft" fmla="*/ 95400 w 149400"/>
              <a:gd name="textAreaRight" fmla="*/ 149760 w 149400"/>
              <a:gd name="textAreaTop" fmla="*/ 58680 h 2260800"/>
              <a:gd name="textAreaBottom" fmla="*/ 2202120 h 226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80" name=""/>
          <p:cNvSpPr/>
          <p:nvPr/>
        </p:nvSpPr>
        <p:spPr>
          <a:xfrm>
            <a:off x="4173840" y="2819520"/>
            <a:ext cx="5106240" cy="6426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วางแผนร่วมกับผู้ใช้บริการ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81" name=""/>
          <p:cNvSpPr/>
          <p:nvPr/>
        </p:nvSpPr>
        <p:spPr>
          <a:xfrm>
            <a:off x="4290480" y="3429000"/>
            <a:ext cx="5468760" cy="6426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ออกแบบ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,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ร้าง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,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นำไปปฏิบัติ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82" name=""/>
          <p:cNvSpPr/>
          <p:nvPr/>
        </p:nvSpPr>
        <p:spPr>
          <a:xfrm>
            <a:off x="6401880" y="4038480"/>
            <a:ext cx="1890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ลสำเร็จ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83" name=""/>
          <p:cNvSpPr/>
          <p:nvPr/>
        </p:nvSpPr>
        <p:spPr>
          <a:xfrm>
            <a:off x="1523880" y="1752480"/>
            <a:ext cx="311400" cy="533520"/>
          </a:xfrm>
          <a:prstGeom prst="downArrowCallout">
            <a:avLst>
              <a:gd name="adj1" fmla="val 25002"/>
              <a:gd name="adj2" fmla="val 25000"/>
              <a:gd name="adj3" fmla="val 28555"/>
              <a:gd name="adj4" fmla="val 6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84" name=""/>
          <p:cNvSpPr/>
          <p:nvPr/>
        </p:nvSpPr>
        <p:spPr>
          <a:xfrm>
            <a:off x="3048120" y="990720"/>
            <a:ext cx="685800" cy="206280"/>
          </a:xfrm>
          <a:prstGeom prst="rightArrowCallout">
            <a:avLst>
              <a:gd name="adj1" fmla="val 25002"/>
              <a:gd name="adj2" fmla="val 25000"/>
              <a:gd name="adj3" fmla="val 55410"/>
              <a:gd name="adj4" fmla="val 6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"/>
          <p:cNvSpPr/>
          <p:nvPr/>
        </p:nvSpPr>
        <p:spPr>
          <a:xfrm>
            <a:off x="402120" y="404640"/>
            <a:ext cx="842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คำถามที่ใช้ในการประเมินการควบคุม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84" name=""/>
          <p:cNvSpPr/>
          <p:nvPr/>
        </p:nvSpPr>
        <p:spPr>
          <a:xfrm>
            <a:off x="-693720" y="1776240"/>
            <a:ext cx="10924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66"/>
                </a:solidFill>
                <a:latin typeface="Angsana New"/>
                <a:cs typeface="Angsana New"/>
              </a:rPr>
              <a:t>รวมรวมข้อมูลเพื่อให้ที่ประชุมพิจารณาวิธีการควบค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รุปข้อมูล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อบถามว่ามีใครยังต้องการข้อมูลเพิ่มเติ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วิธีการควบคุมที่มีอยู่ควรปรับปรุงอย่างไร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หากดำเนินการด้วยวิธีการดังกล่าวจะทำให้องค์กรได้รับ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lvl="1" marL="990720" indent="-533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ประโยชน์อะไรบ้า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ที่เกี่ยวข้องยอมรับไปดำเนินการอย่างไรและจะเสร็จสิ้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ิ้นเมื่อใด    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"/>
          <p:cNvSpPr/>
          <p:nvPr/>
        </p:nvSpPr>
        <p:spPr>
          <a:xfrm>
            <a:off x="-2037600" y="476280"/>
            <a:ext cx="1335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ิ่งที่ควรปฏิบัติในการประชุมเพื่อให้เกิดการตัดสินใจร่วมกัน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86" name=""/>
          <p:cNvSpPr/>
          <p:nvPr/>
        </p:nvSpPr>
        <p:spPr>
          <a:xfrm>
            <a:off x="-421920" y="1487520"/>
            <a:ext cx="9553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ตั้งใจฟังเพื่อทำความเข้าใจสิ่งคนอื่นนำเสนอ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ไม่ขัดจังหวะในการพูดของคนอื่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พูดด้วยถ้อยคำที่ชัดเจนตรงประเด็นไม่คลุมเครือ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ปฏิบัติตามกติกาที่ที่ประชุมได้กำหนดไว้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ให้ความเห็นเมื่อมีคำถามในที่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ใช้ความคิดเห็นของคนอื่นประกอบการตัดสินใจ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คำนึงถึงประโยชน์ที่จะเกิดขึ้นต่อวัตถุประสงค์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อื่นๆ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"/>
          <p:cNvSpPr/>
          <p:nvPr/>
        </p:nvSpPr>
        <p:spPr>
          <a:xfrm>
            <a:off x="-645840" y="476280"/>
            <a:ext cx="105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ขั้นตอนการเตรียมการเพื่อประเมินการควบคุม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88" name=""/>
          <p:cNvSpPr/>
          <p:nvPr/>
        </p:nvSpPr>
        <p:spPr>
          <a:xfrm>
            <a:off x="-1698840" y="1484280"/>
            <a:ext cx="12624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พบผู้บริหารหน่วยงานที่ต้องการประเมินการควบคุม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(Client)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พื่อทำความเข้าใจวิธีการประเมินการควบคุม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(CSA)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ัมภาษณ์บุคลากรของหน่วยงานเพื่อค้นหาข้อมูลที่เป็นปัจจุบั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ทำความเข้าใจกับวิธีการทำงานของ หน่วยงา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พิจารณาข้อมูลจากการตรวจสอบที่ผ่านม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ลือกวัตถุประสงค์ที่จะใช้ในการประเมินการควบค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ทำความเข้าใจวิธีการปฏิบัติงานของหน่วยงา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พิจารณาร่วมกับหัวหน้าหน่วยงานต่างๆเพื่อเลือกผู้เข้าร่วม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ำหนดแนวทางและวิธี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89" name=""/>
          <p:cNvSpPr/>
          <p:nvPr/>
        </p:nvSpPr>
        <p:spPr>
          <a:xfrm>
            <a:off x="8466480" y="6254640"/>
            <a:ext cx="7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1/2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"/>
          <p:cNvSpPr/>
          <p:nvPr/>
        </p:nvSpPr>
        <p:spPr>
          <a:xfrm>
            <a:off x="755640" y="1700280"/>
            <a:ext cx="8066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ffffff"/>
              </a:buClr>
              <a:buFont typeface="Angsana New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่งเอกสารข้อมูลให้ผู้ร่วมประชุมล่วงหน้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ดำเนิน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ารนำเอา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Option-Finder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มาใช้ในการออกเสีย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รุปรายงานผล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ffff"/>
              </a:buClr>
              <a:buFont typeface="Angsana New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รายงานผลการปรับปรุงการควบคุมฯต่อหน่วยงานที่    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ต้องการให้มีการประเมินฯ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91" name=""/>
          <p:cNvSpPr/>
          <p:nvPr/>
        </p:nvSpPr>
        <p:spPr>
          <a:xfrm>
            <a:off x="-718920" y="692280"/>
            <a:ext cx="105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ขั้นตอนการเตรียมการเพื่อประเมินการควบคุม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92" name=""/>
          <p:cNvSpPr/>
          <p:nvPr/>
        </p:nvSpPr>
        <p:spPr>
          <a:xfrm>
            <a:off x="8250840" y="6254640"/>
            <a:ext cx="7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2/2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"/>
          <p:cNvSpPr/>
          <p:nvPr/>
        </p:nvSpPr>
        <p:spPr>
          <a:xfrm>
            <a:off x="2268360" y="2421000"/>
            <a:ext cx="4464360" cy="2376360"/>
          </a:xfrm>
          <a:custGeom>
            <a:avLst/>
            <a:gdLst>
              <a:gd name="textAreaLeft" fmla="*/ 0 w 4464360"/>
              <a:gd name="textAreaRight" fmla="*/ 4464720 w 4464360"/>
              <a:gd name="textAreaTop" fmla="*/ 0 h 2376360"/>
              <a:gd name="textAreaBottom" fmla="*/ 237672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94" name=""/>
          <p:cNvSpPr/>
          <p:nvPr/>
        </p:nvSpPr>
        <p:spPr>
          <a:xfrm>
            <a:off x="8459640" y="2060640"/>
            <a:ext cx="360" cy="2808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95" name=""/>
          <p:cNvSpPr/>
          <p:nvPr/>
        </p:nvSpPr>
        <p:spPr>
          <a:xfrm>
            <a:off x="6659640" y="4221000"/>
            <a:ext cx="576360" cy="432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96" name=""/>
          <p:cNvSpPr/>
          <p:nvPr/>
        </p:nvSpPr>
        <p:spPr>
          <a:xfrm rot="16200000">
            <a:off x="6767280" y="2601360"/>
            <a:ext cx="863640" cy="1943280"/>
          </a:xfrm>
          <a:prstGeom prst="flowChartExtra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97" name=""/>
          <p:cNvSpPr/>
          <p:nvPr/>
        </p:nvSpPr>
        <p:spPr>
          <a:xfrm>
            <a:off x="5076720" y="4941720"/>
            <a:ext cx="719280" cy="7192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98" name=""/>
          <p:cNvSpPr/>
          <p:nvPr/>
        </p:nvSpPr>
        <p:spPr>
          <a:xfrm>
            <a:off x="3924360" y="5013360"/>
            <a:ext cx="718920" cy="719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99" name=""/>
          <p:cNvSpPr/>
          <p:nvPr/>
        </p:nvSpPr>
        <p:spPr>
          <a:xfrm>
            <a:off x="2771640" y="5013360"/>
            <a:ext cx="719280" cy="719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300" name=""/>
          <p:cNvSpPr/>
          <p:nvPr/>
        </p:nvSpPr>
        <p:spPr>
          <a:xfrm>
            <a:off x="1332000" y="3860640"/>
            <a:ext cx="718920" cy="719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301" name=""/>
          <p:cNvSpPr/>
          <p:nvPr/>
        </p:nvSpPr>
        <p:spPr>
          <a:xfrm>
            <a:off x="1258920" y="2637000"/>
            <a:ext cx="719280" cy="718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302" name=""/>
          <p:cNvSpPr/>
          <p:nvPr/>
        </p:nvSpPr>
        <p:spPr>
          <a:xfrm>
            <a:off x="2484360" y="1268280"/>
            <a:ext cx="719280" cy="719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303" name=""/>
          <p:cNvSpPr/>
          <p:nvPr/>
        </p:nvSpPr>
        <p:spPr>
          <a:xfrm>
            <a:off x="3635280" y="1341360"/>
            <a:ext cx="719280" cy="719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304" name=""/>
          <p:cNvSpPr/>
          <p:nvPr/>
        </p:nvSpPr>
        <p:spPr>
          <a:xfrm>
            <a:off x="4716360" y="1341360"/>
            <a:ext cx="719280" cy="719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305" name=""/>
          <p:cNvSpPr/>
          <p:nvPr/>
        </p:nvSpPr>
        <p:spPr>
          <a:xfrm>
            <a:off x="6003000" y="5305320"/>
            <a:ext cx="25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Facilitator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306" name=""/>
          <p:cNvSpPr/>
          <p:nvPr/>
        </p:nvSpPr>
        <p:spPr>
          <a:xfrm flipH="1" flipV="1">
            <a:off x="7020000" y="4508280"/>
            <a:ext cx="28872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307" name=""/>
          <p:cNvSpPr/>
          <p:nvPr/>
        </p:nvSpPr>
        <p:spPr>
          <a:xfrm>
            <a:off x="2894760" y="5950080"/>
            <a:ext cx="29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Participants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308" name=""/>
          <p:cNvSpPr/>
          <p:nvPr/>
        </p:nvSpPr>
        <p:spPr>
          <a:xfrm flipV="1">
            <a:off x="4284720" y="5444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309" name=""/>
          <p:cNvSpPr/>
          <p:nvPr/>
        </p:nvSpPr>
        <p:spPr>
          <a:xfrm>
            <a:off x="830160" y="549360"/>
            <a:ext cx="72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ารจัดสถานที่เพื่อการประเมินฯ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310" name=""/>
          <p:cNvSpPr/>
          <p:nvPr/>
        </p:nvSpPr>
        <p:spPr>
          <a:xfrm>
            <a:off x="5275440" y="5880240"/>
            <a:ext cx="224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Recorder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311" name=""/>
          <p:cNvSpPr/>
          <p:nvPr/>
        </p:nvSpPr>
        <p:spPr>
          <a:xfrm flipH="1" flipV="1">
            <a:off x="5651640" y="5516280"/>
            <a:ext cx="576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312" name=""/>
          <p:cNvSpPr/>
          <p:nvPr/>
        </p:nvSpPr>
        <p:spPr>
          <a:xfrm>
            <a:off x="5435640" y="3429000"/>
            <a:ext cx="649080" cy="431640"/>
          </a:xfrm>
          <a:prstGeom prst="flowChartAlternate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"/>
          <p:cNvSpPr/>
          <p:nvPr/>
        </p:nvSpPr>
        <p:spPr>
          <a:xfrm>
            <a:off x="1373400" y="549360"/>
            <a:ext cx="644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ิ่งที่คาดหวังจากการประชุม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314" name=""/>
          <p:cNvSpPr/>
          <p:nvPr/>
        </p:nvSpPr>
        <p:spPr>
          <a:xfrm>
            <a:off x="-309600" y="1776240"/>
            <a:ext cx="1042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buClr>
                <a:srgbClr val="ffcc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วิธีการแก้ไขปัญหาจากกลุ่มผู้เข้าร่วม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cc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ารเรียนรู้จากความคิดเห็นของบุคคลอื่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cc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่งเสริมให้มีการติดต่อสื่อสารระหว่างหน่วยงา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cc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ยอมเปิดเผยสิ่งที่เป็นปัญหาเพื่อร่วมกันแก้ไข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cc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ช่วยให้ผู้เกี่ยวข้องค้นหาวิธีการร่วมกันแก้ไขปัญห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cc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ยอมรับการแก้ไขปัญหาร่วมกั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cc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กิดการยอมรับการวิธีการควบคุมที่ตนเองรับผิดชอบ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533520" indent="-533520">
              <a:buClr>
                <a:srgbClr val="ffcc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อื่นๆ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"/>
          <p:cNvSpPr/>
          <p:nvPr/>
        </p:nvSpPr>
        <p:spPr>
          <a:xfrm>
            <a:off x="1723320" y="609480"/>
            <a:ext cx="589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Angsana New"/>
              </a:rPr>
              <a:t>บุคลิกการเป็นผู้นำประชุม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316" name=""/>
          <p:cNvSpPr/>
          <p:nvPr/>
        </p:nvSpPr>
        <p:spPr>
          <a:xfrm>
            <a:off x="-812160" y="1828800"/>
            <a:ext cx="10935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ฉลาด  มีความรู้ความสามารถและไหวพริบที่ดี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ปฏิบัติตัวเหมือนบุคคลทั่วๆไปที่ตนต้องการให้เข้า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มีมนุษย์สัมพันธ์ที่ดีกับผู้เข้าประชุมทุกค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ใช้คำพูดที่จูงใจให้ผู้เข้าประชุมร่วมอภิปรายประเด็นต่างๆ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ปรับตัวได้ดีกับเหตุการณ์ต่างๆที่อาจเกิดขึ้นใน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ใช้คำพูดที่เข้าใจง่ายและจริงใจต่อ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สามารถนำเอาทฤษฎีหรือแนวคิดต่างๆมาปรับใช้กับวิธี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    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ปฏิบัติในระหว่าง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"/>
          <p:cNvSpPr/>
          <p:nvPr/>
        </p:nvSpPr>
        <p:spPr>
          <a:xfrm>
            <a:off x="1723320" y="609480"/>
            <a:ext cx="589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Angsana New"/>
              </a:rPr>
              <a:t>บุคลิกการเป็นผู้นำประชุม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318" name=""/>
          <p:cNvSpPr/>
          <p:nvPr/>
        </p:nvSpPr>
        <p:spPr>
          <a:xfrm>
            <a:off x="-1005480" y="1822320"/>
            <a:ext cx="1202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คำนึงถึงวัตถุประสงค์ในการดำเนิน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ใช้สายตามองที่ผู้ร่วมประชุมอย่างทั่วถึง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ส่งยิ้ม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ใช้ระดับเสียงขึ้น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ลง  ที่ผู้เข้าประชุมได้ยินชัดเจน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ฟังไม่เครียด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เคลื่อนไหวตนเองอย่างเหมาะส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"/>
          <p:cNvSpPr/>
          <p:nvPr/>
        </p:nvSpPr>
        <p:spPr>
          <a:xfrm>
            <a:off x="579960" y="457200"/>
            <a:ext cx="816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66"/>
                </a:solidFill>
                <a:latin typeface="Angsana New"/>
              </a:rPr>
              <a:t>บุคลิกที่เป็นปัญหาของผู้ร่วมประชุม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320" name=""/>
          <p:cNvSpPr/>
          <p:nvPr/>
        </p:nvSpPr>
        <p:spPr>
          <a:xfrm>
            <a:off x="-1133640" y="1523880"/>
            <a:ext cx="11779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ngsana New"/>
              </a:rPr>
              <a:t>  </a:t>
            </a:r>
            <a:r>
              <a:rPr b="1" lang="hi-IN" sz="3600" spc="-1" strike="noStrike">
                <a:solidFill>
                  <a:srgbClr val="00ff00"/>
                </a:solidFill>
                <a:latin typeface="Angsana New"/>
              </a:rPr>
              <a:t>เงียบ  ไม่ร่วมอภิปราย  หรือไม่แสดงความคิดเห็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ngsana New"/>
              </a:rPr>
              <a:t>  </a:t>
            </a:r>
            <a:r>
              <a:rPr b="1" lang="hi-IN" sz="3600" spc="-1" strike="noStrike">
                <a:solidFill>
                  <a:srgbClr val="00ff00"/>
                </a:solidFill>
                <a:latin typeface="Angsana New"/>
              </a:rPr>
              <a:t>ขัดจังหวะ  หรือคอยจับประเด็นและแสดงความคิดเห็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ngsana New"/>
              </a:rPr>
              <a:t>        </a:t>
            </a:r>
            <a:r>
              <a:rPr b="1" lang="hi-IN" sz="3600" spc="-1" strike="noStrike">
                <a:solidFill>
                  <a:srgbClr val="00ff00"/>
                </a:solidFill>
                <a:latin typeface="Angsana New"/>
              </a:rPr>
              <a:t>ในขณะที่บุคคลอื่นกำลังอภิปราย เกี่ยวกับเรื่องเล็กๆน้อยๆ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ngsana New"/>
              </a:rPr>
              <a:t>        </a:t>
            </a:r>
            <a:r>
              <a:rPr b="1" lang="hi-IN" sz="3600" spc="-1" strike="noStrike">
                <a:solidFill>
                  <a:srgbClr val="00ff00"/>
                </a:solidFill>
                <a:latin typeface="Angsana New"/>
              </a:rPr>
              <a:t>ทำให้ที่ประชุมเกิดความรู้สึกรำคาญ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ngsana New"/>
              </a:rPr>
              <a:t> </a:t>
            </a:r>
            <a:r>
              <a:rPr b="1" lang="hi-IN" sz="3600" spc="-1" strike="noStrike">
                <a:solidFill>
                  <a:srgbClr val="00ff00"/>
                </a:solidFill>
                <a:latin typeface="Angsana New"/>
              </a:rPr>
              <a:t>จับกลุ่มคุยกันเองโดยไม่สนใจประเด็นที่กำลังพิจารณ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ngsanaUPC"/>
              </a:rPr>
              <a:t> </a:t>
            </a:r>
            <a:r>
              <a:rPr b="1" lang="hi-IN" sz="3600" spc="-1" strike="noStrike">
                <a:solidFill>
                  <a:srgbClr val="00ff00"/>
                </a:solidFill>
                <a:latin typeface="Angsana New"/>
              </a:rPr>
              <a:t>แสดงความคิดเห็นอย่างตั้งใจแต่ไม่ตรงกับเรื่องที่มีการ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ngsanaUPC"/>
              </a:rPr>
              <a:t>         </a:t>
            </a:r>
            <a:r>
              <a:rPr b="1" lang="hi-IN" sz="3600" spc="-1" strike="noStrike">
                <a:solidFill>
                  <a:srgbClr val="00ff00"/>
                </a:solidFill>
                <a:latin typeface="Angsana New"/>
              </a:rPr>
              <a:t>ประชุม  ทำให้การประชุมหยุดชะงัก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ngsana New"/>
              </a:rPr>
              <a:t> </a:t>
            </a:r>
            <a:r>
              <a:rPr b="1" lang="hi-IN" sz="3600" spc="-1" strike="noStrike">
                <a:solidFill>
                  <a:srgbClr val="00ff00"/>
                </a:solidFill>
                <a:latin typeface="Angsana New"/>
              </a:rPr>
              <a:t>พูดนอกประเด็นเพื่อให้ที่ประชุมสนใจทำให้เสียเวลา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00ff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"/>
          <p:cNvSpPr/>
          <p:nvPr/>
        </p:nvSpPr>
        <p:spPr>
          <a:xfrm>
            <a:off x="583200" y="404640"/>
            <a:ext cx="816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66"/>
                </a:solidFill>
                <a:latin typeface="Angsana New"/>
              </a:rPr>
              <a:t>บุคลิกที่เป็นปัญหาของผู้ร่วมประชุม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322" name=""/>
          <p:cNvSpPr/>
          <p:nvPr/>
        </p:nvSpPr>
        <p:spPr>
          <a:xfrm>
            <a:off x="-468360" y="1125360"/>
            <a:ext cx="10281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ngsana New"/>
              </a:rPr>
              <a:t>  </a:t>
            </a:r>
            <a:r>
              <a:rPr b="1" lang="hi-IN" sz="3600" spc="-1" strike="noStrike">
                <a:solidFill>
                  <a:srgbClr val="00ff00"/>
                </a:solidFill>
                <a:latin typeface="Angsana New"/>
              </a:rPr>
              <a:t>รู้ทุกเรื่อง  และพยายามแสดงให้เห็นว่าตนมีความรู้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ngsana New"/>
              </a:rPr>
              <a:t>         </a:t>
            </a:r>
            <a:r>
              <a:rPr b="1" lang="hi-IN" sz="3600" spc="-1" strike="noStrike">
                <a:solidFill>
                  <a:srgbClr val="00ff00"/>
                </a:solidFill>
                <a:latin typeface="Angsana New"/>
              </a:rPr>
              <a:t>เหนือกว่าคนอื่นๆในที่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ngsana New"/>
              </a:rPr>
              <a:t>  </a:t>
            </a:r>
            <a:r>
              <a:rPr b="1" lang="hi-IN" sz="3600" spc="-1" strike="noStrike">
                <a:solidFill>
                  <a:srgbClr val="00ff00"/>
                </a:solidFill>
                <a:latin typeface="Angsana New"/>
              </a:rPr>
              <a:t>ทำตัวเป็นผู้สังเกตการณ์  ไม่แสดงความคิดเห็น  หรือ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ngsana New"/>
              </a:rPr>
              <a:t>        </a:t>
            </a:r>
            <a:r>
              <a:rPr b="1" lang="hi-IN" sz="3600" spc="-1" strike="noStrike">
                <a:solidFill>
                  <a:srgbClr val="00ff00"/>
                </a:solidFill>
                <a:latin typeface="Angsana New"/>
              </a:rPr>
              <a:t>พยายามแสดงให้บุคคลอื่นเห็นว่าตนเหนือกว่าและ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ngsana New"/>
              </a:rPr>
              <a:t>        </a:t>
            </a:r>
            <a:r>
              <a:rPr b="1" lang="hi-IN" sz="3600" spc="-1" strike="noStrike">
                <a:solidFill>
                  <a:srgbClr val="00ff00"/>
                </a:solidFill>
                <a:latin typeface="Angsana New"/>
              </a:rPr>
              <a:t>รู้เรื่องดีอยู่แล้ว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ngsana New"/>
              </a:rPr>
              <a:t>  </a:t>
            </a:r>
            <a:r>
              <a:rPr b="1" lang="hi-IN" sz="3600" spc="-1" strike="noStrike">
                <a:solidFill>
                  <a:srgbClr val="00ff00"/>
                </a:solidFill>
                <a:latin typeface="Angsana New"/>
              </a:rPr>
              <a:t>ใช้คำพูดเพื่อให้เกิดความตลก  ขบขัน  เพราะรู้สึกว่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ngsana New"/>
              </a:rPr>
              <a:t>        </a:t>
            </a:r>
            <a:r>
              <a:rPr b="1" lang="hi-IN" sz="3600" spc="-1" strike="noStrike">
                <a:solidFill>
                  <a:srgbClr val="00ff00"/>
                </a:solidFill>
                <a:latin typeface="Angsana New"/>
              </a:rPr>
              <a:t>การประชุมทำให้ทุกคนเกิดความเครียด 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ngsanaUPC"/>
              </a:rPr>
              <a:t>  </a:t>
            </a:r>
            <a:r>
              <a:rPr b="1" lang="hi-IN" sz="3600" spc="-1" strike="noStrike">
                <a:solidFill>
                  <a:srgbClr val="00ff00"/>
                </a:solidFill>
                <a:latin typeface="Angsana New"/>
              </a:rPr>
              <a:t>แสดงว่าสนใจการประชุมแต่กำลังคิดเรื่องอื่นๆที่ไม่ใช่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ngsanaUPC"/>
              </a:rPr>
              <a:t>          </a:t>
            </a:r>
            <a:r>
              <a:rPr b="1" lang="hi-IN" sz="3600" spc="-1" strike="noStrike">
                <a:solidFill>
                  <a:srgbClr val="00ff00"/>
                </a:solidFill>
                <a:latin typeface="Angsana New"/>
              </a:rPr>
              <a:t>ประเด็นที่กำลังพิจารณ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"/>
          <p:cNvSpPr/>
          <p:nvPr/>
        </p:nvSpPr>
        <p:spPr>
          <a:xfrm>
            <a:off x="-455400" y="549360"/>
            <a:ext cx="1039464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ngsana New"/>
                <a:ea typeface="Angsana New"/>
              </a:rPr>
              <a:t>Control Self – Assessment ( CSA )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Angsana New"/>
                <a:cs typeface="Angsana New"/>
              </a:rPr>
              <a:t>การประเมินการควบคุมด้วยตนเองเป็น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ระบวนการที่ผู้รับผิดชอบแต่ละกิจกรรมร่วมกั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พิจารณาวิธีการควบคุมที่ได้กำหนดไว้แล้วอย่างเป็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ทางการและจัดการกับความเสี่ยงเพื่อให้การปฏิบัติ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ประสบความสำเร็จตามวัตถุประสงค์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*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ปฏิบัติงานทุกคนรับผิดชอบต่อกิจกรรมที่ต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ปฏิบัติจึงเป็นผู้ที่รู้ดีเกี่ยวกับการควบคุมและปัญหาต่างๆ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ซึ่งควรได้รับการปรับปรุงแก้ไข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3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64767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"/>
          <p:cNvSpPr/>
          <p:nvPr/>
        </p:nvSpPr>
        <p:spPr>
          <a:xfrm>
            <a:off x="1405440" y="411120"/>
            <a:ext cx="670320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ระบวนการประชุมกลุ่ม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(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 Facilitation  Process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 )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87" name=""/>
          <p:cNvSpPr/>
          <p:nvPr/>
        </p:nvSpPr>
        <p:spPr>
          <a:xfrm>
            <a:off x="127440" y="1844640"/>
            <a:ext cx="37742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ปัญหา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/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อุปสรรค 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88" name=""/>
          <p:cNvSpPr/>
          <p:nvPr/>
        </p:nvSpPr>
        <p:spPr>
          <a:xfrm>
            <a:off x="1318320" y="3276720"/>
            <a:ext cx="63712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มีความเห็นร่วมกันเป็นหนึ่งเดียว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89" name=""/>
          <p:cNvSpPr/>
          <p:nvPr/>
        </p:nvSpPr>
        <p:spPr>
          <a:xfrm>
            <a:off x="3034080" y="4724280"/>
            <a:ext cx="4803120" cy="581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มีการยอมรับผลการประชุม 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90" name=""/>
          <p:cNvSpPr/>
          <p:nvPr/>
        </p:nvSpPr>
        <p:spPr>
          <a:xfrm>
            <a:off x="2955240" y="2514600"/>
            <a:ext cx="52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ทำให้เกิดความเข้าใจร่วมกั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91" name=""/>
          <p:cNvSpPr/>
          <p:nvPr/>
        </p:nvSpPr>
        <p:spPr>
          <a:xfrm>
            <a:off x="4083480" y="3886200"/>
            <a:ext cx="56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กิดการกำหนดวิธีแก้ไขปัญห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92" name=""/>
          <p:cNvSpPr/>
          <p:nvPr/>
        </p:nvSpPr>
        <p:spPr>
          <a:xfrm>
            <a:off x="5121360" y="5562720"/>
            <a:ext cx="34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นำไปปฏิบัติได้จริ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93" name=""/>
          <p:cNvSpPr/>
          <p:nvPr/>
        </p:nvSpPr>
        <p:spPr>
          <a:xfrm>
            <a:off x="1905120" y="358128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94" name=""/>
          <p:cNvSpPr/>
          <p:nvPr/>
        </p:nvSpPr>
        <p:spPr>
          <a:xfrm flipV="1">
            <a:off x="1905120" y="243792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95" name=""/>
          <p:cNvSpPr/>
          <p:nvPr/>
        </p:nvSpPr>
        <p:spPr>
          <a:xfrm>
            <a:off x="3352680" y="495288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96" name=""/>
          <p:cNvSpPr/>
          <p:nvPr/>
        </p:nvSpPr>
        <p:spPr>
          <a:xfrm flipV="1">
            <a:off x="3352680" y="388584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97" name=""/>
          <p:cNvSpPr/>
          <p:nvPr/>
        </p:nvSpPr>
        <p:spPr>
          <a:xfrm>
            <a:off x="2057400" y="2895480"/>
            <a:ext cx="1676520" cy="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98" name=""/>
          <p:cNvSpPr/>
          <p:nvPr/>
        </p:nvSpPr>
        <p:spPr>
          <a:xfrm>
            <a:off x="3505320" y="4267080"/>
            <a:ext cx="1523880" cy="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99" name=""/>
          <p:cNvSpPr/>
          <p:nvPr/>
        </p:nvSpPr>
        <p:spPr>
          <a:xfrm>
            <a:off x="4724280" y="53341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00" name=""/>
          <p:cNvSpPr/>
          <p:nvPr/>
        </p:nvSpPr>
        <p:spPr>
          <a:xfrm>
            <a:off x="4724280" y="59436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01" name=""/>
          <p:cNvSpPr/>
          <p:nvPr/>
        </p:nvSpPr>
        <p:spPr>
          <a:xfrm rot="19407600">
            <a:off x="2209320" y="2819160"/>
            <a:ext cx="381240" cy="3657600"/>
          </a:xfrm>
          <a:custGeom>
            <a:avLst/>
            <a:gdLst>
              <a:gd name="textAreaLeft" fmla="*/ 243720 w 381240"/>
              <a:gd name="textAreaRight" fmla="*/ 381600 w 3812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02" name=""/>
          <p:cNvSpPr/>
          <p:nvPr/>
        </p:nvSpPr>
        <p:spPr>
          <a:xfrm>
            <a:off x="324000" y="4572000"/>
            <a:ext cx="2376360" cy="152100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ารประชุมกลุ่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Group Meeting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03" name=""/>
          <p:cNvSpPr/>
          <p:nvPr/>
        </p:nvSpPr>
        <p:spPr>
          <a:xfrm>
            <a:off x="3733920" y="1676520"/>
            <a:ext cx="2057400" cy="759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"/>
          <p:cNvSpPr/>
          <p:nvPr/>
        </p:nvSpPr>
        <p:spPr>
          <a:xfrm>
            <a:off x="-996480" y="304920"/>
            <a:ext cx="69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ngsana New"/>
                <a:ea typeface="Angsana New"/>
              </a:rPr>
              <a:t>Control Self-Assessment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05" name=""/>
          <p:cNvSpPr/>
          <p:nvPr/>
        </p:nvSpPr>
        <p:spPr>
          <a:xfrm>
            <a:off x="-197280" y="1430280"/>
            <a:ext cx="10075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ำหนดวัตถุประสงค์ใน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พิจารณาวิธี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ัดเตรียมเสถานที่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ัดทำวาระ  กำหนดเวลาเริ่มต้น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/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ิ้นสุด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ชิญผู้เข้า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ใช้วิธีการที่เหมาะสมใน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ข้าใจและชี้ให้เห็นปัญห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ช่วยทำให้ที่ประชุมเกิดความเข้าใจประเด็นที่ชัดเจ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พัฒนาการประชุมให้เกิดความเห็นร่วมกันของกลุ่ม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"/>
          <p:cNvSpPr/>
          <p:nvPr/>
        </p:nvSpPr>
        <p:spPr>
          <a:xfrm>
            <a:off x="-564480" y="1371600"/>
            <a:ext cx="1089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ช่วยให้ที่ประชุมยอมรับผลการประชุมเพื่อนำไปปฏิบัติ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ดบันทึกการประชุม และข้อมูลจากการลงมติ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ัดทำรายงานผลการประชุมเพื่อให้ผู้ร่วมประชุมนำไปใช้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ดำเนินการ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ัดทำรายงานให้กับผู้ขอใช้บริการ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CSA ( Clients)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มั่นใจว่าการปฏิบัติตามผลการประชุมจะสำเร็จ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ำหนดแผนการปฏิบัติระยะยาว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อบทานผลการปฏิบัติตามแผ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ffffff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ค้นหาวิธีการปรับปรุงใหม่อยู่เสมอ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07" name=""/>
          <p:cNvSpPr/>
          <p:nvPr/>
        </p:nvSpPr>
        <p:spPr>
          <a:xfrm>
            <a:off x="-1072800" y="304920"/>
            <a:ext cx="69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ngsana New"/>
                <a:ea typeface="Angsana New"/>
              </a:rPr>
              <a:t>Control Self-Assessment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"/>
          <p:cNvSpPr/>
          <p:nvPr/>
        </p:nvSpPr>
        <p:spPr>
          <a:xfrm>
            <a:off x="324000" y="5560920"/>
            <a:ext cx="1871640" cy="129708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จะรายงา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(Recorder))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09" name=""/>
          <p:cNvSpPr/>
          <p:nvPr/>
        </p:nvSpPr>
        <p:spPr>
          <a:xfrm>
            <a:off x="324000" y="4365720"/>
            <a:ext cx="1871640" cy="129672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สรุปผล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(Debriefer)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10" name=""/>
          <p:cNvSpPr/>
          <p:nvPr/>
        </p:nvSpPr>
        <p:spPr>
          <a:xfrm>
            <a:off x="7380360" y="2781360"/>
            <a:ext cx="1763640" cy="1224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Ground 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Rule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11" name=""/>
          <p:cNvSpPr/>
          <p:nvPr/>
        </p:nvSpPr>
        <p:spPr>
          <a:xfrm>
            <a:off x="228600" y="228600"/>
            <a:ext cx="6629400" cy="2192400"/>
          </a:xfrm>
          <a:prstGeom prst="ellips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ารประเมินการควบคุมด้วยตนเอง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Control  Self-Assessment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(CSA)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12" name=""/>
          <p:cNvSpPr/>
          <p:nvPr/>
        </p:nvSpPr>
        <p:spPr>
          <a:xfrm>
            <a:off x="395280" y="2997360"/>
            <a:ext cx="2209680" cy="160020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นำการ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Facilitator)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13" name=""/>
          <p:cNvSpPr/>
          <p:nvPr/>
        </p:nvSpPr>
        <p:spPr>
          <a:xfrm>
            <a:off x="2971800" y="3962520"/>
            <a:ext cx="2438280" cy="15238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เข้าร่วมประชุ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Participants)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14" name=""/>
          <p:cNvSpPr/>
          <p:nvPr/>
        </p:nvSpPr>
        <p:spPr>
          <a:xfrm>
            <a:off x="5638680" y="3733920"/>
            <a:ext cx="2286000" cy="1600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ใช้บริการ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/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ลูกค้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Clients)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15" name=""/>
          <p:cNvSpPr/>
          <p:nvPr/>
        </p:nvSpPr>
        <p:spPr>
          <a:xfrm>
            <a:off x="5508720" y="2060640"/>
            <a:ext cx="2286000" cy="1511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วิธีการประเมิ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Methodology)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2268000" y="2438280"/>
            <a:ext cx="932040" cy="7034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17" name=""/>
          <p:cNvSpPr/>
          <p:nvPr/>
        </p:nvSpPr>
        <p:spPr>
          <a:xfrm>
            <a:off x="3200400" y="2438280"/>
            <a:ext cx="762120" cy="15242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18" name=""/>
          <p:cNvSpPr/>
          <p:nvPr/>
        </p:nvSpPr>
        <p:spPr>
          <a:xfrm>
            <a:off x="3200400" y="2438280"/>
            <a:ext cx="2590920" cy="1524240"/>
          </a:xfrm>
          <a:prstGeom prst="line">
            <a:avLst/>
          </a:prstGeom>
          <a:ln w="5724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19" name=""/>
          <p:cNvSpPr/>
          <p:nvPr/>
        </p:nvSpPr>
        <p:spPr>
          <a:xfrm>
            <a:off x="3200400" y="2438280"/>
            <a:ext cx="2308320" cy="2700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20" name=""/>
          <p:cNvSpPr/>
          <p:nvPr/>
        </p:nvSpPr>
        <p:spPr>
          <a:xfrm>
            <a:off x="2286000" y="5181480"/>
            <a:ext cx="2133720" cy="106704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นวตั้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Horizontal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21" name=""/>
          <p:cNvSpPr/>
          <p:nvPr/>
        </p:nvSpPr>
        <p:spPr>
          <a:xfrm>
            <a:off x="4114800" y="5486400"/>
            <a:ext cx="1905120" cy="106668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นวนอน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Vertical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22" name=""/>
          <p:cNvSpPr/>
          <p:nvPr/>
        </p:nvSpPr>
        <p:spPr>
          <a:xfrm>
            <a:off x="5791320" y="5638680"/>
            <a:ext cx="1981080" cy="99072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สม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Angsana New"/>
              </a:rPr>
              <a:t>Diagonal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"/>
          <p:cNvSpPr/>
          <p:nvPr/>
        </p:nvSpPr>
        <p:spPr>
          <a:xfrm>
            <a:off x="-2476800" y="2060640"/>
            <a:ext cx="1440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UPC"/>
              </a:rPr>
              <a:t>Facilitator = Someone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Angsana New"/>
              </a:rPr>
              <a:t>who</a:t>
            </a:r>
            <a:r>
              <a:rPr b="1" lang="en-US" sz="4400" spc="-1" strike="noStrike">
                <a:solidFill>
                  <a:srgbClr val="ffffff"/>
                </a:solidFill>
                <a:latin typeface="AngsanaUPC"/>
              </a:rPr>
              <a:t> helps a group of people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UPC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ngsanaUPC"/>
              </a:rPr>
              <a:t>            </a:t>
            </a:r>
            <a:r>
              <a:rPr b="1" lang="en-US" sz="4400" spc="-1" strike="noStrike">
                <a:solidFill>
                  <a:srgbClr val="ffffff"/>
                </a:solidFill>
                <a:latin typeface="AngsanaUPC"/>
              </a:rPr>
              <a:t>discuss things with each other or do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UPC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ngsanaUPC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ngsanaUPC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ngsanaUPC"/>
              </a:rPr>
              <a:t>something effectively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7T13:46:13Z</dcterms:created>
  <dc:creator>EGAT</dc:creator>
  <dc:description/>
  <dc:language>en-US</dc:language>
  <cp:lastModifiedBy>judd</cp:lastModifiedBy>
  <cp:lastPrinted>2000-03-10T13:21:10Z</cp:lastPrinted>
  <dcterms:modified xsi:type="dcterms:W3CDTF">2003-05-22T12:39:02Z</dcterms:modified>
  <cp:revision>110</cp:revision>
  <dc:subject/>
  <dc:title>No Slide Title</dc:title>
</cp:coreProperties>
</file>