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3E16-37DE-4EDA-881B-69356CFC2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3AA8-7137-4626-A010-F8B1C05C7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06D9-C3DB-4778-8B94-2DA9D54EE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9367-EE4E-4F62-BC1C-070C35DDD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D327-09FB-4CC7-AD8C-D60FFA477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D6D6-DE50-423C-A99C-C21851A66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299F-DBC3-4B16-9D03-FD65BA6C8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D01E-1216-487A-BE81-039C96AC9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C2AF-7FAA-47B1-ACE6-2DCA3230D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B89A-3BB1-4F77-9335-935C3FB5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7E49-0722-411E-96AB-E4E49E0E3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B154-8E29-49A9-B399-E22D3ABA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ngsana New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226080">
              <a:spcBef>
                <a:spcPts val="11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ngsana New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  <a:p>
            <a:pPr lvl="1" marL="490320" indent="-188640">
              <a:spcBef>
                <a:spcPts val="1199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ngsana New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  <a:p>
            <a:pPr lvl="2" marL="754200" indent="-150840">
              <a:spcBef>
                <a:spcPts val="11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ngsana New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  <a:p>
            <a:pPr lvl="3" marL="1055880" indent="-150840">
              <a:spcBef>
                <a:spcPts val="1199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ngsana New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  <a:p>
            <a:pPr lvl="4" marL="1357560" indent="-150840">
              <a:spcBef>
                <a:spcPts val="11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ngsana New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  <a:p>
            <a:pPr lvl="5" marL="1357560" indent="-150840">
              <a:spcBef>
                <a:spcPts val="11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ngsana New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  <a:p>
            <a:pPr lvl="6" marL="1357560" indent="-150840">
              <a:spcBef>
                <a:spcPts val="11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ngsana New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7A381-B919-4A6B-8F65-150585D053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82844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600" spc="-1" strike="noStrike">
                <a:solidFill>
                  <a:srgbClr val="000000"/>
                </a:solidFill>
                <a:latin typeface="Angsana New"/>
              </a:rPr>
              <a:t>การประเมินความเสี่ยงด้านเครดิต</a:t>
            </a:r>
            <a:endParaRPr b="0" lang="en-US" sz="66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ngsana New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Angsana New"/>
              </a:rPr>
              <a:t>พงศ์อดุล   กฤษณะราช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indent="0" algn="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th-TH" sz="4000" spc="-1" strike="noStrike">
                <a:solidFill>
                  <a:srgbClr val="000000"/>
                </a:solidFill>
                <a:latin typeface="Angsana New"/>
              </a:rPr>
              <a:t>กรกฎาคม </a:t>
            </a:r>
            <a:r>
              <a:rPr b="0" lang="th-TH" sz="4000" spc="-1" strike="noStrike">
                <a:solidFill>
                  <a:srgbClr val="000000"/>
                </a:solidFill>
                <a:latin typeface="Angsana New"/>
              </a:rPr>
              <a:t>2547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0A8B-6DFE-45B6-BB41-F343461C2D0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50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en-US" sz="5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Angsana New"/>
              </a:rPr>
              <a:t>4.1 </a:t>
            </a:r>
            <a:r>
              <a:rPr b="1" lang="th-TH" sz="5000" spc="-1" strike="noStrike" u="sng">
                <a:solidFill>
                  <a:srgbClr val="000000"/>
                </a:solidFill>
                <a:uFillTx/>
                <a:latin typeface="Angsana New"/>
              </a:rPr>
              <a:t>ระดับความเสี่ยง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ต่อ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)</a:t>
            </a:r>
            <a:endParaRPr b="0" lang="en-US" sz="5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7772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38880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(3) </a:t>
            </a:r>
            <a:r>
              <a:rPr b="0" lang="en-US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มีแผนงานให้ขยายสินเชื่อเพิ่มขึ้น        ร้อยละ 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20 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ต่อปี   ทั้งในส่วนกลางและ  ภูมิภาค  โดยไม่จำกัดว่าเป็นสินเชื่อ        ในภาคธุรกิจใด รวมทั้งจะเป็นสินเชื่อประเภทบุคคลหรือนิติบุคคลก็ได้ ทั้งนี้ เพื่อระบายสภาพคล่องที่มีอยู่เป็นจำนวนมากออกไปจากธนาคารโดยเร็ว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DCC5-16B7-4F55-85C9-0AE9DAAB0BF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50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en-US" sz="5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Angsana New"/>
              </a:rPr>
              <a:t>4.1 </a:t>
            </a:r>
            <a:r>
              <a:rPr b="1" lang="th-TH" sz="5000" spc="-1" strike="noStrike" u="sng">
                <a:solidFill>
                  <a:srgbClr val="000000"/>
                </a:solidFill>
                <a:uFillTx/>
                <a:latin typeface="Angsana New"/>
              </a:rPr>
              <a:t>ระดับความเสี่ยง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  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ต่อ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)</a:t>
            </a:r>
            <a:endParaRPr b="0" lang="en-US" sz="5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850320" indent="0">
              <a:spcBef>
                <a:spcPts val="1199"/>
              </a:spcBef>
              <a:buNone/>
              <a:tabLst>
                <a:tab algn="l" pos="0"/>
                <a:tab algn="l" pos="38880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(4)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มีการให้สินเชื่อแก่กลุ่มธุรกิจเครือข่ายของกรรมการหรือผู้บริหารระดับสูงของธนาคารเป็นจำนวนสูง และธุรกิจหลายแห่งเริ่มค้างชำระทำให้ธนาคารจะต้อง  ได้รับผลเสียหายในอนาคต   อันใกล้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745F-B15F-49A6-A21E-20BC3005095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50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en-US" sz="5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Angsana New"/>
              </a:rPr>
              <a:t>4.1 </a:t>
            </a:r>
            <a:r>
              <a:rPr b="1" lang="th-TH" sz="5000" spc="-1" strike="noStrike" u="sng">
                <a:solidFill>
                  <a:srgbClr val="000000"/>
                </a:solidFill>
                <a:uFillTx/>
                <a:latin typeface="Angsana New"/>
              </a:rPr>
              <a:t>ระดับความเสี่ยง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  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ต่อ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)</a:t>
            </a:r>
            <a:endParaRPr b="0" lang="en-US" sz="5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7862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38880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(5) 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เงินลงทุนที่มีอยู่เกือบทั้งหมดเป็นตราสารหนี้ที่ไม่ได้มีการซื้อขายกันในตลาด และ  ไม่มี </a:t>
            </a:r>
            <a:r>
              <a:rPr b="0" lang="en-US" sz="4800" spc="-1" strike="noStrike">
                <a:solidFill>
                  <a:srgbClr val="000000"/>
                </a:solidFill>
                <a:latin typeface="Angsana New"/>
              </a:rPr>
              <a:t>Rating Agency 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จัดอันดับไว้  เนื่องจากผู้ออกตราสารเป็นนิติบุคคลก่อตั้งใหม่      ทั้งสิ้น โดยธนาคารเพิ่งจะแก้ปัญหา     สภาพคล่องด้วยการนำเงินที่เหลืออยู่         มาลงทุนดังกล่าวนี้  เมื่อประมาณ 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5-6 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เดือน ที่ผ่านมา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F83B-0261-4525-9F1F-EA28B18BFAD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50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en-US" sz="5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Angsana New"/>
              </a:rPr>
              <a:t>4.1 </a:t>
            </a:r>
            <a:r>
              <a:rPr b="1" lang="th-TH" sz="5000" spc="-1" strike="noStrike" u="sng">
                <a:solidFill>
                  <a:srgbClr val="000000"/>
                </a:solidFill>
                <a:uFillTx/>
                <a:latin typeface="Angsana New"/>
              </a:rPr>
              <a:t>ระดับความเสี่ยง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  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ต่อ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)</a:t>
            </a:r>
            <a:endParaRPr b="0" lang="en-US" sz="5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14400" indent="-914400">
              <a:spcBef>
                <a:spcPts val="1199"/>
              </a:spcBef>
              <a:buClr>
                <a:srgbClr val="000000"/>
              </a:buClr>
              <a:buFont typeface="Angsana New"/>
              <a:buAutoNum type="arabicParenR" startAt="6"/>
              <a:tabLst>
                <a:tab algn="l" pos="38880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เงินลงทุนในหุ้นสามัญมีจำนวนรายละ 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5-8% 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ของทุนที่เรียกชำระแล้วของแต่ละบริษัท    และมีสัดส่วนการลงทุนในภาคธุรกิจต่าง ๆ กระจายกันออกไป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  <a:p>
            <a:pPr marL="914400" indent="0">
              <a:spcBef>
                <a:spcPts val="1199"/>
              </a:spcBef>
              <a:buNone/>
              <a:tabLst>
                <a:tab algn="l" pos="0"/>
                <a:tab algn="l" pos="38880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C71A-073B-4D20-A49A-68AC78E76B8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50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en-US" sz="5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Angsana New"/>
              </a:rPr>
              <a:t>4.1 </a:t>
            </a:r>
            <a:r>
              <a:rPr b="1" lang="th-TH" sz="5000" spc="-1" strike="noStrike" u="sng">
                <a:solidFill>
                  <a:srgbClr val="000000"/>
                </a:solidFill>
                <a:uFillTx/>
                <a:latin typeface="Angsana New"/>
              </a:rPr>
              <a:t>ระดับความเสี่ยง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  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ต่อ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)</a:t>
            </a:r>
            <a:endParaRPr b="0" lang="en-US" sz="5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14400" indent="-914400">
              <a:spcBef>
                <a:spcPts val="1199"/>
              </a:spcBef>
              <a:buClr>
                <a:srgbClr val="000000"/>
              </a:buClr>
              <a:buFont typeface="Angsana New"/>
              <a:buAutoNum type="arabicParenR" startAt="7"/>
              <a:tabLst>
                <a:tab algn="l" pos="38880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เงินลงทุนในหุ้นกู้และตั๋วเงินที่มีอยู่ทั้งสิ้น ได้พิจารณาคัดเลือกรายที่เป็น </a:t>
            </a:r>
            <a:r>
              <a:rPr b="0" lang="en-US" sz="4800" spc="-1" strike="noStrike">
                <a:solidFill>
                  <a:srgbClr val="000000"/>
                </a:solidFill>
                <a:latin typeface="Angsana New"/>
              </a:rPr>
              <a:t>Rating AA 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ขึ้นไปเท่านั้น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  <a:p>
            <a:pPr marL="914400" indent="0">
              <a:spcBef>
                <a:spcPts val="1199"/>
              </a:spcBef>
              <a:buNone/>
              <a:tabLst>
                <a:tab algn="l" pos="0"/>
                <a:tab algn="l" pos="38880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2F08-A453-44D9-BC06-761D9810575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50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en-US" sz="5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Angsana New"/>
              </a:rPr>
              <a:t>4.1 </a:t>
            </a:r>
            <a:r>
              <a:rPr b="1" lang="th-TH" sz="5000" spc="-1" strike="noStrike" u="sng">
                <a:solidFill>
                  <a:srgbClr val="000000"/>
                </a:solidFill>
                <a:uFillTx/>
                <a:latin typeface="Angsana New"/>
              </a:rPr>
              <a:t>ระดับความเสี่ยง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  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ต่อ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)</a:t>
            </a:r>
            <a:endParaRPr b="0" lang="en-US" sz="5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813600" indent="0">
              <a:spcBef>
                <a:spcPts val="1199"/>
              </a:spcBef>
              <a:buNone/>
              <a:tabLst>
                <a:tab algn="l" pos="0"/>
                <a:tab algn="l" pos="38880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(8)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ธนาคารให้สินเชื่อจำนวนสูงแก่กลุ่ม  </a:t>
            </a:r>
            <a:r>
              <a:rPr b="0" lang="en-US" sz="4800" spc="-1" strike="noStrike">
                <a:solidFill>
                  <a:srgbClr val="000000"/>
                </a:solidFill>
                <a:latin typeface="Angsana New"/>
              </a:rPr>
              <a:t>       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ลูกค้ารายใหญ่ ซึ่งทำธุรกิจ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..................</a:t>
            </a:r>
            <a:r>
              <a:rPr b="0" lang="en-US" sz="4800" spc="-1" strike="noStrike">
                <a:solidFill>
                  <a:srgbClr val="000000"/>
                </a:solidFill>
                <a:latin typeface="Angsana New"/>
              </a:rPr>
              <a:t>     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โดยธุรกิจดังกล่าวมีสถาบันวิชาการ </a:t>
            </a:r>
            <a:r>
              <a:rPr b="0" lang="en-US" sz="4800" spc="-1" strike="noStrike">
                <a:solidFill>
                  <a:srgbClr val="000000"/>
                </a:solidFill>
                <a:latin typeface="Angsana New"/>
              </a:rPr>
              <a:t>        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วิจัยว่าเป็นธุรกิจที่มีความผันผวนต่ำ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  <a:p>
            <a:pPr marL="813600" indent="0">
              <a:spcBef>
                <a:spcPts val="1199"/>
              </a:spcBef>
              <a:buNone/>
              <a:tabLst>
                <a:tab algn="l" pos="0"/>
                <a:tab algn="l" pos="38880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018B-300F-450E-BEAF-82E1B758272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50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en-US" sz="5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Angsana New"/>
              </a:rPr>
              <a:t>4.1 </a:t>
            </a:r>
            <a:r>
              <a:rPr b="1" lang="th-TH" sz="5000" spc="-1" strike="noStrike" u="sng">
                <a:solidFill>
                  <a:srgbClr val="000000"/>
                </a:solidFill>
                <a:uFillTx/>
                <a:latin typeface="Angsana New"/>
              </a:rPr>
              <a:t>ระดับความเสี่ยง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  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ต่อ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)</a:t>
            </a:r>
            <a:endParaRPr b="0" lang="en-US" sz="5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840960" indent="0">
              <a:spcBef>
                <a:spcPts val="1199"/>
              </a:spcBef>
              <a:buNone/>
              <a:tabLst>
                <a:tab algn="l" pos="0"/>
                <a:tab algn="l" pos="38880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(9)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ธนาคารให้สินเชื่อจำนวนสูงแก่กลุ่มลูกค้ารายใหญ่หลาย ๆ รายที่แม้จะกระจายกันในภาคธุรกิจต่าง ๆ อย่างไรก็ดี ธุรกิจเหล่านั้นล้วนแต่ได้รับผลกระทบง่ายต่อการแข่งขัน หรือการเปลี่ยนแปลงทางเทคโนโลยี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8B78-6028-4158-AEF7-E1F87D3780D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50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en-US" sz="5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Angsana New"/>
              </a:rPr>
              <a:t>4.1 </a:t>
            </a:r>
            <a:r>
              <a:rPr b="1" lang="th-TH" sz="5000" spc="-1" strike="noStrike" u="sng">
                <a:solidFill>
                  <a:srgbClr val="000000"/>
                </a:solidFill>
                <a:uFillTx/>
                <a:latin typeface="Angsana New"/>
              </a:rPr>
              <a:t>ระดับความเสี่ยง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  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ต่อ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)</a:t>
            </a:r>
            <a:endParaRPr b="0" lang="en-US" sz="5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7772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38880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(10)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ธนาคารให้สินเชื่อจำนวนสูงแก่กลุ่มลูกค้ารายใหญ่ ซึ่งมีบริษัทเครือข่ายทำหน้าที่จัดหาวัตถุดิบป้อนให้เพื่อการผลิตสินค้าจำหน่าย  อย่างไรก็ดี มีความไม่แน่นอนว่า บริษัทเครือข่ายดังกล่าว สามารถทำธุรกิจต่อไปได้   หรือไม่ และยังไม่มีการเตรียมการหาแหล่งวัตถุดิบทดแทนเอาไว้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C034-586B-40CF-81B9-1EED2F353CB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50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en-US" sz="5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Angsana New"/>
              </a:rPr>
              <a:t>4.1 </a:t>
            </a:r>
            <a:r>
              <a:rPr b="1" lang="th-TH" sz="5000" spc="-1" strike="noStrike" u="sng">
                <a:solidFill>
                  <a:srgbClr val="000000"/>
                </a:solidFill>
                <a:uFillTx/>
                <a:latin typeface="Angsana New"/>
              </a:rPr>
              <a:t>ระดับความเสี่ยง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  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ต่อ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)</a:t>
            </a:r>
            <a:endParaRPr b="0" lang="en-US" sz="5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14400" indent="-914400">
              <a:spcBef>
                <a:spcPts val="1199"/>
              </a:spcBef>
              <a:buClr>
                <a:srgbClr val="000000"/>
              </a:buClr>
              <a:buFont typeface="Angsana New"/>
              <a:buAutoNum type="arabicParenR" startAt="11"/>
              <a:tabLst>
                <a:tab algn="l" pos="38880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การที่ธนาคารให้สินเชื่อแก่กลุ่มผู้ลงทุน    ในลาวหลายราย เป็นจำนวนสูงถึง 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37% 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ของสินเชื่อทั้งสิ้นนั้น มี </a:t>
            </a:r>
            <a:r>
              <a:rPr b="0" lang="en-US" sz="4800" spc="-1" strike="noStrike">
                <a:solidFill>
                  <a:srgbClr val="000000"/>
                </a:solidFill>
                <a:latin typeface="Angsana New"/>
              </a:rPr>
              <a:t>EXIM Bank      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ค้ำประกันความเสียหายให้เกือบทั้งหมด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4694-4382-46DE-9DA2-5BC012E21D3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50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en-US" sz="5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Angsana New"/>
              </a:rPr>
              <a:t>4.1 </a:t>
            </a:r>
            <a:r>
              <a:rPr b="1" lang="th-TH" sz="5000" spc="-1" strike="noStrike" u="sng">
                <a:solidFill>
                  <a:srgbClr val="000000"/>
                </a:solidFill>
                <a:uFillTx/>
                <a:latin typeface="Angsana New"/>
              </a:rPr>
              <a:t>ระดับความเสี่ยง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  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ต่อ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)</a:t>
            </a:r>
            <a:endParaRPr b="0" lang="en-US" sz="5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850320" indent="0">
              <a:spcBef>
                <a:spcPts val="1199"/>
              </a:spcBef>
              <a:buNone/>
              <a:tabLst>
                <a:tab algn="l" pos="0"/>
                <a:tab algn="l" pos="38880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(12)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รายได้ดอกเบี้ยและค่าธรรมเนียมที่ธนาคารได้จากการให้สินเชื่อ มีจำนวนสูงกว่า       รายจ่ายในการดำเนินการเกี่ยวกับสินเชื่อ  อย่างไรก็ดี เมื่อหักด้วยส่วนที่ต้องกันสำรองเผื่อหนี้สงสัยจะสูญแล้ว มีผลสุทธิติดลบ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5037-FFE7-4E90-B9E5-3517037287D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 u="sng">
                <a:solidFill>
                  <a:srgbClr val="000000"/>
                </a:solidFill>
                <a:uFillTx/>
                <a:latin typeface="Angsana New"/>
              </a:rPr>
              <a:t>หัวข้อ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14400" indent="-914400">
              <a:spcBef>
                <a:spcPts val="1199"/>
              </a:spcBef>
              <a:buClr>
                <a:srgbClr val="000000"/>
              </a:buClr>
              <a:buFont typeface="Angsana Ne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ระดับความเสี่ยง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  <a:p>
            <a:pPr marL="914400" indent="-914400">
              <a:spcBef>
                <a:spcPts val="1199"/>
              </a:spcBef>
              <a:buClr>
                <a:srgbClr val="000000"/>
              </a:buClr>
              <a:buFont typeface="Angsana Ne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การจัดการความเสี่ยง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  <a:p>
            <a:pPr marL="914400" indent="-914400">
              <a:spcBef>
                <a:spcPts val="1199"/>
              </a:spcBef>
              <a:buClr>
                <a:srgbClr val="000000"/>
              </a:buClr>
              <a:buFont typeface="Angsana Ne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ระดับความเสี่ยงรวม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  <a:p>
            <a:pPr marL="914400" indent="-914400">
              <a:spcBef>
                <a:spcPts val="1199"/>
              </a:spcBef>
              <a:buClr>
                <a:srgbClr val="000000"/>
              </a:buClr>
              <a:buFont typeface="Angsana Ne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กรณีศึกษา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5E32-8833-414D-A347-800F2B8BB3F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50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en-US" sz="5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Angsana New"/>
              </a:rPr>
              <a:t>4.1 </a:t>
            </a:r>
            <a:r>
              <a:rPr b="1" lang="th-TH" sz="5000" spc="-1" strike="noStrike" u="sng">
                <a:solidFill>
                  <a:srgbClr val="000000"/>
                </a:solidFill>
                <a:uFillTx/>
                <a:latin typeface="Angsana New"/>
              </a:rPr>
              <a:t>ระดับความเสี่ยง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  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ต่อ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)</a:t>
            </a:r>
            <a:endParaRPr b="0" lang="en-US" sz="5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14400" indent="-914400">
              <a:spcBef>
                <a:spcPts val="1199"/>
              </a:spcBef>
              <a:buClr>
                <a:srgbClr val="000000"/>
              </a:buClr>
              <a:buFont typeface="Angsana New"/>
              <a:buAutoNum type="arabicParenR" startAt="13"/>
              <a:tabLst>
                <a:tab algn="l" pos="38880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การเติบโตของสินเชื่อรายย่อยเป็นไป    อย่างรวดเร็ว เมื่อเปรียบเทียบกันไตรมาส ต่อไตรมาสล่าสุด   อย่างไรก็ดี ทุกอย่าง    อยู่ในเป้าหมายที่กำหนดเป็นแผนงานเอาไว้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18EC-8194-4E45-90E6-A3DFEACCDB5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50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en-US" sz="5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Angsana New"/>
              </a:rPr>
              <a:t>4.1 </a:t>
            </a:r>
            <a:r>
              <a:rPr b="1" lang="th-TH" sz="5000" spc="-1" strike="noStrike" u="sng">
                <a:solidFill>
                  <a:srgbClr val="000000"/>
                </a:solidFill>
                <a:uFillTx/>
                <a:latin typeface="Angsana New"/>
              </a:rPr>
              <a:t>ระดับความเสี่ยง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  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ต่อ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)</a:t>
            </a:r>
            <a:endParaRPr b="0" lang="en-US" sz="5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14400" indent="0">
              <a:spcBef>
                <a:spcPts val="1199"/>
              </a:spcBef>
              <a:buNone/>
              <a:tabLst>
                <a:tab algn="l" pos="0"/>
                <a:tab algn="l" pos="38880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(14)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ระดับ </a:t>
            </a:r>
            <a:r>
              <a:rPr b="0" lang="en-US" sz="4800" spc="-1" strike="noStrike">
                <a:solidFill>
                  <a:srgbClr val="000000"/>
                </a:solidFill>
                <a:latin typeface="Angsana New"/>
              </a:rPr>
              <a:t>NPL 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ต่ำกว่าค่าเฉลี่ยของธนาคารพาณิชย์ที่มีอยู่ทั้งหมด และมีแนวโน้ม      ลดลง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3A78-7B45-4828-B7B3-5CB00EF6D20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50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en-US" sz="5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Angsana New"/>
              </a:rPr>
              <a:t>4.1 </a:t>
            </a:r>
            <a:r>
              <a:rPr b="1" lang="th-TH" sz="5000" spc="-1" strike="noStrike" u="sng">
                <a:solidFill>
                  <a:srgbClr val="000000"/>
                </a:solidFill>
                <a:uFillTx/>
                <a:latin typeface="Angsana New"/>
              </a:rPr>
              <a:t>ระดับความเสี่ยง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  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ต่อ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)</a:t>
            </a:r>
            <a:endParaRPr b="0" lang="en-US" sz="5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14400" indent="-914400">
              <a:spcBef>
                <a:spcPts val="1199"/>
              </a:spcBef>
              <a:buClr>
                <a:srgbClr val="000000"/>
              </a:buClr>
              <a:buFont typeface="Angsana New"/>
              <a:buAutoNum type="arabicParenR" startAt="15"/>
              <a:tabLst>
                <a:tab algn="l" pos="38880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ระดับ </a:t>
            </a:r>
            <a:r>
              <a:rPr b="0" lang="en-US" sz="4800" spc="-1" strike="noStrike">
                <a:solidFill>
                  <a:srgbClr val="000000"/>
                </a:solidFill>
                <a:latin typeface="Angsana New"/>
              </a:rPr>
              <a:t>NPL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สูงกว่าค่าเฉลี่ยของธนาคารพาณิชย์ที่มีอยู่ทั้งหมด และยังไม่มีแนวโน้มที่จะลดลง โดยคาดว่าจะต้องใช้เวลานาน  ในการแก้ปัญหา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5779-6621-4F8F-9FC3-E8CBCCDE07F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50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en-US" sz="5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Angsana New"/>
              </a:rPr>
              <a:t>4.1 </a:t>
            </a:r>
            <a:r>
              <a:rPr b="1" lang="th-TH" sz="5000" spc="-1" strike="noStrike" u="sng">
                <a:solidFill>
                  <a:srgbClr val="000000"/>
                </a:solidFill>
                <a:uFillTx/>
                <a:latin typeface="Angsana New"/>
              </a:rPr>
              <a:t>ระดับความเสี่ยง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  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ต่อ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)</a:t>
            </a:r>
            <a:endParaRPr b="0" lang="en-US" sz="5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14400" indent="0">
              <a:spcBef>
                <a:spcPts val="1199"/>
              </a:spcBef>
              <a:buNone/>
              <a:tabLst>
                <a:tab algn="l" pos="0"/>
                <a:tab algn="l" pos="38880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(16)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ปริมาณการกันสำรองเผื่อหนี้สงสัยจะสูญ   มีจำนวนเท่ากับที่พึงกันตามเกณฑ์ของ ธปท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. 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อยู่เสมอ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AF98-656A-4C11-9A1A-B1928F9D054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         </a:t>
            </a:r>
            <a:r>
              <a:rPr b="1" lang="en-US" sz="5000" spc="-1" strike="noStrike">
                <a:solidFill>
                  <a:srgbClr val="000000"/>
                </a:solidFill>
                <a:latin typeface="Angsana New"/>
              </a:rPr>
              <a:t>4.1 </a:t>
            </a:r>
            <a:r>
              <a:rPr b="1" lang="th-TH" sz="5000" spc="-1" strike="noStrike" u="sng">
                <a:solidFill>
                  <a:srgbClr val="000000"/>
                </a:solidFill>
                <a:uFillTx/>
                <a:latin typeface="Angsana New"/>
              </a:rPr>
              <a:t>ระดับความเสี่ยง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  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ต่อ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)</a:t>
            </a:r>
            <a:endParaRPr b="0" lang="en-US" sz="5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14400" indent="-914400">
              <a:spcBef>
                <a:spcPts val="1199"/>
              </a:spcBef>
              <a:buClr>
                <a:srgbClr val="000000"/>
              </a:buClr>
              <a:buFont typeface="Angsana New"/>
              <a:buAutoNum type="arabicParenR" startAt="17"/>
              <a:tabLst>
                <a:tab algn="l" pos="38880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ปริมาณการกันสำรองเผื่อหนี้สงสัยจะสูญ   มีจำนวนไม่ต่ำกว่าเกณฑ์ที่ ธปท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. 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กำหนด และยังสำรองเผื่อไว้สำหรับความเสี่ยงอื่น ๆ อีกด้วย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  <a:p>
            <a:pPr marL="914400" indent="0">
              <a:spcBef>
                <a:spcPts val="1199"/>
              </a:spcBef>
              <a:buNone/>
              <a:tabLst>
                <a:tab algn="l" pos="0"/>
                <a:tab algn="l" pos="38880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A87E-5A0C-4E4A-A193-4FC5ACA8AC1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         </a:t>
            </a:r>
            <a:r>
              <a:rPr b="1" lang="en-US" sz="5000" spc="-1" strike="noStrike">
                <a:solidFill>
                  <a:srgbClr val="000000"/>
                </a:solidFill>
                <a:latin typeface="Angsana New"/>
              </a:rPr>
              <a:t>4.1 </a:t>
            </a:r>
            <a:r>
              <a:rPr b="1" lang="th-TH" sz="5000" spc="-1" strike="noStrike" u="sng">
                <a:solidFill>
                  <a:srgbClr val="000000"/>
                </a:solidFill>
                <a:uFillTx/>
                <a:latin typeface="Angsana New"/>
              </a:rPr>
              <a:t>ระดับความเสี่ยง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  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ต่อ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)</a:t>
            </a:r>
            <a:endParaRPr b="0" lang="en-US" sz="5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14400" indent="0">
              <a:spcBef>
                <a:spcPts val="1199"/>
              </a:spcBef>
              <a:buNone/>
              <a:tabLst>
                <a:tab algn="l" pos="0"/>
                <a:tab algn="l" pos="38880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(18)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หลักประกันของลูกหนี้ โดยส่วนใหญ่      จะเป็นหลักทรัพย์ในความต้องการของตลาด หรือเงินฝาก  ที่มีอยู่กับธนาคารเอง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3360-A379-4F78-89A1-A8536289597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50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en-US" sz="5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Angsana New"/>
              </a:rPr>
              <a:t>4.1 </a:t>
            </a:r>
            <a:r>
              <a:rPr b="1" lang="th-TH" sz="5000" spc="-1" strike="noStrike" u="sng">
                <a:solidFill>
                  <a:srgbClr val="000000"/>
                </a:solidFill>
                <a:uFillTx/>
                <a:latin typeface="Angsana New"/>
              </a:rPr>
              <a:t>ระดับความเสี่ยง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  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ต่อ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)</a:t>
            </a:r>
            <a:endParaRPr b="0" lang="en-US" sz="5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859320" indent="-859320">
              <a:spcBef>
                <a:spcPts val="1199"/>
              </a:spcBef>
              <a:buClr>
                <a:srgbClr val="000000"/>
              </a:buClr>
              <a:buFont typeface="Angsana New"/>
              <a:buAutoNum type="arabicParenR" startAt="19"/>
              <a:tabLst>
                <a:tab algn="l" pos="38880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หลักประกันของลูกหนี้ โดยส่วนใหญ่เป็น ที่ดินในต่างจังหวัด 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เขตอำเภอรอบนอก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) 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หรือจำนำใบหุ้นที่มีการซื้อขายกันอยู่ในตลาดหลักทรัพย์ โดยมีความอ่อนไหวง่ายต่อการเปลี่ยนแปลงของตลาด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  <a:p>
            <a:pPr marL="859320" indent="0">
              <a:spcBef>
                <a:spcPts val="1199"/>
              </a:spcBef>
              <a:buNone/>
              <a:tabLst>
                <a:tab algn="l" pos="38880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F996-5D8E-47A7-86CC-E98F643C545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50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th-TH" sz="50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en-US" sz="5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Angsana New"/>
              </a:rPr>
              <a:t>4.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2</a:t>
            </a:r>
            <a:r>
              <a:rPr b="1" lang="en-US" sz="5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5000" spc="-1" strike="noStrike" u="sng">
                <a:solidFill>
                  <a:srgbClr val="000000"/>
                </a:solidFill>
                <a:uFillTx/>
                <a:latin typeface="Angsana New"/>
              </a:rPr>
              <a:t>การจัดการความเสี่ยง</a:t>
            </a:r>
            <a:endParaRPr b="0" lang="en-US" sz="5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767880" indent="0">
              <a:spcBef>
                <a:spcPts val="1199"/>
              </a:spcBef>
              <a:buNone/>
              <a:tabLst>
                <a:tab algn="l" pos="0"/>
                <a:tab algn="l" pos="38880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(1)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ธนาคารกำหนดนโยบายสินเชื่อไว้เป็น     ลายลักษณ์อักษร โดยมีการแบ่งแยกอำนาจในการพิจารณาอนุมัติไว้เป็นระดับ       พร้อมทั้งกำหนดวงเงินสินเชื่อ ในแต่ละประเภทธุรกิจ ตลอดจนหลักประกันรวมถึงหน้าที่ความรับผิดชอบไว้อย่างชัดเจน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6275-E72D-4739-95D5-909D78FB0BD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50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en-US" sz="5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50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1" lang="en-US" sz="5000" spc="-1" strike="noStrike">
                <a:solidFill>
                  <a:srgbClr val="000000"/>
                </a:solidFill>
                <a:latin typeface="Angsana New"/>
              </a:rPr>
              <a:t>4.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2</a:t>
            </a:r>
            <a:r>
              <a:rPr b="1" lang="en-US" sz="5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5000" spc="-1" strike="noStrike" u="sng">
                <a:solidFill>
                  <a:srgbClr val="000000"/>
                </a:solidFill>
                <a:uFillTx/>
                <a:latin typeface="Angsana New"/>
              </a:rPr>
              <a:t>การจัดการความเสี่ยง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ต่อ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)</a:t>
            </a:r>
            <a:endParaRPr b="0" lang="en-US" sz="5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14400" indent="-914400">
              <a:spcBef>
                <a:spcPts val="1199"/>
              </a:spcBef>
              <a:buClr>
                <a:srgbClr val="000000"/>
              </a:buClr>
              <a:buFont typeface="Angsana New"/>
              <a:buAutoNum type="arabicParenR" startAt="2"/>
              <a:tabLst>
                <a:tab algn="l" pos="38880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นโยบาย กลยุทธ์ และแผนสินเชื่อทุกด้าน ได้รับการอนุมัติโดยคณะกรรมการธนาคาร และมีการออกเป็นหนังสือเวียนแจ้งให้พนักงานทุกระดับได้ทราบในทันที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544B-36B4-4FD4-811D-BF2F85C9A9C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50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en-US" sz="5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50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1" lang="en-US" sz="5000" spc="-1" strike="noStrike">
                <a:solidFill>
                  <a:srgbClr val="000000"/>
                </a:solidFill>
                <a:latin typeface="Angsana New"/>
              </a:rPr>
              <a:t>4.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2</a:t>
            </a:r>
            <a:r>
              <a:rPr b="1" lang="en-US" sz="5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5000" spc="-1" strike="noStrike" u="sng">
                <a:solidFill>
                  <a:srgbClr val="000000"/>
                </a:solidFill>
                <a:uFillTx/>
                <a:latin typeface="Angsana New"/>
              </a:rPr>
              <a:t>การจัดการความเสี่ยง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ต่อ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)</a:t>
            </a:r>
            <a:endParaRPr b="0" lang="en-US" sz="5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850320" indent="0">
              <a:spcBef>
                <a:spcPts val="1199"/>
              </a:spcBef>
              <a:buNone/>
              <a:tabLst>
                <a:tab algn="l" pos="0"/>
                <a:tab algn="l" pos="38880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(3)</a:t>
            </a:r>
            <a:r>
              <a:rPr b="0" lang="th-TH" sz="44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นโยบาย กลยุทธ์ และแผนสินเชื่อ        เฉพาะบางด้านที่สำคัญเท่านั้น</a:t>
            </a:r>
            <a:r>
              <a:rPr b="0" lang="en-US" sz="4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ที่นำเสนอคณะกรรมการธนาคารเพื่ออนุมัติใช้       โดยไม่ได้เผยแพร่ให้รู้ทั่วกัน แต่จะมอบให้คณะกรรมการพิจารณาสินเชื่อเก็บเอาไว้ เพื่อใช้งาน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88CB-51EA-4868-B008-5F02FEAD5DE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th-TH" sz="5400" spc="-1" strike="noStrike">
                <a:solidFill>
                  <a:srgbClr val="000000"/>
                </a:solidFill>
                <a:latin typeface="Angsana New"/>
              </a:rPr>
              <a:t>1.  </a:t>
            </a:r>
            <a:r>
              <a:rPr b="1" lang="th-TH" sz="5400" spc="-1" strike="noStrike" u="sng">
                <a:solidFill>
                  <a:srgbClr val="000000"/>
                </a:solidFill>
                <a:uFillTx/>
                <a:latin typeface="Angsana New"/>
              </a:rPr>
              <a:t>ระดับความเสี่ยง</a:t>
            </a:r>
            <a:endParaRPr b="0" lang="en-US" sz="5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588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Angsana New"/>
              </a:rPr>
              <a:t>ระดับความเสี่ยง </a:t>
            </a:r>
            <a:r>
              <a:rPr b="0" lang="th-TH" sz="44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0" lang="en-US" sz="4400" spc="-1" strike="noStrike">
                <a:solidFill>
                  <a:srgbClr val="000000"/>
                </a:solidFill>
                <a:latin typeface="Angsana New"/>
              </a:rPr>
              <a:t>Level of Risk) </a:t>
            </a:r>
            <a:r>
              <a:rPr b="0" lang="th-TH" sz="4400" spc="-1" strike="noStrike">
                <a:solidFill>
                  <a:srgbClr val="000000"/>
                </a:solidFill>
                <a:latin typeface="Angsana New"/>
              </a:rPr>
              <a:t>แบ่งเป็น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  <a:p>
            <a:pPr marL="7588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th-TH" sz="4400" spc="-1" strike="noStrike">
                <a:solidFill>
                  <a:srgbClr val="000000"/>
                </a:solidFill>
                <a:latin typeface="Angsana New"/>
              </a:rPr>
              <a:t>(1) </a:t>
            </a:r>
            <a:r>
              <a:rPr b="0" lang="en-US" sz="44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4400" spc="-1" strike="noStrike">
                <a:solidFill>
                  <a:srgbClr val="000000"/>
                </a:solidFill>
                <a:latin typeface="Angsana New"/>
              </a:rPr>
              <a:t>ต่ำ </a:t>
            </a:r>
            <a:r>
              <a:rPr b="0" lang="th-TH" sz="44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0" lang="en-US" sz="4400" spc="-1" strike="noStrike">
                <a:solidFill>
                  <a:srgbClr val="000000"/>
                </a:solidFill>
                <a:latin typeface="Angsana New"/>
              </a:rPr>
              <a:t>Low)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  <a:p>
            <a:pPr marL="7588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ngsana New"/>
              </a:rPr>
              <a:t>(2)  </a:t>
            </a:r>
            <a:r>
              <a:rPr b="0" lang="th-TH" sz="4400" spc="-1" strike="noStrike">
                <a:solidFill>
                  <a:srgbClr val="000000"/>
                </a:solidFill>
                <a:latin typeface="Angsana New"/>
              </a:rPr>
              <a:t>ปานกลาง</a:t>
            </a:r>
            <a:r>
              <a:rPr b="0" lang="en-US" sz="44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ngsana New"/>
              </a:rPr>
              <a:t>(Moderate)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  <a:p>
            <a:pPr marL="7588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th-TH" sz="4400" spc="-1" strike="noStrike">
                <a:solidFill>
                  <a:srgbClr val="000000"/>
                </a:solidFill>
                <a:latin typeface="Angsana New"/>
              </a:rPr>
              <a:t>(3) </a:t>
            </a:r>
            <a:r>
              <a:rPr b="0" lang="en-US" sz="44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4400" spc="-1" strike="noStrike">
                <a:solidFill>
                  <a:srgbClr val="000000"/>
                </a:solidFill>
                <a:latin typeface="Angsana New"/>
              </a:rPr>
              <a:t>สูง </a:t>
            </a:r>
            <a:r>
              <a:rPr b="0" lang="th-TH" sz="44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0" lang="en-US" sz="4400" spc="-1" strike="noStrike">
                <a:solidFill>
                  <a:srgbClr val="000000"/>
                </a:solidFill>
                <a:latin typeface="Angsana New"/>
              </a:rPr>
              <a:t>High)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5F3D-B848-452B-9E89-59FBA461EA9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50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th-TH" sz="50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en-US" sz="5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Angsana New"/>
              </a:rPr>
              <a:t>4.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2</a:t>
            </a:r>
            <a:r>
              <a:rPr b="1" lang="en-US" sz="5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5000" spc="-1" strike="noStrike" u="sng">
                <a:solidFill>
                  <a:srgbClr val="000000"/>
                </a:solidFill>
                <a:uFillTx/>
                <a:latin typeface="Angsana New"/>
              </a:rPr>
              <a:t>การจัดการความเสี่ยง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ต่อ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)</a:t>
            </a:r>
            <a:endParaRPr b="0" lang="en-US" sz="5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86680" indent="-886680">
              <a:spcBef>
                <a:spcPts val="1199"/>
              </a:spcBef>
              <a:buClr>
                <a:srgbClr val="000000"/>
              </a:buClr>
              <a:buFont typeface="Angsana New"/>
              <a:buAutoNum type="arabicParenR" startAt="4"/>
              <a:tabLst>
                <a:tab algn="l" pos="38880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แม้ธนาคารจะเร่งปล่อยสินเชื่อเพื่อขยายตลาด แต่ก็ให้ความสำคัญกับการวิเคราะห์สินเชื่ออย่างรอบคอบ โดยจัดสร้างระบบ </a:t>
            </a:r>
            <a:r>
              <a:rPr b="0" lang="en-US" sz="4800" spc="-1" strike="noStrike">
                <a:solidFill>
                  <a:srgbClr val="000000"/>
                </a:solidFill>
                <a:latin typeface="Angsana New"/>
              </a:rPr>
              <a:t>Credit Scoring 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ขึ้นมารองรับ  ความเสี่ยง  เอาไว้ด้วย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  <a:p>
            <a:pPr marL="886680" indent="0">
              <a:spcBef>
                <a:spcPts val="1199"/>
              </a:spcBef>
              <a:buNone/>
              <a:tabLst>
                <a:tab algn="l" pos="0"/>
                <a:tab algn="l" pos="38880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CF0F-6188-4FB0-96FB-57C2C7F19ED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50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th-TH" sz="50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en-US" sz="5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Angsana New"/>
              </a:rPr>
              <a:t>4.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2</a:t>
            </a:r>
            <a:r>
              <a:rPr b="1" lang="en-US" sz="5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5000" spc="-1" strike="noStrike" u="sng">
                <a:solidFill>
                  <a:srgbClr val="000000"/>
                </a:solidFill>
                <a:uFillTx/>
                <a:latin typeface="Angsana New"/>
              </a:rPr>
              <a:t>การจัดการความเสี่ยง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ต่อ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)</a:t>
            </a:r>
            <a:endParaRPr b="0" lang="en-US" sz="5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859320" indent="0">
              <a:spcBef>
                <a:spcPts val="1199"/>
              </a:spcBef>
              <a:buNone/>
              <a:tabLst>
                <a:tab algn="l" pos="0"/>
                <a:tab algn="l" pos="38880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(5)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มีการจัดทำคู่มือปฏิบัติงานหรือระเบียบ    พิธีปฏิบัติที่แสดงให้เห็น </a:t>
            </a:r>
            <a:r>
              <a:rPr b="0" lang="en-US" sz="4800" spc="-1" strike="noStrike">
                <a:solidFill>
                  <a:srgbClr val="000000"/>
                </a:solidFill>
                <a:latin typeface="Angsana New"/>
              </a:rPr>
              <a:t>Flow Chart 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     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ของงานการอนุมัติสินเชื่อ เริ่มตั้งแต่ต้น    จนจบ พร้อมคำอธิบายกระบวนการและ  ขั้นตอนที่ชัดเจน อ่านเข้าใจได้ง่าย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C684-0CF3-47DA-8711-1FA6E03BFD4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50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en-US" sz="5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50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1" lang="en-US" sz="5000" spc="-1" strike="noStrike">
                <a:solidFill>
                  <a:srgbClr val="000000"/>
                </a:solidFill>
                <a:latin typeface="Angsana New"/>
              </a:rPr>
              <a:t>4.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2</a:t>
            </a:r>
            <a:r>
              <a:rPr b="1" lang="en-US" sz="5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5000" spc="-1" strike="noStrike" u="sng">
                <a:solidFill>
                  <a:srgbClr val="000000"/>
                </a:solidFill>
                <a:uFillTx/>
                <a:latin typeface="Angsana New"/>
              </a:rPr>
              <a:t>การจัดการความเสี่ยง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ต่อ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)</a:t>
            </a:r>
            <a:endParaRPr b="0" lang="en-US" sz="5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850320" indent="0">
              <a:spcBef>
                <a:spcPts val="1199"/>
              </a:spcBef>
              <a:buNone/>
              <a:tabLst>
                <a:tab algn="l" pos="0"/>
                <a:tab algn="l" pos="38880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(6)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ระบบงานที่ธนาคารจัดไว้ ไม่สามารถประเมินคุณภาพของสินเชื่อที่ประสบปัญหาขึ้นได้  หากสภาวะการณ์ในตลาดเกิดความเปลี่ยนแปลง </a:t>
            </a:r>
            <a:r>
              <a:rPr b="0" lang="en-US" sz="4800" spc="-1" strike="noStrike">
                <a:solidFill>
                  <a:srgbClr val="000000"/>
                </a:solidFill>
                <a:latin typeface="Angsana New"/>
              </a:rPr>
              <a:t>  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ทั้งนี้ เป็นผลให้ผู้บริหาร     ไม่สามารถดูแลมิให้เกิดผลเสียหายได้      ทันท่วงที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41EB-870C-4E62-B167-E84671ACCFA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50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en-US" sz="5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5000" spc="-1" strike="noStrike">
                <a:solidFill>
                  <a:srgbClr val="000000"/>
                </a:solidFill>
                <a:latin typeface="Angsana New"/>
              </a:rPr>
              <a:t>   </a:t>
            </a:r>
            <a:r>
              <a:rPr b="1" lang="en-US" sz="5000" spc="-1" strike="noStrike">
                <a:solidFill>
                  <a:srgbClr val="000000"/>
                </a:solidFill>
                <a:latin typeface="Angsana New"/>
              </a:rPr>
              <a:t>4.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2</a:t>
            </a:r>
            <a:r>
              <a:rPr b="1" lang="en-US" sz="5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5000" spc="-1" strike="noStrike" u="sng">
                <a:solidFill>
                  <a:srgbClr val="000000"/>
                </a:solidFill>
                <a:uFillTx/>
                <a:latin typeface="Angsana New"/>
              </a:rPr>
              <a:t>การจัดการความเสี่ยง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ต่อ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)</a:t>
            </a:r>
            <a:endParaRPr b="0" lang="en-US" sz="5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767880" indent="0">
              <a:spcBef>
                <a:spcPts val="1199"/>
              </a:spcBef>
              <a:buNone/>
              <a:tabLst>
                <a:tab algn="l" pos="0"/>
                <a:tab algn="l" pos="38880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(7)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ธนาคารมีระบบการประเมินค้นหาสินเชื่อ  ที่อาจประสบปัญหาจากสภาวะตลาด        ได้อย่างรวดเร็ว มีรายงานลูกหนี้ค้างชำระ     ให้สามารถติดตาม สั่งการได้ทันท่วงที    และดำเนินการแก้ปัญหาสินเชื่อที่กำลัง   ด้อยคุณภาพได้อย่างทันการณ์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4B03-CAC0-44F6-9F46-6C65E36B287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50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en-US" sz="5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50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1" lang="en-US" sz="5000" spc="-1" strike="noStrike">
                <a:solidFill>
                  <a:srgbClr val="000000"/>
                </a:solidFill>
                <a:latin typeface="Angsana New"/>
              </a:rPr>
              <a:t>4.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2</a:t>
            </a:r>
            <a:r>
              <a:rPr b="1" lang="en-US" sz="5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5000" spc="-1" strike="noStrike" u="sng">
                <a:solidFill>
                  <a:srgbClr val="000000"/>
                </a:solidFill>
                <a:uFillTx/>
                <a:latin typeface="Angsana New"/>
              </a:rPr>
              <a:t>การจัดการความเสี่ยง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ต่อ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)</a:t>
            </a:r>
            <a:endParaRPr b="0" lang="en-US" sz="5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786240" indent="0">
              <a:spcBef>
                <a:spcPts val="1199"/>
              </a:spcBef>
              <a:buNone/>
              <a:tabLst>
                <a:tab algn="l" pos="0"/>
                <a:tab algn="l" pos="38880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(8)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การให้สินเชื่อส่วนใหญ่ไม่มีการวิเคราะห์</a:t>
            </a:r>
            <a:r>
              <a:rPr b="0" lang="en-US" sz="4800" spc="-1" strike="noStrike">
                <a:solidFill>
                  <a:srgbClr val="000000"/>
                </a:solidFill>
                <a:latin typeface="Angsana New"/>
              </a:rPr>
              <a:t>               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ถึงความสามารถชำระหนี้ที่แท้จริงของ     ลูกหนี้</a:t>
            </a:r>
            <a:r>
              <a:rPr b="0" lang="en-US" sz="4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 ให้เป็นที่มั่นใจได้ว่าจะไม่เป็นปัญหาในอนาคต </a:t>
            </a:r>
            <a:r>
              <a:rPr b="0" lang="en-US" sz="4800" spc="-1" strike="noStrike">
                <a:solidFill>
                  <a:srgbClr val="000000"/>
                </a:solidFill>
                <a:latin typeface="Angsana New"/>
              </a:rPr>
              <a:t>  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แต่จะเพียงอาศัยการให้มีอสังหาริมทรัพย์จำนองไว้เป็นหลักประกันเป็นสำคัญ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5DB5-9D95-4245-93EB-0F228D70F34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50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th-TH" sz="50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en-US" sz="5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Angsana New"/>
              </a:rPr>
              <a:t>4.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2</a:t>
            </a:r>
            <a:r>
              <a:rPr b="1" lang="en-US" sz="5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5000" spc="-1" strike="noStrike" u="sng">
                <a:solidFill>
                  <a:srgbClr val="000000"/>
                </a:solidFill>
                <a:uFillTx/>
                <a:latin typeface="Angsana New"/>
              </a:rPr>
              <a:t>การจัดการความเสี่ยง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ต่อ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)</a:t>
            </a:r>
            <a:endParaRPr b="0" lang="en-US" sz="5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859320" indent="0">
              <a:spcBef>
                <a:spcPts val="1199"/>
              </a:spcBef>
              <a:buNone/>
              <a:tabLst>
                <a:tab algn="l" pos="0"/>
                <a:tab algn="l" pos="38880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(9)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วิธีการที่จะรวบรวมยอดหนี้ของลูกหนี้ราย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/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กลุ่มเดียวกัน เพื่อดูแลการปฏิบัติตามมาตรา 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13  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มีข้อผิดพลาดบ่อยครั้ง เพราะ  มักจะตกหล่นยอดหนี้จากสาขา หรือ   แผนกอื่นที่จ่ายเงินชดใช้แทนลูกหนี้ไป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47A1-F19C-4C6E-8E17-F3F55B3F28B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50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th-TH" sz="50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en-US" sz="5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Angsana New"/>
              </a:rPr>
              <a:t>4.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2</a:t>
            </a:r>
            <a:r>
              <a:rPr b="1" lang="en-US" sz="5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5000" spc="-1" strike="noStrike" u="sng">
                <a:solidFill>
                  <a:srgbClr val="000000"/>
                </a:solidFill>
                <a:uFillTx/>
                <a:latin typeface="Angsana New"/>
              </a:rPr>
              <a:t>การจัดการความเสี่ยง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ต่อ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)</a:t>
            </a:r>
            <a:endParaRPr b="0" lang="en-US" sz="5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14400" indent="-914400">
              <a:spcBef>
                <a:spcPts val="1199"/>
              </a:spcBef>
              <a:buClr>
                <a:srgbClr val="000000"/>
              </a:buClr>
              <a:buFont typeface="Angsana New"/>
              <a:buAutoNum type="arabicParenR" startAt="10"/>
              <a:tabLst>
                <a:tab algn="l" pos="38880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มีการพิจารณาระดับของสินเชื่อด้อยคุณภาพที่เพิ่มขึ้นแต่ละขณะว่าจะส่งผลกระทบถึงฐานะเงินกองทุนและผลดำเนินงานมากน้อยเพียงใด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918F-63EA-4092-8ED4-8C5A4AB5B93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50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th-TH" sz="5000" spc="-1" strike="noStrike">
                <a:solidFill>
                  <a:srgbClr val="000000"/>
                </a:solidFill>
                <a:latin typeface="Angsana New"/>
              </a:rPr>
              <a:t>   </a:t>
            </a:r>
            <a:r>
              <a:rPr b="0" lang="en-US" sz="5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Angsana New"/>
              </a:rPr>
              <a:t>4.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2</a:t>
            </a:r>
            <a:r>
              <a:rPr b="1" lang="en-US" sz="5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5000" spc="-1" strike="noStrike" u="sng">
                <a:solidFill>
                  <a:srgbClr val="000000"/>
                </a:solidFill>
                <a:uFillTx/>
                <a:latin typeface="Angsana New"/>
              </a:rPr>
              <a:t>การจัดการความเสี่ยง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ต่อ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)</a:t>
            </a:r>
            <a:endParaRPr b="0" lang="en-US" sz="5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850320" indent="-850320">
              <a:spcBef>
                <a:spcPts val="1199"/>
              </a:spcBef>
              <a:buClr>
                <a:srgbClr val="000000"/>
              </a:buClr>
              <a:buFont typeface="Angsana New"/>
              <a:buAutoNum type="arabicParenR" startAt="11"/>
              <a:tabLst>
                <a:tab algn="l" pos="38880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ngsana New"/>
              </a:rPr>
              <a:t>Model 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ที่ช่วยในการตัดสินใจด้านเครดิต   ใช้ประโยชน์ได้ทันเวลา  มีการทดสอบความถูกต้องโดยผู้ที่ไม่มีหน้าที่เกี่ยวข้อง และมีเอกสารประกอบเป็นคู่มือ  ซึ่งมีการทบทวนการใช้ประโยชน์อย่างเป็นปัจจุบันอยู่เสมอ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7AE6-9DB5-4337-A86F-130814382C2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50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th-TH" sz="5000" spc="-1" strike="noStrike">
                <a:solidFill>
                  <a:srgbClr val="000000"/>
                </a:solidFill>
                <a:latin typeface="Angsana New"/>
              </a:rPr>
              <a:t>   </a:t>
            </a:r>
            <a:r>
              <a:rPr b="0" lang="en-US" sz="5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Angsana New"/>
              </a:rPr>
              <a:t>4.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2</a:t>
            </a:r>
            <a:r>
              <a:rPr b="1" lang="en-US" sz="5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5000" spc="-1" strike="noStrike" u="sng">
                <a:solidFill>
                  <a:srgbClr val="000000"/>
                </a:solidFill>
                <a:uFillTx/>
                <a:latin typeface="Angsana New"/>
              </a:rPr>
              <a:t>การจัดการความเสี่ยง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ต่อ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)</a:t>
            </a:r>
            <a:endParaRPr b="0" lang="en-US" sz="5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14400" indent="0">
              <a:spcBef>
                <a:spcPts val="1199"/>
              </a:spcBef>
              <a:buNone/>
              <a:tabLst>
                <a:tab algn="l" pos="0"/>
                <a:tab algn="l" pos="38880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(12)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ไม่มีการแบ่งแยกหน้าที่ด้านการอำนวย    สินเชื่อแยกออกต่างหากจากการรับ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-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จ่ายเงินด้านสินเชื่อตามปกติ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E17B-C3BA-4DF7-B40F-F33D0995C32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50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th-TH" sz="5000" spc="-1" strike="noStrike">
                <a:solidFill>
                  <a:srgbClr val="000000"/>
                </a:solidFill>
                <a:latin typeface="Angsana New"/>
              </a:rPr>
              <a:t>   </a:t>
            </a:r>
            <a:r>
              <a:rPr b="0" lang="en-US" sz="5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5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Angsana New"/>
              </a:rPr>
              <a:t>4.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2</a:t>
            </a:r>
            <a:r>
              <a:rPr b="1" lang="en-US" sz="5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5000" spc="-1" strike="noStrike" u="sng">
                <a:solidFill>
                  <a:srgbClr val="000000"/>
                </a:solidFill>
                <a:uFillTx/>
                <a:latin typeface="Angsana New"/>
              </a:rPr>
              <a:t>การจัดการความเสี่ยง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ต่อ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)</a:t>
            </a:r>
            <a:endParaRPr b="0" lang="en-US" sz="5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14400" indent="-914400">
              <a:spcBef>
                <a:spcPts val="1199"/>
              </a:spcBef>
              <a:buClr>
                <a:srgbClr val="000000"/>
              </a:buClr>
              <a:buFont typeface="Angsana New"/>
              <a:buAutoNum type="arabicParenR" startAt="13"/>
              <a:tabLst>
                <a:tab algn="l" pos="38880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มีระบบการสอบทานสินเชื่ออยู่สม่ำเสมอ และมีประสิทธิภาพค่อนข้างมาก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  <a:p>
            <a:pPr marL="914400" indent="0">
              <a:spcBef>
                <a:spcPts val="1199"/>
              </a:spcBef>
              <a:buNone/>
              <a:tabLst>
                <a:tab algn="l" pos="0"/>
                <a:tab algn="l" pos="38880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AD35-21A3-48AC-AC30-5398FAFA8A2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50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2. </a:t>
            </a:r>
            <a:r>
              <a:rPr b="1" lang="th-TH" sz="5000" spc="-1" strike="noStrike" u="sng">
                <a:solidFill>
                  <a:srgbClr val="000000"/>
                </a:solidFill>
                <a:uFillTx/>
                <a:latin typeface="Angsana New"/>
              </a:rPr>
              <a:t>การจัดการความเสี่ยง</a:t>
            </a:r>
            <a:endParaRPr b="0" lang="en-US" sz="5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86680" indent="0">
              <a:spcBef>
                <a:spcPts val="1199"/>
              </a:spcBef>
              <a:buNone/>
              <a:tabLst>
                <a:tab algn="l" pos="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การจัดการความเสี่ยง 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0" lang="en-US" sz="4800" spc="-1" strike="noStrike">
                <a:solidFill>
                  <a:srgbClr val="000000"/>
                </a:solidFill>
                <a:latin typeface="Angsana New"/>
              </a:rPr>
              <a:t>Risk Management) 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แบ่งเป็น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  <a:p>
            <a:pPr marL="886680" indent="0">
              <a:spcBef>
                <a:spcPts val="1199"/>
              </a:spcBef>
              <a:buNone/>
              <a:tabLst>
                <a:tab algn="l" pos="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(1)  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ดี  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0" lang="en-US" sz="4800" spc="-1" strike="noStrike">
                <a:solidFill>
                  <a:srgbClr val="000000"/>
                </a:solidFill>
                <a:latin typeface="Angsana New"/>
              </a:rPr>
              <a:t>Strong)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  <a:p>
            <a:pPr marL="886680" indent="0">
              <a:spcBef>
                <a:spcPts val="1199"/>
              </a:spcBef>
              <a:buNone/>
              <a:tabLst>
                <a:tab algn="l" pos="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(2)  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ปานกลาง 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0" lang="en-US" sz="4800" spc="-1" strike="noStrike">
                <a:solidFill>
                  <a:srgbClr val="000000"/>
                </a:solidFill>
                <a:latin typeface="Angsana New"/>
              </a:rPr>
              <a:t>Acceptance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  <a:p>
            <a:pPr marL="886680" indent="0">
              <a:spcBef>
                <a:spcPts val="1199"/>
              </a:spcBef>
              <a:buNone/>
              <a:tabLst>
                <a:tab algn="l" pos="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(3)  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อ่อน 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0" lang="en-US" sz="4800" spc="-1" strike="noStrike">
                <a:solidFill>
                  <a:srgbClr val="000000"/>
                </a:solidFill>
                <a:latin typeface="Angsana New"/>
              </a:rPr>
              <a:t>Weak)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B5E6-EDFF-4C30-B0B8-147D373324B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50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th-TH" sz="50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en-US" sz="5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Angsana New"/>
              </a:rPr>
              <a:t>4.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2</a:t>
            </a:r>
            <a:r>
              <a:rPr b="1" lang="en-US" sz="5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5000" spc="-1" strike="noStrike" u="sng">
                <a:solidFill>
                  <a:srgbClr val="000000"/>
                </a:solidFill>
                <a:uFillTx/>
                <a:latin typeface="Angsana New"/>
              </a:rPr>
              <a:t>การจัดการความเสี่ยง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ต่อ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)</a:t>
            </a:r>
            <a:endParaRPr b="0" lang="en-US" sz="5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14400" indent="-914400">
              <a:spcBef>
                <a:spcPts val="1199"/>
              </a:spcBef>
              <a:buClr>
                <a:srgbClr val="000000"/>
              </a:buClr>
              <a:buFont typeface="Angsana New"/>
              <a:buAutoNum type="arabicParenR" startAt="14"/>
              <a:tabLst>
                <a:tab algn="l" pos="38880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ธนาคารให้ผู้ทำหน้าที่อำนวยการสินเชื่อ   รายเดียวกัน ทำหน้าที่สอบทานสินเชื่อด้วย โดยมีหน่วยงานตรวจสอบภายในทำหน้าที่เช็คสอบภายหลังอีกครั้งหนึ่ง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F262-856F-42D4-9F08-7550B2A254B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50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th-TH" sz="50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en-US" sz="5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Angsana New"/>
              </a:rPr>
              <a:t>4.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2</a:t>
            </a:r>
            <a:r>
              <a:rPr b="1" lang="en-US" sz="5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5000" spc="-1" strike="noStrike" u="sng">
                <a:solidFill>
                  <a:srgbClr val="000000"/>
                </a:solidFill>
                <a:uFillTx/>
                <a:latin typeface="Angsana New"/>
              </a:rPr>
              <a:t>การจัดการความเสี่ยง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ต่อ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)</a:t>
            </a:r>
            <a:endParaRPr b="0" lang="en-US" sz="5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14400" indent="-914400">
              <a:spcBef>
                <a:spcPts val="1199"/>
              </a:spcBef>
              <a:buClr>
                <a:srgbClr val="000000"/>
              </a:buClr>
              <a:buFont typeface="Angsana New"/>
              <a:buAutoNum type="arabicParenR" startAt="15"/>
              <a:tabLst>
                <a:tab algn="l" pos="38880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ไม่ปรากฏการออกรายงานการให้สินเชื่อ    ที่เป็นธุรกรรมผิดปกติ  หรือจะต้องขอ      สัตยาบรรณยกเว้นในภายหลัง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  <a:p>
            <a:pPr marL="914400" indent="0">
              <a:spcBef>
                <a:spcPts val="1199"/>
              </a:spcBef>
              <a:buNone/>
              <a:tabLst>
                <a:tab algn="l" pos="38880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C276-8A34-4F64-9148-290BC7588AF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50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en-US" sz="5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5000" spc="-1" strike="noStrike">
                <a:solidFill>
                  <a:srgbClr val="000000"/>
                </a:solidFill>
                <a:latin typeface="Angsana New"/>
              </a:rPr>
              <a:t>     </a:t>
            </a:r>
            <a:r>
              <a:rPr b="1" lang="en-US" sz="5000" spc="-1" strike="noStrike">
                <a:solidFill>
                  <a:srgbClr val="000000"/>
                </a:solidFill>
                <a:latin typeface="Angsana New"/>
              </a:rPr>
              <a:t>4.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2</a:t>
            </a:r>
            <a:r>
              <a:rPr b="1" lang="en-US" sz="5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5000" spc="-1" strike="noStrike" u="sng">
                <a:solidFill>
                  <a:srgbClr val="000000"/>
                </a:solidFill>
                <a:uFillTx/>
                <a:latin typeface="Angsana New"/>
              </a:rPr>
              <a:t>การจัดการความเสี่ยง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ต่อ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)</a:t>
            </a:r>
            <a:endParaRPr b="0" lang="en-US" sz="5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14400" indent="0">
              <a:spcBef>
                <a:spcPts val="1199"/>
              </a:spcBef>
              <a:buNone/>
              <a:tabLst>
                <a:tab algn="l" pos="0"/>
                <a:tab algn="l" pos="38880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(16)</a:t>
            </a:r>
            <a:r>
              <a:rPr b="0" lang="th-TH" sz="40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ธนาคารปฏิบัติผิดกฎหมายด้านสินเชื่อ    บ่อยครั้ง  เนื่องจากฐานข้อมูลในการรายงานไม่ทันสมัย  มักเกิดข้อผิดพลาดและ          บกพร่องอยู่เสมอ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5088-AD7B-4E05-9A2B-C178943F801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50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en-US" sz="5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50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1" lang="en-US" sz="5000" spc="-1" strike="noStrike">
                <a:solidFill>
                  <a:srgbClr val="000000"/>
                </a:solidFill>
                <a:latin typeface="Angsana New"/>
              </a:rPr>
              <a:t>4.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2</a:t>
            </a:r>
            <a:r>
              <a:rPr b="1" lang="en-US" sz="5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5000" spc="-1" strike="noStrike" u="sng">
                <a:solidFill>
                  <a:srgbClr val="000000"/>
                </a:solidFill>
                <a:uFillTx/>
                <a:latin typeface="Angsana New"/>
              </a:rPr>
              <a:t>การจัดการความเสี่ยง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ต่อ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)</a:t>
            </a:r>
            <a:endParaRPr b="0" lang="en-US" sz="5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786240" indent="0">
              <a:spcBef>
                <a:spcPts val="1199"/>
              </a:spcBef>
              <a:buNone/>
              <a:tabLst>
                <a:tab algn="l" pos="0"/>
                <a:tab algn="l" pos="38880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(17)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ระบบ </a:t>
            </a:r>
            <a:r>
              <a:rPr b="0" lang="en-US" sz="4800" spc="-1" strike="noStrike">
                <a:solidFill>
                  <a:srgbClr val="000000"/>
                </a:solidFill>
                <a:latin typeface="Angsana New"/>
              </a:rPr>
              <a:t>Credit Rating 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ที่จัดทำไว้มี 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7 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ระดับ                ซึ่งแสดงให้เห็นคุณภาพของลูกหนี้            ในแต่ละระดับได้เป็นอย่างดี แต่ปรากฏว่า เจ้าหน้าที่ให้ </a:t>
            </a:r>
            <a:r>
              <a:rPr b="0" lang="en-US" sz="4800" spc="-1" strike="noStrike">
                <a:solidFill>
                  <a:srgbClr val="000000"/>
                </a:solidFill>
                <a:latin typeface="Angsana New"/>
              </a:rPr>
              <a:t>Rating 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ไม่ถูกต้องตามคำนิยามหรือไม่ปรับ </a:t>
            </a:r>
            <a:r>
              <a:rPr b="0" lang="en-US" sz="4800" spc="-1" strike="noStrike">
                <a:solidFill>
                  <a:srgbClr val="000000"/>
                </a:solidFill>
                <a:latin typeface="Angsana New"/>
              </a:rPr>
              <a:t>Rating 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เมื่อสถานะภาพ       ของลูกหนี้เปลี่ยนไป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EB1A-CAC5-42C1-96C7-E74AEEB278B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50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en-US" sz="5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50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1" lang="en-US" sz="5000" spc="-1" strike="noStrike">
                <a:solidFill>
                  <a:srgbClr val="000000"/>
                </a:solidFill>
                <a:latin typeface="Angsana New"/>
              </a:rPr>
              <a:t>4.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2</a:t>
            </a:r>
            <a:r>
              <a:rPr b="1" lang="en-US" sz="5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5000" spc="-1" strike="noStrike" u="sng">
                <a:solidFill>
                  <a:srgbClr val="000000"/>
                </a:solidFill>
                <a:uFillTx/>
                <a:latin typeface="Angsana New"/>
              </a:rPr>
              <a:t>การจัดการความเสี่ยง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ต่อ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)</a:t>
            </a:r>
            <a:endParaRPr b="0" lang="en-US" sz="5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14400" indent="-914400">
              <a:spcBef>
                <a:spcPts val="1199"/>
              </a:spcBef>
              <a:buClr>
                <a:srgbClr val="000000"/>
              </a:buClr>
              <a:buFont typeface="Angsana New"/>
              <a:buAutoNum type="arabicParenR" startAt="18"/>
              <a:tabLst>
                <a:tab algn="l" pos="38880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มีการบริหาร </a:t>
            </a:r>
            <a:r>
              <a:rPr b="0" lang="en-US" sz="4800" spc="-1" strike="noStrike">
                <a:solidFill>
                  <a:srgbClr val="000000"/>
                </a:solidFill>
                <a:latin typeface="Angsana New"/>
              </a:rPr>
              <a:t>Portfolio 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สินเชื่อและ           ติดตามดูแล  โดยคำนึงถึงความเสี่ยง           ที่เกี่ยวกับโครงสร้างสินเชื่อและ              การกระจุกตัวอยู่เป็นประจำทุก 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3 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เดือน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  <a:p>
            <a:pPr marL="914400" indent="0">
              <a:spcBef>
                <a:spcPts val="1199"/>
              </a:spcBef>
              <a:buNone/>
              <a:tabLst>
                <a:tab algn="l" pos="0"/>
                <a:tab algn="l" pos="38880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BF9E-F9B1-4FAC-8F3F-1C57DE273D9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50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en-US" sz="5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50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1" lang="en-US" sz="5000" spc="-1" strike="noStrike">
                <a:solidFill>
                  <a:srgbClr val="000000"/>
                </a:solidFill>
                <a:latin typeface="Angsana New"/>
              </a:rPr>
              <a:t>4.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2</a:t>
            </a:r>
            <a:r>
              <a:rPr b="1" lang="en-US" sz="5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5000" spc="-1" strike="noStrike" u="sng">
                <a:solidFill>
                  <a:srgbClr val="000000"/>
                </a:solidFill>
                <a:uFillTx/>
                <a:latin typeface="Angsana New"/>
              </a:rPr>
              <a:t>การจัดการความเสี่ยง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ต่อ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)</a:t>
            </a:r>
            <a:endParaRPr b="0" lang="en-US" sz="5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86680" indent="0">
              <a:spcBef>
                <a:spcPts val="1199"/>
              </a:spcBef>
              <a:buNone/>
              <a:tabLst>
                <a:tab algn="l" pos="0"/>
                <a:tab algn="l" pos="38880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(19)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มีข้อสังเกตว่าสินเชื่อที่เสียหายส่วนใหญ่ เกิดจากขั้นตอนการอำนวยการของ          ฝ่ายปฏิบัติการสินเชื่อไม่มีประสิทธิภาพ โดยไม่สามารถคัดแยกลูกค้าที่ดีให้กับธนาคารได้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1F09-F481-470E-9737-4B276EF6488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50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en-US" sz="5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50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1" lang="en-US" sz="5000" spc="-1" strike="noStrike">
                <a:solidFill>
                  <a:srgbClr val="000000"/>
                </a:solidFill>
                <a:latin typeface="Angsana New"/>
              </a:rPr>
              <a:t>4.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2</a:t>
            </a:r>
            <a:r>
              <a:rPr b="1" lang="en-US" sz="5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5000" spc="-1" strike="noStrike" u="sng">
                <a:solidFill>
                  <a:srgbClr val="000000"/>
                </a:solidFill>
                <a:uFillTx/>
                <a:latin typeface="Angsana New"/>
              </a:rPr>
              <a:t>การจัดการความเสี่ยง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ต่อ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)</a:t>
            </a:r>
            <a:endParaRPr b="0" lang="en-US" sz="5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77680" indent="-877680">
              <a:spcBef>
                <a:spcPts val="1199"/>
              </a:spcBef>
              <a:buClr>
                <a:srgbClr val="000000"/>
              </a:buClr>
              <a:buFont typeface="Angsana New"/>
              <a:buAutoNum type="arabicParenR" startAt="20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ไม่มีการกันสำรองความเสียหายอันอาจจะ เกิดขึ้นจากลูกหนี้ที่มีลักษณะเป็น </a:t>
            </a:r>
            <a:r>
              <a:rPr b="0" lang="en-US" sz="4800" spc="-1" strike="noStrike">
                <a:solidFill>
                  <a:srgbClr val="000000"/>
                </a:solidFill>
                <a:latin typeface="Angsana New"/>
              </a:rPr>
              <a:t>Potential NPL 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โดยจะรอให้เป็น </a:t>
            </a:r>
            <a:r>
              <a:rPr b="0" lang="en-US" sz="4800" spc="-1" strike="noStrike">
                <a:solidFill>
                  <a:srgbClr val="000000"/>
                </a:solidFill>
                <a:latin typeface="Angsana New"/>
              </a:rPr>
              <a:t>NPL 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ตามเกณฑ์ของทางการเสียก่อนจึงจะ    กันสำรอง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  <a:p>
            <a:pPr marL="877680" indent="0">
              <a:spcBef>
                <a:spcPts val="11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C048-4B9A-445B-8D82-9A413130E2A6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50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en-US" sz="5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50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1" lang="en-US" sz="5000" spc="-1" strike="noStrike">
                <a:solidFill>
                  <a:srgbClr val="000000"/>
                </a:solidFill>
                <a:latin typeface="Angsana New"/>
              </a:rPr>
              <a:t>4.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2</a:t>
            </a:r>
            <a:r>
              <a:rPr b="1" lang="en-US" sz="5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5000" spc="-1" strike="noStrike" u="sng">
                <a:solidFill>
                  <a:srgbClr val="000000"/>
                </a:solidFill>
                <a:uFillTx/>
                <a:latin typeface="Angsana New"/>
              </a:rPr>
              <a:t>การจัดการความเสี่ยง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ต่อ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)</a:t>
            </a:r>
            <a:endParaRPr b="0" lang="en-US" sz="5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786240" indent="0">
              <a:spcBef>
                <a:spcPts val="1199"/>
              </a:spcBef>
              <a:buNone/>
              <a:tabLst>
                <a:tab algn="l" pos="0"/>
                <a:tab algn="l" pos="38880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(21)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นโยบายในเรื่อง หลักประกันของลูกหนี้     มิได้ครอบคลุมถึงการกำหนดให้                    ต้องจดจำนองที่ดินทุกครั้ง  จึงทำให้            ในทางปฏิบัติมีหลายรายที่เพียงยึดถือ           โฉนดที่ดินไว้  โดยยังมิได้ไปจดทะเบียนจำนองที่กรมที่ดิน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9702-3FA6-4D74-8CCA-F366FD7FCD30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50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en-US" sz="5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50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1" lang="en-US" sz="5000" spc="-1" strike="noStrike">
                <a:solidFill>
                  <a:srgbClr val="000000"/>
                </a:solidFill>
                <a:latin typeface="Angsana New"/>
              </a:rPr>
              <a:t>4.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2</a:t>
            </a:r>
            <a:r>
              <a:rPr b="1" lang="en-US" sz="5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5000" spc="-1" strike="noStrike" u="sng">
                <a:solidFill>
                  <a:srgbClr val="000000"/>
                </a:solidFill>
                <a:uFillTx/>
                <a:latin typeface="Angsana New"/>
              </a:rPr>
              <a:t>การจัดการความเสี่ยง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ต่อ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)</a:t>
            </a:r>
            <a:endParaRPr b="0" lang="en-US" sz="5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7405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38880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(22)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คณะกรรมการของธนาคารมี 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9 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คน                 และมีหน้าที่พิจารณาอนุมัติสินเชื่อ                    รายที่มีวงเงินตั้งแต่ 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100 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ล้านบาทขึ้นไป                 ซึ่งมี 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2 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คนเป็นหุ้นส่วนของโครงการใหญ่หลายโครงการที่นำเสนอ  เพื่อขออนุมัติ จากคณะกรรมการและผลปรากฏว่า              ได้รับการอนุมัติในทุกโครงการ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1062-1758-45D8-9CF9-5EB30F735473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50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en-US" sz="5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50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1" lang="en-US" sz="5000" spc="-1" strike="noStrike">
                <a:solidFill>
                  <a:srgbClr val="000000"/>
                </a:solidFill>
                <a:latin typeface="Angsana New"/>
              </a:rPr>
              <a:t>4.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2</a:t>
            </a:r>
            <a:r>
              <a:rPr b="1" lang="en-US" sz="5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5000" spc="-1" strike="noStrike" u="sng">
                <a:solidFill>
                  <a:srgbClr val="000000"/>
                </a:solidFill>
                <a:uFillTx/>
                <a:latin typeface="Angsana New"/>
              </a:rPr>
              <a:t>การจัดการความเสี่ยง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ต่อ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)</a:t>
            </a:r>
            <a:endParaRPr b="0" lang="en-US" sz="5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14400" indent="-914400">
              <a:spcBef>
                <a:spcPts val="1199"/>
              </a:spcBef>
              <a:buClr>
                <a:srgbClr val="000000"/>
              </a:buClr>
              <a:buFont typeface="Angsana New"/>
              <a:buAutoNum type="arabicParenR" startAt="23"/>
              <a:tabLst>
                <a:tab algn="l" pos="38880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เจ้าหน้าที่อำนวยสินเชื่อหลายคนไม่ได้รับ การอบรมที่เพียงพอในการทำงาน และ        ไม่มีประสบการณ์ในด้านนี้มาก่อน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  <a:p>
            <a:pPr marL="914400" indent="0">
              <a:spcBef>
                <a:spcPts val="1199"/>
              </a:spcBef>
              <a:buNone/>
              <a:tabLst>
                <a:tab algn="l" pos="0"/>
                <a:tab algn="l" pos="38880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3069-4523-4D6A-AE68-0E2FC978A054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50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3.  </a:t>
            </a:r>
            <a:r>
              <a:rPr b="1" lang="th-TH" sz="5000" spc="-1" strike="noStrike" u="sng">
                <a:solidFill>
                  <a:srgbClr val="000000"/>
                </a:solidFill>
                <a:uFillTx/>
                <a:latin typeface="Angsana New"/>
              </a:rPr>
              <a:t>ระดับความเสี่ยงรวม</a:t>
            </a:r>
            <a:endParaRPr b="0" lang="en-US" sz="5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905040" indent="0">
              <a:spcBef>
                <a:spcPts val="1001"/>
              </a:spcBef>
              <a:buNone/>
              <a:tabLst>
                <a:tab algn="l" pos="0"/>
                <a:tab algn="l" pos="38880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ระดับความเสี่ยงรวม 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en-US" sz="4000" spc="-1" strike="noStrike">
                <a:solidFill>
                  <a:srgbClr val="000000"/>
                </a:solidFill>
                <a:latin typeface="Angsana New"/>
              </a:rPr>
              <a:t>Aggregate Risk Rating)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ประกอบด้วย</a:t>
            </a:r>
            <a:r>
              <a:rPr b="1" lang="en-US" sz="4000" spc="-1" strike="noStrike">
                <a:solidFill>
                  <a:srgbClr val="000000"/>
                </a:solidFill>
                <a:latin typeface="Angsana New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905040" indent="0">
              <a:spcBef>
                <a:spcPts val="1001"/>
              </a:spcBef>
              <a:buNone/>
              <a:tabLst>
                <a:tab algn="l" pos="0"/>
                <a:tab algn="l" pos="38880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(1)  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ต่ำ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905040" indent="0">
              <a:spcBef>
                <a:spcPts val="1001"/>
              </a:spcBef>
              <a:buNone/>
              <a:tabLst>
                <a:tab algn="l" pos="0"/>
                <a:tab algn="l" pos="38880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(2)  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ค่อนข้างต่ำ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905040" indent="0">
              <a:spcBef>
                <a:spcPts val="1001"/>
              </a:spcBef>
              <a:buNone/>
              <a:tabLst>
                <a:tab algn="l" pos="0"/>
                <a:tab algn="l" pos="38880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(3)  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ปานกลาง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905040" indent="0">
              <a:spcBef>
                <a:spcPts val="1001"/>
              </a:spcBef>
              <a:buNone/>
              <a:tabLst>
                <a:tab algn="l" pos="0"/>
                <a:tab algn="l" pos="38880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(4)  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ค่อนข้างสูง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905040" indent="0">
              <a:spcBef>
                <a:spcPts val="1001"/>
              </a:spcBef>
              <a:buNone/>
              <a:tabLst>
                <a:tab algn="l" pos="0"/>
                <a:tab algn="l" pos="38880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(5)  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สูง</a:t>
            </a: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  <a:p>
            <a:pPr marL="905040" indent="0">
              <a:spcBef>
                <a:spcPts val="1001"/>
              </a:spcBef>
              <a:buNone/>
              <a:tabLst>
                <a:tab algn="l" pos="0"/>
                <a:tab algn="l" pos="38880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C3C7-E6A5-4881-AE96-6CAACD47B8F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50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en-US" sz="5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50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1" lang="en-US" sz="5000" spc="-1" strike="noStrike">
                <a:solidFill>
                  <a:srgbClr val="000000"/>
                </a:solidFill>
                <a:latin typeface="Angsana New"/>
              </a:rPr>
              <a:t>4.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2</a:t>
            </a:r>
            <a:r>
              <a:rPr b="1" lang="en-US" sz="5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5000" spc="-1" strike="noStrike" u="sng">
                <a:solidFill>
                  <a:srgbClr val="000000"/>
                </a:solidFill>
                <a:uFillTx/>
                <a:latin typeface="Angsana New"/>
              </a:rPr>
              <a:t>การจัดการความเสี่ยง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ต่อ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)</a:t>
            </a:r>
            <a:endParaRPr b="0" lang="en-US" sz="5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14400" indent="0">
              <a:spcBef>
                <a:spcPts val="1199"/>
              </a:spcBef>
              <a:buNone/>
              <a:tabLst>
                <a:tab algn="l" pos="0"/>
                <a:tab algn="l" pos="38880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(24)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พนักงานระดับผู้อำนวยการ                        ในฝ่ายอำนวยสินเชื่อ มีการลาออก                        บ่อยครั้ง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8931-A57F-4C19-99EE-124AAB1C2EE5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5000" spc="-1" strike="noStrike">
                <a:solidFill>
                  <a:srgbClr val="000000"/>
                </a:solidFill>
                <a:latin typeface="Angsana New"/>
              </a:rPr>
              <a:t>	</a:t>
            </a:r>
            <a:endParaRPr b="0" lang="en-US" sz="5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907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144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38880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00"/>
                </a:solidFill>
                <a:latin typeface="Angsana New"/>
              </a:rPr>
              <a:t>3. </a:t>
            </a:r>
            <a:r>
              <a:rPr b="1" lang="th-TH" sz="4800" spc="-1" strike="noStrike" u="sng">
                <a:solidFill>
                  <a:srgbClr val="000000"/>
                </a:solidFill>
                <a:uFillTx/>
                <a:latin typeface="Angsana New"/>
              </a:rPr>
              <a:t>ระดับความเสี่ยงรวม </a:t>
            </a:r>
            <a:r>
              <a:rPr b="1" lang="th-TH" sz="4800" spc="-1" strike="noStrike" u="sng">
                <a:solidFill>
                  <a:srgbClr val="000000"/>
                </a:solidFill>
                <a:uFillTx/>
                <a:latin typeface="Angsana New"/>
              </a:rPr>
              <a:t>(</a:t>
            </a:r>
            <a:r>
              <a:rPr b="1" lang="th-TH" sz="4800" spc="-1" strike="noStrike" u="sng">
                <a:solidFill>
                  <a:srgbClr val="000000"/>
                </a:solidFill>
                <a:uFillTx/>
                <a:latin typeface="Angsana New"/>
              </a:rPr>
              <a:t>ต่อ</a:t>
            </a:r>
            <a:r>
              <a:rPr b="1" lang="th-TH" sz="4800" spc="-1" strike="noStrike" u="sng">
                <a:solidFill>
                  <a:srgbClr val="000000"/>
                </a:solidFill>
                <a:uFillTx/>
                <a:latin typeface="Angsana New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124080" y="1523880"/>
          <a:ext cx="5334120" cy="2806920"/>
        </p:xfrm>
        <a:graphic>
          <a:graphicData uri="http://schemas.openxmlformats.org/drawingml/2006/table">
            <a:tbl>
              <a:tblPr/>
              <a:tblGrid>
                <a:gridCol w="1676520"/>
                <a:gridCol w="1752480"/>
                <a:gridCol w="190512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32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ปานกลา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32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ค่อนข้างสู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32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สู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32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ค่อนข้างต่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32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ปานกลา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32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ค่อนข้างสู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32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ต่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32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ค่อนข้างต่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32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ปานกลา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ด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พอใช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Angsana New"/>
                          <a:cs typeface="Angsana New"/>
                        </a:rPr>
                        <a:t>อ่อ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505800" y="2535120"/>
            <a:ext cx="11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   </a:t>
            </a:r>
            <a:r>
              <a:rPr b="1" lang="th-TH" sz="2400" spc="-1" strike="noStrike">
                <a:solidFill>
                  <a:srgbClr val="000000"/>
                </a:solidFill>
                <a:latin typeface="Times New Roman"/>
                <a:cs typeface="Angsana New"/>
              </a:rPr>
              <a:t>ระดับ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(Lev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773000" y="228600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  <a:cs typeface="Angsana New"/>
              </a:rPr>
              <a:t>ปานกลา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40640" y="16048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  <a:cs typeface="Angsana New"/>
              </a:rPr>
              <a:t>สู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28760" y="3124080"/>
            <a:ext cx="5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  <a:cs typeface="Angsana New"/>
              </a:rPr>
              <a:t>ต่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4419720"/>
            <a:ext cx="434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imes New Roman"/>
                <a:cs typeface="Angsana New"/>
              </a:rPr>
              <a:t>การจัดการ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Management</a:t>
            </a:r>
            <a:r>
              <a:rPr b="1" lang="th-TH" sz="32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AF66-8CFC-409D-8216-A9E25B0E045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50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4.  </a:t>
            </a:r>
            <a:r>
              <a:rPr b="1" lang="th-TH" sz="5000" spc="-1" strike="noStrike" u="sng">
                <a:solidFill>
                  <a:srgbClr val="000000"/>
                </a:solidFill>
                <a:uFillTx/>
                <a:latin typeface="Angsana New"/>
              </a:rPr>
              <a:t>กรณีศึกษา</a:t>
            </a:r>
            <a:endParaRPr b="0" lang="en-US" sz="5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14400" indent="0">
              <a:spcBef>
                <a:spcPts val="1199"/>
              </a:spcBef>
              <a:buNone/>
              <a:tabLst>
                <a:tab algn="l" pos="0"/>
                <a:tab algn="l" pos="38880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4.1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ระดับความเสี่ยง 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0" lang="en-US" sz="4800" spc="-1" strike="noStrike">
                <a:solidFill>
                  <a:srgbClr val="000000"/>
                </a:solidFill>
                <a:latin typeface="Angsana New"/>
              </a:rPr>
              <a:t>Level of Risk)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  <a:p>
            <a:pPr marL="914400" indent="0">
              <a:spcBef>
                <a:spcPts val="1199"/>
              </a:spcBef>
              <a:buNone/>
              <a:tabLst>
                <a:tab algn="l" pos="0"/>
                <a:tab algn="l" pos="38880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ngsana New"/>
              </a:rPr>
              <a:t>4.2</a:t>
            </a:r>
            <a:r>
              <a:rPr b="0" lang="en-US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การจัดการความเสี่ยง 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0" lang="en-US" sz="4800" spc="-1" strike="noStrike">
                <a:solidFill>
                  <a:srgbClr val="000000"/>
                </a:solidFill>
                <a:latin typeface="Angsana New"/>
              </a:rPr>
              <a:t>Risk Management)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  <a:p>
            <a:pPr marL="914400" indent="0">
              <a:spcBef>
                <a:spcPts val="1199"/>
              </a:spcBef>
              <a:buNone/>
              <a:tabLst>
                <a:tab algn="l" pos="0"/>
                <a:tab algn="l" pos="38880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9C36-093B-4B5F-9AEE-B263EDEE92B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50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1" lang="en-US" sz="5000" spc="-1" strike="noStrike">
                <a:solidFill>
                  <a:srgbClr val="000000"/>
                </a:solidFill>
                <a:latin typeface="Angsana New"/>
              </a:rPr>
              <a:t>4.1 </a:t>
            </a:r>
            <a:r>
              <a:rPr b="1" lang="th-TH" sz="5000" spc="-1" strike="noStrike" u="sng">
                <a:solidFill>
                  <a:srgbClr val="000000"/>
                </a:solidFill>
                <a:uFillTx/>
                <a:latin typeface="Angsana New"/>
              </a:rPr>
              <a:t>ระดับความเสี่ยง</a:t>
            </a:r>
            <a:endParaRPr b="0" lang="en-US" sz="5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749520" indent="-749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ngsana New"/>
              <a:buAutoNum type="arabicParenR"/>
              <a:tabLst>
                <a:tab algn="l" pos="38880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มีแนวโน้มว่าในอีกไม่เกิน 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2 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ไตรมาส </a:t>
            </a:r>
            <a:r>
              <a:rPr b="0" lang="en-US" sz="4800" spc="-1" strike="noStrike">
                <a:solidFill>
                  <a:srgbClr val="000000"/>
                </a:solidFill>
                <a:latin typeface="Angsana New"/>
              </a:rPr>
              <a:t>NPL 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จะเพิ่มสูงขึ้น เนื่องจากกลุ่มลูกหนี้รายใหญ่กลุ่มหนึ่งไม่อาจฟื้นฟูกิจการได้ ในขณะที่ธนาคารยังไม่อยู่ในภาวะที่จะกันเงินสำรองเตรียมการรองรับ          ความเสียหายดังกล่าวได้  เนื่องจากรายได้เกิดขึ้นไม่มากทั้งในปัจจุบันและอนาคต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F490-F7A8-401B-8B15-92EE383EB38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50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en-US" sz="5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en-US" sz="5000" spc="-1" strike="noStrike">
                <a:solidFill>
                  <a:srgbClr val="000000"/>
                </a:solidFill>
                <a:latin typeface="Angsana New"/>
              </a:rPr>
              <a:t>4.1 </a:t>
            </a:r>
            <a:r>
              <a:rPr b="1" lang="th-TH" sz="5000" spc="-1" strike="noStrike" u="sng">
                <a:solidFill>
                  <a:srgbClr val="000000"/>
                </a:solidFill>
                <a:uFillTx/>
                <a:latin typeface="Angsana New"/>
              </a:rPr>
              <a:t>ระดับความเสี่ยง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ต่อ</a:t>
            </a:r>
            <a:r>
              <a:rPr b="1" lang="th-TH" sz="5000" spc="-1" strike="noStrike">
                <a:solidFill>
                  <a:srgbClr val="000000"/>
                </a:solidFill>
                <a:latin typeface="Angsana New"/>
              </a:rPr>
              <a:t>)</a:t>
            </a:r>
            <a:endParaRPr b="0" lang="en-US" sz="50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14400" indent="0">
              <a:spcBef>
                <a:spcPts val="1199"/>
              </a:spcBef>
              <a:buNone/>
              <a:tabLst>
                <a:tab algn="l" pos="0"/>
                <a:tab algn="l" pos="388800"/>
                <a:tab algn="l" pos="1244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(2)     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มีแผนงานว่า ในอีก 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1 </a:t>
            </a:r>
            <a:r>
              <a:rPr b="0" lang="th-TH" sz="4800" spc="-1" strike="noStrike">
                <a:solidFill>
                  <a:srgbClr val="000000"/>
                </a:solidFill>
                <a:latin typeface="Angsana New"/>
              </a:rPr>
              <a:t>ปี ข้างหน้าธนาคารจะยังไม่ขยายสินเชื่อเพิ่ม แต่จะติดตาม  ลูกหนี้รายเดิมให้มาชำระคืนหนี้ หรือดำเนินการฟ้องร้องต่อไป</a:t>
            </a:r>
            <a:endParaRPr b="0" lang="en-US" sz="4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3C3B-8357-42E5-BF46-DC3A7CC0033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12:31:06Z</dcterms:created>
  <dc:creator>Administrator</dc:creator>
  <dc:description/>
  <dc:language>en-US</dc:language>
  <cp:lastModifiedBy>Administrator</cp:lastModifiedBy>
  <dcterms:modified xsi:type="dcterms:W3CDTF">2004-05-10T07:33:28Z</dcterms:modified>
  <cp:revision>63</cp:revision>
  <dc:subject/>
  <dc:title>แนวนโยบายของธุรกิจของ ธนาคารพาณิชย์ในอนาคต</dc:title>
</cp:coreProperties>
</file>