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0288588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01200" y="5805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1373-1062-4B2B-912B-C9963F3916C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0" t="20754" r="0" b="0"/>
          <a:stretch/>
        </p:blipFill>
        <p:spPr>
          <a:xfrm>
            <a:off x="0" y="0"/>
            <a:ext cx="10287000" cy="873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321600"/>
            <a:ext cx="10287000" cy="53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5715000"/>
            <a:ext cx="251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52480" y="2743200"/>
            <a:ext cx="70106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erivatives Accounting &amp; IAS39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289400" y="1981080"/>
            <a:ext cx="1866960" cy="838440"/>
          </a:xfrm>
          <a:prstGeom prst="rect">
            <a:avLst/>
          </a:prstGeom>
          <a:gradFill rotWithShape="0">
            <a:gsLst>
              <a:gs pos="0">
                <a:srgbClr val="e6b146"/>
              </a:gs>
              <a:gs pos="50000">
                <a:srgbClr val="dddddd"/>
              </a:gs>
              <a:gs pos="100000">
                <a:srgbClr val="e6b14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0440" y="3429000"/>
            <a:ext cx="2256120" cy="838080"/>
          </a:xfrm>
          <a:prstGeom prst="rect">
            <a:avLst/>
          </a:prstGeom>
          <a:gradFill rotWithShape="0">
            <a:gsLst>
              <a:gs pos="0">
                <a:srgbClr val="ffff67"/>
              </a:gs>
              <a:gs pos="50000">
                <a:srgbClr val="eaeaea"/>
              </a:gs>
              <a:gs pos="100000">
                <a:srgbClr val="ffff67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it or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78600" y="3429000"/>
            <a:ext cx="1322280" cy="838080"/>
          </a:xfrm>
          <a:prstGeom prst="rect">
            <a:avLst/>
          </a:prstGeom>
          <a:gradFill rotWithShape="0">
            <a:gsLst>
              <a:gs pos="0">
                <a:srgbClr val="6dcba7"/>
              </a:gs>
              <a:gs pos="50000">
                <a:srgbClr val="eaeaea"/>
              </a:gs>
              <a:gs pos="100000">
                <a:srgbClr val="6dcba7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4876920"/>
            <a:ext cx="1479600" cy="761760"/>
          </a:xfrm>
          <a:prstGeom prst="rect">
            <a:avLst/>
          </a:prstGeom>
          <a:gradFill rotWithShape="0">
            <a:gsLst>
              <a:gs pos="0">
                <a:srgbClr val="d0b5df"/>
              </a:gs>
              <a:gs pos="50000">
                <a:srgbClr val="eaeaea"/>
              </a:gs>
              <a:gs pos="100000">
                <a:srgbClr val="d0b5d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97360" y="4876920"/>
            <a:ext cx="1479600" cy="761760"/>
          </a:xfrm>
          <a:prstGeom prst="rect">
            <a:avLst/>
          </a:prstGeom>
          <a:gradFill rotWithShape="0">
            <a:gsLst>
              <a:gs pos="0">
                <a:srgbClr val="85d5dd"/>
              </a:gs>
              <a:gs pos="50000">
                <a:srgbClr val="eaeaea"/>
              </a:gs>
              <a:gs pos="100000">
                <a:srgbClr val="85d5dd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2144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248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3124080"/>
            <a:ext cx="32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82680" y="4572000"/>
            <a:ext cx="249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82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753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7040" y="990720"/>
            <a:ext cx="872784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assification - Liabil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507960" y="1790640"/>
            <a:ext cx="4622760" cy="4229280"/>
            <a:chOff x="507960" y="1790640"/>
            <a:chExt cx="4622760" cy="4229280"/>
          </a:xfrm>
        </p:grpSpPr>
        <p:sp>
          <p:nvSpPr>
            <p:cNvPr id="151" name=""/>
            <p:cNvSpPr/>
            <p:nvPr/>
          </p:nvSpPr>
          <p:spPr>
            <a:xfrm>
              <a:off x="533520" y="1790640"/>
              <a:ext cx="4584600" cy="482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44800" y="1841400"/>
              <a:ext cx="153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V thru 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2324160"/>
              <a:ext cx="4597200" cy="83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7960" y="2324160"/>
              <a:ext cx="2070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ld for Tra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3520" y="2629080"/>
              <a:ext cx="43304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ntion of short term profit Ex. Short Sell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 (Not for Hedge Accounting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3213000"/>
              <a:ext cx="4597200" cy="2806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5400000"/>
            </a:gra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7960" y="3213000"/>
              <a:ext cx="2882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ignated at inception &gt;&gt;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6880" y="3543480"/>
              <a:ext cx="4457880" cy="23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liminates or reduces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ounting mismat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 u="sng">
                  <a:solidFill>
                    <a:srgbClr val="990000"/>
                  </a:solidFill>
                  <a:uFillTx/>
                  <a:latin typeface="Arial"/>
                  <a:ea typeface="Arial"/>
                </a:rPr>
                <a:t>Remark:</a:t>
              </a:r>
              <a:r>
                <a:rPr b="0" i="1" lang="en-US" sz="1200" spc="-1" strike="noStrike">
                  <a:solidFill>
                    <a:srgbClr val="99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990000"/>
                  </a:solidFill>
                  <a:latin typeface="Arial"/>
                  <a:ea typeface="Arial"/>
                </a:rPr>
                <a:t>1. Not applicable for some of A/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990000"/>
                  </a:solidFill>
                  <a:latin typeface="Arial"/>
                  <a:ea typeface="Arial"/>
                </a:rPr>
                <a:t>2. Enter into A/L with in a reasonable dela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group of item is managed and its performance is evaluated on a FV basis,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rdance with documented risk mgnt or investment strategy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. Structured produc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items contains one or more substantive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embedded derivativ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11480" y="3213000"/>
              <a:ext cx="162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0000"/>
                  </a:solidFill>
                  <a:latin typeface="Arial"/>
                  <a:ea typeface="Arial"/>
                </a:rPr>
                <a:t>Irrevocable !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07040" y="1828800"/>
            <a:ext cx="4690800" cy="1117080"/>
            <a:chOff x="5207040" y="1828800"/>
            <a:chExt cx="4690800" cy="1117080"/>
          </a:xfrm>
        </p:grpSpPr>
        <p:sp>
          <p:nvSpPr>
            <p:cNvPr id="161" name=""/>
            <p:cNvSpPr/>
            <p:nvPr/>
          </p:nvSpPr>
          <p:spPr>
            <a:xfrm>
              <a:off x="5207040" y="2408040"/>
              <a:ext cx="4690800" cy="537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07040" y="1828800"/>
              <a:ext cx="4690800" cy="52416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75360" y="1897920"/>
              <a:ext cx="335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Financial Liab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58520" y="2504520"/>
              <a:ext cx="4315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All financial liabilities not classified in FVTPL categor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85716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fication – Financial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3880" y="1752480"/>
            <a:ext cx="6629400" cy="175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3880" y="3809880"/>
            <a:ext cx="6629400" cy="19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7160" y="914400"/>
            <a:ext cx="87282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itial and Subsequent Measur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1828800"/>
            <a:ext cx="4419720" cy="3808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c3c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2286000"/>
            <a:ext cx="91440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2286000"/>
            <a:ext cx="129528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n &amp; R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2286000"/>
            <a:ext cx="99072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T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286000"/>
            <a:ext cx="99072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2743200"/>
            <a:ext cx="441972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 + Transaction Costs that are direct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tributable to the acquisition or issue of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2743200"/>
            <a:ext cx="190512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i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447920"/>
            <a:ext cx="4419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3505320"/>
            <a:ext cx="4419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equent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3886200"/>
            <a:ext cx="4419720" cy="3808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343400"/>
            <a:ext cx="91440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4343400"/>
            <a:ext cx="129528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n &amp; Re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43600" y="4343400"/>
            <a:ext cx="99072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T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4343400"/>
            <a:ext cx="990720" cy="380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800600"/>
            <a:ext cx="2286000" cy="457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rtized Cost/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600" y="4800600"/>
            <a:ext cx="2057400" cy="457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334120"/>
            <a:ext cx="3048120" cy="4572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5334120"/>
            <a:ext cx="1295280" cy="4572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800600"/>
            <a:ext cx="1905120" cy="4572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sequ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334120"/>
            <a:ext cx="1905120" cy="4572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hang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rrying Am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594360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mark: 1. Equity Instruments that do not have a quoted market price and whose fair value can’t be reliably mea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amp; derivatives that are linked to and must be settled by delivery of such unquoted equity instruments shall be measured at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743200" y="1879560"/>
            <a:ext cx="5118120" cy="170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616120"/>
            <a:ext cx="1460520" cy="6224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15238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Initial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05240" y="1968480"/>
            <a:ext cx="3454560" cy="27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2240" y="194328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17840" y="2298600"/>
            <a:ext cx="174024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292640" y="227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Financial Li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21440" y="2298600"/>
            <a:ext cx="162540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91240" y="22860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VT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19520" y="26542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itial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30800" y="2616120"/>
            <a:ext cx="3429000" cy="6350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68960" y="2590920"/>
            <a:ext cx="3377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FV + Transaction Cost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that are directly attributable to the acquisition or issue of the financial asse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30600" y="4038480"/>
            <a:ext cx="5156280" cy="215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06560" y="4660920"/>
            <a:ext cx="1498680" cy="520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55800" y="3641760"/>
            <a:ext cx="35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Subsequent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330800" y="4013280"/>
            <a:ext cx="3441600" cy="2793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70400" y="39877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57680" y="4660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sequent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4660920"/>
            <a:ext cx="173988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7750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mortized 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59600" y="4660920"/>
            <a:ext cx="161280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88200" y="47750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06560" y="5232240"/>
            <a:ext cx="1498680" cy="52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92440" y="5219640"/>
            <a:ext cx="171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ange in Carrying Am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5232240"/>
            <a:ext cx="3429000" cy="520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dd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94440" y="5346720"/>
            <a:ext cx="18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43400" y="4356000"/>
            <a:ext cx="173988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17840" y="4330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ther Financial Li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46640" y="4356000"/>
            <a:ext cx="1625760" cy="279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16800" y="4343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VT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7160" y="990720"/>
            <a:ext cx="87282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nitial and Subsequent Measur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9880" y="990720"/>
            <a:ext cx="86850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ubsequent measurement of financial instr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828800"/>
            <a:ext cx="2895840" cy="6094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s at fair val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rough profit or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2514600"/>
            <a:ext cx="2895840" cy="533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ld-to-maturity invest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3124080"/>
            <a:ext cx="2895840" cy="533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ns and receiv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3733920"/>
            <a:ext cx="2895840" cy="533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ailable-for-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4343400"/>
            <a:ext cx="2895840" cy="7621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ies at 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rough profit or los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ated as su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81480"/>
            <a:ext cx="2895840" cy="533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ther lia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5791320"/>
            <a:ext cx="2895840" cy="5331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riv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1828800"/>
            <a:ext cx="2895840" cy="60948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2514600"/>
            <a:ext cx="2895840" cy="53352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rtized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ffective interest r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38480" y="3124080"/>
            <a:ext cx="2895840" cy="53352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rtized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effective interest r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3733920"/>
            <a:ext cx="2895840" cy="53316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4343400"/>
            <a:ext cx="2895840" cy="76212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5181480"/>
            <a:ext cx="2895840" cy="53352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mortised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791320"/>
            <a:ext cx="2895840" cy="533160"/>
          </a:xfrm>
          <a:prstGeom prst="rect">
            <a:avLst/>
          </a:prstGeom>
          <a:gradFill rotWithShape="0">
            <a:gsLst>
              <a:gs pos="0">
                <a:srgbClr val="ffdddd"/>
              </a:gs>
              <a:gs pos="100000">
                <a:srgbClr val="ff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38880" y="1828800"/>
            <a:ext cx="2362320" cy="60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 &amp;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2514600"/>
            <a:ext cx="236232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unless impair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238880" y="3124080"/>
            <a:ext cx="236232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unless impair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238880" y="3733920"/>
            <a:ext cx="2362320" cy="5331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q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unless impair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4343400"/>
            <a:ext cx="2362320" cy="7621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 &amp;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5181480"/>
            <a:ext cx="2362320" cy="5335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5791320"/>
            <a:ext cx="2362320" cy="5331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 &amp;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5238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00600" y="15238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72400" y="15238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lue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2540160"/>
            <a:ext cx="9505800" cy="36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5400000"/>
          </a:gradFill>
          <a:ln w="12600">
            <a:solidFill>
              <a:srgbClr val="b2b2b2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7560" y="1558800"/>
            <a:ext cx="906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ffective interest rate is the rate that exactly </a:t>
            </a:r>
            <a:r>
              <a:rPr b="1" lang="en-GB" sz="1600" spc="-1" strike="noStrike">
                <a:solidFill>
                  <a:srgbClr val="990000"/>
                </a:solidFill>
                <a:latin typeface="Arial"/>
                <a:ea typeface="Arial"/>
              </a:rPr>
              <a:t>discoun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e estimated stream of </a:t>
            </a:r>
            <a:r>
              <a:rPr b="1" lang="en-GB" sz="1600" spc="-1" strike="noStrike">
                <a:solidFill>
                  <a:srgbClr val="990000"/>
                </a:solidFill>
                <a:latin typeface="Arial"/>
                <a:ea typeface="Arial"/>
              </a:rPr>
              <a:t>future cash payments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Arial"/>
              </a:rPr>
              <a:t>/receipt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throug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  <a:ea typeface="Arial"/>
              </a:rPr>
              <a:t>expected lif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f the financial instrument, to arrive at a present value that equals the initial cost of the financial instru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80" y="2936880"/>
            <a:ext cx="74293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ntity X issues 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-year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bond with a face value o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100,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94,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tere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8% (payable annual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action cos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,000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90000"/>
                </a:solidFill>
                <a:latin typeface="Arial"/>
                <a:ea typeface="Arial"/>
              </a:rPr>
              <a:t>Step 1 – Determine the cost at initial recog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Cost = $94,418 – $2,000 </a:t>
            </a:r>
            <a:r>
              <a:rPr b="0" lang="en-AU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Arial"/>
              </a:rPr>
              <a:t> $92,4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990000"/>
                </a:solidFill>
                <a:latin typeface="Arial"/>
                <a:ea typeface="Arial"/>
              </a:rPr>
              <a:t>Step 2 – Calculate effective interest 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5360" y="254016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  <a:ea typeface="Arial"/>
              </a:rPr>
              <a:t>Illu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38360" y="53722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38360" y="53722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039160" y="4990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2933640" y="514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229280" y="514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524560" y="514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819840" y="5143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04840" y="57531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92,4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00480" y="4838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95760" y="4838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67360" y="4838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6680" y="48387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05640" y="46864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$108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14600" y="4648320"/>
            <a:ext cx="6781680" cy="67284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094840" y="5600160"/>
            <a:ext cx="5181480" cy="533160"/>
          </a:xfrm>
          <a:custGeom>
            <a:avLst/>
            <a:gdLst>
              <a:gd name="textAreaLeft" fmla="*/ -360 w 5181480"/>
              <a:gd name="textAreaRight" fmla="*/ 5181480 w 518148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98af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48040" y="56008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343560" y="2523960"/>
            <a:ext cx="3486240" cy="1827720"/>
            <a:chOff x="6343560" y="2523960"/>
            <a:chExt cx="3486240" cy="1827720"/>
          </a:xfrm>
        </p:grpSpPr>
        <p:sp>
          <p:nvSpPr>
            <p:cNvPr id="267" name=""/>
            <p:cNvSpPr/>
            <p:nvPr/>
          </p:nvSpPr>
          <p:spPr>
            <a:xfrm>
              <a:off x="6343560" y="2523960"/>
              <a:ext cx="3486240" cy="181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06560" y="2621520"/>
              <a:ext cx="3308760" cy="17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ffective interest rate will differ from the contractual interest rate when there ar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Aft>
                  <a:spcPts val="437"/>
                </a:spcAft>
                <a:buClr>
                  <a:srgbClr val="0000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action fe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Aft>
                  <a:spcPts val="437"/>
                </a:spcAft>
                <a:buClr>
                  <a:srgbClr val="0000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mium or discount; and / 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Aft>
                  <a:spcPts val="901"/>
                </a:spcAft>
                <a:buClr>
                  <a:srgbClr val="000000"/>
                </a:buClr>
                <a:buSzPct val="11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epped up/down interest rate / margi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857160" y="990720"/>
            <a:ext cx="87282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ffective Interest R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1600200" y="3352680"/>
            <a:ext cx="8331120" cy="1371600"/>
            <a:chOff x="1600200" y="3352680"/>
            <a:chExt cx="8331120" cy="1371600"/>
          </a:xfrm>
        </p:grpSpPr>
        <p:sp>
          <p:nvSpPr>
            <p:cNvPr id="271" name=""/>
            <p:cNvSpPr/>
            <p:nvPr/>
          </p:nvSpPr>
          <p:spPr>
            <a:xfrm>
              <a:off x="1600200" y="3352680"/>
              <a:ext cx="3200400" cy="1371600"/>
            </a:xfrm>
            <a:prstGeom prst="flowChartManualOperation">
              <a:avLst/>
            </a:prstGeom>
            <a:solidFill>
              <a:srgbClr val="f4d800"/>
            </a:solidFill>
            <a:ln w="0">
              <a:noFill/>
            </a:ln>
            <a:effectLst>
              <a:outerShdw dist="17819" dir="2700000" blurRad="0" rotWithShape="0">
                <a:srgbClr val="9181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Active Market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luation Techniq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70320" y="3600360"/>
              <a:ext cx="4761000" cy="1054080"/>
            </a:xfrm>
            <a:noFill/>
            <a:ln w="9360">
              <a:solidFill>
                <a:srgbClr val="98af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nt arm’s length trans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rrent fair value of similar instru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ly used valuation techniqu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81320" y="4767120"/>
            <a:ext cx="7564320" cy="1519560"/>
            <a:chOff x="2281320" y="4767120"/>
            <a:chExt cx="7564320" cy="1519560"/>
          </a:xfrm>
        </p:grpSpPr>
        <p:sp>
          <p:nvSpPr>
            <p:cNvPr id="274" name=""/>
            <p:cNvSpPr/>
            <p:nvPr/>
          </p:nvSpPr>
          <p:spPr>
            <a:xfrm>
              <a:off x="2281320" y="4767120"/>
              <a:ext cx="1904760" cy="1295640"/>
            </a:xfrm>
            <a:prstGeom prst="rect">
              <a:avLst/>
            </a:prstGeom>
            <a:solidFill>
              <a:srgbClr val="afcc0d"/>
            </a:solidFill>
            <a:ln w="0">
              <a:noFill/>
            </a:ln>
            <a:effectLst>
              <a:outerShdw dist="17819" dir="2700000" blurRad="0" rotWithShape="0">
                <a:srgbClr val="68790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Act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ket: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r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95880" y="5067360"/>
              <a:ext cx="4649760" cy="1219320"/>
            </a:xfrm>
            <a:noFill/>
            <a:ln w="9360">
              <a:solidFill>
                <a:srgbClr val="f4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der very rare circumst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gnificant variability in range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sonable fair value estim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y at c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57200" y="1486080"/>
            <a:ext cx="9626760" cy="1831680"/>
            <a:chOff x="457200" y="1486080"/>
            <a:chExt cx="9626760" cy="1831680"/>
          </a:xfrm>
        </p:grpSpPr>
        <p:sp>
          <p:nvSpPr>
            <p:cNvPr id="277" name=""/>
            <p:cNvSpPr/>
            <p:nvPr/>
          </p:nvSpPr>
          <p:spPr>
            <a:xfrm>
              <a:off x="457200" y="1790640"/>
              <a:ext cx="5486400" cy="1527120"/>
            </a:xfrm>
            <a:prstGeom prst="flowChartManualOperation">
              <a:avLst/>
            </a:prstGeom>
            <a:solidFill>
              <a:srgbClr val="afcc0d"/>
            </a:solidFill>
            <a:ln w="0">
              <a:noFill/>
            </a:ln>
            <a:effectLst>
              <a:outerShdw dist="17819" dir="2700000" blurRad="0" rotWithShape="0">
                <a:srgbClr val="68790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ve Market: Quoted Pr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62720" y="1486080"/>
              <a:ext cx="3200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9440" indent="-109440">
                <a:lnSpc>
                  <a:spcPct val="100000"/>
                </a:lnSpc>
                <a:spcBef>
                  <a:spcPts val="1188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86680" y="1933560"/>
              <a:ext cx="3797280" cy="990720"/>
            </a:xfrm>
            <a:noFill/>
            <a:ln w="9360">
              <a:solidFill>
                <a:srgbClr val="f4d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et – bid 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ability – asked 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fsetting positions – mid pr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ir Value Measure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1752480"/>
            <a:ext cx="8805600" cy="9144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d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existence of published price quotations in an active market is the be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idence of fair value and they must be used to measure the financial instr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9400" y="2743200"/>
            <a:ext cx="8961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oted prices are readily and regularly available from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Ex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Industry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Dea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Pricing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Brok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 Regulatory ag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favorable market rate may be applied even though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d not actually occur in this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oted market prices cannot be adjusted for “blockage” (large holding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“liquidity” fa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tive market – quoted market pr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779400" y="1828800"/>
            <a:ext cx="9507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Using a well-established valuation techniqu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ncorporate all factors that market participants would consider in setting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pri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cent transactions in the marke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ference to a transaction that is substantially the s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iscounted cash flows analysis (for debt instrumen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ption pricing model (option derivativ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nsistent with accepted economic methodologies for pricing financial 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ack testing requirement for valuation mod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o active market – Valuation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514600" y="4114800"/>
            <a:ext cx="5562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a3"/>
              </a:gs>
              <a:gs pos="100000">
                <a:srgbClr val="feff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1981080"/>
            <a:ext cx="2057400" cy="19051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ost contract/ Financial Instrument e.g.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5300640"/>
            <a:ext cx="3809880" cy="5666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3366c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1e3c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brid Instr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381560"/>
            <a:ext cx="3581640" cy="7239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ccffc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mbedded Deriv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bedded Derivati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2057400"/>
            <a:ext cx="2895480" cy="16002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d60093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ina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riv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.g.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94880" y="1752120"/>
            <a:ext cx="8805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ition of Financial instr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lass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itial and subsequent meas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ffective interest 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ir value meas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mbedded Deriv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edg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-recog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mpair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air Value Op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AS39 Im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9520" y="99036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cope of pres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779040" y="1828800"/>
            <a:ext cx="90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n embedded derivative must be separated out and accounted for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eparately if three criteria are met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hybrid instrument (host contract plus embedded derivative) i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ot measured at fair valu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separate instrument with the same characteristics would  mee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definition of a derivati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economic characteristics are not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losely related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to thos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host contrac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8908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mbedded derivativ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838080" y="2057400"/>
            <a:ext cx="8619840" cy="3809880"/>
            <a:chOff x="838080" y="2057400"/>
            <a:chExt cx="8619840" cy="3809880"/>
          </a:xfrm>
        </p:grpSpPr>
        <p:sp>
          <p:nvSpPr>
            <p:cNvPr id="297" name=""/>
            <p:cNvSpPr/>
            <p:nvPr/>
          </p:nvSpPr>
          <p:spPr>
            <a:xfrm>
              <a:off x="838080" y="2058840"/>
              <a:ext cx="1675080" cy="1905120"/>
            </a:xfrm>
            <a:prstGeom prst="rect">
              <a:avLst/>
            </a:prstGeom>
            <a:solidFill>
              <a:srgbClr val="008000"/>
            </a:solidFill>
            <a:ln w="32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rried at fai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alue throu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fit or los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65240" y="5411880"/>
              <a:ext cx="6858000" cy="39744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not split out the embedded deriv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5400000">
              <a:off x="7353360" y="3762720"/>
              <a:ext cx="3809880" cy="39888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spcAft>
                  <a:spcPts val="125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lit and separately ac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03520" y="2058840"/>
              <a:ext cx="1703520" cy="1905120"/>
            </a:xfrm>
            <a:prstGeom prst="rect">
              <a:avLst/>
            </a:prstGeom>
            <a:solidFill>
              <a:srgbClr val="008000"/>
            </a:solidFill>
            <a:ln w="32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ould it b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rivative if i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w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reestanding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5440" y="2897280"/>
              <a:ext cx="609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89120" y="3278160"/>
              <a:ext cx="9144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246720" y="2058840"/>
              <a:ext cx="1828800" cy="1905120"/>
            </a:xfrm>
            <a:prstGeom prst="rect">
              <a:avLst/>
            </a:prstGeom>
            <a:solidFill>
              <a:srgbClr val="008000"/>
            </a:solidFill>
            <a:ln w="3240">
              <a:solidFill>
                <a:srgbClr val="008000"/>
              </a:solidFill>
              <a:miter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s it closely related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 the ho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ract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84960" y="2973240"/>
              <a:ext cx="533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56360" y="3368520"/>
              <a:ext cx="9144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598760" y="4021200"/>
              <a:ext cx="0" cy="1295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4720" y="44211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61120" y="4040280"/>
              <a:ext cx="0" cy="1295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70720" y="457344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17920" y="4040280"/>
              <a:ext cx="0" cy="12952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0560" y="4421160"/>
              <a:ext cx="609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23400" y="3368520"/>
              <a:ext cx="9144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99360" y="2973240"/>
              <a:ext cx="609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mbedded Derivati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5680" y="441972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05920" y="297180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3200" y="28954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4419720"/>
            <a:ext cx="609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297180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238880" y="4419720"/>
            <a:ext cx="609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39880" y="990720"/>
            <a:ext cx="86850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losely related or no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5800" y="1828800"/>
          <a:ext cx="4343400" cy="397188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ly 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  <a:tr h="34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est rate swap embedded 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debt instr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lation indexed lease contr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p and floor in a sale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urchase contra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payment option in a mortgag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at does result in the exerci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ount being approximately equ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amortised 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999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5334120" y="1828800"/>
          <a:ext cx="4343400" cy="3971880"/>
        </p:xfrm>
        <a:graphic>
          <a:graphicData uri="http://schemas.openxmlformats.org/drawingml/2006/table">
            <a:tbl>
              <a:tblPr/>
              <a:tblGrid>
                <a:gridCol w="4343400"/>
              </a:tblGrid>
              <a:tr h="57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 closely re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99ffcc"/>
                        </a:gs>
                      </a:gsLst>
                      <a:lin ang="5400000"/>
                    </a:gradFill>
                  </a:tcPr>
                </a:tc>
              </a:tr>
              <a:tr h="34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ty conversion or put option 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t instr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xed rate debt extension o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t security with interest 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ipal linked to a stock 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odity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Wingdings 3" charset="2"/>
                        <a:buChar char="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derivatives embedded in 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st debt instru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cc66"/>
                        </a:gs>
                        <a:gs pos="100000">
                          <a:srgbClr val="99ffcc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779400" y="1828800"/>
            <a:ext cx="911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ll derivatives are carried at fair value in the balance shee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ins and losses are taken to the income statement unless strict hedging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riteria are met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edging relationships must be documented on inception of th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edging arrang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ffectiveness of hedges must be tested both prospectively an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trospectively throughout the life of the hed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97040" y="990720"/>
            <a:ext cx="872784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ed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14680" y="1836720"/>
            <a:ext cx="662436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43b80e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Why hedge accounting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To reduce volatility in the income stat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Why is hedge accounting a privilege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779400" y="3429000"/>
            <a:ext cx="911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edge accounting overrides normal accounting principles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requirement to carry all derivatives at fair value through income is suspended in a cash flow hedge as  the effective portion of the fair value change is temporarily assigned to equity 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 measurement rules for the hedged item are changed, for example a financial asset or liability will be adjusted for movements in the fair value of the hedged risk (fair value hedging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enefits of hedge accoun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Can Be Hedging Instruments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762120" y="1981080"/>
          <a:ext cx="8915400" cy="3353040"/>
        </p:xfrm>
        <a:graphic>
          <a:graphicData uri="http://schemas.openxmlformats.org/drawingml/2006/table">
            <a:tbl>
              <a:tblPr/>
              <a:tblGrid>
                <a:gridCol w="4572000"/>
                <a:gridCol w="4343400"/>
              </a:tblGrid>
              <a:tr h="60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t not…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ff"/>
                        </a:gs>
                        <a:gs pos="100000">
                          <a:srgbClr val="ccecff"/>
                        </a:gs>
                      </a:gsLst>
                      <a:lin ang="54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rivatives (including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bedded derivatives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ritten options, unles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gainst purchased option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derivatives for FX risk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y (e.g. borrowing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n-derivatives for other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sks (e.g.interest rate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rtions of derivativ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.g. 50% of notional amount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ions of derivativ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.g. portion of time period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bfeaff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4572000" y="274320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35812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457200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915400" y="274320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915400" y="35812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915400" y="449568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me words about hedge design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48120" y="1905120"/>
            <a:ext cx="4724280" cy="106668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cc99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SIGNATION IS KEY 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5120" y="3124080"/>
            <a:ext cx="31240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signation of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3124080"/>
            <a:ext cx="365760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.g. use swap rate if i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an be identified so I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isk is driven by the s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yield curv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905120" y="4648320"/>
            <a:ext cx="312408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signation of portion 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air value or cash flow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05520" y="4648320"/>
            <a:ext cx="3657600" cy="14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.g. partial term hedging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using 5 year swap to hedg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5 years of a 10 years bo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779400" y="1752120"/>
            <a:ext cx="919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ffectiveness : degree to which changes in the fair value or cash flow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f the hedged item are offset by changes in fair value or cash flows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edging instru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416320" y="2895480"/>
            <a:ext cx="5922720" cy="76212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hedge is expected to be and has been highly eff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58800" y="4419720"/>
            <a:ext cx="2181240" cy="76176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spective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58800" y="5486400"/>
            <a:ext cx="2181240" cy="762120"/>
          </a:xfrm>
          <a:custGeom>
            <a:avLst/>
            <a:gdLst>
              <a:gd name="textAreaLeft" fmla="*/ 0 w 2181240"/>
              <a:gd name="textAreaRight" fmla="*/ 2181600 w 2181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29a8a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trospective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286160" y="4648320"/>
            <a:ext cx="623880" cy="380880"/>
          </a:xfrm>
          <a:custGeom>
            <a:avLst/>
            <a:gdLst>
              <a:gd name="textAreaLeft" fmla="*/ 77760 w 623880"/>
              <a:gd name="textAreaRight" fmla="*/ 546120 w 623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86160" y="5638680"/>
            <a:ext cx="623880" cy="381240"/>
          </a:xfrm>
          <a:custGeom>
            <a:avLst/>
            <a:gdLst>
              <a:gd name="textAreaLeft" fmla="*/ 77760 w 623880"/>
              <a:gd name="textAreaRight" fmla="*/ 546120 w 6238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11880" y="475380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183520" y="482976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83520" y="5485680"/>
            <a:ext cx="7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93492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ffectiveness tes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85200" y="3733920"/>
            <a:ext cx="1922400" cy="8380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611680" y="3733920"/>
            <a:ext cx="1947960" cy="83808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t ince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701640" y="1752480"/>
            <a:ext cx="9117000" cy="449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ed16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338560" y="1828800"/>
            <a:ext cx="267480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a7d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ir Val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43680" y="1828800"/>
            <a:ext cx="280476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40040" y="3962520"/>
            <a:ext cx="2649600" cy="2133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ffff9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5716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ree types of hed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701640" y="1828800"/>
            <a:ext cx="8883720" cy="4114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817440" y="2209680"/>
            <a:ext cx="584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xposure to changes in fair value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ttributable to particular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cognized asset or liability or firm commit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firm commitment is 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inding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greeme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for the exchange of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pecified quantity of resources at a specified price on a specified future date or da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ir Value h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09720" y="2514600"/>
            <a:ext cx="2674800" cy="2133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a7dd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ir Val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rket trends as reflected in IAS 32 &amp; IAS 3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15000" y="2438280"/>
            <a:ext cx="3886200" cy="3429000"/>
          </a:xfrm>
          <a:prstGeom prst="ellipse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2438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6095520" y="4038480"/>
            <a:ext cx="16002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96080" y="4038480"/>
            <a:ext cx="14479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312408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ll derivatives 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ecognized 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e balance she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72400" y="312408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ost financ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ssets measur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t fair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0" y="4800600"/>
            <a:ext cx="1523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easurement of the hedg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nstrument is the basis f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edge account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057400"/>
            <a:ext cx="3733560" cy="762120"/>
          </a:xfrm>
          <a:prstGeom prst="rightArrow">
            <a:avLst>
              <a:gd name="adj1" fmla="val 50000"/>
              <a:gd name="adj2" fmla="val 122473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Harmonization of marke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2895480"/>
            <a:ext cx="3504960" cy="762120"/>
          </a:xfrm>
          <a:prstGeom prst="rightArrow">
            <a:avLst>
              <a:gd name="adj1" fmla="val 50000"/>
              <a:gd name="adj2" fmla="val 11497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Increased complex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809880"/>
            <a:ext cx="3657600" cy="762120"/>
          </a:xfrm>
          <a:prstGeom prst="rightArrow">
            <a:avLst>
              <a:gd name="adj1" fmla="val 50000"/>
              <a:gd name="adj2" fmla="val 119981"/>
            </a:avLst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Detailed disclos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4724280"/>
            <a:ext cx="3504960" cy="762120"/>
          </a:xfrm>
          <a:prstGeom prst="rightArrow">
            <a:avLst>
              <a:gd name="adj1" fmla="val 50000"/>
              <a:gd name="adj2" fmla="val 114974"/>
            </a:avLst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Use of fair val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562720"/>
            <a:ext cx="3353040" cy="761760"/>
          </a:xfrm>
          <a:prstGeom prst="rightArrow">
            <a:avLst>
              <a:gd name="adj1" fmla="val 50000"/>
              <a:gd name="adj2" fmla="val 110043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Reduction of op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752480"/>
            <a:ext cx="3657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y principles of th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325520" y="2133720"/>
            <a:ext cx="35845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7e10"/>
              </a:gs>
              <a:gs pos="50000">
                <a:srgbClr val="ffffff"/>
              </a:gs>
              <a:gs pos="100000">
                <a:srgbClr val="d87e1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14b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s in fair value of th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edging derivativ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25520" y="3962520"/>
            <a:ext cx="358452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8067"/>
              </a:gs>
              <a:gs pos="50000">
                <a:srgbClr val="ffffff"/>
              </a:gs>
              <a:gs pos="100000">
                <a:srgbClr val="ff8067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984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s in fair value of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edged instrument attributable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he hedged ris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13520" y="2286000"/>
            <a:ext cx="204480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fit 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o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74000" y="4038480"/>
            <a:ext cx="2044440" cy="1143000"/>
          </a:xfrm>
          <a:prstGeom prst="ellipse">
            <a:avLst/>
          </a:prstGeom>
          <a:gradFill rotWithShape="0">
            <a:gsLst>
              <a:gs pos="0">
                <a:srgbClr val="9191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5656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fit 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o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76960" y="2666880"/>
            <a:ext cx="1170000" cy="533520"/>
          </a:xfrm>
          <a:custGeom>
            <a:avLst/>
            <a:gdLst>
              <a:gd name="textAreaLeft" fmla="*/ 182520 w 1170000"/>
              <a:gd name="textAreaRight" fmla="*/ 1023840 w 1170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54720" y="4343400"/>
            <a:ext cx="1170000" cy="533520"/>
          </a:xfrm>
          <a:custGeom>
            <a:avLst/>
            <a:gdLst>
              <a:gd name="textAreaLeft" fmla="*/ 182520 w 1170000"/>
              <a:gd name="textAreaRight" fmla="*/ 1023840 w 1170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243200" y="5366880"/>
            <a:ext cx="1742760" cy="7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effectiven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(if an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counting for a fair value h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779400" y="1828800"/>
            <a:ext cx="8883720" cy="4114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affa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419720" y="2133720"/>
            <a:ext cx="49305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xposure to variability in cash flow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ttributable to particular risk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ssociated with recognised asset 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liability or highly probable forecasted transac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Variable interest rate assets/liabiliti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ighly probable forecast transac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sh Flow H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246320" y="2362320"/>
            <a:ext cx="2884320" cy="2361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aeaea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sh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090440" y="2514600"/>
            <a:ext cx="3584880" cy="228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ff"/>
              </a:gs>
              <a:gs pos="50000">
                <a:srgbClr val="dddddd"/>
              </a:gs>
              <a:gs pos="100000">
                <a:srgbClr val="0099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hanges in fair value of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edging instrument attribu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o the hedge ris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645320" y="2514600"/>
            <a:ext cx="1879560" cy="99072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9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qu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45320" y="3733920"/>
            <a:ext cx="1879560" cy="9903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79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rofit or Lo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87800" y="3781440"/>
            <a:ext cx="2403720" cy="866880"/>
          </a:xfrm>
          <a:prstGeom prst="rightArrow">
            <a:avLst>
              <a:gd name="adj1" fmla="val 50000"/>
              <a:gd name="adj2" fmla="val 69321"/>
            </a:avLst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effective por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9400" y="990720"/>
            <a:ext cx="87282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ccounting for a cash flow hed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87800" y="2590920"/>
            <a:ext cx="2403720" cy="866520"/>
          </a:xfrm>
          <a:prstGeom prst="rightArrow">
            <a:avLst>
              <a:gd name="adj1" fmla="val 50000"/>
              <a:gd name="adj2" fmla="val 69350"/>
            </a:avLst>
          </a:prstGeom>
          <a:gradFill rotWithShape="0">
            <a:gsLst>
              <a:gs pos="0">
                <a:srgbClr val="b2b2b2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fective port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133720" y="3733920"/>
            <a:ext cx="243828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HED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R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PIRES, IS SOL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RMINATED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ERC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3733920"/>
            <a:ext cx="2361960" cy="17524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VOKATION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DESIG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management’s deci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continuance of Hedge Account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962520" y="2133720"/>
            <a:ext cx="2438280" cy="16002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RITERIA FOR H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OUNTING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O LONGER 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a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ffectiveness testing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5562720"/>
            <a:ext cx="5181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spective Discontinuanc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dge accoun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irst, consolidate all subsidiaries (including all SP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-recognition provisions are applied on a consolidated lev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n, consider the subject of the de-recognition provisions (financial asset, group of similar financial assets or a portion of a financial instruments or a group of similar financial instrument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n, apply de-recognition rules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-recognize when contractual rights to cash flows expire or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re is a “transfer of a financial asset” a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at transfer qualifies for de-recog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-recognition of a financial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762120" y="1676520"/>
            <a:ext cx="8991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ransfer of a financial asset” requ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transfer of the contractual rights to receive the Cash Flows; 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eting the “pass-through requirements” in IAS 39. 1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f financial asset has been transferred, then assess whether transfer qualifies for de-recogni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f substantially all risks and rewards are retain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f substantially all risks and rewards are transferr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f some but not substantially all risks and rewards have be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ransferred :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ntrol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Continuing involv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 very mixed model 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-recognition of a financial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46120" y="1828800"/>
            <a:ext cx="9352080" cy="4343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 de-recognition tes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87400" y="2511360"/>
            <a:ext cx="1967040" cy="18320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tantially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reward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89480" y="2511360"/>
            <a:ext cx="1965240" cy="18320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29a8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the entit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tantially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sk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reward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138720" y="2511360"/>
            <a:ext cx="1965600" cy="183204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cb94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ai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sse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788320" y="2286000"/>
            <a:ext cx="797040" cy="3429000"/>
          </a:xfrm>
          <a:prstGeom prst="rect">
            <a:avLst/>
          </a:prstGeom>
          <a:gradFill rotWithShape="0">
            <a:gsLst>
              <a:gs pos="0">
                <a:srgbClr val="b68600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 recogniz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934920" y="5029200"/>
            <a:ext cx="7248600" cy="6858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99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-recogn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98000" y="3048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48320" y="3048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76240" y="4510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82880" y="3429000"/>
            <a:ext cx="546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54720" y="3429000"/>
            <a:ext cx="62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27360" y="21477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4519440" y="2057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2057400"/>
            <a:ext cx="4677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96560" y="2057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04320" y="3429000"/>
            <a:ext cx="623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70200" y="4343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4343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55880" y="45100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082000" y="30481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stio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ompany A sells part of its short-term trade receivable portfoli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There is a full recourse in the event of defaul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an Company A de-recognize the trade receivable sold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. Y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. No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839520" y="99036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AS 39 : De-recognition – Financial assets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y (or part thereof) is removed from the balance sheet when it is extinguished, i.e. when the obligation is discharged or cancelled or expir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9880" y="990720"/>
            <a:ext cx="8685000" cy="68580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-recognition of a financial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8839080" cy="1828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cc00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 financial asset or a group of financial assets is impaired if, and only if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re is objective evidence of impairment as a result of one or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more events that occurred after initial recognition; 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 loss event has an impact on estimated future cash flow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airment requir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3581280"/>
            <a:ext cx="8839080" cy="2667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cff66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 3" charset="2"/>
              <a:buChar char="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n impairment loss is measured as the difference between 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 asset’s carrying amount and the present value of estimat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future cash flows – for loans and receivables or held-to-matu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investments; an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the acquisition cost (net of any principal repayment and amortisation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and current fair value, less any impairment losses previously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cognised – for available-for-sale financial asse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94880" y="1752120"/>
            <a:ext cx="8805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inciples for recognizing and measuring financial assets, financial liabilities and some contracts to buy or sell  non – financial i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inancial assets (such as lending to) and financial liabilities (such as borrowing from) are presented in balance sheet on a fair value basi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839520" y="99036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IAS 39 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AS 39 : Impairment Objective Evid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00400" y="182880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verse changes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payment status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rrowers in th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867280" y="1828800"/>
            <a:ext cx="2590920" cy="1371600"/>
          </a:xfrm>
          <a:prstGeom prst="ellipse">
            <a:avLst/>
          </a:prstGeom>
          <a:gradFill rotWithShape="0">
            <a:gsLst>
              <a:gs pos="0">
                <a:srgbClr val="009900"/>
              </a:gs>
              <a:gs pos="100000">
                <a:srgbClr val="00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al or lo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onomic cond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at correlat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aults on the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the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320040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orrower gra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cessions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 difficul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19920" y="4495680"/>
            <a:ext cx="2361960" cy="121932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 prob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 bankruptcy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organ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4952880"/>
            <a:ext cx="2361960" cy="1219320"/>
          </a:xfrm>
          <a:prstGeom prst="ellipse">
            <a:avLst/>
          </a:prstGeom>
          <a:gradFill rotWithShape="0">
            <a:gsLst>
              <a:gs pos="0">
                <a:srgbClr val="ff9966"/>
              </a:gs>
              <a:gs pos="100000">
                <a:srgbClr val="ff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ual breach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act (e.g.default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linquency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y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411480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appearanc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active market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as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2666880"/>
            <a:ext cx="2362320" cy="121932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suer has signif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 difficul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14800" y="3352680"/>
            <a:ext cx="2133720" cy="1371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20100000">
            <a:off x="2514240" y="3733560"/>
            <a:ext cx="5105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what about equit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34290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00600" y="29718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14640" y="30481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6248520" y="38862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99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00600" y="46483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429000" y="41907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AS 39 : Impairment - Methodolog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600200" y="1676520"/>
            <a:ext cx="1752480" cy="6094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ivid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58000" y="1676520"/>
            <a:ext cx="1828800" cy="60948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 individ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gnifi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24480" y="2590920"/>
            <a:ext cx="2819520" cy="99036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ff9933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termine groups f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ective assess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ased 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ilar credit risk characteristi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781680" y="3962520"/>
            <a:ext cx="1981440" cy="990360"/>
          </a:xfrm>
          <a:prstGeom prst="rect">
            <a:avLst/>
          </a:prstGeom>
          <a:gradFill rotWithShape="0">
            <a:gsLst>
              <a:gs pos="0">
                <a:srgbClr val="f0c200"/>
              </a:gs>
              <a:gs pos="100000">
                <a:srgbClr val="ffd5d5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igger eve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urred but not y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porte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086600" y="5334120"/>
            <a:ext cx="1447920" cy="609480"/>
          </a:xfrm>
          <a:prstGeom prst="ellipse">
            <a:avLst/>
          </a:prstGeom>
          <a:gradFill rotWithShape="0">
            <a:gsLst>
              <a:gs pos="0">
                <a:srgbClr val="f8f2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 pro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14800" y="5257800"/>
            <a:ext cx="1905120" cy="914400"/>
          </a:xfrm>
          <a:prstGeom prst="rect">
            <a:avLst/>
          </a:prstGeom>
          <a:gradFill rotWithShape="0">
            <a:gsLst>
              <a:gs pos="0">
                <a:srgbClr val="ff6699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counted Cash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airment los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2590920"/>
            <a:ext cx="2057400" cy="9903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dividual Assess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igger eve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curre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3962520"/>
            <a:ext cx="2057400" cy="99036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99ffcc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counted Cash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airment los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2480" y="5334120"/>
            <a:ext cx="1524240" cy="609480"/>
          </a:xfrm>
          <a:prstGeom prst="ellipse">
            <a:avLst/>
          </a:prstGeom>
          <a:gradFill rotWithShape="0">
            <a:gsLst>
              <a:gs pos="0">
                <a:srgbClr val="cccc00"/>
              </a:gs>
              <a:gs pos="100000">
                <a:srgbClr val="d3ff57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504960" y="2286000"/>
            <a:ext cx="42670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772400" y="228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05320" y="30481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276720" y="56386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19920" y="56386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22860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6019920"/>
            <a:ext cx="815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4419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724280" y="34290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34290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38280" y="3581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52480" y="35812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49528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3828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2680" y="52578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44197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29200" y="4419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562720" y="40384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7240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72400" y="3581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09880" y="40384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26668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52578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4952880"/>
            <a:ext cx="685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air value through profit or loss” is only allowed in the following situation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A. Held for trading ; 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. Designate upon initial recognition 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.  Eliminates or reduces accounting mismatch that may arise fro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easurement and recognition of assets or liabilities with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erceived economic relationships 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i. The group of items is managed and its performance evaluate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n a fair value basis in accordance with documented risk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nagement or investment strategy ; 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ii. The items contains one or more substantive embedded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derivativ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8080" y="990720"/>
            <a:ext cx="868536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ir value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991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liminate the costs of hedge accounting compli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liminate the costs of embedded derivative accounting complia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Reduce income statement volatil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rovide financial information that will reflect how the Bank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anages it busin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rrevocable design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Full fair value change of the hedged item will be recognized in th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income state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 3"/>
                <a:ea typeface="Wingdings 3"/>
              </a:rPr>
              <a:t>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Volatility will still result to the extent that the Bank has open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posi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ir value O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mplications for your organiz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480" y="190512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par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1752480"/>
            <a:ext cx="16002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100000">
                <a:srgbClr val="33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ront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95680" y="1752480"/>
            <a:ext cx="16002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48520" y="1752480"/>
            <a:ext cx="16002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00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01000" y="1752480"/>
            <a:ext cx="16002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cc"/>
              </a:gs>
              <a:gs pos="100000">
                <a:srgbClr val="ff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Back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43200" y="2743200"/>
            <a:ext cx="1600200" cy="30492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32004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743200" y="3200400"/>
            <a:ext cx="16002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66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ader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easurers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ales 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95680" y="3200400"/>
            <a:ext cx="16002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08000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isk Mana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248520" y="3200400"/>
            <a:ext cx="16002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100000">
                <a:srgbClr val="ff9966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tt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T Perso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001000" y="3200400"/>
            <a:ext cx="16002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8bc00"/>
              </a:gs>
              <a:gs pos="100000">
                <a:srgbClr val="ffff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troll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ount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44956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43200" y="4191120"/>
            <a:ext cx="1600200" cy="30456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43200" y="4572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 &amp; L volat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495680" y="4572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248520" y="4572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8001000" y="4572000"/>
            <a:ext cx="1600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clos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x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495680" y="2743200"/>
            <a:ext cx="1600200" cy="30492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248520" y="2743200"/>
            <a:ext cx="1600200" cy="30492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01000" y="2743200"/>
            <a:ext cx="1600200" cy="30492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95680" y="4191120"/>
            <a:ext cx="1600200" cy="30456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48520" y="4191120"/>
            <a:ext cx="1600200" cy="30456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001000" y="4191120"/>
            <a:ext cx="1600200" cy="304560"/>
          </a:xfrm>
          <a:prstGeom prst="flowChartMerge">
            <a:avLst/>
          </a:prstGeom>
          <a:solidFill>
            <a:srgbClr val="80808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9296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2120" y="1066680"/>
            <a:ext cx="898992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AS 39 implementation – it’s more than just a finance issue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609480" y="1752480"/>
          <a:ext cx="9067680" cy="4421160"/>
        </p:xfrm>
        <a:graphic>
          <a:graphicData uri="http://schemas.openxmlformats.org/drawingml/2006/table">
            <a:tbl>
              <a:tblPr/>
              <a:tblGrid>
                <a:gridCol w="2438280"/>
                <a:gridCol w="6629400"/>
              </a:tblGrid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itu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y responsi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Mobilise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nderstand impact of IAS 39 on bottomline results (e.g. earnings), equity and balance sh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Sponsorshi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esource mobi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ealign financial performance measures with IAS 39 based meas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estor rel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Educate analysts and inves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e fun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corporate centr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nderstand IAS 39 princi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Modify accounting policies to conform to IAS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Revise financial stat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Support the ongoing information gathering and consolidation of the IAS 39 and its relevant  numb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 ope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rovide information to meet additional disclosure requirements and new valuation principles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Hedge accounting requirements under IFRS rules are onero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Understand IAS 39 impact of transaction stru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Plan and execute both “quick fixes” and major system modifications to enable reporting under IAS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evant Bank-wide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Implement process changes to cater for reporting under the new accounting 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85800" y="2590920"/>
            <a:ext cx="89899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Q &amp;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10287000" cy="701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657520" y="1600200"/>
            <a:ext cx="4973760" cy="4084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efinition of financial instru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676520"/>
            <a:ext cx="8381880" cy="914400"/>
          </a:xfrm>
          <a:prstGeom prst="rect">
            <a:avLst/>
          </a:prstGeom>
          <a:solidFill>
            <a:srgbClr val="ffc3e1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financial instrument is a contract that gives rise to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financial asset of one entity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a financial liability or equity instrument of another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2666880"/>
            <a:ext cx="2743200" cy="8384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cc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ss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666880"/>
            <a:ext cx="2743200" cy="838440"/>
          </a:xfrm>
          <a:prstGeom prst="rect">
            <a:avLst/>
          </a:prstGeom>
          <a:gradFill rotWithShape="0">
            <a:gsLst>
              <a:gs pos="0">
                <a:srgbClr val="cc66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Financ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iabil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2666880"/>
            <a:ext cx="2743200" cy="8384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qu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stru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581280"/>
            <a:ext cx="2743200" cy="26672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993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ash and Cash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equival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rading ass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Pledged ass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rivative asse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oans and advances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ban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oans and advances t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ustom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Investment secur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3581280"/>
            <a:ext cx="2743200" cy="2667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66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Trading 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rivative 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posits from ban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posits from custom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bt securities issu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ubordinated 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581280"/>
            <a:ext cx="2743200" cy="2667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cc99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Contract evidencing 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residual interest in the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assets of an entity af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deducting all of it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liabiliti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39880" y="990720"/>
            <a:ext cx="868500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inancial instruments for ban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1905120"/>
            <a:ext cx="3657600" cy="1066680"/>
          </a:xfrm>
          <a:prstGeom prst="rect">
            <a:avLst/>
          </a:prstGeom>
          <a:gradFill rotWithShape="0">
            <a:gsLst>
              <a:gs pos="0">
                <a:srgbClr val="ff7c80"/>
              </a:gs>
              <a:gs pos="100000">
                <a:srgbClr val="ffcccc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 as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3048120"/>
            <a:ext cx="3657600" cy="29718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7c8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bank and mon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e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ans and accrued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1905120"/>
            <a:ext cx="3733560" cy="1066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3048120"/>
            <a:ext cx="3733560" cy="29718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9999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pos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bank and mon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et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abilities payable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rr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urities sold u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urchase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1676520"/>
            <a:ext cx="9601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8763120" cy="60948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979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assification - Asse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33880" y="1905120"/>
            <a:ext cx="2022480" cy="761760"/>
          </a:xfrm>
          <a:prstGeom prst="rect">
            <a:avLst/>
          </a:prstGeom>
          <a:gradFill rotWithShape="0">
            <a:gsLst>
              <a:gs pos="0">
                <a:srgbClr val="ffb481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ancial As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9400" y="3276720"/>
            <a:ext cx="2025720" cy="761760"/>
          </a:xfrm>
          <a:prstGeom prst="rect">
            <a:avLst/>
          </a:prstGeom>
          <a:gradFill rotWithShape="0">
            <a:gsLst>
              <a:gs pos="0">
                <a:srgbClr val="98f0c2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ir valu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it or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17960" y="3276720"/>
            <a:ext cx="1947600" cy="761760"/>
          </a:xfrm>
          <a:prstGeom prst="rect">
            <a:avLst/>
          </a:prstGeom>
          <a:gradFill rotWithShape="0">
            <a:gsLst>
              <a:gs pos="0">
                <a:srgbClr val="a4d7f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Receiv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76960" y="3276720"/>
            <a:ext cx="1949400" cy="761760"/>
          </a:xfrm>
          <a:prstGeom prst="rect">
            <a:avLst/>
          </a:prstGeom>
          <a:gradFill rotWithShape="0">
            <a:gsLst>
              <a:gs pos="0">
                <a:srgbClr val="d3b5e3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eld to Mat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9640" y="3276720"/>
            <a:ext cx="1947960" cy="761760"/>
          </a:xfrm>
          <a:prstGeom prst="rect">
            <a:avLst/>
          </a:prstGeom>
          <a:gradFill rotWithShape="0">
            <a:gsLst>
              <a:gs pos="0">
                <a:srgbClr val="ffc3e1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ailable for 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800" y="4724280"/>
            <a:ext cx="1170000" cy="685800"/>
          </a:xfrm>
          <a:prstGeom prst="rect">
            <a:avLst/>
          </a:prstGeom>
          <a:gradFill rotWithShape="0">
            <a:gsLst>
              <a:gs pos="0">
                <a:srgbClr val="ffff85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03480" y="4724280"/>
            <a:ext cx="1325520" cy="685800"/>
          </a:xfrm>
          <a:prstGeom prst="rect">
            <a:avLst/>
          </a:prstGeom>
          <a:gradFill rotWithShape="0">
            <a:gsLst>
              <a:gs pos="0">
                <a:srgbClr val="fb8d85"/>
              </a:gs>
              <a:gs pos="100000">
                <a:srgbClr val="eaeaea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sig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70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0200" y="297180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3064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118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9456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436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7020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4960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12680" y="4419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12680" y="4419720"/>
            <a:ext cx="163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10040" y="4267080"/>
            <a:ext cx="4597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PL  =  Fair value through profit and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   =  Held to Mat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FS     =  Available for S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    =  Loans and receiv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FT    =  Held for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9520" y="2146320"/>
            <a:ext cx="3646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629080" y="1359000"/>
            <a:ext cx="2641320" cy="5049360"/>
            <a:chOff x="2629080" y="1359000"/>
            <a:chExt cx="2641320" cy="5049360"/>
          </a:xfrm>
        </p:grpSpPr>
        <p:sp>
          <p:nvSpPr>
            <p:cNvPr id="96" name=""/>
            <p:cNvSpPr/>
            <p:nvPr/>
          </p:nvSpPr>
          <p:spPr>
            <a:xfrm>
              <a:off x="2679840" y="1892160"/>
              <a:ext cx="2463840" cy="134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54280" y="1359000"/>
              <a:ext cx="2489400" cy="48240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43480" y="1422360"/>
              <a:ext cx="11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629080" y="1917720"/>
              <a:ext cx="26161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derivative financial assets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 or determinable payments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&amp; fixed maturity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ntention of trading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&amp; intention and ability to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ld to maturity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79840" y="3289320"/>
              <a:ext cx="2463840" cy="1701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0000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654280" y="3289320"/>
              <a:ext cx="1549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inting Ru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79840" y="3581280"/>
              <a:ext cx="2590560" cy="13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an insignificant amount of HTM are sold or reclassified, before maturity, during the current or two preceding years, </a:t>
              </a: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M classification are prohibited for 2 years.”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79840" y="5029200"/>
              <a:ext cx="2463840" cy="134604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79840" y="5245200"/>
              <a:ext cx="2527200" cy="116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62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sale is close to maturity i.e. &lt; 3 month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ed substantially all of princip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lated event beyond entity’s contro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41680" y="4978440"/>
              <a:ext cx="1549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ceptio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7658280" y="1359000"/>
            <a:ext cx="2565360" cy="1841040"/>
            <a:chOff x="7658280" y="1359000"/>
            <a:chExt cx="2565360" cy="1841040"/>
          </a:xfrm>
        </p:grpSpPr>
        <p:sp>
          <p:nvSpPr>
            <p:cNvPr id="107" name=""/>
            <p:cNvSpPr/>
            <p:nvPr/>
          </p:nvSpPr>
          <p:spPr>
            <a:xfrm>
              <a:off x="7683480" y="1940040"/>
              <a:ext cx="2438280" cy="1260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70880" y="1359000"/>
              <a:ext cx="2438280" cy="525600"/>
            </a:xfrm>
            <a:prstGeom prst="rect">
              <a:avLst/>
            </a:prstGeom>
            <a:gradFill rotWithShape="0">
              <a:gsLst>
                <a:gs pos="0">
                  <a:srgbClr val="990000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99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13600" y="1427760"/>
              <a:ext cx="190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an &amp; Rec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58280" y="1954080"/>
              <a:ext cx="25653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-derivative financial assets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 or determinable payments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 quoted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intention of trad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181480" y="1359000"/>
            <a:ext cx="2476800" cy="1485720"/>
            <a:chOff x="5181480" y="1359000"/>
            <a:chExt cx="2476800" cy="1485720"/>
          </a:xfrm>
        </p:grpSpPr>
        <p:sp>
          <p:nvSpPr>
            <p:cNvPr id="112" name=""/>
            <p:cNvSpPr/>
            <p:nvPr/>
          </p:nvSpPr>
          <p:spPr>
            <a:xfrm>
              <a:off x="5181480" y="1359000"/>
              <a:ext cx="2438640" cy="482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70680" y="1422360"/>
              <a:ext cx="110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94440" y="1892160"/>
              <a:ext cx="2438280" cy="9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99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1480" y="1905120"/>
              <a:ext cx="2476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All equity securities not classified in FVTPL category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0" lang="en-GB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l financial assets not in another category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857160" y="838080"/>
            <a:ext cx="8728200" cy="5335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assification – Financi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371600"/>
            <a:ext cx="228600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V thru 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905120"/>
            <a:ext cx="2286000" cy="1295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eld for Trad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 Intention of short te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prof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 Derivatives (Not for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Hedge Accounting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44640" y="4772160"/>
            <a:ext cx="82296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ers into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ut of the Fair Value through profit or loss category   prohibi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68680" y="1714680"/>
            <a:ext cx="228600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66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V thru P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77760" y="2095560"/>
            <a:ext cx="7925040" cy="2209680"/>
            <a:chOff x="977760" y="2095560"/>
            <a:chExt cx="7925040" cy="2209680"/>
          </a:xfrm>
        </p:grpSpPr>
        <p:sp>
          <p:nvSpPr>
            <p:cNvPr id="122" name=""/>
            <p:cNvSpPr/>
            <p:nvPr/>
          </p:nvSpPr>
          <p:spPr>
            <a:xfrm>
              <a:off x="977760" y="3314880"/>
              <a:ext cx="228600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HT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16800" y="3390840"/>
              <a:ext cx="228600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F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39920" y="2314440"/>
              <a:ext cx="1295280" cy="91440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568600" y="2457360"/>
              <a:ext cx="1295280" cy="91440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73600" y="2518560"/>
              <a:ext cx="1204920" cy="91908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flipV="1">
              <a:off x="5931000" y="2324160"/>
              <a:ext cx="1218960" cy="91440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3280" y="2095560"/>
              <a:ext cx="7621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3300"/>
                  </a:solidFill>
                  <a:latin typeface="Arial"/>
                  <a:ea typeface="Arial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77960" y="2171880"/>
              <a:ext cx="7369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3300"/>
                  </a:solidFill>
                  <a:latin typeface="Arial"/>
                  <a:ea typeface="Arial"/>
                </a:rPr>
                <a:t>x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263760" y="3073320"/>
            <a:ext cx="3429000" cy="1704960"/>
            <a:chOff x="3263760" y="3073320"/>
            <a:chExt cx="3429000" cy="1704960"/>
          </a:xfrm>
        </p:grpSpPr>
        <p:sp>
          <p:nvSpPr>
            <p:cNvPr id="131" name=""/>
            <p:cNvSpPr/>
            <p:nvPr/>
          </p:nvSpPr>
          <p:spPr>
            <a:xfrm>
              <a:off x="3416400" y="3073320"/>
              <a:ext cx="2755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but taint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(FV with diff to equity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94240" y="4041720"/>
              <a:ext cx="289548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Yes (FV with gains/loss i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y amortise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263760" y="4000680"/>
              <a:ext cx="3353040" cy="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40080" y="3772080"/>
              <a:ext cx="3352680" cy="0"/>
            </a:xfrm>
            <a:prstGeom prst="line">
              <a:avLst/>
            </a:prstGeom>
            <a:ln w="38160">
              <a:solidFill>
                <a:srgbClr val="afcc0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857160" y="990720"/>
            <a:ext cx="8728200" cy="53316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50000">
                <a:srgbClr val="eaeaea"/>
              </a:gs>
              <a:gs pos="100000">
                <a:srgbClr val="cc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ansfer between Catego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6:30:26Z</dcterms:created>
  <dc:creator>KBANK</dc:creator>
  <dc:description/>
  <dc:language>en-US</dc:language>
  <cp:lastModifiedBy>psconsite</cp:lastModifiedBy>
  <dcterms:modified xsi:type="dcterms:W3CDTF">2007-07-03T10:48:25Z</dcterms:modified>
  <cp:revision>120</cp:revision>
  <dc:subject/>
  <dc:title>PowerPoint Presentation</dc:title>
</cp:coreProperties>
</file>