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23B7-AF68-4AA2-8A54-3A8700A65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10.xml"/><Relationship Id="rId4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11.xml"/><Relationship Id="rId4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13.xml"/><Relationship Id="rId4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14.xml"/><Relationship Id="rId4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22.xml"/><Relationship Id="rId4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23.xml"/><Relationship Id="rId4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24.xml"/><Relationship Id="rId4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25.xml"/><Relationship Id="rId4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26.xml"/><Relationship Id="rId4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27.xml"/><Relationship Id="rId4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28.xml"/><Relationship Id="rId4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29.xml"/><Relationship Id="rId4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30.xml"/><Relationship Id="rId4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31.xml"/><Relationship Id="rId4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32.xml"/><Relationship Id="rId4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33.xml"/><Relationship Id="rId4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34.xml"/><Relationship Id="rId4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35.xml"/><Relationship Id="rId4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36.xml"/><Relationship Id="rId4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6.xml"/><Relationship Id="rId4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7.xml"/><Relationship Id="rId4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8.xml"/><Relationship Id="rId4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" Target="../slides/slide9.xml"/><Relationship Id="rId4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21932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oard of Dir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1371600" y="990720"/>
          <a:ext cx="457200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7200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4D52-7157-47D9-B1F1-1802CCD2C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CC6E-5D93-4610-80EE-585E8555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574E-B15E-4A17-B2AF-F63F43E28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6596-4562-4138-8676-31CC1BA7C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E71C-A392-4A02-B861-68E88ED4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81B1-6277-4289-B6F6-09C4F72F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618C-BE08-4AFC-B3CB-F1F13575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7817-CE30-4A79-9C52-4D0810CD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1F65-DDEF-49E9-9768-85DFD57B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CE48-7CBE-4846-8B18-9E59C2A6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2CDC-D0C0-4057-B38E-590A2C10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5118-CA21-49F6-9365-C994B29D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D742-E1CE-498A-9E4D-1CBD36DA2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rket Risk Manage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Interest rate sensitivity limits (PV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rate derivative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FX risk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FX derivative risk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ty risk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MAT (Loss)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2489040"/>
            <a:ext cx="78487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V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PV01 shows the current position exposure when the underly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eld curve parallel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 shifts by 1 basis point (0.01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The limit is for the following interest rates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USD, TH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114800" y="3276720"/>
            <a:ext cx="91440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0" y="1874880"/>
                <a:ext cx="914400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ond Valu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4267080"/>
            <a:ext cx="9144000" cy="851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-2630520" y="5562720"/>
            <a:ext cx="144147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ngsana New"/>
              </a:rPr>
              <a:t>Interest Rate Sensitivity (PV01) = Bond Value1 - Bond Value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V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457200" y="274680"/>
          <a:ext cx="8229600" cy="6200640"/>
        </p:xfrm>
        <a:graphic>
          <a:graphicData uri="http://schemas.openxmlformats.org/drawingml/2006/table">
            <a:tbl>
              <a:tblPr/>
              <a:tblGrid>
                <a:gridCol w="841320"/>
                <a:gridCol w="979560"/>
                <a:gridCol w="898560"/>
                <a:gridCol w="896760"/>
                <a:gridCol w="897120"/>
                <a:gridCol w="896760"/>
                <a:gridCol w="897120"/>
                <a:gridCol w="1041480"/>
                <a:gridCol w="880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B mm.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ur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ct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ct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ct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ct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ct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ct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ct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mi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 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 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 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 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1749"/>
                        </a:spcBef>
                        <a:spcAft>
                          <a:spcPts val="17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50000"/>
                        </a:lnSpc>
                        <a:spcBef>
                          <a:spcPts val="561"/>
                        </a:spcBef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ts val="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</a:t>
                      </a:r>
                      <a:r>
                        <a:rPr b="1" lang="en-GB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mi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Interest rate sensitivity limits (PV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rate derivative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FX risk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FX derivative risk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ty risk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MAT (Loss)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3073320"/>
            <a:ext cx="78487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t Rate Deriv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RD gamma lim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RD vega lim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RD matrix lim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D Gamma 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ma limit measures the rate of change of the portfolio delta to changes in interest r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hift could be set to express the effect of a 1 basis point increase in the underlying interest 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D Gamma 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5240" y="1295280"/>
            <a:ext cx="896436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D Vega 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ga limit is set to control the amount of exposure to shifts in volat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mits are placed on the movement in P&amp;L that will result from a 1% absolute move in the volatility of the underlying interest rate derivative produ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D Vega 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1359000"/>
            <a:ext cx="871380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get Aud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sury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e and Ac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D Matrix 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Shows the profit and loss arising from market parameters i.e. Interest Rate and volatility, shifting b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% and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Times New Roman"/>
              </a:rPr>
              <a:t>Set against the worst case 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28600" y="1566720"/>
            <a:ext cx="8478720" cy="3740040"/>
            <a:chOff x="228600" y="1566720"/>
            <a:chExt cx="8478720" cy="3740040"/>
          </a:xfrm>
        </p:grpSpPr>
        <p:sp>
          <p:nvSpPr>
            <p:cNvPr id="103" name=""/>
            <p:cNvSpPr/>
            <p:nvPr/>
          </p:nvSpPr>
          <p:spPr>
            <a:xfrm>
              <a:off x="7707240" y="1566720"/>
              <a:ext cx="18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0160" y="1942920"/>
              <a:ext cx="284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00"/>
                  </a:solidFill>
                  <a:latin typeface="Times New Roman"/>
                </a:rPr>
                <a:t>Int. Volatility Chan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8600" y="19303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8600" y="19303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9120" y="1930320"/>
              <a:ext cx="360540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54520" y="193032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73600" y="1930320"/>
              <a:ext cx="481464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88240" y="193032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688240" y="193032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8600" y="1950840"/>
              <a:ext cx="2052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54520" y="1950840"/>
              <a:ext cx="1908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688240" y="1950840"/>
              <a:ext cx="1908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51840" y="2298600"/>
              <a:ext cx="2118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R P/L Matri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82560" y="2614320"/>
              <a:ext cx="780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00"/>
                  </a:solidFill>
                  <a:latin typeface="Times New Roman"/>
                </a:rPr>
                <a:t>(-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th-TH" sz="2400" spc="-1" strike="noStrike">
                  <a:solidFill>
                    <a:srgbClr val="000000"/>
                  </a:solidFill>
                  <a:latin typeface="Times New Roman"/>
                </a:rPr>
                <a:t>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47560" y="2614320"/>
              <a:ext cx="662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0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71800" y="2614320"/>
              <a:ext cx="852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00"/>
                  </a:solidFill>
                  <a:latin typeface="Times New Roman"/>
                </a:rPr>
                <a:t>(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th-TH" sz="2400" spc="-1" strike="noStrike">
                  <a:solidFill>
                    <a:srgbClr val="000000"/>
                  </a:solidFill>
                  <a:latin typeface="Times New Roman"/>
                </a:rPr>
                <a:t>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8600" y="260172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54520" y="26017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73600" y="2601720"/>
              <a:ext cx="15922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65880" y="26017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84960" y="2601720"/>
              <a:ext cx="15922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077240" y="2601720"/>
              <a:ext cx="18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95960" y="2601720"/>
              <a:ext cx="15922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688240" y="260172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" y="2620800"/>
              <a:ext cx="20520" cy="6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54520" y="2620800"/>
              <a:ext cx="19080" cy="6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65880" y="2620800"/>
              <a:ext cx="19080" cy="6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77240" y="2620800"/>
              <a:ext cx="18720" cy="6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688240" y="2620800"/>
              <a:ext cx="19080" cy="6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973960" y="3286080"/>
              <a:ext cx="763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00"/>
                  </a:solidFill>
                  <a:latin typeface="Times New Roman"/>
                </a:rPr>
                <a:t>(-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th-TH" sz="2400" spc="-1" strike="noStrike">
                  <a:solidFill>
                    <a:srgbClr val="000000"/>
                  </a:solidFill>
                  <a:latin typeface="Times New Roman"/>
                </a:rPr>
                <a:t>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73600" y="3292200"/>
              <a:ext cx="1592280" cy="34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24960" y="3286080"/>
              <a:ext cx="878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73600" y="3641760"/>
              <a:ext cx="1592280" cy="30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84960" y="3292200"/>
              <a:ext cx="1592280" cy="34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36320" y="3286080"/>
              <a:ext cx="878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84960" y="3641760"/>
              <a:ext cx="1592280" cy="30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95960" y="3292200"/>
              <a:ext cx="1592280" cy="34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47320" y="3286080"/>
              <a:ext cx="878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95960" y="3641760"/>
              <a:ext cx="1592280" cy="30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8600" y="3273480"/>
              <a:ext cx="205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9120" y="3273480"/>
              <a:ext cx="259740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6520" y="3273480"/>
              <a:ext cx="205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67040" y="3273480"/>
              <a:ext cx="9874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54520" y="327348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73600" y="3273480"/>
              <a:ext cx="15922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65880" y="327348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84960" y="3273480"/>
              <a:ext cx="15922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77240" y="3273480"/>
              <a:ext cx="187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95960" y="3273480"/>
              <a:ext cx="15922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688240" y="327348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8600" y="3292200"/>
              <a:ext cx="20520" cy="6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46520" y="3292200"/>
              <a:ext cx="20520" cy="6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54520" y="3292200"/>
              <a:ext cx="19080" cy="6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65880" y="3292200"/>
              <a:ext cx="19080" cy="6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77240" y="3292200"/>
              <a:ext cx="18720" cy="6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688240" y="3292200"/>
              <a:ext cx="19080" cy="6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28320" y="3957480"/>
              <a:ext cx="662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0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73600" y="3963960"/>
              <a:ext cx="1592280" cy="34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24960" y="3957480"/>
              <a:ext cx="878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73600" y="4313160"/>
              <a:ext cx="159228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84960" y="3963960"/>
              <a:ext cx="1592280" cy="34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08400" y="3957480"/>
              <a:ext cx="534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84960" y="4313160"/>
              <a:ext cx="159228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095960" y="3963960"/>
              <a:ext cx="1592280" cy="34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47320" y="3957480"/>
              <a:ext cx="878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95960" y="4313160"/>
              <a:ext cx="159228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394488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46520" y="394488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67040" y="3944880"/>
              <a:ext cx="9874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54520" y="39448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73600" y="3944880"/>
              <a:ext cx="15922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65880" y="39448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84960" y="3944880"/>
              <a:ext cx="15922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77240" y="3944880"/>
              <a:ext cx="18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95960" y="3944880"/>
              <a:ext cx="15922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688240" y="394488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8600" y="3963960"/>
              <a:ext cx="2052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46520" y="3963960"/>
              <a:ext cx="2052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54520" y="3963960"/>
              <a:ext cx="1908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65880" y="3963960"/>
              <a:ext cx="1908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77240" y="3963960"/>
              <a:ext cx="1872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688240" y="3963960"/>
              <a:ext cx="1908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0520" y="3997080"/>
              <a:ext cx="2227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00"/>
                  </a:solidFill>
                  <a:latin typeface="Times New Roman"/>
                </a:rPr>
                <a:t>Int. Rate Chan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40480" y="4628880"/>
              <a:ext cx="835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00"/>
                  </a:solidFill>
                  <a:latin typeface="Times New Roman"/>
                </a:rPr>
                <a:t>(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th-TH" sz="2400" spc="-1" strike="noStrike">
                  <a:solidFill>
                    <a:srgbClr val="000000"/>
                  </a:solidFill>
                  <a:latin typeface="Times New Roman"/>
                </a:rPr>
                <a:t>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73600" y="4635360"/>
              <a:ext cx="1592280" cy="34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24960" y="4628880"/>
              <a:ext cx="878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73600" y="4984560"/>
              <a:ext cx="159228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84960" y="4635360"/>
              <a:ext cx="1592280" cy="34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36320" y="4628880"/>
              <a:ext cx="878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84960" y="4984560"/>
              <a:ext cx="159228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95960" y="4635360"/>
              <a:ext cx="1592280" cy="34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447320" y="4628880"/>
              <a:ext cx="878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95960" y="4984560"/>
              <a:ext cx="159228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8600" y="461484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846520" y="461484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67040" y="4614840"/>
              <a:ext cx="9874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54520" y="461484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73600" y="4614840"/>
              <a:ext cx="15922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65880" y="461484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484960" y="4614840"/>
              <a:ext cx="15922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077240" y="4614840"/>
              <a:ext cx="187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95960" y="4614840"/>
              <a:ext cx="15922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688240" y="461484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8600" y="4635360"/>
              <a:ext cx="2052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8600" y="528624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600" y="528624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49120" y="5286240"/>
              <a:ext cx="259740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46520" y="4635360"/>
              <a:ext cx="2052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46520" y="528624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67040" y="5286240"/>
              <a:ext cx="9874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54520" y="4635360"/>
              <a:ext cx="1908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54520" y="528624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73600" y="5286240"/>
              <a:ext cx="15922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65880" y="4635360"/>
              <a:ext cx="1908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65880" y="528624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84960" y="5286240"/>
              <a:ext cx="15922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77240" y="4635360"/>
              <a:ext cx="1872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77240" y="5286240"/>
              <a:ext cx="187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95960" y="5286240"/>
              <a:ext cx="15922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688240" y="4635360"/>
              <a:ext cx="1908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688240" y="528624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688240" y="528624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43080" y="5529240"/>
            <a:ext cx="3164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</a:rPr>
              <a:t>Worst Cas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</a:rPr>
              <a:t> P/L Scen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8200" y="5529240"/>
            <a:ext cx="805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XXX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3800" y="5843520"/>
            <a:ext cx="177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</a:rPr>
              <a:t>Limit Alloc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8200" y="5843520"/>
            <a:ext cx="805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YY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44160" y="6157800"/>
            <a:ext cx="1184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age (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103640" y="6157800"/>
            <a:ext cx="512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</a:rPr>
              <a:t>xx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2720" y="6472080"/>
            <a:ext cx="77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191120" y="3733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15000" y="4038480"/>
            <a:ext cx="11430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D Matrix 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Interest rate sensitivity limits (PV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rate derivative risk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FX risk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FX derivative risk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ty risk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MAT (Loss)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3632040"/>
            <a:ext cx="78487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X Trading 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limit is set by cur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gure for each currency is adjusted to be in line with BOT regulation regarding net FX 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457200" y="735120"/>
          <a:ext cx="8229600" cy="5483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5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rrenc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LTA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Overnight Position Limit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ADAY Lim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K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B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K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P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Z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K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G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Interest rate sensitivity limits (PV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rate derivative risk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FX risk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FX derivative risk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ty risk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MAT (Loss)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4233960"/>
            <a:ext cx="78487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X Derivative Ri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FXD delta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XD m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atrix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FXD rho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XD Delta 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FXD Delta shows the exposure when the exchange rate changes by 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Ess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a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lly, it is the net overnight position all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 for F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The limit is set by cur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1042920" y="2128680"/>
          <a:ext cx="7416720" cy="4043160"/>
        </p:xfrm>
        <a:graphic>
          <a:graphicData uri="http://schemas.openxmlformats.org/drawingml/2006/table">
            <a:tbl>
              <a:tblPr/>
              <a:tblGrid>
                <a:gridCol w="3157560"/>
                <a:gridCol w="425916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c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ta for Proprietary Transac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U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P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S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X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XD Delta 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XD </a:t>
            </a: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Matrix 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Shows the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ed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 profit and loss arising from market parameters i.e. FX spot and volatility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shifting b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Set against the worst case sce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arket Risk -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The risk of losses in on- and  off-balance sheet positions arising from movements in market pr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XD </a:t>
            </a: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Matrix 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228600" y="1600200"/>
            <a:ext cx="8478720" cy="3740040"/>
            <a:chOff x="228600" y="1600200"/>
            <a:chExt cx="8478720" cy="3740040"/>
          </a:xfrm>
        </p:grpSpPr>
        <p:sp>
          <p:nvSpPr>
            <p:cNvPr id="254" name=""/>
            <p:cNvSpPr/>
            <p:nvPr/>
          </p:nvSpPr>
          <p:spPr>
            <a:xfrm>
              <a:off x="7673040" y="1600200"/>
              <a:ext cx="812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USD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80520" y="1976400"/>
              <a:ext cx="2778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X Volatility Chan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8600" y="196380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8600" y="196380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9120" y="1963800"/>
              <a:ext cx="360540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54520" y="196380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73600" y="1963800"/>
              <a:ext cx="481464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688240" y="196380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688240" y="196380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8600" y="1984320"/>
              <a:ext cx="2052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854520" y="1984320"/>
              <a:ext cx="1908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688240" y="1984320"/>
              <a:ext cx="1908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37440" y="2332080"/>
              <a:ext cx="2186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X P/L Matri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282200" y="2647800"/>
              <a:ext cx="763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00"/>
                  </a:solidFill>
                  <a:latin typeface="Times New Roman"/>
                </a:rPr>
                <a:t>(-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th-TH" sz="2400" spc="-1" strike="noStrike">
                  <a:solidFill>
                    <a:srgbClr val="000000"/>
                  </a:solidFill>
                  <a:latin typeface="Times New Roman"/>
                </a:rPr>
                <a:t>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34880" y="2647800"/>
              <a:ext cx="662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0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471440" y="2647800"/>
              <a:ext cx="835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00"/>
                  </a:solidFill>
                  <a:latin typeface="Times New Roman"/>
                </a:rPr>
                <a:t>(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th-TH" sz="2400" spc="-1" strike="noStrike">
                  <a:solidFill>
                    <a:srgbClr val="000000"/>
                  </a:solidFill>
                  <a:latin typeface="Times New Roman"/>
                </a:rPr>
                <a:t>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28600" y="263520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54520" y="26352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73600" y="2635200"/>
              <a:ext cx="15922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5880" y="26352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84960" y="2635200"/>
              <a:ext cx="15922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77240" y="2635200"/>
              <a:ext cx="18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095960" y="2635200"/>
              <a:ext cx="15922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688240" y="263520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8600" y="2654280"/>
              <a:ext cx="20520" cy="6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854520" y="2654280"/>
              <a:ext cx="19080" cy="6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465880" y="2654280"/>
              <a:ext cx="19080" cy="6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77240" y="2654280"/>
              <a:ext cx="18720" cy="6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688240" y="2654280"/>
              <a:ext cx="19080" cy="6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73960" y="3319560"/>
              <a:ext cx="763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00"/>
                  </a:solidFill>
                  <a:latin typeface="Times New Roman"/>
                </a:rPr>
                <a:t>(-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th-TH" sz="2400" spc="-1" strike="noStrike">
                  <a:solidFill>
                    <a:srgbClr val="000000"/>
                  </a:solidFill>
                  <a:latin typeface="Times New Roman"/>
                </a:rPr>
                <a:t>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73600" y="3325680"/>
              <a:ext cx="1592280" cy="34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24960" y="3319560"/>
              <a:ext cx="878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73600" y="3675240"/>
              <a:ext cx="1592280" cy="30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84960" y="3325680"/>
              <a:ext cx="1592280" cy="34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836320" y="3319560"/>
              <a:ext cx="878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484960" y="3675240"/>
              <a:ext cx="1592280" cy="30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095960" y="3325680"/>
              <a:ext cx="1592280" cy="34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447320" y="3319560"/>
              <a:ext cx="878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95960" y="3675240"/>
              <a:ext cx="1592280" cy="30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28600" y="3306960"/>
              <a:ext cx="205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49120" y="3306960"/>
              <a:ext cx="259740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846520" y="3306960"/>
              <a:ext cx="205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867040" y="3306960"/>
              <a:ext cx="9874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54520" y="330696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73600" y="3306960"/>
              <a:ext cx="15922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65880" y="330696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84960" y="3306960"/>
              <a:ext cx="15922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077240" y="3306960"/>
              <a:ext cx="187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95960" y="3306960"/>
              <a:ext cx="15922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688240" y="3306960"/>
              <a:ext cx="1908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28600" y="3325680"/>
              <a:ext cx="20520" cy="6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846520" y="3325680"/>
              <a:ext cx="20520" cy="6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54520" y="3325680"/>
              <a:ext cx="19080" cy="6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465880" y="3325680"/>
              <a:ext cx="19080" cy="6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77240" y="3325680"/>
              <a:ext cx="18720" cy="6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688240" y="3325680"/>
              <a:ext cx="19080" cy="652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15640" y="3990960"/>
              <a:ext cx="662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0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73600" y="3997440"/>
              <a:ext cx="1592280" cy="34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224960" y="3990960"/>
              <a:ext cx="878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73600" y="4346640"/>
              <a:ext cx="159228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484960" y="3997440"/>
              <a:ext cx="1592280" cy="34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916960" y="3990960"/>
              <a:ext cx="534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484960" y="4346640"/>
              <a:ext cx="159228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95960" y="3997440"/>
              <a:ext cx="1592280" cy="34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447320" y="3990960"/>
              <a:ext cx="878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95960" y="4346640"/>
              <a:ext cx="159228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28600" y="397836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46520" y="3978360"/>
              <a:ext cx="205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67040" y="3978360"/>
              <a:ext cx="9874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854520" y="397836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873600" y="3978360"/>
              <a:ext cx="15922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465880" y="397836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484960" y="3978360"/>
              <a:ext cx="15922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077240" y="3978360"/>
              <a:ext cx="18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095960" y="3978360"/>
              <a:ext cx="15922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688240" y="3978360"/>
              <a:ext cx="1908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8600" y="3997440"/>
              <a:ext cx="2052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846520" y="3997440"/>
              <a:ext cx="2052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54520" y="3997440"/>
              <a:ext cx="1908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65880" y="3997440"/>
              <a:ext cx="1908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077240" y="3997440"/>
              <a:ext cx="1872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688240" y="3997440"/>
              <a:ext cx="1908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1240" y="4030560"/>
              <a:ext cx="2149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X Spot Chan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40480" y="4662360"/>
              <a:ext cx="835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00"/>
                  </a:solidFill>
                  <a:latin typeface="Times New Roman"/>
                </a:rPr>
                <a:t>(+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th-TH" sz="2400" spc="-1" strike="noStrike">
                  <a:solidFill>
                    <a:srgbClr val="000000"/>
                  </a:solidFill>
                  <a:latin typeface="Times New Roman"/>
                </a:rPr>
                <a:t>%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73600" y="4668840"/>
              <a:ext cx="1592280" cy="34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224960" y="4662360"/>
              <a:ext cx="878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873600" y="5018040"/>
              <a:ext cx="159228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84960" y="4668840"/>
              <a:ext cx="1592280" cy="34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836320" y="4662360"/>
              <a:ext cx="878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484960" y="5018040"/>
              <a:ext cx="159228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095960" y="4668840"/>
              <a:ext cx="1592280" cy="34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447320" y="4662360"/>
              <a:ext cx="878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095960" y="5018040"/>
              <a:ext cx="159228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600" y="46483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846520" y="46483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867040" y="4648320"/>
              <a:ext cx="9874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854520" y="464832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873600" y="4648320"/>
              <a:ext cx="15922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65880" y="464832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484960" y="4648320"/>
              <a:ext cx="15922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077240" y="4648320"/>
              <a:ext cx="187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095960" y="4648320"/>
              <a:ext cx="15922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688240" y="464832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8600" y="4668840"/>
              <a:ext cx="2052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28600" y="53197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" y="53197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9120" y="5319720"/>
              <a:ext cx="259740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46520" y="4668840"/>
              <a:ext cx="2052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846520" y="5319720"/>
              <a:ext cx="205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67040" y="5319720"/>
              <a:ext cx="9874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54520" y="4668840"/>
              <a:ext cx="1908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54520" y="531972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873600" y="5319720"/>
              <a:ext cx="15922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65880" y="4668840"/>
              <a:ext cx="1908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5880" y="531972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484960" y="5319720"/>
              <a:ext cx="15922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77240" y="4668840"/>
              <a:ext cx="1872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077240" y="5319720"/>
              <a:ext cx="187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095960" y="5319720"/>
              <a:ext cx="15922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688240" y="4668840"/>
              <a:ext cx="19080" cy="65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688240" y="531972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688240" y="5319720"/>
              <a:ext cx="1908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191120" y="37339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715000" y="3987720"/>
            <a:ext cx="11430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XD Rho 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FXD Rho shows the exposure when interest rate changes by 1 basis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The limit is set by cur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The “Others” limit is proposed to capture the all possible exposure resulting from the option imperfect h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"/>
          <p:cNvGraphicFramePr/>
          <p:nvPr/>
        </p:nvGraphicFramePr>
        <p:xfrm>
          <a:off x="457200" y="1955880"/>
          <a:ext cx="8229600" cy="4646520"/>
        </p:xfrm>
        <a:graphic>
          <a:graphicData uri="http://schemas.openxmlformats.org/drawingml/2006/table">
            <a:tbl>
              <a:tblPr/>
              <a:tblGrid>
                <a:gridCol w="1109520"/>
                <a:gridCol w="1047960"/>
                <a:gridCol w="1046160"/>
                <a:gridCol w="1047600"/>
                <a:gridCol w="1047960"/>
                <a:gridCol w="1046160"/>
                <a:gridCol w="1136520"/>
                <a:gridCol w="747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es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O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1 bp shift in interest rate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US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6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P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X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XD Rho 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Interest rate sensitivity limits (PV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rate derivative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FX risk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FX derivative risk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ty risk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MAT (Loss)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4809960"/>
            <a:ext cx="78487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ty Risk 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ximum portfolio size is should be capp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ntration limit for each industry is sugges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igible equities for trading should only be those listed in the Stock Exchange of Thailand (SE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Interest rate sensitivity limits (PV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rate derivative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FX risk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FX derivative risk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ty risk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MAT (Loss)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57200" y="5483160"/>
            <a:ext cx="78487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AT (Loss) Lim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The limit is set for the whole business not by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ily Li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B XXX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nthly Li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B XXX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early Lim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B XXX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ch Approving Autho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uthorised person who can approve the breach as per the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a committee (RMC) or a single person or a joint-appro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614680" y="351000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145200" y="351000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245360" y="38149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614680" y="4118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14680" y="4118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145200" y="4118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o be audit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and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614680" y="351000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145200" y="351000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245360" y="38149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614680" y="4118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614680" y="4118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145200" y="4118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ormal and approved policy from the BOD or an committee having the delegation from the B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ing book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ng book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Risk Book Structure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ment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614680" y="351000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145200" y="351000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245360" y="38149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614680" y="4118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614680" y="4118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45200" y="4118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nents of Market Ri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048120"/>
            <a:ext cx="213372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r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1676520"/>
            <a:ext cx="4800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est Rate-Relat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trading bo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2819520"/>
            <a:ext cx="48006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quity Position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trading bo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3962520"/>
            <a:ext cx="48006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eign Exchang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throughout the ba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5105520"/>
            <a:ext cx="4800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odities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throughout the ba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6480" y="2133720"/>
            <a:ext cx="0" cy="345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22520" y="3860640"/>
            <a:ext cx="71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51160" y="2133720"/>
            <a:ext cx="719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51160" y="4441680"/>
            <a:ext cx="719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51160" y="5589720"/>
            <a:ext cx="719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51160" y="3289320"/>
            <a:ext cx="719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cy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lete limit structure commensurate with the trading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conciliation of VaR and limit fig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ler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action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oint deem necessary etc off-premise trading or after-hour trading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614680" y="351000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145200" y="351000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245360" y="38149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614680" y="4118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614680" y="4118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145200" y="4118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and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point is the segregation of duty between treasury, risk monitoring and back office so that any unusual activity can be tracked and reported independen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614680" y="351000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145200" y="351000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245360" y="38149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614680" y="4118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614680" y="4118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45200" y="4118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 a system to capture the de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not be just a deal capturing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able to provide the information pertaining to market risk manag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614680" y="351000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145200" y="351000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245360" y="38149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614680" y="4118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614680" y="4118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145200" y="411804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Interest rate sensitivity limits (PV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 rate derivative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FX risk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FX derivative risk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ty risk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  <a:ea typeface="Arial"/>
              </a:rPr>
              <a:t>MAT (Loss) li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892160"/>
            <a:ext cx="78487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-at-Ri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-at-Risk (VaR) figure postulates the maximum losses that will occur by the pre-determined period (normally is one business day) with certain probability (normally is 95% or 99%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-at-Ri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4000" y="2103480"/>
          <a:ext cx="8496000" cy="3816360"/>
        </p:xfrm>
        <a:graphic>
          <a:graphicData uri="http://schemas.openxmlformats.org/drawingml/2006/table">
            <a:tbl>
              <a:tblPr/>
              <a:tblGrid>
                <a:gridCol w="5554440"/>
                <a:gridCol w="2941560"/>
              </a:tblGrid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Limit Typ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Limit Figu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Total Diversified V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XX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Total FX Risk V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XX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Total Interest Rate Risk V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XX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Total Equity Price Risk V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Cordia New"/>
                        </a:rPr>
                        <a:t>XX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-at-Risk: A Back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 Testing is to compare VaR generated by the risk system and the daily profit/losses to determine the accuracy of the internal mod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 will determine the bank’s plus factor, ranging from 0-1, if the bank choose the internal model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ue-at-Risk: A Stress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ss testing of the trading book is to monitor and control the potential losses arising from extreme but plausible ev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hock must cover both linear risk i.e. rate or price change and non-linear risk i.e. volatility change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01:28:36Z</dcterms:created>
  <dc:creator>bay_user</dc:creator>
  <dc:description/>
  <dc:language>en-US</dc:language>
  <cp:lastModifiedBy>bay_user</cp:lastModifiedBy>
  <dcterms:modified xsi:type="dcterms:W3CDTF">2007-06-07T01:42:40Z</dcterms:modified>
  <cp:revision>203</cp:revision>
  <dc:subject/>
  <dc:title>Market Risk Policy</dc:title>
</cp:coreProperties>
</file>