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3DBF-E1D2-41DE-A4D0-F895A8D85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0.xml"/><Relationship Id="rId4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1.xml"/><Relationship Id="rId4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4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4.xml"/><Relationship Id="rId4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5.xml"/><Relationship Id="rId4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7.xml"/><Relationship Id="rId4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9.xml"/><Relationship Id="rId4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0.xml"/><Relationship Id="rId4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1.xml"/><Relationship Id="rId4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2.xml"/><Relationship Id="rId4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3.xml"/><Relationship Id="rId4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4.xml"/><Relationship Id="rId4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5.xml"/><Relationship Id="rId4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6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EB6-4077-4A9B-9E71-6FCD0C19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396-A246-45E2-85B6-5CC07DDC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CEA-F93F-482A-AE99-C32348A1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367-5A56-4A7D-B887-D5692CB7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87F-D500-40A6-B934-4A8AD0EB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66D-C0DA-49DB-8729-1E94426F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EA5-E1E7-4EFD-BFD7-4CD66D51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31C-BADE-4580-9254-69DA889F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E48-702A-4528-B478-C4C0471D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DB8-13E3-4348-A9F1-32A50F9A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661-C01F-42DD-B71F-5698487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5FE-CB82-4335-A752-929ADAA7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9E12-D84A-466F-B624-BB3AE748E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rket Risk 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48904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V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V01 shows the current position exposure when the underly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 parall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hifts by 1 basis point (0.01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for the following interest 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.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D, TH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14800" y="3276720"/>
            <a:ext cx="9144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0" y="1874880"/>
                <a:ext cx="91440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ond Valu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2630520" y="5562720"/>
            <a:ext cx="144147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Interest Rate Sensitivity (PV01) = Bond Value1 - Bond Value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V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57200" y="274680"/>
          <a:ext cx="8229600" cy="6200640"/>
        </p:xfrm>
        <a:graphic>
          <a:graphicData uri="http://schemas.openxmlformats.org/drawingml/2006/table">
            <a:tbl>
              <a:tblPr/>
              <a:tblGrid>
                <a:gridCol w="841320"/>
                <a:gridCol w="979560"/>
                <a:gridCol w="898560"/>
                <a:gridCol w="896760"/>
                <a:gridCol w="897120"/>
                <a:gridCol w="896760"/>
                <a:gridCol w="897120"/>
                <a:gridCol w="1041480"/>
                <a:gridCol w="88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B mm.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ur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7332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 Rate Deriv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D gamma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D vega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D matrix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Gamm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 limit measures the rate of change of the portfolio delta to changes in interest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ift could be set to express the effect of a 1 basis point increase in the underlying interes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Gamm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5240" y="1295280"/>
            <a:ext cx="89643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Veg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a limit is set to control the amount of exposure to shifts in vola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mits are placed on the movement in P&amp;L that will result from a 1% absolute move in the volatility of the underlying interest rate derivativ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Veg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359000"/>
            <a:ext cx="871380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sury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e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Matrix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ws the profit and loss arising from market parameters i.e. Interest Rate and volatility, shifting by a% and b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t against the worst case 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8600" y="1566720"/>
            <a:ext cx="8478720" cy="3740040"/>
            <a:chOff x="228600" y="1566720"/>
            <a:chExt cx="8478720" cy="3740040"/>
          </a:xfrm>
        </p:grpSpPr>
        <p:sp>
          <p:nvSpPr>
            <p:cNvPr id="103" name=""/>
            <p:cNvSpPr/>
            <p:nvPr/>
          </p:nvSpPr>
          <p:spPr>
            <a:xfrm>
              <a:off x="7707240" y="1566720"/>
              <a:ext cx="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0160" y="1942920"/>
              <a:ext cx="284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. Volatility 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1930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" y="1930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120" y="1930320"/>
              <a:ext cx="36054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4520" y="1930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3600" y="1930320"/>
              <a:ext cx="48146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8240" y="1930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88240" y="1930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" y="19508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54520" y="1950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88240" y="1950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51840" y="2298600"/>
              <a:ext cx="211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R P/L Matr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82560" y="2614320"/>
              <a:ext cx="78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-b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7560" y="2614320"/>
              <a:ext cx="66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71800" y="2614320"/>
              <a:ext cx="85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+b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" y="260172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4520" y="2601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73600" y="260172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65880" y="2601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4960" y="260172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7240" y="260172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95960" y="260172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88240" y="2601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62080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4520" y="26208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65880" y="26208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77240" y="2620800"/>
              <a:ext cx="187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88240" y="26208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3960" y="3286080"/>
              <a:ext cx="76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-a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73600" y="329220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24960" y="32860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73600" y="364176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4960" y="329220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6320" y="32860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84960" y="364176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95960" y="329220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47320" y="32860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5960" y="364176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273480"/>
              <a:ext cx="20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9120" y="3273480"/>
              <a:ext cx="2597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6520" y="3273480"/>
              <a:ext cx="20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7040" y="3273480"/>
              <a:ext cx="9874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54520" y="32734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73600" y="327348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65880" y="32734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84960" y="327348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7240" y="3273480"/>
              <a:ext cx="18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95960" y="327348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88240" y="32734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" y="329220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6520" y="329220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54520" y="32922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65880" y="32922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77240" y="3292200"/>
              <a:ext cx="187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88240" y="32922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28320" y="3957480"/>
              <a:ext cx="66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73600" y="39639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4960" y="39574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73600" y="43131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4960" y="39639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08400" y="395748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4960" y="43131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95960" y="39639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47320" y="39574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95960" y="43131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394488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46520" y="394488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67040" y="3944880"/>
              <a:ext cx="9874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4520" y="3944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73600" y="394488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5880" y="3944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4960" y="394488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77240" y="394488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95960" y="394488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88240" y="3944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600" y="396396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6520" y="396396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4520" y="39639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65880" y="39639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77240" y="3963960"/>
              <a:ext cx="187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88240" y="39639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0520" y="3997080"/>
              <a:ext cx="22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. Rate 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40480" y="4628880"/>
              <a:ext cx="83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+a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73600" y="46353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24960" y="46288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73600" y="49845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4960" y="46353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36320" y="46288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4960" y="49845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95960" y="46353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47320" y="46288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95960" y="49845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46148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46520" y="46148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67040" y="4614840"/>
              <a:ext cx="9874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4520" y="46148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73600" y="46148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5880" y="46148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4960" y="46148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77240" y="4614840"/>
              <a:ext cx="18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95960" y="46148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88240" y="46148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463536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" y="52862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2862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9120" y="5286240"/>
              <a:ext cx="25974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6520" y="463536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46520" y="52862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67040" y="5286240"/>
              <a:ext cx="9874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54520" y="46353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4520" y="52862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73600" y="52862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65880" y="46353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65880" y="52862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84960" y="52862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77240" y="4635360"/>
              <a:ext cx="187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77240" y="5286240"/>
              <a:ext cx="18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95960" y="52862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88240" y="46353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88240" y="52862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88240" y="52862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43440" y="5529240"/>
            <a:ext cx="316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 Case IR P/L Scen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8200" y="5529240"/>
            <a:ext cx="80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3800" y="5843520"/>
            <a:ext cx="177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 Alloc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8200" y="5843520"/>
            <a:ext cx="80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YY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4160" y="6157800"/>
            <a:ext cx="1184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 (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03640" y="6157800"/>
            <a:ext cx="51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720" y="6472080"/>
            <a:ext cx="77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403848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Matrix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63204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 Trading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set by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gure for each currency is adjusted to be in line with BOT regulation regarding net FX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457200" y="735120"/>
          <a:ext cx="8229600" cy="5483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TA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Overnight Position Limi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DAY Lim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K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B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Z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4233960"/>
            <a:ext cx="7848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 Derivative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D delta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D matrix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D rho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Delt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D Delta shows the exposure when the exchange rate changes by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ly, it is the net overnight position a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or F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set by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042920" y="2128680"/>
          <a:ext cx="7416720" cy="4043160"/>
        </p:xfrm>
        <a:graphic>
          <a:graphicData uri="http://schemas.openxmlformats.org/drawingml/2006/table">
            <a:tbl>
              <a:tblPr/>
              <a:tblGrid>
                <a:gridCol w="3157560"/>
                <a:gridCol w="42591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 for Proprietary Trans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Delt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Matrix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ws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ofit and loss arising from market parameters i.e. FX spot and volatility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ifting by a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 against the worst case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rket Risk -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k of losses in on- and  off-balance sheet positions arising from movements in market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Matrix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8600" y="1600200"/>
            <a:ext cx="8478720" cy="3740040"/>
            <a:chOff x="228600" y="1600200"/>
            <a:chExt cx="8478720" cy="3740040"/>
          </a:xfrm>
        </p:grpSpPr>
        <p:sp>
          <p:nvSpPr>
            <p:cNvPr id="254" name=""/>
            <p:cNvSpPr/>
            <p:nvPr/>
          </p:nvSpPr>
          <p:spPr>
            <a:xfrm>
              <a:off x="7673040" y="1600200"/>
              <a:ext cx="81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US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80520" y="1976400"/>
              <a:ext cx="2778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X Volatility 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" y="19638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" y="19638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9120" y="1963800"/>
              <a:ext cx="36054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54520" y="196380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73600" y="1963800"/>
              <a:ext cx="48146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88240" y="196380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88240" y="196380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600" y="198432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54520" y="198432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88240" y="198432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37440" y="2332080"/>
              <a:ext cx="2186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X P/L Matr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1840" y="2647800"/>
              <a:ext cx="76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-a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34880" y="2647800"/>
              <a:ext cx="66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71440" y="2647800"/>
              <a:ext cx="83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+a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8600" y="2635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54520" y="2635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73600" y="263520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5880" y="2635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84960" y="263520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77240" y="263520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95960" y="263520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88240" y="2635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" y="265428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54520" y="26542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65880" y="26542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77240" y="2654280"/>
              <a:ext cx="187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8240" y="26542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73960" y="3319560"/>
              <a:ext cx="76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-a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73600" y="332568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4960" y="33195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73600" y="367524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84960" y="332568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36320" y="33195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4960" y="367524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95960" y="332568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47320" y="33195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95960" y="367524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" y="3306960"/>
              <a:ext cx="20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9120" y="3306960"/>
              <a:ext cx="2597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46520" y="3306960"/>
              <a:ext cx="20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67040" y="3306960"/>
              <a:ext cx="9874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54520" y="330696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73600" y="330696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65880" y="330696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84960" y="330696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77240" y="3306960"/>
              <a:ext cx="18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95960" y="330696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88240" y="330696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" y="332568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46520" y="332568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4520" y="33256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65880" y="33256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77240" y="3325680"/>
              <a:ext cx="187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88240" y="33256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15640" y="3990960"/>
              <a:ext cx="66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73600" y="39974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24960" y="39909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73600" y="43466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84960" y="39974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16960" y="399096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4960" y="43466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95960" y="39974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47320" y="39909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95960" y="43466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" y="3978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46520" y="3978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67040" y="3978360"/>
              <a:ext cx="9874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54520" y="3978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3600" y="397836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65880" y="3978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84960" y="397836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77240" y="397836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95960" y="397836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88240" y="3978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600" y="39974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6520" y="39974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54520" y="39974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5880" y="39974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77240" y="3997440"/>
              <a:ext cx="187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88240" y="39974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1240" y="4030560"/>
              <a:ext cx="214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X Spot 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40480" y="4662360"/>
              <a:ext cx="83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+a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73600" y="46688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24960" y="46623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73600" y="50180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4960" y="46688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36320" y="46623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84960" y="50180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95960" y="46688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47320" y="46623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95960" y="50180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" y="4648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46520" y="4648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67040" y="4648320"/>
              <a:ext cx="9874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54520" y="4648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73600" y="46483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5880" y="4648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84960" y="46483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77240" y="4648320"/>
              <a:ext cx="18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95960" y="46483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688240" y="4648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" y="46688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531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531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120" y="5319720"/>
              <a:ext cx="25974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6520" y="46688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46520" y="531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67040" y="5319720"/>
              <a:ext cx="9874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54520" y="4668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54520" y="53197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73600" y="53197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65880" y="4668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5880" y="53197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84960" y="53197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7240" y="4668840"/>
              <a:ext cx="187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77240" y="5319720"/>
              <a:ext cx="18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5960" y="53197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688240" y="4668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88240" y="53197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88240" y="53197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911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398772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Rho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D Rho shows the exposure when interest rate changes by 1 basis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set by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The “Others” limit is proposed to capture the all possible exposure resulting from the option imperfect h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57200" y="1955880"/>
          <a:ext cx="8229600" cy="4646520"/>
        </p:xfrm>
        <a:graphic>
          <a:graphicData uri="http://schemas.openxmlformats.org/drawingml/2006/table">
            <a:tbl>
              <a:tblPr/>
              <a:tblGrid>
                <a:gridCol w="1109520"/>
                <a:gridCol w="1047960"/>
                <a:gridCol w="1046160"/>
                <a:gridCol w="1047600"/>
                <a:gridCol w="1047960"/>
                <a:gridCol w="1046160"/>
                <a:gridCol w="1136520"/>
                <a:gridCol w="74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 bp shift in interest rat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U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Rho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480996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ty Risk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ximum portfolio size is should be c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limit for each industry is sugge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igible equities for trading should only be those listed in the Stock Exchange of Thailand (SE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548316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set for the whole business not by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ily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B XXX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hly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B XXX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early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B XXX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ch Approving Auth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sed person who can approve the breach as per th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a committee (RMC) or a single person or a joint-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be audi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al and approved policy from the BOD or an committee having the delegation from the B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 book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book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Risk Book Structur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 of Marke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048120"/>
            <a:ext cx="21337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1676520"/>
            <a:ext cx="4800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t Rate-Relat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rading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819520"/>
            <a:ext cx="4800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ty Posi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rading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62520"/>
            <a:ext cx="4800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eign Exchang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hroughout the ba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5105520"/>
            <a:ext cx="4800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dities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hroughout the ba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6480" y="2133720"/>
            <a:ext cx="0" cy="345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2520" y="386064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51160" y="213372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51160" y="44416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1160" y="558972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51160" y="328932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lete limit structure commensurate with the trading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onciliation of VaR and limit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e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int deem necessary etc off-premise trading or after-hour trading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and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 is the segregation of duty between treasury, risk monitoring and back office so that any unusual activity can be tracked and reported independ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 system to capture the d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not be just a deal captu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ble to provide the information pertaining to market risk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9216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t-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-at-Risk (VaR) figure postulates the maximum losses that will occur by the pre-determined period (normally is one business day) with certain probability (normally is 95% or 99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t-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103480"/>
          <a:ext cx="8496000" cy="3816360"/>
        </p:xfrm>
        <a:graphic>
          <a:graphicData uri="http://schemas.openxmlformats.org/drawingml/2006/table">
            <a:tbl>
              <a:tblPr/>
              <a:tblGrid>
                <a:gridCol w="5554440"/>
                <a:gridCol w="29415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Limit 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Limit Fig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 Diversified V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 FX Risk V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 Interest Rate Risk V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 Equity Price Risk V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t-Risk: A Back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esting is to compare VaR generated by the risk system and the daily profit/losses to determine the accuracy of the intern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will determine the bank’s plus factor, ranging from 0-1, if the bank choose the internal mode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t-Risk: A Stres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 testing of the trading book is to monitor and control the potential losses arising from extreme but plausible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ock must cover both linear risk i.e. rate or price change and non-linear risk i.e. volatility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28:36Z</dcterms:created>
  <dc:creator>bay_user</dc:creator>
  <dc:description/>
  <dc:language>en-US</dc:language>
  <cp:lastModifiedBy>Master</cp:lastModifiedBy>
  <dcterms:modified xsi:type="dcterms:W3CDTF">2007-06-20T01:10:27Z</dcterms:modified>
  <cp:revision>203</cp:revision>
  <dc:subject/>
  <dc:title>Market Risk Policy</dc:title>
</cp:coreProperties>
</file>