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EA39-7B4B-48CC-885A-864A40C00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DFF4-E3C1-4327-9F7B-21D8E652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9D58-B238-4D27-911E-44D718B21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7508-ED3D-45BD-8CB3-925B56005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152F-0103-44BB-93A5-0249F023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E4E5-0523-4E13-9F4B-48A3D6BE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92CB-7671-44B9-9EAC-BA243DEE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05A5-D587-4E80-84CF-AD736C09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1FA9-361C-475B-BCB8-C05A0713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24DF-1AA7-4C37-B870-1241D7CE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6E32-0E3A-42FF-9EAD-67D7387F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A64B-3134-4E4A-8BAB-0407463C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F9F3-5B56-45FA-9640-9F7B602B9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ulib.wu.ac.th/vtls02/thai/requests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ngsana New"/>
              </a:rPr>
              <a:t>WORKSHOP HO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จิรพร   สุเมธีประสิทธิ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ผู้ช่วยกรรมการผู้จัด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สายงานบริหารเงินและความเสี่ย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E BANK OF THAI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Email Reques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64000" y="1916280"/>
            <a:ext cx="16286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11280" y="5229360"/>
            <a:ext cx="777708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Arial Unicode MS"/>
                <a:cs typeface="Arial Unicode MS"/>
              </a:rPr>
              <a:t>หลักการข้อที่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. 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ยึดหลักประสิทธิภาพ ประสิทธิผล ผลิตภาพ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18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3300"/>
                </a:solidFill>
                <a:uFillTx/>
                <a:latin typeface="Arial Unicode MS"/>
                <a:ea typeface="Arial Unicode MS"/>
              </a:rPr>
              <a:t>Effectiveness</a:t>
            </a:r>
            <a:r>
              <a:rPr b="1" lang="en-US" sz="20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 </a:t>
            </a:r>
            <a:r>
              <a:rPr b="1" lang="th-TH" sz="2000" spc="-1" strike="noStrike" u="sng">
                <a:solidFill>
                  <a:srgbClr val="ff3300"/>
                </a:solidFill>
                <a:uFillTx/>
                <a:latin typeface="Arial Unicode MS"/>
                <a:cs typeface="Arial Unicode MS"/>
              </a:rPr>
              <a:t>ประสิทธิผล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2000"/>
            </a:br>
            <a:r>
              <a:rPr b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ป็นความสัมพันธ์ระหว่าง </a:t>
            </a:r>
            <a:r>
              <a:rPr b="1" lang="en-US" sz="20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Out put</a:t>
            </a:r>
            <a:r>
              <a:rPr b="1" lang="th-TH" sz="20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 (</a:t>
            </a:r>
            <a:r>
              <a:rPr b="1" lang="th-TH" sz="20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ผลลัพธ์</a:t>
            </a:r>
            <a:r>
              <a:rPr b="1" lang="en-US" sz="20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) </a:t>
            </a:r>
            <a:r>
              <a:rPr b="1" lang="th-TH" sz="20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และ </a:t>
            </a:r>
            <a:r>
              <a:rPr b="1" lang="en-US" sz="20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Objective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วัตถุประสงค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โดยพิจารณาว่า ผลลัพธ์เป็นไปตามเป้าหมายหรือไม่ เช่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⊡ 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ป้าหมายต้องการบัตรเครดิต 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00 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ใบ แผนก ก ทำได้ 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00 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ใบ แผนก  ข ทำได้้ 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0 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ใบ </a:t>
            </a:r>
            <a:br>
              <a:rPr sz="2000"/>
            </a:br>
            <a:r>
              <a:rPr b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ไครมีประสิทธิผล </a:t>
            </a:r>
            <a:br>
              <a:rPr sz="2000"/>
            </a:br>
            <a:r>
              <a:rPr b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คำตอบคือแผนก ก เพราะ ก ทำได้ตามเป้าหมายที่กำหนด </a:t>
            </a:r>
            <a:br>
              <a:rPr sz="2000"/>
            </a:br>
            <a:r>
              <a:rPr b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ตัวอย่างดัชนีให้ดูตามการวัดเชิงปริมาณ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Quantit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3300"/>
                </a:solidFill>
                <a:uFillTx/>
                <a:latin typeface="Arial Unicode MS"/>
                <a:ea typeface="Arial Unicode MS"/>
              </a:rPr>
              <a:t>Efficiency</a:t>
            </a:r>
            <a:r>
              <a:rPr b="1" lang="en-US" sz="20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 </a:t>
            </a:r>
            <a:r>
              <a:rPr b="1" lang="th-TH" sz="2000" spc="-1" strike="noStrike" u="sng">
                <a:solidFill>
                  <a:srgbClr val="ff3300"/>
                </a:solidFill>
                <a:uFillTx/>
                <a:latin typeface="Arial Unicode MS"/>
                <a:cs typeface="Arial Unicode MS"/>
              </a:rPr>
              <a:t>ประสิทธิภาพ</a:t>
            </a:r>
            <a:r>
              <a:rPr b="1" lang="th-TH" sz="20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 </a:t>
            </a:r>
            <a:br>
              <a:rPr sz="2000"/>
            </a:br>
            <a:r>
              <a:rPr b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ป็นความสัมพันธ์ระหว่าง </a:t>
            </a:r>
            <a:r>
              <a:rPr b="1" lang="en-US" sz="20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In put </a:t>
            </a:r>
            <a:r>
              <a:rPr b="1" lang="th-TH" sz="20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และ </a:t>
            </a:r>
            <a:r>
              <a:rPr b="1" lang="en-US" sz="20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Out put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2000"/>
            </a:br>
            <a:r>
              <a:rPr b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โดยพิจารณาว่าผลลัพธ์ที่ได้ ใช้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 put 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ไปมากน้อยแค่ไหน ตัวอย่างเช่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แผนก ก ติดตามหนี้ได้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00 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ล้านบาท ใช้เวลาไป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 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ดือน </a:t>
            </a:r>
            <a:br>
              <a:rPr sz="2000"/>
            </a:br>
            <a:r>
              <a:rPr b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ส่วนแผนก ข ทำได้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0 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ล้านบาท ใช้เวลาไป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ดือน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000" spc="-1" strike="noStrike" u="sng">
                <a:solidFill>
                  <a:srgbClr val="ff3300"/>
                </a:solidFill>
                <a:uFillTx/>
                <a:latin typeface="Arial Unicode MS"/>
                <a:cs typeface="Arial Unicode MS"/>
              </a:rPr>
              <a:t>ทดสอ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แผนก ก กับ แผนก ข แผนกไหนมีประสิทธิภาพมากกว่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ฉล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ถ้าคิดเฉลี่ยต่อวันแล้วพบว่า แผนก ข มีอัตราผลลัพธ์ดีกว่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6421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Arial Unicode MS"/>
                <a:ea typeface="Arial Unicode MS"/>
              </a:rPr>
              <a:t>Productivity</a:t>
            </a:r>
            <a:r>
              <a:rPr b="1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 </a:t>
            </a:r>
            <a:r>
              <a:rPr b="1" lang="th-TH" sz="2400" spc="-1" strike="noStrike" u="sng">
                <a:solidFill>
                  <a:srgbClr val="ff3300"/>
                </a:solidFill>
                <a:uFillTx/>
                <a:latin typeface="Arial Unicode MS"/>
                <a:cs typeface="Arial Unicode MS"/>
              </a:rPr>
              <a:t>ผลิตภาพ 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ป็นความสัมพันธ์ </a:t>
            </a:r>
            <a:r>
              <a:rPr b="1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Out put </a:t>
            </a:r>
            <a:r>
              <a:rPr b="1" lang="th-TH" sz="2400" spc="-1" strike="noStrike">
                <a:solidFill>
                  <a:srgbClr val="ff3300"/>
                </a:solidFill>
                <a:latin typeface="Arial Unicode MS"/>
                <a:cs typeface="Arial Unicode MS"/>
              </a:rPr>
              <a:t>ต่อ </a:t>
            </a:r>
            <a:r>
              <a:rPr b="1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In put </a:t>
            </a:r>
            <a:r>
              <a:rPr b="1" lang="th-TH" sz="2400" spc="-1" strike="noStrike">
                <a:solidFill>
                  <a:srgbClr val="ff3300"/>
                </a:solidFill>
                <a:latin typeface="Arial Unicode MS"/>
                <a:cs typeface="Arial Unicode MS"/>
              </a:rPr>
              <a:t>หนึ่งหน่วย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โดยพิจารณาว่า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 put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นึ่งหน่วย สร้าง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 put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ได้กี่หน่วย ตัวอย่างดัชนี เช่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พนักงาน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คน อนุมัติสินเชื่อได้เดือนละกี่ราย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ff3300"/>
                </a:solidFill>
                <a:uFillTx/>
                <a:latin typeface="Arial Unicode MS"/>
                <a:cs typeface="Arial Unicode MS"/>
              </a:rPr>
              <a:t>ดัชนีวัดที่เกี่ยวข้องกับประสิทธิภาพ</a:t>
            </a:r>
            <a:r>
              <a:rPr b="1" lang="th-TH" sz="2400" spc="-1" strike="noStrike" u="sng">
                <a:solidFill>
                  <a:srgbClr val="ff3300"/>
                </a:solidFill>
                <a:uFillTx/>
                <a:latin typeface="Arial Unicode MS"/>
                <a:ea typeface="Arial Unicode MS"/>
              </a:rPr>
              <a:t>/</a:t>
            </a:r>
            <a:r>
              <a:rPr b="1" lang="th-TH" sz="2400" spc="-1" strike="noStrike" u="sng">
                <a:solidFill>
                  <a:srgbClr val="ff3300"/>
                </a:solidFill>
                <a:uFillTx/>
                <a:latin typeface="Arial Unicode MS"/>
                <a:cs typeface="Arial Unicode MS"/>
              </a:rPr>
              <a:t>ประสิทธิผล</a:t>
            </a:r>
            <a:r>
              <a:rPr b="1" lang="th-TH" sz="2400" spc="-1" strike="noStrike" u="sng">
                <a:solidFill>
                  <a:srgbClr val="ff3300"/>
                </a:solidFill>
                <a:uFillTx/>
                <a:latin typeface="Arial Unicode MS"/>
                <a:ea typeface="Arial Unicode MS"/>
              </a:rPr>
              <a:t>/</a:t>
            </a:r>
            <a:r>
              <a:rPr b="1" lang="th-TH" sz="2400" spc="-1" strike="noStrike" u="sng">
                <a:solidFill>
                  <a:srgbClr val="ff3300"/>
                </a:solidFill>
                <a:uFillTx/>
                <a:latin typeface="Arial Unicode MS"/>
                <a:cs typeface="Arial Unicode MS"/>
              </a:rPr>
              <a:t>ผลิตภาพ 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จะทำให้หน่วยงานนั้นมุ่งมั่นที่จะทำอย่างไ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ให้งานที่อยู่ในความรับผิดชอบบรรลุเป้าหมาย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ประสิทธิผล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โดยใช้ทรัพยากรให้น้อยที่สุด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ประสิทธิภาพ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จะส่งผลต่อกระบวนการถัดไป สามารถเริ่มงานได้ตามกำหนดเวลา 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ถ้าแต่ละกระบวนการ โดยเฉพาะที่เป็น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e process 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มุ่งมั่นที่จะบรรลุประสิทธิภาพและประสิทธิผล 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องค์กรโดยส่วนรวมก็จะสามารถที่ส่งมอบบริการให้แก่ลูกค้าได้ตามเป้าหมายแน่นอน 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โดยมีต้นทุนต่ำที่สุด 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ต้นทุนต่ำที่สุดควรมาจากประสิทธิภาพสูงที่สุด ไม่ใช่ตัดค่าใช้จ่ายจนกระทบการปฏิบัติหรือกระทบต่อคุณภาพ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ชั่วคราว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0: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3300"/>
                </a:solidFill>
                <a:latin typeface="Arial Unicode MS"/>
                <a:cs typeface="Arial Unicode MS"/>
              </a:rPr>
              <a:t>ทดสอ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ฝ่ายปฏิบัติการสินเชื่อ กำลังพิจารณาลดพนักงานตรวจสอบ เพราะต้องการลดต้นทุนค่าแรงงาน  แต่เกรงว่าเมื่อจำนวนพนักงานไม่พอ จะกระทบการให้บริการลูกค้า เช่น ตรวจสอบเอกสารก่อนทำนิติกรรมไม่ทัน  พิมพ์นิติกรรมไม่ทัน  พิจารณาตั้งวงเงินก็ช้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ประเด็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ก่อนการลดค่าใช้จ่ายผ่านการลดพนักงานจะต้องวิเคราะห์ในเรื่องใดก่อนทุกครั้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จงยกตัวอย่างมา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ประการก่อนตั้ง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PIs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ด้านนี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ff3300"/>
                </a:solidFill>
                <a:uFillTx/>
                <a:latin typeface="Arial Unicode MS"/>
                <a:cs typeface="Arial Unicode MS"/>
              </a:rPr>
              <a:t>เฉล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ลูกค้าที่ทำนิติกรรมจำนวนมาก ๆ จะเข้ามามากในช่วงไห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ส่วนใหญ่น่าจะเป็นเช้าเป็นส่วนใหญ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ดังนั้นฝ่ายงานอาจจะลดพนักงานประจำล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แล้วไปเพิ่มพนักงานชั่วคราวในช่วงครึ่งวันเช้า ที่ลูกค้ามามาก ๆ  การมีทีมงานพิเศษเฉพาะเวลา  ทำให้ทำงานในช่วงที่แน่น ไม่เกิดการว่างงานในช่วงไม่มีลูกค้า และไม่ต้องจ่ายเงินเดือนสำหรับช่วงบ่าย แถมไม่ต้องมีสวัสดิการให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PIs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คือการกำหนดสัดส่วนพนักงานประจำกับชั่วคราวที่เหมาะสม เช่น ควรมีสัดส่วนพนักงานชั่วคราว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คน ต่อพนักงานประจำ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ค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25080" cy="105264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Arial Unicode MS"/>
                <a:cs typeface="Arial Unicode MS"/>
              </a:rPr>
              <a:t>หลักการ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. 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ยึดหลัก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nufacturing Cycle Effectiveness(M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roughput time    =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rocessing time </a:t>
            </a:r>
            <a:br>
              <a:rPr sz="2000"/>
            </a:b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 Inspection time </a:t>
            </a:r>
            <a:br>
              <a:rPr sz="2000"/>
            </a:b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 Movement Time</a:t>
            </a:r>
            <a:br>
              <a:rPr sz="2000"/>
            </a:b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 Waiting/storag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ดัชนี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CE =  Processing 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roughpu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deal MCE  = 1 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แปลว่า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spection Movement &amp; Waiting/storage</a:t>
            </a:r>
            <a:br>
              <a:rPr sz="2000"/>
            </a:b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ime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3300"/>
                </a:solidFill>
                <a:latin typeface="Arial Unicode MS"/>
                <a:cs typeface="Arial Unicode MS"/>
              </a:rPr>
              <a:t>ดัชนี </a:t>
            </a:r>
            <a:r>
              <a:rPr b="1" lang="en-US" sz="20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MCE </a:t>
            </a:r>
            <a:br>
              <a:rPr sz="2000"/>
            </a:br>
            <a:r>
              <a:rPr b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ป็นความพยายามในการพัฒนาปรับปรุงกระบวนการ</a:t>
            </a:r>
            <a:br>
              <a:rPr sz="2000"/>
            </a:br>
            <a:r>
              <a:rPr b="1" lang="th-TH" sz="20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ให้มีการสูญเสียเวลาให้น้อยที่สุด เพราะถ้าลดเวลาสูญเสีย</a:t>
            </a:r>
            <a:r>
              <a:rPr b="1" lang="th-TH" sz="20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    </a:t>
            </a:r>
            <a:r>
              <a:rPr b="1" lang="th-TH" sz="20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แล้วเอาเวลานั้นมาเป็นเวลาที่ได้ผลผลิตหรือเรียกว่า </a:t>
            </a:r>
            <a:r>
              <a:rPr b="1" lang="en-US" sz="20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Processing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จะสามารถเพิ่มผลผลิตขึ้นได้โดยโดยไม่ต้องขยายอัตรากำลังเลย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i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บางฝ่ายงานมีชิ้นงานที่ต้อง </a:t>
            </a:r>
            <a:r>
              <a:rPr b="1" i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work 50% </a:t>
            </a:r>
            <a:r>
              <a:rPr b="1" i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ป็นคอขวด</a:t>
            </a:r>
            <a:r>
              <a:rPr b="1" i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Bottle ne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i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พียงแต่ลดเวลาสูญเสียที่ต้องทำงานซ้ำถึง </a:t>
            </a:r>
            <a:r>
              <a:rPr b="1" i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0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i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ฝ่ายนี้จะสามารถเพิ่มกำลังการผลิตผลงานบริการได้เท่าตัว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ff3300"/>
                </a:solidFill>
                <a:uFillTx/>
                <a:latin typeface="Arial Unicode MS"/>
                <a:cs typeface="Arial Unicode MS"/>
              </a:rPr>
              <a:t>ทดสอ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จงยกตัวอย่าง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PIs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ที่ใช้กับสถานการณ์ต่อไปนี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1.</a:t>
            </a:r>
            <a:r>
              <a:rPr b="1" lang="th-TH" sz="2400" spc="-1" strike="noStrike">
                <a:solidFill>
                  <a:srgbClr val="ff3300"/>
                </a:solidFill>
                <a:latin typeface="Arial Unicode MS"/>
                <a:cs typeface="Arial Unicode MS"/>
              </a:rPr>
              <a:t>ลดเวลาที่สูญเสียไปใน </a:t>
            </a:r>
            <a:r>
              <a:rPr b="1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Inspection time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2.</a:t>
            </a:r>
            <a:r>
              <a:rPr b="1" lang="th-TH" sz="24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ลดเวลาที่สูญเสียไปในการเคลื่อนย้าย</a:t>
            </a:r>
            <a:r>
              <a:rPr b="1" lang="en-US" sz="24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(Mov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3.</a:t>
            </a:r>
            <a:r>
              <a:rPr b="1" lang="th-TH" sz="2400" spc="-1" strike="noStrike">
                <a:solidFill>
                  <a:srgbClr val="333399"/>
                </a:solidFill>
                <a:latin typeface="Arial Unicode MS"/>
                <a:cs typeface="Arial Unicode MS"/>
              </a:rPr>
              <a:t>เวลาที่สูญเสียไปในการ</a:t>
            </a:r>
            <a:r>
              <a:rPr b="1" lang="en-US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Waiting/storage </a:t>
            </a:r>
            <a:r>
              <a:rPr b="1" lang="en-US" sz="24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65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300" spc="-1" strike="noStrike" u="sng">
                <a:solidFill>
                  <a:srgbClr val="333399"/>
                </a:solidFill>
                <a:uFillTx/>
                <a:latin typeface="Arial Unicode MS"/>
                <a:cs typeface="Arial Unicode MS"/>
              </a:rPr>
              <a:t>เฉลย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3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	</a:t>
            </a:r>
            <a:r>
              <a:rPr b="1" lang="th-TH" sz="23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1.</a:t>
            </a:r>
            <a:r>
              <a:rPr b="1" lang="en-US" sz="23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KPIs </a:t>
            </a:r>
            <a:r>
              <a:rPr b="1" lang="th-TH" sz="2300" spc="-1" strike="noStrike">
                <a:solidFill>
                  <a:srgbClr val="ff3300"/>
                </a:solidFill>
                <a:latin typeface="Arial Unicode MS"/>
                <a:cs typeface="Arial Unicode MS"/>
              </a:rPr>
              <a:t>ลดเวลาที่สูญเสียไปใน </a:t>
            </a:r>
            <a:r>
              <a:rPr b="1" lang="en-US" sz="23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Inspection time</a:t>
            </a:r>
            <a:r>
              <a:rPr b="1" lang="en-US" sz="2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2300"/>
            </a:br>
            <a:r>
              <a:rPr b="1" lang="th-TH" sz="23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ควรจะแก้ตั้งแต่ต้นทาง คือ การทำงานร่วมกับฝ่ายงานเกี่ยวข้อง</a:t>
            </a:r>
            <a:r>
              <a:rPr b="1" lang="en-US" sz="2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h-TH" sz="23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พื่อให้ได้เอกสารประกอบที่ครบถ้วน ถูกต้อง และทันเวลาตามมาตรฐานที่กำหนด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3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ถ้าฝ่ายงานต้นทางส่งมาดี ก็ไม่ต้องมาเสียเวลาในกระบวนการ เบิกจ่ายเงิน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3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2.</a:t>
            </a:r>
            <a:r>
              <a:rPr b="1" lang="en-US" sz="23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KPIs </a:t>
            </a:r>
            <a:r>
              <a:rPr b="1" lang="th-TH" sz="2300" spc="-1" strike="noStrike">
                <a:solidFill>
                  <a:srgbClr val="9900cc"/>
                </a:solidFill>
                <a:latin typeface="Arial Unicode MS"/>
                <a:cs typeface="Arial Unicode MS"/>
              </a:rPr>
              <a:t>ลดเวลาที่สูญเสียไปในการเคลื่อนย้าย</a:t>
            </a:r>
            <a:r>
              <a:rPr b="1" lang="en-US" sz="23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 </a:t>
            </a:r>
            <a:r>
              <a:rPr b="1" lang="en-US" sz="23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(Movement) </a:t>
            </a:r>
            <a:br>
              <a:rPr sz="2300"/>
            </a:br>
            <a:r>
              <a:rPr b="1" lang="th-TH" sz="23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การปรับปรุง</a:t>
            </a:r>
            <a:r>
              <a:rPr b="1" lang="en-US" sz="23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ท</a:t>
            </a:r>
            <a:r>
              <a:rPr b="1" lang="th-TH" sz="23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ั้งเอกสาร คน เครื่องมือ อุปกรณ์ จะต้องน้อยที่สุด </a:t>
            </a:r>
            <a:br>
              <a:rPr sz="2300"/>
            </a:br>
            <a:r>
              <a:rPr b="1" lang="th-TH" sz="23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จะต้องทำให้มี </a:t>
            </a:r>
            <a:r>
              <a:rPr b="1" lang="en-US" sz="2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y out </a:t>
            </a:r>
            <a:r>
              <a:rPr b="1" lang="th-TH" sz="23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ที่ดีเยี่ยมหรือมีระบบการเคลื่อนย้ายที่มีประสิทธิภาพ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3.</a:t>
            </a:r>
            <a:r>
              <a:rPr b="1" lang="en-US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KPIs </a:t>
            </a:r>
            <a:r>
              <a:rPr b="1" lang="th-TH" sz="2400" spc="-1" strike="noStrike">
                <a:solidFill>
                  <a:srgbClr val="333399"/>
                </a:solidFill>
                <a:latin typeface="Arial Unicode MS"/>
                <a:cs typeface="Arial Unicode MS"/>
              </a:rPr>
              <a:t>ลดเวลาที่สูญเสียไปในการ</a:t>
            </a:r>
            <a:r>
              <a:rPr b="1" lang="en-US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Waiting/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3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ช่น ลดการเสียเวลารอคอยงาน คือเอกสารการเบิกจ่ายมาเป็นระยะ ๆขาดช่วง ทำให้จัดเตรียมเงินรอไว้ก่อนทำไม่ได้</a:t>
            </a:r>
            <a:br>
              <a:rPr sz="2300"/>
            </a:br>
            <a:r>
              <a:rPr b="1" lang="th-TH" sz="23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พราะจะทำให้เกิดการสูญเสียสูงมาก </a:t>
            </a:r>
            <a:r>
              <a:rPr b="1" lang="en-US" sz="2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=</a:t>
            </a:r>
            <a:r>
              <a:rPr b="1" lang="th-TH" sz="2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h-TH" sz="23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ขาดทุน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3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รือทำให้เกิด </a:t>
            </a:r>
            <a:r>
              <a:rPr b="1" lang="en-US" sz="2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k in process</a:t>
            </a:r>
            <a:r>
              <a:rPr b="1" lang="th-TH" sz="23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โดยไม่จำเป็นแทนที่จะทำเสร็จในวันเดียวกัน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 u="sng">
                <a:solidFill>
                  <a:srgbClr val="000000"/>
                </a:solidFill>
                <a:uFillTx/>
                <a:latin typeface="Arial Unicode MS"/>
                <a:cs typeface="Arial Unicode MS"/>
              </a:rPr>
              <a:t>หลักการข้อที่</a:t>
            </a:r>
            <a:r>
              <a:rPr b="1" lang="th-TH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. </a:t>
            </a:r>
            <a:r>
              <a:rPr b="1" lang="th-TH" sz="3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ยึดหลัก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st struc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การวัดดัชนีต้นทุนถือสำคัญมาก เพราะจะทำให้มีผลต่อการลดต้นทุนทั้งต้นทุนทางการเงินและค่าใช้จ่ายใน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ถ้าต้นทุนสามารถลดลงได้ ก็จะ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สามารถลดราคาสู่กับคู่แข่ง 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ทำให้เพิ่มศักยภาพเชิงการแข่งขัน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Competitive advant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ชี้ถึงประสิทธิภาพการบริหาร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ff3300"/>
                </a:solidFill>
                <a:uFillTx/>
                <a:latin typeface="Arial Unicode MS"/>
                <a:cs typeface="Arial Unicode MS"/>
              </a:rPr>
              <a:t>ทดสอ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ขอให้หา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PIs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ที่มุ่งจะบริหารต้นทุนโดยตรง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อย่า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ff3300"/>
                </a:solidFill>
                <a:uFillTx/>
                <a:latin typeface="Arial Unicode MS"/>
                <a:cs typeface="Arial Unicode MS"/>
              </a:rPr>
              <a:t>เฉลย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)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การเพิ่ม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olume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การผลิตให้อยู่ในระดับที่ต้นทุนประหยัดที่สุด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Economy of sca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)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การเพิ่ม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i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)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การลดการสูญเสี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)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การหาแหล่งเงินทดแท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)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การเปลี่ยนไปใช้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sorcing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ที่ได้ต้นทุนที่ต่ำ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กว่า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โดยที่คุณภาพเท่าเดิ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)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ใช้โปรแกรมสำเร็จรูป เพื่อความรวดเร็วในการทำ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พิ่มประสิทธิภาพการทำงานของพนักงานต่อค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)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การจ้างพนักงานชั่วคราวเพิ่ม เข้ามาเสริมในช่วงงานเยอะๆ โดยจัดสัดส่วนไว้ที่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0:3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Arial Unicode MS"/>
                <a:cs typeface="Arial Unicode MS"/>
              </a:rPr>
              <a:t>หลักการข้อที่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. 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ยึดหลัก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ue, over due, on time,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ป็นกลุ่มดัชนีที่บ่งบอกถึงประสิทธิภาพการทำงานของแต่ละหน่วยงานหรือแต่ละกระบวนการภายใน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Internal business process) 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ถ้าทุกหน่วยงานหรือทุกกระบวนการมุ่งให้ผลงาน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Out put)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มีการส่งมอบทันเวลา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On time) 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กระบวนการถัดไปก็สามารถเริ่มงานได้ทันเวลาเช่นเดียวกั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มักใช้กับการแก้ไขหนี้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PLs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3300"/>
                </a:solidFill>
                <a:latin typeface="Arial Unicode MS"/>
                <a:cs typeface="Arial Unicode MS"/>
              </a:rPr>
              <a:t>ทดสอ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จงยกตัวอย่าง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Pis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ในกลุ่มนี้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อย่าง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Arial Unicode MS"/>
                <a:cs typeface="Arial Unicode MS"/>
              </a:rPr>
              <a:t>หลักการ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br>
              <a:rPr sz="2800"/>
            </a:br>
            <a:r>
              <a:rPr b="1" lang="th-TH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ดัชนีจะต้องสัมพันธ์กับปัจจัยความสำเร็จและปัจจัยวิกฤต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y Success Factors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และ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itical Success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3300"/>
                </a:solidFill>
                <a:latin typeface="Arial Unicode MS"/>
                <a:cs typeface="Arial Unicode MS"/>
              </a:rPr>
              <a:t>ทดสอ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จงยกตัวอย่าง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ปัจจัยวิกฤตของ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ธนาคารขนาดกลา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ที่จะเกิดขึ้นในปี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550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และควรสร้างเป็น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P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648320" y="1600200"/>
          <a:ext cx="4038480" cy="4579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ปัจจัยวิกฤ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ตัวชี้วั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Arial Unicode MS"/>
                        </a:rPr>
                        <a:t>1.Basel 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Arial Unicode MS"/>
                        </a:rPr>
                        <a:t>2.IAS 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Arial Unicode MS"/>
                        </a:rPr>
                        <a:t>3.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ระแสการควบ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/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วมกิจกา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ww.interfinn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ff3300"/>
                </a:solidFill>
                <a:uFillTx/>
                <a:latin typeface="Arial Unicode MS"/>
                <a:cs typeface="Arial Unicode MS"/>
              </a:rPr>
              <a:t>เฉล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ดัชนีที่ใช้วัดก็คื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%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ส่งมอบทันเวล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% Delay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สำหรับ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ue, over d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%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ลูกหนี้ถึงกำหนดที่เก็บได้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% A/R due collec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%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ลูกหนี้เกินกำหนดที่เก็บได้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% A/R over due collec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Arial Unicode MS"/>
                <a:cs typeface="Arial Unicode MS"/>
              </a:rPr>
              <a:t>หลักการข้อที่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. 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ยึดหลัก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work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ทำใหม่อีกรอบ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ycle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นำกลับมาใช้ใหม่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eat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กิดช้ำ    ทำช้ำ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air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ซ่อมแซม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lace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ทดแทน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novate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ทำให้ดูใหม่ขึ้น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fill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ติมใหม่ในโครงการเดิม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+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use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นำกลับมาใช้ใหม่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ject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ปฏิเสธ ทิ้งไป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ทบทวนใหม่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+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duce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ลดลง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action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ตอบสนอง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3300"/>
                </a:solidFill>
                <a:latin typeface="Arial Unicode MS"/>
                <a:cs typeface="Arial Unicode MS"/>
              </a:rPr>
              <a:t>ทดสอ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จงยกตัวอย่าง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PIs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ที่มาจากการ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626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3300"/>
                </a:solidFill>
                <a:latin typeface="Arial Unicode MS"/>
                <a:cs typeface="Arial Unicode MS"/>
              </a:rPr>
              <a:t>เฉล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% Rework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บางโครงการสินเชื่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work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ส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ูงมากจนกระบวนการนั้นกลายเป็นคอขว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และมีผลทำให้กำลังการผลิตลดลง ตัวอย่างเช่น โครงการพัฒนาแท็กซ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%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e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ช่น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% repeat service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ายถึงอัตราการเพิ่มวงเงินสินเชื่อของลูกค้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% Replace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ช่น อัตราการเปิดโครงการทดแทนโครงการเดิ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หตุผลที่ต้องมีการทดแทน อาจเป็นเพราะต้องการทดแทนเม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ดอายุการใช้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ทดแทนความสูญเสีย เสียหายในกระบวนการ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พื่อจะรักษาฐานลูกค้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%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การทบทวน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R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ลูกค้าเกรด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 &amp;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ทุกป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 u="sng">
                <a:solidFill>
                  <a:srgbClr val="000000"/>
                </a:solidFill>
                <a:uFillTx/>
                <a:latin typeface="Arial Unicode MS"/>
                <a:cs typeface="Arial Unicode MS"/>
              </a:rPr>
              <a:t>หลักการข้อที่</a:t>
            </a:r>
            <a:r>
              <a:rPr b="1" lang="th-TH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. </a:t>
            </a:r>
            <a:r>
              <a:rPr b="1" lang="th-TH" sz="3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ยึดหลัก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le &amp;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ป็น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PIs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ที่นิยมใช้กันมากเพราะองค์กรมักสร้างวัฒนธรรมให้แต่ละคนยึดมั่น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le &amp; responsibility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ยึดว่าหน่วยงานนี้มีบทบาทหน้าที่ ความรับผิดชอบอะไรบ้าง และก็วัดในสิ่งที่ทำหรือรับผิดชอ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ทุกคนทำ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PIs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โดยเขียนในสิ่งที่ทำ และจงทำในสิ่งที่เขีย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3300"/>
                </a:solidFill>
                <a:latin typeface="Arial Unicode MS"/>
                <a:cs typeface="Arial Unicode MS"/>
              </a:rPr>
              <a:t>ทดสอ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จงยกตัวอย่าง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PIs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ฝ่ายบริหารเงิน  ฝ่ายธุรการ ฝ่ายกฎหมา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Arial Unicode MS"/>
                <a:cs typeface="Arial Unicode MS"/>
              </a:rPr>
              <a:t>หลักการข้อที่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9. 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ยึดหลัก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ctivity &amp; Result 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รือ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ctivity=Lead, Result = 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ผลงานเกิดจากกิจกรรม 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กิจกรรม หมายถึง การกระท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ถ้าไม่มีการกระทำจะไม่เกิดผล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ดังนั้นการออกแบบดัชนีจะออกคู่กัน เช่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อัตราการทำกิจกรรมและผลงานที่เกิดจริงเปรียบเทียบเป้าหมาย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Activity)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ทำได้ตามเกณฑ์ ผลงานเกินหรือทำได้น้อยกว่าเป้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3300"/>
                </a:solidFill>
                <a:latin typeface="Arial Unicode MS"/>
                <a:cs typeface="Arial Unicode MS"/>
              </a:rPr>
              <a:t>ทดสอ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ยกตัวอย่าง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PIs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แบบนี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229600" cy="452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3300"/>
                </a:solidFill>
                <a:latin typeface="Arial"/>
                <a:cs typeface="Arial Unicode MS"/>
              </a:rPr>
              <a:t>เฉล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Arial Unicode MS"/>
              </a:rPr>
              <a:t>กำหนดให้ออกพบลูกค้าสัปดาห์ละ 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5 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Arial Unicode MS"/>
              </a:rPr>
              <a:t>รา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Arial Unicode MS"/>
              </a:rPr>
              <a:t>ต้องผ่าน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pre-screening 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Arial Unicode MS"/>
              </a:rPr>
              <a:t>ไม่น้อยกว่า 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2 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Arial Unicode MS"/>
              </a:rPr>
              <a:t>รา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Arial Unicode MS"/>
              </a:rPr>
              <a:t>โทรศัพท์ติดตามลูกค้าที่ครบกำหนดชำระ ก่อนครบ 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5 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Arial Unicode MS"/>
              </a:rPr>
              <a:t>วั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Arial Unicode MS"/>
              </a:rPr>
              <a:t>ต้องนำเงินมาชำระไม่ต่ำกว่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 u="sng">
                <a:solidFill>
                  <a:srgbClr val="000000"/>
                </a:solidFill>
                <a:uFillTx/>
                <a:latin typeface="Arial Unicode MS"/>
                <a:cs typeface="Arial Unicode MS"/>
              </a:rPr>
              <a:t>หลักการข้อที่</a:t>
            </a:r>
            <a:r>
              <a:rPr b="1" lang="th-TH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0. </a:t>
            </a:r>
            <a:r>
              <a:rPr b="1" lang="th-TH" sz="3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ยึดหลัก งาน เงิน เวล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ลักการนี้นิยมวัดลักษณะงานที่เป็นโครงการ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มีเวลาเริ่มต้น สิ้นสุดชัดเจน และมีการใช้เงินควบคุม เช่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การพัฒนาระบบงานรองรับ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sel II</a:t>
            </a:r>
            <a:r>
              <a:rPr b="0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ก็จะมีการกำหนดแผนงาน กำหนดระยะเวลา กำหนดงบประมาณที่ต้องใช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3300"/>
                </a:solidFill>
                <a:latin typeface="Arial Unicode MS"/>
                <a:cs typeface="Arial Unicode MS"/>
              </a:rPr>
              <a:t>ทดสอ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จงยกตัวอย่างดัชนีชี้วัด </a:t>
            </a:r>
            <a:r>
              <a:rPr b="0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 </a:t>
            </a:r>
            <a:r>
              <a:rPr b="0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อย่า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94920" y="764640"/>
            <a:ext cx="8497800" cy="452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ff3300"/>
                </a:solidFill>
                <a:uFillTx/>
                <a:latin typeface="Arial Unicode MS"/>
                <a:cs typeface="Arial Unicode MS"/>
              </a:rPr>
              <a:t>เฉล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ดัชนีที่ใช้ก็คื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%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งานแล้วเสร็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%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วลาใช้ไ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%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งบประมาณใช้ไ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สมมุติว่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งานเสร็จ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0%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แต่เงินใช้ไปแล้ว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0%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ของงบประมา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แถมหมดเวลาไปแล้วด้วย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หตุการณ์เหล่านี้จะไม่เกิดขึ้นถ้ามีดัชน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%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งานแล้วเสร็จ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%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วลาใช้ไป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%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งบประมาณใช้ไปเป็นตัววัดความสำเร็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Arial Unicode MS"/>
                <a:cs typeface="Arial Unicode MS"/>
              </a:rPr>
              <a:t>หลักการข้อที่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ยึดหลัก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rective &amp; Preven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การออกแบบดัชนีที่ดี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จะต้องให้มี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PIs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คู่กัน จึงจะแก้ปัญหาได้เบ็ดเสร็จ เช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มื่อมีดัชนีคือจำนวนข้อร้องเรียนลูกค้า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# Complaint)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ก็ต้องตามด้วยดัชนีการแก้ไขข้อร้องเรียน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Complaint corrective ac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มื่อมีการแก้ไขแล้วก็ต้องมีการป้องกัน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Preven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3300"/>
                </a:solidFill>
                <a:latin typeface="Arial Unicode MS"/>
                <a:cs typeface="Arial Unicode MS"/>
              </a:rPr>
              <a:t>ทดสอ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ยกตัวอย่าง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PIs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ที่มีคุณสมบัติด้านนี้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5690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ff3300"/>
                </a:solidFill>
                <a:uFillTx/>
                <a:latin typeface="Arial Unicode MS"/>
                <a:cs typeface="Arial Unicode MS"/>
              </a:rPr>
              <a:t>เฉลย</a:t>
            </a:r>
            <a:br>
              <a:rPr sz="2400"/>
            </a:br>
            <a:r>
              <a:rPr b="1" lang="th-TH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1.</a:t>
            </a:r>
            <a:r>
              <a:rPr b="1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On time delivery</a:t>
            </a:r>
            <a:r>
              <a:rPr b="1" lang="th-TH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 </a:t>
            </a:r>
            <a:r>
              <a:rPr b="1" lang="th-TH" sz="2400" spc="-1" strike="noStrike">
                <a:solidFill>
                  <a:srgbClr val="ff3300"/>
                </a:solidFill>
                <a:latin typeface="Arial Unicode MS"/>
                <a:cs typeface="Arial Unicode MS"/>
              </a:rPr>
              <a:t>ลด</a:t>
            </a:r>
            <a:r>
              <a:rPr b="1" lang="en-US" sz="2400" spc="-1" strike="noStrike">
                <a:solidFill>
                  <a:srgbClr val="ff3300"/>
                </a:solidFill>
                <a:latin typeface="Arial Unicode MS"/>
                <a:cs typeface="Arial Unicode MS"/>
              </a:rPr>
              <a:t>สายการผลิต</a:t>
            </a:r>
            <a:r>
              <a:rPr b="1" lang="th-TH" sz="2400" spc="-1" strike="noStrike">
                <a:solidFill>
                  <a:srgbClr val="ff3300"/>
                </a:solidFill>
                <a:latin typeface="Arial Unicode MS"/>
                <a:cs typeface="Arial Unicode MS"/>
              </a:rPr>
              <a:t>ที่</a:t>
            </a:r>
            <a:r>
              <a:rPr b="1" lang="en-US" sz="2400" spc="-1" strike="noStrike">
                <a:solidFill>
                  <a:srgbClr val="ff3300"/>
                </a:solidFill>
                <a:latin typeface="Arial Unicode MS"/>
                <a:cs typeface="Arial Unicode MS"/>
              </a:rPr>
              <a:t>ต้องรอคอย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ดัชนี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PIs.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ก็มักจะเกี่ยวข้องกับเวลาตามไปด้วย </a:t>
            </a:r>
            <a:br>
              <a:rPr sz="2400"/>
            </a:br>
            <a:r>
              <a:rPr b="0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⃟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โดยจะมีการวัดเวลาในแต่ละขั้นตอนหรือในแต่ละกระบวนการ</a:t>
            </a:r>
            <a:br>
              <a:rPr sz="2400"/>
            </a:br>
            <a:r>
              <a:rPr b="0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⃟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แต่ก่อนที่วัดเวลาในแต่ขั้นตอนสิ่งแรกที่ต้องทำก็คือการศึกษาว่า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มีระยะเวลารอคอยเกิดขึ้นในกระบวนการอะไรบ้าง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ที่รอคอยเป็นเพราะมากด้วยขั้นตอนหรือไม่ 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แต่ละขั้นตอนจะยุบลงบ้างได้ไหมโดยที่ไม่มีผลกระทบ  เช่น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⊕ อาจจะเสียเวลาตรวจสอบเอกสารถี่เกินไป 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⊕ มีวิธีตรวจเอกสารวิธีอื่นไหมที่ตรวจสอบได้เหมือนกัน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แต่ใช้เวลาสั้นกว่า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⊕ อาจจะต้องปรับปรุงกระบวนการใหม่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⊕ ถึงขั้นต้องออกแบบกระบวนการใหม่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⊕ งานที่ไม่ได้มาตรฐานต้องเสียเวลานำชิ้นงานกลับมาทำใหม่ 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ทำให้เสียเวลา เสียกำลังคน เสียค่าแรงสองต่อ เสียกำลัง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การผลิตแทนที่จะเดินหน้าได้ก็ต้องย้อนกลับมาทำใหม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3300"/>
                </a:solidFill>
                <a:latin typeface="Arial Unicode MS"/>
                <a:cs typeface="Arial Unicode MS"/>
              </a:rPr>
              <a:t>เฉลย</a:t>
            </a:r>
            <a:r>
              <a:rPr b="1" lang="th-TH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ดัชนี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ducation &amp;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พื่อให้ผู้ปฏิบัติได้รู้ถึงปัญหา สาเหตุ และแนวทางป้องกั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การวัดระดับสัมฤทธิผ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ดัชนีวัดระบบการบริหารความเสี่ย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ประกอบด้วย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ดัชนีการระบุปัญหา การประเมินระดับ การวางระบบควบคุ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และการวางแนวทางป้องกั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Arial Unicode MS"/>
                <a:cs typeface="Arial Unicode MS"/>
              </a:rPr>
              <a:t>หลักการข้อที่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ยึดหลัก ครบถ้วน ถูกต้อง ทันเวล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การออกแบบดัชนีคุณภาพของงาน มักจะแสดงออกมาในสามส่วน ค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ครบถ้วน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ถูกต้อง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.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ทันเวล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0000"/>
                </a:solidFill>
                <a:uFillTx/>
                <a:latin typeface="Arial Unicode MS"/>
                <a:cs typeface="Arial Unicode MS"/>
              </a:rPr>
              <a:t>ทดสอ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การวัดดัชนีความสำเร็จของการสรรหาบุคลากร ให้ระบุว่าแต่ละข้อควรใช้เรื่องใดวั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284720" y="1197000"/>
          <a:ext cx="4398840" cy="5256000"/>
        </p:xfrm>
        <a:graphic>
          <a:graphicData uri="http://schemas.openxmlformats.org/drawingml/2006/table">
            <a:tbl>
              <a:tblPr/>
              <a:tblGrid>
                <a:gridCol w="2455560"/>
                <a:gridCol w="1943280"/>
              </a:tblGrid>
              <a:tr h="128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Arial Unicode MS"/>
                          <a:cs typeface="Arial Unicode MS"/>
                        </a:rPr>
                        <a:t>ประเด็นที่จะวั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Arial Unicode MS"/>
                          <a:cs typeface="Arial Unicode MS"/>
                        </a:rPr>
                        <a:t>วิธีการวั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 u="sng">
                          <a:solidFill>
                            <a:srgbClr val="000000"/>
                          </a:solidFill>
                          <a:uFillTx/>
                          <a:latin typeface="Arial Unicode MS"/>
                          <a:cs typeface="Arial Unicode MS"/>
                        </a:rPr>
                        <a:t>ประสิทธิผลการสรรห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 u="sng">
                          <a:solidFill>
                            <a:srgbClr val="000000"/>
                          </a:solidFill>
                          <a:uFillTx/>
                          <a:latin typeface="Arial Unicode MS"/>
                          <a:cs typeface="Arial Unicode MS"/>
                        </a:rPr>
                        <a:t>คุณภาพสรรห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 u="sng">
                          <a:solidFill>
                            <a:srgbClr val="000000"/>
                          </a:solidFill>
                          <a:uFillTx/>
                          <a:latin typeface="Arial Unicode MS"/>
                          <a:cs typeface="Arial Unicode MS"/>
                        </a:rPr>
                        <a:t>ระยะเวลาสรรห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68360" y="469800"/>
          <a:ext cx="8077320" cy="5622840"/>
        </p:xfrm>
        <a:graphic>
          <a:graphicData uri="http://schemas.openxmlformats.org/drawingml/2006/table">
            <a:tbl>
              <a:tblPr/>
              <a:tblGrid>
                <a:gridCol w="4316400"/>
                <a:gridCol w="3760920"/>
              </a:tblGrid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Arial Unicode MS"/>
                          <a:cs typeface="Arial Unicode MS"/>
                        </a:rPr>
                        <a:t>ประเด็นที่จะวั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Arial Unicode MS"/>
                          <a:cs typeface="Arial Unicode MS"/>
                        </a:rPr>
                        <a:t>วิธีการวั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 u="sng">
                          <a:solidFill>
                            <a:srgbClr val="000000"/>
                          </a:solidFill>
                          <a:uFillTx/>
                          <a:latin typeface="Arial Unicode MS"/>
                          <a:cs typeface="Arial Unicode MS"/>
                        </a:rPr>
                        <a:t>ประสิทธิผลการสรรห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วัดว่าสรรหาบุคลากรได้</a:t>
                      </a:r>
                      <a:r>
                        <a:rPr b="1" lang="th-TH" sz="2400" spc="-1" strike="noStrike" u="sng">
                          <a:solidFill>
                            <a:srgbClr val="000000"/>
                          </a:solidFill>
                          <a:uFillTx/>
                          <a:latin typeface="Arial Unicode MS"/>
                          <a:cs typeface="Arial Unicode MS"/>
                        </a:rPr>
                        <a:t>ครบ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ตามใบคำขอหรือไม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 u="sng">
                          <a:solidFill>
                            <a:srgbClr val="000000"/>
                          </a:solidFill>
                          <a:uFillTx/>
                          <a:latin typeface="Arial Unicode MS"/>
                          <a:cs typeface="Arial Unicode MS"/>
                        </a:rPr>
                        <a:t>คุณภาพสรรห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วัดจากอัตราส่วนการพ้นทดลองงาน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วัดว่าเราสรรหาคนมา</a:t>
                      </a:r>
                      <a:r>
                        <a:rPr b="1" lang="th-TH" sz="2400" spc="-1" strike="noStrike" u="sng">
                          <a:solidFill>
                            <a:srgbClr val="000000"/>
                          </a:solidFill>
                          <a:uFillTx/>
                          <a:latin typeface="Arial Unicode MS"/>
                          <a:cs typeface="Arial Unicode MS"/>
                        </a:rPr>
                        <a:t>ถูกต้อง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หรือไม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 u="sng">
                          <a:solidFill>
                            <a:srgbClr val="000000"/>
                          </a:solidFill>
                          <a:uFillTx/>
                          <a:latin typeface="Arial Unicode MS"/>
                          <a:cs typeface="Arial Unicode MS"/>
                        </a:rPr>
                        <a:t>ระยะเวลาสรรห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เพื่อดูว่าใช้เวลาอยู่ในมาตรฐานที่กำหนดหรือไม่ หรือส่งมอบได้ทันเวลาหรือไม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ตัวอย่างที่ </a:t>
            </a:r>
            <a:r>
              <a:rPr b="1" lang="th-TH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1.</a:t>
            </a:r>
            <a:r>
              <a:rPr b="1" lang="th-TH" sz="2400" spc="-1" strike="noStrike" u="sng">
                <a:solidFill>
                  <a:srgbClr val="000000"/>
                </a:solidFill>
                <a:uFillTx/>
                <a:latin typeface="Arial Unicode MS"/>
                <a:cs typeface="Arial Unicode MS"/>
              </a:rPr>
              <a:t>ประสิทธิผลการออกราย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2.</a:t>
            </a:r>
            <a:r>
              <a:rPr b="1" lang="th-TH" sz="2400" spc="-1" strike="noStrike" u="sng">
                <a:solidFill>
                  <a:srgbClr val="000000"/>
                </a:solidFill>
                <a:uFillTx/>
                <a:latin typeface="Arial Unicode MS"/>
                <a:cs typeface="Arial Unicode MS"/>
              </a:rPr>
              <a:t>คุณภาพราย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3.</a:t>
            </a:r>
            <a:r>
              <a:rPr b="1" lang="th-TH" sz="2400" spc="-1" strike="noStrike" u="sng">
                <a:solidFill>
                  <a:srgbClr val="000000"/>
                </a:solidFill>
                <a:uFillTx/>
                <a:latin typeface="Arial Unicode MS"/>
                <a:cs typeface="Arial Unicode MS"/>
              </a:rPr>
              <a:t>ส่งมอบราย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88000" y="1700280"/>
            <a:ext cx="4038480" cy="44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วัดว่าออกรายงานได้ครบตามจำนวนที่กำหนดหรือไม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วัดว่ามีผิดพลาดหรือไม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วัดว่าส่งมอบรายงานให้แก่ผู้ใช้ได้ทันเวลาหรือไม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24000" y="5589720"/>
            <a:ext cx="81356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77796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Arial Unicode MS"/>
                <a:cs typeface="Arial Unicode MS"/>
              </a:rPr>
              <a:t>หลักการข้อที่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ยึดหลัก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 put – process - out p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3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ชื่อว่าคุณภาพจะเกิดอยู่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จุด ดังนั้นเราต้องวัดทั้ง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จุ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In-put inspection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คื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อวัดกระบวนการที่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 put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ข้ามาว่ามีคุณภาพหรือได้มาตรฐ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รือไม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Process inspection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คือวัดใน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cess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ว่างานที่อยู่ระหว่างผลิตมี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dition/parameter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ต่างๆ อยู่ในมาตรฐานที่กำหนดหรือไม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Final inspection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คือวัดเพื่อให้แน่ใจว่าบริการที่จะส่งมอบให้ลูกค้ายังคงอยู่ในคุณภา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มาตรฐานที่กำหนดหรือไม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ทดสอ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จงหา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PIs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ที่วัดได้ทั้ง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ราย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%</a:t>
            </a:r>
            <a:r>
              <a:rPr b="1" lang="th-TH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th-TH" sz="2400" spc="-1" strike="noStrike">
                <a:solidFill>
                  <a:srgbClr val="ffffff"/>
                </a:solidFill>
                <a:latin typeface="Arial Unicode MS"/>
                <a:cs typeface="Arial Unicode MS"/>
              </a:rPr>
              <a:t>รายการที่มีการส่งเรื่องคืน</a:t>
            </a:r>
            <a:r>
              <a:rPr b="1" lang="th-TH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Arial Unicode MS"/>
                <a:cs typeface="Arial Unicode MS"/>
              </a:rPr>
              <a:t>หลักการข้อที่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ยึดหลักการควบคุมงบประมาณ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Budget contro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งบประมาณ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=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วางแผนทำกำไร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Profit planning)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ถ้าเราควบคุมรายได้เข้าเป้าหมาย ต้นทุนและค่าใช่จ่ายควบคุมไม่ให้เกินงบประมาณ กำไรก็จะได้ตามเป้าหมายที่วางไว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ดังนั้น การออกแบบดัชนีที่เกี่ยวข้องกับงบประมาณ มีดังนี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% Sales target achievement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วัดว่ายอดขายเกิดจริงเป็นกี่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%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ของเป้าหมา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% Staff expense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วัดว่าค่าใช้จ่ายด้านบุคลากรเปรียบเทียบกับงบประมา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% Admin expense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วัดว่าค่าใช้จ่ายบริหารเปรียบเทียบกับงบประมา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 u="sng">
                <a:solidFill>
                  <a:srgbClr val="ff3300"/>
                </a:solidFill>
                <a:uFillTx/>
                <a:latin typeface="Arial Unicode MS"/>
                <a:cs typeface="Arial Unicode MS"/>
              </a:rPr>
              <a:t>ทดสอ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พิ่มเติมตัวชี้วัดอีก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ราย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ฉล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%</a:t>
            </a:r>
            <a:r>
              <a:rPr b="1" lang="th-TH" sz="2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Net  Interesrt margin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วัดอัตราการทำส่วนต่างจากดอกเบี้ย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2. </a:t>
            </a:r>
            <a:r>
              <a:rPr b="1" lang="en-US" sz="2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% Gross profit margin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วัดอัตรากำไรเบื้องต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3.</a:t>
            </a:r>
            <a:r>
              <a:rPr b="1" lang="en-US" sz="2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% Gross operating profit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วัดอัตราผลกำไรจาก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4.</a:t>
            </a:r>
            <a:r>
              <a:rPr b="1" lang="en-US" sz="2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% Interest expense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วัดอัตราค่าใช้จ่ายดอกเบี้ยจ่ายต่อรายได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.</a:t>
            </a:r>
            <a:r>
              <a:rPr b="1" lang="en-US" sz="2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% Net profit before tax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วัดอัตราผลกำไรสุทธิต่อยอดขา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Arial Unicode MS"/>
                <a:cs typeface="Arial Unicode MS"/>
              </a:rPr>
              <a:t>หลักการข้อที่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ยึดหลักช่องว่างหรือปัญหาขององค์ก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กรณีที่รู้ว่ากิจการมีปัญหาอะไร ก็แก้ไขที่จุดนั้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ช่น บริษัทที่มี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T: Over time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รือค่าล่วงเวลาสูงมา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==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ออกแบบดัชนีชื่อ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T 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วัดเป็นตัวเงินว่าแต่ละเดือนแต่ละฝ่ายมีโอทีกี่บาท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มีการกำหนดเป้าหมายเพื่อควบคุม ต้องอธิบายเหตุผลที่ใช้โอที ผลปรากฏว่า 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โอทีค่อยๆลดลงและตอนนี้แทบไม่มีเลย 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สมมุติฐานคือ 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จริง ๆ แล้วถ้าทำงานในเวลา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fice hour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อ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ย่างจริงจังและวางแผนดี ๆ ไม่มีความจำเป็นที่จะต้องมีโอทีเล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3300"/>
                </a:solidFill>
                <a:latin typeface="Arial Unicode MS"/>
                <a:cs typeface="Arial Unicode MS"/>
              </a:rPr>
              <a:t>ทดสอ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กรณีพบว่าปากกา กระดาษในสำนักงานใช้เปลือง จะวัดด้วย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PIs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อย่างไ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3300"/>
                </a:solidFill>
                <a:latin typeface="Arial Unicode MS"/>
                <a:cs typeface="Arial Unicode MS"/>
              </a:rPr>
              <a:t>เฉล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กำหนดดัชนีขึ้นมาวัดเรียกชื่อว่า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vings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ประหยัดเครื่องเขียนแบบพิมพ์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มีการกำหนดเป้าหมาย ห้ามเบิกเกินเป้าหมายไม่เช่นนั้นเสียคะแน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และทุกคะแนนมีผลต่อการขึ้นเงินเดือนปลายป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994280" y="2241720"/>
            <a:ext cx="1617480" cy="1218960"/>
          </a:xfrm>
          <a:prstGeom prst="cloudCallout">
            <a:avLst>
              <a:gd name="adj1" fmla="val -52625"/>
              <a:gd name="adj2" fmla="val 121092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JasmineUPC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3440" y="3537000"/>
            <a:ext cx="1547640" cy="990720"/>
          </a:xfrm>
          <a:prstGeom prst="cloudCallout">
            <a:avLst>
              <a:gd name="adj1" fmla="val 65625"/>
              <a:gd name="adj2" fmla="val 384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JasmineUPC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87680" y="1936800"/>
            <a:ext cx="1617480" cy="1371600"/>
          </a:xfrm>
          <a:prstGeom prst="cloudCallout">
            <a:avLst>
              <a:gd name="adj1" fmla="val 38407"/>
              <a:gd name="adj2" fmla="val 85185"/>
            </a:avLst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JasmineUPC"/>
              </a:rPr>
              <a:t>Effec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05160" y="2241720"/>
            <a:ext cx="1477800" cy="1447560"/>
          </a:xfrm>
          <a:prstGeom prst="cloudCallout">
            <a:avLst>
              <a:gd name="adj1" fmla="val -2777"/>
              <a:gd name="adj2" fmla="val 87282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JasmineUPC"/>
              </a:rPr>
              <a:t>W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08680" y="3308400"/>
            <a:ext cx="2320920" cy="1447920"/>
          </a:xfrm>
          <a:prstGeom prst="cloudCallout">
            <a:avLst>
              <a:gd name="adj1" fmla="val -59722"/>
              <a:gd name="adj2" fmla="val 326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JasmineUPC"/>
              </a:rPr>
              <a:t>Think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556000" y="3645000"/>
          <a:ext cx="3263760" cy="13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3645000"/>
                    <a:ext cx="326376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2700360" y="1197000"/>
            <a:ext cx="3362400" cy="7128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800000"/>
                </a:solidFill>
                <a:latin typeface="Angsana New"/>
                <a:cs typeface="Angsana New"/>
              </a:rPr>
              <a:t>รายงานผลการปฏิบัติ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ND SETTING </a:t>
            </a:r>
            <a:br>
              <a:rPr sz="3200"/>
            </a:br>
            <a:r>
              <a:rPr b="1" lang="th-TH" sz="3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การใช้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lance Scorcard &amp; KP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333399"/>
                </a:solidFill>
                <a:latin typeface="Arial Unicode MS"/>
                <a:cs typeface="Arial Unicode MS"/>
              </a:rPr>
              <a:t>จิรพร    สุเมธีประสิทธิ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333399"/>
                </a:solidFill>
                <a:latin typeface="Arial Unicode MS"/>
                <a:cs typeface="Arial Unicode MS"/>
              </a:rPr>
              <a:t>ผู้ช่วยกรรมการผู้จัด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333399"/>
                </a:solidFill>
                <a:latin typeface="Arial Unicode MS"/>
                <a:cs typeface="Arial Unicode MS"/>
              </a:rPr>
              <a:t>สายงานบริหารเงินและความเสี่ย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SME BANK OF THAI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5690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3300"/>
                </a:solidFill>
                <a:latin typeface="Arial Unicode MS"/>
                <a:cs typeface="Arial Unicode MS"/>
              </a:rPr>
              <a:t>เฉลย</a:t>
            </a:r>
            <a:br>
              <a:rPr sz="2400"/>
            </a:br>
            <a:r>
              <a:rPr b="1" lang="th-TH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1.</a:t>
            </a:r>
            <a:r>
              <a:rPr b="1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On time delivery</a:t>
            </a:r>
            <a:r>
              <a:rPr b="1" lang="th-TH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 </a:t>
            </a:r>
            <a:r>
              <a:rPr b="1" lang="th-TH" sz="2400" spc="-1" strike="noStrike">
                <a:solidFill>
                  <a:srgbClr val="ff3300"/>
                </a:solidFill>
                <a:latin typeface="Arial Unicode MS"/>
                <a:cs typeface="Arial Unicode MS"/>
              </a:rPr>
              <a:t>ลด</a:t>
            </a:r>
            <a:r>
              <a:rPr b="1" lang="en-US" sz="2400" spc="-1" strike="noStrike">
                <a:solidFill>
                  <a:srgbClr val="ff3300"/>
                </a:solidFill>
                <a:latin typeface="Arial Unicode MS"/>
                <a:cs typeface="Arial Unicode MS"/>
              </a:rPr>
              <a:t>สายการผลิต</a:t>
            </a:r>
            <a:r>
              <a:rPr b="1" lang="th-TH" sz="2400" spc="-1" strike="noStrike">
                <a:solidFill>
                  <a:srgbClr val="ff3300"/>
                </a:solidFill>
                <a:latin typeface="Arial Unicode MS"/>
                <a:cs typeface="Arial Unicode MS"/>
              </a:rPr>
              <a:t>ที่</a:t>
            </a:r>
            <a:r>
              <a:rPr b="1" lang="en-US" sz="2400" spc="-1" strike="noStrike">
                <a:solidFill>
                  <a:srgbClr val="ff3300"/>
                </a:solidFill>
                <a:latin typeface="Arial Unicode MS"/>
                <a:cs typeface="Arial Unicode MS"/>
              </a:rPr>
              <a:t>ต้องรอคอย</a:t>
            </a:r>
            <a:r>
              <a:rPr b="1" lang="th-TH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r>
              <a:rPr b="1" lang="th-TH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(</a:t>
            </a:r>
            <a:r>
              <a:rPr b="1" lang="th-TH" sz="2400" spc="-1" strike="noStrike">
                <a:solidFill>
                  <a:srgbClr val="ff3300"/>
                </a:solidFill>
                <a:latin typeface="Arial Unicode MS"/>
                <a:cs typeface="Arial Unicode MS"/>
              </a:rPr>
              <a:t>ต่อ</a:t>
            </a:r>
            <a:r>
              <a:rPr b="1" lang="th-TH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)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การปรับปรุงกระบวนการ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จะต้องทำทั้ง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Ms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คือ 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chine, 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terial, 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thod, 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n  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พื่อให้ได้บริการทางการเงินที่ได้มาตรฐาน ครบถ้วน และใช้เวลาในการผลิตสั้นลงเรื่อยๆ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0"/>
            <a:ext cx="54100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e7ea74"/>
                    </a:gs>
                  </a:gsLst>
                  <a:lin ang="5400000"/>
                </a:gradFill>
                <a:latin typeface="Browallia New"/>
              </a:rPr>
              <a:t>เกณฑ์การประเมินในภาพรวม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e7ea74"/>
                  </a:gs>
                </a:gsLst>
                <a:lin ang="5400000"/>
              </a:gradFill>
              <a:latin typeface="Browallia New"/>
              <a:ea typeface="Browallia New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038480" y="1457280"/>
            <a:ext cx="3889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rowallia New"/>
              </a:rPr>
              <a:t>(Holistic Rubric)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rowallia New"/>
              <a:ea typeface="Browallia New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924280"/>
            <a:ext cx="914400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@  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ให้คะแนนโดยพิจารณาจากภาพรวมของชิ้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@  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มีคำอธิบายลักษณะของงานในแต่ละระดับอย่างชัดเ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@ 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นิยมใช้เกณฑ์การประเมิน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ระด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762120" y="76320"/>
            <a:ext cx="7696080" cy="100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Angsana New"/>
              </a:rPr>
              <a:t>เกณฑ์การประเมินโดยภาพรวม </a:t>
            </a: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Angsana New"/>
              </a:rPr>
              <a:t>(</a:t>
            </a: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Angsana New"/>
              </a:rPr>
              <a:t>การเขียน</a:t>
            </a: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Angsana New"/>
              </a:rPr>
              <a:t>)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1523880"/>
            <a:ext cx="8991720" cy="1191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00"/>
                </a:solidFill>
                <a:latin typeface="Angsana New"/>
              </a:rPr>
              <a:t>ระดับคะแนน                              ลักษณะของงา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211480"/>
            <a:ext cx="1600200" cy="25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ต้อ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ปรับปรุง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2133720"/>
            <a:ext cx="7010640" cy="2684520"/>
          </a:xfrm>
          <a:prstGeom prst="rect">
            <a:avLst/>
          </a:prstGeom>
          <a:noFill/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ไม่มีผล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9999"/>
                </a:solidFill>
                <a:latin typeface="Arial Unicode MS"/>
                <a:ea typeface="Arial Unicode MS"/>
              </a:rPr>
              <a:t>-</a:t>
            </a:r>
            <a:r>
              <a:rPr b="1" lang="th-TH" sz="2400" spc="-1" strike="noStrike">
                <a:solidFill>
                  <a:srgbClr val="009999"/>
                </a:solidFill>
                <a:latin typeface="Arial Unicode MS"/>
                <a:cs typeface="Arial Unicode MS"/>
              </a:rPr>
              <a:t>เขียนไม่ตรงประเด็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9999"/>
                </a:solidFill>
                <a:latin typeface="Arial Unicode MS"/>
                <a:ea typeface="Arial Unicode MS"/>
              </a:rPr>
              <a:t>-</a:t>
            </a:r>
            <a:r>
              <a:rPr b="1" lang="th-TH" sz="2400" spc="-1" strike="noStrike">
                <a:solidFill>
                  <a:srgbClr val="009999"/>
                </a:solidFill>
                <a:latin typeface="Arial Unicode MS"/>
                <a:cs typeface="Arial Unicode MS"/>
              </a:rPr>
              <a:t>ไม่มีการจัดระบบการเขีย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9999"/>
                </a:solidFill>
                <a:latin typeface="Arial Unicode MS"/>
                <a:ea typeface="Arial Unicode MS"/>
              </a:rPr>
              <a:t>-</a:t>
            </a:r>
            <a:r>
              <a:rPr b="1" lang="th-TH" sz="2400" spc="-1" strike="noStrike">
                <a:solidFill>
                  <a:srgbClr val="009999"/>
                </a:solidFill>
                <a:latin typeface="Arial Unicode MS"/>
                <a:cs typeface="Arial Unicode MS"/>
              </a:rPr>
              <a:t>ภาษาที่ใช้ทำให้ผู้อ่านเกิดความสับส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9999"/>
                </a:solidFill>
                <a:latin typeface="Arial Unicode MS"/>
                <a:ea typeface="Arial Unicode MS"/>
              </a:rPr>
              <a:t>-</a:t>
            </a:r>
            <a:r>
              <a:rPr b="1" lang="th-TH" sz="2400" spc="-1" strike="noStrike">
                <a:solidFill>
                  <a:srgbClr val="009999"/>
                </a:solidFill>
                <a:latin typeface="Arial Unicode MS"/>
                <a:cs typeface="Arial Unicode MS"/>
              </a:rPr>
              <a:t>ใช้ศัพท์ที่เหมาะส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762120" y="76320"/>
            <a:ext cx="7696080" cy="100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Angsana New"/>
              </a:rPr>
              <a:t>เกณฑ์การประเมินโดยภาพรวม </a:t>
            </a: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Angsana New"/>
              </a:rPr>
              <a:t>(</a:t>
            </a: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Angsana New"/>
              </a:rPr>
              <a:t>การเขียน</a:t>
            </a: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Angsana New"/>
              </a:rPr>
              <a:t>)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1523880"/>
            <a:ext cx="8991720" cy="1191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00"/>
                </a:solidFill>
                <a:latin typeface="Angsana New"/>
              </a:rPr>
              <a:t>ระดับคะแนน                              ลักษณะของงา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133720"/>
            <a:ext cx="16002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Angsana New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ff"/>
                </a:solidFill>
                <a:latin typeface="Angsana New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99ff"/>
                </a:solidFill>
                <a:latin typeface="Angsana New"/>
              </a:rPr>
              <a:t>(</a:t>
            </a:r>
            <a:r>
              <a:rPr b="1" lang="th-TH" sz="4000" spc="-1" strike="noStrike">
                <a:solidFill>
                  <a:srgbClr val="ff99ff"/>
                </a:solidFill>
                <a:latin typeface="Angsana New"/>
              </a:rPr>
              <a:t>ต้อ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99ff"/>
                </a:solidFill>
                <a:latin typeface="Angsana New"/>
              </a:rPr>
              <a:t>ปรับปรุง</a:t>
            </a:r>
            <a:r>
              <a:rPr b="1" lang="th-TH" sz="4000" spc="-1" strike="noStrike">
                <a:solidFill>
                  <a:srgbClr val="ff99ff"/>
                </a:solidFill>
                <a:latin typeface="Angsana New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2133720"/>
            <a:ext cx="7010640" cy="3980520"/>
          </a:xfrm>
          <a:prstGeom prst="rect">
            <a:avLst/>
          </a:prstGeom>
          <a:noFill/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00"/>
                </a:solidFill>
                <a:latin typeface="Angsana New"/>
              </a:rPr>
              <a:t>- </a:t>
            </a:r>
            <a:r>
              <a:rPr b="1" lang="th-TH" sz="3600" spc="-1" strike="noStrike">
                <a:solidFill>
                  <a:srgbClr val="ffff00"/>
                </a:solidFill>
                <a:latin typeface="Angsana New"/>
              </a:rPr>
              <a:t>ไม่มีผลงา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9999"/>
                </a:solidFill>
                <a:latin typeface="Angsana New"/>
              </a:rPr>
              <a:t>-</a:t>
            </a:r>
            <a:r>
              <a:rPr b="1" lang="th-TH" sz="3600" spc="-1" strike="noStrike">
                <a:solidFill>
                  <a:srgbClr val="009999"/>
                </a:solidFill>
                <a:latin typeface="Angsana New"/>
              </a:rPr>
              <a:t>เขียนไม่ตรงประเด็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9999"/>
                </a:solidFill>
                <a:latin typeface="Angsana New"/>
              </a:rPr>
              <a:t>-</a:t>
            </a:r>
            <a:r>
              <a:rPr b="1" lang="th-TH" sz="3600" spc="-1" strike="noStrike">
                <a:solidFill>
                  <a:srgbClr val="009999"/>
                </a:solidFill>
                <a:latin typeface="Angsana New"/>
              </a:rPr>
              <a:t>ไม่มีการจัดระบบการเขียน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9999"/>
                </a:solidFill>
                <a:latin typeface="Angsana New"/>
              </a:rPr>
              <a:t>-</a:t>
            </a:r>
            <a:r>
              <a:rPr b="1" lang="th-TH" sz="3600" spc="-1" strike="noStrike">
                <a:solidFill>
                  <a:srgbClr val="009999"/>
                </a:solidFill>
                <a:latin typeface="Angsana New"/>
              </a:rPr>
              <a:t>ภาษาที่ใช้ทำให้ผู้อ่านเกิดความสับส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9999"/>
                </a:solidFill>
                <a:latin typeface="Angsana New"/>
              </a:rPr>
              <a:t>-</a:t>
            </a:r>
            <a:r>
              <a:rPr b="1" lang="th-TH" sz="3600" spc="-1" strike="noStrike">
                <a:solidFill>
                  <a:srgbClr val="009999"/>
                </a:solidFill>
                <a:latin typeface="Angsana New"/>
              </a:rPr>
              <a:t>ใช้ศัพท์ที่เหมาะส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ตัวบ่งชี้ ความสอดคล้องของวิสัยทัศน์  พันธกิจ และ วัตถุประสงค์ รวมทั้งความสอดคล้องกับขององค์ก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800000"/>
                </a:solidFill>
                <a:latin typeface="Arial Unicode MS"/>
                <a:cs typeface="Arial Unicode MS"/>
              </a:rPr>
              <a:t>ตัวบ่งชี้ </a:t>
            </a:r>
            <a:r>
              <a:rPr b="1" lang="th-TH" sz="20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1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2000"/>
            </a:br>
            <a:r>
              <a:rPr b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ความสอดคล้องของวิสัยทัศน์  พันธกิจ และ วัตถุประสงค์ของหน่วยงาน   รวมทั้งความสอดคล้องกับขององค์ก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800000"/>
                </a:solidFill>
                <a:latin typeface="Arial Unicode MS"/>
                <a:cs typeface="Arial Unicode MS"/>
              </a:rPr>
              <a:t>ตัวบ่งชี้ </a:t>
            </a:r>
            <a:r>
              <a:rPr b="1" lang="th-TH" sz="20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2 </a:t>
            </a:r>
            <a:br>
              <a:rPr sz="2000"/>
            </a:br>
            <a:r>
              <a:rPr b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มีส่วนร่วมของบุคลากรในการกำหนดวิสัยทัศน์  พันธกิจ  วัตถุประสงค์ และแผนการดำเนินงา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800000"/>
                </a:solidFill>
                <a:latin typeface="Arial Unicode MS"/>
                <a:cs typeface="Arial Unicode MS"/>
              </a:rPr>
              <a:t>ตัวบ่งชี้ </a:t>
            </a:r>
            <a:r>
              <a:rPr b="1" lang="en-US" sz="20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3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ร้อยละของหน่วยงานย่อยที่มีการกำหนดวัตถุประสงค์และแผนดำเนินงานที่เป็นลายลักษณ์อักษร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800000"/>
                </a:solidFill>
                <a:latin typeface="Arial Unicode MS"/>
                <a:cs typeface="Arial Unicode MS"/>
              </a:rPr>
              <a:t>ตัวบ่งชี้ </a:t>
            </a:r>
            <a:r>
              <a:rPr b="1" lang="en-US" sz="20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4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ร้อยละของแผนงาน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โครงการที่มีการดำเนินงานตรงตามที่กำหนดไว้ในแผนการดำเนินงาน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800000"/>
                </a:solidFill>
                <a:latin typeface="Arial Unicode MS"/>
                <a:cs typeface="Arial Unicode MS"/>
              </a:rPr>
              <a:t>ตัวบ่งชี้ </a:t>
            </a:r>
            <a:r>
              <a:rPr b="1" lang="en-US" sz="20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br>
              <a:rPr sz="2000"/>
            </a:br>
            <a:r>
              <a:rPr b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ร้อยละของแผนงาน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โครงการที่มีการประเมิ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800000"/>
                </a:solidFill>
                <a:latin typeface="Arial Unicode MS"/>
                <a:cs typeface="Arial Unicode MS"/>
              </a:rPr>
              <a:t>ตัวบ่งชี้ </a:t>
            </a:r>
            <a:r>
              <a:rPr b="1" lang="en-US" sz="20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6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br>
              <a:rPr sz="2000"/>
            </a:br>
            <a:r>
              <a:rPr b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โครงสร้างองค์กรชัดเจนเป็นระบบ เอื้อต่อการให้บริการอย่างมีคุณภาพและประสิทธิภา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435880" cy="777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  <a:cs typeface="Arial Unicode MS"/>
              </a:rPr>
              <a:t>เกณฑ์การประเมิ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820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 Unicode MS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ายถึง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r>
              <a:rPr b="1" lang="th-TH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มีวิสัยทัศน์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lang="th-TH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พันธกิจ และ วัตถุประสงค์ ตลอดจนตัวชี้วัดที่เขียนเป็นลายลักษณ์อักษรที่สอดคล้องกัน สอดคล้องกับพันธกิจหลักองค์กรครบ 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</a:t>
            </a:r>
            <a:r>
              <a:rPr b="1" lang="th-TH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ด้าน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1" lang="th-TH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ายถึง 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br>
              <a:rPr sz="2200"/>
            </a:br>
            <a:r>
              <a:rPr b="1" lang="th-TH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มีวิสัยทัศน์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lang="th-TH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พันธกิจ และ วัตถุประสงค์ ตลอดจนตัวชี้วัดที่เขียนเป็นลายลักษณ์อักษรที่สอดคล้องกัน สอดคล้องกับพันธกิจหลักองค์กรครบ </a:t>
            </a:r>
            <a:r>
              <a:rPr b="1" lang="th-TH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 </a:t>
            </a:r>
            <a:r>
              <a:rPr b="1" lang="th-TH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ด้า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  </a:t>
            </a:r>
            <a:r>
              <a:rPr b="1" lang="th-TH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ายถึง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br>
              <a:rPr sz="2200"/>
            </a:br>
            <a:r>
              <a:rPr b="1" lang="th-TH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มีวิสัยทัศน์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lang="th-TH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พันธกิจ และ วัตถุประสงค์ ตลอดจนตัวชี้วัดที่เขียนเป็นลายลักษณ์อักษรที่สอดคล้องกัน สอดคล้องกับพันธกิจหลักองค์กรครบ </a:t>
            </a:r>
            <a:r>
              <a:rPr b="1" lang="th-TH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 </a:t>
            </a:r>
            <a:r>
              <a:rPr b="1" lang="th-TH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ด้าน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  </a:t>
            </a:r>
            <a:r>
              <a:rPr b="1" lang="th-TH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ายถึง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br>
              <a:rPr sz="2200"/>
            </a:br>
            <a:r>
              <a:rPr b="1" lang="th-TH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มีวิสัยทัศน์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lang="th-TH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พันธกิจ และ วัตถุประสงค์ ตลอดจนตัวชี้วัดที่เขียนเป็นลายลักษณ์อักษรที่สอดคล้องกัน สอดคล้องกับพันธกิจหลักองค์กรครบ </a:t>
            </a:r>
            <a:r>
              <a:rPr b="1" lang="th-TH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</a:t>
            </a:r>
            <a:r>
              <a:rPr b="1" lang="th-TH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ด้า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1" lang="th-TH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ายถึง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br>
              <a:rPr sz="2200"/>
            </a:br>
            <a:r>
              <a:rPr b="1" lang="th-TH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ไม่มีวิสัยทัศน์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lang="th-TH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พันธกิจ วัตถุประสงค์ ตลอดจนตัวชี้วัดที่เขียนเป็นลายลักษณ์อักษรที่ไม่สอดคล้องกัน ไม่สอดคล้องกับพันธกิจหลักขององค์ก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ตัวบ่งชี้ การมีส่วนร่วมของบุคลากรในการกำหนดวิสัยทัศน์  พันธกิจ  วัตถุประสงค์ และแผน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กณฑ์การประเมิ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   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ายถึง  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br>
              <a:rPr sz="2000"/>
            </a:br>
            <a:r>
              <a:rPr b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บุคลากร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 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5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%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และทุกหน่วยงานมีส่วนร่วมกำหนด   วิสัยทัศน์  </a:t>
            </a:r>
            <a:br>
              <a:rPr sz="2000"/>
            </a:br>
            <a:r>
              <a:rPr b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พันธกิจ  วัตถุประสงค์  และแผนการดำเนินงา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ายถึง 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บุคลากร 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0 – 75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%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และเพียงบางหน่วยงานมีส่วนร่วมกำหนดวิสัยทัศน์  พันธกิจ  วัตถุประสงค์และแผนการดำเนินงา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ายถึง  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บุคลากร 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0 – 50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%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และเพียงบางหน่วยงานมีส่วนร่วมกำหนดวิสัยทัศน์  พันธกิจ  วัตถุประสงค์และแผนการดำเนินงา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  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ายถึง  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br>
              <a:rPr sz="2000"/>
            </a:br>
            <a:r>
              <a:rPr b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บุคลากร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30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%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และเพียงบางหน่วยงานมีส่วนร่วมกำหนดวิสัยทัศน์  พันธกิจ  วัตถุประสงค์และแผนการดำเนินงา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rial"/>
                <a:cs typeface="Angsana New"/>
              </a:rPr>
              <a:t>ตัวชี้วัด โครงการที่ดำเนินการตามแผนงา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  </a:t>
            </a:r>
            <a:r>
              <a:rPr b="1" lang="th-TH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ายถึง</a:t>
            </a:r>
            <a:br>
              <a:rPr sz="2200"/>
            </a:br>
            <a:r>
              <a:rPr b="1" lang="th-TH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ข้อมูลจำนวนแผนงาน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1" lang="th-TH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โครงการที่มีการดำเนินงาน ได้ร้อยละ 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0 </a:t>
            </a:r>
            <a:r>
              <a:rPr b="1" lang="th-TH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ขึ้นไ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</a:t>
            </a:r>
            <a:r>
              <a:rPr b="1" lang="th-TH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ายถึง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br>
              <a:rPr sz="2200"/>
            </a:br>
            <a:r>
              <a:rPr b="1" lang="th-TH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ข้อมูลจำนวนแผนงาน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1" lang="th-TH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โครงการที่มีการดำเนินงาน ได้ร้อยละ 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0 - 7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  </a:t>
            </a:r>
            <a:r>
              <a:rPr b="1" lang="th-TH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ายถึง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br>
              <a:rPr sz="2200"/>
            </a:br>
            <a:r>
              <a:rPr b="1" lang="th-TH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ข้อมูลจำนวนแผนงาน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1" lang="th-TH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โครงการที่มีการดำเนินงาน ได้ร้อยละ 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0 - 6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  </a:t>
            </a:r>
            <a:r>
              <a:rPr b="1" lang="th-TH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ายถึง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br>
              <a:rPr sz="2200"/>
            </a:br>
            <a:r>
              <a:rPr b="1" lang="th-TH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ข้อมูลจำนวนแผนงาน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1" lang="th-TH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โครงการที่มีการดำเนินงาน ได้ร้อยละ 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0 - 5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</a:t>
            </a:r>
            <a:r>
              <a:rPr b="1" lang="th-TH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ายถึง 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br>
              <a:rPr sz="2200"/>
            </a:br>
            <a:r>
              <a:rPr b="1" lang="th-TH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ข้อมูลจำนวนแผนงาน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1" lang="th-TH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โครงการที่มีการดำเนินงาน ได้น้อยกว่าร้อยละ 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ตัวบ่งชี้ ร้อยละของแผนงาน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โครงการที่มีการประเมิ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กณฑ์การประเมิ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 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ายถึง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มีการประเมินแผนงาน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โครงการ ร้อยละ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0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ขึ้นไ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ายถึง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มีการประเมินแผนงาน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โครงการ ร้อยละ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0  -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   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ายถึง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มีการประเมินแผนงาน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โครงการ ร้อยละ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0 - 5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   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ายถึง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มีการประเมินแผนงาน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โครงการ ร้อยละ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0 - 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ายถึง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มีการประเมินแผนงาน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โครงการ น้อยกว่าร้อยละ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ตัวบ่งชี้ 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.1.1  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โครงสร้างองค์กรชัดเจนเป็นระบบ เอื้อต่อการให้บริการอย่างมีคุณภาพและประสิทธิภา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 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ายถึง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มีข้อ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และมีการวิเคราะห์จุดแข็งจุดอ่อนของการจัดองค์กรนำไปสู่การปรับโครงสร้างให้เหมาะสมขึ้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ายถึง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บุคลากรแต่ละคนทราบความรับผิดชอบของตนมีระบบรายงานภาระงานที่ชัดเ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 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ายถึง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มีข้อ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และมีการกำหนดคุณสมบัติเฉพาะ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 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ายถึง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มีแผนภูมิองค์กรแสดงสายการบังคับบัญช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ายถึง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มีโครงสร้างองค์กรของหน่วย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ตัวบ่งชี้   มีระบบการบริหารจัดการที่ดีแบบธรรมาภิบาล </a:t>
            </a:r>
            <a:br>
              <a:rPr sz="2800"/>
            </a:br>
            <a:r>
              <a:rPr b="1" lang="th-TH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และภาวะผู้น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820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 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ายถึง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มีข้อ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และมีการนำผลการประเมินมาใช้ในการปรับปรุงการบริหารและการจัด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ายถึง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มีข้อ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และมีการประเมินการดำเนินงานในเชิงวัดผล 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PI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ของหน่วย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ายถึง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มีข้อ 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และมีการติดตามตรวจสอบและควบคุมการดำเนินงานจากรายงา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ายถึง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มีข้อ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และมีการดำเนินการตามแผ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ายถึง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ผู้บริหารเปิดโอกาสให้บุคลากรมีส่วนร่วมในการจัดทำแผนงาน รับรู้แผนงาน มีการประเมินผู้บริห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 u="sng">
                <a:solidFill>
                  <a:srgbClr val="000000"/>
                </a:solidFill>
                <a:uFillTx/>
                <a:latin typeface="Arial Unicode MS"/>
                <a:cs typeface="Arial Unicode MS"/>
              </a:rPr>
              <a:t>หลักการข้อที่</a:t>
            </a:r>
            <a:r>
              <a:rPr b="1" lang="th-TH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 </a:t>
            </a:r>
            <a:r>
              <a:rPr b="1" lang="th-TH" sz="26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ยึดหลัก </a:t>
            </a:r>
            <a:r>
              <a:rPr b="1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ality, Quantity Cost , Time Satisfaction &amp;Safe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748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Quantity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ป็นวัดผลลัพธ์ในเชิงปริมาณ ความหมายที่ใช้ในการออกแบบดัชน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คือความครบถ้วน เช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ดัชนีการส่งมอบบริการได้ครบถ้วนกี่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ยอดอนุมัติ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บิกจ่ายเงินกู้จริงเทียบเป้าหมายอยู่ที่กี่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จำนวนลูกค้าที่พบได้เฉลี่ยต่อวัน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Success rate %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ก็บลูกหนี้ได้ครบตามงวดชำระที่กำหนด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Rework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อัตราผลตอบแทนจากการลงทุ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อัตรากำไรเบื้องต้น อัตรากำไรสุทธิ อัตราสภาพคล่อง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Liquidit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ตัวบ่งชี้ มีคู่มือปฏิบัติงาน มีการเผยแพร่การใช้คู่มือปฏิบัติงาน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 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ายถึง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มีข้อ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4)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และมีระบบบันทึกที่เอื้ออำนวยให้ทราบว่ามีการปฏิบัติตามคู่มือที่กำหนดไว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ายถึง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มีข้อ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3)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และเจ้าหน้าที่ส่วนใหญ่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มากกว่าร้อยละ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0 )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ห็นประโยชน์ของการมีคู่มือ และปฏิบัติตามคู่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 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ายถึง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มีการเผยแพร่คู่มือให้เจ้าหน้าที่ได้รู้ในรูปแบบต่างๆและเจ้าหน้าที่สามารถใช้คู่มือการปฏิบัติงานได้เมื่อต้องการตลอดเวลา มีระบบที่อำนวยความสะดวกในการค้นหาประเด็นที่ต้อ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 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ายถึง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มีคู่มือเก็บไว้ในที่ปฏิบัติงาน มีการติดตามการปฏิบัติงานตามคู่มือ ด้วยการสังเกตของหัวหน้า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ายถึง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ไม่มีการเผยแพร่หรือการนำคู่มือไปใช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ตัวบ่งชี้ การติดตามตรวจสอบประเมินและปรับปรุงคู่มือการปฏิบัติงานและคู่มือการให้บริ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ายถึง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มีข้อ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2)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และมีการปรับปรุง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9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 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ายถึง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มีข้อ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2)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และมีการปรับปรุงแล้วอย่างน้อย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งานขึ้นไ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    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ายถึง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มีข้อ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2)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และมีการปรับปรุงตามผลการตรวจสอบและประเมินผลคู่การปฏิบัติงานอย่างน้อย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งานขึ้นไ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    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ายถึง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มีการติดตามตรวจสอบการปฏิบัติงานตามคู่มือและรายงานผลโดยคณะกรรมการภายในของสำนัก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 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ายถึง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ไม่มีการติดตามตรวจสอบการปฏิบัติงานตามคู่มือการปฏิบัติ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ตัวบ่งชี้ ระบบฐานข้อมูล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สารสนเทศเพื่อการบริหารงาน 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ทั้งหมด 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9 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งา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8930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 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ายถึง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ใช้ระบบฐานข้อมูล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สารสนเทศที่เป็นปัจจุบันถูกต้องเพื่อการบริหารและตัดสินใจในงาน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9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ายถึง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ใช้ระบบฐานข้อมูล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สารสนเทศที่เป็นปัจจุบันถูกต้องเพื่อการบริหารและตัดสินใจในงาน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 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ายถึง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ใช้ระบบฐานข้อมูล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สารสนเทศที่เป็นปัจจุบันถูกต้องเพื่อการบริหารและตัดสินใจในงาน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 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ายถึง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ระบบฐานข้อมูล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สารสนเทศ ที่เป็นปัจจุบันถูกต้อ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ายถึง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ไม่มีระบบฐานข้อมูล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สารสนเท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ngsana New"/>
              </a:rPr>
              <a:t>chiraporn@smebank.co.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8171092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Q: Quality</a:t>
            </a:r>
            <a:r>
              <a:rPr b="1" i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ป็นวัดผลลัพธ์เชิงคุณภาพ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ความหมายที่จะใช้ในการออกแบบดัชนีคือ 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ความผิดพลา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สิ่งที่ไม่เป็นไปตามข้อ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สิ่งที่ไม่เป็นไปตามมาตรฐา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สิ่งที่ไม่ได้คุณภาพ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3300"/>
                </a:solidFill>
                <a:latin typeface="Arial Unicode MS"/>
                <a:cs typeface="Arial Unicode MS"/>
              </a:rPr>
              <a:t>ทดสอ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333399"/>
                </a:solidFill>
                <a:latin typeface="Arial Unicode MS"/>
                <a:cs typeface="Arial Unicode MS"/>
              </a:rPr>
              <a:t>จงยกตัวอย่าง </a:t>
            </a:r>
            <a:r>
              <a:rPr b="1" lang="en-US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KPI </a:t>
            </a:r>
            <a:r>
              <a:rPr b="1" lang="th-TH" sz="2400" spc="-1" strike="noStrike">
                <a:solidFill>
                  <a:srgbClr val="333399"/>
                </a:solidFill>
                <a:latin typeface="Arial Unicode MS"/>
                <a:cs typeface="Arial Unicode MS"/>
              </a:rPr>
              <a:t>เชิงคุณภาพมา </a:t>
            </a:r>
            <a:r>
              <a:rPr b="1" lang="th-TH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3 </a:t>
            </a:r>
            <a:r>
              <a:rPr b="1" lang="th-TH" sz="2400" spc="-1" strike="noStrike">
                <a:solidFill>
                  <a:srgbClr val="333399"/>
                </a:solidFill>
                <a:latin typeface="Arial Unicode MS"/>
                <a:cs typeface="Arial Unicode MS"/>
              </a:rPr>
              <a:t>อย่า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79280" y="4797360"/>
          <a:ext cx="8785440" cy="1238400"/>
        </p:xfrm>
        <a:graphic>
          <a:graphicData uri="http://schemas.openxmlformats.org/drawingml/2006/table">
            <a:tbl>
              <a:tblPr/>
              <a:tblGrid>
                <a:gridCol w="3132360"/>
                <a:gridCol w="1616040"/>
                <a:gridCol w="2035080"/>
                <a:gridCol w="1001880"/>
                <a:gridCol w="1000080"/>
              </a:tblGrid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  <a:cs typeface="Tahoma"/>
                        </a:rPr>
                        <a:t>ประเด็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  <a:cs typeface="Tahoma"/>
                        </a:rPr>
                        <a:t>ตัวชี้วั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  <a:cs typeface="Tahoma"/>
                        </a:rPr>
                        <a:t>เกณฑ์ผ่า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  <a:cs typeface="Tahoma"/>
                        </a:rPr>
                        <a:t>เกณฑ์ดีมา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  <a:cs typeface="Tahoma"/>
                        </a:rPr>
                        <a:t>เกณฑ์ดีเลิ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3300"/>
                </a:solidFill>
                <a:latin typeface="Arial Unicode MS"/>
                <a:cs typeface="Arial Unicode MS"/>
              </a:rPr>
              <a:t>เฉล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%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การส่งมอบที่ผิดพลา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%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การยกเลิกวงเงินสินเชื่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ปริมาณการคืนชำระหนี้ปิดบัญชีเพื่อ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fi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สินเชื่อที่ผ่าน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e-screening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แต่ที่ไม่ผ่าน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-appr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ข้อร้องเรียนลูกค้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ค่าปรั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จำนวนสิ่งที่ไม่เป็นไปตามข้อกำหนดตามระเบีย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จำนวนใบขอให้แก้ไขรายการ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คะแนนระดับความเสี่ย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9900cc"/>
                </a:solidFill>
                <a:uFillTx/>
                <a:latin typeface="Arial Unicode MS"/>
                <a:ea typeface="Arial Unicode MS"/>
              </a:rPr>
              <a:t>Cost</a:t>
            </a:r>
            <a:r>
              <a:rPr b="1" i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h-TH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ป็นวัดผลลัพธ์เชิงต้นทุน </a:t>
            </a:r>
            <a:br>
              <a:rPr sz="2200"/>
            </a:br>
            <a:r>
              <a:rPr b="1" lang="th-TH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ความหมายที่จะใชออกแบบดัชนีคือ </a:t>
            </a:r>
            <a:r>
              <a:rPr b="1" lang="th-TH" sz="2200" spc="-1" strike="noStrike">
                <a:solidFill>
                  <a:srgbClr val="ff3300"/>
                </a:solidFill>
                <a:latin typeface="Arial Unicode MS"/>
                <a:cs typeface="Arial Unicode MS"/>
              </a:rPr>
              <a:t>เงินที่จ่ายไปเพื่อให้สามารถปฏิบัติตามแผนหรือเกิดผลลัพธ์ตามเป้าหมาย</a:t>
            </a:r>
            <a:r>
              <a:rPr b="1" lang="th-TH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เช่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% </a:t>
            </a:r>
            <a:r>
              <a:rPr b="1" lang="th-TH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ค่าใช้จ่ายดำเนินงานต่อยอดสินเชื่อคงค้าง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% </a:t>
            </a:r>
            <a:r>
              <a:rPr b="1" lang="th-TH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ค่าใช้จ่ายการตลาดต่อยอดอนุมัติใหม่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% </a:t>
            </a:r>
            <a:r>
              <a:rPr b="1" lang="th-TH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ค่าใช้จ่ายบริหารต่อยอดอนุมัติใหม่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% </a:t>
            </a:r>
            <a:r>
              <a:rPr b="1" lang="th-TH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ค่าใช้จ่ายในการสรรหา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1" lang="th-TH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ค่าใช้จ่ายดำเนินงานต่อหน่วย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% </a:t>
            </a:r>
            <a:r>
              <a:rPr b="1" lang="th-TH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ดอกเบี้ยจ่ายต่อยอดรับชำระคื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9900cc"/>
                </a:solidFill>
                <a:uFillTx/>
                <a:latin typeface="Arial Unicode MS"/>
                <a:ea typeface="Arial Unicode MS"/>
              </a:rPr>
              <a:t>T: Time</a:t>
            </a:r>
            <a:r>
              <a:rPr b="1" i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h-TH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ป็นวัดผลลัพธ์เชิงเวล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ความหมายที่จะใช้ออกแบบดัชนีคือ </a:t>
            </a:r>
            <a:r>
              <a:rPr b="1" lang="th-TH" sz="2200" spc="-1" strike="noStrike">
                <a:solidFill>
                  <a:srgbClr val="ff3300"/>
                </a:solidFill>
                <a:latin typeface="Arial Unicode MS"/>
                <a:cs typeface="Arial Unicode MS"/>
              </a:rPr>
              <a:t>เวลาที่ใช้ไปหรือเวลาส่งมอบ</a:t>
            </a:r>
            <a:r>
              <a:rPr b="1" lang="th-TH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เช่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%</a:t>
            </a:r>
            <a:r>
              <a:rPr b="1" lang="th-TH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การส่งมอบตรงเวล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ระยะเวลาสรรหา ระยะเวลาดำเนินงาน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der fulfillment cycle</a:t>
            </a:r>
            <a:r>
              <a:rPr b="1" lang="th-TH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</a:t>
            </a:r>
            <a:r>
              <a:rPr b="1" lang="th-TH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วัน</a:t>
            </a:r>
            <a:r>
              <a:rPr b="1" lang="th-TH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ระยะเวลาจัดซื้อ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Purchasing lead time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อายุลูกหนี้เฉลี่ย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ระยะเวลาจัดทำเอกสารส่งออก ระยะเวลาในการอบร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cc"/>
                </a:solidFill>
                <a:uFillTx/>
                <a:latin typeface="Arial Unicode MS"/>
                <a:ea typeface="Arial Unicode MS"/>
              </a:rPr>
              <a:t>S: Satisfaction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ป็นวัดผลลัพธ์เชิงความพึงพอใจ 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ความหมายที่จะใช้ออกแบบดัชนีคือความพึงพอใจของผู้ได้รับบริการทั้งในและนอกองค์กร เช่น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⊡ ดัชนีคะแนนความพึงพอใจลูกค้า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CSI)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⊡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คะแนนความพึงพอใจของพนักงาน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ESI)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⊡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คะแนนความพึงพอใจด้านบริการ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ervice qua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⊡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อัตราการคงอยู่ลูกค้าเก่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⊡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อัตราการเพิ่มขึ้นลูกค้าใหม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cc"/>
                </a:solidFill>
                <a:uFillTx/>
                <a:latin typeface="Arial Unicode MS"/>
                <a:ea typeface="Arial Unicode MS"/>
              </a:rPr>
              <a:t>S: Safety</a:t>
            </a:r>
            <a:r>
              <a:rPr b="1" lang="en-US" sz="2400" spc="-1" strike="noStrike">
                <a:solidFill>
                  <a:srgbClr val="9900cc"/>
                </a:solidFill>
                <a:latin typeface="Arial Unicode MS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ป็นวัดผลลัพธ์เชิงความปลอดภัย 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ความหมายที่จะใช้ออกแบบดัชนีคือ</a:t>
            </a:r>
            <a:r>
              <a:rPr b="1" lang="th-TH" sz="2400" spc="-1" strike="noStrike">
                <a:solidFill>
                  <a:srgbClr val="ff3300"/>
                </a:solidFill>
                <a:latin typeface="Arial Unicode MS"/>
                <a:cs typeface="Arial Unicode MS"/>
              </a:rPr>
              <a:t>ความปลอดภัยต่อชีวิต ความปลอดภัยต่อทรัพย์สิน ความปลอดภัยต่อสุขภาพร่างกาย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เช่น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⊡ ดัชนีจำนวนอุบัติเหต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⊡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อัตราการแทรกแซงโยไม่ได้รับอนุญา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1:54:15Z</dcterms:created>
  <dc:creator>บวรภพ สุเมธีประสิทธิ์</dc:creator>
  <dc:description/>
  <dc:language>en-US</dc:language>
  <cp:lastModifiedBy> </cp:lastModifiedBy>
  <dcterms:modified xsi:type="dcterms:W3CDTF">2006-11-21T09:07:10Z</dcterms:modified>
  <cp:revision>11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1861426</vt:r8>
  </property>
  <property fmtid="{D5CDD505-2E9C-101B-9397-08002B2CF9AE}" pid="3" name="_AuthorEmail">
    <vt:lpwstr>Chiraporn@smebank.co.th</vt:lpwstr>
  </property>
  <property fmtid="{D5CDD505-2E9C-101B-9397-08002B2CF9AE}" pid="4" name="_AuthorEmailDisplayName">
    <vt:lpwstr>Chiraporn Sumetheeprasit</vt:lpwstr>
  </property>
  <property fmtid="{D5CDD505-2E9C-101B-9397-08002B2CF9AE}" pid="5" name="_EmailSubject">
    <vt:lpwstr>ช่วย upload</vt:lpwstr>
  </property>
</Properties>
</file>