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2825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696960" y="738000"/>
            <a:ext cx="5356080" cy="37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1440" y="4695840"/>
            <a:ext cx="49402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DC2200A-CBF8-42B3-9325-118DDCA93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96960" y="73836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1440" y="4695840"/>
            <a:ext cx="49402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กรณ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 breakdown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เช่น ธพ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มีเปิดการ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dge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ความเสี่ยงในลักษณ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folio hedge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ที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or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ต่างกัน เช่น ม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01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ที่เป็นบวกที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or 10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ปี และม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01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ที่เป็นลบที่เท่ากันที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or 2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ปี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หา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ที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แล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ปีขยับในทิศทางเดียวกัน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เป็นบวก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ได้แก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shift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ขึ้นหรือลง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ก็จะม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 / loss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ที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et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กั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หากม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 breakdown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ขึ้น ทำให้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 10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ปี ปรับลง  แล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ปี เพิ่มขึ้น   ธพ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จ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loss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ทั้ง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ขาเป็นต้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696960" y="73836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1440" y="4695840"/>
            <a:ext cx="49402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lvl="2" marL="9144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กรณีการพิจารณาการปรับมูลค่า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valuation adjustment) </a:t>
            </a: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เช่น ธพ</a:t>
            </a: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มีการ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ess </a:t>
            </a: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ผลิตภัณฑ์ที่ไม่มีสภาพคล่องในตลาด </a:t>
            </a: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lliquid product) </a:t>
            </a: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ซึ่ง ธพ</a:t>
            </a: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ได้มีการตั้ง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valuation adjustment </a:t>
            </a: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ไว้แล้ว  อาจนำผลที่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ess </a:t>
            </a: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มาหักด้วย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djustment </a:t>
            </a: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ที่ตั้งไว้ ก่อนการพิจารณาผลกระทบที่อาจเกิดขึ้นจริง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96960" y="73836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1440" y="4695840"/>
            <a:ext cx="49402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findahl index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อ้างอิงจา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er Wy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&lt; 3%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ยอมรับ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% &lt;HI &lt; 5%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ปานกลา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% &lt; HI           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มา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96960" y="73836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1440" y="4695840"/>
            <a:ext cx="49402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ประสิทธิภาพของเครื่องมือที่ใช้ป้องกันความเสี่ยงภายใต้ภาวะวิกฤต เช่น ภายใต้ภาวะวิกฤต  หาก ธพ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ต้องการจะปิดความเสี่ยง ราคาอาจจะสูงหรือมีโอกาสที่จะมี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rrelation breakdown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ได้ ทำให้ประสิทธิภาพของ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dging position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ลดลง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96960" y="73836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1440" y="4695840"/>
            <a:ext cx="49402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ประสิทธิภาพของเครื่องมือที่ใช้ป้องกันความเสี่ยงภายใต้ภาวะวิกฤต เช่น ภายใต้ภาวะวิกฤต  หาก ธพ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ต้องการจะปิดความเสี่ยง ราคาอาจจะสูงหรือมีโอกาสที่จะมี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rrelation breakdown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ได้ ทำให้ประสิทธิภาพของ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dging position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ลดลง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96960" y="73836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1440" y="4695840"/>
            <a:ext cx="49402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lvl="2" marL="91440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เครื่องมือทางการเงินที่ใช้ป้องกันความเสี่ยง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เช่น ควรคำนึงถึง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dging position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ที่มีด้วย  ประสิทธิภาพในการ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dging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ภายใต้ภาวะวิกฤต ลดลง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การกระจุกตัวของฐานะความเสี่ยงในมิติต่างๆ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เช่น มี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pricing gap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ที่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ปี สูงมาก  อาจ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ress </a:t>
            </a:r>
            <a:r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ที่จุดนี้ เป็นต้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96960" y="73836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1440" y="4695840"/>
            <a:ext cx="49402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gger point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เช่น อัตราการไหลออกของเงินฝากประจำวันที่จ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gger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แผนฉุกเฉินสภาพคล่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96960" y="73836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1440" y="4695840"/>
            <a:ext cx="49402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gger point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เช่น อัตราการไหลออกของเงินฝากประจำวันที่จ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gger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แผนฉุกเฉินสภาพคล่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6680" y="685440"/>
            <a:ext cx="891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6680" y="3391920"/>
            <a:ext cx="891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6680" y="685440"/>
            <a:ext cx="4348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3280" y="685440"/>
            <a:ext cx="4348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6680" y="3391920"/>
            <a:ext cx="4348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3280" y="3391920"/>
            <a:ext cx="4348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6680" y="685440"/>
            <a:ext cx="2869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0240" y="685440"/>
            <a:ext cx="2869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93440" y="685440"/>
            <a:ext cx="2869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6680" y="3391920"/>
            <a:ext cx="2869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0240" y="3391920"/>
            <a:ext cx="2869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93440" y="3391920"/>
            <a:ext cx="2869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6680" y="685440"/>
            <a:ext cx="8912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6680" y="685440"/>
            <a:ext cx="891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6680" y="685440"/>
            <a:ext cx="4348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3280" y="685440"/>
            <a:ext cx="4348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6680" y="685440"/>
            <a:ext cx="4348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3280" y="685440"/>
            <a:ext cx="4348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6680" y="3391920"/>
            <a:ext cx="4348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6680" y="685440"/>
            <a:ext cx="4348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3280" y="685440"/>
            <a:ext cx="4348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3280" y="3391920"/>
            <a:ext cx="4348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6680" y="685440"/>
            <a:ext cx="4348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3280" y="685440"/>
            <a:ext cx="4348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6680" y="3391920"/>
            <a:ext cx="891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41409" t="2759" r="1652" b="12505"/>
          <a:stretch/>
        </p:blipFill>
        <p:spPr>
          <a:xfrm>
            <a:off x="3240" y="4680"/>
            <a:ext cx="4190760" cy="6208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456760" y="-12600"/>
            <a:ext cx="1460520" cy="396720"/>
          </a:xfrm>
          <a:prstGeom prst="rect">
            <a:avLst/>
          </a:prstGeom>
          <a:solidFill>
            <a:srgbClr val="3366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852760" y="13644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  <a:ea typeface="Cordia New"/>
              </a:rPr>
              <a:t>Page  </a:t>
            </a:r>
            <a:fld id="{9181DB55-386A-415A-A1E2-075DBA5249F8}" type="slidenum">
              <a:rPr b="1" lang="en-US" sz="1000" spc="-1" strike="noStrike">
                <a:solidFill>
                  <a:srgbClr val="3333cc"/>
                </a:solidFill>
                <a:latin typeface="Arial"/>
                <a:ea typeface="Cordia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03720" y="-12600"/>
            <a:ext cx="3886200" cy="39672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629400"/>
            <a:ext cx="9917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66680" y="685440"/>
            <a:ext cx="891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000066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rdia New"/>
              </a:rPr>
              <a:t>Click to edit the outline text format</a:t>
            </a: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  <a:p>
            <a:pPr lvl="1" marL="571680" indent="-393840">
              <a:spcBef>
                <a:spcPts val="9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rdia New"/>
              </a:rPr>
              <a:t>Second Outline Level</a:t>
            </a: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  <a:p>
            <a:pPr lvl="2" marL="1198440" indent="-228600">
              <a:spcBef>
                <a:spcPts val="901"/>
              </a:spcBef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rdia New"/>
              </a:rPr>
              <a:t>Third Outline Level</a:t>
            </a: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rdia New"/>
              </a:rPr>
              <a:t>Fourth Outline Level</a:t>
            </a: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rdia New"/>
              </a:rPr>
              <a:t>Fifth Outline Level</a:t>
            </a: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rdia New"/>
              </a:rPr>
              <a:t>Sixth Outline Level</a:t>
            </a: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rdia New"/>
              </a:rPr>
              <a:t>Seventh Outline Level</a:t>
            </a: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6" name=""/>
          <p:cNvSpPr/>
          <p:nvPr/>
        </p:nvSpPr>
        <p:spPr>
          <a:xfrm>
            <a:off x="-12600" y="0"/>
            <a:ext cx="6183360" cy="39672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5ebc"/>
                </a:solidFill>
                <a:latin typeface="Cordia New"/>
                <a:cs typeface="Cordia New"/>
              </a:rPr>
              <a:t>แนวทางการทดสอบภาวะวิกฤต </a:t>
            </a:r>
            <a:r>
              <a:rPr b="1" lang="th-TH" sz="1600" spc="-1" strike="noStrike">
                <a:solidFill>
                  <a:srgbClr val="005ebc"/>
                </a:solidFill>
                <a:latin typeface="Cordia New"/>
                <a:ea typeface="Cordia New"/>
              </a:rPr>
              <a:t>(</a:t>
            </a:r>
            <a:r>
              <a:rPr b="1" lang="en-US" sz="1600" spc="-1" strike="noStrike">
                <a:solidFill>
                  <a:srgbClr val="005ebc"/>
                </a:solidFill>
                <a:latin typeface="Cordia New"/>
                <a:ea typeface="Cordia New"/>
              </a:rPr>
              <a:t>Stress Test) </a:t>
            </a:r>
            <a:r>
              <a:rPr b="1" lang="th-TH" sz="1600" spc="-1" strike="noStrike">
                <a:solidFill>
                  <a:srgbClr val="005ebc"/>
                </a:solidFill>
                <a:latin typeface="Cordia New"/>
                <a:cs typeface="Cordia New"/>
              </a:rPr>
              <a:t>ของธนาคารพาณิชย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502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9320" y="380880"/>
            <a:ext cx="6881760" cy="533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0880"/>
            <a:ext cx="3019320" cy="19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-1080" y="6209640"/>
            <a:ext cx="9905760" cy="485640"/>
          </a:xfrm>
          <a:prstGeom prst="rect">
            <a:avLst/>
          </a:prstGeom>
          <a:solidFill>
            <a:srgbClr val="6699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0" y="6696000"/>
            <a:ext cx="6627960" cy="163440"/>
          </a:xfrm>
          <a:prstGeom prst="rect">
            <a:avLst/>
          </a:prstGeom>
          <a:solidFill>
            <a:srgbClr val="86b2f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637240" y="6692040"/>
            <a:ext cx="4267080" cy="165240"/>
          </a:xfrm>
          <a:prstGeom prst="rect">
            <a:avLst/>
          </a:prstGeom>
          <a:solidFill>
            <a:srgbClr val="33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-1080" y="2348280"/>
            <a:ext cx="3020760" cy="3746520"/>
          </a:xfrm>
          <a:prstGeom prst="rect">
            <a:avLst/>
          </a:prstGeom>
          <a:gradFill rotWithShape="0">
            <a:gsLst>
              <a:gs pos="0">
                <a:srgbClr val="86b2f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grayscl/>
          </a:blip>
          <a:srcRect l="41366" t="2694" r="1717" b="12548"/>
          <a:stretch/>
        </p:blipFill>
        <p:spPr>
          <a:xfrm>
            <a:off x="0" y="0"/>
            <a:ext cx="4189320" cy="621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89480" y="4694400"/>
            <a:ext cx="483372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ฝ่ายตรวจสอบความเสี่ยงและเทคโนโลยีสารสนเทศ</a:t>
            </a:r>
            <a:br>
              <a:rPr sz="2400"/>
            </a:br>
            <a:r>
              <a:rPr b="1" lang="th-TH" sz="2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ยกำกับสถาบันการเงิ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19320" y="762120"/>
            <a:ext cx="6885000" cy="12920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17880" y="2349360"/>
            <a:ext cx="6897600" cy="1765440"/>
          </a:xfrm>
          <a:prstGeom prst="rect">
            <a:avLst/>
          </a:prstGeom>
          <a:solidFill>
            <a:srgbClr val="007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17880" y="0"/>
            <a:ext cx="6885000" cy="7621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19320" y="2044800"/>
            <a:ext cx="6885000" cy="304560"/>
          </a:xfrm>
          <a:prstGeom prst="rect">
            <a:avLst/>
          </a:prstGeom>
          <a:solidFill>
            <a:srgbClr val="86b2f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0240" y="0"/>
            <a:ext cx="5286600" cy="380880"/>
          </a:xfrm>
          <a:prstGeom prst="rect">
            <a:avLst/>
          </a:prstGeom>
          <a:solidFill>
            <a:srgbClr val="007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19320" y="812880"/>
            <a:ext cx="68817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66"/>
                </a:solidFill>
                <a:latin typeface="Cordia New"/>
                <a:cs typeface="Cordia New"/>
              </a:rPr>
              <a:t>แนวทางการทดสอบภาวะวิกฤต</a:t>
            </a:r>
            <a:br>
              <a:rPr sz="3200"/>
            </a:br>
            <a:r>
              <a:rPr b="1" lang="th-TH" sz="3200" spc="-1" strike="noStrike">
                <a:solidFill>
                  <a:srgbClr val="003366"/>
                </a:solidFill>
                <a:latin typeface="Cordia New"/>
                <a:ea typeface="Cordia New"/>
              </a:rPr>
              <a:t>(</a:t>
            </a:r>
            <a:r>
              <a:rPr b="1" lang="en-US" sz="3200" spc="-1" strike="noStrike">
                <a:solidFill>
                  <a:srgbClr val="003366"/>
                </a:solidFill>
                <a:latin typeface="Cordia New"/>
                <a:ea typeface="Cordia New"/>
              </a:rPr>
              <a:t>Stress test) </a:t>
            </a:r>
            <a:r>
              <a:rPr b="1" lang="th-TH" sz="3200" spc="-1" strike="noStrike">
                <a:solidFill>
                  <a:srgbClr val="003366"/>
                </a:solidFill>
                <a:latin typeface="Cordia New"/>
                <a:cs typeface="Cordia New"/>
              </a:rPr>
              <a:t>ของธนาคารพาณิชย์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ภายใต้</a:t>
            </a:r>
            <a:r>
              <a:rPr b="1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นวทางการกำกับดูแลเงินกองทุนของ ธพ</a:t>
            </a:r>
            <a:r>
              <a:rPr b="1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โดยทางการ </a:t>
            </a:r>
            <a:r>
              <a:rPr b="1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Pilla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17880" y="5715000"/>
            <a:ext cx="6897600" cy="380880"/>
          </a:xfrm>
          <a:prstGeom prst="rect">
            <a:avLst/>
          </a:prstGeom>
          <a:solidFill>
            <a:srgbClr val="609df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240" y="5715000"/>
            <a:ext cx="3022560" cy="495360"/>
          </a:xfrm>
          <a:prstGeom prst="rect">
            <a:avLst/>
          </a:prstGeom>
          <a:solidFill>
            <a:srgbClr val="609df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019320" y="6095880"/>
            <a:ext cx="6885000" cy="114480"/>
          </a:xfrm>
          <a:prstGeom prst="rect">
            <a:avLst/>
          </a:prstGeom>
          <a:solidFill>
            <a:srgbClr val="33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4680" y="2514600"/>
            <a:ext cx="6226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บรรยายให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ชมรมผู้ตรวจสอบภายในธนาคารและสถาบันการเงิ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ณ โรงแรมวินเซอร์ สวีทส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18</a:t>
            </a:r>
            <a:r>
              <a:rPr b="1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</a:t>
            </a:r>
            <a:r>
              <a:rPr b="1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มิถุนายน </a:t>
            </a:r>
            <a:r>
              <a:rPr b="1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25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79440" y="546120"/>
            <a:ext cx="9523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6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ก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บทบาทหน้าที่ ความรับผิดชอบของ</a:t>
            </a:r>
            <a:br>
              <a:rPr sz="3200"/>
            </a:b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ณะกรรมการและผู้บริหารระดับสู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6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6120" algn="ctr">
              <a:lnSpc>
                <a:spcPct val="100000"/>
              </a:lnSpc>
              <a:spcBef>
                <a:spcPts val="2200"/>
              </a:spcBef>
              <a:buClr>
                <a:srgbClr val="000066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353880" y="1828800"/>
            <a:ext cx="102567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31760" indent="-35064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คณะกรรมการ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มีหน้าที่อนุมัตินโยบายการทดสอบภาวะวิกฤตที่จัดทำเป็นลายลักษณ์อักษร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35064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ผู้บริหารระดับสูงมีหน้าที่และความรับผิดชอบ ดังนี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38280" indent="-39204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3333cc"/>
                </a:solidFill>
                <a:uFillTx/>
                <a:latin typeface="Cordia New"/>
                <a:cs typeface="Cordia New"/>
              </a:rPr>
              <a:t>มีความรู้ความเข้าใจ</a:t>
            </a:r>
            <a:r>
              <a:rPr b="1" lang="th-TH" sz="2200" spc="-1" strike="noStrike">
                <a:solidFill>
                  <a:srgbClr val="3333cc"/>
                </a:solidFill>
                <a:latin typeface="Cordia New"/>
                <a:ea typeface="Cordia New"/>
              </a:rPr>
              <a:t> และ</a:t>
            </a:r>
            <a:r>
              <a:rPr b="1" lang="th-TH" sz="2200" spc="-1" strike="noStrike" u="sng">
                <a:solidFill>
                  <a:srgbClr val="3333cc"/>
                </a:solidFill>
                <a:uFillTx/>
                <a:latin typeface="Cordia New"/>
                <a:cs typeface="Cordia New"/>
              </a:rPr>
              <a:t>มีส่วนร่วม</a:t>
            </a:r>
            <a:r>
              <a:rPr b="1" lang="th-TH" sz="2200" spc="-1" strike="noStrike">
                <a:solidFill>
                  <a:srgbClr val="3333cc"/>
                </a:solidFill>
                <a:latin typeface="Cordia New"/>
                <a:cs typeface="Cordia New"/>
              </a:rPr>
              <a:t>ในการกำหนดนโยบายและกระบวนการทดสอบภาวะวิกฤ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38280" indent="-39204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Cordia New"/>
                <a:cs typeface="Cordia New"/>
              </a:rPr>
              <a:t>ดูแลให้มีการ</a:t>
            </a:r>
            <a:r>
              <a:rPr b="1" lang="th-TH" sz="2200" spc="-1" strike="noStrike" u="sng">
                <a:solidFill>
                  <a:srgbClr val="3333cc"/>
                </a:solidFill>
                <a:uFillTx/>
                <a:latin typeface="Cordia New"/>
                <a:cs typeface="Cordia New"/>
              </a:rPr>
              <a:t>นำผลการทดสอบมาใช้</a:t>
            </a:r>
            <a:r>
              <a:rPr b="1" lang="th-TH" sz="2200" spc="-1" strike="noStrike">
                <a:solidFill>
                  <a:srgbClr val="3333cc"/>
                </a:solidFill>
                <a:latin typeface="Cordia New"/>
                <a:cs typeface="Cordia New"/>
              </a:rPr>
              <a:t>ในการบริหารความเสี่ยง เพื่อประเมินความมั่นคงของฐานะและ</a:t>
            </a:r>
            <a:br>
              <a:rPr sz="2200"/>
            </a:br>
            <a:r>
              <a:rPr b="1" lang="th-TH" sz="2200" spc="-1" strike="noStrike">
                <a:solidFill>
                  <a:srgbClr val="3333cc"/>
                </a:solidFill>
                <a:latin typeface="Cordia New"/>
                <a:cs typeface="Cordia New"/>
              </a:rPr>
              <a:t>ผลการดำเนินงาน  รวมทั้งความเพียงพอของเงินกองทุนในลักษณะการมองไปข้างหน้า</a:t>
            </a:r>
            <a:r>
              <a:rPr b="1" lang="en-US" sz="2200" spc="-1" strike="noStrike">
                <a:solidFill>
                  <a:srgbClr val="3333cc"/>
                </a:solidFill>
                <a:latin typeface="Cordia New"/>
                <a:ea typeface="Cordia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38280" indent="-39204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Cordia New"/>
                <a:cs typeface="Cordia New"/>
              </a:rPr>
              <a:t>จัดให้มีการ</a:t>
            </a:r>
            <a:r>
              <a:rPr b="1" lang="th-TH" sz="2200" spc="-1" strike="noStrike" u="sng">
                <a:solidFill>
                  <a:srgbClr val="3333cc"/>
                </a:solidFill>
                <a:uFillTx/>
                <a:latin typeface="Cordia New"/>
                <a:cs typeface="Cordia New"/>
              </a:rPr>
              <a:t>รายงานผล</a:t>
            </a:r>
            <a:r>
              <a:rPr b="1" lang="th-TH" sz="2200" spc="-1" strike="noStrike">
                <a:solidFill>
                  <a:srgbClr val="3333cc"/>
                </a:solidFill>
                <a:latin typeface="Cordia New"/>
                <a:cs typeface="Cordia New"/>
              </a:rPr>
              <a:t>การทดสอบให้ผู้บริหารระดับสูงและคณะกรรมการ ธพ</a:t>
            </a:r>
            <a:r>
              <a:rPr b="1" lang="th-TH" sz="2200" spc="-1" strike="noStrike">
                <a:solidFill>
                  <a:srgbClr val="3333cc"/>
                </a:solidFill>
                <a:latin typeface="Cordia New"/>
                <a:ea typeface="Cordia New"/>
              </a:rPr>
              <a:t>. </a:t>
            </a:r>
            <a:r>
              <a:rPr b="1" lang="th-TH" sz="2200" spc="-1" strike="noStrike">
                <a:solidFill>
                  <a:srgbClr val="3333cc"/>
                </a:solidFill>
                <a:latin typeface="Cordia New"/>
                <a:cs typeface="Cordia New"/>
              </a:rPr>
              <a:t>ทราบทุกครั้ง ในรูปแบบที่เข้าใจได้ง่าย  และมีข้อมูลเพียงพอที่จะใช้ตัดสินใจกำหนดแนวทางแก้ไขปัญหาหรือแผนเตรียมความพร้อมเพื่อรองรับผลกระทบที่อาจเกิดขึ้นได้อย่างเหมาะสม</a:t>
            </a:r>
            <a:r>
              <a:rPr b="1" lang="en-US" sz="2200" spc="-1" strike="noStrike">
                <a:solidFill>
                  <a:srgbClr val="3333cc"/>
                </a:solidFill>
                <a:latin typeface="Cordia New"/>
                <a:ea typeface="Cordia New"/>
              </a:rPr>
              <a:t> </a:t>
            </a:r>
            <a:r>
              <a:rPr b="1" lang="th-TH" sz="2200" spc="-1" strike="noStrike">
                <a:solidFill>
                  <a:srgbClr val="3333cc"/>
                </a:solidFill>
                <a:latin typeface="Cordia New"/>
                <a:cs typeface="Cordia New"/>
              </a:rPr>
              <a:t>รวมถึงเตรียมการรองรับความเสียหายที่อาจเกิดขึ้นและผู้รับผิดชอบไว้อย่างชัดเจน</a:t>
            </a:r>
            <a:r>
              <a:rPr b="1" lang="en-US" sz="2200" spc="-1" strike="noStrike">
                <a:solidFill>
                  <a:srgbClr val="3333cc"/>
                </a:solidFill>
                <a:latin typeface="Cordia New"/>
                <a:ea typeface="Cordia New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79440" y="546120"/>
            <a:ext cx="9523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6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ก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บทบาทหน้าที่ ความรับผิดชอบของ</a:t>
            </a:r>
            <a:br>
              <a:rPr sz="3200"/>
            </a:b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ณะกรรมการและผู้บริหารระดับสูง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ต่อ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6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6120" algn="ctr">
              <a:lnSpc>
                <a:spcPct val="100000"/>
              </a:lnSpc>
              <a:spcBef>
                <a:spcPts val="2200"/>
              </a:spcBef>
              <a:buClr>
                <a:srgbClr val="000066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353880" y="1828800"/>
            <a:ext cx="102567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1177560" indent="-51696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กระบวนการทดสอบภาวะวิกฤต</a:t>
            </a:r>
            <a:r>
              <a:rPr b="1" lang="th-TH" sz="28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ต้อง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ได้รับอนุมัติ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จากคณะกรรมการ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หรือคณะกรรมการบริหารความเสี่ยง  หรือคณะกรรมการชุดย่อย  หรือผู้บริหารระดับสูง  ที่ได้รับมอบหมายจากคณะกรรมการ 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อย่างเป็นทางกา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77560" indent="-51696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รมีรายละเอียดในเรื่อ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18120" indent="-406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ประเภทความเสี่ยง และปัจจัยความเสี่ยงที่ทำการทดสอ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18120" indent="-406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วิธีการทดสอบ และปริมาณฐานะที่นำมาทดสอ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18120" indent="-406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รายละเอียดสถานการณ์จำลอง ขนาดการเปลี่ยนแปลงของปัจจัยความเสี่ยงที่ใช้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18120" indent="-406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สมมุติฐานที่ใช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18120" indent="-406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หน้าที่ความรับผิดชอบของผู้ที่เกี่ยวข้อง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/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การรายงานผล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18120" indent="-406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แนวทางการดำเนินการหรือแผนเตรียมความพร้อมรองรับผลกระทบที่อาจเกิดขึ้น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เป็นต้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77560" indent="-51696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ให้ความสำคัญและการสนับสนุนจากคณะกรรมการและผู้บริหารระดับสูง  เป็นปัจจัยสำคัญ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ที่จะทำให้การทดสอบฯ ประสบผลสำเร็จและ เกิดประโยชน์สูงสุดต่อการบริหารความเสี่ยง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77560" indent="-51696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77560" indent="-51696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79440" y="546120"/>
            <a:ext cx="9523440" cy="21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6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ข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ที่ต้องทดสอ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6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6120" algn="ctr">
              <a:lnSpc>
                <a:spcPct val="100000"/>
              </a:lnSpc>
              <a:spcBef>
                <a:spcPts val="2200"/>
              </a:spcBef>
              <a:buClr>
                <a:srgbClr val="000066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93680" y="2027160"/>
          <a:ext cx="8001000" cy="1219320"/>
        </p:xfrm>
        <a:graphic>
          <a:graphicData uri="http://schemas.openxmlformats.org/drawingml/2006/table">
            <a:tbl>
              <a:tblPr/>
              <a:tblGrid>
                <a:gridCol w="914400"/>
                <a:gridCol w="1903320"/>
                <a:gridCol w="1677960"/>
                <a:gridCol w="1752840"/>
                <a:gridCol w="17524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9d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Credit and credit concentration risk</a:t>
                      </a: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9d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Market ri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9d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IRRB</a:t>
                      </a: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&amp; Other Banking book ri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9d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Liquidity</a:t>
                      </a: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ri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9df6">
                        <a:alpha val="50000"/>
                      </a:srgbClr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ความถี่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ปีละ </a:t>
                      </a: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ครั้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ไตรมาสละ </a:t>
                      </a: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ครั้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ไตรมาสละ </a:t>
                      </a: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ครั้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ไตรมาสละ </a:t>
                      </a: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ครั้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37960" y="3657600"/>
            <a:ext cx="9509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71680" indent="-39384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นอกจากนี้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รขยายขอบเขตการทดสอบภาวะวิกฤตให้ครอบคลุมความเสี่ยงจากปัจจัยภายนอกอื่นๆ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(risk from other external factors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หรือความเสี่ยงประเภทอื่นที่มีนัยสำคัญด้วย เช่น ความเสี่ยงด้านปฏิบัติการ หรือความเสี่ยงด้านชื่อเสียง เป็นต้น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9384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ที่ใช้วิธี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RB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หรือวิธี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MA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ต้องทดสอบเพิ่มเติมตามหลักเกณฑ์ที่กำหนดใน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Pillar 1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ด้ว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9384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9384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46440" y="1625760"/>
            <a:ext cx="6190920" cy="585288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960" y="609480"/>
            <a:ext cx="891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กำหนดสถานการณ์จำลองและปัจจัยความเสี่ย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4960" y="609480"/>
            <a:ext cx="891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ทดสอบภาวะวิกฤตแต่ละลักษณะมีข้อดีและข้อเสียที่ต่างกัน</a:t>
            </a:r>
            <a:br>
              <a:rPr sz="3200"/>
            </a:b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ธพ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สามารถเลือกใช้ให้เหมาะสมกับลักษณะความเสี่ยงที่มีได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3840" y="1905120"/>
          <a:ext cx="7716960" cy="4211640"/>
        </p:xfrm>
        <a:graphic>
          <a:graphicData uri="http://schemas.openxmlformats.org/drawingml/2006/table">
            <a:tbl>
              <a:tblPr/>
              <a:tblGrid>
                <a:gridCol w="1285920"/>
                <a:gridCol w="1285920"/>
                <a:gridCol w="1287360"/>
                <a:gridCol w="1285920"/>
                <a:gridCol w="1285920"/>
                <a:gridCol w="12859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Scenario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Sensitivit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Hist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Hypothe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ข้อด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ข้อเสี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ข้อด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ข้อเสี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ข้อด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ข้อเสี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</a:tr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สื่อสารรายละเอียดเหตุการณ์และลักษณะผลกระทบที่อาจเกิดขึ้นได้ง่า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อาจไม่สะท้อนสภาพหรือลักษณะความเสี่ยงในปัจจุบัน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สามารถกำหนดหรือออกแบบให้เหมาะกับสภาพ ลักษณะ  และปัจจัยความเสี่ยงที่มีได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มีความยากในการกำหนดสถานการณ์ การสื่อสารกับผู้ที่เกี่ยวข้องและการประเมินผลกระท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ง่าย ไม่ซับซ้อน</a:t>
                      </a:r>
                      <a:br>
                        <a:rPr sz="2000"/>
                      </a:b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ใช้ทรัพยากรและเวลาน้อย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แต่ละหน่วยสามารถทดสอบแยกจากกันได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ไม่สามารถให้ภาพรวมผลกระทบที่ชัดเจ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047600" y="6276960"/>
            <a:ext cx="878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66"/>
                </a:solidFill>
                <a:latin typeface="Cordia New"/>
                <a:cs typeface="Cordia New"/>
              </a:rPr>
              <a:t>ธพ</a:t>
            </a:r>
            <a:r>
              <a:rPr b="1" lang="th-TH" sz="16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16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รทดสอบภาวะวิกฤตที่มีความรุนแรงและมีโอกาสเกิดขึ้นในหลายระดับ โดยเฉพาะการทดสอบแบบ </a:t>
            </a:r>
            <a:r>
              <a:rPr b="1" lang="en-US" sz="1600" spc="-1" strike="noStrike">
                <a:solidFill>
                  <a:srgbClr val="000066"/>
                </a:solidFill>
                <a:latin typeface="Cordia New"/>
                <a:ea typeface="Cordia New"/>
              </a:rPr>
              <a:t>Sensitivity</a:t>
            </a:r>
            <a:br>
              <a:rPr sz="1600"/>
            </a:br>
            <a:r>
              <a:rPr b="1" lang="th-TH" sz="1600" spc="-1" strike="noStrike">
                <a:solidFill>
                  <a:srgbClr val="000066"/>
                </a:solidFill>
                <a:latin typeface="Cordia New"/>
                <a:cs typeface="Cordia New"/>
              </a:rPr>
              <a:t>สำหรับการทดสอบโดยใช้การจำลองสถานการณ์  ธพ</a:t>
            </a:r>
            <a:r>
              <a:rPr b="1" lang="th-TH" sz="16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1600" spc="-1" strike="noStrike">
                <a:solidFill>
                  <a:srgbClr val="000066"/>
                </a:solidFill>
                <a:latin typeface="Cordia New"/>
                <a:cs typeface="Cordia New"/>
              </a:rPr>
              <a:t>อาจทดสอบเพียงครั้งละเหตุการณ์ โดย ธปท</a:t>
            </a:r>
            <a:r>
              <a:rPr b="1" lang="th-TH" sz="16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1600" spc="-1" strike="noStrike">
                <a:solidFill>
                  <a:srgbClr val="000066"/>
                </a:solidFill>
                <a:latin typeface="Cordia New"/>
                <a:cs typeface="Cordia New"/>
              </a:rPr>
              <a:t>จะพิจารณาความเหมาะสมเป็นรายกรณ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4960" y="609480"/>
            <a:ext cx="891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ง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พิจารณาผลกระทบที่อาจเกิดขึ้นภายใต้ภาวะวิกฤ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6680" y="1447920"/>
            <a:ext cx="97362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9384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พิจารณาผลกระทบโดยใช้เทคนิคและวิธีการ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เชิงปริมาณ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ละ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เชิงคุณภา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 ภายใต้ระยะเวลา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(time horizon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ที่เหมาะส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9384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โดยคำนึงถึงประเด็นต่างๆ เช่น ระยะเวลาที่ใช้ในการปรับเปลี่ยนองค์ประกอบของพอร์ต  ความยากง่ายในการขายหรือปิดฐานะความเสี่ยง  ระยะเวลาการถือครอง  เป็นต้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844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ความเสี่ยงด้านเครดิต 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-&gt;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มากกว่า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1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ปี เช่น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2-3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ปี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844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ความเสี่ยงด้านตลาดในบัญชีเพื่อการค้า 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-&gt;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อย่างน้อย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10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วั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844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ความเสี่ยงด้านอัตราดอกเบี้ยในบัญชีเพื่อการธนาคาร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-&gt;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อย่างน้อย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1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ป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844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ความเสี่ยงด้านสภาพคล่อง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-&gt;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อย่างน้อย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1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วัน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7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วัน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14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วัน และ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1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เดือ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9384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กำหนดการเปลี่ยนแปลงปัจจัยความเสี่ยงจาก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Historical changes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ต้องให้สอดคล้องกับช่วงเวลาที่กำหนดด้ว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traight Connector 6"/>
          <p:cNvSpPr/>
          <p:nvPr/>
        </p:nvSpPr>
        <p:spPr>
          <a:xfrm>
            <a:off x="0" y="11430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" y="609480"/>
            <a:ext cx="891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ยหายภายใต้ภาวะวิกฤตอาจเกิดขึ้นได้จากปัจจัยต่างๆ เช่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680" y="1373040"/>
            <a:ext cx="9736200" cy="67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68520" indent="-5014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Cordia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การเปลี่ยนแปลงปัจจัยเศรษฐกิจมหภาค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 อาจ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ส่งผลกระทบต่อความสามารถในการชำระหนี้ของลูกหนี้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 รวมถึงระดับความเสี่ยงของลูกหนี้ที่ไม่สอดคล้องกับผลตอบแทนที่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ได้รับ อาจนับรวมเป็นความเสียหายที่เกิดขึ้นด้วย  นอกจากนี้ ยังส่งผลกระทบต่อ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มูลค่าหลักประกัน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หรือประมาณการร้อยละความเสียหายที่อาจเกิดขึ้นเมื่อลูกหนี้ผิดนัดชำระหนี้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5014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Cordia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การเปลี่ยนแปลงปัจจัยเสี่ยงทางด้านตลาดและความผันผวนที่เพิ่มสูงขึ้น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ส่งผลให้มูลค่า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เงินลงทุน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ลดต่ำล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5014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Cordia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การเปลี่ยนแปลงสภาพและพฤติกรรมของตลาดในภาวะวิกฤต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เช่น การเปลี่ยนแปลงความเชื่อมั่น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market sentiment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หรือเหตุการณ์ที่ผู้เล่นในตลาดมีความเห็นไปในทางเดียวกัน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one way market) 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หรือการลดลงของสภาพคล่องในตลาด  ซึ่งส่งผลต่อสมมุติฐานที่ใช้ในแบบจำลอง เช่น กรณี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correlation breakdown or reversal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ทำให้ต้นทุนในการปรับลดความเสี่ยงพอร์ตเงินลงทุนเพิ่มขึ้น  หรือแบบจำลองที่ใช้ในการคำนวณราคาและเงินกองทุนไม่สะท้อนมูลค่าและความเสี่ยงที่ม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5014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Cordia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การถูกปรับลดอันดับ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Cordia New"/>
                <a:ea typeface="Cordia New"/>
              </a:rPr>
              <a:t>credit rating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ซึ่งจะมีผลต่อฐานะสภาพคล่องทำให้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ไม่สามารถ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หาเงินทุนได้ในราคา จำนวน และอายุสัญญาตามที่เคยหาได้ในภาวะปกต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17320" y="1980720"/>
            <a:ext cx="4546440" cy="441972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34596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rdia New"/>
              </a:rPr>
              <a:t>Static stress test</a:t>
            </a:r>
            <a:endParaRPr b="1" lang="en-US" sz="2800" spc="-1" strike="noStrike">
              <a:solidFill>
                <a:srgbClr val="000066"/>
              </a:solidFill>
              <a:latin typeface="Cordia New"/>
            </a:endParaRPr>
          </a:p>
          <a:p>
            <a:pPr lvl="1" marL="345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rdia New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Cordia New"/>
            </a:endParaRPr>
          </a:p>
          <a:p>
            <a:pPr lvl="2" marL="749160" indent="-288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ประเมินผลกระทบโดยสมมุติให้พอร์ตไม่มีการเปลี่ยนแปลงในช่วงระยะเวลาที่กำหนด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26120" y="1996560"/>
            <a:ext cx="4378320" cy="44038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txBody>
          <a:bodyPr anchor="t">
            <a:normAutofit fontScale="93000"/>
          </a:bodyPr>
          <a:p>
            <a:pPr lvl="1" marL="36612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rdia New"/>
              </a:rPr>
              <a:t>Dynamic stress test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Cordia New"/>
            </a:endParaRPr>
          </a:p>
          <a:p>
            <a:pPr lvl="2" marL="795600" indent="-268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ประเมินผลกระทบโดยสมมุติให้พอร์ตมีการเปลี่ยนแปลงในด้านต่างๆ เช่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3" marL="117360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กลยุทธ์ของ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การเติบโตของสินเชื่อ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360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กำไรจากธุรกิจด้านอื่น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360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พฤติกรรมของลูกค้าและตลา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3600" indent="-21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  <a:cs typeface="Cordia New"/>
              </a:rPr>
              <a:t>รวมทั้ง มาตรการต่างๆ  เป็นต้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5600" indent="-268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ทั้งนี้ ต้องอยู่บนหลักความระมัดระวัง และมีหลักฐาน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/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หตุผลสนับสนุนที่น่าเชื่อถือเพียงพอ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</p:txBody>
      </p:sp>
      <p:sp>
        <p:nvSpPr>
          <p:cNvPr id="144" name=""/>
          <p:cNvSpPr/>
          <p:nvPr/>
        </p:nvSpPr>
        <p:spPr>
          <a:xfrm>
            <a:off x="488880" y="2666880"/>
            <a:ext cx="45468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38720" y="2692440"/>
            <a:ext cx="4365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960" y="685800"/>
            <a:ext cx="891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ประเมินผลกระทบทำได้ทั้งในลักษณะ </a:t>
            </a: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Static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และ </a:t>
            </a: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Dynam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4960" y="609480"/>
            <a:ext cx="891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ง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พิจารณาผลกระทบที่อาจเกิดขึ้นภายใต้ภาวะวิกฤต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ต่อ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6680" y="1447920"/>
            <a:ext cx="97362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68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53352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ในการนำผลการทดสอบภาวะวิกฤตมาใช้ประกอบการวางแผนเงินกองทุน 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รประเมินผลกระทบในลักษณะ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dynamic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เพื่อให้สอดคล้องกับช่วงเวลาของการวางแผนเงินกองทุนในระยะ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1 – 3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ปีข้างหน้า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53352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ในกรณีที่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ไม่ได้ทำการทดสอบภาวะวิกฤตกับฐานะที่มีทั้งหมด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ต้องมั่นใจว่า ฐานะในส่วนที่นำมาทดสอบนั้น สามารถเป็นตัวแทนฐานะความเสี่ยงที่มีทั้งหมด และครอบคลุมปัจจัยความเสี่ยงที่มีนัยสำคัญ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ได้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ทั้งนี้ ให้ประเมินผลกระทบสำหรับฐานะส่วนที่เหลือตามสัดส่วนเดียวกัน 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pro rate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ด้ว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960" y="609480"/>
            <a:ext cx="891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จ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รายงานผลการทดสอบภาวะวิกฤ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2240" y="1981080"/>
            <a:ext cx="97358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71680" indent="-39384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ต้องจัดให้มีการรายงานผลการทดสอบภาวะวิกฤตให้ผู้บริหารระดับสูงและคณะกรรมการ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ทราบทุกครั้ง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 ตามความถี่ในการทดสอบภาวะวิกฤตที่ ธปท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กำหนด 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หรือเมื่อมีผลกระทบอย่างมีนัยสำคัญ 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โดยควรกำหนดระดับที่มีนัยสำคัญที่ต้องรายงานไว้ในนโยบายด้ว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93840">
              <a:lnSpc>
                <a:spcPct val="100000"/>
              </a:lnSpc>
              <a:spcBef>
                <a:spcPts val="1800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รายงานในรูปแบบที่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สามารถเข้าใจได้ง่าย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และ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  <a:cs typeface="Cordia New"/>
              </a:rPr>
              <a:t>มีรายละเอียดที่เพียงพอ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 เช่น  สมมุติฐาน  ข้อจำกัดของเครื่องมือบริหารความเสี่ยงหรือแบบจำลองของธนาคาร  หรือผลกระทบของการทดสอบครั้งที่ผ่านมา เป็นต้น  ครอบคลุมความเสี่ยงที่มีนัยสำคัญ 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เพื่อให้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สามารถกำหนดแนวทางแก้ไขปัญหา  หรือแผนเตรียมความพร้อมเพื่อรองรับผลกระทบที่อาจเกิดขึ้นได้อย่างเหมาะสมและทันเวล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304560"/>
            <a:ext cx="9432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</a:rPr>
              <a:t>การจัดทำการทดสอบภาวะวิกฤตภายใต้ </a:t>
            </a:r>
            <a:r>
              <a:rPr b="1" lang="en-US" sz="3200" spc="-1" strike="noStrike">
                <a:solidFill>
                  <a:srgbClr val="000066"/>
                </a:solidFill>
                <a:latin typeface="Cordia New"/>
              </a:rPr>
              <a:t>Pillar I</a:t>
            </a:r>
            <a:endParaRPr b="1" lang="en-US" sz="3200" spc="-1" strike="noStrike">
              <a:solidFill>
                <a:srgbClr val="000066"/>
              </a:solidFill>
              <a:latin typeface="Cordia New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0960" y="838080"/>
          <a:ext cx="9464760" cy="5943600"/>
        </p:xfrm>
        <a:graphic>
          <a:graphicData uri="http://schemas.openxmlformats.org/drawingml/2006/table">
            <a:tbl>
              <a:tblPr/>
              <a:tblGrid>
                <a:gridCol w="2143440"/>
                <a:gridCol w="2771640"/>
                <a:gridCol w="454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ประเภทความเสี่ย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9d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หนังสือเวียนอ้างอิ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9d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ความถี่การทดสอ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9df6">
                        <a:alpha val="50000"/>
                      </a:srgbClr>
                    </a:solidFill>
                  </a:tcPr>
                </a:tc>
              </a:tr>
              <a:tr h="18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ด้านเครดิ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ประกาศ ธปท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ที่ สนส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91/2551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ลว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27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พ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ย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2551 (IRB)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ประกาศ ธปท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ที่ สนส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21/2552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ลว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1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ธ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ค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2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IRB bank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ทดสอบ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stress test mild recession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ด้านตลา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ประกาศ ธปท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ที่ สนส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94/2551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ลว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27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พ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ย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25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IMA bank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ทดสอบ</a:t>
                      </a:r>
                      <a:r>
                        <a:rPr b="1" lang="th-TH" sz="1800" spc="-1" strike="noStrike" u="sng">
                          <a:solidFill>
                            <a:srgbClr val="000066"/>
                          </a:solidFill>
                          <a:uFillTx/>
                          <a:latin typeface="Cordia New"/>
                          <a:cs typeface="Cordia New"/>
                        </a:rPr>
                        <a:t>ภาวะวิกฤต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และส่งรายงานให้ ธปท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 u="sng">
                          <a:solidFill>
                            <a:srgbClr val="000066"/>
                          </a:solidFill>
                          <a:uFillTx/>
                          <a:latin typeface="Cordia New"/>
                          <a:cs typeface="Cordia New"/>
                        </a:rPr>
                        <a:t>ทุกไตรมา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ตาม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Scenario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ที่ ธปท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กำหนด ทั้งด้านอัตราดอกเบี้ย  ราคา</a:t>
                      </a:r>
                      <a:br>
                        <a:rPr sz="1800"/>
                      </a:b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ตราสารทุน  และอัตราแลกเปลี่ย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ด้านอัตราดอกเบี้ยในบัญชีเพื่อการธนาคา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ประกาศ ธปท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ที่ สนส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42/2551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ลว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3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ส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ค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25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-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ส่งรายงานให้ ธปท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ทุกไตรมาส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100 bps ch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-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ให้ ธพ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พิจารณาจัดทำการทดสอบ</a:t>
                      </a:r>
                      <a:r>
                        <a:rPr b="1" lang="th-TH" sz="1800" spc="-1" strike="noStrike" u="sng">
                          <a:solidFill>
                            <a:srgbClr val="000066"/>
                          </a:solidFill>
                          <a:uFillTx/>
                          <a:latin typeface="Cordia New"/>
                          <a:cs typeface="Cordia New"/>
                        </a:rPr>
                        <a:t>ภาวะวิกฤต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ในลักษณะ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self-developed scenario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ด้ว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ด้านสภาพคล่อ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ประกาศ ธปท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ที่ สนส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41/2551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ลว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3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ส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ค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2551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แล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แนวนโยบาย ธปท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ที่ ฝนส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(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21)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ว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156/2553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ลว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28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ม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ค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2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-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จัดทำรายงานฐานะสภาพคล่องทุกไตรมาส เก็บไว้ที่ สง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ให้ ธปท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ตรวจสอบได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-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ทดสอบ</a:t>
                      </a:r>
                      <a:r>
                        <a:rPr b="1" lang="th-TH" sz="1800" spc="-1" strike="noStrike" u="sng">
                          <a:solidFill>
                            <a:srgbClr val="000066"/>
                          </a:solidFill>
                          <a:uFillTx/>
                          <a:latin typeface="Cordia New"/>
                          <a:cs typeface="Cordia New"/>
                        </a:rPr>
                        <a:t>ภาวะวิกฤต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ในลักษณะ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self-developed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scenario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br>
                        <a:rPr sz="1800"/>
                      </a:b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อย่างน้อยไตรมาสละ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1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ครั้ง  เก็บไว้ที่ สง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ให้ ธปท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ea typeface="Cordia New"/>
                        </a:rPr>
                        <a:t>. </a:t>
                      </a:r>
                      <a:r>
                        <a:rPr b="1" lang="th-TH" sz="1800" spc="-1" strike="noStrike">
                          <a:solidFill>
                            <a:srgbClr val="000066"/>
                          </a:solidFill>
                          <a:latin typeface="Cordia New"/>
                          <a:cs typeface="Cordia New"/>
                        </a:rPr>
                        <a:t>ตรวจสอบได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6240" y="1333080"/>
            <a:ext cx="9736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  <a:p>
            <a:pPr lvl="1" marL="792000" indent="-45252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ต้องจัดทำแผนหรือแนวทางรองรับผลกระทบที่อาจเกิดขึ้นอย่าง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</a:rPr>
              <a:t>ชัดเจน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 และ 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</a:rPr>
              <a:t>เป็นไปได้ในทางปฏิบัติ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  โดยคำนึงถึงโอกาสและระดับความรุนแรงของเหตุการณ์ที่อาจเกิดขึ้น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1" marL="792000" indent="-45252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แนวทางการดำเนินการอาจแตกต่างกันในแต่ละความเสี่ยง ทั้งนี้ อาจรวมถึง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886040" indent="-41472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ทบทวนสัญญาหรือภาระผูกพันที่เกี่ยวข้อง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886040" indent="-41472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ทบทวนนโยบายการระดมทุน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886040" indent="-41472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ทบทวนเพดานความเสี่ยงที่เกี่ยวข้อง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886040" indent="-41472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ใช้เทคนิคหรือวิธีปรับลดความเสี่ยง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886040" indent="-41472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ปรับโครงสร้างพอร์ตสินเชื่อ เงินลงทุน และรายการนอกงบดุล  ลดการเปิดฐานะความเสี่ยงต่อกลุ่มอุตสาหกรรม  ประเทศ  หรือภูมิภาค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886040" indent="-41472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เตรียมความพร้อมเงินกองทุนเพื่อรองรับ เป็นต้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792000" indent="-452520">
              <a:spcBef>
                <a:spcPts val="1225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การดำเนินการหรือไม่ดำเนินการใดๆ ต้องมีเหตุผลรองรับและสามารถอธิบายได้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155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4960" y="609480"/>
            <a:ext cx="891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ฉ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เตรียมความพร้อมรองรับผลกระทบที่อาจเกิดขึ้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04840" y="1854000"/>
            <a:ext cx="95090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68520" indent="-50148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ทบทวนและปรับปรุงกระบวนการทดสอบภาวะวิกฤต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</a:rPr>
              <a:t>อย่างน้อยปีละ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Cordia New"/>
              </a:rPr>
              <a:t>1 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</a:rPr>
              <a:t>ครั้ง 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1" marL="668520" indent="-50148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โดยให้พิจารณา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305720" indent="-3942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เหมาะสมของปริมาณฐานะความเสี่ยง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(scope of exposures)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ที่ใช้ทดสอบ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05720" indent="-3942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เปลี่ยนแปลงลักษณะของพอร์ต  ลักษณะความเสี่ยง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05720" indent="-3942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สมเหตุสมผลของสมมุติฐาน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รวมถึงปัจจัยภายนอกอื่นๆ เป็นต้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668520" indent="-50148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</a:rPr>
              <a:t>สอบทาน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การปฏิบัติตามกระบวนการทดสอบภาวะวิกฤต 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</a:rPr>
              <a:t>โดยหน่วยงานที่มีความเป็นอิสระจากหน่วยงานที่มีหน้าที่จัดทำอย่างน้อยปีละ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Cordia New"/>
              </a:rPr>
              <a:t>1 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</a:rPr>
              <a:t>ครั้ง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  ในเรื่อง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305720" indent="-3942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พร้อมของระบบฐานข้อมูล  การรายงานผล 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05720" indent="-3942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นำไปใช้เป็นส่วนหนึ่งของการบริหารความเสี่ยงตามปกติของ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05720" indent="-3942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น่าเชื่อถือ  ความถูกต้องครบถ้วนของข้อมูล   และคุณภาพเอกสารที่เกี่ยวข้อง 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05720" indent="-3942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รวมถึงปัจจัยอื่น ๆ ที่ ธปท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ช้ในการประเมินความเหมาะสมของการทดสอบภาวะวิกฤต ของ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นส่วนแนวทางการประเมินการทดสอบภาวะวิกฤตของ ธปท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ป็นต้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4960" y="609480"/>
            <a:ext cx="891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ช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ทบทวนและปรับปรุงกระบวนการทดสอบภาวะวิกฤต</a:t>
            </a: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4680" y="2357280"/>
            <a:ext cx="2733480" cy="2853000"/>
          </a:xfrm>
          <a:custGeom>
            <a:avLst/>
            <a:gdLst>
              <a:gd name="textAreaLeft" fmla="*/ 133200 w 2733480"/>
              <a:gd name="textAreaRight" fmla="*/ 2600280 w 2733480"/>
              <a:gd name="textAreaTop" fmla="*/ 133200 h 2853000"/>
              <a:gd name="textAreaBottom" fmla="*/ 2719800 h 2853000"/>
            </a:gdLst>
            <a:ahLst/>
            <a:rect l="textAreaLeft" t="textAreaTop" r="textAreaRight" b="textAreaBottom"/>
            <a:pathLst>
              <a:path w="21600" h="22544">
                <a:moveTo>
                  <a:pt x="3600" y="0"/>
                </a:moveTo>
                <a:arcTo wR="3600" hR="3600" stAng="16200000" swAng="-5400000"/>
                <a:lnTo>
                  <a:pt x="0" y="18944"/>
                </a:lnTo>
                <a:arcTo wR="3600" hR="3600" stAng="10800000" swAng="-5400000"/>
                <a:lnTo>
                  <a:pt x="18000" y="22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วัตถุประสงค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ข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ำจำกัดควา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ประโยชน์ของการ    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ง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ลักษณะการ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5680" y="1600200"/>
            <a:ext cx="2639880" cy="62856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65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บทน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12920" y="2357280"/>
            <a:ext cx="3791160" cy="4257720"/>
          </a:xfrm>
          <a:custGeom>
            <a:avLst/>
            <a:gdLst>
              <a:gd name="textAreaLeft" fmla="*/ 185040 w 3791160"/>
              <a:gd name="textAreaRight" fmla="*/ 3606120 w 3791160"/>
              <a:gd name="textAreaTop" fmla="*/ 185040 h 4257720"/>
              <a:gd name="textAreaBottom" fmla="*/ 4072680 h 4257720"/>
            </a:gdLst>
            <a:ahLst/>
            <a:rect l="textAreaLeft" t="textAreaTop" r="textAreaRight" b="textAreaBottom"/>
            <a:pathLst>
              <a:path w="21600" h="24258">
                <a:moveTo>
                  <a:pt x="3600" y="0"/>
                </a:moveTo>
                <a:arcTo wR="3600" hR="3600" stAng="16200000" swAng="-5400000"/>
                <a:lnTo>
                  <a:pt x="0" y="20658"/>
                </a:lnTo>
                <a:arcTo wR="3600" hR="3600" stAng="10800000" swAng="-5400000"/>
                <a:lnTo>
                  <a:pt x="18000" y="242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บทบาทหน้าที่ ความรับผิดชอบของ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คณะกรรมการและผู้บริหารระดับสู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ข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ที่ต้อง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กำหนดสถานการณ์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จำลองและปัจจัยความเสี่ย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ง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พิจารณาผลกระท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จ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รายงานผ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ฉ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เตรียมการรองรับผลกระท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ช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ทบทวนและปรับปรุง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กระบวนการ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ซ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ทดสอบภาวะวิกฤต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สำหรับความเสี่ยงด้านต่าง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98960" y="1600200"/>
            <a:ext cx="3633480" cy="62856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0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I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ที่พึงปฏิบัติ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70680" y="1600200"/>
            <a:ext cx="2817720" cy="6858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 algn="ct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II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ประเมิน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ของ ธปท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644400"/>
            <a:ext cx="7507080" cy="385920"/>
          </a:xfrm>
          <a:prstGeom prst="roundRect">
            <a:avLst>
              <a:gd name="adj" fmla="val 16667"/>
            </a:avLst>
          </a:prstGeom>
          <a:solidFill>
            <a:srgbClr val="99ccff">
              <a:alpha val="3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ที่พึงปฏิบัติในการทดสอบภาวะวิกฤต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Stress test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1" idx="0"/>
            <a:endCxn id="165" idx="2"/>
          </p:cNvCxnSpPr>
          <p:nvPr/>
        </p:nvCxnSpPr>
        <p:spPr>
          <a:xfrm flipH="1" flipV="1" rot="5400000">
            <a:off x="3059640" y="-353880"/>
            <a:ext cx="570600" cy="3337560"/>
          </a:xfrm>
          <a:prstGeom prst="bentConnector3">
            <a:avLst>
              <a:gd name="adj1" fmla="val 50126"/>
            </a:avLst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67" name=""/>
          <p:cNvCxnSpPr>
            <a:stCxn id="163" idx="0"/>
            <a:endCxn id="165" idx="2"/>
          </p:cNvCxnSpPr>
          <p:nvPr/>
        </p:nvCxnSpPr>
        <p:spPr>
          <a:xfrm flipV="1" rot="16200000">
            <a:off x="4729320" y="1312920"/>
            <a:ext cx="570600" cy="3960"/>
          </a:xfrm>
          <a:prstGeom prst="bentConnector3">
            <a:avLst>
              <a:gd name="adj1" fmla="val 50126"/>
            </a:avLst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68" name=""/>
          <p:cNvCxnSpPr>
            <a:stCxn id="164" idx="0"/>
            <a:endCxn id="165" idx="2"/>
          </p:cNvCxnSpPr>
          <p:nvPr/>
        </p:nvCxnSpPr>
        <p:spPr>
          <a:xfrm flipV="1" rot="16200000">
            <a:off x="6411240" y="-369000"/>
            <a:ext cx="570600" cy="3367800"/>
          </a:xfrm>
          <a:prstGeom prst="bentConnector3">
            <a:avLst>
              <a:gd name="adj1" fmla="val 50126"/>
            </a:avLst>
          </a:prstGeom>
          <a:ln w="25560">
            <a:solidFill>
              <a:srgbClr val="ff6600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6970680" y="1558800"/>
            <a:ext cx="2862360" cy="641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4200" y="609480"/>
            <a:ext cx="891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III.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ประเมินการทดสอบภาวะวิกฤตของ ธปท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9680" y="1854000"/>
            <a:ext cx="9812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42880" indent="-37404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มีหน้าที่แสดงให้ ธปท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เห็นว่ากระบวนการทดสอบภาวะวิกฤต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มีความเหมาะสม ครอบคลุมความเสี่ยงที่มีนัยสำคัญ 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1" marL="542880" indent="-37404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ธปท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จะประเมินความเหมาะสม โดยพิจารณาจาก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บทบาทหน้าที่ ความรับผิดชอบของคณะกรรมการ ผู้บริหารระดับสูง และผู้ที่เกี่ยวข้อง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รู้ความเข้าใจ และการมีส่วนร่วมของผู้บริหารระดับสูง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ระบวนการทดสอบภาวะวิกฤต  รวมถึง การระบุประเภทและปัจจัยความเสี่ยง ระดับความรุนแรงของ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สถานการณ์ที่ทดสอบ  สอดคล้องกับลักษณะพอร์ตและความเสี่ยงที่มีนัยสำคัญ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สมมุติฐานสำคัญ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/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ปริมาณฐานะและพอร์ตที่นำมาทดสอบ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ครื่องมือและวิธีการที่ใช้ ทั้งเชิงปริมาณและเชิงคุณภาพ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ประเมินผลตามระยะเวลา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(time horizon)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ที่เหมาะสม  รวมทั้งสมมุติฐานที่เกี่ยวข้องกรณี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Dynamic stress test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รายงานผลการทดสอบฯ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/ 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เตรียมความพร้อมรองรับผลกระทบ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/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ใช้ประโยชน์จากผลการทดสอบฯ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พร้อมของระบบข้อมูล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/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เหมาะสมและเกี่ยวข้องของข้อมูลภายนอกที่นำมาใช้ 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ุณภาพของเอกสารที่เกี่ยวข้อง 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/ 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ทบทวนนโยบายและกระบวนการทดสอบภาวะวิกฤต เป็นต้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1600" y="673200"/>
            <a:ext cx="891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III.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ประเมินการทดสอบภาวะวิกฤตของ ธปท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. (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ต่อ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17440" y="1854000"/>
            <a:ext cx="95090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970560" indent="-52272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ธปท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จะประเมินความเหมาะสมของการทดสอบภาวะวิกฤต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โดยพิจารณาถึงความแตกต่างระหว่า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ในเรื่องขนาด ความซับซ้อน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(proportionality)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1" marL="970560" indent="-52272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ธปท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จะพิจารณาปัจจัยเฉพาะสำหรับแต่ละความเสี่ยงประกอบ เช่น 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642680" indent="-4104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เสี่ยงด้านเครดิต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: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สำรองส่วนเกินที่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มี  ความเสียหายที่อาจเกิดขึ้นกับบริษัทในกลุ่ม เช่น บริษัทบริหารสินทรัพย์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642680" indent="-4104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เสี่ยงด้านตลาด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: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พิจารณาการปรับมูลค่า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(valuation adjustment)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642680" indent="-4104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เสี่ยงด้านสภาพคล่อง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: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ธปท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อาจปรับปรุงสถานการณ์จำลองของ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นเรื่อง อัตราคิดลดกับสินทรัพย์สภาพคล่อง หรืออัตราการฝากต่อ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roll over rate)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ที่มีการปรับพฤติกรรมที่ใช้หลัก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ระมัดระวัง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conservative)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มากขึ้นแตกต่างจากที่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ำหนด เป็นต้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970560" indent="-52272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ธปท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จะใช้ผลจากการทดสอบภาวะวิกฤต ประกอบการพิจารณาความเพียงพอเงินกองทุน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 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ทั้งนี้ จะให้ความสำคัญกับการมีมาตรการป้องกันและแผนเตรียมความพร้อมรองรับผลกระทบที่อาจเกิดขึ้น ในด้านความเป็นไปได้  สามารถปฏิบัติได้จริง  ประสิทธิภาพ  ต้นทุน  และความทันท่วงที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59960" y="18288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Cordia New"/>
              </a:rPr>
              <a:t>แนวทางการทดสอบภาวะวิกฤตสำหรับความเสี่ยงด้านต่างๆ</a:t>
            </a: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74680" y="2357280"/>
            <a:ext cx="2733480" cy="2853000"/>
          </a:xfrm>
          <a:custGeom>
            <a:avLst/>
            <a:gdLst>
              <a:gd name="textAreaLeft" fmla="*/ 133200 w 2733480"/>
              <a:gd name="textAreaRight" fmla="*/ 2600280 w 2733480"/>
              <a:gd name="textAreaTop" fmla="*/ 133200 h 2853000"/>
              <a:gd name="textAreaBottom" fmla="*/ 2719800 h 2853000"/>
            </a:gdLst>
            <a:ahLst/>
            <a:rect l="textAreaLeft" t="textAreaTop" r="textAreaRight" b="textAreaBottom"/>
            <a:pathLst>
              <a:path w="21600" h="22544">
                <a:moveTo>
                  <a:pt x="3600" y="0"/>
                </a:moveTo>
                <a:arcTo wR="3600" hR="3600" stAng="16200000" swAng="-5400000"/>
                <a:lnTo>
                  <a:pt x="0" y="18944"/>
                </a:lnTo>
                <a:arcTo wR="3600" hR="3600" stAng="10800000" swAng="-5400000"/>
                <a:lnTo>
                  <a:pt x="18000" y="22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วัตถุประสงค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ข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ำจำกัดควา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ประโยชน์ของการ    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ง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ลักษณะการ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5680" y="1600200"/>
            <a:ext cx="2639880" cy="62856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65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บทน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2920" y="2357280"/>
            <a:ext cx="3791160" cy="4257720"/>
          </a:xfrm>
          <a:custGeom>
            <a:avLst/>
            <a:gdLst>
              <a:gd name="textAreaLeft" fmla="*/ 185040 w 3791160"/>
              <a:gd name="textAreaRight" fmla="*/ 3606120 w 3791160"/>
              <a:gd name="textAreaTop" fmla="*/ 185040 h 4257720"/>
              <a:gd name="textAreaBottom" fmla="*/ 4072680 h 4257720"/>
            </a:gdLst>
            <a:ahLst/>
            <a:rect l="textAreaLeft" t="textAreaTop" r="textAreaRight" b="textAreaBottom"/>
            <a:pathLst>
              <a:path w="21600" h="24258">
                <a:moveTo>
                  <a:pt x="3600" y="0"/>
                </a:moveTo>
                <a:arcTo wR="3600" hR="3600" stAng="16200000" swAng="-5400000"/>
                <a:lnTo>
                  <a:pt x="0" y="20658"/>
                </a:lnTo>
                <a:arcTo wR="3600" hR="3600" stAng="10800000" swAng="-5400000"/>
                <a:lnTo>
                  <a:pt x="18000" y="242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บทบาทหน้าที่ ความรับผิดชอบของ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คณะกรรมการและผู้บริหารระดับสู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ข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ที่ต้อง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กำหนดสถานการณ์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จำลองและปัจจัยความเสี่ย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ง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พิจารณาผลกระท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จ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รายงานผ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ฉ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เตรียมการรองรับผลกระท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ช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ทบทวนและปรับปรุง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กระบวนการ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ซ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ทดสอบภาวะวิกฤต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สำหรับความเสี่ยงด้านต่าง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8960" y="1600200"/>
            <a:ext cx="3633480" cy="62856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0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I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ที่พึงปฏิบัติ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70680" y="1600200"/>
            <a:ext cx="2817720" cy="6858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 algn="ct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II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ประเมิน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ของ ธปท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644400"/>
            <a:ext cx="7507080" cy="385920"/>
          </a:xfrm>
          <a:prstGeom prst="roundRect">
            <a:avLst>
              <a:gd name="adj" fmla="val 16667"/>
            </a:avLst>
          </a:prstGeom>
          <a:solidFill>
            <a:srgbClr val="99ccff">
              <a:alpha val="3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ที่พึงปฏิบัติในการทดสอบภาวะวิกฤต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Stress test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78" idx="0"/>
            <a:endCxn id="182" idx="2"/>
          </p:cNvCxnSpPr>
          <p:nvPr/>
        </p:nvCxnSpPr>
        <p:spPr>
          <a:xfrm flipH="1" flipV="1" rot="5400000">
            <a:off x="3059640" y="-353880"/>
            <a:ext cx="570600" cy="3337560"/>
          </a:xfrm>
          <a:prstGeom prst="bentConnector3">
            <a:avLst>
              <a:gd name="adj1" fmla="val 50126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84" name=""/>
          <p:cNvCxnSpPr>
            <a:stCxn id="180" idx="0"/>
            <a:endCxn id="182" idx="2"/>
          </p:cNvCxnSpPr>
          <p:nvPr/>
        </p:nvCxnSpPr>
        <p:spPr>
          <a:xfrm flipV="1" rot="16200000">
            <a:off x="4729320" y="1312920"/>
            <a:ext cx="570600" cy="3960"/>
          </a:xfrm>
          <a:prstGeom prst="bentConnector3">
            <a:avLst>
              <a:gd name="adj1" fmla="val 50126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85" name=""/>
          <p:cNvCxnSpPr>
            <a:stCxn id="181" idx="0"/>
            <a:endCxn id="182" idx="2"/>
          </p:cNvCxnSpPr>
          <p:nvPr/>
        </p:nvCxnSpPr>
        <p:spPr>
          <a:xfrm flipV="1" rot="16200000">
            <a:off x="6411240" y="-369000"/>
            <a:ext cx="570600" cy="3367800"/>
          </a:xfrm>
          <a:prstGeom prst="bentConnector3">
            <a:avLst>
              <a:gd name="adj1" fmla="val 50126"/>
            </a:avLst>
          </a:prstGeom>
          <a:ln w="25560">
            <a:solidFill>
              <a:srgbClr val="ff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112920" y="5842080"/>
            <a:ext cx="3529080" cy="747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1120" y="4533840"/>
            <a:ext cx="2462400" cy="215748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1) Credit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2) Credit concen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3)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Trading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4) IRRB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5) Liquid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66320" y="1980720"/>
            <a:ext cx="9736200" cy="63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29080" indent="-43884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เป็นการประเมินผลกระทบที่เกิดจากการเปลี่ยนแปลงของปัจจัยต่าง ๆ  เช่น  ปัจจัยเศรษฐกิจ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มหภาคที่เปลี่ยนแปลงตามวัฏจักรเศรษฐกิจ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business cycle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หรือปัจจัยภายนอกอื่น ๆ  ซึ่งส่งผลต่อความสามารถในการชำระหนี้ของลูกหนี้  และความเสี่ยงด้านเครดิตโดยรวม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1" marL="829080" indent="-438840">
              <a:spcBef>
                <a:spcPts val="1650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ในการทำ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macroeconomic stress test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ควรพิจารณาประเด็นต่างๆ ดังนี้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426320" indent="-32904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เชื่อมโยงผลกระทบจากปัจจัยเศรษฐกิจมหภาค ต่อ ความสามารถในการชำระหนี้ของลูกหนี้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(Macro-Micro links)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426320" indent="-329040">
              <a:spcBef>
                <a:spcPts val="550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รกำหนดวิธีการและแนวทางที่สอดคล้องกับเครื่องมือที่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ช้ในการบริหารความเสี่ยงตามปกติ</a:t>
            </a:r>
            <a:r>
              <a:rPr b="1" lang="th-TH" sz="22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200" spc="-1" strike="noStrike">
              <a:solidFill>
                <a:srgbClr val="3333cc"/>
              </a:solidFill>
              <a:latin typeface="Cordia New"/>
            </a:endParaRPr>
          </a:p>
          <a:p>
            <a:pPr lvl="2" marL="1426320" indent="-32904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หาก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มีการบริหารลูกหนี้รายย่อยเป็นรายพอร์ต อาจทำการทดสอบและดูผลกระทบในภาพรวมเป็นพอร์ต ทั้งนี้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อาจแบ่งพอร์ตเพื่อทดสอบและดูผลกระทบแยกกันตามลักษณะความเสี่ยง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risk characteristic)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ที่แตกต่างกัน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ช่น พอร์ต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hire-purchase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 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พอร์ต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housing 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พอร์ต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credit cards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ป็นต้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426320" indent="-32904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นส่วนของลูกหนี้รายใหญ่ 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อาจทดสอบและดูผลกระทบแยกเป็นรายลูกหนี้หรือกลุ่มลูกหนี้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</p:txBody>
      </p:sp>
      <p:sp>
        <p:nvSpPr>
          <p:cNvPr id="189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1600" y="673200"/>
            <a:ext cx="891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1)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ด้านเครดิ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6320" y="1980720"/>
            <a:ext cx="9736200" cy="63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1500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ระดับความรุนแรงของผลกระทบที่อาจเกิดขึ้นกับลูกหนี้แต่ละราย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/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กลุ่มลูกหนี้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/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กลุ่มธุรกิจ  หรือแต่ละระดับความเสี่ยง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risk grade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อาจมีความแตกต่างกัน 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จึงควร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</a:rPr>
              <a:t>วิเคราะห์โดยใช้ข้อมูลเชิงปริมาณและเชิงคุณภาพประกอบกัน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1" marL="990720" indent="-533520">
              <a:spcBef>
                <a:spcPts val="1500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อาศัยความเห็นจากหน่วยงานต่างๆ เช่น หน่วยงาน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relationship manager (RM) 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หน่วยงานวิเคราะห์สินเชื่อ หน่วยงาน วิจัย  และหน่วยงานบริหารความเสี่ยง เป็นต้น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1" marL="990720" indent="-533520">
              <a:spcBef>
                <a:spcPts val="1500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อาจอ้างอิงระดับความรุนแรงและโอกาสที่สถานการณ์วิกฤตจะเกิดขึ้น เช่น ระดับอ่อน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mild) 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ระดับกลาง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moderate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และระดับรุนแรง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severe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สำหรับโอกาสที่จะเกิดขึ้นของเหตุการณ์ เพื่อประโยชน์ของการสื่อสารระหว่างหน่วยงานภายในที่เกี่ยวข้องและกับ ธปท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ถึงระดับความรุนแรงและโอกาสจะเกิดขึ้นของสถานการณ์วิกฤตที่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เลือกที่จะใช้ทดสอบ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1" marL="990720" indent="-533520">
              <a:spcBef>
                <a:spcPts val="1500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จัดให้มีเอกสารการประกอบการจัดทำไว้เป็นลายลักษณ์อักษร ให้สามารถตรวจสอบได้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1" marL="990720" indent="0"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192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1600" y="673200"/>
            <a:ext cx="891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1)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ด้านเครดิต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ต่อ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6320" y="1864800"/>
            <a:ext cx="9736200" cy="63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ให้ความสำคัญกับการทดสอบผ่านเครื่องมือที่ใช้ในการวิเคราะห์และบริหารความเสี่ยงสินเชื่อตามปกติ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1" marL="990720" indent="-53352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ในการพิจารณาผลกระทบ 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ควรคำนึงถึง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389240" indent="-4194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Default risk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และ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Migration risk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89240" indent="-4194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ผลกระทบจากการเปลี่ยนแปลงมูลค่าหลักประกัน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990720" indent="-53352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กรณีมีระบบ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Internal Rating System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และแบบจำลองในการประเมินค่า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PD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หรือ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LGD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389240" indent="-419400">
              <a:spcBef>
                <a:spcPts val="550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พิจารณาผลกระทบที่เกิดขึ้นในรูปการเปลี่ยนแปลงระดับความเสี่ยงด้านเครดิตของลูกหนี้ 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และ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/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หรือ การเปลี่ยนแปลงที่ค่า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PD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และ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LGD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ได้โดยตรง</a:t>
            </a:r>
            <a:r>
              <a:rPr b="1" lang="en-US" sz="22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200" spc="-1" strike="noStrike">
              <a:solidFill>
                <a:srgbClr val="3333cc"/>
              </a:solidFill>
              <a:latin typeface="Cordia New"/>
            </a:endParaRPr>
          </a:p>
          <a:p>
            <a:pPr lvl="1" marL="990720" indent="-53352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กรณีมีระบบ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Internal Rating System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แต่ยังไม่มีแบบจำลองในการประเมินค่า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PD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หรือ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LGD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389240" indent="-4194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พิจารณาผลกระทบที่เกิดขึ้น ในรูปการเปลี่ยนแปลงระดับความเสี่ยงด้านเครดิตของลูกหนี้ในเกรดต่างๆ  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หรือลูกหนี้ที่กลายเป็น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new NPL 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จากนั้นจึงคำนวณหาค่าความเสียหายโดยอ้างอิงเกณฑ์การจัดชั้นและการกันเงินสำรองที่ ธปท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ำหนด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990720" indent="0"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Cordia New"/>
            </a:endParaRPr>
          </a:p>
        </p:txBody>
      </p:sp>
      <p:sp>
        <p:nvSpPr>
          <p:cNvPr id="195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600" y="673200"/>
            <a:ext cx="891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1)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ด้านเครดิต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ต่อ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94240" y="5943600"/>
            <a:ext cx="129528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4240" y="5943600"/>
            <a:ext cx="1295280" cy="3049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7800" y="808200"/>
            <a:ext cx="8829720" cy="5627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94240" y="5943600"/>
            <a:ext cx="12384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20840" y="228600"/>
            <a:ext cx="750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ordia New"/>
                <a:ea typeface="Cordia New"/>
              </a:rPr>
              <a:t>Basel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17520" y="1190160"/>
            <a:ext cx="9585360" cy="62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Cordia New"/>
            </a:endParaRPr>
          </a:p>
          <a:p>
            <a:pPr lvl="1" marL="548640" indent="-37800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ทดสอบทั้งในมิติของ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150200" indent="-21924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กระจุกตัวของกลุ่มลูกหนี้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-&gt;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ช้คำจำกัดความตามหลักเกณฑ์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single lending limit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50200" indent="-21924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กระจุกตัวของภาคธุรกิจ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-&gt;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ช้คำจำกัดความตามที่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ช้ในการบริหารพอร์ต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548640" indent="-37800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ทดสอบโดยใช้เครื่องมือหรือวิธีการที่ใช้ประเมินหรือติดตามความเสี่ยงในภาวะปกติ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150200" indent="-21924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gross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และ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net of collateral exposure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ปรียบเทียบกับฐานตัวแปรต่างๆ เช่น สินเชื่อทั้งสิ้น เงินกองทุนทั้งสิ้น  เงินกองทุนชั้นที่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1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ป็นต้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50200" indent="-21924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่า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Herfindahl index  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หรือ  ค่าสหสัมพันธ์ระหว่างลูกหนี้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/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ลุ่มลูกหนี้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548640" indent="-37800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ทดสอบทั้งในลักษณะระดับการกระจุกตัวด้านเครดิตเท่าเดิมและเพิ่มขึ้น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 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เช่น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150200" indent="-21924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ลุ่มลูกหนี้รายใหญ่ที่สุดจำนวนหนึ่งผิดนัดชำระหนี้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50200" indent="-21924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กิดสถานการณ์วิกฤตกับภาคธุรกิจใดธุรกิจหนึ่ง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50200" indent="-21924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ำหนดให้ระดับและทิศทางความสัมพันธ์ระหว่างลูกหนี้ในและระหว่างภาคธุรกิจเปลี่ยนแปลงไป โดยใช้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correlation matrix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ป็นต้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</p:txBody>
      </p:sp>
      <p:sp>
        <p:nvSpPr>
          <p:cNvPr id="198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600" y="673200"/>
            <a:ext cx="891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2)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จากการกระจุกตัวด้านเครดิ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1600" y="673200"/>
            <a:ext cx="891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2)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จากการกระจุกตัวด้านเครดิต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ต่อ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80880" y="1514520"/>
            <a:ext cx="9676080" cy="65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ordia New"/>
            </a:endParaRPr>
          </a:p>
          <a:p>
            <a:pPr lvl="1" marL="571680" indent="-393840">
              <a:spcBef>
                <a:spcPts val="1225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Cordia New"/>
              </a:rPr>
              <a:t>ความเสี่ยงจากการกระจุกตัวด้านเครดิต อาจเกิดขึ้นผ่าน</a:t>
            </a:r>
            <a:endParaRPr b="1" lang="en-US" sz="2800" spc="-1" strike="noStrike">
              <a:solidFill>
                <a:srgbClr val="000066"/>
              </a:solidFill>
              <a:latin typeface="Cordia New"/>
            </a:endParaRPr>
          </a:p>
          <a:p>
            <a:pPr lvl="2" marL="1198440" indent="-2286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กระจุกตัวของประเภทหลักประกัน หรือตราสารป้องกันความเสี่ยงด้านเครดิตที่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ออกโดยคู่สัญญาหนึ่งๆ ได้อีกด้วย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98440" indent="-2286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ที่ใช้วิธี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comprehensive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นการประมาณค่า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Haircut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รทำการทดสอบตามเกณฑ์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Basel II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ที่กำหนดด้วย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571680" indent="-393840">
              <a:spcBef>
                <a:spcPts val="1225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Cordia New"/>
              </a:rPr>
              <a:t>ควรนำผลการทดสอบไปใช้ประกอบการพิจารณา 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</a:rPr>
              <a:t>/ 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</a:rPr>
              <a:t>ทบทวน</a:t>
            </a:r>
            <a:endParaRPr b="1" lang="en-US" sz="2800" spc="-1" strike="noStrike">
              <a:solidFill>
                <a:srgbClr val="000066"/>
              </a:solidFill>
              <a:latin typeface="Cordia New"/>
            </a:endParaRPr>
          </a:p>
          <a:p>
            <a:pPr lvl="2" marL="1198440" indent="-2286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นโยบายการให้สินเชื่อหรือบริหารพอร์ตสินเชื่อในภาพรวม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98440" indent="-2286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วงเงินสำหรับลูกหนี้หรือกลุ่มลูกหนี้รายใหญ่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98440" indent="-2286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แนวทางหรือนโยบายเรื่องหลักประกันของลูกหนี้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พิจารณาติดตามและทบทวนสินเชื่อ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98440" indent="-2286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ปรับลดความเสี่ยง  หรือการดำรงเงินกองทุนเพื่อรองรับความเสี่ยง  เป็นต้น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600" y="673200"/>
            <a:ext cx="891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3)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ด้านตลาดในบัญชีเพื่อการค้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0840" y="1828440"/>
            <a:ext cx="97358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42880" indent="-374040">
              <a:spcBef>
                <a:spcPts val="1225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Cordia New"/>
              </a:rPr>
              <a:t>ปัจจัยที่ควรนำมาพิจารณาในการกำหนดสถานการณ์จำลอง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เปลี่ยนแปลงปัจจัยเสี่ยงด้านตลาด ทั้ง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General Market Risk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และ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Specific Risk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ภายใต้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ระยะเวลาและระดับความเชื่อมั่นที่กำหนด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ลักษณะและการกำหนดกลยุทธ์ของพอร์ตเพื่อการค้าที่เปลี่ยนแปลงไป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ประสิทธิภาพของเครื่องมือที่ใช้ป้องกันความเสี่ยงภายใต้ภาวะวิกฤต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เชื่อมโยงระหว่างความเสี่ยงประเภทต่างๆ เช่น ปัญหาสภาพคล่องในตลาด อาจทำให้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กิดการระดมขายตราสารพร้อมกันเป็นจำนวนมาก  ส่งผลกระทบต่อมูลค่าตราสารในตลาด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กระจุกตัวของฐานะในมิติต่างๆ เช่น ผลิตภัณฑ์  กลุ่มลูกหนี้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/ counterparty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ป็นต้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สภาพตลาดที่มีทิศทางในทางเดียว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one-way markets)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ธุรกรรมที่มีลักษณะเป็น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non-linear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ช่น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option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หรือ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structured notes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542880" indent="-374040">
              <a:spcBef>
                <a:spcPts val="1225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Cordia New"/>
              </a:rPr>
              <a:t>ควรนำผลการทดสอบไปใช้ประกอบการพิจารณา 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</a:rPr>
              <a:t>/ 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</a:rPr>
              <a:t>ทบทวน</a:t>
            </a:r>
            <a:endParaRPr b="1" lang="en-US" sz="2800" spc="-1" strike="noStrike">
              <a:solidFill>
                <a:srgbClr val="000066"/>
              </a:solidFill>
              <a:latin typeface="Cordia New"/>
            </a:endParaRPr>
          </a:p>
          <a:p>
            <a:pPr lvl="2" marL="1138320" indent="-21708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พดานความเสี่ยงสำหรับค่า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duration limit 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่า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FX position limit 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่า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stop-loss limit 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และค่า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intraday limit  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ป็นต้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542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Cordia Ne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1600" y="673200"/>
            <a:ext cx="891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3)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ด้านตลาดในบัญชีเพื่อการค้า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ต่อ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20480" y="1980720"/>
            <a:ext cx="94820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9160" indent="-571320">
              <a:spcBef>
                <a:spcPts val="1650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ธปท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คาดหวังให้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ที่ใช้วิธี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Internal Model Approach (IMA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มีการทดสอบภาวะวิกฤตที่ครอบคลุมปัจจัยความเสี่ยงที่มากกว่า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ที่ใช้วิธี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Standardized approach  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โดยเฉพาะ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198440" indent="-228600">
              <a:spcBef>
                <a:spcPts val="1375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นส่วนที่เกี่ยวข้องกับความเสี่ยงจากแบบจำลอง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model risk) 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และ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98440" indent="-228600">
              <a:spcBef>
                <a:spcPts val="1375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ผลกระทบที่อาจเกิดขึ้นจากเหตุการณ์ลักษณะ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tail event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ที่อาจเกิดขึ้นได้ไกลกว่าระดับความเชื่อมั่นที่กำหนดไว้ ที่วิธีทางสถิติหรือแบบจำลองที่ใช้อาจไม่ครอบคลุม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capture)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นื่องจากข้อจำกัดด้านข้อมูลในอดีตที่ใช้ในแบบจำลอง 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98440" indent="-228600">
              <a:spcBef>
                <a:spcPts val="1375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รวมทั้งทดสอบสมมุติฐานที่ใช้ในแบบจำลองภายใต้ภาวะวิกฤต  และประเมินผลกระทบกรณีที่สมมุติฐานสำคัญของแบบจำลองเปลี่ยนแปลงไป เป็นต้น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600" y="673200"/>
            <a:ext cx="891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4)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ด้านอัตราดอกเบี้ยในบัญชีเพื่อการธนาค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96360" y="1904760"/>
            <a:ext cx="9736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393840">
              <a:spcBef>
                <a:spcPts val="1225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Cordia New"/>
              </a:rPr>
              <a:t>ปัจจัยที่ควรนำมาพิจารณาในการกำหนดสถานการณ์จำลอง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Cordia New"/>
            </a:endParaRPr>
          </a:p>
          <a:p>
            <a:pPr lvl="2" marL="1198440" indent="-2286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เปลี่ยนแปลงอย่างฉับพลันของระดับอัตราดอกเบี้ยต่างๆ ภายใต้ระยะเวลาและระดับ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เชื่อมั่นที่กำหนด ทั้ง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basis risk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และ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yield curve risk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98440" indent="-2286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ลักษณะและการกำหนดกลยุทธ์ของพอร์ตและธุรกิจที่เปลี่ยนแปลงไป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98440" indent="-2286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ครื่องมือทางการเงินที่ใช้ป้องกันความเสี่ยง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98440" indent="-2286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กระจุกตัวของฐานะความเสี่ยงในมิติต่างๆ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198440" indent="-2286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สมมุติฐานต่างๆ เช่น สมมุติฐานสำหรับเครื่องมือทางการเงินที่ไม่มีสภาพคล่อง เครื่องมือ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ทางการเงินที่มีอายุครบกำหนดที่ไม่แน่นอ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571680" indent="-393840">
              <a:spcBef>
                <a:spcPts val="1225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Cordia New"/>
              </a:rPr>
              <a:t>ควรนำผลการทดสอบไปใช้ประกอบการพิจารณา 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</a:rPr>
              <a:t>/ 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</a:rPr>
              <a:t>ทบทวน</a:t>
            </a:r>
            <a:endParaRPr b="1" lang="en-US" sz="2800" spc="-1" strike="noStrike">
              <a:solidFill>
                <a:srgbClr val="000066"/>
              </a:solidFill>
              <a:latin typeface="Cordia New"/>
            </a:endParaRPr>
          </a:p>
          <a:p>
            <a:pPr lvl="2" marL="1198440" indent="-2286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นโยบายการบริหารความเสี่ยงและเพดานความเสี่ยงด้านอัตราดอกเบี้ยให้เหมาะสมกับลักษณะของพอร์ต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1600" y="673200"/>
            <a:ext cx="891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5)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ด้านสภาพคล่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2000" y="1904760"/>
            <a:ext cx="96505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62244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ในการประเมินฐานะสภาพคล่องสุทธิต้องอาศัยสมมุติฐานและการประมาณการในหลายเรื่อง ซึ่งอาจใช้เทคนิคที่แตกต่างกันได้ เช่น 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389240" indent="-2844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ใช้ข้อมูลจากพฤติกรรมในอดีตของลูกค้า หรือของระบบโดยรวม 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89240" indent="-2844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การประมาณการโดยใช้ความเห็นของผู้เชี่ยวชาญ  หรือใช้แบบจำลอง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89240" indent="-284400"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ทั้งนี้ ควรมีการประเมิน ติดตามและทบทวนสมมุติฐานและประมาณการที่ใช้เป็นประจำว่ายังคงสมเหตุสมผลและยังสามารถใช้ได้ผลดีอยู่หรือไม่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800280" indent="-62244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ทั้งนี้ ให้ใช้หลักความระมัดระวังในการทำประมาณการกระแสเงินสดและการปรับพฤติกรรมภายใต้ภาวะวิกฤต พร้อมจัดให้มีเอกสารสนับสนุนประกอบการตรวจสอบไว้เป็นลายลักษณ์อักษร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1" marL="800280" indent="-622440">
              <a:spcBef>
                <a:spcPts val="1225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Cordia New"/>
              </a:rPr>
              <a:t>ควรนำผลการทดสอบไปใช้ประกอบการพิจารณา 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</a:rPr>
              <a:t>/ 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</a:rPr>
              <a:t>ทบทวน</a:t>
            </a:r>
            <a:endParaRPr b="1" lang="en-US" sz="2800" spc="-1" strike="noStrike">
              <a:solidFill>
                <a:srgbClr val="000066"/>
              </a:solidFill>
              <a:latin typeface="Cordia New"/>
            </a:endParaRPr>
          </a:p>
          <a:p>
            <a:pPr lvl="2" marL="1389240" indent="-284400">
              <a:spcBef>
                <a:spcPts val="24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นโยบายการบริหารความเสี่ยงด้านสภาพคล่อง และแผนการบริหารสภาพคล่อง 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89240" indent="-284400">
              <a:spcBef>
                <a:spcPts val="24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พดานความเสี่ยงที่เกี่ยวข้อง เช่น อัตราส่วนเงินฝากต่อเงินให้สินเชื่อ  ค่า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mismatch limit 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นแต่ละช่วงเวลา  ตัวบ่งชี้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trigger point)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ป็นต้น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89240" indent="-284400">
              <a:spcBef>
                <a:spcPts val="275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แผนฉุกเฉินด้านสภาพคล่อง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contingency plan)</a:t>
            </a:r>
            <a:r>
              <a:rPr b="1" lang="en-US" sz="22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200" spc="-1" strike="noStrike">
              <a:solidFill>
                <a:srgbClr val="3333cc"/>
              </a:solidFill>
              <a:latin typeface="Cordia New"/>
            </a:endParaRPr>
          </a:p>
          <a:p>
            <a:pPr lvl="2" marL="1389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3" marL="1770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1600" y="673200"/>
            <a:ext cx="8912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5)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ด้านสภาพคล่อง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ต่อ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2000" y="1904760"/>
            <a:ext cx="94330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812880"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ในการ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</a:rPr>
              <a:t>ประมาณกระแสเงินสดรับ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จากงบดุลด้านสินทรัพย์ภายใต้ภาวะวิกฤต  ให้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พิจารณาปัจจัยต่างๆ เช่น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389240" indent="-419400">
              <a:spcBef>
                <a:spcPts val="24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ประมาณการปริมาณสินเชื่อที่ได้รับชำระคื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89240" indent="-419400">
              <a:spcBef>
                <a:spcPts val="24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ประมาณการมูลค่าเงินลงทุนที่ขายได้ภายหลังอัตราคิดลด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(haircut)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1" marL="990720" indent="-812880">
              <a:spcBef>
                <a:spcPts val="1650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ในการ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Cordia New"/>
              </a:rPr>
              <a:t>ประมาณกระแสเงินสดออก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จากงบดุลด้านหนี้สินและรายการนอกงบดุล ภายใต้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ภาวะวิกฤต  ให้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พิจารณาปัจจัยต่างๆ เช่น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1389240" indent="-419400">
              <a:spcBef>
                <a:spcPts val="24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ประมาณการการไถ่ถอนเงินฝากของลูกค้า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89240" indent="-419400">
              <a:spcBef>
                <a:spcPts val="24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ประมาณการการถูกเรียกคืนเงินกู้ยืมที่ไม่มีอายุกำหนดไว้ในสัญญา เช่น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call loan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รวมทั้ง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interbank loan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ป็นต้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89240" indent="-419400">
              <a:spcBef>
                <a:spcPts val="24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ประมาณการวงเงินสินเชื่อที่จะมีการอนุมัติ และการเบิกใช้วงเงินสินเชื่อของลูกค้า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89240" indent="-419400">
              <a:spcBef>
                <a:spcPts val="24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ประมาณการผลกระทบจากภาระผูกพันและการค้ำประกั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1389240" indent="-419400">
              <a:spcBef>
                <a:spcPts val="249"/>
              </a:spcBef>
              <a:buClr>
                <a:srgbClr val="3333cc"/>
              </a:buClr>
              <a:buFont typeface="Cordi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ประมาณการหลักประกันที่อาจถูกเรียกเพิ่มเติม หรือการถูกขอ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early termination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สัญญาอนุพันธ์จากคู่สัญญา เป็นต้น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5"/>
          <p:cNvSpPr/>
          <p:nvPr/>
        </p:nvSpPr>
        <p:spPr>
          <a:xfrm>
            <a:off x="404640" y="2209680"/>
            <a:ext cx="90680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6120" algn="ctr">
              <a:lnSpc>
                <a:spcPct val="100000"/>
              </a:lnSpc>
              <a:spcBef>
                <a:spcPts val="72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66"/>
                </a:solidFill>
                <a:latin typeface="Cordia New"/>
                <a:ea typeface="Cordia New"/>
              </a:rPr>
              <a:t>Q &amp; A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79440" y="722160"/>
            <a:ext cx="906768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6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หัวข้อการบรรย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6120" algn="ctr">
              <a:lnSpc>
                <a:spcPct val="100000"/>
              </a:lnSpc>
              <a:spcBef>
                <a:spcPts val="2200"/>
              </a:spcBef>
              <a:buClr>
                <a:srgbClr val="000066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1720" y="2057400"/>
            <a:ext cx="8763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	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cs typeface="Cordia New"/>
              </a:rPr>
              <a:t>อ้างอิงจากแนวทางที่พึงปฏิบัติในการทดสอบภาวะวิกฤต 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Stress Test) 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cs typeface="Cordia New"/>
              </a:rPr>
              <a:t>ของธนาคารพาณิชย์  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cs typeface="Cordia New"/>
              </a:rPr>
              <a:t>ประกาศ ธปท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cs typeface="Cordia New"/>
              </a:rPr>
              <a:t>ที่ สกส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 5/2552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cs typeface="Cordia New"/>
              </a:rPr>
              <a:t>เรื่อง หลักเกณฑ์การกำกับดูแลเงินกองทุนโดยทางการ 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(Pillar 2) 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cs typeface="Cordia New"/>
              </a:rPr>
              <a:t>ลงวันที่ 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21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cs typeface="Cordia New"/>
              </a:rPr>
              <a:t>สิงหาคม 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255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I)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	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cs typeface="Cordia New"/>
              </a:rPr>
              <a:t>บทน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II)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	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ที่พึงปฏิบัติของ ธพ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III)</a:t>
            </a:r>
            <a:r>
              <a:rPr b="1" lang="en-US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	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ประเมินของ ธปท</a:t>
            </a:r>
            <a:r>
              <a:rPr b="1" lang="th-TH" sz="28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74680" y="2357280"/>
            <a:ext cx="2733480" cy="2853000"/>
          </a:xfrm>
          <a:custGeom>
            <a:avLst/>
            <a:gdLst>
              <a:gd name="textAreaLeft" fmla="*/ 133200 w 2733480"/>
              <a:gd name="textAreaRight" fmla="*/ 2600280 w 2733480"/>
              <a:gd name="textAreaTop" fmla="*/ 133200 h 2853000"/>
              <a:gd name="textAreaBottom" fmla="*/ 2719800 h 2853000"/>
            </a:gdLst>
            <a:ahLst/>
            <a:rect l="textAreaLeft" t="textAreaTop" r="textAreaRight" b="textAreaBottom"/>
            <a:pathLst>
              <a:path w="21600" h="22544">
                <a:moveTo>
                  <a:pt x="3600" y="0"/>
                </a:moveTo>
                <a:arcTo wR="3600" hR="3600" stAng="16200000" swAng="-5400000"/>
                <a:lnTo>
                  <a:pt x="0" y="18944"/>
                </a:lnTo>
                <a:arcTo wR="3600" hR="3600" stAng="10800000" swAng="-5400000"/>
                <a:lnTo>
                  <a:pt x="18000" y="22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วัตถุประสงค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ข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ำจำกัดควา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ประโยชน์ของการ    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ง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ลักษณะการ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5680" y="1600200"/>
            <a:ext cx="2639880" cy="62856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65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บทน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12920" y="2357280"/>
            <a:ext cx="3791160" cy="4257720"/>
          </a:xfrm>
          <a:custGeom>
            <a:avLst/>
            <a:gdLst>
              <a:gd name="textAreaLeft" fmla="*/ 185040 w 3791160"/>
              <a:gd name="textAreaRight" fmla="*/ 3606120 w 3791160"/>
              <a:gd name="textAreaTop" fmla="*/ 185040 h 4257720"/>
              <a:gd name="textAreaBottom" fmla="*/ 4072680 h 4257720"/>
            </a:gdLst>
            <a:ahLst/>
            <a:rect l="textAreaLeft" t="textAreaTop" r="textAreaRight" b="textAreaBottom"/>
            <a:pathLst>
              <a:path w="21600" h="24258">
                <a:moveTo>
                  <a:pt x="3600" y="0"/>
                </a:moveTo>
                <a:arcTo wR="3600" hR="3600" stAng="16200000" swAng="-5400000"/>
                <a:lnTo>
                  <a:pt x="0" y="20658"/>
                </a:lnTo>
                <a:arcTo wR="3600" hR="3600" stAng="10800000" swAng="-5400000"/>
                <a:lnTo>
                  <a:pt x="18000" y="242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บทบาทหน้าที่ ความรับผิดชอบของ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คณะกรรมการและผู้บริหารระดับสู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ข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ที่ต้อง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กำหนดสถานการณ์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จำลองและปัจจัยความเสี่ย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ง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พิจารณาผลกระท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จ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รายงานผลการทดสอ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ฉ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เตรียมการรองรับผลกระท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ช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ทบทวน สอบทานและปรับปรุง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กระบวนการ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ซ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ทดสอบภาวะวิกฤต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สำหรับความเสี่ยงด้านต่าง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98960" y="1600200"/>
            <a:ext cx="3633480" cy="62856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0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I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ที่พึงปฏิบัติ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70680" y="1600200"/>
            <a:ext cx="2817720" cy="6858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 algn="ct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II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ประเมิน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ของ ธปท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644400"/>
            <a:ext cx="7507080" cy="385920"/>
          </a:xfrm>
          <a:prstGeom prst="roundRect">
            <a:avLst>
              <a:gd name="adj" fmla="val 16667"/>
            </a:avLst>
          </a:prstGeom>
          <a:solidFill>
            <a:srgbClr val="99ccff">
              <a:alpha val="3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ทดสอบภาวะวิกฤต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Stress test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ของธนาคารพาณิชย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1" idx="0"/>
            <a:endCxn id="85" idx="2"/>
          </p:cNvCxnSpPr>
          <p:nvPr/>
        </p:nvCxnSpPr>
        <p:spPr>
          <a:xfrm flipH="1" flipV="1" rot="5400000">
            <a:off x="3059640" y="-353880"/>
            <a:ext cx="570600" cy="3337560"/>
          </a:xfrm>
          <a:prstGeom prst="bentConnector3">
            <a:avLst>
              <a:gd name="adj1" fmla="val 50126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87" name=""/>
          <p:cNvCxnSpPr>
            <a:stCxn id="83" idx="0"/>
            <a:endCxn id="85" idx="2"/>
          </p:cNvCxnSpPr>
          <p:nvPr/>
        </p:nvCxnSpPr>
        <p:spPr>
          <a:xfrm flipV="1" rot="16200000">
            <a:off x="4729320" y="1312920"/>
            <a:ext cx="570600" cy="3960"/>
          </a:xfrm>
          <a:prstGeom prst="bentConnector3">
            <a:avLst>
              <a:gd name="adj1" fmla="val 50126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88" name=""/>
          <p:cNvCxnSpPr>
            <a:stCxn id="84" idx="0"/>
            <a:endCxn id="85" idx="2"/>
          </p:cNvCxnSpPr>
          <p:nvPr/>
        </p:nvCxnSpPr>
        <p:spPr>
          <a:xfrm flipV="1" rot="16200000">
            <a:off x="6411240" y="-369000"/>
            <a:ext cx="570600" cy="3367800"/>
          </a:xfrm>
          <a:prstGeom prst="bentConnector3">
            <a:avLst>
              <a:gd name="adj1" fmla="val 50126"/>
            </a:avLst>
          </a:prstGeom>
          <a:ln w="25560">
            <a:solidFill>
              <a:srgbClr val="ff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336600" y="1558800"/>
            <a:ext cx="2862360" cy="641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79440" y="722160"/>
            <a:ext cx="906768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6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คำจำกัดควา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6120" algn="ctr">
              <a:lnSpc>
                <a:spcPct val="100000"/>
              </a:lnSpc>
              <a:spcBef>
                <a:spcPts val="2200"/>
              </a:spcBef>
              <a:buClr>
                <a:srgbClr val="000066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680" y="2057400"/>
            <a:ext cx="9433080" cy="31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68580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ภาวะวิกฤต หมายถึง  ภาวะไม่ปกติที่มีโอกาสเกิดขึ้นได้ และก่อให้เกิดผลกระทบอย่างรุนแรง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extreme but plausible events)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rdia New"/>
                <a:ea typeface="Cordia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85800">
              <a:lnSpc>
                <a:spcPct val="10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ทดสอบภาวะวิกฤต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stress test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เป็นเครื่องมือบริหารความเสี่ยง ที่อาศัยเทคนิคและวิธีเชิงปริมาณและเชิงคุณภาพ  ในการประเมินความเสียหายหรือผลกระทบต่อฐานะและการดำเนินงานในด้านต่าง ๆ 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ที่อาจเกิดขึ้นภายใต้ภาวะวิกฤต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ซึ่งช่วยให้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สามารถระบุเหตุการณ์หรือปัจจัยความเสี่ยงที่อาจส่งผลกระทบอย่างมีนัยสำคัญ  และสามารถเตรียมความพร้อมรองรับได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41868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ทดสอบภาวะวิกฤตแบ่งได้เป็น </a:t>
            </a:r>
            <a:r>
              <a:rPr b="1" lang="en-US" sz="3200" spc="-1" strike="noStrike">
                <a:solidFill>
                  <a:srgbClr val="000066"/>
                </a:solidFill>
                <a:latin typeface="Cordia New"/>
                <a:ea typeface="Cordia New"/>
              </a:rPr>
              <a:t>2 </a:t>
            </a: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ลักษณะ คื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7000" y="945720"/>
            <a:ext cx="4546440" cy="511812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txBody>
          <a:bodyPr anchor="t">
            <a:normAutofit fontScale="82000"/>
          </a:bodyPr>
          <a:p>
            <a:pPr lvl="1" marL="239400" indent="-145440">
              <a:lnSpc>
                <a:spcPct val="9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การทดสอบโดยจำลองสถานการณ์วิกฤต 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scenario test) 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562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rdia New"/>
            </a:endParaRPr>
          </a:p>
          <a:p>
            <a:pPr lvl="2" marL="562320" indent="-184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ส่วนใหญ่ปัจจัยความเสี่ยงหลายปัจจัยเปลี่ยนแปลงพร้อมกัน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562320" indent="-184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ห้ความสำคัญกับ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1)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รายละเอียดเหตุการณ์  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2)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ความเชื่อมโยงระหว่างปัจจัยความเสี่ยง  และ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3)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สาเหตุที่ทำให้เกิดการเปลี่ยนแปลงข้างต้น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562320" indent="-184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Historical scenario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ช่น เหตุการณ์วิกฤตเศรษฐกิจปี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2540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หรือวิกฤต 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sub-prime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562320" indent="-184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Hypothetical scenario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เช่น การถอนเงินฝากจาก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นส่วนที่เกินกว่าจำนวนที่สถาบันประกันเงินฝากค้ำประกันทั้งจำนวนทันที  หรือ กรณี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แม่ของสาขา ธพ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ตปท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. </a:t>
            </a: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นไทยเกิดปัญหาด้าน</a:t>
            </a:r>
            <a:br>
              <a:rPr sz="2000"/>
            </a:b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ผลการดำเนินการจนทำให้ผู้ฝากเงิน เจ้าหนี้ และคู่สัญญาขาดความเชื่อมั่น เป็นต้น</a:t>
            </a: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15040" y="936360"/>
            <a:ext cx="4378320" cy="51274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lvl="1" marL="393840" indent="-231840">
              <a:lnSpc>
                <a:spcPct val="90000"/>
              </a:lnSpc>
              <a:spcBef>
                <a:spcPts val="1049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การทดสอบโดยวิเคราะห์ความอ่อนไหว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ต่อการเปลี่ยนแปลงปัจจัยความเสี่ยง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</a:rPr>
              <a:t>sensitivity analysis) </a:t>
            </a:r>
            <a:endParaRPr b="1" lang="en-US" sz="2400" spc="-1" strike="noStrike">
              <a:solidFill>
                <a:srgbClr val="000066"/>
              </a:solidFill>
              <a:latin typeface="Cordia New"/>
            </a:endParaRPr>
          </a:p>
          <a:p>
            <a:pPr lvl="2" marL="855720" indent="-289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ส่วนใหญ่ปัจจัยความเสี่ยงเปลี่ยนแปลงทีละปัจจัย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855720" indent="-289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Cordia New"/>
              </a:rPr>
              <a:t>ให้ความสำคัญกับการกำหนดขนาดการเปลี่ยนแปลงของปัจจัยความเสี่ยงอย่างชัดเจน 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  <a:p>
            <a:pPr lvl="2" marL="855720" indent="-289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rdia New"/>
              </a:rPr>
              <a:t>Historical / Hypothetical changes</a:t>
            </a:r>
            <a:endParaRPr b="1" lang="en-US" sz="2000" spc="-1" strike="noStrike">
              <a:solidFill>
                <a:srgbClr val="3333cc"/>
              </a:solidFill>
              <a:latin typeface="Cordia New"/>
            </a:endParaRPr>
          </a:p>
        </p:txBody>
      </p:sp>
      <p:sp>
        <p:nvSpPr>
          <p:cNvPr id="96" name=""/>
          <p:cNvSpPr/>
          <p:nvPr/>
        </p:nvSpPr>
        <p:spPr>
          <a:xfrm>
            <a:off x="657360" y="1968480"/>
            <a:ext cx="45464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15040" y="1981080"/>
            <a:ext cx="43653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3040" y="6064200"/>
            <a:ext cx="87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ทั้งนี้ ให้ ธพ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. 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ารถเลือกใช้การทดสอบภาวะวิกฤต 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2 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ลักษณะข้างต้นให้ตรงตามวัตถุประสงค์ของการทดสอบ  และให้เหมาะสมกับสถานการณ์และปัจจัยเสี่ยงในแต่ละช่วงเวล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4680" y="2357280"/>
            <a:ext cx="2733480" cy="2853000"/>
          </a:xfrm>
          <a:custGeom>
            <a:avLst/>
            <a:gdLst>
              <a:gd name="textAreaLeft" fmla="*/ 133200 w 2733480"/>
              <a:gd name="textAreaRight" fmla="*/ 2600280 w 2733480"/>
              <a:gd name="textAreaTop" fmla="*/ 133200 h 2853000"/>
              <a:gd name="textAreaBottom" fmla="*/ 2719800 h 2853000"/>
            </a:gdLst>
            <a:ahLst/>
            <a:rect l="textAreaLeft" t="textAreaTop" r="textAreaRight" b="textAreaBottom"/>
            <a:pathLst>
              <a:path w="21600" h="22544">
                <a:moveTo>
                  <a:pt x="3600" y="0"/>
                </a:moveTo>
                <a:arcTo wR="3600" hR="3600" stAng="16200000" swAng="-5400000"/>
                <a:lnTo>
                  <a:pt x="0" y="18944"/>
                </a:lnTo>
                <a:arcTo wR="3600" hR="3600" stAng="10800000" swAng="-5400000"/>
                <a:lnTo>
                  <a:pt x="18000" y="22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วัตถุประสงค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ข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ำจำกัดควา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ประโยชน์ของการ    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90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ง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ลักษณะการ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5680" y="1600200"/>
            <a:ext cx="2639880" cy="62856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65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บทน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12920" y="2357280"/>
            <a:ext cx="3791160" cy="4257720"/>
          </a:xfrm>
          <a:custGeom>
            <a:avLst/>
            <a:gdLst>
              <a:gd name="textAreaLeft" fmla="*/ 185040 w 3791160"/>
              <a:gd name="textAreaRight" fmla="*/ 3606120 w 3791160"/>
              <a:gd name="textAreaTop" fmla="*/ 185040 h 4257720"/>
              <a:gd name="textAreaBottom" fmla="*/ 4072680 h 4257720"/>
            </a:gdLst>
            <a:ahLst/>
            <a:rect l="textAreaLeft" t="textAreaTop" r="textAreaRight" b="textAreaBottom"/>
            <a:pathLst>
              <a:path w="21600" h="24258">
                <a:moveTo>
                  <a:pt x="3600" y="0"/>
                </a:moveTo>
                <a:arcTo wR="3600" hR="3600" stAng="16200000" swAng="-5400000"/>
                <a:lnTo>
                  <a:pt x="0" y="20658"/>
                </a:lnTo>
                <a:arcTo wR="3600" hR="3600" stAng="10800000" swAng="-5400000"/>
                <a:lnTo>
                  <a:pt x="18000" y="242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บทบาทหน้าที่ ความรับผิดชอบของ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คณะกรรมการและผู้บริหารระดับสู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ข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วามเสี่ยงที่ต้อง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ค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กำหนดสถานการณ์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จำลองและปัจจัยความเสี่ย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ง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พิจารณาผลกระท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จ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รายงานผลการทดสอ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ฉ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เตรียมการรองรับผลกระท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ช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ทบทวน สอบทานและปรับปรุง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กระบวนการทดสอบภาวะวิกฤ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1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ซ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. </a:t>
            </a:r>
            <a:r>
              <a:rPr b="1" lang="th-TH" sz="20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ทดสอบภาวะวิกฤต</a:t>
            </a:r>
            <a:br>
              <a:rPr sz="2000"/>
            </a:br>
            <a:r>
              <a:rPr b="1" lang="th-TH" sz="2000" spc="-1" strike="noStrike">
                <a:solidFill>
                  <a:srgbClr val="000066"/>
                </a:solidFill>
                <a:latin typeface="Cordia New"/>
                <a:ea typeface="Cordia New"/>
              </a:rPr>
              <a:t>    สำหรับความเสี่ยงด้านต่าง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98960" y="1600200"/>
            <a:ext cx="3633480" cy="62856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0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I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ที่พึงปฏิบัติของ ธพ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70680" y="1600200"/>
            <a:ext cx="2817720" cy="6858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 algn="ct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"/>
              <a:tabLst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III.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ประเมิน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ของ ธปท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644400"/>
            <a:ext cx="7507080" cy="385920"/>
          </a:xfrm>
          <a:prstGeom prst="roundRect">
            <a:avLst>
              <a:gd name="adj" fmla="val 16667"/>
            </a:avLst>
          </a:prstGeom>
          <a:solidFill>
            <a:srgbClr val="99ccff">
              <a:alpha val="3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ทดสอบภาวะวิกฤต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Stress test)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ของธนาคารพาณิชย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0" idx="0"/>
            <a:endCxn id="104" idx="2"/>
          </p:cNvCxnSpPr>
          <p:nvPr/>
        </p:nvCxnSpPr>
        <p:spPr>
          <a:xfrm flipH="1" flipV="1" rot="5400000">
            <a:off x="3059640" y="-353880"/>
            <a:ext cx="570600" cy="3337560"/>
          </a:xfrm>
          <a:prstGeom prst="bentConnector3">
            <a:avLst>
              <a:gd name="adj1" fmla="val 50126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06" name=""/>
          <p:cNvCxnSpPr>
            <a:stCxn id="102" idx="0"/>
            <a:endCxn id="104" idx="2"/>
          </p:cNvCxnSpPr>
          <p:nvPr/>
        </p:nvCxnSpPr>
        <p:spPr>
          <a:xfrm flipV="1" rot="16200000">
            <a:off x="4729320" y="1312920"/>
            <a:ext cx="570600" cy="3960"/>
          </a:xfrm>
          <a:prstGeom prst="bentConnector3">
            <a:avLst>
              <a:gd name="adj1" fmla="val 50126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07" name=""/>
          <p:cNvCxnSpPr>
            <a:stCxn id="103" idx="0"/>
            <a:endCxn id="104" idx="2"/>
          </p:cNvCxnSpPr>
          <p:nvPr/>
        </p:nvCxnSpPr>
        <p:spPr>
          <a:xfrm flipV="1" rot="16200000">
            <a:off x="6411240" y="-369000"/>
            <a:ext cx="570600" cy="3367800"/>
          </a:xfrm>
          <a:prstGeom prst="bentConnector3">
            <a:avLst>
              <a:gd name="adj1" fmla="val 50126"/>
            </a:avLst>
          </a:prstGeom>
          <a:ln w="25560">
            <a:solidFill>
              <a:srgbClr val="ff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3503520" y="1600200"/>
            <a:ext cx="3167280" cy="641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traight Connector 6"/>
          <p:cNvSpPr/>
          <p:nvPr/>
        </p:nvSpPr>
        <p:spPr>
          <a:xfrm>
            <a:off x="0" y="1749600"/>
            <a:ext cx="9902880" cy="1440"/>
          </a:xfrm>
          <a:prstGeom prst="line">
            <a:avLst/>
          </a:prstGeom>
          <a:ln w="255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79440" y="722160"/>
            <a:ext cx="906768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612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Cordia New"/>
                <a:cs typeface="Cordia New"/>
              </a:rPr>
              <a:t>กระบวนการทดสอบภาวะวิกฤ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6120" algn="ctr">
              <a:lnSpc>
                <a:spcPct val="100000"/>
              </a:lnSpc>
              <a:spcBef>
                <a:spcPts val="2200"/>
              </a:spcBef>
              <a:buClr>
                <a:srgbClr val="000066"/>
              </a:buClr>
              <a:buFont typeface="Cord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595600"/>
            <a:ext cx="23619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กำหนดสถานการณ์ในทางลบที่อาจเกิดขึ้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(Stress Scen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000066"/>
              </a:buClr>
              <a:buFont typeface="Cordi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000066"/>
              </a:buClr>
              <a:buFont typeface="Cordi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Plau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0" y="3129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67120" y="2595600"/>
            <a:ext cx="2362320" cy="17398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ประเมินขนาดของความเสียหายหรือปัญหาที่จะเกิดขึ้น ภายใต้ </a:t>
            </a:r>
            <a:r>
              <a:rPr b="1" lang="en-US" sz="2400" spc="-1" strike="noStrike">
                <a:solidFill>
                  <a:srgbClr val="000066"/>
                </a:solidFill>
                <a:latin typeface="Cordia New"/>
                <a:ea typeface="Cordia New"/>
              </a:rPr>
              <a:t>stress scenario </a:t>
            </a: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ต่าง 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62600" y="2595600"/>
            <a:ext cx="2362320" cy="1191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การเตรียมพร้อมรับมือกับความเสียหายหรือปัญห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29440" y="313524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/>
          <p:nvPr/>
        </p:nvCxnSpPr>
        <p:spPr>
          <a:xfrm flipH="1">
            <a:off x="6228720" y="3129120"/>
            <a:ext cx="2896200" cy="2281680"/>
          </a:xfrm>
          <a:prstGeom prst="bentConnector3">
            <a:avLst>
              <a:gd name="adj1" fmla="val -1139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503520" y="4800600"/>
            <a:ext cx="2895840" cy="1219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ทบทวนและปรับปรุง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กระบวนการและสถานการณ์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Cordia New"/>
                <a:cs typeface="Cordia New"/>
              </a:rPr>
              <a:t>ที่ใช้ทดสอ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1" idx="1"/>
          </p:cNvCxnSpPr>
          <p:nvPr/>
        </p:nvCxnSpPr>
        <p:spPr>
          <a:xfrm rot="10800000">
            <a:off x="970920" y="3328200"/>
            <a:ext cx="2532600" cy="2081880"/>
          </a:xfrm>
          <a:prstGeom prst="bentConnector3">
            <a:avLst>
              <a:gd name="adj1" fmla="val 10902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06:43:07Z</dcterms:created>
  <dc:creator>Risk Management Examination Division</dc:creator>
  <dc:description/>
  <dc:language>en-US</dc:language>
  <cp:lastModifiedBy>Information Technology</cp:lastModifiedBy>
  <dcterms:modified xsi:type="dcterms:W3CDTF">2010-05-27T09:37:29Z</dcterms:modified>
  <cp:revision>3240</cp:revision>
  <dc:subject>Internal Ratings-based Approach</dc:subject>
  <dc:title>Base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20059949</vt:r8>
  </property>
  <property fmtid="{D5CDD505-2E9C-101B-9397-08002B2CF9AE}" pid="3" name="_AuthorEmail">
    <vt:lpwstr>chulatip-neel@bbl.co.th</vt:lpwstr>
  </property>
  <property fmtid="{D5CDD505-2E9C-101B-9397-08002B2CF9AE}" pid="4" name="_AuthorEmailDisplayName">
    <vt:lpwstr>Chulatip Neeladanuvong</vt:lpwstr>
  </property>
  <property fmtid="{D5CDD505-2E9C-101B-9397-08002B2CF9AE}" pid="5" name="_EmailSubject">
    <vt:lpwstr>File ที่ใช้บรรยายในวันสัมมนาที่ 18 มิถุนายน 2553 ของคณะอนุกรรมการด้านทั่วไป</vt:lpwstr>
  </property>
</Properties>
</file>