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35.png" ContentType="image/png"/>
  <Override PartName="/ppt/media/image42.png" ContentType="image/png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0.jpeg" ContentType="image/jpeg"/>
  <Override PartName="/ppt/media/image45.wmf" ContentType="image/x-wmf"/>
  <Override PartName="/ppt/media/image47.wmf" ContentType="image/x-wmf"/>
  <Override PartName="/ppt/media/image31.jpeg" ContentType="image/jpeg"/>
  <Override PartName="/ppt/media/image46.png" ContentType="image/png"/>
  <Override PartName="/ppt/media/image41.png" ContentType="image/png"/>
  <Override PartName="/ppt/media/image39.wmf" ContentType="image/x-wmf"/>
  <Override PartName="/ppt/media/image5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7.wmf" ContentType="image/x-wmf"/>
  <Override PartName="/ppt/media/image30.jpeg" ContentType="image/jpeg"/>
  <Override PartName="/ppt/media/image7.wmf" ContentType="image/x-wmf"/>
  <Override PartName="/ppt/media/image49.png" ContentType="image/png"/>
  <Override PartName="/ppt/media/image12.png" ContentType="image/png"/>
  <Override PartName="/ppt/media/image52.wmf" ContentType="image/x-wmf"/>
  <Override PartName="/ppt/media/image50.png" ContentType="image/png"/>
  <Override PartName="/ppt/media/image48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F319904-1A76-458F-A916-B313A401A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99999999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5725E8E-B0AF-41CD-BC03-3EFECDEDA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75F236D-B76F-462E-A211-56FCB9F92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C3E1BF5-82FE-46CD-93A1-13AB5E8E5638}" type="slidenum">
              <a:rPr b="0" lang="en-US" sz="12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C5E6134-6A79-494D-A790-8636CCBC3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56C3492-3432-4567-AFE3-D35BCAD9A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2F9A137-F1F2-40D8-AB11-291CCE3A6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8308FD5-BC76-418E-BBE3-54B738A0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75ED8FC-E22F-4E02-ADDC-02EF9D9F2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9D5E54B-4A9E-4635-AB89-BC02FDC3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C67335B-6968-416C-BAC4-104364F4D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B4136A4-F7E5-4119-A7AC-184F5A4B9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0E828D7-D12C-414A-B94A-D430EB696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0626E87-E7B2-461E-B8D5-EE0D58D20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E0DD64-752A-4124-8FE4-55D3A8C7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2207FFA-BFFD-4A15-9482-84AF88827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72840" y="4690800"/>
            <a:ext cx="5397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4A0923-EEBD-4980-A223-9D976614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FE71737-C282-4F00-9E30-4D0B61B1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B197058-D6DB-48A0-B6E2-674248713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ADA13C4-8DAC-4ABB-8308-1402C1420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ADD20B2-B1D0-4726-9D5E-4EE54906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C6AE3A7-C912-4D21-A9AA-B9A407E9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9A9BBD0-28FA-4F12-A222-40A23021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5EE11F8-70D0-4217-A483-569CABD8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D82A159-5531-4846-8108-C01A21A2E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8A75163-CFEA-49EA-AD62-FB1BDF3A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8086178-8CDB-40D8-A8B7-782965FC0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5EF6E4D-BD77-4222-9343-C73A234496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9D32D50-C442-42DA-A39F-3C8E334908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CECD59E-E1DF-4A4D-9D74-70DA49948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F8EF1E4-EC8E-46A7-8EF4-6E03C0048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5E9CF15-B64B-4860-A6CA-681EF3216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AA1C50-68D3-4AB9-93D3-759268F83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ธปท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จัดให้มีระบบสำรองและแผนฉุกเฉินสำหรั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S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และกำหนดธนาคารสมาชิกจัดให้มีระบบสำรองด้านสมาชิกด้วย ทั้งอุปกรณ์แล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เพื่อให้แน่ใจว่ากรณีที่อุปกรณ์หรือเครือข่ายขัดข้อง ก็สามารถใช้ชุดสำรองที่เตรียมไว้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ในส่วนของแผนฉุกเฉินควรมีการซักซ้อมเพื่อให้ผู้ที่เกี่ยวข้องเข้าใจขั้นตอนและวิธีการ ซึ่งต้องทำอย่างสม่ำเสมอเพื่อให้มีความพร้อมและเมือ่เกิดเหตุฉุกเฉินก็จะสามารถทำงานได้อย่างต่อเนื่อง ขณะเดียวกันควรนำผลของการทดสอบมาปรับปรุงแผนฉุกเฉินให้เป็นแผนที่ปฏิบัติได้จริงและครอบคลุมทุกกิจกรรมที่เกี่ยวข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</a:rPr>
              <a:t>ในส่วนของผู้ตรวจสอบภายในต้องผลักดันให้มีการซักซ้อมแผนฉุกเฉินอย่างสม่ำเสมอ และกระตุ้นให้ผู้บริหารขององค์กรเห็นความสำคัญของการซ้อม รวมทั้งผู้ตรวจสอบอาจเข้าสังเกตการณ์การทดสอบเพื่อให้ข้อเสนอแนะที่เป็นประโยชน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C71BA70-FA22-4E6E-BA19-B7B36C669F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59904D7-DE14-4725-B487-F61A63766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552EA5-195D-41CB-8B32-A45BF9E2B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199BEB-CA8C-47A1-A9E8-22C5E6D1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6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B0A0D62-1F7C-4216-8D88-D71E7065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21200" cy="369252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9F22272-019F-432D-A57F-464521FFD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1E7015A-A11A-485D-946A-DC1A7D7AE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538A8A-9954-4A30-8667-CCB594C2E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C44-ECF0-4169-94B0-24D6F3BE1B80}" type="slidenum"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3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2122560" y="6524640"/>
            <a:ext cx="5473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ธนาคารแห่งประเทศไทย โทร</a:t>
            </a:r>
            <a:r>
              <a:rPr b="0" lang="th-TH" sz="1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 2283 5034  0 2283 642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0F8-7AAF-405C-B842-6A32ED7AE7EB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89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390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3B12-62F5-46DE-B4D3-435F63BBA7FF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32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433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4F4-0E3C-4A08-A5C8-01F4D3212789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5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46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D478-CDC8-4709-B6F5-6C84F134138C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8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89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F46-D2C7-475A-A12D-EF61ECE77A66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132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B17B-1A04-47F5-84D9-CC8A88522470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175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47D-0140-4BCE-B1F4-72D314FA5625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218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2E3-284C-4044-A796-782E2863CC26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60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261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88A-464B-431D-A29E-4A66D4B5800C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304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b9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8175240" y="684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C9F-E4DE-48CC-B519-4845FDC40844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6" name="Group 9"/>
          <p:cNvGrpSpPr/>
          <p:nvPr/>
        </p:nvGrpSpPr>
        <p:grpSpPr>
          <a:xfrm>
            <a:off x="76320" y="104760"/>
            <a:ext cx="1218960" cy="925200"/>
            <a:chOff x="76320" y="104760"/>
            <a:chExt cx="1218960" cy="925200"/>
          </a:xfrm>
        </p:grpSpPr>
        <p:pic>
          <p:nvPicPr>
            <p:cNvPr id="347" name="Picture 10" descr="BOT logo"/>
            <p:cNvPicPr/>
            <p:nvPr/>
          </p:nvPicPr>
          <p:blipFill>
            <a:blip r:embed="rId2"/>
            <a:stretch/>
          </p:blipFill>
          <p:spPr>
            <a:xfrm>
              <a:off x="243360" y="104760"/>
              <a:ext cx="75636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1" descr="bot name"/>
            <p:cNvPicPr/>
            <p:nvPr/>
          </p:nvPicPr>
          <p:blipFill>
            <a:blip r:embed="rId3"/>
            <a:stretch/>
          </p:blipFill>
          <p:spPr>
            <a:xfrm>
              <a:off x="76320" y="759600"/>
              <a:ext cx="121896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619280" y="6591240"/>
            <a:ext cx="648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  ธนาคารแห่งประเทศไทย    โทร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02 283 5034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 </a:t>
            </a:r>
            <a:r>
              <a:rPr b="1" lang="th-TH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2 283 64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1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4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4.jpeg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1.wmf"/><Relationship Id="rId5" Type="http://schemas.openxmlformats.org/officeDocument/2006/relationships/image" Target="../media/image15.wmf"/><Relationship Id="rId6" Type="http://schemas.openxmlformats.org/officeDocument/2006/relationships/image" Target="../media/image11.wmf"/><Relationship Id="rId7" Type="http://schemas.openxmlformats.org/officeDocument/2006/relationships/image" Target="../media/image15.wm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4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4.jpeg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4.jpeg"/><Relationship Id="rId4" Type="http://schemas.openxmlformats.org/officeDocument/2006/relationships/image" Target="../media/image11.wmf"/><Relationship Id="rId5" Type="http://schemas.openxmlformats.org/officeDocument/2006/relationships/image" Target="../media/image15.wmf"/><Relationship Id="rId6" Type="http://schemas.openxmlformats.org/officeDocument/2006/relationships/image" Target="../media/image11.wmf"/><Relationship Id="rId7" Type="http://schemas.openxmlformats.org/officeDocument/2006/relationships/image" Target="../media/image15.wm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14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4.jpe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14.jpe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4.jpe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14.jpe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14.jpeg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38.png"/><Relationship Id="rId22" Type="http://schemas.openxmlformats.org/officeDocument/2006/relationships/image" Target="../media/image39.wmf"/><Relationship Id="rId23" Type="http://schemas.openxmlformats.org/officeDocument/2006/relationships/image" Target="../media/image40.jpeg"/><Relationship Id="rId24" Type="http://schemas.openxmlformats.org/officeDocument/2006/relationships/image" Target="../media/image11.wmf"/><Relationship Id="rId25" Type="http://schemas.openxmlformats.org/officeDocument/2006/relationships/image" Target="../media/image15.wmf"/><Relationship Id="rId26" Type="http://schemas.openxmlformats.org/officeDocument/2006/relationships/image" Target="../media/image11.wmf"/><Relationship Id="rId27" Type="http://schemas.openxmlformats.org/officeDocument/2006/relationships/image" Target="../media/image15.wmf"/><Relationship Id="rId28" Type="http://schemas.openxmlformats.org/officeDocument/2006/relationships/image" Target="../media/image30.jpeg"/><Relationship Id="rId29" Type="http://schemas.openxmlformats.org/officeDocument/2006/relationships/image" Target="../media/image31.jpe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14.jpeg"/><Relationship Id="rId33" Type="http://schemas.openxmlformats.org/officeDocument/2006/relationships/image" Target="../media/image28.png"/><Relationship Id="rId34" Type="http://schemas.openxmlformats.org/officeDocument/2006/relationships/image" Target="../media/image29.png"/><Relationship Id="rId35" Type="http://schemas.openxmlformats.org/officeDocument/2006/relationships/image" Target="../media/image14.jpeg"/><Relationship Id="rId36" Type="http://schemas.openxmlformats.org/officeDocument/2006/relationships/slideLayout" Target="../slideLayouts/slideLayout37.xml"/><Relationship Id="rId3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image" Target="../media/image15.wmf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4.jpe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14.jpe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14.jpe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14.jpe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14.jpeg"/><Relationship Id="rId21" Type="http://schemas.openxmlformats.org/officeDocument/2006/relationships/image" Target="../media/image43.wmf"/><Relationship Id="rId22" Type="http://schemas.openxmlformats.org/officeDocument/2006/relationships/image" Target="../media/image38.png"/><Relationship Id="rId23" Type="http://schemas.openxmlformats.org/officeDocument/2006/relationships/image" Target="../media/image39.wmf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14.jpeg"/><Relationship Id="rId27" Type="http://schemas.openxmlformats.org/officeDocument/2006/relationships/image" Target="../media/image36.wmf"/><Relationship Id="rId28" Type="http://schemas.openxmlformats.org/officeDocument/2006/relationships/image" Target="../media/image30.jpeg"/><Relationship Id="rId29" Type="http://schemas.openxmlformats.org/officeDocument/2006/relationships/image" Target="../media/image31.jpeg"/><Relationship Id="rId30" Type="http://schemas.openxmlformats.org/officeDocument/2006/relationships/slideLayout" Target="../slideLayouts/slideLayout49.xml"/><Relationship Id="rId3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image" Target="../media/image15.wmf"/><Relationship Id="rId5" Type="http://schemas.openxmlformats.org/officeDocument/2006/relationships/image" Target="../media/image40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14.jpe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14.jpe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14.jpe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14.jpe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14.jpeg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14.jpe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14.jpe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14.jpe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14.jpe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image" Target="../media/image14.jpeg"/><Relationship Id="rId38" Type="http://schemas.openxmlformats.org/officeDocument/2006/relationships/image" Target="../media/image43.wmf"/><Relationship Id="rId39" Type="http://schemas.openxmlformats.org/officeDocument/2006/relationships/image" Target="../media/image38.png"/><Relationship Id="rId40" Type="http://schemas.openxmlformats.org/officeDocument/2006/relationships/image" Target="../media/image39.wmf"/><Relationship Id="rId41" Type="http://schemas.openxmlformats.org/officeDocument/2006/relationships/slideLayout" Target="../slideLayouts/slideLayout61.xml"/><Relationship Id="rId4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40.jpeg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37.wmf"/><Relationship Id="rId3" Type="http://schemas.openxmlformats.org/officeDocument/2006/relationships/image" Target="../media/image47.wmf"/><Relationship Id="rId4" Type="http://schemas.openxmlformats.org/officeDocument/2006/relationships/image" Target="../media/image43.wmf"/><Relationship Id="rId5" Type="http://schemas.openxmlformats.org/officeDocument/2006/relationships/image" Target="../media/image37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3.wmf"/><Relationship Id="rId3" Type="http://schemas.openxmlformats.org/officeDocument/2006/relationships/image" Target="../media/image48.wmf"/><Relationship Id="rId4" Type="http://schemas.openxmlformats.org/officeDocument/2006/relationships/image" Target="../media/image43.wmf"/><Relationship Id="rId5" Type="http://schemas.openxmlformats.org/officeDocument/2006/relationships/image" Target="../media/image49.pn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0" y="121428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บรรยาย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“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ด้วยภาพเช็คและการจัดเก็บภาพเช็ค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              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d Cheque Clearing and Archive System – ICAS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ชมรมผู้ตรวจสอบภายในธนาคารและสถาบันการเงิ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วันที่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8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ิถุนายน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rowallia New"/>
                <a:ea typeface="Cordia New"/>
              </a:rPr>
              <a:t>                                               </a:t>
            </a: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จริญญา  แก้วมณ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                            </a:t>
            </a: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ผู้อำนวยการอาวุโส  ฝ่ายระบบการชำระเงิ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กรรณิการ์  จันทรแสงอร่า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ผู้อำนวยการ  สำนักพัฒนาและบริการระบบการชำระเงิ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571680" y="3500280"/>
            <a:ext cx="8424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50"/>
          <p:cNvSpPr/>
          <p:nvPr/>
        </p:nvSpPr>
        <p:spPr>
          <a:xfrm>
            <a:off x="539640" y="5372280"/>
            <a:ext cx="8280360" cy="1152360"/>
          </a:xfrm>
          <a:prstGeom prst="roundRect">
            <a:avLst>
              <a:gd name="adj" fmla="val 50000"/>
            </a:avLst>
          </a:prstGeom>
          <a:solidFill>
            <a:srgbClr val="b1cbe5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   </a:t>
            </a:r>
            <a:r>
              <a:rPr b="1" lang="th-TH" sz="2300" spc="-1" strike="noStrike" u="sng">
                <a:solidFill>
                  <a:srgbClr val="000099"/>
                </a:solidFill>
                <a:uFillTx/>
                <a:latin typeface="Browallia New"/>
                <a:cs typeface="Browallia New"/>
              </a:rPr>
              <a:t>การเก็บรักษาตัวเช็คและภาพเช็ค</a:t>
            </a:r>
            <a:endParaRPr b="0" lang="en-US" sz="2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   </a:t>
            </a:r>
            <a:r>
              <a:rPr b="1" lang="th-TH" sz="23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ตัวเช็คเรียกเก็บ</a:t>
            </a:r>
            <a:r>
              <a:rPr b="1" lang="en-US" sz="23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:</a:t>
            </a:r>
            <a:r>
              <a:rPr b="1" lang="en-US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 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   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cs typeface="Browallia New"/>
              </a:rPr>
              <a:t>ธ</a:t>
            </a:r>
            <a:r>
              <a:rPr b="1" lang="en-US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.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cs typeface="Browallia New"/>
              </a:rPr>
              <a:t>ผู้ส่งเรียกเก็บเป็นผู้จัดเก็บตัวเช็ค</a:t>
            </a:r>
            <a:endParaRPr b="0" lang="en-US" sz="2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3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  </a:t>
            </a:r>
            <a:r>
              <a:rPr b="1" lang="th-TH" sz="23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ข้อมูลและภาพเช็คเรียกเก็บ</a:t>
            </a:r>
            <a:r>
              <a:rPr b="1" lang="en-US" sz="23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:</a:t>
            </a:r>
            <a:r>
              <a:rPr b="1" lang="en-US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 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cs typeface="Browallia New"/>
              </a:rPr>
              <a:t>จัดเก็บที่ระบบ </a:t>
            </a:r>
            <a:r>
              <a:rPr b="1" lang="en-US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Image Archive System 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(</a:t>
            </a:r>
            <a:r>
              <a:rPr b="1" lang="en-US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IAS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) (10 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cs typeface="Browallia New"/>
              </a:rPr>
              <a:t>ปี</a:t>
            </a:r>
            <a:r>
              <a:rPr b="1" lang="th-TH" sz="2300" spc="-1" strike="noStrike">
                <a:solidFill>
                  <a:srgbClr val="000099"/>
                </a:solidFill>
                <a:latin typeface="Browallia New"/>
                <a:ea typeface="Browallia New"/>
              </a:rPr>
              <a:t>)                                  </a:t>
            </a:r>
            <a:endParaRPr b="0" lang="en-US" sz="2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6" name="Rectangle 51"/>
          <p:cNvSpPr/>
          <p:nvPr/>
        </p:nvSpPr>
        <p:spPr>
          <a:xfrm>
            <a:off x="1430640" y="208080"/>
            <a:ext cx="666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ั้นตอนการดำเนินการ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7" name="Rectangle 61"/>
          <p:cNvSpPr/>
          <p:nvPr/>
        </p:nvSpPr>
        <p:spPr>
          <a:xfrm>
            <a:off x="179280" y="1293840"/>
            <a:ext cx="877428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79280" y="1292400"/>
            <a:ext cx="8785440" cy="3744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659" name="Picture 6" descr=""/>
          <p:cNvPicPr/>
          <p:nvPr/>
        </p:nvPicPr>
        <p:blipFill>
          <a:blip r:embed="rId1"/>
          <a:stretch/>
        </p:blipFill>
        <p:spPr>
          <a:xfrm>
            <a:off x="396720" y="2548080"/>
            <a:ext cx="792360" cy="10760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"/>
          <p:cNvPicPr/>
          <p:nvPr/>
        </p:nvPicPr>
        <p:blipFill>
          <a:blip r:embed="rId2"/>
          <a:stretch/>
        </p:blipFill>
        <p:spPr>
          <a:xfrm>
            <a:off x="2197080" y="2616120"/>
            <a:ext cx="1079640" cy="10764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423720" y="13971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3333cc"/>
                </a:solidFill>
                <a:uFillTx/>
                <a:latin typeface="Browallia New"/>
                <a:cs typeface="Browallia New"/>
              </a:rPr>
              <a:t>ลูกค้า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662" name="Picture 10" descr=""/>
          <p:cNvPicPr/>
          <p:nvPr/>
        </p:nvPicPr>
        <p:blipFill>
          <a:blip r:embed="rId3"/>
          <a:stretch/>
        </p:blipFill>
        <p:spPr>
          <a:xfrm>
            <a:off x="5076720" y="2548080"/>
            <a:ext cx="1152720" cy="1076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4"/>
          <a:stretch/>
        </p:blipFill>
        <p:spPr>
          <a:xfrm>
            <a:off x="8029440" y="2548080"/>
            <a:ext cx="863640" cy="10760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2"/>
          <p:cNvSpPr/>
          <p:nvPr/>
        </p:nvSpPr>
        <p:spPr>
          <a:xfrm>
            <a:off x="1935000" y="1397160"/>
            <a:ext cx="206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0168ff"/>
                </a:solidFill>
                <a:uFillTx/>
                <a:latin typeface="Browallia New"/>
                <a:cs typeface="Browallia New"/>
              </a:rPr>
              <a:t>ธนาคารผู้ส่งเรียกเก็บ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4815000" y="140796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009900"/>
                </a:solidFill>
                <a:uFillTx/>
                <a:latin typeface="Browallia New"/>
                <a:cs typeface="Browallia New"/>
              </a:rPr>
              <a:t>ศูนย์หักบัญชีฯ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7191360" y="14000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9900cc"/>
                </a:solidFill>
                <a:uFillTx/>
                <a:latin typeface="Browallia New"/>
                <a:cs typeface="Browallia New"/>
              </a:rPr>
              <a:t>ธนาคารผู้จ่าย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7" name="Group 74"/>
          <p:cNvGrpSpPr/>
          <p:nvPr/>
        </p:nvGrpSpPr>
        <p:grpSpPr>
          <a:xfrm>
            <a:off x="723960" y="3352680"/>
            <a:ext cx="1942920" cy="1191240"/>
            <a:chOff x="723960" y="3352680"/>
            <a:chExt cx="1942920" cy="1191240"/>
          </a:xfrm>
        </p:grpSpPr>
        <p:pic>
          <p:nvPicPr>
            <p:cNvPr id="668" name="Picture 19" descr=""/>
            <p:cNvPicPr/>
            <p:nvPr/>
          </p:nvPicPr>
          <p:blipFill>
            <a:blip r:embed="rId5"/>
            <a:stretch/>
          </p:blipFill>
          <p:spPr>
            <a:xfrm>
              <a:off x="1403280" y="3522600"/>
              <a:ext cx="57636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20"/>
            <p:cNvSpPr/>
            <p:nvPr/>
          </p:nvSpPr>
          <p:spPr>
            <a:xfrm>
              <a:off x="723960" y="3840120"/>
              <a:ext cx="194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6600"/>
                  </a:solidFill>
                  <a:latin typeface="Browallia New"/>
                  <a:cs typeface="Browallia New"/>
                </a:rPr>
                <a:t>เช็คคืน </a:t>
              </a:r>
              <a:r>
                <a:rPr b="1" lang="th-TH" sz="2000" spc="-1" strike="noStrike">
                  <a:solidFill>
                    <a:srgbClr val="336600"/>
                  </a:solidFill>
                  <a:latin typeface="Browallia New"/>
                  <a:ea typeface="Browallia New"/>
                </a:rPr>
                <a:t>+ </a:t>
              </a:r>
              <a:r>
                <a:rPr b="1" lang="th-TH" sz="2000" spc="-1" strike="noStrike">
                  <a:solidFill>
                    <a:srgbClr val="336600"/>
                  </a:solidFill>
                  <a:latin typeface="Browallia New"/>
                  <a:cs typeface="Browallia New"/>
                </a:rPr>
                <a:t>ใบคืนเช็ค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0" name="Line 21"/>
            <p:cNvSpPr/>
            <p:nvPr/>
          </p:nvSpPr>
          <p:spPr>
            <a:xfrm>
              <a:off x="1258920" y="3352680"/>
              <a:ext cx="86364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71" name="Group 73"/>
          <p:cNvGrpSpPr/>
          <p:nvPr/>
        </p:nvGrpSpPr>
        <p:grpSpPr>
          <a:xfrm>
            <a:off x="4788000" y="3641760"/>
            <a:ext cx="1800000" cy="1089360"/>
            <a:chOff x="4788000" y="3641760"/>
            <a:chExt cx="1800000" cy="1089360"/>
          </a:xfrm>
        </p:grpSpPr>
        <p:sp>
          <p:nvSpPr>
            <p:cNvPr id="672" name="Text Box 23"/>
            <p:cNvSpPr/>
            <p:nvPr/>
          </p:nvSpPr>
          <p:spPr>
            <a:xfrm>
              <a:off x="4788000" y="4179960"/>
              <a:ext cx="1800000" cy="551160"/>
            </a:xfrm>
            <a:prstGeom prst="rect">
              <a:avLst/>
            </a:prstGeom>
            <a:solidFill>
              <a:srgbClr val="e7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ngsana New"/>
                  <a:ea typeface="Browallia New"/>
                </a:rPr>
                <a:t>IA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5651640" y="3641760"/>
              <a:ext cx="0" cy="5382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4" name="Text Box 26"/>
          <p:cNvSpPr/>
          <p:nvPr/>
        </p:nvSpPr>
        <p:spPr>
          <a:xfrm>
            <a:off x="3276720" y="2333520"/>
            <a:ext cx="180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ส่งเรียกเก็บ </a:t>
            </a:r>
            <a:r>
              <a:rPr b="1" lang="en-US" sz="20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Online</a:t>
            </a:r>
            <a:br>
              <a:rPr sz="2000"/>
            </a:b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Data + Image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75" name="Group 27"/>
          <p:cNvGrpSpPr/>
          <p:nvPr/>
        </p:nvGrpSpPr>
        <p:grpSpPr>
          <a:xfrm>
            <a:off x="3392640" y="2965320"/>
            <a:ext cx="1583640" cy="101880"/>
            <a:chOff x="3392640" y="2965320"/>
            <a:chExt cx="1583640" cy="101880"/>
          </a:xfrm>
        </p:grpSpPr>
        <p:sp>
          <p:nvSpPr>
            <p:cNvPr id="676" name="Line 28"/>
            <p:cNvSpPr/>
            <p:nvPr/>
          </p:nvSpPr>
          <p:spPr>
            <a:xfrm flipH="1" flipV="1">
              <a:off x="3689280" y="2978280"/>
              <a:ext cx="296640" cy="88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7" name="Line 29"/>
            <p:cNvSpPr/>
            <p:nvPr/>
          </p:nvSpPr>
          <p:spPr>
            <a:xfrm>
              <a:off x="3392640" y="3067200"/>
              <a:ext cx="593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8" name="Line 30"/>
            <p:cNvSpPr/>
            <p:nvPr/>
          </p:nvSpPr>
          <p:spPr>
            <a:xfrm>
              <a:off x="3689280" y="2965320"/>
              <a:ext cx="1287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9" name="Text Box 38"/>
          <p:cNvSpPr/>
          <p:nvPr/>
        </p:nvSpPr>
        <p:spPr>
          <a:xfrm>
            <a:off x="6392880" y="3532320"/>
            <a:ext cx="1728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แจ้งผลเช็คคืน </a:t>
            </a:r>
            <a:r>
              <a:rPr b="1" lang="en-US" sz="20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 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      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Data 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80" name="Group 39"/>
          <p:cNvGrpSpPr/>
          <p:nvPr/>
        </p:nvGrpSpPr>
        <p:grpSpPr>
          <a:xfrm>
            <a:off x="6300720" y="3281400"/>
            <a:ext cx="1724760" cy="141120"/>
            <a:chOff x="6300720" y="3281400"/>
            <a:chExt cx="1724760" cy="141120"/>
          </a:xfrm>
        </p:grpSpPr>
        <p:sp>
          <p:nvSpPr>
            <p:cNvPr id="681" name="Line 40"/>
            <p:cNvSpPr/>
            <p:nvPr/>
          </p:nvSpPr>
          <p:spPr>
            <a:xfrm flipH="1" flipV="1">
              <a:off x="6593400" y="3282480"/>
              <a:ext cx="390600" cy="139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82" name="Group 41"/>
            <p:cNvGrpSpPr/>
            <p:nvPr/>
          </p:nvGrpSpPr>
          <p:grpSpPr>
            <a:xfrm>
              <a:off x="6300720" y="3281400"/>
              <a:ext cx="1724760" cy="141120"/>
              <a:chOff x="6300720" y="3281400"/>
              <a:chExt cx="1724760" cy="141120"/>
            </a:xfrm>
          </p:grpSpPr>
          <p:sp>
            <p:nvSpPr>
              <p:cNvPr id="683" name="Line 42"/>
              <p:cNvSpPr/>
              <p:nvPr/>
            </p:nvSpPr>
            <p:spPr>
              <a:xfrm>
                <a:off x="6300720" y="3422520"/>
                <a:ext cx="65988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84" name="Line 43"/>
              <p:cNvSpPr/>
              <p:nvPr/>
            </p:nvSpPr>
            <p:spPr>
              <a:xfrm>
                <a:off x="6593400" y="3281400"/>
                <a:ext cx="143208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85" name="Text Box 45"/>
          <p:cNvSpPr/>
          <p:nvPr/>
        </p:nvSpPr>
        <p:spPr>
          <a:xfrm>
            <a:off x="3132000" y="3470400"/>
            <a:ext cx="2016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แจ้งผลเช็คคืน </a:t>
            </a:r>
            <a:r>
              <a:rPr b="1" lang="en-US" sz="20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Online</a:t>
            </a:r>
            <a:br>
              <a:rPr sz="2000"/>
            </a:b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Data +  Image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86" name="Group 46"/>
          <p:cNvGrpSpPr/>
          <p:nvPr/>
        </p:nvGrpSpPr>
        <p:grpSpPr>
          <a:xfrm>
            <a:off x="3274920" y="3281400"/>
            <a:ext cx="1728360" cy="112680"/>
            <a:chOff x="3274920" y="3281400"/>
            <a:chExt cx="1728360" cy="112680"/>
          </a:xfrm>
        </p:grpSpPr>
        <p:sp>
          <p:nvSpPr>
            <p:cNvPr id="687" name="Line 47"/>
            <p:cNvSpPr/>
            <p:nvPr/>
          </p:nvSpPr>
          <p:spPr>
            <a:xfrm flipH="1" flipV="1">
              <a:off x="3597840" y="3295080"/>
              <a:ext cx="323640" cy="98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8" name="Line 48"/>
            <p:cNvSpPr/>
            <p:nvPr/>
          </p:nvSpPr>
          <p:spPr>
            <a:xfrm>
              <a:off x="3274920" y="3394080"/>
              <a:ext cx="6469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9" name="Line 49"/>
            <p:cNvSpPr/>
            <p:nvPr/>
          </p:nvSpPr>
          <p:spPr>
            <a:xfrm>
              <a:off x="3598200" y="3281400"/>
              <a:ext cx="14050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90" name="Text Box 51"/>
          <p:cNvSpPr/>
          <p:nvPr/>
        </p:nvSpPr>
        <p:spPr>
          <a:xfrm>
            <a:off x="5192640" y="299232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C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1" name="Line 16"/>
          <p:cNvSpPr/>
          <p:nvPr/>
        </p:nvSpPr>
        <p:spPr>
          <a:xfrm>
            <a:off x="1258920" y="3065400"/>
            <a:ext cx="93672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692" name="Picture 17" descr=""/>
          <p:cNvPicPr/>
          <p:nvPr/>
        </p:nvPicPr>
        <p:blipFill>
          <a:blip r:embed="rId6"/>
          <a:stretch/>
        </p:blipFill>
        <p:spPr>
          <a:xfrm>
            <a:off x="1436760" y="2728800"/>
            <a:ext cx="576360" cy="268560"/>
          </a:xfrm>
          <a:prstGeom prst="rect">
            <a:avLst/>
          </a:prstGeom>
          <a:ln w="0">
            <a:noFill/>
          </a:ln>
        </p:spPr>
      </p:pic>
      <p:grpSp>
        <p:nvGrpSpPr>
          <p:cNvPr id="693" name="Group 33"/>
          <p:cNvGrpSpPr/>
          <p:nvPr/>
        </p:nvGrpSpPr>
        <p:grpSpPr>
          <a:xfrm>
            <a:off x="6156360" y="2992320"/>
            <a:ext cx="1944360" cy="149040"/>
            <a:chOff x="6156360" y="2992320"/>
            <a:chExt cx="1944360" cy="149040"/>
          </a:xfrm>
        </p:grpSpPr>
        <p:sp>
          <p:nvSpPr>
            <p:cNvPr id="694" name="Line 34"/>
            <p:cNvSpPr/>
            <p:nvPr/>
          </p:nvSpPr>
          <p:spPr>
            <a:xfrm flipH="1" flipV="1">
              <a:off x="6520680" y="3011760"/>
              <a:ext cx="364320" cy="129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5" name="Line 35"/>
            <p:cNvSpPr/>
            <p:nvPr/>
          </p:nvSpPr>
          <p:spPr>
            <a:xfrm>
              <a:off x="6156360" y="3141360"/>
              <a:ext cx="728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6" name="Line 36"/>
            <p:cNvSpPr/>
            <p:nvPr/>
          </p:nvSpPr>
          <p:spPr>
            <a:xfrm>
              <a:off x="6520680" y="2992320"/>
              <a:ext cx="1580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97" name="Text Box 60"/>
          <p:cNvSpPr/>
          <p:nvPr/>
        </p:nvSpPr>
        <p:spPr>
          <a:xfrm>
            <a:off x="6178680" y="2355840"/>
            <a:ext cx="180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ส่งเรียกเก็บ </a:t>
            </a:r>
            <a:r>
              <a:rPr b="1" lang="en-US" sz="20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Online</a:t>
            </a:r>
            <a:br>
              <a:rPr sz="2000"/>
            </a:b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</a:t>
            </a:r>
            <a:r>
              <a:rPr b="1" lang="en-US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Data + Image</a:t>
            </a:r>
            <a:r>
              <a:rPr b="1" lang="th-TH" sz="20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8" name="Line 44"/>
          <p:cNvSpPr/>
          <p:nvPr/>
        </p:nvSpPr>
        <p:spPr>
          <a:xfrm>
            <a:off x="1692360" y="1285920"/>
            <a:ext cx="0" cy="37432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9" name="Line 45"/>
          <p:cNvSpPr/>
          <p:nvPr/>
        </p:nvSpPr>
        <p:spPr>
          <a:xfrm>
            <a:off x="4211640" y="1285920"/>
            <a:ext cx="0" cy="37432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0" name="Line 46"/>
          <p:cNvSpPr/>
          <p:nvPr/>
        </p:nvSpPr>
        <p:spPr>
          <a:xfrm>
            <a:off x="6948360" y="1285920"/>
            <a:ext cx="0" cy="37432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01" name="Group 48"/>
          <p:cNvGrpSpPr/>
          <p:nvPr/>
        </p:nvGrpSpPr>
        <p:grpSpPr>
          <a:xfrm>
            <a:off x="1552680" y="2097000"/>
            <a:ext cx="299520" cy="337320"/>
            <a:chOff x="1552680" y="2097000"/>
            <a:chExt cx="299520" cy="337320"/>
          </a:xfrm>
        </p:grpSpPr>
        <p:sp>
          <p:nvSpPr>
            <p:cNvPr id="702" name="Text Box 49"/>
            <p:cNvSpPr/>
            <p:nvPr/>
          </p:nvSpPr>
          <p:spPr>
            <a:xfrm>
              <a:off x="1555560" y="209700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3" name="Oval 50"/>
            <p:cNvSpPr/>
            <p:nvPr/>
          </p:nvSpPr>
          <p:spPr>
            <a:xfrm>
              <a:off x="1552680" y="2119320"/>
              <a:ext cx="2872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4" name="Group 51"/>
          <p:cNvGrpSpPr/>
          <p:nvPr/>
        </p:nvGrpSpPr>
        <p:grpSpPr>
          <a:xfrm>
            <a:off x="3997440" y="2085840"/>
            <a:ext cx="299520" cy="337320"/>
            <a:chOff x="3997440" y="2085840"/>
            <a:chExt cx="299520" cy="337320"/>
          </a:xfrm>
        </p:grpSpPr>
        <p:sp>
          <p:nvSpPr>
            <p:cNvPr id="705" name="Text Box 52"/>
            <p:cNvSpPr/>
            <p:nvPr/>
          </p:nvSpPr>
          <p:spPr>
            <a:xfrm>
              <a:off x="4000320" y="208584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6" name="Oval 53"/>
            <p:cNvSpPr/>
            <p:nvPr/>
          </p:nvSpPr>
          <p:spPr>
            <a:xfrm>
              <a:off x="3997440" y="2108160"/>
              <a:ext cx="2872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7" name="Group 54"/>
          <p:cNvGrpSpPr/>
          <p:nvPr/>
        </p:nvGrpSpPr>
        <p:grpSpPr>
          <a:xfrm>
            <a:off x="6999120" y="4000680"/>
            <a:ext cx="300240" cy="337320"/>
            <a:chOff x="6999120" y="4000680"/>
            <a:chExt cx="300240" cy="337320"/>
          </a:xfrm>
        </p:grpSpPr>
        <p:sp>
          <p:nvSpPr>
            <p:cNvPr id="708" name="Text Box 55"/>
            <p:cNvSpPr/>
            <p:nvPr/>
          </p:nvSpPr>
          <p:spPr>
            <a:xfrm>
              <a:off x="7002720" y="400068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9" name="Oval 56"/>
            <p:cNvSpPr/>
            <p:nvPr/>
          </p:nvSpPr>
          <p:spPr>
            <a:xfrm>
              <a:off x="6999120" y="4022640"/>
              <a:ext cx="287640" cy="266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0" name="Group 57"/>
          <p:cNvGrpSpPr/>
          <p:nvPr/>
        </p:nvGrpSpPr>
        <p:grpSpPr>
          <a:xfrm>
            <a:off x="6805440" y="2036880"/>
            <a:ext cx="300240" cy="337320"/>
            <a:chOff x="6805440" y="2036880"/>
            <a:chExt cx="300240" cy="337320"/>
          </a:xfrm>
        </p:grpSpPr>
        <p:sp>
          <p:nvSpPr>
            <p:cNvPr id="711" name="Text Box 58"/>
            <p:cNvSpPr/>
            <p:nvPr/>
          </p:nvSpPr>
          <p:spPr>
            <a:xfrm>
              <a:off x="6809040" y="203688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Oval 59"/>
            <p:cNvSpPr/>
            <p:nvPr/>
          </p:nvSpPr>
          <p:spPr>
            <a:xfrm>
              <a:off x="6805440" y="2059200"/>
              <a:ext cx="28764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3" name="Group 60"/>
          <p:cNvGrpSpPr/>
          <p:nvPr/>
        </p:nvGrpSpPr>
        <p:grpSpPr>
          <a:xfrm>
            <a:off x="3995640" y="4125960"/>
            <a:ext cx="299520" cy="337320"/>
            <a:chOff x="3995640" y="4125960"/>
            <a:chExt cx="299520" cy="337320"/>
          </a:xfrm>
        </p:grpSpPr>
        <p:sp>
          <p:nvSpPr>
            <p:cNvPr id="714" name="Text Box 61"/>
            <p:cNvSpPr/>
            <p:nvPr/>
          </p:nvSpPr>
          <p:spPr>
            <a:xfrm>
              <a:off x="3998520" y="412596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5" name="Oval 62"/>
            <p:cNvSpPr/>
            <p:nvPr/>
          </p:nvSpPr>
          <p:spPr>
            <a:xfrm>
              <a:off x="3995640" y="4148280"/>
              <a:ext cx="2872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6" name="Group 63"/>
          <p:cNvGrpSpPr/>
          <p:nvPr/>
        </p:nvGrpSpPr>
        <p:grpSpPr>
          <a:xfrm>
            <a:off x="1547640" y="4124160"/>
            <a:ext cx="300240" cy="337320"/>
            <a:chOff x="1547640" y="4124160"/>
            <a:chExt cx="300240" cy="337320"/>
          </a:xfrm>
        </p:grpSpPr>
        <p:sp>
          <p:nvSpPr>
            <p:cNvPr id="717" name="Text Box 64"/>
            <p:cNvSpPr/>
            <p:nvPr/>
          </p:nvSpPr>
          <p:spPr>
            <a:xfrm>
              <a:off x="1551240" y="4124160"/>
              <a:ext cx="296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8" name="Oval 65"/>
            <p:cNvSpPr/>
            <p:nvPr/>
          </p:nvSpPr>
          <p:spPr>
            <a:xfrm>
              <a:off x="1547640" y="4146480"/>
              <a:ext cx="28764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893440" cy="4103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09840" indent="-226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SzPct val="17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ยายเวลาปิดรับฝากเช็คเคลียริงกรุงเทพฯได้นานขึ้น</a:t>
            </a:r>
            <a:r>
              <a:rPr b="1" lang="th-TH" sz="2800" spc="-1" strike="noStrike">
                <a:solidFill>
                  <a:srgbClr val="ffff00"/>
                </a:solidFill>
                <a:latin typeface="Browallia New"/>
                <a:ea typeface="Browall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840" indent="-22644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SzPct val="17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ทราบผลการเรียกเก็บเงินตามเช็คทั่วประเทศได้ภายใน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วันทำการ นับจากวันที่แลกเปลี่ยนเช็คที่ศูนย์หักบัญชี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840" indent="-22644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SzPct val="17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ต้นทุนการขนส่งตัวเช็คในกระบวนการเรียกเก็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840" indent="-22644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SzPct val="17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ดภาระในการจัดเก็บตัวเช็คของธนาคาร ด้วยการมีระบบการจัดเก็บ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้อมูลและภาพเช็คที่ศูนย์กลาง เพื่อใช้เป็นพยานหลักฐานทางกฎหมาย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ทนตัวเช็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840" indent="-22644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SzPct val="17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พิ่มการหมุนเวียนของกระแสเงินในระบบเศรษฐกิ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468360" y="71280"/>
            <a:ext cx="8351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22228b"/>
                </a:solidFill>
                <a:latin typeface="Browallia New"/>
                <a:cs typeface="Browallia New"/>
              </a:rPr>
              <a:t>ประโยชน์ของระบบ </a:t>
            </a:r>
            <a:r>
              <a:rPr b="1" lang="en-US" sz="3600" spc="-1" strike="noStrike">
                <a:solidFill>
                  <a:srgbClr val="22228b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0"/>
          <p:cNvSpPr/>
          <p:nvPr/>
        </p:nvSpPr>
        <p:spPr>
          <a:xfrm>
            <a:off x="179280" y="12114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มาตรฐานกระดาษที่ใช้พิมพ์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250920" y="1773360"/>
            <a:ext cx="8569080" cy="1655640"/>
          </a:xfrm>
          <a:prstGeom prst="rect">
            <a:avLst/>
          </a:prstGeom>
          <a:solidFill>
            <a:srgbClr val="ddf3e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ปรับปรุงมาตรฐานกระดาษ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ใช้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cs typeface="Browallia New"/>
              </a:rPr>
              <a:t>กระดาษ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CBS1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  (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London Clearing Banks Paper Specification No. 1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) 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cs typeface="Browallia New"/>
              </a:rPr>
              <a:t>ประเภท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    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Laser Grad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Rectangle 12"/>
          <p:cNvSpPr/>
          <p:nvPr/>
        </p:nvSpPr>
        <p:spPr>
          <a:xfrm>
            <a:off x="179280" y="3645000"/>
            <a:ext cx="46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การรักษาความปลอดภัยสำหรับเช็คลายน้ำกลา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Rectangle 13"/>
          <p:cNvSpPr/>
          <p:nvPr/>
        </p:nvSpPr>
        <p:spPr>
          <a:xfrm>
            <a:off x="250920" y="4292640"/>
            <a:ext cx="8535960" cy="2279520"/>
          </a:xfrm>
          <a:prstGeom prst="rect">
            <a:avLst/>
          </a:prstGeom>
          <a:solidFill>
            <a:srgbClr val="d2d2f4"/>
          </a:solidFill>
          <a:ln w="9360">
            <a:solidFill>
              <a:srgbClr val="d2d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ทคนิคการป้องกันการปลอมแปลง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42800" indent="-4428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ลายน้ำกลา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03160" indent="-83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-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ำหนดให้ทุกธนาคาร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cs typeface="Browallia New"/>
              </a:rPr>
              <a:t>ต้องมีลายน้ำกลาง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Common Watermark)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03160" indent="-838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-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มาชิกสามารถ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cs typeface="Browallia New"/>
              </a:rPr>
              <a:t>เพิ่มเติมลายน้ำเฉพาะของแต่ละธนาคารได้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Optional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03160" indent="-838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-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ส่งเรียกเก็บมีหน้าที่ตรวจสอบ</a:t>
            </a:r>
            <a:r>
              <a:rPr b="1" lang="th-TH" sz="2400" spc="-1" strike="noStrike" u="sng">
                <a:solidFill>
                  <a:srgbClr val="cc3300"/>
                </a:solidFill>
                <a:uFillTx/>
                <a:latin typeface="Browallia New"/>
                <a:cs typeface="Browallia New"/>
              </a:rPr>
              <a:t>เฉพาะลายน้ำกลางเท่านั้น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ไม่ต้องตรวจสอบ           ลายน้ำเฉพาะของแต่ละธนาค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25" name="Picture 14" descr=""/>
          <p:cNvPicPr/>
          <p:nvPr/>
        </p:nvPicPr>
        <p:blipFill>
          <a:blip r:embed="rId1"/>
          <a:srcRect l="24415" t="15865" r="25719" b="4481"/>
          <a:stretch/>
        </p:blipFill>
        <p:spPr>
          <a:xfrm>
            <a:off x="7667640" y="443700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15"/>
          <p:cNvSpPr/>
          <p:nvPr/>
        </p:nvSpPr>
        <p:spPr>
          <a:xfrm>
            <a:off x="2967120" y="189000"/>
            <a:ext cx="281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เช็ค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1744920" y="2062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แผนการใช้งานระบบ </a:t>
            </a:r>
            <a:r>
              <a:rPr b="1" lang="en-US" sz="40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8" name="AutoShape 4"/>
          <p:cNvSpPr/>
          <p:nvPr/>
        </p:nvSpPr>
        <p:spPr>
          <a:xfrm>
            <a:off x="4483080" y="2741760"/>
            <a:ext cx="230508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462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611280" y="2747880"/>
            <a:ext cx="2305080" cy="266400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2540160" y="2743200"/>
            <a:ext cx="23749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AutoShape 7"/>
          <p:cNvSpPr/>
          <p:nvPr/>
        </p:nvSpPr>
        <p:spPr>
          <a:xfrm>
            <a:off x="622440" y="1959120"/>
            <a:ext cx="1699920" cy="53316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ฤษภาคม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55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2589120" y="1969920"/>
            <a:ext cx="1719360" cy="53352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ันยายน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3" name="AutoShape 9"/>
          <p:cNvSpPr/>
          <p:nvPr/>
        </p:nvSpPr>
        <p:spPr>
          <a:xfrm>
            <a:off x="6572160" y="1969920"/>
            <a:ext cx="1656000" cy="53352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4-2555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2355120" y="3141720"/>
            <a:ext cx="280332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plement ICAS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ฉพาะเช็คเรียกเก็บ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หว่างธนาค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นเขต กทม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ปริมณฑ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324000" y="3191040"/>
            <a:ext cx="284004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    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ริ่มใช้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มาตรฐานเช็ค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รูปแบบใหม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Image Friendly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6" name="AutoShape 12"/>
          <p:cNvSpPr/>
          <p:nvPr/>
        </p:nvSpPr>
        <p:spPr>
          <a:xfrm>
            <a:off x="6437160" y="2747880"/>
            <a:ext cx="2376720" cy="266724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6804000" y="3352680"/>
            <a:ext cx="205416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ยายผล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ไปทั่วประเทศ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ทยอยดำเนินการ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4538880" y="3571920"/>
            <a:ext cx="2616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ยกเลิก</a:t>
            </a:r>
            <a:br>
              <a:rPr sz="2600"/>
            </a:b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เช็คมาตรฐานเดิม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4567320" y="1989000"/>
            <a:ext cx="1719360" cy="533520"/>
          </a:xfrm>
          <a:prstGeom prst="roundRect">
            <a:avLst>
              <a:gd name="adj" fmla="val 50000"/>
            </a:avLst>
          </a:prstGeom>
          <a:solidFill>
            <a:srgbClr val="c462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กรกฎาคม </a:t>
            </a:r>
            <a:r>
              <a:rPr b="1" lang="th-TH" sz="2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555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179280" y="1557360"/>
          <a:ext cx="8642520" cy="2041560"/>
        </p:xfrm>
        <a:graphic>
          <a:graphicData uri="http://schemas.openxmlformats.org/drawingml/2006/table">
            <a:tbl>
              <a:tblPr/>
              <a:tblGrid>
                <a:gridCol w="1731960"/>
                <a:gridCol w="1652760"/>
                <a:gridCol w="1441440"/>
                <a:gridCol w="1655640"/>
                <a:gridCol w="1008000"/>
                <a:gridCol w="115272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ประเภทของภา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ด้านหน้า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ด้านหลั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ความละเอีย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File Form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จำนวนภา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ขนาดไฟล์ 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(K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1. Grayscale</a:t>
                      </a: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 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เฉพาะด้านหน้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100</a:t>
                      </a: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 dp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JP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46.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2. Black &amp; Whi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ด้านหน้าและหลั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200 dp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TIF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17.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cs typeface="Browallia New"/>
                        </a:rPr>
                        <a:t>จำนวนภาพทั้งสิ้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000066"/>
                          </a:solidFill>
                          <a:latin typeface="Browallia New"/>
                          <a:ea typeface="Browallia New"/>
                        </a:rPr>
                        <a:t>64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Text Box 42"/>
          <p:cNvSpPr/>
          <p:nvPr/>
        </p:nvSpPr>
        <p:spPr>
          <a:xfrm>
            <a:off x="-762840" y="3840120"/>
            <a:ext cx="102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*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ระดับสีเท่ากับ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6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ดับ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8 bits)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มีระดับการบีบอัด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Q-factor)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ท่ากับ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2" name="Text Box 43"/>
          <p:cNvSpPr/>
          <p:nvPr/>
        </p:nvSpPr>
        <p:spPr>
          <a:xfrm>
            <a:off x="-719280" y="4556160"/>
            <a:ext cx="96840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หมายเหตุ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ไฟล์ภาพรวมทั้งหมดมีขนาดไม่ใหญ่มากนั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SzPct val="11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Grayscale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ด้านหน้า ใช้ในการตรวจสอบการแก้ไขและปลอมแปลง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SzPct val="11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Black &amp; White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ด้านหน้าและหลัง เพื่อใช้ตรวจสอบลายมือชื่อและสลักหลั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3" name="Rectangle 48"/>
          <p:cNvSpPr/>
          <p:nvPr/>
        </p:nvSpPr>
        <p:spPr>
          <a:xfrm>
            <a:off x="-388800" y="357120"/>
            <a:ext cx="103377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ภาพเช็ค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 Cheque Specification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 1/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43"/>
          <p:cNvSpPr/>
          <p:nvPr/>
        </p:nvSpPr>
        <p:spPr>
          <a:xfrm>
            <a:off x="-504720" y="233280"/>
            <a:ext cx="1062324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ภาพเช็ค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 Cheque Specification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 2/2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45" name="Picture 44" descr="016-F-100Q080"/>
          <p:cNvPicPr/>
          <p:nvPr/>
        </p:nvPicPr>
        <p:blipFill>
          <a:blip r:embed="rId1"/>
          <a:stretch/>
        </p:blipFill>
        <p:spPr>
          <a:xfrm>
            <a:off x="4140360" y="1197000"/>
            <a:ext cx="4824360" cy="25034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45"/>
          <p:cNvSpPr/>
          <p:nvPr/>
        </p:nvSpPr>
        <p:spPr>
          <a:xfrm>
            <a:off x="108000" y="1479600"/>
            <a:ext cx="4572000" cy="225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Grayscal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ช้ตรวจสอบความเปลี่ยนแปลงระดับสี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ภาพเช็ค เช่น ร่องรอยการแก้ไข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้อความบน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47" name="Picture 46" descr="016-F-BW200"/>
          <p:cNvPicPr/>
          <p:nvPr/>
        </p:nvPicPr>
        <p:blipFill>
          <a:blip r:embed="rId2"/>
          <a:stretch/>
        </p:blipFill>
        <p:spPr>
          <a:xfrm>
            <a:off x="0" y="393372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47"/>
          <p:cNvSpPr/>
          <p:nvPr/>
        </p:nvSpPr>
        <p:spPr>
          <a:xfrm>
            <a:off x="4824360" y="4149720"/>
            <a:ext cx="4572000" cy="3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Browallia New"/>
                <a:ea typeface="Browallia New"/>
              </a:rPr>
              <a:t>Black &amp; Whi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ช้สำหรับการตรวจสอบข้อความที่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179280" indent="8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ขียนด้วยลายมือรวมถึงลายมือชื่อผู้สั่งจ่า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่าความละเอียดที่สูง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ช่น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00 – 300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pi)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ช่วยให้เห็นลายเส้นได้ชัดเจ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500040" y="1571760"/>
            <a:ext cx="828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 Quality Assurance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QA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ี่ใช้ในการตรวจสอบคุณภาพ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ภาพเช็คของระบบ </a:t>
            </a: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ประกอบด้วย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ัวข้อ ดังนี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Folded or Torn Document Corne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Folded or Torn Document Edg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 Too Dark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mage Too Ligh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Excessive Document Skew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-14400" y="260280"/>
            <a:ext cx="915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 </a:t>
            </a:r>
            <a:r>
              <a:rPr b="1" lang="en-GB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QA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ระบบ </a:t>
            </a:r>
            <a:r>
              <a:rPr b="1" lang="en-GB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5786640" cy="50004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ลักเกณฑ์ที่ได้ใช้ในการออกแบบระบบ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6840" y="1957320"/>
            <a:ext cx="825804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21560" indent="-421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้อมูลและภาพอิเล็กทรอนิกส์คงไว้ซึ่งสาระสำคัญของธุรกรรมครบถ้วนและชัดเจน ไม่ผิดเพี้ย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7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10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ข้อมูลประกอบที่บันทึกความเคลื่อนไหว การสร้าง การรับส่ง การแก้ไข ของธุรกรร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7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กลไกในการป้องกันการปลอมแปลงข้อมูลและภาพอิเล็กทรอนิกส์ และการผูกมัดบุคคลที่รับผิดชอบในการสร้างและแก้ไขข้อมูลและภาพอิเล็กทรอนิกส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7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7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ิ่งพิมพ์จากข้อมูลธุรกรรมและภาพอิเล็กทรอนิกส์มีความน่าเชื่อถื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560" indent="-421560">
              <a:lnSpc>
                <a:spcPct val="70000"/>
              </a:lnSpc>
              <a:buClr>
                <a:srgbClr val="000066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1571760" y="1440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3.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ลักเกณฑ์และวิธีการจัดทำข้อมู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หลักฐานทางอิเล็กทรอนิกส์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7526160" y="4221000"/>
            <a:ext cx="136692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5869080" y="4149720"/>
            <a:ext cx="934920" cy="6890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7304760" y="4840200"/>
            <a:ext cx="1758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57" name="Picture 15" descr="j0285750"/>
          <p:cNvPicPr/>
          <p:nvPr/>
        </p:nvPicPr>
        <p:blipFill>
          <a:blip r:embed="rId1"/>
          <a:stretch/>
        </p:blipFill>
        <p:spPr>
          <a:xfrm>
            <a:off x="7596360" y="4052880"/>
            <a:ext cx="1152360" cy="712800"/>
          </a:xfrm>
          <a:prstGeom prst="rect">
            <a:avLst/>
          </a:prstGeom>
          <a:ln w="0">
            <a:noFill/>
          </a:ln>
        </p:spPr>
      </p:pic>
      <p:sp>
        <p:nvSpPr>
          <p:cNvPr id="758" name="Line 18"/>
          <p:cNvSpPr/>
          <p:nvPr/>
        </p:nvSpPr>
        <p:spPr>
          <a:xfrm>
            <a:off x="5076720" y="4508640"/>
            <a:ext cx="7905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9" name="Line 20"/>
          <p:cNvSpPr/>
          <p:nvPr/>
        </p:nvSpPr>
        <p:spPr>
          <a:xfrm flipV="1">
            <a:off x="6804000" y="4479480"/>
            <a:ext cx="7207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7201080" y="52801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Browallia New"/>
                <a:ea typeface="Browallia New"/>
              </a:rPr>
              <a:t>Paying Bank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61" name="Group 58"/>
          <p:cNvGrpSpPr/>
          <p:nvPr/>
        </p:nvGrpSpPr>
        <p:grpSpPr>
          <a:xfrm>
            <a:off x="250920" y="4221000"/>
            <a:ext cx="5076360" cy="2472480"/>
            <a:chOff x="250920" y="4221000"/>
            <a:chExt cx="5076360" cy="2472480"/>
          </a:xfrm>
        </p:grpSpPr>
        <p:sp>
          <p:nvSpPr>
            <p:cNvPr id="762" name="Rectangle 3"/>
            <p:cNvSpPr/>
            <p:nvPr/>
          </p:nvSpPr>
          <p:spPr>
            <a:xfrm>
              <a:off x="250920" y="4221000"/>
              <a:ext cx="4825800" cy="2358720"/>
            </a:xfrm>
            <a:prstGeom prst="rect">
              <a:avLst/>
            </a:prstGeom>
            <a:solidFill>
              <a:srgbClr val="d5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763" name="Group 4"/>
            <p:cNvGrpSpPr/>
            <p:nvPr/>
          </p:nvGrpSpPr>
          <p:grpSpPr>
            <a:xfrm>
              <a:off x="1380960" y="4345200"/>
              <a:ext cx="1318680" cy="326880"/>
              <a:chOff x="1380960" y="4345200"/>
              <a:chExt cx="1318680" cy="326880"/>
            </a:xfrm>
          </p:grpSpPr>
          <p:grpSp>
            <p:nvGrpSpPr>
              <p:cNvPr id="764" name="Group 5"/>
              <p:cNvGrpSpPr/>
              <p:nvPr/>
            </p:nvGrpSpPr>
            <p:grpSpPr>
              <a:xfrm>
                <a:off x="1380960" y="4556880"/>
                <a:ext cx="1318680" cy="115200"/>
                <a:chOff x="1380960" y="4556880"/>
                <a:chExt cx="1318680" cy="115200"/>
              </a:xfrm>
            </p:grpSpPr>
            <p:pic>
              <p:nvPicPr>
                <p:cNvPr id="765" name="Picture 6" descr="004-F-BW200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80960" y="4556880"/>
                  <a:ext cx="411840" cy="1141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66" name="Picture 7" descr="004-R-BW200"/>
                <p:cNvPicPr/>
                <p:nvPr/>
              </p:nvPicPr>
              <p:blipFill>
                <a:blip r:embed="rId3"/>
                <a:srcRect l="2889" t="11556" r="0" b="0"/>
                <a:stretch/>
              </p:blipFill>
              <p:spPr>
                <a:xfrm>
                  <a:off x="1834560" y="4556880"/>
                  <a:ext cx="411480" cy="1152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67" name="Picture 8" descr="004-F-100Q080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88160" y="4556880"/>
                  <a:ext cx="411480" cy="1141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  <p:sp>
            <p:nvSpPr>
              <p:cNvPr id="768" name="Rectangle 9"/>
              <p:cNvSpPr/>
              <p:nvPr/>
            </p:nvSpPr>
            <p:spPr>
              <a:xfrm>
                <a:off x="1380960" y="4345200"/>
                <a:ext cx="988920" cy="1544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Cheque Data</a:t>
                </a:r>
                <a:r>
                  <a:rPr b="1" lang="en-US" sz="16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769" name="Text Box 10"/>
            <p:cNvSpPr/>
            <p:nvPr/>
          </p:nvSpPr>
          <p:spPr>
            <a:xfrm>
              <a:off x="3248280" y="5550120"/>
              <a:ext cx="1904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(Sending Bank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770" name="Picture 11" descr="j0285750"/>
            <p:cNvPicPr/>
            <p:nvPr/>
          </p:nvPicPr>
          <p:blipFill>
            <a:blip r:embed="rId5"/>
            <a:stretch/>
          </p:blipFill>
          <p:spPr>
            <a:xfrm>
              <a:off x="3635280" y="4795560"/>
              <a:ext cx="1224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13" descr="j0195384"/>
            <p:cNvPicPr/>
            <p:nvPr/>
          </p:nvPicPr>
          <p:blipFill>
            <a:blip r:embed="rId6"/>
            <a:stretch/>
          </p:blipFill>
          <p:spPr>
            <a:xfrm>
              <a:off x="2173320" y="5900040"/>
              <a:ext cx="5904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Line 16"/>
            <p:cNvSpPr/>
            <p:nvPr/>
          </p:nvSpPr>
          <p:spPr>
            <a:xfrm>
              <a:off x="1812960" y="6129720"/>
              <a:ext cx="3459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3" name="Line 17"/>
            <p:cNvSpPr/>
            <p:nvPr/>
          </p:nvSpPr>
          <p:spPr>
            <a:xfrm flipV="1">
              <a:off x="2894040" y="5518080"/>
              <a:ext cx="74124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774" name="Picture 19" descr="j0195384"/>
            <p:cNvPicPr/>
            <p:nvPr/>
          </p:nvPicPr>
          <p:blipFill>
            <a:blip r:embed="rId7"/>
            <a:stretch/>
          </p:blipFill>
          <p:spPr>
            <a:xfrm>
              <a:off x="2049480" y="4748400"/>
              <a:ext cx="577800" cy="4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 Box 21"/>
            <p:cNvSpPr/>
            <p:nvPr/>
          </p:nvSpPr>
          <p:spPr>
            <a:xfrm>
              <a:off x="1826640" y="6285600"/>
              <a:ext cx="14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Data entry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6" name="Text Box 22"/>
            <p:cNvSpPr/>
            <p:nvPr/>
          </p:nvSpPr>
          <p:spPr>
            <a:xfrm>
              <a:off x="434880" y="5135400"/>
              <a:ext cx="25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Capture + Data entry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7" name="Text Box 23"/>
            <p:cNvSpPr/>
            <p:nvPr/>
          </p:nvSpPr>
          <p:spPr>
            <a:xfrm>
              <a:off x="959760" y="628560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778" name="Group 24"/>
            <p:cNvGrpSpPr/>
            <p:nvPr/>
          </p:nvGrpSpPr>
          <p:grpSpPr>
            <a:xfrm>
              <a:off x="1092240" y="5486400"/>
              <a:ext cx="1391040" cy="336960"/>
              <a:chOff x="1092240" y="5486400"/>
              <a:chExt cx="1391040" cy="336960"/>
            </a:xfrm>
          </p:grpSpPr>
          <p:grpSp>
            <p:nvGrpSpPr>
              <p:cNvPr id="779" name="Group 25"/>
              <p:cNvGrpSpPr/>
              <p:nvPr/>
            </p:nvGrpSpPr>
            <p:grpSpPr>
              <a:xfrm>
                <a:off x="1092240" y="5689800"/>
                <a:ext cx="1391040" cy="133560"/>
                <a:chOff x="1092240" y="5689800"/>
                <a:chExt cx="1391040" cy="133560"/>
              </a:xfrm>
            </p:grpSpPr>
            <p:pic>
              <p:nvPicPr>
                <p:cNvPr id="780" name="Picture 26" descr="004-F-BW200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092240" y="5689800"/>
                  <a:ext cx="434520" cy="132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81" name="Picture 27" descr="004-R-BW200"/>
                <p:cNvPicPr/>
                <p:nvPr/>
              </p:nvPicPr>
              <p:blipFill>
                <a:blip r:embed="rId9"/>
                <a:srcRect l="2889" t="11566" r="0" b="0"/>
                <a:stretch/>
              </p:blipFill>
              <p:spPr>
                <a:xfrm>
                  <a:off x="1570680" y="5689800"/>
                  <a:ext cx="434160" cy="1335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82" name="Picture 28" descr="004-F-100Q080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9120" y="5689800"/>
                  <a:ext cx="434160" cy="132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  <p:sp>
            <p:nvSpPr>
              <p:cNvPr id="783" name="Rectangle 29"/>
              <p:cNvSpPr/>
              <p:nvPr/>
            </p:nvSpPr>
            <p:spPr>
              <a:xfrm>
                <a:off x="1095840" y="5486400"/>
                <a:ext cx="1078200" cy="135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Cheque Data</a:t>
                </a:r>
                <a:r>
                  <a:rPr b="1" lang="en-US" sz="16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784" name="Text Box 30"/>
            <p:cNvSpPr/>
            <p:nvPr/>
          </p:nvSpPr>
          <p:spPr>
            <a:xfrm>
              <a:off x="3186720" y="6233760"/>
              <a:ext cx="21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Sending Bank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785" name="Picture 32" descr="CR25"/>
            <p:cNvPicPr/>
            <p:nvPr/>
          </p:nvPicPr>
          <p:blipFill>
            <a:blip r:embed="rId11">
              <a:lum contrast="-42000"/>
            </a:blip>
            <a:stretch/>
          </p:blipFill>
          <p:spPr>
            <a:xfrm>
              <a:off x="1116000" y="4691160"/>
              <a:ext cx="89532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33" descr="CR25"/>
            <p:cNvPicPr/>
            <p:nvPr/>
          </p:nvPicPr>
          <p:blipFill>
            <a:blip r:embed="rId12">
              <a:lum contrast="-42000"/>
            </a:blip>
            <a:stretch/>
          </p:blipFill>
          <p:spPr>
            <a:xfrm>
              <a:off x="1165320" y="5937840"/>
              <a:ext cx="687240" cy="36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34"/>
            <p:cNvGrpSpPr/>
            <p:nvPr/>
          </p:nvGrpSpPr>
          <p:grpSpPr>
            <a:xfrm>
              <a:off x="2771640" y="4795560"/>
              <a:ext cx="1316880" cy="343080"/>
              <a:chOff x="2771640" y="4795560"/>
              <a:chExt cx="1316880" cy="343080"/>
            </a:xfrm>
          </p:grpSpPr>
          <p:grpSp>
            <p:nvGrpSpPr>
              <p:cNvPr id="788" name="Group 35"/>
              <p:cNvGrpSpPr/>
              <p:nvPr/>
            </p:nvGrpSpPr>
            <p:grpSpPr>
              <a:xfrm>
                <a:off x="2771640" y="5017680"/>
                <a:ext cx="1316880" cy="120960"/>
                <a:chOff x="2771640" y="5017680"/>
                <a:chExt cx="1316880" cy="120960"/>
              </a:xfrm>
            </p:grpSpPr>
            <p:pic>
              <p:nvPicPr>
                <p:cNvPr id="789" name="Picture 36" descr="004-F-BW200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771640" y="5017680"/>
                  <a:ext cx="411480" cy="1198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90" name="Picture 37" descr="004-R-BW200"/>
                <p:cNvPicPr/>
                <p:nvPr/>
              </p:nvPicPr>
              <p:blipFill>
                <a:blip r:embed="rId14"/>
                <a:srcRect l="2889" t="11549" r="0" b="0"/>
                <a:stretch/>
              </p:blipFill>
              <p:spPr>
                <a:xfrm>
                  <a:off x="3224520" y="5017680"/>
                  <a:ext cx="411120" cy="1209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91" name="Picture 38" descr="004-F-100Q080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677400" y="5017680"/>
                  <a:ext cx="411120" cy="1198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  <p:sp>
            <p:nvSpPr>
              <p:cNvPr id="792" name="Rectangle 39"/>
              <p:cNvSpPr/>
              <p:nvPr/>
            </p:nvSpPr>
            <p:spPr>
              <a:xfrm>
                <a:off x="2771640" y="4795560"/>
                <a:ext cx="987840" cy="1623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Cheque Data</a:t>
                </a:r>
                <a:r>
                  <a:rPr b="1" lang="en-US" sz="1600" spc="-1" strike="noStrike">
                    <a:solidFill>
                      <a:srgbClr val="003366"/>
                    </a:solidFill>
                    <a:latin typeface="Browallia New"/>
                    <a:ea typeface="Browalli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793" name="Line 46"/>
            <p:cNvSpPr/>
            <p:nvPr/>
          </p:nvSpPr>
          <p:spPr>
            <a:xfrm>
              <a:off x="2676600" y="5074560"/>
              <a:ext cx="958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794" name="Picture 50" descr=""/>
            <p:cNvPicPr/>
            <p:nvPr/>
          </p:nvPicPr>
          <p:blipFill>
            <a:blip r:embed="rId16"/>
            <a:stretch/>
          </p:blipFill>
          <p:spPr>
            <a:xfrm>
              <a:off x="395280" y="4787640"/>
              <a:ext cx="64944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51" descr=""/>
            <p:cNvPicPr/>
            <p:nvPr/>
          </p:nvPicPr>
          <p:blipFill>
            <a:blip r:embed="rId17"/>
            <a:stretch/>
          </p:blipFill>
          <p:spPr>
            <a:xfrm>
              <a:off x="393840" y="5996520"/>
              <a:ext cx="64908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6" name="Rectangle 54"/>
          <p:cNvSpPr/>
          <p:nvPr/>
        </p:nvSpPr>
        <p:spPr>
          <a:xfrm>
            <a:off x="5867280" y="5638680"/>
            <a:ext cx="935280" cy="639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7" name="Line 56"/>
          <p:cNvSpPr/>
          <p:nvPr/>
        </p:nvSpPr>
        <p:spPr>
          <a:xfrm>
            <a:off x="6372360" y="4998960"/>
            <a:ext cx="1440" cy="34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Text Box 57"/>
          <p:cNvSpPr/>
          <p:nvPr/>
        </p:nvSpPr>
        <p:spPr>
          <a:xfrm>
            <a:off x="5231160" y="6316560"/>
            <a:ext cx="21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Clearing House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Text Box 60"/>
          <p:cNvSpPr/>
          <p:nvPr/>
        </p:nvSpPr>
        <p:spPr>
          <a:xfrm>
            <a:off x="1116000" y="11592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นวทางปฏิบัติ สำหรับ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00" name="Group 57"/>
          <p:cNvGrpSpPr/>
          <p:nvPr/>
        </p:nvGrpSpPr>
        <p:grpSpPr>
          <a:xfrm>
            <a:off x="142920" y="714240"/>
            <a:ext cx="8929440" cy="3506400"/>
            <a:chOff x="142920" y="714240"/>
            <a:chExt cx="8929440" cy="3506400"/>
          </a:xfrm>
        </p:grpSpPr>
        <p:sp>
          <p:nvSpPr>
            <p:cNvPr id="801" name="AutoShape 43"/>
            <p:cNvSpPr/>
            <p:nvPr/>
          </p:nvSpPr>
          <p:spPr>
            <a:xfrm rot="16200000">
              <a:off x="3108600" y="2179080"/>
              <a:ext cx="316080" cy="3766680"/>
            </a:xfrm>
            <a:custGeom>
              <a:avLst/>
              <a:gdLst>
                <a:gd name="textAreaLeft" fmla="*/ 0 w 316080"/>
                <a:gd name="textAreaRight" fmla="*/ 114120 w 316080"/>
                <a:gd name="textAreaTop" fmla="*/ 59040 h 3766680"/>
                <a:gd name="textAreaBottom" fmla="*/ 3707640 h 37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43"/>
                    <a:pt x="10800" y="1086"/>
                  </a:cubicBezTo>
                  <a:lnTo>
                    <a:pt x="10800" y="9884"/>
                  </a:lnTo>
                  <a:cubicBezTo>
                    <a:pt x="10800" y="10427"/>
                    <a:pt x="16200" y="10970"/>
                    <a:pt x="21600" y="10970"/>
                  </a:cubicBezTo>
                  <a:cubicBezTo>
                    <a:pt x="16200" y="10970"/>
                    <a:pt x="10800" y="11513"/>
                    <a:pt x="10800" y="12056"/>
                  </a:cubicBezTo>
                  <a:lnTo>
                    <a:pt x="10800" y="20514"/>
                  </a:lnTo>
                  <a:cubicBezTo>
                    <a:pt x="10800" y="21057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2" name="AutoShape 56"/>
            <p:cNvSpPr/>
            <p:nvPr/>
          </p:nvSpPr>
          <p:spPr>
            <a:xfrm>
              <a:off x="142920" y="714240"/>
              <a:ext cx="8929440" cy="2940840"/>
            </a:xfrm>
            <a:prstGeom prst="wedgeRoundRectCallout">
              <a:avLst>
                <a:gd name="adj1" fmla="val -14416"/>
                <a:gd name="adj2" fmla="val 60814"/>
                <a:gd name="adj3" fmla="val 16667"/>
              </a:avLst>
            </a:prstGeom>
            <a:solidFill>
              <a:srgbClr val="f3f2e5"/>
            </a:solidFill>
            <a:ln w="936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000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66"/>
                  </a:solidFill>
                  <a:latin typeface="Browallia New"/>
                  <a:cs typeface="Browallia New"/>
                </a:rPr>
                <a:t>มีข้อมูลประกอบที่บันทึกความเคลื่อนไหว การสร้าง การรับส่ง การแก้ไข ของธุรกรรม และกลไกในการป้องกันการปลอมแปลงข้อมูลและภาพอิเล็กทรอนิกส์ และการผูกมัดบุคคลที่รับผิดชอบในการสร้างและแก้ไขข้อมูลและภาพอิเล็กทรอนิกส์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 u="sng">
                  <a:solidFill>
                    <a:srgbClr val="006600"/>
                  </a:solidFill>
                  <a:uFillTx/>
                  <a:latin typeface="Browallia New"/>
                  <a:cs typeface="Browallia New"/>
                </a:rPr>
                <a:t>ระบบ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สามารถระบุรายละเอียดการสร้างข้อมูลและภาพเช็ค  และมีระบบป้องกันการปลอมแปลงข้อมูลและภาพเช็ค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 u="sng">
                  <a:solidFill>
                    <a:srgbClr val="006600"/>
                  </a:solidFill>
                  <a:uFillTx/>
                  <a:latin typeface="Browallia New"/>
                  <a:cs typeface="Browallia New"/>
                </a:rPr>
                <a:t>ระเบียบ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00"/>
                </a:buClr>
                <a:buSzPct val="8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ธ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.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สมาชิกสามารถระบุตัวตน  สถานที่ และเวลาการสร้างข้อมูลและภาพเช็ค 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00"/>
                </a:buClr>
                <a:buSzPct val="8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ธ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.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สมาชิกต้องมีระบบรักษาความปลอดภัยในการสร้างข้อมูลและภาพเช็ค รวมทั้งมีมาตรการป้องกัน</a:t>
              </a:r>
              <a:br>
                <a:rPr sz="2000"/>
              </a:b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    การแก้ไข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/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ปลอมแปลง ข้อมูลและภาพเช็ค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7526160" y="3860640"/>
            <a:ext cx="13669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250920" y="3862440"/>
            <a:ext cx="4825800" cy="267480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05" name="Group 4"/>
          <p:cNvGrpSpPr/>
          <p:nvPr/>
        </p:nvGrpSpPr>
        <p:grpSpPr>
          <a:xfrm>
            <a:off x="1380960" y="4003560"/>
            <a:ext cx="1318680" cy="369720"/>
            <a:chOff x="1380960" y="4003560"/>
            <a:chExt cx="1318680" cy="369720"/>
          </a:xfrm>
        </p:grpSpPr>
        <p:grpSp>
          <p:nvGrpSpPr>
            <p:cNvPr id="806" name="Group 5"/>
            <p:cNvGrpSpPr/>
            <p:nvPr/>
          </p:nvGrpSpPr>
          <p:grpSpPr>
            <a:xfrm>
              <a:off x="1380960" y="4242960"/>
              <a:ext cx="1318680" cy="130320"/>
              <a:chOff x="1380960" y="4242960"/>
              <a:chExt cx="1318680" cy="130320"/>
            </a:xfrm>
          </p:grpSpPr>
          <p:pic>
            <p:nvPicPr>
              <p:cNvPr id="807" name="Picture 6" descr="004-F-BW200"/>
              <p:cNvPicPr/>
              <p:nvPr/>
            </p:nvPicPr>
            <p:blipFill>
              <a:blip r:embed="rId1"/>
              <a:stretch/>
            </p:blipFill>
            <p:spPr>
              <a:xfrm>
                <a:off x="1380960" y="4242960"/>
                <a:ext cx="411840" cy="129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08" name="Picture 7" descr="004-R-BW200"/>
              <p:cNvPicPr/>
              <p:nvPr/>
            </p:nvPicPr>
            <p:blipFill>
              <a:blip r:embed="rId2"/>
              <a:srcRect l="2889" t="11556" r="0" b="0"/>
              <a:stretch/>
            </p:blipFill>
            <p:spPr>
              <a:xfrm>
                <a:off x="1834560" y="4242960"/>
                <a:ext cx="411480" cy="1303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09" name="Picture 8" descr="004-F-100Q080"/>
              <p:cNvPicPr/>
              <p:nvPr/>
            </p:nvPicPr>
            <p:blipFill>
              <a:blip r:embed="rId3"/>
              <a:stretch/>
            </p:blipFill>
            <p:spPr>
              <a:xfrm>
                <a:off x="2288160" y="4242960"/>
                <a:ext cx="411480" cy="129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10" name="Rectangle 9"/>
            <p:cNvSpPr/>
            <p:nvPr/>
          </p:nvSpPr>
          <p:spPr>
            <a:xfrm>
              <a:off x="1380960" y="4003560"/>
              <a:ext cx="988920" cy="174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</a:t>
              </a:r>
              <a:r>
                <a:rPr b="1" lang="en-US" sz="16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11" name="Text Box 10"/>
          <p:cNvSpPr/>
          <p:nvPr/>
        </p:nvSpPr>
        <p:spPr>
          <a:xfrm>
            <a:off x="3248280" y="5370480"/>
            <a:ext cx="1904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Sending Bank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12" name="Picture 11" descr="j0285750"/>
          <p:cNvPicPr/>
          <p:nvPr/>
        </p:nvPicPr>
        <p:blipFill>
          <a:blip r:embed="rId4"/>
          <a:stretch/>
        </p:blipFill>
        <p:spPr>
          <a:xfrm>
            <a:off x="3635280" y="4513320"/>
            <a:ext cx="1224000" cy="6429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3" descr="j0195384"/>
          <p:cNvPicPr/>
          <p:nvPr/>
        </p:nvPicPr>
        <p:blipFill>
          <a:blip r:embed="rId5"/>
          <a:stretch/>
        </p:blipFill>
        <p:spPr>
          <a:xfrm>
            <a:off x="2173320" y="5765760"/>
            <a:ext cx="590400" cy="45576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14"/>
          <p:cNvSpPr/>
          <p:nvPr/>
        </p:nvSpPr>
        <p:spPr>
          <a:xfrm>
            <a:off x="7304760" y="4905360"/>
            <a:ext cx="1758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15" name="Picture 15" descr="j0285750"/>
          <p:cNvPicPr/>
          <p:nvPr/>
        </p:nvPicPr>
        <p:blipFill>
          <a:blip r:embed="rId6"/>
          <a:stretch/>
        </p:blipFill>
        <p:spPr>
          <a:xfrm>
            <a:off x="7596360" y="4122720"/>
            <a:ext cx="1152360" cy="781200"/>
          </a:xfrm>
          <a:prstGeom prst="rect">
            <a:avLst/>
          </a:prstGeom>
          <a:ln w="0">
            <a:noFill/>
          </a:ln>
        </p:spPr>
      </p:pic>
      <p:sp>
        <p:nvSpPr>
          <p:cNvPr id="816" name="Line 16"/>
          <p:cNvSpPr/>
          <p:nvPr/>
        </p:nvSpPr>
        <p:spPr>
          <a:xfrm>
            <a:off x="1812960" y="6026040"/>
            <a:ext cx="3459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7" name="Line 17"/>
          <p:cNvSpPr/>
          <p:nvPr/>
        </p:nvSpPr>
        <p:spPr>
          <a:xfrm flipV="1">
            <a:off x="2894040" y="5331960"/>
            <a:ext cx="741240" cy="42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8" name="Line 18"/>
          <p:cNvSpPr/>
          <p:nvPr/>
        </p:nvSpPr>
        <p:spPr>
          <a:xfrm>
            <a:off x="5076720" y="4645080"/>
            <a:ext cx="7905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19" name="Picture 19" descr="j0195384"/>
          <p:cNvPicPr/>
          <p:nvPr/>
        </p:nvPicPr>
        <p:blipFill>
          <a:blip r:embed="rId7"/>
          <a:stretch/>
        </p:blipFill>
        <p:spPr>
          <a:xfrm>
            <a:off x="2049480" y="4460760"/>
            <a:ext cx="577800" cy="509760"/>
          </a:xfrm>
          <a:prstGeom prst="rect">
            <a:avLst/>
          </a:prstGeom>
          <a:ln w="0">
            <a:noFill/>
          </a:ln>
        </p:spPr>
      </p:pic>
      <p:sp>
        <p:nvSpPr>
          <p:cNvPr id="820" name="Line 20"/>
          <p:cNvSpPr/>
          <p:nvPr/>
        </p:nvSpPr>
        <p:spPr>
          <a:xfrm flipV="1">
            <a:off x="6804000" y="4578480"/>
            <a:ext cx="7207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826640" y="620244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434880" y="489888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 + Data entr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959760" y="620244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24" name="Group 24"/>
          <p:cNvGrpSpPr/>
          <p:nvPr/>
        </p:nvGrpSpPr>
        <p:grpSpPr>
          <a:xfrm>
            <a:off x="1092240" y="5297400"/>
            <a:ext cx="1391040" cy="382320"/>
            <a:chOff x="1092240" y="5297400"/>
            <a:chExt cx="1391040" cy="382320"/>
          </a:xfrm>
        </p:grpSpPr>
        <p:grpSp>
          <p:nvGrpSpPr>
            <p:cNvPr id="825" name="Group 25"/>
            <p:cNvGrpSpPr/>
            <p:nvPr/>
          </p:nvGrpSpPr>
          <p:grpSpPr>
            <a:xfrm>
              <a:off x="1092240" y="5528160"/>
              <a:ext cx="1391040" cy="151560"/>
              <a:chOff x="1092240" y="5528160"/>
              <a:chExt cx="1391040" cy="151560"/>
            </a:xfrm>
          </p:grpSpPr>
          <p:pic>
            <p:nvPicPr>
              <p:cNvPr id="826" name="Picture 26" descr="004-F-BW200"/>
              <p:cNvPicPr/>
              <p:nvPr/>
            </p:nvPicPr>
            <p:blipFill>
              <a:blip r:embed="rId8"/>
              <a:stretch/>
            </p:blipFill>
            <p:spPr>
              <a:xfrm>
                <a:off x="1092240" y="5528160"/>
                <a:ext cx="434520" cy="150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27" name="Picture 27" descr="004-R-BW200"/>
              <p:cNvPicPr/>
              <p:nvPr/>
            </p:nvPicPr>
            <p:blipFill>
              <a:blip r:embed="rId9"/>
              <a:srcRect l="2889" t="11676" r="0" b="0"/>
              <a:stretch/>
            </p:blipFill>
            <p:spPr>
              <a:xfrm>
                <a:off x="1570680" y="5528160"/>
                <a:ext cx="434160" cy="151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28" name="Picture 28" descr="004-F-100Q080"/>
              <p:cNvPicPr/>
              <p:nvPr/>
            </p:nvPicPr>
            <p:blipFill>
              <a:blip r:embed="rId10"/>
              <a:stretch/>
            </p:blipFill>
            <p:spPr>
              <a:xfrm>
                <a:off x="2049120" y="5528160"/>
                <a:ext cx="434160" cy="150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29" name="Rectangle 29"/>
            <p:cNvSpPr/>
            <p:nvPr/>
          </p:nvSpPr>
          <p:spPr>
            <a:xfrm>
              <a:off x="1095840" y="5297400"/>
              <a:ext cx="1078200" cy="15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</a:t>
              </a:r>
              <a:r>
                <a:rPr b="1" lang="en-US" sz="16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30" name="Text Box 30"/>
          <p:cNvSpPr/>
          <p:nvPr/>
        </p:nvSpPr>
        <p:spPr>
          <a:xfrm>
            <a:off x="3186720" y="611964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Sending Bank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7201080" y="529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Browallia New"/>
                <a:ea typeface="Browallia New"/>
              </a:rPr>
              <a:t>Paying Bank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32" name="Picture 32" descr="CR25"/>
          <p:cNvPicPr/>
          <p:nvPr/>
        </p:nvPicPr>
        <p:blipFill>
          <a:blip r:embed="rId11">
            <a:lum contrast="-42000"/>
          </a:blip>
          <a:stretch/>
        </p:blipFill>
        <p:spPr>
          <a:xfrm>
            <a:off x="1116000" y="4395960"/>
            <a:ext cx="895320" cy="4665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CR25"/>
          <p:cNvPicPr/>
          <p:nvPr/>
        </p:nvPicPr>
        <p:blipFill>
          <a:blip r:embed="rId12">
            <a:lum contrast="-42000"/>
          </a:blip>
          <a:stretch/>
        </p:blipFill>
        <p:spPr>
          <a:xfrm>
            <a:off x="1165320" y="5808600"/>
            <a:ext cx="687240" cy="41616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34"/>
          <p:cNvGrpSpPr/>
          <p:nvPr/>
        </p:nvGrpSpPr>
        <p:grpSpPr>
          <a:xfrm>
            <a:off x="2771640" y="4513320"/>
            <a:ext cx="1316880" cy="390240"/>
            <a:chOff x="2771640" y="4513320"/>
            <a:chExt cx="1316880" cy="390240"/>
          </a:xfrm>
        </p:grpSpPr>
        <p:grpSp>
          <p:nvGrpSpPr>
            <p:cNvPr id="835" name="Group 35"/>
            <p:cNvGrpSpPr/>
            <p:nvPr/>
          </p:nvGrpSpPr>
          <p:grpSpPr>
            <a:xfrm>
              <a:off x="2771640" y="4766040"/>
              <a:ext cx="1316880" cy="137520"/>
              <a:chOff x="2771640" y="4766040"/>
              <a:chExt cx="1316880" cy="137520"/>
            </a:xfrm>
          </p:grpSpPr>
          <p:pic>
            <p:nvPicPr>
              <p:cNvPr id="836" name="Picture 36" descr="004-F-BW200"/>
              <p:cNvPicPr/>
              <p:nvPr/>
            </p:nvPicPr>
            <p:blipFill>
              <a:blip r:embed="rId13"/>
              <a:stretch/>
            </p:blipFill>
            <p:spPr>
              <a:xfrm>
                <a:off x="2771640" y="4766040"/>
                <a:ext cx="411480" cy="13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37" name="Picture 37" descr="004-R-BW200"/>
              <p:cNvPicPr/>
              <p:nvPr/>
            </p:nvPicPr>
            <p:blipFill>
              <a:blip r:embed="rId14"/>
              <a:srcRect l="2889" t="11628" r="0" b="0"/>
              <a:stretch/>
            </p:blipFill>
            <p:spPr>
              <a:xfrm>
                <a:off x="3224520" y="4766040"/>
                <a:ext cx="411120" cy="137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38" name="Picture 38" descr="004-F-100Q080"/>
              <p:cNvPicPr/>
              <p:nvPr/>
            </p:nvPicPr>
            <p:blipFill>
              <a:blip r:embed="rId15"/>
              <a:stretch/>
            </p:blipFill>
            <p:spPr>
              <a:xfrm>
                <a:off x="3677400" y="4766040"/>
                <a:ext cx="411120" cy="13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39" name="Rectangle 39"/>
            <p:cNvSpPr/>
            <p:nvPr/>
          </p:nvSpPr>
          <p:spPr>
            <a:xfrm>
              <a:off x="2771640" y="4513320"/>
              <a:ext cx="987840" cy="184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</a:t>
              </a:r>
              <a:r>
                <a:rPr b="1" lang="en-US" sz="16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40" name="Line 46"/>
          <p:cNvSpPr/>
          <p:nvPr/>
        </p:nvSpPr>
        <p:spPr>
          <a:xfrm>
            <a:off x="2676600" y="4829040"/>
            <a:ext cx="958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41" name="Picture 50" descr=""/>
          <p:cNvPicPr/>
          <p:nvPr/>
        </p:nvPicPr>
        <p:blipFill>
          <a:blip r:embed="rId16"/>
          <a:stretch/>
        </p:blipFill>
        <p:spPr>
          <a:xfrm>
            <a:off x="395280" y="4505400"/>
            <a:ext cx="649440" cy="3254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51" descr=""/>
          <p:cNvPicPr/>
          <p:nvPr/>
        </p:nvPicPr>
        <p:blipFill>
          <a:blip r:embed="rId17"/>
          <a:stretch/>
        </p:blipFill>
        <p:spPr>
          <a:xfrm>
            <a:off x="393840" y="5875200"/>
            <a:ext cx="649080" cy="32544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54"/>
          <p:cNvSpPr/>
          <p:nvPr/>
        </p:nvSpPr>
        <p:spPr>
          <a:xfrm>
            <a:off x="5867280" y="5424480"/>
            <a:ext cx="935280" cy="8492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Line 56"/>
          <p:cNvSpPr/>
          <p:nvPr/>
        </p:nvSpPr>
        <p:spPr>
          <a:xfrm>
            <a:off x="6372360" y="4968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Text Box 57"/>
          <p:cNvSpPr/>
          <p:nvPr/>
        </p:nvSpPr>
        <p:spPr>
          <a:xfrm>
            <a:off x="5231160" y="6254640"/>
            <a:ext cx="21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Clearing House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AutoShape 59"/>
          <p:cNvSpPr/>
          <p:nvPr/>
        </p:nvSpPr>
        <p:spPr>
          <a:xfrm>
            <a:off x="5214960" y="1143000"/>
            <a:ext cx="3786120" cy="2357280"/>
          </a:xfrm>
          <a:prstGeom prst="wedgeRoundRectCallout">
            <a:avLst>
              <a:gd name="adj1" fmla="val -10777"/>
              <a:gd name="adj2" fmla="val 136388"/>
              <a:gd name="adj3" fmla="val 16667"/>
            </a:avLst>
          </a:prstGeom>
          <a:gradFill rotWithShape="0">
            <a:gsLst>
              <a:gs pos="0">
                <a:srgbClr val="fffc89"/>
              </a:gs>
              <a:gs pos="50000">
                <a:srgbClr val="fffec9"/>
              </a:gs>
              <a:gs pos="100000">
                <a:srgbClr val="fffc89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ิ่งพิมพ์จากข้อมูลธุรกรรมและ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อิเล็กทรอนิกส์มีความน่าเชื่อถื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>
              <a:lnSpc>
                <a:spcPts val="1800"/>
              </a:lnSpc>
              <a:spcBef>
                <a:spcPts val="1199"/>
              </a:spcBef>
              <a:buClr>
                <a:srgbClr val="00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ระบบงานและกระบวนการปฏิบัติงานมีความมั่นคงปลอดภ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>
              <a:lnSpc>
                <a:spcPts val="1800"/>
              </a:lnSpc>
              <a:spcBef>
                <a:spcPts val="1199"/>
              </a:spcBef>
              <a:buClr>
                <a:srgbClr val="00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ธปท</a:t>
            </a:r>
            <a:r>
              <a:rPr b="1" lang="th-TH" sz="2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. </a:t>
            </a:r>
            <a:r>
              <a:rPr b="1" lang="th-TH" sz="2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เป็นหน่วยงานที่เป็นกลาง สามารถเป็น </a:t>
            </a:r>
            <a:r>
              <a:rPr b="1" lang="en-US" sz="2000" spc="-1" strike="noStrike">
                <a:solidFill>
                  <a:srgbClr val="006600"/>
                </a:solidFill>
                <a:latin typeface="Browallia New"/>
                <a:ea typeface="SimSun"/>
              </a:rPr>
              <a:t>Trusted Party </a:t>
            </a:r>
            <a:r>
              <a:rPr b="1" lang="th-TH" sz="2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ให้แก่ ธ</a:t>
            </a:r>
            <a:r>
              <a:rPr b="1" lang="th-TH" sz="2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.</a:t>
            </a:r>
            <a:r>
              <a:rPr b="1" lang="th-TH" sz="2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สมาชิกและลูกค้า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7" name="Text Box 60"/>
          <p:cNvSpPr/>
          <p:nvPr/>
        </p:nvSpPr>
        <p:spPr>
          <a:xfrm>
            <a:off x="1071720" y="21420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นวทางปฏิบัติ สำหรับ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8" name="Rectangle 12"/>
          <p:cNvSpPr/>
          <p:nvPr/>
        </p:nvSpPr>
        <p:spPr>
          <a:xfrm>
            <a:off x="5869080" y="4056120"/>
            <a:ext cx="934920" cy="9126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49" name="Group 52"/>
          <p:cNvGrpSpPr/>
          <p:nvPr/>
        </p:nvGrpSpPr>
        <p:grpSpPr>
          <a:xfrm>
            <a:off x="142920" y="1143000"/>
            <a:ext cx="7962840" cy="2714400"/>
            <a:chOff x="142920" y="1143000"/>
            <a:chExt cx="7962840" cy="2714400"/>
          </a:xfrm>
        </p:grpSpPr>
        <p:sp>
          <p:nvSpPr>
            <p:cNvPr id="850" name="AutoShape 61"/>
            <p:cNvSpPr/>
            <p:nvPr/>
          </p:nvSpPr>
          <p:spPr>
            <a:xfrm>
              <a:off x="142920" y="1143000"/>
              <a:ext cx="5000760" cy="2500560"/>
            </a:xfrm>
            <a:prstGeom prst="wedgeRoundRectCallout">
              <a:avLst>
                <a:gd name="adj1" fmla="val 58912"/>
                <a:gd name="adj2" fmla="val 52398"/>
                <a:gd name="adj3" fmla="val 16667"/>
              </a:avLst>
            </a:prstGeom>
            <a:solidFill>
              <a:srgbClr val="ddf3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66"/>
                  </a:solidFill>
                  <a:latin typeface="Browallia New"/>
                  <a:cs typeface="Browallia New"/>
                </a:rPr>
                <a:t>การดำเนินธุรกรรมและจัดเก็บ เป็นไปอย่างปลอดภัย ไม่มีการปลอมแปลงแก้ไข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ts val="1998"/>
                </a:lnSpc>
                <a:spcBef>
                  <a:spcPts val="1199"/>
                </a:spcBef>
                <a:buClr>
                  <a:srgbClr val="0066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3300"/>
                  </a:solidFill>
                  <a:latin typeface="Browallia New"/>
                  <a:ea typeface="Browallia New"/>
                </a:rPr>
                <a:t> 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ระบบ </a:t>
              </a:r>
              <a:r>
                <a:rPr b="1" lang="en-US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ICAS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เป็นระบบที่มีความมั่นคงปลอดภัย</a:t>
              </a:r>
              <a:br>
                <a:rPr sz="2000"/>
              </a:b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สามารถระบุตัวตนผู้ส่งและรับข้อมูล และความถูกต้อง</a:t>
              </a:r>
              <a:br>
                <a:rPr sz="2000"/>
              </a:b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ของข้อมูล</a:t>
              </a:r>
              <a:r>
                <a:rPr b="1" lang="en-US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    </a:t>
              </a:r>
              <a:r>
                <a:rPr b="1" lang="en-US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( End-to-end Data Integrity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    Non-repudiation)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SimSun"/>
                </a:rPr>
                <a:t>โดยใช้ </a:t>
              </a:r>
              <a:r>
                <a:rPr b="1" lang="en-US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Digital Signature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SimSun"/>
                </a:rPr>
                <a:t>ในการรับและ</a:t>
              </a:r>
              <a:br>
                <a:rPr sz="2000"/>
              </a:b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    ส่งข้อมูล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รวมทั้งมีมาตรการการรักษาความปลอดภัย 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ts val="7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    </a:t>
              </a:r>
              <a:r>
                <a:rPr b="1" lang="th-TH" sz="20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อื่นๆ ตามมาตรฐานสากล 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Browallia New"/>
                  <a:ea typeface="SimSu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1" name="AutoShape 46"/>
            <p:cNvSpPr/>
            <p:nvPr/>
          </p:nvSpPr>
          <p:spPr>
            <a:xfrm rot="16200000">
              <a:off x="6072480" y="1824120"/>
              <a:ext cx="318600" cy="3747960"/>
            </a:xfrm>
            <a:custGeom>
              <a:avLst/>
              <a:gdLst>
                <a:gd name="textAreaLeft" fmla="*/ 0 w 318600"/>
                <a:gd name="textAreaRight" fmla="*/ 114840 w 318600"/>
                <a:gd name="textAreaTop" fmla="*/ 63720 h 3747960"/>
                <a:gd name="textAreaBottom" fmla="*/ 3684240 h 374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87"/>
                    <a:pt x="10800" y="1174"/>
                  </a:cubicBezTo>
                  <a:lnTo>
                    <a:pt x="10800" y="9626"/>
                  </a:lnTo>
                  <a:cubicBezTo>
                    <a:pt x="10800" y="10213"/>
                    <a:pt x="16200" y="10800"/>
                    <a:pt x="21600" y="10800"/>
                  </a:cubicBezTo>
                  <a:cubicBezTo>
                    <a:pt x="16200" y="10800"/>
                    <a:pt x="10800" y="11387"/>
                    <a:pt x="10800" y="11974"/>
                  </a:cubicBezTo>
                  <a:lnTo>
                    <a:pt x="10800" y="20426"/>
                  </a:lnTo>
                  <a:cubicBezTo>
                    <a:pt x="10800" y="2101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564000" y="260280"/>
            <a:ext cx="2305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ัวข้อบรรย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3" name="TextBox 49"/>
          <p:cNvSpPr/>
          <p:nvPr/>
        </p:nvSpPr>
        <p:spPr>
          <a:xfrm>
            <a:off x="142920" y="2311560"/>
            <a:ext cx="8786880" cy="5508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 </a:t>
            </a:r>
            <a:r>
              <a:rPr b="1" lang="en-US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ะบบการหักบัญชีเช็คระหว่างธนาคาร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4" name="TextBox 52"/>
          <p:cNvSpPr/>
          <p:nvPr/>
        </p:nvSpPr>
        <p:spPr>
          <a:xfrm>
            <a:off x="142920" y="3303720"/>
            <a:ext cx="8786880" cy="520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เด็นที่สมาคมธนาคารไทยสนใ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5" name="TextBox 56"/>
          <p:cNvSpPr/>
          <p:nvPr/>
        </p:nvSpPr>
        <p:spPr>
          <a:xfrm>
            <a:off x="142920" y="4446720"/>
            <a:ext cx="8786880" cy="5508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 </a:t>
            </a:r>
            <a:r>
              <a:rPr b="1" lang="en-US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เด็นที่ผู้ตรวจสอบควรให้ความสนใจ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4"/>
          <p:cNvSpPr/>
          <p:nvPr/>
        </p:nvSpPr>
        <p:spPr>
          <a:xfrm>
            <a:off x="533520" y="1563840"/>
            <a:ext cx="81914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1   End-to-end Data Integrity Control  and  Non-repudia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1074600" indent="-285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ใช้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ash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2  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จัดเก็บข้อมูลเช็คและภาพเช็ค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3   Public Key Infrastructure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PKI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ำหรับ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4   Other ICAS Securit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-347040" y="142920"/>
            <a:ext cx="1049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99"/>
                </a:solidFill>
                <a:latin typeface="Browallia New"/>
                <a:ea typeface="Browallia New"/>
              </a:rPr>
              <a:t>4. </a:t>
            </a:r>
            <a:r>
              <a:rPr b="1" lang="th-TH" sz="3200" spc="-1" strike="noStrike">
                <a:solidFill>
                  <a:srgbClr val="333399"/>
                </a:solidFill>
                <a:latin typeface="Browallia New"/>
                <a:cs typeface="Browallia New"/>
              </a:rPr>
              <a:t>การควบคุมและการรักษาความมั่นคงปลอดภัย – ระบบ </a:t>
            </a:r>
            <a:r>
              <a:rPr b="1" lang="en-US" sz="3200" spc="-1" strike="noStrike">
                <a:solidFill>
                  <a:srgbClr val="333399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19"/>
          <p:cNvSpPr/>
          <p:nvPr/>
        </p:nvSpPr>
        <p:spPr>
          <a:xfrm>
            <a:off x="250920" y="1357200"/>
            <a:ext cx="8643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ระบุตัวตนผู้ส่งและรับข้อมูล ความถูกต้องสมบูรณ์ของข้อมูล และไม่สามารถ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ปลอมแปลงแก้ไขข้อมู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ash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รือ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Fingerprint: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วิธีการคำนวน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ลายนิ้วมือ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”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ข้อมูล สามารถ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	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นำมาใช้ในการตรวจสอบความถูกต้องของข้อมูลได้</a:t>
            </a:r>
            <a:r>
              <a:rPr b="0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         </a:t>
            </a:r>
            <a:r>
              <a:rPr b="1" lang="th-TH" sz="24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ำหรับระบบ </a:t>
            </a:r>
            <a:r>
              <a:rPr b="1" lang="en-US" sz="24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ICAS </a:t>
            </a:r>
            <a:r>
              <a:rPr b="1" lang="th-TH" sz="24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ใช้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Browallia New"/>
                <a:ea typeface="Browallia New"/>
              </a:rPr>
              <a:t>Hash </a:t>
            </a:r>
            <a:r>
              <a:rPr b="1" lang="th-TH" sz="2400" spc="-1" strike="noStrike" u="sng">
                <a:solidFill>
                  <a:srgbClr val="003300"/>
                </a:solidFill>
                <a:uFillTx/>
                <a:latin typeface="Browallia New"/>
                <a:cs typeface="Browallia New"/>
              </a:rPr>
              <a:t>ในการยืนยันความถูกต้องสมบูรณ์ และไม่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       </a:t>
            </a:r>
            <a:r>
              <a:rPr b="1" lang="th-TH" sz="2400" spc="-1" strike="noStrike" u="sng">
                <a:solidFill>
                  <a:srgbClr val="003300"/>
                </a:solidFill>
                <a:uFillTx/>
                <a:latin typeface="Browallia New"/>
                <a:cs typeface="Browallia New"/>
              </a:rPr>
              <a:t>สามารถปลอมแปลงแก้ไข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Signature: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ลายเซ็นดิจิตอลเพื่อใช้ยืนยันว่าเอกสารนั้นถูกต้อง ไม่มีการ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ดัดแปลงแก้ไขโดยบุคคลภายนอก  เป็นวิธีเพิ่มความปลอดภัย นอกเหนือจาก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เข้ารหัส  และตรวจสอบความถูกต้องให้กับจดหมายอิเล็กทรอนิกส์ เอกสารลับ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บัตรเครดิต และเงินแบบดิจิตอล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2" marL="712800" indent="9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            </a:t>
            </a:r>
            <a:r>
              <a:rPr b="1" lang="th-TH" sz="24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ำหรับระบบ </a:t>
            </a:r>
            <a:r>
              <a:rPr b="1" lang="en-US" sz="24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ICAS </a:t>
            </a:r>
            <a:r>
              <a:rPr b="1" lang="th-TH" sz="24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ใช้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Browallia New"/>
                <a:ea typeface="Browallia New"/>
              </a:rPr>
              <a:t>Digital Signature </a:t>
            </a:r>
            <a:r>
              <a:rPr b="1" lang="th-TH" sz="2400" spc="-1" strike="noStrike" u="sng">
                <a:solidFill>
                  <a:srgbClr val="003300"/>
                </a:solidFill>
                <a:uFillTx/>
                <a:latin typeface="Browallia New"/>
                <a:cs typeface="Browallia New"/>
              </a:rPr>
              <a:t>ในการยืนยันความถูกต้อง และ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2" marL="712800" indent="9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00"/>
                </a:solidFill>
                <a:uFillTx/>
                <a:latin typeface="Browallia New"/>
                <a:cs typeface="Browallia New"/>
              </a:rPr>
              <a:t>ระบุตัวตนของผู้ส่งผู้รับ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441360" algn="ctr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5" name="Rectangle 146"/>
          <p:cNvSpPr/>
          <p:nvPr/>
        </p:nvSpPr>
        <p:spPr>
          <a:xfrm>
            <a:off x="500040" y="3571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1 End-to-end Data Integrity Control &amp; Non-repudiation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4"/>
          <p:cNvSpPr/>
          <p:nvPr/>
        </p:nvSpPr>
        <p:spPr>
          <a:xfrm>
            <a:off x="6659640" y="3500280"/>
            <a:ext cx="230508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250920" y="3500280"/>
            <a:ext cx="3960720" cy="273528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58" name="Group 6"/>
          <p:cNvGrpSpPr/>
          <p:nvPr/>
        </p:nvGrpSpPr>
        <p:grpSpPr>
          <a:xfrm>
            <a:off x="755640" y="3809880"/>
            <a:ext cx="863640" cy="409680"/>
            <a:chOff x="755640" y="3809880"/>
            <a:chExt cx="863640" cy="409680"/>
          </a:xfrm>
        </p:grpSpPr>
        <p:grpSp>
          <p:nvGrpSpPr>
            <p:cNvPr id="859" name="Group 7"/>
            <p:cNvGrpSpPr/>
            <p:nvPr/>
          </p:nvGrpSpPr>
          <p:grpSpPr>
            <a:xfrm>
              <a:off x="755640" y="4075200"/>
              <a:ext cx="863640" cy="144360"/>
              <a:chOff x="755640" y="4075200"/>
              <a:chExt cx="863640" cy="144360"/>
            </a:xfrm>
          </p:grpSpPr>
          <p:pic>
            <p:nvPicPr>
              <p:cNvPr id="860" name="Picture 8" descr="004-F-BW200"/>
              <p:cNvPicPr/>
              <p:nvPr/>
            </p:nvPicPr>
            <p:blipFill>
              <a:blip r:embed="rId1"/>
              <a:stretch/>
            </p:blipFill>
            <p:spPr>
              <a:xfrm>
                <a:off x="755640" y="407520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61" name="Picture 9" descr="004-R-BW200"/>
              <p:cNvPicPr/>
              <p:nvPr/>
            </p:nvPicPr>
            <p:blipFill>
              <a:blip r:embed="rId2"/>
              <a:srcRect l="2975" t="11556" r="0" b="0"/>
              <a:stretch/>
            </p:blipFill>
            <p:spPr>
              <a:xfrm>
                <a:off x="1052640" y="4075200"/>
                <a:ext cx="269640" cy="144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62" name="Picture 10" descr="004-F-100Q080"/>
              <p:cNvPicPr/>
              <p:nvPr/>
            </p:nvPicPr>
            <p:blipFill>
              <a:blip r:embed="rId3"/>
              <a:stretch/>
            </p:blipFill>
            <p:spPr>
              <a:xfrm>
                <a:off x="1349640" y="407520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63" name="Rectangle 11"/>
            <p:cNvSpPr/>
            <p:nvPr/>
          </p:nvSpPr>
          <p:spPr>
            <a:xfrm>
              <a:off x="755640" y="3809880"/>
              <a:ext cx="647640" cy="193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 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64" name="Text Box 12"/>
          <p:cNvSpPr/>
          <p:nvPr/>
        </p:nvSpPr>
        <p:spPr>
          <a:xfrm>
            <a:off x="2219400" y="5148360"/>
            <a:ext cx="1701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Send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65" name="Picture 13" descr="j0285750"/>
          <p:cNvPicPr/>
          <p:nvPr/>
        </p:nvPicPr>
        <p:blipFill>
          <a:blip r:embed="rId4"/>
          <a:stretch/>
        </p:blipFill>
        <p:spPr>
          <a:xfrm>
            <a:off x="2627280" y="4464000"/>
            <a:ext cx="1008000" cy="61920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14"/>
          <p:cNvSpPr/>
          <p:nvPr/>
        </p:nvSpPr>
        <p:spPr>
          <a:xfrm>
            <a:off x="5148360" y="4003560"/>
            <a:ext cx="647640" cy="14414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67" name="Picture 15" descr="j0195384"/>
          <p:cNvPicPr/>
          <p:nvPr/>
        </p:nvPicPr>
        <p:blipFill>
          <a:blip r:embed="rId5"/>
          <a:stretch/>
        </p:blipFill>
        <p:spPr>
          <a:xfrm>
            <a:off x="1547640" y="5540400"/>
            <a:ext cx="493920" cy="50328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16"/>
          <p:cNvSpPr/>
          <p:nvPr/>
        </p:nvSpPr>
        <p:spPr>
          <a:xfrm>
            <a:off x="7057080" y="5148360"/>
            <a:ext cx="1575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69" name="Picture 17" descr="j0285750"/>
          <p:cNvPicPr/>
          <p:nvPr/>
        </p:nvPicPr>
        <p:blipFill>
          <a:blip r:embed="rId6"/>
          <a:stretch/>
        </p:blipFill>
        <p:spPr>
          <a:xfrm>
            <a:off x="7310520" y="4465800"/>
            <a:ext cx="1006560" cy="617400"/>
          </a:xfrm>
          <a:prstGeom prst="rect">
            <a:avLst/>
          </a:prstGeom>
          <a:ln w="0">
            <a:noFill/>
          </a:ln>
        </p:spPr>
      </p:pic>
      <p:sp>
        <p:nvSpPr>
          <p:cNvPr id="870" name="Line 18"/>
          <p:cNvSpPr/>
          <p:nvPr/>
        </p:nvSpPr>
        <p:spPr>
          <a:xfrm>
            <a:off x="1187280" y="58276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1" name="Line 19"/>
          <p:cNvSpPr/>
          <p:nvPr/>
        </p:nvSpPr>
        <p:spPr>
          <a:xfrm flipV="1">
            <a:off x="2268360" y="5154480"/>
            <a:ext cx="2876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2" name="Line 20"/>
          <p:cNvSpPr/>
          <p:nvPr/>
        </p:nvSpPr>
        <p:spPr>
          <a:xfrm>
            <a:off x="3780000" y="472284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73" name="Picture 21" descr="j0195384"/>
          <p:cNvPicPr/>
          <p:nvPr/>
        </p:nvPicPr>
        <p:blipFill>
          <a:blip r:embed="rId7"/>
          <a:stretch/>
        </p:blipFill>
        <p:spPr>
          <a:xfrm>
            <a:off x="1332000" y="4314960"/>
            <a:ext cx="423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Line 22"/>
          <p:cNvSpPr/>
          <p:nvPr/>
        </p:nvSpPr>
        <p:spPr>
          <a:xfrm>
            <a:off x="6012000" y="47242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5" name="Text Box 23"/>
          <p:cNvSpPr/>
          <p:nvPr/>
        </p:nvSpPr>
        <p:spPr>
          <a:xfrm>
            <a:off x="1189440" y="59720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6" name="Text Box 24"/>
          <p:cNvSpPr/>
          <p:nvPr/>
        </p:nvSpPr>
        <p:spPr>
          <a:xfrm>
            <a:off x="30960" y="467532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 + 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7" name="Text Box 25"/>
          <p:cNvSpPr/>
          <p:nvPr/>
        </p:nvSpPr>
        <p:spPr>
          <a:xfrm>
            <a:off x="320400" y="597204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466560" y="5156280"/>
            <a:ext cx="649440" cy="360360"/>
            <a:chOff x="466560" y="5156280"/>
            <a:chExt cx="649440" cy="360360"/>
          </a:xfrm>
        </p:grpSpPr>
        <p:grpSp>
          <p:nvGrpSpPr>
            <p:cNvPr id="879" name="Group 27"/>
            <p:cNvGrpSpPr/>
            <p:nvPr/>
          </p:nvGrpSpPr>
          <p:grpSpPr>
            <a:xfrm>
              <a:off x="466560" y="5373720"/>
              <a:ext cx="649440" cy="142920"/>
              <a:chOff x="466560" y="5373720"/>
              <a:chExt cx="649440" cy="142920"/>
            </a:xfrm>
          </p:grpSpPr>
          <p:pic>
            <p:nvPicPr>
              <p:cNvPr id="880" name="Picture 28" descr="004-F-BW200"/>
              <p:cNvPicPr/>
              <p:nvPr/>
            </p:nvPicPr>
            <p:blipFill>
              <a:blip r:embed="rId8"/>
              <a:stretch/>
            </p:blipFill>
            <p:spPr>
              <a:xfrm>
                <a:off x="466560" y="5373720"/>
                <a:ext cx="202680" cy="141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1" name="Picture 29" descr="004-R-BW200"/>
              <p:cNvPicPr/>
              <p:nvPr/>
            </p:nvPicPr>
            <p:blipFill>
              <a:blip r:embed="rId9"/>
              <a:srcRect l="2946" t="11556" r="0" b="0"/>
              <a:stretch/>
            </p:blipFill>
            <p:spPr>
              <a:xfrm>
                <a:off x="689760" y="5373720"/>
                <a:ext cx="202680" cy="142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2" name="Picture 30" descr="004-F-100Q080"/>
              <p:cNvPicPr/>
              <p:nvPr/>
            </p:nvPicPr>
            <p:blipFill>
              <a:blip r:embed="rId10"/>
              <a:stretch/>
            </p:blipFill>
            <p:spPr>
              <a:xfrm>
                <a:off x="913320" y="5373720"/>
                <a:ext cx="202680" cy="141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83" name="Rectangle 31"/>
            <p:cNvSpPr/>
            <p:nvPr/>
          </p:nvSpPr>
          <p:spPr>
            <a:xfrm>
              <a:off x="468360" y="5156280"/>
              <a:ext cx="503280" cy="144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 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84" name="Text Box 32"/>
          <p:cNvSpPr/>
          <p:nvPr/>
        </p:nvSpPr>
        <p:spPr>
          <a:xfrm>
            <a:off x="2956320" y="59547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Send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5" name="Text Box 33"/>
          <p:cNvSpPr/>
          <p:nvPr/>
        </p:nvSpPr>
        <p:spPr>
          <a:xfrm>
            <a:off x="6386040" y="594828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ay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86" name="Picture 34" descr="CR25"/>
          <p:cNvPicPr/>
          <p:nvPr/>
        </p:nvPicPr>
        <p:blipFill>
          <a:blip r:embed="rId11">
            <a:lum contrast="-42000"/>
          </a:blip>
          <a:stretch/>
        </p:blipFill>
        <p:spPr>
          <a:xfrm>
            <a:off x="612720" y="4243320"/>
            <a:ext cx="646200" cy="5158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35" descr="CR25"/>
          <p:cNvPicPr/>
          <p:nvPr/>
        </p:nvPicPr>
        <p:blipFill>
          <a:blip r:embed="rId12">
            <a:lum contrast="-42000"/>
          </a:blip>
          <a:stretch/>
        </p:blipFill>
        <p:spPr>
          <a:xfrm>
            <a:off x="539640" y="5587920"/>
            <a:ext cx="574920" cy="459000"/>
          </a:xfrm>
          <a:prstGeom prst="rect">
            <a:avLst/>
          </a:prstGeom>
          <a:ln w="0">
            <a:noFill/>
          </a:ln>
        </p:spPr>
      </p:pic>
      <p:grpSp>
        <p:nvGrpSpPr>
          <p:cNvPr id="888" name="Group 36"/>
          <p:cNvGrpSpPr/>
          <p:nvPr/>
        </p:nvGrpSpPr>
        <p:grpSpPr>
          <a:xfrm>
            <a:off x="1908000" y="4386240"/>
            <a:ext cx="863640" cy="409680"/>
            <a:chOff x="1908000" y="4386240"/>
            <a:chExt cx="863640" cy="409680"/>
          </a:xfrm>
        </p:grpSpPr>
        <p:grpSp>
          <p:nvGrpSpPr>
            <p:cNvPr id="889" name="Group 37"/>
            <p:cNvGrpSpPr/>
            <p:nvPr/>
          </p:nvGrpSpPr>
          <p:grpSpPr>
            <a:xfrm>
              <a:off x="1908000" y="4651560"/>
              <a:ext cx="863640" cy="144360"/>
              <a:chOff x="1908000" y="4651560"/>
              <a:chExt cx="863640" cy="144360"/>
            </a:xfrm>
          </p:grpSpPr>
          <p:pic>
            <p:nvPicPr>
              <p:cNvPr id="890" name="Picture 38" descr="004-F-BW200"/>
              <p:cNvPicPr/>
              <p:nvPr/>
            </p:nvPicPr>
            <p:blipFill>
              <a:blip r:embed="rId13"/>
              <a:stretch/>
            </p:blipFill>
            <p:spPr>
              <a:xfrm>
                <a:off x="1908000" y="465156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91" name="Picture 39" descr="004-R-BW200"/>
              <p:cNvPicPr/>
              <p:nvPr/>
            </p:nvPicPr>
            <p:blipFill>
              <a:blip r:embed="rId14"/>
              <a:srcRect l="2975" t="11556" r="0" b="0"/>
              <a:stretch/>
            </p:blipFill>
            <p:spPr>
              <a:xfrm>
                <a:off x="2205000" y="4651560"/>
                <a:ext cx="269640" cy="144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92" name="Picture 40" descr="004-F-100Q080"/>
              <p:cNvPicPr/>
              <p:nvPr/>
            </p:nvPicPr>
            <p:blipFill>
              <a:blip r:embed="rId15"/>
              <a:stretch/>
            </p:blipFill>
            <p:spPr>
              <a:xfrm>
                <a:off x="2502000" y="465156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93" name="Rectangle 41"/>
            <p:cNvSpPr/>
            <p:nvPr/>
          </p:nvSpPr>
          <p:spPr>
            <a:xfrm>
              <a:off x="1908000" y="4386240"/>
              <a:ext cx="647640" cy="193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 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94" name="Group 42"/>
          <p:cNvGrpSpPr/>
          <p:nvPr/>
        </p:nvGrpSpPr>
        <p:grpSpPr>
          <a:xfrm>
            <a:off x="131040" y="2571840"/>
            <a:ext cx="3333960" cy="866160"/>
            <a:chOff x="131040" y="2571840"/>
            <a:chExt cx="3333960" cy="866160"/>
          </a:xfrm>
        </p:grpSpPr>
        <p:sp>
          <p:nvSpPr>
            <p:cNvPr id="895" name="AutoShape 43"/>
            <p:cNvSpPr/>
            <p:nvPr/>
          </p:nvSpPr>
          <p:spPr>
            <a:xfrm rot="16200000">
              <a:off x="1474920" y="1853640"/>
              <a:ext cx="504720" cy="266400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69480 h 2664000"/>
                <a:gd name="textAreaBottom" fmla="*/ 259452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6" name="Text Box 44"/>
            <p:cNvSpPr/>
            <p:nvPr/>
          </p:nvSpPr>
          <p:spPr>
            <a:xfrm>
              <a:off x="131040" y="25718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ธ</a:t>
              </a:r>
              <a:r>
                <a:rPr b="1" lang="th-TH" sz="2400" spc="-1" strike="noStrike">
                  <a:solidFill>
                    <a:srgbClr val="006600"/>
                  </a:solidFill>
                  <a:latin typeface="Browallia New"/>
                  <a:ea typeface="Browallia New"/>
                </a:rPr>
                <a:t>.</a:t>
              </a:r>
              <a:r>
                <a:rPr b="1" lang="th-TH" sz="2400" spc="-1" strike="noStrike">
                  <a:solidFill>
                    <a:srgbClr val="006600"/>
                  </a:solidFill>
                  <a:latin typeface="Browallia New"/>
                  <a:cs typeface="Browallia New"/>
                </a:rPr>
                <a:t>สมาชิกเป็นผู้รับผิดชอบ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97" name="Group 45"/>
          <p:cNvGrpSpPr/>
          <p:nvPr/>
        </p:nvGrpSpPr>
        <p:grpSpPr>
          <a:xfrm>
            <a:off x="3419640" y="2573280"/>
            <a:ext cx="4248000" cy="864720"/>
            <a:chOff x="3419640" y="2573280"/>
            <a:chExt cx="4248000" cy="864720"/>
          </a:xfrm>
        </p:grpSpPr>
        <p:sp>
          <p:nvSpPr>
            <p:cNvPr id="898" name="AutoShape 46"/>
            <p:cNvSpPr/>
            <p:nvPr/>
          </p:nvSpPr>
          <p:spPr>
            <a:xfrm rot="16200000">
              <a:off x="5291280" y="1061640"/>
              <a:ext cx="504720" cy="424800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10520 h 4248000"/>
                <a:gd name="textAreaBottom" fmla="*/ 4137480 h 42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9" name="Text Box 47"/>
            <p:cNvSpPr/>
            <p:nvPr/>
          </p:nvSpPr>
          <p:spPr>
            <a:xfrm>
              <a:off x="3999600" y="257328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99"/>
                  </a:solidFill>
                  <a:latin typeface="Browallia New"/>
                  <a:cs typeface="Browallia New"/>
                </a:rPr>
                <a:t>ระบบ </a:t>
              </a:r>
              <a:r>
                <a:rPr b="1" lang="en-US" sz="2400" spc="-1" strike="noStrike">
                  <a:solidFill>
                    <a:srgbClr val="333399"/>
                  </a:solidFill>
                  <a:latin typeface="Browallia New"/>
                  <a:ea typeface="Browallia New"/>
                </a:rPr>
                <a:t>ICS </a:t>
              </a:r>
              <a:r>
                <a:rPr b="1" lang="th-TH" sz="2400" spc="-1" strike="noStrike">
                  <a:solidFill>
                    <a:srgbClr val="333399"/>
                  </a:solidFill>
                  <a:latin typeface="Browallia New"/>
                  <a:cs typeface="Browallia New"/>
                </a:rPr>
                <a:t>เป็นผู้รับผิดชอบ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900" name="Line 48"/>
          <p:cNvSpPr/>
          <p:nvPr/>
        </p:nvSpPr>
        <p:spPr>
          <a:xfrm>
            <a:off x="1908000" y="47228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1" name="Rectangle 49"/>
          <p:cNvSpPr/>
          <p:nvPr/>
        </p:nvSpPr>
        <p:spPr>
          <a:xfrm>
            <a:off x="358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End-to-end Data Integrity Control &amp; Non-repudiation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4"/>
          <p:cNvSpPr/>
          <p:nvPr/>
        </p:nvSpPr>
        <p:spPr>
          <a:xfrm>
            <a:off x="6659640" y="3933720"/>
            <a:ext cx="230508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250920" y="3933720"/>
            <a:ext cx="3960720" cy="273528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04" name="Group 6"/>
          <p:cNvGrpSpPr/>
          <p:nvPr/>
        </p:nvGrpSpPr>
        <p:grpSpPr>
          <a:xfrm>
            <a:off x="179280" y="1052640"/>
            <a:ext cx="6190200" cy="2968200"/>
            <a:chOff x="179280" y="1052640"/>
            <a:chExt cx="6190200" cy="2968200"/>
          </a:xfrm>
        </p:grpSpPr>
        <p:sp>
          <p:nvSpPr>
            <p:cNvPr id="905" name="AutoShape 7"/>
            <p:cNvSpPr/>
            <p:nvPr/>
          </p:nvSpPr>
          <p:spPr>
            <a:xfrm>
              <a:off x="179280" y="1052640"/>
              <a:ext cx="6121440" cy="2952720"/>
            </a:xfrm>
            <a:prstGeom prst="wedgeRoundRectCallout">
              <a:avLst>
                <a:gd name="adj1" fmla="val 6666"/>
                <a:gd name="adj2" fmla="val 59569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906" name="Group 8"/>
            <p:cNvGrpSpPr/>
            <p:nvPr/>
          </p:nvGrpSpPr>
          <p:grpSpPr>
            <a:xfrm>
              <a:off x="3492360" y="1484280"/>
              <a:ext cx="2592360" cy="2077560"/>
              <a:chOff x="3492360" y="1484280"/>
              <a:chExt cx="2592360" cy="2077560"/>
            </a:xfrm>
          </p:grpSpPr>
          <p:sp>
            <p:nvSpPr>
              <p:cNvPr id="907" name="Rectangle 9"/>
              <p:cNvSpPr/>
              <p:nvPr/>
            </p:nvSpPr>
            <p:spPr>
              <a:xfrm>
                <a:off x="3501720" y="1519200"/>
                <a:ext cx="2583000" cy="1909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08" name="Text Box 10"/>
              <p:cNvSpPr/>
              <p:nvPr/>
            </p:nvSpPr>
            <p:spPr>
              <a:xfrm>
                <a:off x="3503520" y="1484280"/>
                <a:ext cx="2509560" cy="12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Browallia New"/>
                    <a:ea typeface="Browallia New"/>
                  </a:rPr>
                  <a:t>Normal Out-clearing Batch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909" name="Group 11"/>
              <p:cNvGrpSpPr/>
              <p:nvPr/>
            </p:nvGrpSpPr>
            <p:grpSpPr>
              <a:xfrm>
                <a:off x="3492360" y="1803240"/>
                <a:ext cx="1237680" cy="1404000"/>
                <a:chOff x="3492360" y="1803240"/>
                <a:chExt cx="1237680" cy="1404000"/>
              </a:xfrm>
            </p:grpSpPr>
            <p:sp>
              <p:nvSpPr>
                <p:cNvPr id="910" name="Rectangle 12"/>
                <p:cNvSpPr/>
                <p:nvPr/>
              </p:nvSpPr>
              <p:spPr>
                <a:xfrm>
                  <a:off x="3556440" y="1828440"/>
                  <a:ext cx="1119960" cy="12060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1" name="Rectangle 13"/>
                <p:cNvSpPr/>
                <p:nvPr/>
              </p:nvSpPr>
              <p:spPr>
                <a:xfrm>
                  <a:off x="3595320" y="217728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2" name="Rectangle 14"/>
                <p:cNvSpPr/>
                <p:nvPr/>
              </p:nvSpPr>
              <p:spPr>
                <a:xfrm>
                  <a:off x="3595320" y="234072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3" name="Rectangle 15"/>
                <p:cNvSpPr/>
                <p:nvPr/>
              </p:nvSpPr>
              <p:spPr>
                <a:xfrm>
                  <a:off x="3595320" y="250416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4" name="Rectangle 16"/>
                <p:cNvSpPr/>
                <p:nvPr/>
              </p:nvSpPr>
              <p:spPr>
                <a:xfrm>
                  <a:off x="3595320" y="266580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5" name="Rectangle 17"/>
                <p:cNvSpPr/>
                <p:nvPr/>
              </p:nvSpPr>
              <p:spPr>
                <a:xfrm>
                  <a:off x="3595320" y="282924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6" name="Rectangle 18"/>
                <p:cNvSpPr/>
                <p:nvPr/>
              </p:nvSpPr>
              <p:spPr>
                <a:xfrm>
                  <a:off x="3595320" y="2013840"/>
                  <a:ext cx="103788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7" name="Text Box 19"/>
                <p:cNvSpPr/>
                <p:nvPr/>
              </p:nvSpPr>
              <p:spPr>
                <a:xfrm>
                  <a:off x="3661560" y="1987200"/>
                  <a:ext cx="88056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Control Record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8" name="Text Box 20"/>
                <p:cNvSpPr/>
                <p:nvPr/>
              </p:nvSpPr>
              <p:spPr>
                <a:xfrm>
                  <a:off x="3752280" y="1803240"/>
                  <a:ext cx="6804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ata Fi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19" name="Text Box 21"/>
                <p:cNvSpPr/>
                <p:nvPr/>
              </p:nvSpPr>
              <p:spPr>
                <a:xfrm>
                  <a:off x="3492360" y="215496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0" name="Text Box 22"/>
                <p:cNvSpPr/>
                <p:nvPr/>
              </p:nvSpPr>
              <p:spPr>
                <a:xfrm>
                  <a:off x="3493800" y="232272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1" name="Text Box 23"/>
                <p:cNvSpPr/>
                <p:nvPr/>
              </p:nvSpPr>
              <p:spPr>
                <a:xfrm>
                  <a:off x="3493800" y="247860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2" name="Text Box 24"/>
                <p:cNvSpPr/>
                <p:nvPr/>
              </p:nvSpPr>
              <p:spPr>
                <a:xfrm>
                  <a:off x="3493800" y="264888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3" name="Text Box 25"/>
                <p:cNvSpPr/>
                <p:nvPr/>
              </p:nvSpPr>
              <p:spPr>
                <a:xfrm>
                  <a:off x="3493800" y="281232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4" name="Rectangle 26"/>
                <p:cNvSpPr/>
                <p:nvPr/>
              </p:nvSpPr>
              <p:spPr>
                <a:xfrm>
                  <a:off x="4275720" y="217872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5" name="Rectangle 27"/>
                <p:cNvSpPr/>
                <p:nvPr/>
              </p:nvSpPr>
              <p:spPr>
                <a:xfrm>
                  <a:off x="4275720" y="234072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6" name="Rectangle 28"/>
                <p:cNvSpPr/>
                <p:nvPr/>
              </p:nvSpPr>
              <p:spPr>
                <a:xfrm>
                  <a:off x="4275720" y="250416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7" name="Rectangle 29"/>
                <p:cNvSpPr/>
                <p:nvPr/>
              </p:nvSpPr>
              <p:spPr>
                <a:xfrm>
                  <a:off x="4275720" y="266580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8" name="Rectangle 30"/>
                <p:cNvSpPr/>
                <p:nvPr/>
              </p:nvSpPr>
              <p:spPr>
                <a:xfrm>
                  <a:off x="4275720" y="283068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29" name="Text Box 31"/>
                <p:cNvSpPr/>
                <p:nvPr/>
              </p:nvSpPr>
              <p:spPr>
                <a:xfrm>
                  <a:off x="4181400" y="215748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30" name="Text Box 32"/>
                <p:cNvSpPr/>
                <p:nvPr/>
              </p:nvSpPr>
              <p:spPr>
                <a:xfrm>
                  <a:off x="4181400" y="232272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31" name="Text Box 33"/>
                <p:cNvSpPr/>
                <p:nvPr/>
              </p:nvSpPr>
              <p:spPr>
                <a:xfrm>
                  <a:off x="4184640" y="248040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32" name="Text Box 34"/>
                <p:cNvSpPr/>
                <p:nvPr/>
              </p:nvSpPr>
              <p:spPr>
                <a:xfrm>
                  <a:off x="4187520" y="264780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33" name="Text Box 35"/>
                <p:cNvSpPr/>
                <p:nvPr/>
              </p:nvSpPr>
              <p:spPr>
                <a:xfrm>
                  <a:off x="4187520" y="281124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934" name="Rectangle 36"/>
              <p:cNvSpPr/>
              <p:nvPr/>
            </p:nvSpPr>
            <p:spPr>
              <a:xfrm>
                <a:off x="3570120" y="3038400"/>
                <a:ext cx="1092240" cy="2538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5" name="Text Box 37"/>
              <p:cNvSpPr/>
              <p:nvPr/>
            </p:nvSpPr>
            <p:spPr>
              <a:xfrm>
                <a:off x="3549240" y="3041640"/>
                <a:ext cx="1152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Browallia New"/>
                    <a:ea typeface="Browallia New"/>
                  </a:rPr>
                  <a:t>Digital Signature Sending Bank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6" name="Rectangle 38"/>
              <p:cNvSpPr/>
              <p:nvPr/>
            </p:nvSpPr>
            <p:spPr>
              <a:xfrm>
                <a:off x="3563640" y="2001600"/>
                <a:ext cx="1079640" cy="1036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937" name="Group 39"/>
              <p:cNvGrpSpPr/>
              <p:nvPr/>
            </p:nvGrpSpPr>
            <p:grpSpPr>
              <a:xfrm>
                <a:off x="4716360" y="1927080"/>
                <a:ext cx="1331640" cy="259920"/>
                <a:chOff x="4716360" y="1927080"/>
                <a:chExt cx="1331640" cy="259920"/>
              </a:xfrm>
            </p:grpSpPr>
            <p:grpSp>
              <p:nvGrpSpPr>
                <p:cNvPr id="938" name="Group 40"/>
                <p:cNvGrpSpPr/>
                <p:nvPr/>
              </p:nvGrpSpPr>
              <p:grpSpPr>
                <a:xfrm>
                  <a:off x="4752360" y="1956600"/>
                  <a:ext cx="1254960" cy="197280"/>
                  <a:chOff x="4752360" y="1956600"/>
                  <a:chExt cx="1254960" cy="197280"/>
                </a:xfrm>
              </p:grpSpPr>
              <p:pic>
                <p:nvPicPr>
                  <p:cNvPr id="939" name="Picture 41" descr="004-F-BW200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752360" y="1956600"/>
                    <a:ext cx="39204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40" name="Picture 42" descr="004-R-BW200"/>
                  <p:cNvPicPr/>
                  <p:nvPr/>
                </p:nvPicPr>
                <p:blipFill>
                  <a:blip r:embed="rId2"/>
                  <a:srcRect l="2949" t="11557" r="0" b="0"/>
                  <a:stretch/>
                </p:blipFill>
                <p:spPr>
                  <a:xfrm>
                    <a:off x="5184000" y="1956600"/>
                    <a:ext cx="391680" cy="19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41" name="Picture 43" descr="004-F-100Q080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5640" y="195660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942" name="Rectangle 44"/>
                <p:cNvSpPr/>
                <p:nvPr/>
              </p:nvSpPr>
              <p:spPr>
                <a:xfrm>
                  <a:off x="4716360" y="1927080"/>
                  <a:ext cx="1331640" cy="259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943" name="Group 45"/>
              <p:cNvGrpSpPr/>
              <p:nvPr/>
            </p:nvGrpSpPr>
            <p:grpSpPr>
              <a:xfrm>
                <a:off x="4716360" y="2187360"/>
                <a:ext cx="1331640" cy="258480"/>
                <a:chOff x="4716360" y="2187360"/>
                <a:chExt cx="1331640" cy="258480"/>
              </a:xfrm>
            </p:grpSpPr>
            <p:grpSp>
              <p:nvGrpSpPr>
                <p:cNvPr id="944" name="Group 46"/>
                <p:cNvGrpSpPr/>
                <p:nvPr/>
              </p:nvGrpSpPr>
              <p:grpSpPr>
                <a:xfrm>
                  <a:off x="4752360" y="2216880"/>
                  <a:ext cx="1254960" cy="196200"/>
                  <a:chOff x="4752360" y="2216880"/>
                  <a:chExt cx="1254960" cy="196200"/>
                </a:xfrm>
              </p:grpSpPr>
              <p:pic>
                <p:nvPicPr>
                  <p:cNvPr id="945" name="Picture 47" descr="004-F-BW200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360" y="221688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46" name="Picture 48" descr="004-R-BW200"/>
                  <p:cNvPicPr/>
                  <p:nvPr/>
                </p:nvPicPr>
                <p:blipFill>
                  <a:blip r:embed="rId5"/>
                  <a:srcRect l="2949" t="11557" r="0" b="0"/>
                  <a:stretch/>
                </p:blipFill>
                <p:spPr>
                  <a:xfrm>
                    <a:off x="5184000" y="221688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47" name="Picture 49" descr="004-F-100Q080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5640" y="221688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948" name="Rectangle 50"/>
                <p:cNvSpPr/>
                <p:nvPr/>
              </p:nvSpPr>
              <p:spPr>
                <a:xfrm>
                  <a:off x="4716360" y="218736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949" name="Group 51"/>
              <p:cNvGrpSpPr/>
              <p:nvPr/>
            </p:nvGrpSpPr>
            <p:grpSpPr>
              <a:xfrm>
                <a:off x="4716360" y="2446200"/>
                <a:ext cx="1331640" cy="258480"/>
                <a:chOff x="4716360" y="2446200"/>
                <a:chExt cx="1331640" cy="258480"/>
              </a:xfrm>
            </p:grpSpPr>
            <p:grpSp>
              <p:nvGrpSpPr>
                <p:cNvPr id="950" name="Group 52"/>
                <p:cNvGrpSpPr/>
                <p:nvPr/>
              </p:nvGrpSpPr>
              <p:grpSpPr>
                <a:xfrm>
                  <a:off x="4752360" y="2475720"/>
                  <a:ext cx="1254960" cy="196200"/>
                  <a:chOff x="4752360" y="2475720"/>
                  <a:chExt cx="1254960" cy="196200"/>
                </a:xfrm>
              </p:grpSpPr>
              <p:pic>
                <p:nvPicPr>
                  <p:cNvPr id="951" name="Picture 53" descr="004-F-BW200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2360" y="247572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52" name="Picture 54" descr="004-R-BW200"/>
                  <p:cNvPicPr/>
                  <p:nvPr/>
                </p:nvPicPr>
                <p:blipFill>
                  <a:blip r:embed="rId8"/>
                  <a:srcRect l="2949" t="11557" r="0" b="0"/>
                  <a:stretch/>
                </p:blipFill>
                <p:spPr>
                  <a:xfrm>
                    <a:off x="5184000" y="247572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53" name="Picture 55" descr="004-F-100Q080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15640" y="247572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954" name="Rectangle 56"/>
                <p:cNvSpPr/>
                <p:nvPr/>
              </p:nvSpPr>
              <p:spPr>
                <a:xfrm>
                  <a:off x="4716360" y="244620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955" name="Group 57"/>
              <p:cNvGrpSpPr/>
              <p:nvPr/>
            </p:nvGrpSpPr>
            <p:grpSpPr>
              <a:xfrm>
                <a:off x="4716360" y="2703240"/>
                <a:ext cx="1331640" cy="258480"/>
                <a:chOff x="4716360" y="2703240"/>
                <a:chExt cx="1331640" cy="258480"/>
              </a:xfrm>
            </p:grpSpPr>
            <p:grpSp>
              <p:nvGrpSpPr>
                <p:cNvPr id="956" name="Group 58"/>
                <p:cNvGrpSpPr/>
                <p:nvPr/>
              </p:nvGrpSpPr>
              <p:grpSpPr>
                <a:xfrm>
                  <a:off x="4752360" y="2732760"/>
                  <a:ext cx="1254960" cy="196200"/>
                  <a:chOff x="4752360" y="2732760"/>
                  <a:chExt cx="1254960" cy="196200"/>
                </a:xfrm>
              </p:grpSpPr>
              <p:pic>
                <p:nvPicPr>
                  <p:cNvPr id="957" name="Picture 59" descr="004-F-BW200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52360" y="273276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58" name="Picture 60" descr="004-R-BW200"/>
                  <p:cNvPicPr/>
                  <p:nvPr/>
                </p:nvPicPr>
                <p:blipFill>
                  <a:blip r:embed="rId11"/>
                  <a:srcRect l="2949" t="11557" r="0" b="0"/>
                  <a:stretch/>
                </p:blipFill>
                <p:spPr>
                  <a:xfrm>
                    <a:off x="5184000" y="273276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59" name="Picture 61" descr="004-F-100Q080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15640" y="273276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960" name="Rectangle 62"/>
                <p:cNvSpPr/>
                <p:nvPr/>
              </p:nvSpPr>
              <p:spPr>
                <a:xfrm>
                  <a:off x="4716360" y="270324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961" name="Group 63"/>
              <p:cNvGrpSpPr/>
              <p:nvPr/>
            </p:nvGrpSpPr>
            <p:grpSpPr>
              <a:xfrm>
                <a:off x="4716360" y="2962080"/>
                <a:ext cx="1331640" cy="259920"/>
                <a:chOff x="4716360" y="2962080"/>
                <a:chExt cx="1331640" cy="259920"/>
              </a:xfrm>
            </p:grpSpPr>
            <p:grpSp>
              <p:nvGrpSpPr>
                <p:cNvPr id="962" name="Group 64"/>
                <p:cNvGrpSpPr/>
                <p:nvPr/>
              </p:nvGrpSpPr>
              <p:grpSpPr>
                <a:xfrm>
                  <a:off x="4752360" y="2991600"/>
                  <a:ext cx="1254960" cy="197280"/>
                  <a:chOff x="4752360" y="2991600"/>
                  <a:chExt cx="1254960" cy="197280"/>
                </a:xfrm>
              </p:grpSpPr>
              <p:pic>
                <p:nvPicPr>
                  <p:cNvPr id="963" name="Picture 65" descr="004-F-BW200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52360" y="2991600"/>
                    <a:ext cx="39204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64" name="Picture 66" descr="004-R-BW200"/>
                  <p:cNvPicPr/>
                  <p:nvPr/>
                </p:nvPicPr>
                <p:blipFill>
                  <a:blip r:embed="rId14"/>
                  <a:srcRect l="2949" t="11557" r="0" b="0"/>
                  <a:stretch/>
                </p:blipFill>
                <p:spPr>
                  <a:xfrm>
                    <a:off x="5184000" y="2991600"/>
                    <a:ext cx="391680" cy="19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965" name="Picture 67" descr="004-F-100Q080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15640" y="299160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966" name="Rectangle 68"/>
                <p:cNvSpPr/>
                <p:nvPr/>
              </p:nvSpPr>
              <p:spPr>
                <a:xfrm>
                  <a:off x="4716360" y="2962080"/>
                  <a:ext cx="1331640" cy="259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967" name="Text Box 69"/>
            <p:cNvSpPr/>
            <p:nvPr/>
          </p:nvSpPr>
          <p:spPr>
            <a:xfrm>
              <a:off x="3066840" y="3500280"/>
              <a:ext cx="33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Browallia New"/>
                  <a:ea typeface="Browallia New"/>
                </a:rPr>
                <a:t>Data Preparation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68" name="Group 70"/>
          <p:cNvGrpSpPr/>
          <p:nvPr/>
        </p:nvGrpSpPr>
        <p:grpSpPr>
          <a:xfrm>
            <a:off x="1908000" y="1197000"/>
            <a:ext cx="4176720" cy="2303280"/>
            <a:chOff x="1908000" y="1197000"/>
            <a:chExt cx="4176720" cy="2303280"/>
          </a:xfrm>
        </p:grpSpPr>
        <p:grpSp>
          <p:nvGrpSpPr>
            <p:cNvPr id="969" name="Group 71"/>
            <p:cNvGrpSpPr/>
            <p:nvPr/>
          </p:nvGrpSpPr>
          <p:grpSpPr>
            <a:xfrm>
              <a:off x="3132000" y="1197000"/>
              <a:ext cx="1152720" cy="2231640"/>
              <a:chOff x="3132000" y="1197000"/>
              <a:chExt cx="1152720" cy="2231640"/>
            </a:xfrm>
          </p:grpSpPr>
          <p:sp>
            <p:nvSpPr>
              <p:cNvPr id="970" name="Line 72"/>
              <p:cNvSpPr/>
              <p:nvPr/>
            </p:nvSpPr>
            <p:spPr>
              <a:xfrm>
                <a:off x="3132000" y="1197000"/>
                <a:ext cx="1152720" cy="100800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71" name="Line 73"/>
              <p:cNvSpPr/>
              <p:nvPr/>
            </p:nvSpPr>
            <p:spPr>
              <a:xfrm flipV="1">
                <a:off x="3203640" y="2349000"/>
                <a:ext cx="1081080" cy="107964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72" name="Group 74"/>
            <p:cNvGrpSpPr/>
            <p:nvPr/>
          </p:nvGrpSpPr>
          <p:grpSpPr>
            <a:xfrm>
              <a:off x="1908000" y="1197000"/>
              <a:ext cx="4176720" cy="2303280"/>
              <a:chOff x="1908000" y="1197000"/>
              <a:chExt cx="4176720" cy="2303280"/>
            </a:xfrm>
          </p:grpSpPr>
          <p:grpSp>
            <p:nvGrpSpPr>
              <p:cNvPr id="973" name="Group 75"/>
              <p:cNvGrpSpPr/>
              <p:nvPr/>
            </p:nvGrpSpPr>
            <p:grpSpPr>
              <a:xfrm>
                <a:off x="4284720" y="1916280"/>
                <a:ext cx="1800000" cy="431640"/>
                <a:chOff x="4284720" y="1916280"/>
                <a:chExt cx="1800000" cy="431640"/>
              </a:xfrm>
            </p:grpSpPr>
            <p:sp>
              <p:nvSpPr>
                <p:cNvPr id="974" name="AutoShape 76"/>
                <p:cNvSpPr/>
                <p:nvPr/>
              </p:nvSpPr>
              <p:spPr>
                <a:xfrm>
                  <a:off x="4284720" y="2205000"/>
                  <a:ext cx="358560" cy="1429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75" name="AutoShape 77"/>
                <p:cNvSpPr/>
                <p:nvPr/>
              </p:nvSpPr>
              <p:spPr>
                <a:xfrm>
                  <a:off x="4716360" y="1916280"/>
                  <a:ext cx="1368360" cy="2887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976" name="Group 78"/>
              <p:cNvGrpSpPr/>
              <p:nvPr/>
            </p:nvGrpSpPr>
            <p:grpSpPr>
              <a:xfrm>
                <a:off x="1908000" y="1197000"/>
                <a:ext cx="1368720" cy="2303280"/>
                <a:chOff x="1908000" y="1197000"/>
                <a:chExt cx="1368720" cy="2303280"/>
              </a:xfrm>
            </p:grpSpPr>
            <p:sp>
              <p:nvSpPr>
                <p:cNvPr id="977" name="AutoShape 79"/>
                <p:cNvSpPr/>
                <p:nvPr/>
              </p:nvSpPr>
              <p:spPr>
                <a:xfrm>
                  <a:off x="1908000" y="1197000"/>
                  <a:ext cx="1368720" cy="2303280"/>
                </a:xfrm>
                <a:custGeom>
                  <a:avLst/>
                  <a:gdLst>
                    <a:gd name="textAreaLeft" fmla="*/ 66600 w 1368720"/>
                    <a:gd name="textAreaRight" fmla="*/ 1302120 w 1368720"/>
                    <a:gd name="textAreaTop" fmla="*/ 66600 h 2303280"/>
                    <a:gd name="textAreaBottom" fmla="*/ 2236680 h 2303280"/>
                  </a:gdLst>
                  <a:ahLst/>
                  <a:rect l="textAreaLeft" t="textAreaTop" r="textAreaRight" b="textAreaBottom"/>
                  <a:pathLst>
                    <a:path w="21600" h="36345">
                      <a:moveTo>
                        <a:pt x="3600" y="0"/>
                      </a:moveTo>
                      <a:arcTo wR="3600" hR="3600" stAng="16200000" swAng="-5400000"/>
                      <a:lnTo>
                        <a:pt x="0" y="32745"/>
                      </a:lnTo>
                      <a:arcTo wR="3600" hR="3600" stAng="10800000" swAng="-5400000"/>
                      <a:lnTo>
                        <a:pt x="18000" y="3634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978" name="Group 80"/>
                <p:cNvGrpSpPr/>
                <p:nvPr/>
              </p:nvGrpSpPr>
              <p:grpSpPr>
                <a:xfrm>
                  <a:off x="1981080" y="1341360"/>
                  <a:ext cx="1223640" cy="2016000"/>
                  <a:chOff x="1981080" y="1341360"/>
                  <a:chExt cx="1223640" cy="2016000"/>
                </a:xfrm>
              </p:grpSpPr>
              <p:sp>
                <p:nvSpPr>
                  <p:cNvPr id="979" name="Rectangle 81"/>
                  <p:cNvSpPr/>
                  <p:nvPr/>
                </p:nvSpPr>
                <p:spPr>
                  <a:xfrm>
                    <a:off x="2268360" y="3070080"/>
                    <a:ext cx="647640" cy="28728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Browallia New"/>
                        <a:ea typeface="Browallia New"/>
                      </a:rPr>
                      <a:t>Hash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980" name="Text Box 82"/>
                  <p:cNvSpPr/>
                  <p:nvPr/>
                </p:nvSpPr>
                <p:spPr>
                  <a:xfrm>
                    <a:off x="2054160" y="2400120"/>
                    <a:ext cx="1137960" cy="38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Hash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(SHA-256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981" name="Line 83"/>
                  <p:cNvSpPr/>
                  <p:nvPr/>
                </p:nvSpPr>
                <p:spPr>
                  <a:xfrm>
                    <a:off x="2626920" y="2768400"/>
                    <a:ext cx="0" cy="254160"/>
                  </a:xfrm>
                  <a:prstGeom prst="line">
                    <a:avLst/>
                  </a:prstGeom>
                  <a:ln w="381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grpSp>
                <p:nvGrpSpPr>
                  <p:cNvPr id="982" name="Group 84"/>
                  <p:cNvGrpSpPr/>
                  <p:nvPr/>
                </p:nvGrpSpPr>
                <p:grpSpPr>
                  <a:xfrm>
                    <a:off x="2052360" y="1414440"/>
                    <a:ext cx="1079280" cy="169560"/>
                    <a:chOff x="2052360" y="1414440"/>
                    <a:chExt cx="1079280" cy="169560"/>
                  </a:xfrm>
                </p:grpSpPr>
                <p:pic>
                  <p:nvPicPr>
                    <p:cNvPr id="983" name="Picture 85" descr="004-F-BW200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2360" y="1414440"/>
                      <a:ext cx="337320" cy="168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  <p:pic>
                  <p:nvPicPr>
                    <p:cNvPr id="984" name="Picture 86" descr="004-R-BW200"/>
                    <p:cNvPicPr/>
                    <p:nvPr/>
                  </p:nvPicPr>
                  <p:blipFill>
                    <a:blip r:embed="rId17"/>
                    <a:srcRect l="2890" t="11676" r="0" b="0"/>
                    <a:stretch/>
                  </p:blipFill>
                  <p:spPr>
                    <a:xfrm>
                      <a:off x="2423520" y="1414440"/>
                      <a:ext cx="336960" cy="1695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  <p:pic>
                  <p:nvPicPr>
                    <p:cNvPr id="985" name="Picture 87" descr="004-F-100Q080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94680" y="1414440"/>
                      <a:ext cx="336960" cy="168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grpSp>
              <p:sp>
                <p:nvSpPr>
                  <p:cNvPr id="986" name="Line 88"/>
                  <p:cNvSpPr/>
                  <p:nvPr/>
                </p:nvSpPr>
                <p:spPr>
                  <a:xfrm>
                    <a:off x="2626920" y="1668240"/>
                    <a:ext cx="0" cy="255600"/>
                  </a:xfrm>
                  <a:prstGeom prst="line">
                    <a:avLst/>
                  </a:prstGeom>
                  <a:ln w="381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987" name="AutoShape 89"/>
                  <p:cNvSpPr/>
                  <p:nvPr/>
                </p:nvSpPr>
                <p:spPr>
                  <a:xfrm>
                    <a:off x="2339640" y="1946160"/>
                    <a:ext cx="503280" cy="431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997a3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pic>
                <p:nvPicPr>
                  <p:cNvPr id="988" name="Picture 90" descr="MCSY00846_0000[1]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11280" y="1989000"/>
                    <a:ext cx="3585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9" name="AutoShape 91"/>
                  <p:cNvSpPr/>
                  <p:nvPr/>
                </p:nvSpPr>
                <p:spPr>
                  <a:xfrm>
                    <a:off x="1981080" y="1341360"/>
                    <a:ext cx="1223640" cy="2887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</p:grpSp>
        </p:grpSp>
      </p:grpSp>
      <p:grpSp>
        <p:nvGrpSpPr>
          <p:cNvPr id="990" name="Group 92"/>
          <p:cNvGrpSpPr/>
          <p:nvPr/>
        </p:nvGrpSpPr>
        <p:grpSpPr>
          <a:xfrm>
            <a:off x="147960" y="1125360"/>
            <a:ext cx="4568400" cy="2717640"/>
            <a:chOff x="147960" y="1125360"/>
            <a:chExt cx="4568400" cy="2717640"/>
          </a:xfrm>
        </p:grpSpPr>
        <p:sp>
          <p:nvSpPr>
            <p:cNvPr id="991" name="AutoShape 93"/>
            <p:cNvSpPr/>
            <p:nvPr/>
          </p:nvSpPr>
          <p:spPr>
            <a:xfrm>
              <a:off x="3492360" y="2995560"/>
              <a:ext cx="1224000" cy="324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992" name="Group 94"/>
            <p:cNvGrpSpPr/>
            <p:nvPr/>
          </p:nvGrpSpPr>
          <p:grpSpPr>
            <a:xfrm>
              <a:off x="147960" y="1125360"/>
              <a:ext cx="2695320" cy="2717640"/>
              <a:chOff x="147960" y="1125360"/>
              <a:chExt cx="2695320" cy="2717640"/>
            </a:xfrm>
          </p:grpSpPr>
          <p:sp>
            <p:nvSpPr>
              <p:cNvPr id="993" name="AutoShape 95"/>
              <p:cNvSpPr/>
              <p:nvPr/>
            </p:nvSpPr>
            <p:spPr>
              <a:xfrm>
                <a:off x="395280" y="1125360"/>
                <a:ext cx="2448000" cy="2664000"/>
              </a:xfrm>
              <a:custGeom>
                <a:avLst/>
                <a:gdLst>
                  <a:gd name="textAreaLeft" fmla="*/ 119520 w 2448000"/>
                  <a:gd name="textAreaRight" fmla="*/ 2328480 w 2448000"/>
                  <a:gd name="textAreaTop" fmla="*/ 119520 h 2664000"/>
                  <a:gd name="textAreaBottom" fmla="*/ 2544480 h 2664000"/>
                </a:gdLst>
                <a:ahLst/>
                <a:rect l="textAreaLeft" t="textAreaTop" r="textAreaRight" b="textAreaBottom"/>
                <a:pathLst>
                  <a:path w="21600" h="23506">
                    <a:moveTo>
                      <a:pt x="3600" y="0"/>
                    </a:moveTo>
                    <a:arcTo wR="3600" hR="3600" stAng="16200000" swAng="-5400000"/>
                    <a:lnTo>
                      <a:pt x="0" y="19906"/>
                    </a:lnTo>
                    <a:arcTo wR="3600" hR="3600" stAng="10800000" swAng="-5400000"/>
                    <a:lnTo>
                      <a:pt x="18000" y="235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994" name="Group 96"/>
              <p:cNvGrpSpPr/>
              <p:nvPr/>
            </p:nvGrpSpPr>
            <p:grpSpPr>
              <a:xfrm>
                <a:off x="147960" y="1197000"/>
                <a:ext cx="2423880" cy="2646000"/>
                <a:chOff x="147960" y="1197000"/>
                <a:chExt cx="2423880" cy="2646000"/>
              </a:xfrm>
            </p:grpSpPr>
            <p:sp>
              <p:nvSpPr>
                <p:cNvPr id="995" name="Line 97"/>
                <p:cNvSpPr/>
                <p:nvPr/>
              </p:nvSpPr>
              <p:spPr>
                <a:xfrm>
                  <a:off x="1906560" y="213372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996" name="Group 98"/>
                <p:cNvGrpSpPr/>
                <p:nvPr/>
              </p:nvGrpSpPr>
              <p:grpSpPr>
                <a:xfrm>
                  <a:off x="147960" y="2062080"/>
                  <a:ext cx="1564560" cy="726480"/>
                  <a:chOff x="147960" y="2062080"/>
                  <a:chExt cx="1564560" cy="726480"/>
                </a:xfrm>
              </p:grpSpPr>
              <p:pic>
                <p:nvPicPr>
                  <p:cNvPr id="997" name="Picture 99" descr="MCj04040070000[1]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1520" y="2062080"/>
                    <a:ext cx="360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8" name="Text Box 100"/>
                  <p:cNvSpPr/>
                  <p:nvPr/>
                </p:nvSpPr>
                <p:spPr>
                  <a:xfrm>
                    <a:off x="147960" y="2403000"/>
                    <a:ext cx="1564560" cy="38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Private ke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Sending Ban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sp>
              <p:nvSpPr>
                <p:cNvPr id="999" name="Line 101"/>
                <p:cNvSpPr/>
                <p:nvPr/>
              </p:nvSpPr>
              <p:spPr>
                <a:xfrm>
                  <a:off x="1922400" y="303516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pic>
              <p:nvPicPr>
                <p:cNvPr id="1000" name="Picture 10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419120" y="1197000"/>
                  <a:ext cx="1008000" cy="85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1" name="Rectangle 103"/>
                <p:cNvSpPr/>
                <p:nvPr/>
              </p:nvSpPr>
              <p:spPr>
                <a:xfrm>
                  <a:off x="1346040" y="2832120"/>
                  <a:ext cx="122580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58680"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Digital Sign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02" name="Text Box 104"/>
                <p:cNvSpPr/>
                <p:nvPr/>
              </p:nvSpPr>
              <p:spPr>
                <a:xfrm>
                  <a:off x="1346040" y="3322800"/>
                  <a:ext cx="1152720" cy="520200"/>
                </a:xfrm>
                <a:prstGeom prst="rect">
                  <a:avLst/>
                </a:prstGeom>
                <a:solidFill>
                  <a:srgbClr val="cc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Browallia New"/>
                      <a:ea typeface="Browallia New"/>
                    </a:rPr>
                    <a:t>Digital Signature Sending Bank</a:t>
                  </a:r>
                  <a:endParaRPr b="0" lang="en-US" sz="1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03" name="Line 105"/>
                <p:cNvSpPr/>
                <p:nvPr/>
              </p:nvSpPr>
              <p:spPr>
                <a:xfrm>
                  <a:off x="1274760" y="2354400"/>
                  <a:ext cx="200160" cy="13968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04" name="Rectangle 106"/>
                <p:cNvSpPr/>
                <p:nvPr/>
              </p:nvSpPr>
              <p:spPr>
                <a:xfrm>
                  <a:off x="1452600" y="1197000"/>
                  <a:ext cx="934920" cy="865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1005" name="Group 107"/>
                <p:cNvGrpSpPr/>
                <p:nvPr/>
              </p:nvGrpSpPr>
              <p:grpSpPr>
                <a:xfrm>
                  <a:off x="1562040" y="2400480"/>
                  <a:ext cx="863640" cy="431640"/>
                  <a:chOff x="1562040" y="2400480"/>
                  <a:chExt cx="863640" cy="431640"/>
                </a:xfrm>
              </p:grpSpPr>
              <p:sp>
                <p:nvSpPr>
                  <p:cNvPr id="1006" name="AutoShape 108"/>
                  <p:cNvSpPr/>
                  <p:nvPr/>
                </p:nvSpPr>
                <p:spPr>
                  <a:xfrm>
                    <a:off x="1562040" y="2400480"/>
                    <a:ext cx="863640" cy="431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997a3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pic>
                <p:nvPicPr>
                  <p:cNvPr id="1007" name="Picture 109" descr="MCBS00513_0000[1]"/>
                  <p:cNvPicPr/>
                  <p:nvPr/>
                </p:nvPicPr>
                <p:blipFill>
                  <a:blip r:embed="rId22"/>
                  <a:srcRect l="0" t="67176" r="0" b="0"/>
                  <a:stretch/>
                </p:blipFill>
                <p:spPr>
                  <a:xfrm>
                    <a:off x="1562040" y="2477880"/>
                    <a:ext cx="79236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008" name="Group 110"/>
            <p:cNvGrpSpPr/>
            <p:nvPr/>
          </p:nvGrpSpPr>
          <p:grpSpPr>
            <a:xfrm>
              <a:off x="2555640" y="1268280"/>
              <a:ext cx="936720" cy="2521080"/>
              <a:chOff x="2555640" y="1268280"/>
              <a:chExt cx="936720" cy="2521080"/>
            </a:xfrm>
          </p:grpSpPr>
          <p:sp>
            <p:nvSpPr>
              <p:cNvPr id="1009" name="Line 111"/>
              <p:cNvSpPr/>
              <p:nvPr/>
            </p:nvSpPr>
            <p:spPr>
              <a:xfrm>
                <a:off x="2771640" y="1268280"/>
                <a:ext cx="720720" cy="17290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10" name="Line 112"/>
              <p:cNvSpPr/>
              <p:nvPr/>
            </p:nvSpPr>
            <p:spPr>
              <a:xfrm flipH="1">
                <a:off x="2555640" y="3284640"/>
                <a:ext cx="936360" cy="50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pic>
        <p:nvPicPr>
          <p:cNvPr id="1011" name="Picture 113" descr=""/>
          <p:cNvPicPr/>
          <p:nvPr/>
        </p:nvPicPr>
        <p:blipFill>
          <a:blip r:embed="rId23"/>
          <a:stretch/>
        </p:blipFill>
        <p:spPr>
          <a:xfrm>
            <a:off x="3276720" y="4363920"/>
            <a:ext cx="792000" cy="59400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114"/>
          <p:cNvSpPr/>
          <p:nvPr/>
        </p:nvSpPr>
        <p:spPr>
          <a:xfrm>
            <a:off x="2219400" y="5581800"/>
            <a:ext cx="1701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Send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13" name="Picture 115" descr="j0285750"/>
          <p:cNvPicPr/>
          <p:nvPr/>
        </p:nvPicPr>
        <p:blipFill>
          <a:blip r:embed="rId24"/>
          <a:stretch/>
        </p:blipFill>
        <p:spPr>
          <a:xfrm>
            <a:off x="2627280" y="4897440"/>
            <a:ext cx="1008000" cy="61920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6"/>
          <p:cNvSpPr/>
          <p:nvPr/>
        </p:nvSpPr>
        <p:spPr>
          <a:xfrm>
            <a:off x="5148360" y="4437000"/>
            <a:ext cx="647640" cy="14414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15" name="Picture 117" descr="j0195384"/>
          <p:cNvPicPr/>
          <p:nvPr/>
        </p:nvPicPr>
        <p:blipFill>
          <a:blip r:embed="rId25"/>
          <a:stretch/>
        </p:blipFill>
        <p:spPr>
          <a:xfrm>
            <a:off x="1547640" y="5973840"/>
            <a:ext cx="493920" cy="50328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118"/>
          <p:cNvSpPr/>
          <p:nvPr/>
        </p:nvSpPr>
        <p:spPr>
          <a:xfrm>
            <a:off x="7057080" y="5581800"/>
            <a:ext cx="1575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17" name="Picture 119" descr="j0285750"/>
          <p:cNvPicPr/>
          <p:nvPr/>
        </p:nvPicPr>
        <p:blipFill>
          <a:blip r:embed="rId26"/>
          <a:stretch/>
        </p:blipFill>
        <p:spPr>
          <a:xfrm>
            <a:off x="7310520" y="4898880"/>
            <a:ext cx="1006560" cy="617760"/>
          </a:xfrm>
          <a:prstGeom prst="rect">
            <a:avLst/>
          </a:prstGeom>
          <a:ln w="0">
            <a:noFill/>
          </a:ln>
        </p:spPr>
      </p:pic>
      <p:sp>
        <p:nvSpPr>
          <p:cNvPr id="1018" name="Line 120"/>
          <p:cNvSpPr/>
          <p:nvPr/>
        </p:nvSpPr>
        <p:spPr>
          <a:xfrm>
            <a:off x="1187280" y="6261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9" name="Line 121"/>
          <p:cNvSpPr/>
          <p:nvPr/>
        </p:nvSpPr>
        <p:spPr>
          <a:xfrm flipV="1">
            <a:off x="2268360" y="5587920"/>
            <a:ext cx="2876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0" name="Line 122"/>
          <p:cNvSpPr/>
          <p:nvPr/>
        </p:nvSpPr>
        <p:spPr>
          <a:xfrm>
            <a:off x="3780000" y="51562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21" name="Picture 123" descr="j0195384"/>
          <p:cNvPicPr/>
          <p:nvPr/>
        </p:nvPicPr>
        <p:blipFill>
          <a:blip r:embed="rId27"/>
          <a:stretch/>
        </p:blipFill>
        <p:spPr>
          <a:xfrm>
            <a:off x="1332000" y="4748040"/>
            <a:ext cx="423720" cy="432000"/>
          </a:xfrm>
          <a:prstGeom prst="rect">
            <a:avLst/>
          </a:prstGeom>
          <a:ln w="0">
            <a:noFill/>
          </a:ln>
        </p:spPr>
      </p:pic>
      <p:sp>
        <p:nvSpPr>
          <p:cNvPr id="1022" name="Line 124"/>
          <p:cNvSpPr/>
          <p:nvPr/>
        </p:nvSpPr>
        <p:spPr>
          <a:xfrm>
            <a:off x="6012000" y="51577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3" name="Text Box 125"/>
          <p:cNvSpPr/>
          <p:nvPr/>
        </p:nvSpPr>
        <p:spPr>
          <a:xfrm>
            <a:off x="1189440" y="64054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4" name="Text Box 126"/>
          <p:cNvSpPr/>
          <p:nvPr/>
        </p:nvSpPr>
        <p:spPr>
          <a:xfrm>
            <a:off x="30960" y="51084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 + 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5" name="Text Box 127"/>
          <p:cNvSpPr/>
          <p:nvPr/>
        </p:nvSpPr>
        <p:spPr>
          <a:xfrm>
            <a:off x="320400" y="6405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6" name="Text Box 128"/>
          <p:cNvSpPr/>
          <p:nvPr/>
        </p:nvSpPr>
        <p:spPr>
          <a:xfrm>
            <a:off x="2956320" y="63882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Send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7" name="Text Box 129"/>
          <p:cNvSpPr/>
          <p:nvPr/>
        </p:nvSpPr>
        <p:spPr>
          <a:xfrm>
            <a:off x="6386040" y="638172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ay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8" name="Text Box 130"/>
          <p:cNvSpPr/>
          <p:nvPr/>
        </p:nvSpPr>
        <p:spPr>
          <a:xfrm>
            <a:off x="6411960" y="1428840"/>
            <a:ext cx="273204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3333cc"/>
              </a:buClr>
              <a:buSzPct val="12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Hash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หรือ </a:t>
            </a: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Fingerprint: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ยืนยันความถูกต้องของ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igital Signature: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ยืนยันความถูกต้องของข้อมูลเช็ค และ ผูกมัด ธ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ผู้ส่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29" name="Picture 131" descr="CR25"/>
          <p:cNvPicPr/>
          <p:nvPr/>
        </p:nvPicPr>
        <p:blipFill>
          <a:blip r:embed="rId28">
            <a:lum contrast="-42000"/>
          </a:blip>
          <a:stretch/>
        </p:blipFill>
        <p:spPr>
          <a:xfrm>
            <a:off x="612720" y="4676760"/>
            <a:ext cx="646200" cy="515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32" descr="CR25"/>
          <p:cNvPicPr/>
          <p:nvPr/>
        </p:nvPicPr>
        <p:blipFill>
          <a:blip r:embed="rId29">
            <a:lum contrast="-42000"/>
          </a:blip>
          <a:stretch/>
        </p:blipFill>
        <p:spPr>
          <a:xfrm>
            <a:off x="539640" y="6021360"/>
            <a:ext cx="574920" cy="458640"/>
          </a:xfrm>
          <a:prstGeom prst="rect">
            <a:avLst/>
          </a:prstGeom>
          <a:ln w="0">
            <a:noFill/>
          </a:ln>
        </p:spPr>
      </p:pic>
      <p:grpSp>
        <p:nvGrpSpPr>
          <p:cNvPr id="1031" name="Group 133"/>
          <p:cNvGrpSpPr/>
          <p:nvPr/>
        </p:nvGrpSpPr>
        <p:grpSpPr>
          <a:xfrm>
            <a:off x="1979640" y="4724280"/>
            <a:ext cx="863640" cy="409680"/>
            <a:chOff x="1979640" y="4724280"/>
            <a:chExt cx="863640" cy="409680"/>
          </a:xfrm>
        </p:grpSpPr>
        <p:grpSp>
          <p:nvGrpSpPr>
            <p:cNvPr id="1032" name="Group 134"/>
            <p:cNvGrpSpPr/>
            <p:nvPr/>
          </p:nvGrpSpPr>
          <p:grpSpPr>
            <a:xfrm>
              <a:off x="1979640" y="4989600"/>
              <a:ext cx="863640" cy="144360"/>
              <a:chOff x="1979640" y="4989600"/>
              <a:chExt cx="863640" cy="144360"/>
            </a:xfrm>
          </p:grpSpPr>
          <p:pic>
            <p:nvPicPr>
              <p:cNvPr id="1033" name="Picture 135" descr="004-F-BW200"/>
              <p:cNvPicPr/>
              <p:nvPr/>
            </p:nvPicPr>
            <p:blipFill>
              <a:blip r:embed="rId30"/>
              <a:stretch/>
            </p:blipFill>
            <p:spPr>
              <a:xfrm>
                <a:off x="1979640" y="498960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34" name="Picture 136" descr="004-R-BW200"/>
              <p:cNvPicPr/>
              <p:nvPr/>
            </p:nvPicPr>
            <p:blipFill>
              <a:blip r:embed="rId31"/>
              <a:srcRect l="2975" t="11556" r="0" b="0"/>
              <a:stretch/>
            </p:blipFill>
            <p:spPr>
              <a:xfrm>
                <a:off x="2276640" y="4989600"/>
                <a:ext cx="269640" cy="144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35" name="Picture 137" descr="004-F-100Q080"/>
              <p:cNvPicPr/>
              <p:nvPr/>
            </p:nvPicPr>
            <p:blipFill>
              <a:blip r:embed="rId32"/>
              <a:stretch/>
            </p:blipFill>
            <p:spPr>
              <a:xfrm>
                <a:off x="2573640" y="4989600"/>
                <a:ext cx="269640" cy="143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036" name="Rectangle 138"/>
            <p:cNvSpPr/>
            <p:nvPr/>
          </p:nvSpPr>
          <p:spPr>
            <a:xfrm>
              <a:off x="1979640" y="4724280"/>
              <a:ext cx="647640" cy="193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 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37" name="Line 139"/>
          <p:cNvSpPr/>
          <p:nvPr/>
        </p:nvSpPr>
        <p:spPr>
          <a:xfrm>
            <a:off x="1908000" y="5156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38" name="Group 140"/>
          <p:cNvGrpSpPr/>
          <p:nvPr/>
        </p:nvGrpSpPr>
        <p:grpSpPr>
          <a:xfrm>
            <a:off x="2124000" y="5157720"/>
            <a:ext cx="649440" cy="360360"/>
            <a:chOff x="2124000" y="5157720"/>
            <a:chExt cx="649440" cy="360360"/>
          </a:xfrm>
        </p:grpSpPr>
        <p:grpSp>
          <p:nvGrpSpPr>
            <p:cNvPr id="1039" name="Group 141"/>
            <p:cNvGrpSpPr/>
            <p:nvPr/>
          </p:nvGrpSpPr>
          <p:grpSpPr>
            <a:xfrm>
              <a:off x="2124000" y="5375160"/>
              <a:ext cx="649440" cy="142920"/>
              <a:chOff x="2124000" y="5375160"/>
              <a:chExt cx="649440" cy="142920"/>
            </a:xfrm>
          </p:grpSpPr>
          <p:pic>
            <p:nvPicPr>
              <p:cNvPr id="1040" name="Picture 142" descr="004-F-BW200"/>
              <p:cNvPicPr/>
              <p:nvPr/>
            </p:nvPicPr>
            <p:blipFill>
              <a:blip r:embed="rId33"/>
              <a:stretch/>
            </p:blipFill>
            <p:spPr>
              <a:xfrm>
                <a:off x="2124000" y="5375160"/>
                <a:ext cx="202680" cy="141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41" name="Picture 143" descr="004-R-BW200"/>
              <p:cNvPicPr/>
              <p:nvPr/>
            </p:nvPicPr>
            <p:blipFill>
              <a:blip r:embed="rId34"/>
              <a:srcRect l="2946" t="11556" r="0" b="0"/>
              <a:stretch/>
            </p:blipFill>
            <p:spPr>
              <a:xfrm>
                <a:off x="2347200" y="5375160"/>
                <a:ext cx="202680" cy="142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42" name="Picture 144" descr="004-F-100Q080"/>
              <p:cNvPicPr/>
              <p:nvPr/>
            </p:nvPicPr>
            <p:blipFill>
              <a:blip r:embed="rId35"/>
              <a:stretch/>
            </p:blipFill>
            <p:spPr>
              <a:xfrm>
                <a:off x="2570760" y="5375160"/>
                <a:ext cx="202680" cy="141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043" name="Rectangle 145"/>
            <p:cNvSpPr/>
            <p:nvPr/>
          </p:nvSpPr>
          <p:spPr>
            <a:xfrm>
              <a:off x="2125800" y="5157720"/>
              <a:ext cx="503280" cy="144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Browallia New"/>
                  <a:ea typeface="Browallia New"/>
                </a:rPr>
                <a:t>Cheque Data 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44" name="Rectangle 146"/>
          <p:cNvSpPr/>
          <p:nvPr/>
        </p:nvSpPr>
        <p:spPr>
          <a:xfrm>
            <a:off x="50328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1 End-to-end Data Integrity Control &amp; Non-repudiation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4"/>
          <p:cNvSpPr/>
          <p:nvPr/>
        </p:nvSpPr>
        <p:spPr>
          <a:xfrm>
            <a:off x="5148360" y="4437000"/>
            <a:ext cx="647640" cy="14414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6659640" y="3933720"/>
            <a:ext cx="230508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50920" y="3933720"/>
            <a:ext cx="3960720" cy="273528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2956320" y="63882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Send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6386040" y="638172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ay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0" name="Line 9"/>
          <p:cNvSpPr/>
          <p:nvPr/>
        </p:nvSpPr>
        <p:spPr>
          <a:xfrm>
            <a:off x="1908000" y="5156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219400" y="5581800"/>
            <a:ext cx="1701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Send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52" name="Picture 11" descr="j0285750"/>
          <p:cNvPicPr/>
          <p:nvPr/>
        </p:nvPicPr>
        <p:blipFill>
          <a:blip r:embed="rId1"/>
          <a:stretch/>
        </p:blipFill>
        <p:spPr>
          <a:xfrm>
            <a:off x="2627280" y="4897440"/>
            <a:ext cx="1008000" cy="619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2" descr="j0195384"/>
          <p:cNvPicPr/>
          <p:nvPr/>
        </p:nvPicPr>
        <p:blipFill>
          <a:blip r:embed="rId2"/>
          <a:stretch/>
        </p:blipFill>
        <p:spPr>
          <a:xfrm>
            <a:off x="1547640" y="5973840"/>
            <a:ext cx="493920" cy="5032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13"/>
          <p:cNvSpPr/>
          <p:nvPr/>
        </p:nvSpPr>
        <p:spPr>
          <a:xfrm>
            <a:off x="7057080" y="5581800"/>
            <a:ext cx="1575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55" name="Picture 14" descr="j0285750"/>
          <p:cNvPicPr/>
          <p:nvPr/>
        </p:nvPicPr>
        <p:blipFill>
          <a:blip r:embed="rId3"/>
          <a:stretch/>
        </p:blipFill>
        <p:spPr>
          <a:xfrm>
            <a:off x="7310520" y="4898880"/>
            <a:ext cx="1006560" cy="617760"/>
          </a:xfrm>
          <a:prstGeom prst="rect">
            <a:avLst/>
          </a:prstGeom>
          <a:ln w="0">
            <a:noFill/>
          </a:ln>
        </p:spPr>
      </p:pic>
      <p:sp>
        <p:nvSpPr>
          <p:cNvPr id="1056" name="Line 15"/>
          <p:cNvSpPr/>
          <p:nvPr/>
        </p:nvSpPr>
        <p:spPr>
          <a:xfrm>
            <a:off x="1187280" y="6261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7" name="Line 16"/>
          <p:cNvSpPr/>
          <p:nvPr/>
        </p:nvSpPr>
        <p:spPr>
          <a:xfrm flipV="1">
            <a:off x="2268360" y="5587920"/>
            <a:ext cx="2876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8" name="Line 17"/>
          <p:cNvSpPr/>
          <p:nvPr/>
        </p:nvSpPr>
        <p:spPr>
          <a:xfrm>
            <a:off x="3780000" y="51562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59" name="Picture 18" descr="j0195384"/>
          <p:cNvPicPr/>
          <p:nvPr/>
        </p:nvPicPr>
        <p:blipFill>
          <a:blip r:embed="rId4"/>
          <a:stretch/>
        </p:blipFill>
        <p:spPr>
          <a:xfrm>
            <a:off x="1332000" y="4748040"/>
            <a:ext cx="423720" cy="432000"/>
          </a:xfrm>
          <a:prstGeom prst="rect">
            <a:avLst/>
          </a:prstGeom>
          <a:ln w="0">
            <a:noFill/>
          </a:ln>
        </p:spPr>
      </p:pic>
      <p:sp>
        <p:nvSpPr>
          <p:cNvPr id="1060" name="Line 19"/>
          <p:cNvSpPr/>
          <p:nvPr/>
        </p:nvSpPr>
        <p:spPr>
          <a:xfrm>
            <a:off x="6012000" y="51577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189440" y="64054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30960" y="51084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 + 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320400" y="6405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64" name="Picture 23" descr=""/>
          <p:cNvPicPr/>
          <p:nvPr/>
        </p:nvPicPr>
        <p:blipFill>
          <a:blip r:embed="rId5"/>
          <a:stretch/>
        </p:blipFill>
        <p:spPr>
          <a:xfrm>
            <a:off x="3492360" y="4437000"/>
            <a:ext cx="792360" cy="59364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24"/>
          <p:cNvSpPr/>
          <p:nvPr/>
        </p:nvSpPr>
        <p:spPr>
          <a:xfrm>
            <a:off x="39600" y="1484280"/>
            <a:ext cx="27320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90000"/>
              </a:lnSpc>
              <a:buClr>
                <a:srgbClr val="3333cc"/>
              </a:buClr>
              <a:buSzPct val="12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igital Signature: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ยืนยันความถูกต้องของข้อมูลเช็คและผูกมัด ธ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ผู้ส่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 algn="ctr">
              <a:lnSpc>
                <a:spcPct val="90000"/>
              </a:lnSpc>
              <a:buClr>
                <a:srgbClr val="3333cc"/>
              </a:buClr>
              <a:buSzPct val="12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Hash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หรือ </a:t>
            </a: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Fingerprint: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ยืนยันความถูกต้องของ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177840" indent="-177840" algn="ctr">
              <a:lnSpc>
                <a:spcPct val="80000"/>
              </a:lnSpc>
              <a:buClr>
                <a:srgbClr val="3333cc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66" name="Group 25"/>
          <p:cNvGrpSpPr/>
          <p:nvPr/>
        </p:nvGrpSpPr>
        <p:grpSpPr>
          <a:xfrm>
            <a:off x="2454840" y="1125360"/>
            <a:ext cx="6581160" cy="2951280"/>
            <a:chOff x="2454840" y="1125360"/>
            <a:chExt cx="6581160" cy="2951280"/>
          </a:xfrm>
        </p:grpSpPr>
        <p:sp>
          <p:nvSpPr>
            <p:cNvPr id="1067" name="AutoShape 26"/>
            <p:cNvSpPr/>
            <p:nvPr/>
          </p:nvSpPr>
          <p:spPr>
            <a:xfrm>
              <a:off x="2698920" y="1125360"/>
              <a:ext cx="6337080" cy="2951280"/>
            </a:xfrm>
            <a:prstGeom prst="wedgeRoundRectCallout">
              <a:avLst>
                <a:gd name="adj1" fmla="val -6763"/>
                <a:gd name="adj2" fmla="val 68828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068" name="Group 27"/>
            <p:cNvGrpSpPr/>
            <p:nvPr/>
          </p:nvGrpSpPr>
          <p:grpSpPr>
            <a:xfrm>
              <a:off x="2836800" y="1486080"/>
              <a:ext cx="2506320" cy="2075760"/>
              <a:chOff x="2836800" y="1486080"/>
              <a:chExt cx="2506320" cy="2075760"/>
            </a:xfrm>
          </p:grpSpPr>
          <p:sp>
            <p:nvSpPr>
              <p:cNvPr id="1069" name="Rectangle 28"/>
              <p:cNvSpPr/>
              <p:nvPr/>
            </p:nvSpPr>
            <p:spPr>
              <a:xfrm>
                <a:off x="2845800" y="1520640"/>
                <a:ext cx="2497320" cy="1908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70" name="Text Box 29"/>
              <p:cNvSpPr/>
              <p:nvPr/>
            </p:nvSpPr>
            <p:spPr>
              <a:xfrm>
                <a:off x="2847240" y="1486080"/>
                <a:ext cx="2424960" cy="12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Browallia New"/>
                    <a:ea typeface="Browallia New"/>
                  </a:rPr>
                  <a:t>Normal Out-clearing Batch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071" name="Group 30"/>
              <p:cNvGrpSpPr/>
              <p:nvPr/>
            </p:nvGrpSpPr>
            <p:grpSpPr>
              <a:xfrm>
                <a:off x="2836800" y="1804680"/>
                <a:ext cx="1197000" cy="1402920"/>
                <a:chOff x="2836800" y="1804680"/>
                <a:chExt cx="1197000" cy="1402920"/>
              </a:xfrm>
            </p:grpSpPr>
            <p:sp>
              <p:nvSpPr>
                <p:cNvPr id="1072" name="Rectangle 31"/>
                <p:cNvSpPr/>
                <p:nvPr/>
              </p:nvSpPr>
              <p:spPr>
                <a:xfrm>
                  <a:off x="2899440" y="1829880"/>
                  <a:ext cx="1090440" cy="12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3" name="Rectangle 32"/>
                <p:cNvSpPr/>
                <p:nvPr/>
              </p:nvSpPr>
              <p:spPr>
                <a:xfrm>
                  <a:off x="2936880" y="2178360"/>
                  <a:ext cx="65952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4" name="Rectangle 33"/>
                <p:cNvSpPr/>
                <p:nvPr/>
              </p:nvSpPr>
              <p:spPr>
                <a:xfrm>
                  <a:off x="2936880" y="2341440"/>
                  <a:ext cx="65952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5" name="Rectangle 34"/>
                <p:cNvSpPr/>
                <p:nvPr/>
              </p:nvSpPr>
              <p:spPr>
                <a:xfrm>
                  <a:off x="2936880" y="2504520"/>
                  <a:ext cx="65952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6" name="Rectangle 35"/>
                <p:cNvSpPr/>
                <p:nvPr/>
              </p:nvSpPr>
              <p:spPr>
                <a:xfrm>
                  <a:off x="2936880" y="2666160"/>
                  <a:ext cx="659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7" name="Rectangle 36"/>
                <p:cNvSpPr/>
                <p:nvPr/>
              </p:nvSpPr>
              <p:spPr>
                <a:xfrm>
                  <a:off x="2936880" y="2829600"/>
                  <a:ext cx="659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8" name="Rectangle 37"/>
                <p:cNvSpPr/>
                <p:nvPr/>
              </p:nvSpPr>
              <p:spPr>
                <a:xfrm>
                  <a:off x="2936880" y="2015280"/>
                  <a:ext cx="1010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79" name="Text Box 38"/>
                <p:cNvSpPr/>
                <p:nvPr/>
              </p:nvSpPr>
              <p:spPr>
                <a:xfrm>
                  <a:off x="3001320" y="1988640"/>
                  <a:ext cx="8532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Control Record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0" name="Text Box 39"/>
                <p:cNvSpPr/>
                <p:nvPr/>
              </p:nvSpPr>
              <p:spPr>
                <a:xfrm>
                  <a:off x="3088440" y="1804680"/>
                  <a:ext cx="66384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ata Fi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1" name="Text Box 40"/>
                <p:cNvSpPr/>
                <p:nvPr/>
              </p:nvSpPr>
              <p:spPr>
                <a:xfrm>
                  <a:off x="2836800" y="2155680"/>
                  <a:ext cx="85896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2" name="Text Box 41"/>
                <p:cNvSpPr/>
                <p:nvPr/>
              </p:nvSpPr>
              <p:spPr>
                <a:xfrm>
                  <a:off x="2838240" y="2323440"/>
                  <a:ext cx="8532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3" name="Text Box 42"/>
                <p:cNvSpPr/>
                <p:nvPr/>
              </p:nvSpPr>
              <p:spPr>
                <a:xfrm>
                  <a:off x="2838240" y="2479320"/>
                  <a:ext cx="8532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4" name="Text Box 43"/>
                <p:cNvSpPr/>
                <p:nvPr/>
              </p:nvSpPr>
              <p:spPr>
                <a:xfrm>
                  <a:off x="2838240" y="2649600"/>
                  <a:ext cx="8532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5" name="Text Box 44"/>
                <p:cNvSpPr/>
                <p:nvPr/>
              </p:nvSpPr>
              <p:spPr>
                <a:xfrm>
                  <a:off x="2838240" y="2812680"/>
                  <a:ext cx="8532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6" name="Rectangle 45"/>
                <p:cNvSpPr/>
                <p:nvPr/>
              </p:nvSpPr>
              <p:spPr>
                <a:xfrm>
                  <a:off x="3599640" y="2179440"/>
                  <a:ext cx="34776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7" name="Rectangle 46"/>
                <p:cNvSpPr/>
                <p:nvPr/>
              </p:nvSpPr>
              <p:spPr>
                <a:xfrm>
                  <a:off x="3599640" y="2341440"/>
                  <a:ext cx="34776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8" name="Rectangle 47"/>
                <p:cNvSpPr/>
                <p:nvPr/>
              </p:nvSpPr>
              <p:spPr>
                <a:xfrm>
                  <a:off x="3599640" y="2504520"/>
                  <a:ext cx="34776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89" name="Rectangle 48"/>
                <p:cNvSpPr/>
                <p:nvPr/>
              </p:nvSpPr>
              <p:spPr>
                <a:xfrm>
                  <a:off x="3599640" y="2666160"/>
                  <a:ext cx="34776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0" name="Rectangle 49"/>
                <p:cNvSpPr/>
                <p:nvPr/>
              </p:nvSpPr>
              <p:spPr>
                <a:xfrm>
                  <a:off x="3599640" y="2831040"/>
                  <a:ext cx="347760" cy="161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1" name="Text Box 50"/>
                <p:cNvSpPr/>
                <p:nvPr/>
              </p:nvSpPr>
              <p:spPr>
                <a:xfrm>
                  <a:off x="3507840" y="2157480"/>
                  <a:ext cx="5256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2" name="Text Box 51"/>
                <p:cNvSpPr/>
                <p:nvPr/>
              </p:nvSpPr>
              <p:spPr>
                <a:xfrm>
                  <a:off x="3507840" y="2323440"/>
                  <a:ext cx="5256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3" name="Text Box 52"/>
                <p:cNvSpPr/>
                <p:nvPr/>
              </p:nvSpPr>
              <p:spPr>
                <a:xfrm>
                  <a:off x="3511080" y="2482200"/>
                  <a:ext cx="5227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4" name="Text Box 53"/>
                <p:cNvSpPr/>
                <p:nvPr/>
              </p:nvSpPr>
              <p:spPr>
                <a:xfrm>
                  <a:off x="3512160" y="2647080"/>
                  <a:ext cx="5212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095" name="Text Box 54"/>
                <p:cNvSpPr/>
                <p:nvPr/>
              </p:nvSpPr>
              <p:spPr>
                <a:xfrm>
                  <a:off x="3512160" y="2811240"/>
                  <a:ext cx="5212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Browallia New"/>
                      <a:ea typeface="Browallia New"/>
                    </a:rPr>
                    <a:t>Hash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096" name="Rectangle 55"/>
              <p:cNvSpPr/>
              <p:nvPr/>
            </p:nvSpPr>
            <p:spPr>
              <a:xfrm>
                <a:off x="2911680" y="3038760"/>
                <a:ext cx="1055880" cy="2534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7" name="Text Box 56"/>
              <p:cNvSpPr/>
              <p:nvPr/>
            </p:nvSpPr>
            <p:spPr>
              <a:xfrm>
                <a:off x="2891520" y="3041640"/>
                <a:ext cx="1114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Browallia New"/>
                    <a:ea typeface="Browallia New"/>
                  </a:rPr>
                  <a:t>Digital Signature Sending Bank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8" name="Rectangle 57"/>
              <p:cNvSpPr/>
              <p:nvPr/>
            </p:nvSpPr>
            <p:spPr>
              <a:xfrm>
                <a:off x="2905560" y="2002680"/>
                <a:ext cx="1043640" cy="1035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099" name="Group 58"/>
              <p:cNvGrpSpPr/>
              <p:nvPr/>
            </p:nvGrpSpPr>
            <p:grpSpPr>
              <a:xfrm>
                <a:off x="4020120" y="1928160"/>
                <a:ext cx="1287360" cy="259560"/>
                <a:chOff x="4020120" y="1928160"/>
                <a:chExt cx="1287360" cy="259560"/>
              </a:xfrm>
            </p:grpSpPr>
            <p:grpSp>
              <p:nvGrpSpPr>
                <p:cNvPr id="1100" name="Group 59"/>
                <p:cNvGrpSpPr/>
                <p:nvPr/>
              </p:nvGrpSpPr>
              <p:grpSpPr>
                <a:xfrm>
                  <a:off x="4055040" y="1957680"/>
                  <a:ext cx="1213200" cy="196920"/>
                  <a:chOff x="4055040" y="1957680"/>
                  <a:chExt cx="1213200" cy="196920"/>
                </a:xfrm>
              </p:grpSpPr>
              <p:pic>
                <p:nvPicPr>
                  <p:cNvPr id="1101" name="Picture 60" descr="004-F-BW200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5040" y="1957680"/>
                    <a:ext cx="37908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02" name="Picture 61" descr="004-R-BW200"/>
                  <p:cNvPicPr/>
                  <p:nvPr/>
                </p:nvPicPr>
                <p:blipFill>
                  <a:blip r:embed="rId7"/>
                  <a:srcRect l="2949" t="11557" r="0" b="0"/>
                  <a:stretch/>
                </p:blipFill>
                <p:spPr>
                  <a:xfrm>
                    <a:off x="4472280" y="1957680"/>
                    <a:ext cx="378720" cy="19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03" name="Picture 62" descr="004-F-100Q080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9520" y="1957680"/>
                    <a:ext cx="37872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104" name="Rectangle 63"/>
                <p:cNvSpPr/>
                <p:nvPr/>
              </p:nvSpPr>
              <p:spPr>
                <a:xfrm>
                  <a:off x="4020120" y="1928160"/>
                  <a:ext cx="1287360" cy="259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105" name="Group 64"/>
              <p:cNvGrpSpPr/>
              <p:nvPr/>
            </p:nvGrpSpPr>
            <p:grpSpPr>
              <a:xfrm>
                <a:off x="4020120" y="2188440"/>
                <a:ext cx="1287360" cy="258120"/>
                <a:chOff x="4020120" y="2188440"/>
                <a:chExt cx="1287360" cy="258120"/>
              </a:xfrm>
            </p:grpSpPr>
            <p:grpSp>
              <p:nvGrpSpPr>
                <p:cNvPr id="1106" name="Group 65"/>
                <p:cNvGrpSpPr/>
                <p:nvPr/>
              </p:nvGrpSpPr>
              <p:grpSpPr>
                <a:xfrm>
                  <a:off x="4055040" y="2217600"/>
                  <a:ext cx="1213200" cy="195840"/>
                  <a:chOff x="4055040" y="2217600"/>
                  <a:chExt cx="1213200" cy="195840"/>
                </a:xfrm>
              </p:grpSpPr>
              <p:pic>
                <p:nvPicPr>
                  <p:cNvPr id="1107" name="Picture 66" descr="004-F-BW200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55040" y="2217600"/>
                    <a:ext cx="3790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08" name="Picture 67" descr="004-R-BW200"/>
                  <p:cNvPicPr/>
                  <p:nvPr/>
                </p:nvPicPr>
                <p:blipFill>
                  <a:blip r:embed="rId10"/>
                  <a:srcRect l="2949" t="11557" r="0" b="0"/>
                  <a:stretch/>
                </p:blipFill>
                <p:spPr>
                  <a:xfrm>
                    <a:off x="4472280" y="2217600"/>
                    <a:ext cx="37872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09" name="Picture 68" descr="004-F-100Q080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89520" y="2217600"/>
                    <a:ext cx="37872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110" name="Rectangle 69"/>
                <p:cNvSpPr/>
                <p:nvPr/>
              </p:nvSpPr>
              <p:spPr>
                <a:xfrm>
                  <a:off x="4020120" y="2188440"/>
                  <a:ext cx="128736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111" name="Group 70"/>
              <p:cNvGrpSpPr/>
              <p:nvPr/>
            </p:nvGrpSpPr>
            <p:grpSpPr>
              <a:xfrm>
                <a:off x="4020120" y="2446920"/>
                <a:ext cx="1287360" cy="258120"/>
                <a:chOff x="4020120" y="2446920"/>
                <a:chExt cx="1287360" cy="258120"/>
              </a:xfrm>
            </p:grpSpPr>
            <p:grpSp>
              <p:nvGrpSpPr>
                <p:cNvPr id="1112" name="Group 71"/>
                <p:cNvGrpSpPr/>
                <p:nvPr/>
              </p:nvGrpSpPr>
              <p:grpSpPr>
                <a:xfrm>
                  <a:off x="4055040" y="2476080"/>
                  <a:ext cx="1213200" cy="195840"/>
                  <a:chOff x="4055040" y="2476080"/>
                  <a:chExt cx="1213200" cy="195840"/>
                </a:xfrm>
              </p:grpSpPr>
              <p:pic>
                <p:nvPicPr>
                  <p:cNvPr id="1113" name="Picture 72" descr="004-F-BW200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55040" y="2476080"/>
                    <a:ext cx="3790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14" name="Picture 73" descr="004-R-BW200"/>
                  <p:cNvPicPr/>
                  <p:nvPr/>
                </p:nvPicPr>
                <p:blipFill>
                  <a:blip r:embed="rId13"/>
                  <a:srcRect l="2949" t="11557" r="0" b="0"/>
                  <a:stretch/>
                </p:blipFill>
                <p:spPr>
                  <a:xfrm>
                    <a:off x="4472280" y="2476080"/>
                    <a:ext cx="37872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15" name="Picture 74" descr="004-F-100Q080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89520" y="2476080"/>
                    <a:ext cx="37872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116" name="Rectangle 75"/>
                <p:cNvSpPr/>
                <p:nvPr/>
              </p:nvSpPr>
              <p:spPr>
                <a:xfrm>
                  <a:off x="4020120" y="2446920"/>
                  <a:ext cx="128736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117" name="Group 76"/>
              <p:cNvGrpSpPr/>
              <p:nvPr/>
            </p:nvGrpSpPr>
            <p:grpSpPr>
              <a:xfrm>
                <a:off x="4020120" y="2703600"/>
                <a:ext cx="1287360" cy="258120"/>
                <a:chOff x="4020120" y="2703600"/>
                <a:chExt cx="1287360" cy="258120"/>
              </a:xfrm>
            </p:grpSpPr>
            <p:grpSp>
              <p:nvGrpSpPr>
                <p:cNvPr id="1118" name="Group 77"/>
                <p:cNvGrpSpPr/>
                <p:nvPr/>
              </p:nvGrpSpPr>
              <p:grpSpPr>
                <a:xfrm>
                  <a:off x="4055040" y="2732760"/>
                  <a:ext cx="1213200" cy="195840"/>
                  <a:chOff x="4055040" y="2732760"/>
                  <a:chExt cx="1213200" cy="195840"/>
                </a:xfrm>
              </p:grpSpPr>
              <p:pic>
                <p:nvPicPr>
                  <p:cNvPr id="1119" name="Picture 78" descr="004-F-BW200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55040" y="2732760"/>
                    <a:ext cx="3790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20" name="Picture 79" descr="004-R-BW200"/>
                  <p:cNvPicPr/>
                  <p:nvPr/>
                </p:nvPicPr>
                <p:blipFill>
                  <a:blip r:embed="rId16"/>
                  <a:srcRect l="2949" t="11557" r="0" b="0"/>
                  <a:stretch/>
                </p:blipFill>
                <p:spPr>
                  <a:xfrm>
                    <a:off x="4472280" y="2732760"/>
                    <a:ext cx="37872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21" name="Picture 80" descr="004-F-100Q080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89520" y="2732760"/>
                    <a:ext cx="37872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122" name="Rectangle 81"/>
                <p:cNvSpPr/>
                <p:nvPr/>
              </p:nvSpPr>
              <p:spPr>
                <a:xfrm>
                  <a:off x="4020120" y="2703600"/>
                  <a:ext cx="128736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123" name="Group 82"/>
              <p:cNvGrpSpPr/>
              <p:nvPr/>
            </p:nvGrpSpPr>
            <p:grpSpPr>
              <a:xfrm>
                <a:off x="4020120" y="2962440"/>
                <a:ext cx="1287360" cy="259560"/>
                <a:chOff x="4020120" y="2962440"/>
                <a:chExt cx="1287360" cy="259560"/>
              </a:xfrm>
            </p:grpSpPr>
            <p:grpSp>
              <p:nvGrpSpPr>
                <p:cNvPr id="1124" name="Group 83"/>
                <p:cNvGrpSpPr/>
                <p:nvPr/>
              </p:nvGrpSpPr>
              <p:grpSpPr>
                <a:xfrm>
                  <a:off x="4055040" y="2991960"/>
                  <a:ext cx="1213200" cy="196920"/>
                  <a:chOff x="4055040" y="2991960"/>
                  <a:chExt cx="1213200" cy="196920"/>
                </a:xfrm>
              </p:grpSpPr>
              <p:pic>
                <p:nvPicPr>
                  <p:cNvPr id="1125" name="Picture 84" descr="004-F-BW200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55040" y="2991960"/>
                    <a:ext cx="37908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26" name="Picture 85" descr="004-R-BW200"/>
                  <p:cNvPicPr/>
                  <p:nvPr/>
                </p:nvPicPr>
                <p:blipFill>
                  <a:blip r:embed="rId19"/>
                  <a:srcRect l="2949" t="11557" r="0" b="0"/>
                  <a:stretch/>
                </p:blipFill>
                <p:spPr>
                  <a:xfrm>
                    <a:off x="4472280" y="2991960"/>
                    <a:ext cx="378720" cy="19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127" name="Picture 86" descr="004-F-100Q080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89520" y="2991960"/>
                    <a:ext cx="37872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128" name="Rectangle 87"/>
                <p:cNvSpPr/>
                <p:nvPr/>
              </p:nvSpPr>
              <p:spPr>
                <a:xfrm>
                  <a:off x="4020120" y="2962440"/>
                  <a:ext cx="1287360" cy="259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1129" name="Text Box 88"/>
            <p:cNvSpPr/>
            <p:nvPr/>
          </p:nvSpPr>
          <p:spPr>
            <a:xfrm>
              <a:off x="2454840" y="3463920"/>
              <a:ext cx="29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Browallia New"/>
                  <a:ea typeface="Browallia New"/>
                </a:rPr>
                <a:t>Data Validation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30" name="Group 89"/>
          <p:cNvGrpSpPr/>
          <p:nvPr/>
        </p:nvGrpSpPr>
        <p:grpSpPr>
          <a:xfrm>
            <a:off x="2843280" y="1268280"/>
            <a:ext cx="6047640" cy="2597040"/>
            <a:chOff x="2843280" y="1268280"/>
            <a:chExt cx="6047640" cy="2597040"/>
          </a:xfrm>
        </p:grpSpPr>
        <p:sp>
          <p:nvSpPr>
            <p:cNvPr id="1131" name="AutoShape 90"/>
            <p:cNvSpPr/>
            <p:nvPr/>
          </p:nvSpPr>
          <p:spPr>
            <a:xfrm>
              <a:off x="2843280" y="2999520"/>
              <a:ext cx="1195200" cy="322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132" name="Group 91"/>
            <p:cNvGrpSpPr/>
            <p:nvPr/>
          </p:nvGrpSpPr>
          <p:grpSpPr>
            <a:xfrm>
              <a:off x="3969000" y="1280160"/>
              <a:ext cx="1898640" cy="2436120"/>
              <a:chOff x="3969000" y="1280160"/>
              <a:chExt cx="1898640" cy="2436120"/>
            </a:xfrm>
          </p:grpSpPr>
          <p:sp>
            <p:nvSpPr>
              <p:cNvPr id="1133" name="Line 92"/>
              <p:cNvSpPr/>
              <p:nvPr/>
            </p:nvSpPr>
            <p:spPr>
              <a:xfrm>
                <a:off x="3969000" y="3286800"/>
                <a:ext cx="1827720" cy="42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34" name="Line 93"/>
              <p:cNvSpPr/>
              <p:nvPr/>
            </p:nvSpPr>
            <p:spPr>
              <a:xfrm flipV="1">
                <a:off x="4038480" y="1280160"/>
                <a:ext cx="1829160" cy="172044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135" name="Group 94"/>
            <p:cNvGrpSpPr/>
            <p:nvPr/>
          </p:nvGrpSpPr>
          <p:grpSpPr>
            <a:xfrm>
              <a:off x="5337000" y="1268280"/>
              <a:ext cx="3553920" cy="2597040"/>
              <a:chOff x="5337000" y="1268280"/>
              <a:chExt cx="3553920" cy="2597040"/>
            </a:xfrm>
          </p:grpSpPr>
          <p:grpSp>
            <p:nvGrpSpPr>
              <p:cNvPr id="1136" name="Group 95"/>
              <p:cNvGrpSpPr/>
              <p:nvPr/>
            </p:nvGrpSpPr>
            <p:grpSpPr>
              <a:xfrm>
                <a:off x="5585760" y="1268280"/>
                <a:ext cx="3305160" cy="2597040"/>
                <a:chOff x="5585760" y="1268280"/>
                <a:chExt cx="3305160" cy="2597040"/>
              </a:xfrm>
            </p:grpSpPr>
            <p:sp>
              <p:nvSpPr>
                <p:cNvPr id="1137" name="AutoShape 96"/>
                <p:cNvSpPr/>
                <p:nvPr/>
              </p:nvSpPr>
              <p:spPr>
                <a:xfrm>
                  <a:off x="5585760" y="1268280"/>
                  <a:ext cx="3305160" cy="250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1138" name="Group 97"/>
                <p:cNvGrpSpPr/>
                <p:nvPr/>
              </p:nvGrpSpPr>
              <p:grpSpPr>
                <a:xfrm>
                  <a:off x="5980320" y="1554120"/>
                  <a:ext cx="2768400" cy="2311200"/>
                  <a:chOff x="5980320" y="1554120"/>
                  <a:chExt cx="2768400" cy="2311200"/>
                </a:xfrm>
              </p:grpSpPr>
              <p:grpSp>
                <p:nvGrpSpPr>
                  <p:cNvPr id="1139" name="Group 98"/>
                  <p:cNvGrpSpPr/>
                  <p:nvPr/>
                </p:nvGrpSpPr>
                <p:grpSpPr>
                  <a:xfrm>
                    <a:off x="5980320" y="1554120"/>
                    <a:ext cx="2768400" cy="2235240"/>
                    <a:chOff x="5980320" y="1554120"/>
                    <a:chExt cx="2768400" cy="2235240"/>
                  </a:xfrm>
                </p:grpSpPr>
                <p:pic>
                  <p:nvPicPr>
                    <p:cNvPr id="1140" name="Picture 99" descr="MCj03519260000[1]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543600">
                      <a:off x="6006600" y="1879560"/>
                      <a:ext cx="24948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Line 100"/>
                    <p:cNvSpPr/>
                    <p:nvPr/>
                  </p:nvSpPr>
                  <p:spPr>
                    <a:xfrm>
                      <a:off x="7061040" y="1916640"/>
                      <a:ext cx="0" cy="216720"/>
                    </a:xfrm>
                    <a:prstGeom prst="line">
                      <a:avLst/>
                    </a:prstGeom>
                    <a:ln w="2844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1142" name="Line 101"/>
                    <p:cNvSpPr/>
                    <p:nvPr/>
                  </p:nvSpPr>
                  <p:spPr>
                    <a:xfrm>
                      <a:off x="7132320" y="2967120"/>
                      <a:ext cx="0" cy="217080"/>
                    </a:xfrm>
                    <a:prstGeom prst="line">
                      <a:avLst/>
                    </a:prstGeom>
                    <a:ln w="2844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1143" name="Rectangle 102"/>
                    <p:cNvSpPr/>
                    <p:nvPr/>
                  </p:nvSpPr>
                  <p:spPr>
                    <a:xfrm>
                      <a:off x="6513480" y="2655720"/>
                      <a:ext cx="1322280" cy="67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58680"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Digital Signature Ver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1144" name="Text Box 103"/>
                    <p:cNvSpPr/>
                    <p:nvPr/>
                  </p:nvSpPr>
                  <p:spPr>
                    <a:xfrm>
                      <a:off x="6499800" y="1554120"/>
                      <a:ext cx="1123560" cy="52020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rowallia New"/>
                          <a:ea typeface="Browallia New"/>
                        </a:rPr>
                        <a:t>Digital Signature Sending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1145" name="Line 104"/>
                    <p:cNvSpPr/>
                    <p:nvPr/>
                  </p:nvSpPr>
                  <p:spPr>
                    <a:xfrm>
                      <a:off x="6444000" y="2175120"/>
                      <a:ext cx="194760" cy="140400"/>
                    </a:xfrm>
                    <a:prstGeom prst="line">
                      <a:avLst/>
                    </a:prstGeom>
                    <a:ln w="2844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grpSp>
                  <p:nvGrpSpPr>
                    <p:cNvPr id="1146" name="Group 105"/>
                    <p:cNvGrpSpPr/>
                    <p:nvPr/>
                  </p:nvGrpSpPr>
                  <p:grpSpPr>
                    <a:xfrm>
                      <a:off x="7764840" y="1554120"/>
                      <a:ext cx="983880" cy="869760"/>
                      <a:chOff x="7764840" y="1554120"/>
                      <a:chExt cx="983880" cy="869760"/>
                    </a:xfrm>
                  </p:grpSpPr>
                  <p:pic>
                    <p:nvPicPr>
                      <p:cNvPr id="1147" name="Picture 10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764840" y="1554120"/>
                        <a:ext cx="983880" cy="86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8" name="Rectangle 107"/>
                      <p:cNvSpPr/>
                      <p:nvPr/>
                    </p:nvSpPr>
                    <p:spPr>
                      <a:xfrm>
                        <a:off x="7797240" y="1554120"/>
                        <a:ext cx="912240" cy="86976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1149" name="Group 108"/>
                    <p:cNvGrpSpPr/>
                    <p:nvPr/>
                  </p:nvGrpSpPr>
                  <p:grpSpPr>
                    <a:xfrm>
                      <a:off x="6724440" y="2221560"/>
                      <a:ext cx="843120" cy="433800"/>
                      <a:chOff x="6724440" y="2221560"/>
                      <a:chExt cx="843120" cy="433800"/>
                    </a:xfrm>
                  </p:grpSpPr>
                  <p:sp>
                    <p:nvSpPr>
                      <p:cNvPr id="1150" name="AutoShape 109"/>
                      <p:cNvSpPr/>
                      <p:nvPr/>
                    </p:nvSpPr>
                    <p:spPr>
                      <a:xfrm>
                        <a:off x="6724440" y="2221560"/>
                        <a:ext cx="843120" cy="433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ffcc66"/>
                      </a:soli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997a3d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pic>
                    <p:nvPicPr>
                      <p:cNvPr id="1151" name="Picture 110" descr="MCBS00513_0000[1]"/>
                      <p:cNvPicPr/>
                      <p:nvPr/>
                    </p:nvPicPr>
                    <p:blipFill>
                      <a:blip r:embed="rId23"/>
                      <a:srcRect l="0" t="67176" r="0" b="0"/>
                      <a:stretch/>
                    </p:blipFill>
                    <p:spPr>
                      <a:xfrm>
                        <a:off x="6724440" y="2299680"/>
                        <a:ext cx="77328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sp>
                  <p:nvSpPr>
                    <p:cNvPr id="1152" name="Line 111"/>
                    <p:cNvSpPr/>
                    <p:nvPr/>
                  </p:nvSpPr>
                  <p:spPr>
                    <a:xfrm flipH="1">
                      <a:off x="7553520" y="2061720"/>
                      <a:ext cx="140760" cy="145080"/>
                    </a:xfrm>
                    <a:prstGeom prst="line">
                      <a:avLst/>
                    </a:prstGeom>
                    <a:ln w="2844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1153" name="Text Box 112"/>
                    <p:cNvSpPr/>
                    <p:nvPr/>
                  </p:nvSpPr>
                  <p:spPr>
                    <a:xfrm>
                      <a:off x="6569640" y="3269160"/>
                      <a:ext cx="1123560" cy="52020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rowallia New"/>
                          <a:ea typeface="Browallia New"/>
                        </a:rPr>
                        <a:t>Digital Signature Sending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sp>
                <p:nvSpPr>
                  <p:cNvPr id="1154" name="Text Box 113"/>
                  <p:cNvSpPr/>
                  <p:nvPr/>
                </p:nvSpPr>
                <p:spPr>
                  <a:xfrm>
                    <a:off x="7384680" y="3161880"/>
                    <a:ext cx="5799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th-TH" sz="4000" spc="-1" strike="noStrike">
                        <a:solidFill>
                          <a:srgbClr val="ff3399"/>
                        </a:solidFill>
                        <a:latin typeface="Wingdings 2"/>
                        <a:ea typeface="Wingdings 2"/>
                      </a:rPr>
                      <a:t>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</p:grpSp>
          <p:sp>
            <p:nvSpPr>
              <p:cNvPr id="1155" name="Text Box 114"/>
              <p:cNvSpPr/>
              <p:nvPr/>
            </p:nvSpPr>
            <p:spPr>
              <a:xfrm>
                <a:off x="5337000" y="2212560"/>
                <a:ext cx="15645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rowallia New"/>
                    <a:ea typeface="Browallia New"/>
                  </a:rPr>
                  <a:t>Public key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rowallia New"/>
                    <a:ea typeface="Browallia New"/>
                  </a:rPr>
                  <a:t>Sending Bank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156" name="Group 115"/>
          <p:cNvGrpSpPr/>
          <p:nvPr/>
        </p:nvGrpSpPr>
        <p:grpSpPr>
          <a:xfrm>
            <a:off x="3560760" y="1268280"/>
            <a:ext cx="3889080" cy="2303280"/>
            <a:chOff x="3560760" y="1268280"/>
            <a:chExt cx="3889080" cy="2303280"/>
          </a:xfrm>
        </p:grpSpPr>
        <p:grpSp>
          <p:nvGrpSpPr>
            <p:cNvPr id="1157" name="Group 116"/>
            <p:cNvGrpSpPr/>
            <p:nvPr/>
          </p:nvGrpSpPr>
          <p:grpSpPr>
            <a:xfrm>
              <a:off x="3560760" y="1268280"/>
              <a:ext cx="3889080" cy="2303280"/>
              <a:chOff x="3560760" y="1268280"/>
              <a:chExt cx="3889080" cy="2303280"/>
            </a:xfrm>
          </p:grpSpPr>
          <p:grpSp>
            <p:nvGrpSpPr>
              <p:cNvPr id="1158" name="Group 117"/>
              <p:cNvGrpSpPr/>
              <p:nvPr/>
            </p:nvGrpSpPr>
            <p:grpSpPr>
              <a:xfrm>
                <a:off x="3560760" y="1916280"/>
                <a:ext cx="1800000" cy="431640"/>
                <a:chOff x="3560760" y="1916280"/>
                <a:chExt cx="1800000" cy="431640"/>
              </a:xfrm>
            </p:grpSpPr>
            <p:sp>
              <p:nvSpPr>
                <p:cNvPr id="1159" name="AutoShape 118"/>
                <p:cNvSpPr/>
                <p:nvPr/>
              </p:nvSpPr>
              <p:spPr>
                <a:xfrm>
                  <a:off x="3560760" y="2205000"/>
                  <a:ext cx="358560" cy="1429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160" name="AutoShape 119"/>
                <p:cNvSpPr/>
                <p:nvPr/>
              </p:nvSpPr>
              <p:spPr>
                <a:xfrm>
                  <a:off x="3992400" y="1916280"/>
                  <a:ext cx="1368360" cy="2887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161" name="Group 120"/>
              <p:cNvGrpSpPr/>
              <p:nvPr/>
            </p:nvGrpSpPr>
            <p:grpSpPr>
              <a:xfrm>
                <a:off x="6081480" y="1268280"/>
                <a:ext cx="1368360" cy="2303280"/>
                <a:chOff x="6081480" y="1268280"/>
                <a:chExt cx="1368360" cy="2303280"/>
              </a:xfrm>
            </p:grpSpPr>
            <p:sp>
              <p:nvSpPr>
                <p:cNvPr id="1162" name="AutoShape 121"/>
                <p:cNvSpPr/>
                <p:nvPr/>
              </p:nvSpPr>
              <p:spPr>
                <a:xfrm>
                  <a:off x="6081480" y="1268280"/>
                  <a:ext cx="1368360" cy="2303280"/>
                </a:xfrm>
                <a:custGeom>
                  <a:avLst/>
                  <a:gdLst>
                    <a:gd name="textAreaLeft" fmla="*/ 66600 w 1368360"/>
                    <a:gd name="textAreaRight" fmla="*/ 1301760 w 1368360"/>
                    <a:gd name="textAreaTop" fmla="*/ 66600 h 2303280"/>
                    <a:gd name="textAreaBottom" fmla="*/ 2236680 h 2303280"/>
                  </a:gdLst>
                  <a:ahLst/>
                  <a:rect l="textAreaLeft" t="textAreaTop" r="textAreaRight" b="textAreaBottom"/>
                  <a:pathLst>
                    <a:path w="21600" h="36354">
                      <a:moveTo>
                        <a:pt x="3600" y="0"/>
                      </a:moveTo>
                      <a:arcTo wR="3600" hR="3600" stAng="16200000" swAng="-5400000"/>
                      <a:lnTo>
                        <a:pt x="0" y="32754"/>
                      </a:lnTo>
                      <a:arcTo wR="3600" hR="3600" stAng="10800000" swAng="-5400000"/>
                      <a:lnTo>
                        <a:pt x="18000" y="3635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1163" name="Group 122"/>
                <p:cNvGrpSpPr/>
                <p:nvPr/>
              </p:nvGrpSpPr>
              <p:grpSpPr>
                <a:xfrm>
                  <a:off x="6154200" y="1412640"/>
                  <a:ext cx="1223640" cy="2016000"/>
                  <a:chOff x="6154200" y="1412640"/>
                  <a:chExt cx="1223640" cy="2016000"/>
                </a:xfrm>
              </p:grpSpPr>
              <p:sp>
                <p:nvSpPr>
                  <p:cNvPr id="1164" name="Rectangle 123"/>
                  <p:cNvSpPr/>
                  <p:nvPr/>
                </p:nvSpPr>
                <p:spPr>
                  <a:xfrm>
                    <a:off x="6441480" y="3141360"/>
                    <a:ext cx="647640" cy="28728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Browallia New"/>
                        <a:ea typeface="Browallia New"/>
                      </a:rPr>
                      <a:t>Hash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1165" name="Text Box 124"/>
                  <p:cNvSpPr/>
                  <p:nvPr/>
                </p:nvSpPr>
                <p:spPr>
                  <a:xfrm>
                    <a:off x="6227280" y="2471400"/>
                    <a:ext cx="1137960" cy="38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Hash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rowallia New"/>
                        <a:ea typeface="Browallia New"/>
                      </a:rPr>
                      <a:t>(SHA-256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1166" name="Line 125"/>
                  <p:cNvSpPr/>
                  <p:nvPr/>
                </p:nvSpPr>
                <p:spPr>
                  <a:xfrm>
                    <a:off x="6800040" y="2839680"/>
                    <a:ext cx="0" cy="254160"/>
                  </a:xfrm>
                  <a:prstGeom prst="line">
                    <a:avLst/>
                  </a:prstGeom>
                  <a:ln w="381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grpSp>
                <p:nvGrpSpPr>
                  <p:cNvPr id="1167" name="Group 126"/>
                  <p:cNvGrpSpPr/>
                  <p:nvPr/>
                </p:nvGrpSpPr>
                <p:grpSpPr>
                  <a:xfrm>
                    <a:off x="6225480" y="1485720"/>
                    <a:ext cx="1079280" cy="169560"/>
                    <a:chOff x="6225480" y="1485720"/>
                    <a:chExt cx="1079280" cy="169560"/>
                  </a:xfrm>
                </p:grpSpPr>
                <p:pic>
                  <p:nvPicPr>
                    <p:cNvPr id="1168" name="Picture 127" descr="004-F-BW200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225480" y="1485720"/>
                      <a:ext cx="337320" cy="168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  <p:pic>
                  <p:nvPicPr>
                    <p:cNvPr id="1169" name="Picture 128" descr="004-R-BW200"/>
                    <p:cNvPicPr/>
                    <p:nvPr/>
                  </p:nvPicPr>
                  <p:blipFill>
                    <a:blip r:embed="rId25"/>
                    <a:srcRect l="2890" t="11676" r="0" b="0"/>
                    <a:stretch/>
                  </p:blipFill>
                  <p:spPr>
                    <a:xfrm>
                      <a:off x="6596640" y="1485720"/>
                      <a:ext cx="336960" cy="1695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  <p:pic>
                  <p:nvPicPr>
                    <p:cNvPr id="1170" name="Picture 129" descr="004-F-100Q080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967800" y="1485720"/>
                      <a:ext cx="336960" cy="168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grpSp>
              <p:sp>
                <p:nvSpPr>
                  <p:cNvPr id="1171" name="Line 130"/>
                  <p:cNvSpPr/>
                  <p:nvPr/>
                </p:nvSpPr>
                <p:spPr>
                  <a:xfrm>
                    <a:off x="6800040" y="1739520"/>
                    <a:ext cx="0" cy="255600"/>
                  </a:xfrm>
                  <a:prstGeom prst="line">
                    <a:avLst/>
                  </a:prstGeom>
                  <a:ln w="381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1172" name="AutoShape 131"/>
                  <p:cNvSpPr/>
                  <p:nvPr/>
                </p:nvSpPr>
                <p:spPr>
                  <a:xfrm>
                    <a:off x="6512760" y="2017440"/>
                    <a:ext cx="503280" cy="431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cc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997a3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pic>
                <p:nvPicPr>
                  <p:cNvPr id="1173" name="Picture 132" descr="MCSY00846_0000[1]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584400" y="2060280"/>
                    <a:ext cx="3585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4" name="AutoShape 133"/>
                  <p:cNvSpPr/>
                  <p:nvPr/>
                </p:nvSpPr>
                <p:spPr>
                  <a:xfrm>
                    <a:off x="6154200" y="1412640"/>
                    <a:ext cx="1223640" cy="28872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</p:grpSp>
        </p:grpSp>
        <p:grpSp>
          <p:nvGrpSpPr>
            <p:cNvPr id="1175" name="Group 134"/>
            <p:cNvGrpSpPr/>
            <p:nvPr/>
          </p:nvGrpSpPr>
          <p:grpSpPr>
            <a:xfrm>
              <a:off x="5289120" y="1268280"/>
              <a:ext cx="936720" cy="2232000"/>
              <a:chOff x="5289120" y="1268280"/>
              <a:chExt cx="936720" cy="2232000"/>
            </a:xfrm>
          </p:grpSpPr>
          <p:sp>
            <p:nvSpPr>
              <p:cNvPr id="1176" name="Line 135"/>
              <p:cNvSpPr/>
              <p:nvPr/>
            </p:nvSpPr>
            <p:spPr>
              <a:xfrm flipV="1">
                <a:off x="5289480" y="1268280"/>
                <a:ext cx="936360" cy="64800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77" name="Line 136"/>
              <p:cNvSpPr/>
              <p:nvPr/>
            </p:nvSpPr>
            <p:spPr>
              <a:xfrm flipH="1" flipV="1">
                <a:off x="5289120" y="2205000"/>
                <a:ext cx="863640" cy="12952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pic>
        <p:nvPicPr>
          <p:cNvPr id="1178" name="Picture 137" descr="CR25"/>
          <p:cNvPicPr/>
          <p:nvPr/>
        </p:nvPicPr>
        <p:blipFill>
          <a:blip r:embed="rId28">
            <a:lum contrast="-42000"/>
          </a:blip>
          <a:stretch/>
        </p:blipFill>
        <p:spPr>
          <a:xfrm>
            <a:off x="612720" y="4676760"/>
            <a:ext cx="646200" cy="51588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38" descr="CR25"/>
          <p:cNvPicPr/>
          <p:nvPr/>
        </p:nvPicPr>
        <p:blipFill>
          <a:blip r:embed="rId29">
            <a:lum contrast="-42000"/>
          </a:blip>
          <a:stretch/>
        </p:blipFill>
        <p:spPr>
          <a:xfrm>
            <a:off x="539640" y="6021360"/>
            <a:ext cx="574920" cy="458640"/>
          </a:xfrm>
          <a:prstGeom prst="rect">
            <a:avLst/>
          </a:prstGeom>
          <a:ln w="0">
            <a:noFill/>
          </a:ln>
        </p:spPr>
      </p:pic>
      <p:sp>
        <p:nvSpPr>
          <p:cNvPr id="1180" name="Rectangle 139"/>
          <p:cNvSpPr/>
          <p:nvPr/>
        </p:nvSpPr>
        <p:spPr>
          <a:xfrm>
            <a:off x="50328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1  End-to-end Data Integrity Control &amp; Non-repudiation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15365 -0.00139 E">
                                      <p:cBhvr>
                                        <p:cTn id="65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4"/>
          <p:cNvSpPr/>
          <p:nvPr/>
        </p:nvSpPr>
        <p:spPr>
          <a:xfrm>
            <a:off x="6659640" y="3933720"/>
            <a:ext cx="230508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250920" y="3933720"/>
            <a:ext cx="3960720" cy="273528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3" name="Text Box 6"/>
          <p:cNvSpPr/>
          <p:nvPr/>
        </p:nvSpPr>
        <p:spPr>
          <a:xfrm>
            <a:off x="2956320" y="63882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Send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4" name="Text Box 7"/>
          <p:cNvSpPr/>
          <p:nvPr/>
        </p:nvSpPr>
        <p:spPr>
          <a:xfrm>
            <a:off x="6386040" y="638172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aying Bank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5" name="Line 8"/>
          <p:cNvSpPr/>
          <p:nvPr/>
        </p:nvSpPr>
        <p:spPr>
          <a:xfrm>
            <a:off x="1908000" y="5156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6" name="Text Box 9"/>
          <p:cNvSpPr/>
          <p:nvPr/>
        </p:nvSpPr>
        <p:spPr>
          <a:xfrm>
            <a:off x="2219400" y="5581800"/>
            <a:ext cx="1701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Send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187" name="Picture 10" descr="j0285750"/>
          <p:cNvPicPr/>
          <p:nvPr/>
        </p:nvPicPr>
        <p:blipFill>
          <a:blip r:embed="rId1"/>
          <a:stretch/>
        </p:blipFill>
        <p:spPr>
          <a:xfrm>
            <a:off x="2627280" y="4897440"/>
            <a:ext cx="1008000" cy="61920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11"/>
          <p:cNvSpPr/>
          <p:nvPr/>
        </p:nvSpPr>
        <p:spPr>
          <a:xfrm>
            <a:off x="5148360" y="4437000"/>
            <a:ext cx="647640" cy="14414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189" name="Picture 12" descr="j0195384"/>
          <p:cNvPicPr/>
          <p:nvPr/>
        </p:nvPicPr>
        <p:blipFill>
          <a:blip r:embed="rId2"/>
          <a:stretch/>
        </p:blipFill>
        <p:spPr>
          <a:xfrm>
            <a:off x="1547640" y="5973840"/>
            <a:ext cx="493920" cy="50328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13"/>
          <p:cNvSpPr/>
          <p:nvPr/>
        </p:nvSpPr>
        <p:spPr>
          <a:xfrm>
            <a:off x="7057080" y="5581800"/>
            <a:ext cx="1575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Paying Bank)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191" name="Picture 14" descr="j0285750"/>
          <p:cNvPicPr/>
          <p:nvPr/>
        </p:nvPicPr>
        <p:blipFill>
          <a:blip r:embed="rId3"/>
          <a:stretch/>
        </p:blipFill>
        <p:spPr>
          <a:xfrm>
            <a:off x="7310520" y="4898880"/>
            <a:ext cx="1006560" cy="617760"/>
          </a:xfrm>
          <a:prstGeom prst="rect">
            <a:avLst/>
          </a:prstGeom>
          <a:ln w="0">
            <a:noFill/>
          </a:ln>
        </p:spPr>
      </p:pic>
      <p:sp>
        <p:nvSpPr>
          <p:cNvPr id="1192" name="Line 15"/>
          <p:cNvSpPr/>
          <p:nvPr/>
        </p:nvSpPr>
        <p:spPr>
          <a:xfrm>
            <a:off x="1187280" y="6261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3" name="Line 16"/>
          <p:cNvSpPr/>
          <p:nvPr/>
        </p:nvSpPr>
        <p:spPr>
          <a:xfrm flipV="1">
            <a:off x="2268360" y="5587920"/>
            <a:ext cx="2876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4" name="Line 17"/>
          <p:cNvSpPr/>
          <p:nvPr/>
        </p:nvSpPr>
        <p:spPr>
          <a:xfrm>
            <a:off x="3780000" y="51562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195" name="Picture 18" descr="j0195384"/>
          <p:cNvPicPr/>
          <p:nvPr/>
        </p:nvPicPr>
        <p:blipFill>
          <a:blip r:embed="rId4"/>
          <a:stretch/>
        </p:blipFill>
        <p:spPr>
          <a:xfrm>
            <a:off x="1332000" y="4748040"/>
            <a:ext cx="423720" cy="432000"/>
          </a:xfrm>
          <a:prstGeom prst="rect">
            <a:avLst/>
          </a:prstGeom>
          <a:ln w="0">
            <a:noFill/>
          </a:ln>
        </p:spPr>
      </p:pic>
      <p:sp>
        <p:nvSpPr>
          <p:cNvPr id="1196" name="Line 19"/>
          <p:cNvSpPr/>
          <p:nvPr/>
        </p:nvSpPr>
        <p:spPr>
          <a:xfrm>
            <a:off x="6012000" y="51577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7" name="Text Box 20"/>
          <p:cNvSpPr/>
          <p:nvPr/>
        </p:nvSpPr>
        <p:spPr>
          <a:xfrm>
            <a:off x="1189440" y="64054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8" name="Text Box 21"/>
          <p:cNvSpPr/>
          <p:nvPr/>
        </p:nvSpPr>
        <p:spPr>
          <a:xfrm>
            <a:off x="30960" y="51084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 + Data entry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9" name="Text Box 22"/>
          <p:cNvSpPr/>
          <p:nvPr/>
        </p:nvSpPr>
        <p:spPr>
          <a:xfrm>
            <a:off x="320400" y="6405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apture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200" name="Picture 23" descr=""/>
          <p:cNvPicPr/>
          <p:nvPr/>
        </p:nvPicPr>
        <p:blipFill>
          <a:blip r:embed="rId5"/>
          <a:stretch/>
        </p:blipFill>
        <p:spPr>
          <a:xfrm>
            <a:off x="5580000" y="4292640"/>
            <a:ext cx="792360" cy="593640"/>
          </a:xfrm>
          <a:prstGeom prst="rect">
            <a:avLst/>
          </a:prstGeom>
          <a:ln w="0">
            <a:noFill/>
          </a:ln>
        </p:spPr>
      </p:pic>
      <p:grpSp>
        <p:nvGrpSpPr>
          <p:cNvPr id="1201" name="Group 24"/>
          <p:cNvGrpSpPr/>
          <p:nvPr/>
        </p:nvGrpSpPr>
        <p:grpSpPr>
          <a:xfrm>
            <a:off x="2534040" y="1125360"/>
            <a:ext cx="5424120" cy="2787840"/>
            <a:chOff x="2534040" y="1125360"/>
            <a:chExt cx="5424120" cy="2787840"/>
          </a:xfrm>
        </p:grpSpPr>
        <p:sp>
          <p:nvSpPr>
            <p:cNvPr id="1202" name="AutoShape 25"/>
            <p:cNvSpPr/>
            <p:nvPr/>
          </p:nvSpPr>
          <p:spPr>
            <a:xfrm>
              <a:off x="3851280" y="1125360"/>
              <a:ext cx="2951280" cy="2735280"/>
            </a:xfrm>
            <a:prstGeom prst="wedgeRoundRectCallout">
              <a:avLst>
                <a:gd name="adj1" fmla="val -995"/>
                <a:gd name="adj2" fmla="val 7100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03" name="Group 26"/>
            <p:cNvGrpSpPr/>
            <p:nvPr/>
          </p:nvGrpSpPr>
          <p:grpSpPr>
            <a:xfrm>
              <a:off x="3994200" y="1413000"/>
              <a:ext cx="2592360" cy="2077560"/>
              <a:chOff x="3994200" y="1413000"/>
              <a:chExt cx="2592360" cy="2077560"/>
            </a:xfrm>
          </p:grpSpPr>
          <p:sp>
            <p:nvSpPr>
              <p:cNvPr id="1204" name="Rectangle 27"/>
              <p:cNvSpPr/>
              <p:nvPr/>
            </p:nvSpPr>
            <p:spPr>
              <a:xfrm>
                <a:off x="4003560" y="1447920"/>
                <a:ext cx="2583000" cy="19098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05" name="Text Box 28"/>
              <p:cNvSpPr/>
              <p:nvPr/>
            </p:nvSpPr>
            <p:spPr>
              <a:xfrm>
                <a:off x="4005360" y="1413000"/>
                <a:ext cx="2509560" cy="12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Browallia New"/>
                    <a:ea typeface="Browallia New"/>
                  </a:rPr>
                  <a:t>Normal In-clearing Batch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206" name="Group 29"/>
              <p:cNvGrpSpPr/>
              <p:nvPr/>
            </p:nvGrpSpPr>
            <p:grpSpPr>
              <a:xfrm>
                <a:off x="3994200" y="1731960"/>
                <a:ext cx="1237680" cy="1404000"/>
                <a:chOff x="3994200" y="1731960"/>
                <a:chExt cx="1237680" cy="1404000"/>
              </a:xfrm>
            </p:grpSpPr>
            <p:sp>
              <p:nvSpPr>
                <p:cNvPr id="1207" name="Rectangle 30"/>
                <p:cNvSpPr/>
                <p:nvPr/>
              </p:nvSpPr>
              <p:spPr>
                <a:xfrm>
                  <a:off x="4058280" y="1757160"/>
                  <a:ext cx="1119960" cy="12060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08" name="Rectangle 31"/>
                <p:cNvSpPr/>
                <p:nvPr/>
              </p:nvSpPr>
              <p:spPr>
                <a:xfrm>
                  <a:off x="4097160" y="210600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09" name="Rectangle 32"/>
                <p:cNvSpPr/>
                <p:nvPr/>
              </p:nvSpPr>
              <p:spPr>
                <a:xfrm>
                  <a:off x="4097160" y="226944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0" name="Rectangle 33"/>
                <p:cNvSpPr/>
                <p:nvPr/>
              </p:nvSpPr>
              <p:spPr>
                <a:xfrm>
                  <a:off x="4097160" y="243288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1" name="Rectangle 34"/>
                <p:cNvSpPr/>
                <p:nvPr/>
              </p:nvSpPr>
              <p:spPr>
                <a:xfrm>
                  <a:off x="4097160" y="259452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2" name="Rectangle 35"/>
                <p:cNvSpPr/>
                <p:nvPr/>
              </p:nvSpPr>
              <p:spPr>
                <a:xfrm>
                  <a:off x="4097160" y="275796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3" name="Rectangle 36"/>
                <p:cNvSpPr/>
                <p:nvPr/>
              </p:nvSpPr>
              <p:spPr>
                <a:xfrm>
                  <a:off x="4097160" y="1942560"/>
                  <a:ext cx="103788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4" name="Text Box 37"/>
                <p:cNvSpPr/>
                <p:nvPr/>
              </p:nvSpPr>
              <p:spPr>
                <a:xfrm>
                  <a:off x="4163400" y="1915920"/>
                  <a:ext cx="88056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Control Record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5" name="Text Box 38"/>
                <p:cNvSpPr/>
                <p:nvPr/>
              </p:nvSpPr>
              <p:spPr>
                <a:xfrm>
                  <a:off x="4254120" y="1731960"/>
                  <a:ext cx="6804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ata Fi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6" name="Text Box 39"/>
                <p:cNvSpPr/>
                <p:nvPr/>
              </p:nvSpPr>
              <p:spPr>
                <a:xfrm>
                  <a:off x="3994200" y="208368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7" name="Text Box 40"/>
                <p:cNvSpPr/>
                <p:nvPr/>
              </p:nvSpPr>
              <p:spPr>
                <a:xfrm>
                  <a:off x="3995640" y="225144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8" name="Text Box 41"/>
                <p:cNvSpPr/>
                <p:nvPr/>
              </p:nvSpPr>
              <p:spPr>
                <a:xfrm>
                  <a:off x="3995640" y="240732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19" name="Text Box 42"/>
                <p:cNvSpPr/>
                <p:nvPr/>
              </p:nvSpPr>
              <p:spPr>
                <a:xfrm>
                  <a:off x="3995640" y="257760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0" name="Text Box 43"/>
                <p:cNvSpPr/>
                <p:nvPr/>
              </p:nvSpPr>
              <p:spPr>
                <a:xfrm>
                  <a:off x="3995640" y="274104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1" name="Rectangle 44"/>
                <p:cNvSpPr/>
                <p:nvPr/>
              </p:nvSpPr>
              <p:spPr>
                <a:xfrm>
                  <a:off x="4777560" y="210744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2" name="Rectangle 45"/>
                <p:cNvSpPr/>
                <p:nvPr/>
              </p:nvSpPr>
              <p:spPr>
                <a:xfrm>
                  <a:off x="4777560" y="226944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3" name="Rectangle 46"/>
                <p:cNvSpPr/>
                <p:nvPr/>
              </p:nvSpPr>
              <p:spPr>
                <a:xfrm>
                  <a:off x="4777560" y="243288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4" name="Rectangle 47"/>
                <p:cNvSpPr/>
                <p:nvPr/>
              </p:nvSpPr>
              <p:spPr>
                <a:xfrm>
                  <a:off x="4777560" y="259452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5" name="Rectangle 48"/>
                <p:cNvSpPr/>
                <p:nvPr/>
              </p:nvSpPr>
              <p:spPr>
                <a:xfrm>
                  <a:off x="4777560" y="275940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6" name="Text Box 49"/>
                <p:cNvSpPr/>
                <p:nvPr/>
              </p:nvSpPr>
              <p:spPr>
                <a:xfrm>
                  <a:off x="4683240" y="208620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7" name="Text Box 50"/>
                <p:cNvSpPr/>
                <p:nvPr/>
              </p:nvSpPr>
              <p:spPr>
                <a:xfrm>
                  <a:off x="4683240" y="225144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8" name="Text Box 51"/>
                <p:cNvSpPr/>
                <p:nvPr/>
              </p:nvSpPr>
              <p:spPr>
                <a:xfrm>
                  <a:off x="4686480" y="240912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29" name="Text Box 52"/>
                <p:cNvSpPr/>
                <p:nvPr/>
              </p:nvSpPr>
              <p:spPr>
                <a:xfrm>
                  <a:off x="4689360" y="257652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30" name="Text Box 53"/>
                <p:cNvSpPr/>
                <p:nvPr/>
              </p:nvSpPr>
              <p:spPr>
                <a:xfrm>
                  <a:off x="4689360" y="273996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231" name="Rectangle 54"/>
              <p:cNvSpPr/>
              <p:nvPr/>
            </p:nvSpPr>
            <p:spPr>
              <a:xfrm>
                <a:off x="4071960" y="2967120"/>
                <a:ext cx="1092240" cy="2538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32" name="Text Box 55"/>
              <p:cNvSpPr/>
              <p:nvPr/>
            </p:nvSpPr>
            <p:spPr>
              <a:xfrm>
                <a:off x="4051080" y="2970360"/>
                <a:ext cx="1152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Browallia New"/>
                    <a:ea typeface="Browallia New"/>
                  </a:rPr>
                  <a:t>Digital Signature Clearing House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33" name="Rectangle 56"/>
              <p:cNvSpPr/>
              <p:nvPr/>
            </p:nvSpPr>
            <p:spPr>
              <a:xfrm>
                <a:off x="4065480" y="1930320"/>
                <a:ext cx="1079640" cy="1036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234" name="Group 57"/>
              <p:cNvGrpSpPr/>
              <p:nvPr/>
            </p:nvGrpSpPr>
            <p:grpSpPr>
              <a:xfrm>
                <a:off x="5218200" y="1855800"/>
                <a:ext cx="1331640" cy="259920"/>
                <a:chOff x="5218200" y="1855800"/>
                <a:chExt cx="1331640" cy="259920"/>
              </a:xfrm>
            </p:grpSpPr>
            <p:grpSp>
              <p:nvGrpSpPr>
                <p:cNvPr id="1235" name="Group 58"/>
                <p:cNvGrpSpPr/>
                <p:nvPr/>
              </p:nvGrpSpPr>
              <p:grpSpPr>
                <a:xfrm>
                  <a:off x="5254200" y="1885320"/>
                  <a:ext cx="1254960" cy="197280"/>
                  <a:chOff x="5254200" y="1885320"/>
                  <a:chExt cx="1254960" cy="197280"/>
                </a:xfrm>
              </p:grpSpPr>
              <p:pic>
                <p:nvPicPr>
                  <p:cNvPr id="1236" name="Picture 59" descr="004-F-BW200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4200" y="1885320"/>
                    <a:ext cx="39204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37" name="Picture 60" descr="004-R-BW200"/>
                  <p:cNvPicPr/>
                  <p:nvPr/>
                </p:nvPicPr>
                <p:blipFill>
                  <a:blip r:embed="rId7"/>
                  <a:srcRect l="2949" t="11557" r="0" b="0"/>
                  <a:stretch/>
                </p:blipFill>
                <p:spPr>
                  <a:xfrm>
                    <a:off x="5685840" y="1885320"/>
                    <a:ext cx="391680" cy="19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38" name="Picture 61" descr="004-F-100Q080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7480" y="188532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239" name="Rectangle 62"/>
                <p:cNvSpPr/>
                <p:nvPr/>
              </p:nvSpPr>
              <p:spPr>
                <a:xfrm>
                  <a:off x="5218200" y="1855800"/>
                  <a:ext cx="1331640" cy="259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240" name="Group 63"/>
              <p:cNvGrpSpPr/>
              <p:nvPr/>
            </p:nvGrpSpPr>
            <p:grpSpPr>
              <a:xfrm>
                <a:off x="5218200" y="2116080"/>
                <a:ext cx="1331640" cy="258480"/>
                <a:chOff x="5218200" y="2116080"/>
                <a:chExt cx="1331640" cy="258480"/>
              </a:xfrm>
            </p:grpSpPr>
            <p:grpSp>
              <p:nvGrpSpPr>
                <p:cNvPr id="1241" name="Group 64"/>
                <p:cNvGrpSpPr/>
                <p:nvPr/>
              </p:nvGrpSpPr>
              <p:grpSpPr>
                <a:xfrm>
                  <a:off x="5254200" y="2145600"/>
                  <a:ext cx="1254960" cy="196200"/>
                  <a:chOff x="5254200" y="2145600"/>
                  <a:chExt cx="1254960" cy="196200"/>
                </a:xfrm>
              </p:grpSpPr>
              <p:pic>
                <p:nvPicPr>
                  <p:cNvPr id="1242" name="Picture 65" descr="004-F-BW200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4200" y="214560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43" name="Picture 66" descr="004-R-BW200"/>
                  <p:cNvPicPr/>
                  <p:nvPr/>
                </p:nvPicPr>
                <p:blipFill>
                  <a:blip r:embed="rId10"/>
                  <a:srcRect l="2949" t="11557" r="0" b="0"/>
                  <a:stretch/>
                </p:blipFill>
                <p:spPr>
                  <a:xfrm>
                    <a:off x="5685840" y="214560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44" name="Picture 67" descr="004-F-100Q080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7480" y="214560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245" name="Rectangle 68"/>
                <p:cNvSpPr/>
                <p:nvPr/>
              </p:nvSpPr>
              <p:spPr>
                <a:xfrm>
                  <a:off x="5218200" y="211608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246" name="Group 69"/>
              <p:cNvGrpSpPr/>
              <p:nvPr/>
            </p:nvGrpSpPr>
            <p:grpSpPr>
              <a:xfrm>
                <a:off x="5218200" y="2374920"/>
                <a:ext cx="1331640" cy="258480"/>
                <a:chOff x="5218200" y="2374920"/>
                <a:chExt cx="1331640" cy="258480"/>
              </a:xfrm>
            </p:grpSpPr>
            <p:grpSp>
              <p:nvGrpSpPr>
                <p:cNvPr id="1247" name="Group 70"/>
                <p:cNvGrpSpPr/>
                <p:nvPr/>
              </p:nvGrpSpPr>
              <p:grpSpPr>
                <a:xfrm>
                  <a:off x="5254200" y="2404440"/>
                  <a:ext cx="1254960" cy="196200"/>
                  <a:chOff x="5254200" y="2404440"/>
                  <a:chExt cx="1254960" cy="196200"/>
                </a:xfrm>
              </p:grpSpPr>
              <p:pic>
                <p:nvPicPr>
                  <p:cNvPr id="1248" name="Picture 71" descr="004-F-BW200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4200" y="240444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49" name="Picture 72" descr="004-R-BW200"/>
                  <p:cNvPicPr/>
                  <p:nvPr/>
                </p:nvPicPr>
                <p:blipFill>
                  <a:blip r:embed="rId13"/>
                  <a:srcRect l="2949" t="11557" r="0" b="0"/>
                  <a:stretch/>
                </p:blipFill>
                <p:spPr>
                  <a:xfrm>
                    <a:off x="5685840" y="240444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50" name="Picture 73" descr="004-F-100Q080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7480" y="240444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251" name="Rectangle 74"/>
                <p:cNvSpPr/>
                <p:nvPr/>
              </p:nvSpPr>
              <p:spPr>
                <a:xfrm>
                  <a:off x="5218200" y="237492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252" name="Group 75"/>
              <p:cNvGrpSpPr/>
              <p:nvPr/>
            </p:nvGrpSpPr>
            <p:grpSpPr>
              <a:xfrm>
                <a:off x="5218200" y="2631960"/>
                <a:ext cx="1331640" cy="258480"/>
                <a:chOff x="5218200" y="2631960"/>
                <a:chExt cx="1331640" cy="258480"/>
              </a:xfrm>
            </p:grpSpPr>
            <p:grpSp>
              <p:nvGrpSpPr>
                <p:cNvPr id="1253" name="Group 76"/>
                <p:cNvGrpSpPr/>
                <p:nvPr/>
              </p:nvGrpSpPr>
              <p:grpSpPr>
                <a:xfrm>
                  <a:off x="5254200" y="2661480"/>
                  <a:ext cx="1254960" cy="196200"/>
                  <a:chOff x="5254200" y="2661480"/>
                  <a:chExt cx="1254960" cy="196200"/>
                </a:xfrm>
              </p:grpSpPr>
              <p:pic>
                <p:nvPicPr>
                  <p:cNvPr id="1254" name="Picture 77" descr="004-F-BW200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54200" y="2661480"/>
                    <a:ext cx="39204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55" name="Picture 78" descr="004-R-BW200"/>
                  <p:cNvPicPr/>
                  <p:nvPr/>
                </p:nvPicPr>
                <p:blipFill>
                  <a:blip r:embed="rId16"/>
                  <a:srcRect l="2949" t="11557" r="0" b="0"/>
                  <a:stretch/>
                </p:blipFill>
                <p:spPr>
                  <a:xfrm>
                    <a:off x="5685840" y="2661480"/>
                    <a:ext cx="391680" cy="19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56" name="Picture 79" descr="004-F-100Q080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7480" y="2661480"/>
                    <a:ext cx="391680" cy="19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257" name="Rectangle 80"/>
                <p:cNvSpPr/>
                <p:nvPr/>
              </p:nvSpPr>
              <p:spPr>
                <a:xfrm>
                  <a:off x="5218200" y="2631960"/>
                  <a:ext cx="1331640" cy="25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258" name="Group 81"/>
              <p:cNvGrpSpPr/>
              <p:nvPr/>
            </p:nvGrpSpPr>
            <p:grpSpPr>
              <a:xfrm>
                <a:off x="5218200" y="2890800"/>
                <a:ext cx="1331640" cy="259920"/>
                <a:chOff x="5218200" y="2890800"/>
                <a:chExt cx="1331640" cy="259920"/>
              </a:xfrm>
            </p:grpSpPr>
            <p:grpSp>
              <p:nvGrpSpPr>
                <p:cNvPr id="1259" name="Group 82"/>
                <p:cNvGrpSpPr/>
                <p:nvPr/>
              </p:nvGrpSpPr>
              <p:grpSpPr>
                <a:xfrm>
                  <a:off x="5254200" y="2920320"/>
                  <a:ext cx="1254960" cy="197280"/>
                  <a:chOff x="5254200" y="2920320"/>
                  <a:chExt cx="1254960" cy="197280"/>
                </a:xfrm>
              </p:grpSpPr>
              <p:pic>
                <p:nvPicPr>
                  <p:cNvPr id="1260" name="Picture 83" descr="004-F-BW200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4200" y="2920320"/>
                    <a:ext cx="39204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61" name="Picture 84" descr="004-R-BW200"/>
                  <p:cNvPicPr/>
                  <p:nvPr/>
                </p:nvPicPr>
                <p:blipFill>
                  <a:blip r:embed="rId19"/>
                  <a:srcRect l="2949" t="11557" r="0" b="0"/>
                  <a:stretch/>
                </p:blipFill>
                <p:spPr>
                  <a:xfrm>
                    <a:off x="5685840" y="2920320"/>
                    <a:ext cx="391680" cy="19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262" name="Picture 85" descr="004-F-100Q080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17480" y="292032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263" name="Rectangle 86"/>
                <p:cNvSpPr/>
                <p:nvPr/>
              </p:nvSpPr>
              <p:spPr>
                <a:xfrm>
                  <a:off x="5218200" y="2890800"/>
                  <a:ext cx="1331640" cy="259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1264" name="Text Box 87"/>
            <p:cNvSpPr/>
            <p:nvPr/>
          </p:nvSpPr>
          <p:spPr>
            <a:xfrm>
              <a:off x="2534040" y="3392640"/>
              <a:ext cx="542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Browallia New"/>
                  <a:ea typeface="Browallia New"/>
                </a:rPr>
                <a:t>In-Clearing Batch Generation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265" name="Picture 88" descr="CR25"/>
          <p:cNvPicPr/>
          <p:nvPr/>
        </p:nvPicPr>
        <p:blipFill>
          <a:blip r:embed="rId21">
            <a:lum contrast="-42000"/>
          </a:blip>
          <a:stretch/>
        </p:blipFill>
        <p:spPr>
          <a:xfrm>
            <a:off x="612720" y="4676760"/>
            <a:ext cx="646200" cy="51588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89" descr="CR25"/>
          <p:cNvPicPr/>
          <p:nvPr/>
        </p:nvPicPr>
        <p:blipFill>
          <a:blip r:embed="rId22">
            <a:lum contrast="-42000"/>
          </a:blip>
          <a:stretch/>
        </p:blipFill>
        <p:spPr>
          <a:xfrm>
            <a:off x="539640" y="6021360"/>
            <a:ext cx="574920" cy="458640"/>
          </a:xfrm>
          <a:prstGeom prst="rect">
            <a:avLst/>
          </a:prstGeom>
          <a:ln w="0">
            <a:noFill/>
          </a:ln>
        </p:spPr>
      </p:pic>
      <p:grpSp>
        <p:nvGrpSpPr>
          <p:cNvPr id="1267" name="Group 90"/>
          <p:cNvGrpSpPr/>
          <p:nvPr/>
        </p:nvGrpSpPr>
        <p:grpSpPr>
          <a:xfrm>
            <a:off x="1527120" y="1125360"/>
            <a:ext cx="7437600" cy="2824200"/>
            <a:chOff x="1527120" y="1125360"/>
            <a:chExt cx="7437600" cy="2824200"/>
          </a:xfrm>
        </p:grpSpPr>
        <p:sp>
          <p:nvSpPr>
            <p:cNvPr id="1268" name="AutoShape 91"/>
            <p:cNvSpPr/>
            <p:nvPr/>
          </p:nvSpPr>
          <p:spPr>
            <a:xfrm>
              <a:off x="2700360" y="1125360"/>
              <a:ext cx="6264360" cy="2808360"/>
            </a:xfrm>
            <a:prstGeom prst="wedgeRoundRectCallout">
              <a:avLst>
                <a:gd name="adj1" fmla="val 30324"/>
                <a:gd name="adj2" fmla="val 7905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69" name="Group 92"/>
            <p:cNvGrpSpPr/>
            <p:nvPr/>
          </p:nvGrpSpPr>
          <p:grpSpPr>
            <a:xfrm>
              <a:off x="2843280" y="1486080"/>
              <a:ext cx="2592360" cy="2077200"/>
              <a:chOff x="2843280" y="1486080"/>
              <a:chExt cx="2592360" cy="2077200"/>
            </a:xfrm>
          </p:grpSpPr>
          <p:sp>
            <p:nvSpPr>
              <p:cNvPr id="1270" name="Rectangle 93"/>
              <p:cNvSpPr/>
              <p:nvPr/>
            </p:nvSpPr>
            <p:spPr>
              <a:xfrm>
                <a:off x="2852640" y="1520640"/>
                <a:ext cx="2583000" cy="190944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1" name="Text Box 94"/>
              <p:cNvSpPr/>
              <p:nvPr/>
            </p:nvSpPr>
            <p:spPr>
              <a:xfrm>
                <a:off x="2854440" y="1486080"/>
                <a:ext cx="2509560" cy="12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Browallia New"/>
                    <a:ea typeface="Browallia New"/>
                  </a:rPr>
                  <a:t>Normal In-clearing Batch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272" name="Group 95"/>
              <p:cNvGrpSpPr/>
              <p:nvPr/>
            </p:nvGrpSpPr>
            <p:grpSpPr>
              <a:xfrm>
                <a:off x="2843280" y="1804680"/>
                <a:ext cx="1237680" cy="1403640"/>
                <a:chOff x="2843280" y="1804680"/>
                <a:chExt cx="1237680" cy="1403640"/>
              </a:xfrm>
            </p:grpSpPr>
            <p:sp>
              <p:nvSpPr>
                <p:cNvPr id="1273" name="Rectangle 96"/>
                <p:cNvSpPr/>
                <p:nvPr/>
              </p:nvSpPr>
              <p:spPr>
                <a:xfrm>
                  <a:off x="2907360" y="1829880"/>
                  <a:ext cx="1119960" cy="1205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4" name="Rectangle 97"/>
                <p:cNvSpPr/>
                <p:nvPr/>
              </p:nvSpPr>
              <p:spPr>
                <a:xfrm>
                  <a:off x="2946240" y="217872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5" name="Rectangle 98"/>
                <p:cNvSpPr/>
                <p:nvPr/>
              </p:nvSpPr>
              <p:spPr>
                <a:xfrm>
                  <a:off x="2946240" y="234180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6" name="Rectangle 99"/>
                <p:cNvSpPr/>
                <p:nvPr/>
              </p:nvSpPr>
              <p:spPr>
                <a:xfrm>
                  <a:off x="2946240" y="2505240"/>
                  <a:ext cx="6775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7" name="Rectangle 100"/>
                <p:cNvSpPr/>
                <p:nvPr/>
              </p:nvSpPr>
              <p:spPr>
                <a:xfrm>
                  <a:off x="2946240" y="266688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8" name="Rectangle 101"/>
                <p:cNvSpPr/>
                <p:nvPr/>
              </p:nvSpPr>
              <p:spPr>
                <a:xfrm>
                  <a:off x="2946240" y="2830320"/>
                  <a:ext cx="6775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79" name="Rectangle 102"/>
                <p:cNvSpPr/>
                <p:nvPr/>
              </p:nvSpPr>
              <p:spPr>
                <a:xfrm>
                  <a:off x="2946240" y="2015280"/>
                  <a:ext cx="103788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0" name="Text Box 103"/>
                <p:cNvSpPr/>
                <p:nvPr/>
              </p:nvSpPr>
              <p:spPr>
                <a:xfrm>
                  <a:off x="3012480" y="1988640"/>
                  <a:ext cx="88056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Control Record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1" name="Text Box 104"/>
                <p:cNvSpPr/>
                <p:nvPr/>
              </p:nvSpPr>
              <p:spPr>
                <a:xfrm>
                  <a:off x="3103200" y="1804680"/>
                  <a:ext cx="6804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ata File</a:t>
                  </a:r>
                  <a:endParaRPr b="0" lang="en-US" sz="1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2" name="Text Box 105"/>
                <p:cNvSpPr/>
                <p:nvPr/>
              </p:nvSpPr>
              <p:spPr>
                <a:xfrm>
                  <a:off x="2843280" y="215604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3" name="Text Box 106"/>
                <p:cNvSpPr/>
                <p:nvPr/>
              </p:nvSpPr>
              <p:spPr>
                <a:xfrm>
                  <a:off x="2844720" y="232380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4" name="Text Box 107"/>
                <p:cNvSpPr/>
                <p:nvPr/>
              </p:nvSpPr>
              <p:spPr>
                <a:xfrm>
                  <a:off x="2844720" y="248004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5" name="Text Box 108"/>
                <p:cNvSpPr/>
                <p:nvPr/>
              </p:nvSpPr>
              <p:spPr>
                <a:xfrm>
                  <a:off x="2844720" y="265032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6" name="Text Box 109"/>
                <p:cNvSpPr/>
                <p:nvPr/>
              </p:nvSpPr>
              <p:spPr>
                <a:xfrm>
                  <a:off x="2844720" y="2813400"/>
                  <a:ext cx="88200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3366"/>
                      </a:solidFill>
                      <a:latin typeface="Browallia New"/>
                      <a:ea typeface="Browallia New"/>
                    </a:rPr>
                    <a:t>Detail Record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7" name="Rectangle 110"/>
                <p:cNvSpPr/>
                <p:nvPr/>
              </p:nvSpPr>
              <p:spPr>
                <a:xfrm>
                  <a:off x="3626640" y="217980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8" name="Rectangle 111"/>
                <p:cNvSpPr/>
                <p:nvPr/>
              </p:nvSpPr>
              <p:spPr>
                <a:xfrm>
                  <a:off x="3626640" y="234180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89" name="Rectangle 112"/>
                <p:cNvSpPr/>
                <p:nvPr/>
              </p:nvSpPr>
              <p:spPr>
                <a:xfrm>
                  <a:off x="3626640" y="250524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0" name="Rectangle 113"/>
                <p:cNvSpPr/>
                <p:nvPr/>
              </p:nvSpPr>
              <p:spPr>
                <a:xfrm>
                  <a:off x="3626640" y="2666880"/>
                  <a:ext cx="357120" cy="1620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1" name="Rectangle 114"/>
                <p:cNvSpPr/>
                <p:nvPr/>
              </p:nvSpPr>
              <p:spPr>
                <a:xfrm>
                  <a:off x="3626640" y="2831760"/>
                  <a:ext cx="357120" cy="161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2" name="Text Box 115"/>
                <p:cNvSpPr/>
                <p:nvPr/>
              </p:nvSpPr>
              <p:spPr>
                <a:xfrm>
                  <a:off x="3532320" y="215892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1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3" name="Text Box 116"/>
                <p:cNvSpPr/>
                <p:nvPr/>
              </p:nvSpPr>
              <p:spPr>
                <a:xfrm>
                  <a:off x="3532320" y="232380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2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4" name="Text Box 117"/>
                <p:cNvSpPr/>
                <p:nvPr/>
              </p:nvSpPr>
              <p:spPr>
                <a:xfrm>
                  <a:off x="3535560" y="2481480"/>
                  <a:ext cx="54288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3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5" name="Text Box 118"/>
                <p:cNvSpPr/>
                <p:nvPr/>
              </p:nvSpPr>
              <p:spPr>
                <a:xfrm>
                  <a:off x="3538440" y="264888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4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296" name="Text Box 119"/>
                <p:cNvSpPr/>
                <p:nvPr/>
              </p:nvSpPr>
              <p:spPr>
                <a:xfrm>
                  <a:off x="3538440" y="2812320"/>
                  <a:ext cx="5425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Hash 5</a:t>
                  </a:r>
                  <a:endParaRPr b="0" lang="en-US" sz="11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297" name="Rectangle 120"/>
              <p:cNvSpPr/>
              <p:nvPr/>
            </p:nvSpPr>
            <p:spPr>
              <a:xfrm>
                <a:off x="2921040" y="3039840"/>
                <a:ext cx="1092240" cy="2534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8" name="Text Box 121"/>
              <p:cNvSpPr/>
              <p:nvPr/>
            </p:nvSpPr>
            <p:spPr>
              <a:xfrm>
                <a:off x="2900160" y="3043080"/>
                <a:ext cx="1152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Browallia New"/>
                    <a:ea typeface="Browallia New"/>
                  </a:rPr>
                  <a:t>Digital Signature Clearing House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9" name="Rectangle 122"/>
              <p:cNvSpPr/>
              <p:nvPr/>
            </p:nvSpPr>
            <p:spPr>
              <a:xfrm>
                <a:off x="2914560" y="2003040"/>
                <a:ext cx="1079640" cy="1036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300" name="Group 123"/>
              <p:cNvGrpSpPr/>
              <p:nvPr/>
            </p:nvGrpSpPr>
            <p:grpSpPr>
              <a:xfrm>
                <a:off x="4067280" y="1928520"/>
                <a:ext cx="1331640" cy="259560"/>
                <a:chOff x="4067280" y="1928520"/>
                <a:chExt cx="1331640" cy="259560"/>
              </a:xfrm>
            </p:grpSpPr>
            <p:grpSp>
              <p:nvGrpSpPr>
                <p:cNvPr id="1301" name="Group 124"/>
                <p:cNvGrpSpPr/>
                <p:nvPr/>
              </p:nvGrpSpPr>
              <p:grpSpPr>
                <a:xfrm>
                  <a:off x="4103280" y="1958040"/>
                  <a:ext cx="1254960" cy="196920"/>
                  <a:chOff x="4103280" y="1958040"/>
                  <a:chExt cx="1254960" cy="196920"/>
                </a:xfrm>
              </p:grpSpPr>
              <p:pic>
                <p:nvPicPr>
                  <p:cNvPr id="1302" name="Picture 125" descr="004-F-BW200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103280" y="1958040"/>
                    <a:ext cx="39204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03" name="Picture 126" descr="004-R-BW200"/>
                  <p:cNvPicPr/>
                  <p:nvPr/>
                </p:nvPicPr>
                <p:blipFill>
                  <a:blip r:embed="rId24"/>
                  <a:srcRect l="2949" t="11557" r="0" b="0"/>
                  <a:stretch/>
                </p:blipFill>
                <p:spPr>
                  <a:xfrm>
                    <a:off x="4534920" y="1958040"/>
                    <a:ext cx="391680" cy="19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04" name="Picture 127" descr="004-F-100Q080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966560" y="1958040"/>
                    <a:ext cx="39168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305" name="Rectangle 128"/>
                <p:cNvSpPr/>
                <p:nvPr/>
              </p:nvSpPr>
              <p:spPr>
                <a:xfrm>
                  <a:off x="4067280" y="1928520"/>
                  <a:ext cx="1331640" cy="259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306" name="Group 129"/>
              <p:cNvGrpSpPr/>
              <p:nvPr/>
            </p:nvGrpSpPr>
            <p:grpSpPr>
              <a:xfrm>
                <a:off x="4067280" y="2188800"/>
                <a:ext cx="1331640" cy="258120"/>
                <a:chOff x="4067280" y="2188800"/>
                <a:chExt cx="1331640" cy="258120"/>
              </a:xfrm>
            </p:grpSpPr>
            <p:grpSp>
              <p:nvGrpSpPr>
                <p:cNvPr id="1307" name="Group 130"/>
                <p:cNvGrpSpPr/>
                <p:nvPr/>
              </p:nvGrpSpPr>
              <p:grpSpPr>
                <a:xfrm>
                  <a:off x="4103280" y="2217960"/>
                  <a:ext cx="1254960" cy="195840"/>
                  <a:chOff x="4103280" y="2217960"/>
                  <a:chExt cx="1254960" cy="195840"/>
                </a:xfrm>
              </p:grpSpPr>
              <p:pic>
                <p:nvPicPr>
                  <p:cNvPr id="1308" name="Picture 131" descr="004-F-BW200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03280" y="2217960"/>
                    <a:ext cx="39204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09" name="Picture 132" descr="004-R-BW200"/>
                  <p:cNvPicPr/>
                  <p:nvPr/>
                </p:nvPicPr>
                <p:blipFill>
                  <a:blip r:embed="rId27"/>
                  <a:srcRect l="2949" t="11557" r="0" b="0"/>
                  <a:stretch/>
                </p:blipFill>
                <p:spPr>
                  <a:xfrm>
                    <a:off x="4534920" y="221796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10" name="Picture 133" descr="004-F-100Q080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66560" y="2217960"/>
                    <a:ext cx="3916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311" name="Rectangle 134"/>
                <p:cNvSpPr/>
                <p:nvPr/>
              </p:nvSpPr>
              <p:spPr>
                <a:xfrm>
                  <a:off x="4067280" y="2188800"/>
                  <a:ext cx="133164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312" name="Group 135"/>
              <p:cNvGrpSpPr/>
              <p:nvPr/>
            </p:nvGrpSpPr>
            <p:grpSpPr>
              <a:xfrm>
                <a:off x="4067280" y="2447640"/>
                <a:ext cx="1331640" cy="258120"/>
                <a:chOff x="4067280" y="2447640"/>
                <a:chExt cx="1331640" cy="258120"/>
              </a:xfrm>
            </p:grpSpPr>
            <p:grpSp>
              <p:nvGrpSpPr>
                <p:cNvPr id="1313" name="Group 136"/>
                <p:cNvGrpSpPr/>
                <p:nvPr/>
              </p:nvGrpSpPr>
              <p:grpSpPr>
                <a:xfrm>
                  <a:off x="4103280" y="2476800"/>
                  <a:ext cx="1254960" cy="195840"/>
                  <a:chOff x="4103280" y="2476800"/>
                  <a:chExt cx="1254960" cy="195840"/>
                </a:xfrm>
              </p:grpSpPr>
              <p:pic>
                <p:nvPicPr>
                  <p:cNvPr id="1314" name="Picture 137" descr="004-F-BW200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103280" y="2476800"/>
                    <a:ext cx="39204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15" name="Picture 138" descr="004-R-BW200"/>
                  <p:cNvPicPr/>
                  <p:nvPr/>
                </p:nvPicPr>
                <p:blipFill>
                  <a:blip r:embed="rId30"/>
                  <a:srcRect l="2949" t="11557" r="0" b="0"/>
                  <a:stretch/>
                </p:blipFill>
                <p:spPr>
                  <a:xfrm>
                    <a:off x="4534920" y="247680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16" name="Picture 139" descr="004-F-100Q080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966560" y="2476800"/>
                    <a:ext cx="3916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317" name="Rectangle 140"/>
                <p:cNvSpPr/>
                <p:nvPr/>
              </p:nvSpPr>
              <p:spPr>
                <a:xfrm>
                  <a:off x="4067280" y="2447640"/>
                  <a:ext cx="133164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318" name="Group 141"/>
              <p:cNvGrpSpPr/>
              <p:nvPr/>
            </p:nvGrpSpPr>
            <p:grpSpPr>
              <a:xfrm>
                <a:off x="4067280" y="2704680"/>
                <a:ext cx="1331640" cy="258120"/>
                <a:chOff x="4067280" y="2704680"/>
                <a:chExt cx="1331640" cy="258120"/>
              </a:xfrm>
            </p:grpSpPr>
            <p:grpSp>
              <p:nvGrpSpPr>
                <p:cNvPr id="1319" name="Group 142"/>
                <p:cNvGrpSpPr/>
                <p:nvPr/>
              </p:nvGrpSpPr>
              <p:grpSpPr>
                <a:xfrm>
                  <a:off x="4103280" y="2733840"/>
                  <a:ext cx="1254960" cy="195840"/>
                  <a:chOff x="4103280" y="2733840"/>
                  <a:chExt cx="1254960" cy="195840"/>
                </a:xfrm>
              </p:grpSpPr>
              <p:pic>
                <p:nvPicPr>
                  <p:cNvPr id="1320" name="Picture 143" descr="004-F-BW200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103280" y="2733840"/>
                    <a:ext cx="39204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21" name="Picture 144" descr="004-R-BW200"/>
                  <p:cNvPicPr/>
                  <p:nvPr/>
                </p:nvPicPr>
                <p:blipFill>
                  <a:blip r:embed="rId33"/>
                  <a:srcRect l="2949" t="11557" r="0" b="0"/>
                  <a:stretch/>
                </p:blipFill>
                <p:spPr>
                  <a:xfrm>
                    <a:off x="4534920" y="2733840"/>
                    <a:ext cx="391680" cy="1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22" name="Picture 145" descr="004-F-100Q080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966560" y="2733840"/>
                    <a:ext cx="391680" cy="19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323" name="Rectangle 146"/>
                <p:cNvSpPr/>
                <p:nvPr/>
              </p:nvSpPr>
              <p:spPr>
                <a:xfrm>
                  <a:off x="4067280" y="2704680"/>
                  <a:ext cx="1331640" cy="258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324" name="Group 147"/>
              <p:cNvGrpSpPr/>
              <p:nvPr/>
            </p:nvGrpSpPr>
            <p:grpSpPr>
              <a:xfrm>
                <a:off x="4067280" y="2963520"/>
                <a:ext cx="1331640" cy="259560"/>
                <a:chOff x="4067280" y="2963520"/>
                <a:chExt cx="1331640" cy="259560"/>
              </a:xfrm>
            </p:grpSpPr>
            <p:grpSp>
              <p:nvGrpSpPr>
                <p:cNvPr id="1325" name="Group 148"/>
                <p:cNvGrpSpPr/>
                <p:nvPr/>
              </p:nvGrpSpPr>
              <p:grpSpPr>
                <a:xfrm>
                  <a:off x="4103280" y="2993040"/>
                  <a:ext cx="1254960" cy="196920"/>
                  <a:chOff x="4103280" y="2993040"/>
                  <a:chExt cx="1254960" cy="196920"/>
                </a:xfrm>
              </p:grpSpPr>
              <p:pic>
                <p:nvPicPr>
                  <p:cNvPr id="1326" name="Picture 149" descr="004-F-BW200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103280" y="2993040"/>
                    <a:ext cx="39204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27" name="Picture 150" descr="004-R-BW200"/>
                  <p:cNvPicPr/>
                  <p:nvPr/>
                </p:nvPicPr>
                <p:blipFill>
                  <a:blip r:embed="rId36"/>
                  <a:srcRect l="2949" t="11557" r="0" b="0"/>
                  <a:stretch/>
                </p:blipFill>
                <p:spPr>
                  <a:xfrm>
                    <a:off x="4534920" y="2993040"/>
                    <a:ext cx="391680" cy="19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pic>
                <p:nvPicPr>
                  <p:cNvPr id="1328" name="Picture 151" descr="004-F-100Q080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966560" y="2993040"/>
                    <a:ext cx="391680" cy="1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grpSp>
            <p:sp>
              <p:nvSpPr>
                <p:cNvPr id="1329" name="Rectangle 152"/>
                <p:cNvSpPr/>
                <p:nvPr/>
              </p:nvSpPr>
              <p:spPr>
                <a:xfrm>
                  <a:off x="4067280" y="2963520"/>
                  <a:ext cx="1331640" cy="259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1330" name="Text Box 153"/>
            <p:cNvSpPr/>
            <p:nvPr/>
          </p:nvSpPr>
          <p:spPr>
            <a:xfrm>
              <a:off x="1527120" y="3429000"/>
              <a:ext cx="51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Browallia New"/>
                  <a:ea typeface="Browallia New"/>
                </a:rPr>
                <a:t>Digital Signature Validation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31" name="Group 154"/>
            <p:cNvGrpSpPr/>
            <p:nvPr/>
          </p:nvGrpSpPr>
          <p:grpSpPr>
            <a:xfrm>
              <a:off x="2843280" y="1268280"/>
              <a:ext cx="6048360" cy="2597040"/>
              <a:chOff x="2843280" y="1268280"/>
              <a:chExt cx="6048360" cy="2597040"/>
            </a:xfrm>
          </p:grpSpPr>
          <p:sp>
            <p:nvSpPr>
              <p:cNvPr id="1332" name="AutoShape 155"/>
              <p:cNvSpPr/>
              <p:nvPr/>
            </p:nvSpPr>
            <p:spPr>
              <a:xfrm>
                <a:off x="2843280" y="3000240"/>
                <a:ext cx="1195200" cy="3225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333" name="Group 156"/>
              <p:cNvGrpSpPr/>
              <p:nvPr/>
            </p:nvGrpSpPr>
            <p:grpSpPr>
              <a:xfrm>
                <a:off x="3968640" y="1280880"/>
                <a:ext cx="1898640" cy="2435400"/>
                <a:chOff x="3968640" y="1280880"/>
                <a:chExt cx="1898640" cy="2435400"/>
              </a:xfrm>
            </p:grpSpPr>
            <p:sp>
              <p:nvSpPr>
                <p:cNvPr id="1334" name="Line 157"/>
                <p:cNvSpPr/>
                <p:nvPr/>
              </p:nvSpPr>
              <p:spPr>
                <a:xfrm>
                  <a:off x="3968640" y="3286080"/>
                  <a:ext cx="1827360" cy="43020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35" name="Line 158"/>
                <p:cNvSpPr/>
                <p:nvPr/>
              </p:nvSpPr>
              <p:spPr>
                <a:xfrm flipV="1">
                  <a:off x="4038480" y="1280880"/>
                  <a:ext cx="1828800" cy="171900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1336" name="Group 159"/>
              <p:cNvGrpSpPr/>
              <p:nvPr/>
            </p:nvGrpSpPr>
            <p:grpSpPr>
              <a:xfrm>
                <a:off x="5337720" y="1268280"/>
                <a:ext cx="3553920" cy="2597040"/>
                <a:chOff x="5337720" y="1268280"/>
                <a:chExt cx="3553920" cy="2597040"/>
              </a:xfrm>
            </p:grpSpPr>
            <p:sp>
              <p:nvSpPr>
                <p:cNvPr id="1337" name="Text Box 160"/>
                <p:cNvSpPr/>
                <p:nvPr/>
              </p:nvSpPr>
              <p:spPr>
                <a:xfrm>
                  <a:off x="5337720" y="2212920"/>
                  <a:ext cx="156456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Public key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rowallia New"/>
                      <a:ea typeface="Browallia New"/>
                    </a:rPr>
                    <a:t>Sending Bank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grpSp>
              <p:nvGrpSpPr>
                <p:cNvPr id="1338" name="Group 161"/>
                <p:cNvGrpSpPr/>
                <p:nvPr/>
              </p:nvGrpSpPr>
              <p:grpSpPr>
                <a:xfrm>
                  <a:off x="5586480" y="1268280"/>
                  <a:ext cx="3305160" cy="2597040"/>
                  <a:chOff x="5586480" y="1268280"/>
                  <a:chExt cx="3305160" cy="2597040"/>
                </a:xfrm>
              </p:grpSpPr>
              <p:sp>
                <p:nvSpPr>
                  <p:cNvPr id="1339" name="AutoShape 162"/>
                  <p:cNvSpPr/>
                  <p:nvPr/>
                </p:nvSpPr>
                <p:spPr>
                  <a:xfrm>
                    <a:off x="5586480" y="1268280"/>
                    <a:ext cx="3305160" cy="2507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grpSp>
                <p:nvGrpSpPr>
                  <p:cNvPr id="1340" name="Group 163"/>
                  <p:cNvGrpSpPr/>
                  <p:nvPr/>
                </p:nvGrpSpPr>
                <p:grpSpPr>
                  <a:xfrm>
                    <a:off x="5981040" y="1554120"/>
                    <a:ext cx="2768400" cy="2311200"/>
                    <a:chOff x="5981040" y="1554120"/>
                    <a:chExt cx="2768400" cy="2311200"/>
                  </a:xfrm>
                </p:grpSpPr>
                <p:grpSp>
                  <p:nvGrpSpPr>
                    <p:cNvPr id="1341" name="Group 164"/>
                    <p:cNvGrpSpPr/>
                    <p:nvPr/>
                  </p:nvGrpSpPr>
                  <p:grpSpPr>
                    <a:xfrm>
                      <a:off x="5981040" y="1554120"/>
                      <a:ext cx="2768400" cy="2233440"/>
                      <a:chOff x="5981040" y="1554120"/>
                      <a:chExt cx="2768400" cy="2233440"/>
                    </a:xfrm>
                  </p:grpSpPr>
                  <p:pic>
                    <p:nvPicPr>
                      <p:cNvPr id="1342" name="Picture 165" descr="MCj03519260000[1]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 rot="543600">
                        <a:off x="6007320" y="1879560"/>
                        <a:ext cx="249480" cy="35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343" name="Line 166"/>
                      <p:cNvSpPr/>
                      <p:nvPr/>
                    </p:nvSpPr>
                    <p:spPr>
                      <a:xfrm>
                        <a:off x="7061760" y="1916640"/>
                        <a:ext cx="0" cy="216720"/>
                      </a:xfrm>
                      <a:prstGeom prst="line">
                        <a:avLst/>
                      </a:prstGeom>
                      <a:ln w="28440">
                        <a:solidFill>
                          <a:srgbClr val="006699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1344" name="Line 167"/>
                      <p:cNvSpPr/>
                      <p:nvPr/>
                    </p:nvSpPr>
                    <p:spPr>
                      <a:xfrm>
                        <a:off x="7133040" y="2967120"/>
                        <a:ext cx="0" cy="217080"/>
                      </a:xfrm>
                      <a:prstGeom prst="line">
                        <a:avLst/>
                      </a:prstGeom>
                      <a:ln w="28440">
                        <a:solidFill>
                          <a:srgbClr val="006699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1345" name="Rectangle 168"/>
                      <p:cNvSpPr/>
                      <p:nvPr/>
                    </p:nvSpPr>
                    <p:spPr>
                      <a:xfrm>
                        <a:off x="6514200" y="2655720"/>
                        <a:ext cx="1322280" cy="677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marL="58680" algn="ctr">
                          <a:lnSpc>
                            <a:spcPct val="6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Browallia New"/>
                            <a:ea typeface="Browallia New"/>
                          </a:rPr>
                          <a:t>Digital Signature Verificatio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1346" name="Text Box 169"/>
                      <p:cNvSpPr/>
                      <p:nvPr/>
                    </p:nvSpPr>
                    <p:spPr>
                      <a:xfrm>
                        <a:off x="6500520" y="1554120"/>
                        <a:ext cx="1123560" cy="52020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5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0000"/>
                            </a:solidFill>
                            <a:latin typeface="Browallia New"/>
                            <a:ea typeface="Browallia New"/>
                          </a:rPr>
                          <a:t>Digital Signature Clearing House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1347" name="Line 170"/>
                      <p:cNvSpPr/>
                      <p:nvPr/>
                    </p:nvSpPr>
                    <p:spPr>
                      <a:xfrm>
                        <a:off x="6444720" y="2175120"/>
                        <a:ext cx="194760" cy="140400"/>
                      </a:xfrm>
                      <a:prstGeom prst="line">
                        <a:avLst/>
                      </a:prstGeom>
                      <a:ln w="28440">
                        <a:solidFill>
                          <a:srgbClr val="006699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grpSp>
                    <p:nvGrpSpPr>
                      <p:cNvPr id="1348" name="Group 171"/>
                      <p:cNvGrpSpPr/>
                      <p:nvPr/>
                    </p:nvGrpSpPr>
                    <p:grpSpPr>
                      <a:xfrm>
                        <a:off x="7765560" y="1554120"/>
                        <a:ext cx="983880" cy="869760"/>
                        <a:chOff x="7765560" y="1554120"/>
                        <a:chExt cx="983880" cy="869760"/>
                      </a:xfrm>
                    </p:grpSpPr>
                    <p:pic>
                      <p:nvPicPr>
                        <p:cNvPr id="1349" name="Picture 172" descr=""/>
                        <p:cNvPicPr/>
                        <p:nvPr/>
                      </p:nvPicPr>
                      <p:blipFill>
                        <a:blip r:embed="rId39"/>
                        <a:stretch/>
                      </p:blipFill>
                      <p:spPr>
                        <a:xfrm>
                          <a:off x="7765560" y="1554120"/>
                          <a:ext cx="983880" cy="861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350" name="Rectangle 173"/>
                        <p:cNvSpPr/>
                        <p:nvPr/>
                      </p:nvSpPr>
                      <p:spPr>
                        <a:xfrm>
                          <a:off x="7797960" y="1554120"/>
                          <a:ext cx="912240" cy="86976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  <p:grpSp>
                    <p:nvGrpSpPr>
                      <p:cNvPr id="1351" name="Group 174"/>
                      <p:cNvGrpSpPr/>
                      <p:nvPr/>
                    </p:nvGrpSpPr>
                    <p:grpSpPr>
                      <a:xfrm>
                        <a:off x="6725160" y="2221560"/>
                        <a:ext cx="843120" cy="433800"/>
                        <a:chOff x="6725160" y="2221560"/>
                        <a:chExt cx="843120" cy="433800"/>
                      </a:xfrm>
                    </p:grpSpPr>
                    <p:sp>
                      <p:nvSpPr>
                        <p:cNvPr id="1352" name="AutoShape 175"/>
                        <p:cNvSpPr/>
                        <p:nvPr/>
                      </p:nvSpPr>
                      <p:spPr>
                        <a:xfrm>
                          <a:off x="6725160" y="2221560"/>
                          <a:ext cx="843120" cy="4338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solidFill>
                          <a:srgbClr val="ffcc66"/>
                        </a:solidFill>
                        <a:ln w="0">
                          <a:noFill/>
                        </a:ln>
                        <a:effectLst>
                          <a:outerShdw dist="17819" dir="2700000" blurRad="0" rotWithShape="0">
                            <a:srgbClr val="997a3d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pic>
                      <p:nvPicPr>
                        <p:cNvPr id="1353" name="Picture 176" descr="MCBS00513_0000[1]"/>
                        <p:cNvPicPr/>
                        <p:nvPr/>
                      </p:nvPicPr>
                      <p:blipFill>
                        <a:blip r:embed="rId40"/>
                        <a:srcRect l="0" t="67176" r="0" b="0"/>
                        <a:stretch/>
                      </p:blipFill>
                      <p:spPr>
                        <a:xfrm>
                          <a:off x="6725160" y="2299680"/>
                          <a:ext cx="773280" cy="284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sp>
                    <p:nvSpPr>
                      <p:cNvPr id="1354" name="Line 177"/>
                      <p:cNvSpPr/>
                      <p:nvPr/>
                    </p:nvSpPr>
                    <p:spPr>
                      <a:xfrm flipH="1">
                        <a:off x="7554240" y="2061720"/>
                        <a:ext cx="140760" cy="145080"/>
                      </a:xfrm>
                      <a:prstGeom prst="line">
                        <a:avLst/>
                      </a:prstGeom>
                      <a:ln w="28440">
                        <a:solidFill>
                          <a:srgbClr val="006699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1355" name="Text Box 178"/>
                      <p:cNvSpPr/>
                      <p:nvPr/>
                    </p:nvSpPr>
                    <p:spPr>
                      <a:xfrm>
                        <a:off x="6570360" y="3267360"/>
                        <a:ext cx="1123560" cy="520200"/>
                      </a:xfrm>
                      <a:prstGeom prst="rect">
                        <a:avLst/>
                      </a:prstGeom>
                      <a:solidFill>
                        <a:srgbClr val="cc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5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0000"/>
                            </a:solidFill>
                            <a:latin typeface="Browallia New"/>
                            <a:ea typeface="Browallia New"/>
                          </a:rPr>
                          <a:t>Digital Signature Clearing House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sp>
                  <p:nvSpPr>
                    <p:cNvPr id="1356" name="Text Box 179"/>
                    <p:cNvSpPr/>
                    <p:nvPr/>
                  </p:nvSpPr>
                  <p:spPr>
                    <a:xfrm>
                      <a:off x="7385400" y="3161880"/>
                      <a:ext cx="57996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4000" spc="-1" strike="noStrike">
                          <a:solidFill>
                            <a:srgbClr val="ff3399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357" name="Rectangle 180"/>
          <p:cNvSpPr/>
          <p:nvPr/>
        </p:nvSpPr>
        <p:spPr>
          <a:xfrm>
            <a:off x="50328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1  End-to-end Data Integrity Control &amp; Non-repudiation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15365 -0.00139 E">
                                      <p:cBhvr>
                                        <p:cTn id="103" dur="2000" fill="hold"/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4"/>
          <p:cNvSpPr/>
          <p:nvPr/>
        </p:nvSpPr>
        <p:spPr>
          <a:xfrm>
            <a:off x="5578560" y="1270080"/>
            <a:ext cx="230508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9" name="Rectangle 5"/>
          <p:cNvSpPr/>
          <p:nvPr/>
        </p:nvSpPr>
        <p:spPr>
          <a:xfrm>
            <a:off x="1187280" y="1270080"/>
            <a:ext cx="1943280" cy="165564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0" name="Text Box 6"/>
          <p:cNvSpPr/>
          <p:nvPr/>
        </p:nvSpPr>
        <p:spPr>
          <a:xfrm>
            <a:off x="922680" y="3068640"/>
            <a:ext cx="244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Sending Bank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1" name="Text Box 7"/>
          <p:cNvSpPr/>
          <p:nvPr/>
        </p:nvSpPr>
        <p:spPr>
          <a:xfrm>
            <a:off x="5565240" y="3141720"/>
            <a:ext cx="22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Paying Bank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2" name="Rectangle 8"/>
          <p:cNvSpPr/>
          <p:nvPr/>
        </p:nvSpPr>
        <p:spPr>
          <a:xfrm>
            <a:off x="1857240" y="333360"/>
            <a:ext cx="527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2 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จัดเก็บข้อมูลเช็คและภาพเช็ค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3" name="Text Box 9"/>
          <p:cNvSpPr/>
          <p:nvPr/>
        </p:nvSpPr>
        <p:spPr>
          <a:xfrm>
            <a:off x="656280" y="2281320"/>
            <a:ext cx="2669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Gateway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Sending Bank)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364" name="Picture 10" descr="j0285750"/>
          <p:cNvPicPr/>
          <p:nvPr/>
        </p:nvPicPr>
        <p:blipFill>
          <a:blip r:embed="rId1"/>
          <a:stretch/>
        </p:blipFill>
        <p:spPr>
          <a:xfrm>
            <a:off x="1546200" y="1657440"/>
            <a:ext cx="1008000" cy="619200"/>
          </a:xfrm>
          <a:prstGeom prst="rect">
            <a:avLst/>
          </a:prstGeom>
          <a:ln w="0">
            <a:noFill/>
          </a:ln>
        </p:spPr>
      </p:pic>
      <p:sp>
        <p:nvSpPr>
          <p:cNvPr id="1365" name="Rectangle 11"/>
          <p:cNvSpPr/>
          <p:nvPr/>
        </p:nvSpPr>
        <p:spPr>
          <a:xfrm>
            <a:off x="4067280" y="1197000"/>
            <a:ext cx="647640" cy="14414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S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6" name="Text Box 12"/>
          <p:cNvSpPr/>
          <p:nvPr/>
        </p:nvSpPr>
        <p:spPr>
          <a:xfrm>
            <a:off x="5535000" y="2281320"/>
            <a:ext cx="2459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Gateway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Paying Bank)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367" name="Picture 13" descr="j0285750"/>
          <p:cNvPicPr/>
          <p:nvPr/>
        </p:nvPicPr>
        <p:blipFill>
          <a:blip r:embed="rId2"/>
          <a:stretch/>
        </p:blipFill>
        <p:spPr>
          <a:xfrm>
            <a:off x="6229440" y="1658880"/>
            <a:ext cx="1006560" cy="617760"/>
          </a:xfrm>
          <a:prstGeom prst="rect">
            <a:avLst/>
          </a:prstGeom>
          <a:ln w="0">
            <a:noFill/>
          </a:ln>
        </p:spPr>
      </p:pic>
      <p:sp>
        <p:nvSpPr>
          <p:cNvPr id="1368" name="Line 14"/>
          <p:cNvSpPr/>
          <p:nvPr/>
        </p:nvSpPr>
        <p:spPr>
          <a:xfrm>
            <a:off x="2698920" y="19162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9" name="Line 15"/>
          <p:cNvSpPr/>
          <p:nvPr/>
        </p:nvSpPr>
        <p:spPr>
          <a:xfrm>
            <a:off x="4930920" y="19177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370" name="Picture 16" descr=""/>
          <p:cNvPicPr/>
          <p:nvPr/>
        </p:nvPicPr>
        <p:blipFill>
          <a:blip r:embed="rId3"/>
          <a:stretch/>
        </p:blipFill>
        <p:spPr>
          <a:xfrm>
            <a:off x="2411280" y="1270080"/>
            <a:ext cx="792360" cy="593640"/>
          </a:xfrm>
          <a:prstGeom prst="rect">
            <a:avLst/>
          </a:prstGeom>
          <a:ln w="0">
            <a:noFill/>
          </a:ln>
        </p:spPr>
      </p:pic>
      <p:grpSp>
        <p:nvGrpSpPr>
          <p:cNvPr id="1371" name="Group 17"/>
          <p:cNvGrpSpPr/>
          <p:nvPr/>
        </p:nvGrpSpPr>
        <p:grpSpPr>
          <a:xfrm>
            <a:off x="3733920" y="1773360"/>
            <a:ext cx="333360" cy="793800"/>
            <a:chOff x="3733920" y="1773360"/>
            <a:chExt cx="333360" cy="793800"/>
          </a:xfrm>
        </p:grpSpPr>
        <p:pic>
          <p:nvPicPr>
            <p:cNvPr id="1372" name="Picture 18" descr="j0234131"/>
            <p:cNvPicPr/>
            <p:nvPr/>
          </p:nvPicPr>
          <p:blipFill>
            <a:blip r:embed="rId4"/>
            <a:stretch/>
          </p:blipFill>
          <p:spPr>
            <a:xfrm>
              <a:off x="3828960" y="2283120"/>
              <a:ext cx="2383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19" descr="j0222015"/>
            <p:cNvPicPr/>
            <p:nvPr/>
          </p:nvPicPr>
          <p:blipFill>
            <a:blip r:embed="rId5"/>
            <a:stretch/>
          </p:blipFill>
          <p:spPr>
            <a:xfrm>
              <a:off x="3828960" y="2057760"/>
              <a:ext cx="2016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20"/>
            <p:cNvSpPr/>
            <p:nvPr/>
          </p:nvSpPr>
          <p:spPr>
            <a:xfrm>
              <a:off x="3733920" y="1773360"/>
              <a:ext cx="261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#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75" name="Line 21"/>
          <p:cNvSpPr/>
          <p:nvPr/>
        </p:nvSpPr>
        <p:spPr>
          <a:xfrm>
            <a:off x="2698920" y="21319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6" name="Line 22"/>
          <p:cNvSpPr/>
          <p:nvPr/>
        </p:nvSpPr>
        <p:spPr>
          <a:xfrm>
            <a:off x="4930920" y="213372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7" name="Rectangle 23"/>
          <p:cNvSpPr/>
          <p:nvPr/>
        </p:nvSpPr>
        <p:spPr>
          <a:xfrm>
            <a:off x="4067280" y="3141720"/>
            <a:ext cx="647640" cy="792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AS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8" name="AutoShape 24"/>
          <p:cNvSpPr/>
          <p:nvPr/>
        </p:nvSpPr>
        <p:spPr>
          <a:xfrm>
            <a:off x="4138560" y="270972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379" name="Picture 25" descr=""/>
          <p:cNvPicPr/>
          <p:nvPr/>
        </p:nvPicPr>
        <p:blipFill>
          <a:blip r:embed="rId6"/>
          <a:stretch/>
        </p:blipFill>
        <p:spPr>
          <a:xfrm>
            <a:off x="6083280" y="227808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26" descr=""/>
          <p:cNvPicPr/>
          <p:nvPr/>
        </p:nvPicPr>
        <p:blipFill>
          <a:blip r:embed="rId7"/>
          <a:stretch/>
        </p:blipFill>
        <p:spPr>
          <a:xfrm>
            <a:off x="3562200" y="2260440"/>
            <a:ext cx="792360" cy="5940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27" descr=""/>
          <p:cNvPicPr/>
          <p:nvPr/>
        </p:nvPicPr>
        <p:blipFill>
          <a:blip r:embed="rId8"/>
          <a:stretch/>
        </p:blipFill>
        <p:spPr>
          <a:xfrm>
            <a:off x="4643280" y="1270080"/>
            <a:ext cx="792360" cy="59364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28" descr=""/>
          <p:cNvPicPr/>
          <p:nvPr/>
        </p:nvPicPr>
        <p:blipFill>
          <a:blip r:embed="rId9"/>
          <a:stretch/>
        </p:blipFill>
        <p:spPr>
          <a:xfrm>
            <a:off x="4354560" y="2278080"/>
            <a:ext cx="792000" cy="59364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29" descr=""/>
          <p:cNvPicPr/>
          <p:nvPr/>
        </p:nvPicPr>
        <p:blipFill>
          <a:blip r:embed="rId10"/>
          <a:stretch/>
        </p:blipFill>
        <p:spPr>
          <a:xfrm>
            <a:off x="4427640" y="2278080"/>
            <a:ext cx="720720" cy="57636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30"/>
          <p:cNvSpPr/>
          <p:nvPr/>
        </p:nvSpPr>
        <p:spPr>
          <a:xfrm>
            <a:off x="179280" y="4214880"/>
            <a:ext cx="439272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โอนข้อมูลและภาพเช็คจากระบบ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S 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ข้าจัดเก็บในระบบ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AS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ลัง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learing cycl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ุกวั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จัดเก็บข้อมูลเป็นเวลา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0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ปี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มาชิกสามารถเรียกดูข้อมูลและภาพ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เช็คได้ แต่ไม่สามารถแก้ไขได้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5" name="Rectangle 31"/>
          <p:cNvSpPr/>
          <p:nvPr/>
        </p:nvSpPr>
        <p:spPr>
          <a:xfrm>
            <a:off x="4429080" y="4214880"/>
            <a:ext cx="464364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541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ามารถใช้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ata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File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ซึ่งมี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ash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Signature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 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ส่ง ในการพิสูจน์ดังนี้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ash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พิสูจน์ความถูกต้องของ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Signature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พิสูจน์ความถูกต้องของข้อมูลเช็ค และผูกมัด 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ส่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11424 -0.00139 E">
                                      <p:cBhvr>
                                        <p:cTn id="115" dur="2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11424 -0.00139 E">
                                      <p:cBhvr>
                                        <p:cTn id="120" dur="2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15747 -2.22222E-006 E">
                                      <p:cBhvr>
                                        <p:cTn id="126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7708 0.00116 E">
                                      <p:cBhvr>
                                        <p:cTn id="132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-0.00399 0.1456 E">
                                      <p:cBhvr>
                                        <p:cTn id="139" dur="2000" fill="hold"/>
                                        <p:tgtEl>
                                          <p:spTgt spid="1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3.61111E-006 0.147 E">
                                      <p:cBhvr>
                                        <p:cTn id="146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30"/>
          <p:cNvSpPr/>
          <p:nvPr/>
        </p:nvSpPr>
        <p:spPr>
          <a:xfrm>
            <a:off x="214200" y="1214280"/>
            <a:ext cx="83520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Security is based on Public Key Infrastructur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symmetric Cryptograph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ุณสมบัติของ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keys :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ามารถใช้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ke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นึ่งในการถอดรหัสข้อมูลซึ่งถูกเข้ารหัส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โดยอีก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ke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นึ่งได้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7" name="Rectangle 31"/>
          <p:cNvSpPr/>
          <p:nvPr/>
        </p:nvSpPr>
        <p:spPr>
          <a:xfrm>
            <a:off x="45720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3  Public Key Infrastructure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ำหรับ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88" name="Group 50"/>
          <p:cNvGrpSpPr/>
          <p:nvPr/>
        </p:nvGrpSpPr>
        <p:grpSpPr>
          <a:xfrm>
            <a:off x="-12240" y="4365720"/>
            <a:ext cx="4511160" cy="1825560"/>
            <a:chOff x="-12240" y="4365720"/>
            <a:chExt cx="4511160" cy="1825560"/>
          </a:xfrm>
        </p:grpSpPr>
        <p:sp>
          <p:nvSpPr>
            <p:cNvPr id="1389" name="Rectangle 36"/>
            <p:cNvSpPr/>
            <p:nvPr/>
          </p:nvSpPr>
          <p:spPr>
            <a:xfrm>
              <a:off x="323640" y="4390920"/>
              <a:ext cx="4175280" cy="18003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0" name="Rectangle 37"/>
            <p:cNvSpPr/>
            <p:nvPr/>
          </p:nvSpPr>
          <p:spPr>
            <a:xfrm>
              <a:off x="755280" y="5326200"/>
              <a:ext cx="934920" cy="50328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Message X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(Hello!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391" name="Picture 38" descr="MCj02808030000[1]"/>
            <p:cNvPicPr/>
            <p:nvPr/>
          </p:nvPicPr>
          <p:blipFill>
            <a:blip r:embed="rId1"/>
            <a:stretch/>
          </p:blipFill>
          <p:spPr>
            <a:xfrm>
              <a:off x="2050920" y="5261040"/>
              <a:ext cx="71892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2" name="Text Box 39"/>
            <p:cNvSpPr/>
            <p:nvPr/>
          </p:nvSpPr>
          <p:spPr>
            <a:xfrm>
              <a:off x="1946880" y="57517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393" name="Picture 40" descr="MCj04040070000[1]"/>
            <p:cNvPicPr/>
            <p:nvPr/>
          </p:nvPicPr>
          <p:blipFill>
            <a:blip r:embed="rId2"/>
            <a:stretch/>
          </p:blipFill>
          <p:spPr>
            <a:xfrm>
              <a:off x="2195280" y="4535280"/>
              <a:ext cx="46188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Line 41"/>
            <p:cNvSpPr/>
            <p:nvPr/>
          </p:nvSpPr>
          <p:spPr>
            <a:xfrm>
              <a:off x="2411280" y="5037120"/>
              <a:ext cx="0" cy="21744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5" name="Line 42"/>
            <p:cNvSpPr/>
            <p:nvPr/>
          </p:nvSpPr>
          <p:spPr>
            <a:xfrm>
              <a:off x="1761840" y="5543640"/>
              <a:ext cx="21564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6" name="Rectangle 43"/>
            <p:cNvSpPr/>
            <p:nvPr/>
          </p:nvSpPr>
          <p:spPr>
            <a:xfrm>
              <a:off x="3346560" y="5324400"/>
              <a:ext cx="936360" cy="506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Cipher Y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(6EB69570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7" name="Line 54"/>
            <p:cNvSpPr/>
            <p:nvPr/>
          </p:nvSpPr>
          <p:spPr>
            <a:xfrm>
              <a:off x="2843280" y="5543640"/>
              <a:ext cx="3603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8" name="Text Box 55"/>
            <p:cNvSpPr/>
            <p:nvPr/>
          </p:nvSpPr>
          <p:spPr>
            <a:xfrm>
              <a:off x="-12240" y="4365720"/>
              <a:ext cx="18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Encryption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99" name="Group 51"/>
          <p:cNvGrpSpPr/>
          <p:nvPr/>
        </p:nvGrpSpPr>
        <p:grpSpPr>
          <a:xfrm>
            <a:off x="4542840" y="4365720"/>
            <a:ext cx="4277160" cy="1825560"/>
            <a:chOff x="4542840" y="4365720"/>
            <a:chExt cx="4277160" cy="1825560"/>
          </a:xfrm>
        </p:grpSpPr>
        <p:sp>
          <p:nvSpPr>
            <p:cNvPr id="1400" name="Rectangle 35"/>
            <p:cNvSpPr/>
            <p:nvPr/>
          </p:nvSpPr>
          <p:spPr>
            <a:xfrm>
              <a:off x="4861080" y="4390920"/>
              <a:ext cx="3958920" cy="180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01" name="Picture 45" descr="MCj02808030000[1]"/>
            <p:cNvPicPr/>
            <p:nvPr/>
          </p:nvPicPr>
          <p:blipFill>
            <a:blip r:embed="rId3"/>
            <a:stretch/>
          </p:blipFill>
          <p:spPr>
            <a:xfrm>
              <a:off x="6514920" y="5189760"/>
              <a:ext cx="71892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2" name="Text Box 46"/>
            <p:cNvSpPr/>
            <p:nvPr/>
          </p:nvSpPr>
          <p:spPr>
            <a:xfrm>
              <a:off x="6397920" y="568008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Decrypt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03" name="Picture 47" descr="MCj03519260000[1]"/>
            <p:cNvPicPr/>
            <p:nvPr/>
          </p:nvPicPr>
          <p:blipFill>
            <a:blip r:embed="rId4"/>
            <a:stretch/>
          </p:blipFill>
          <p:spPr>
            <a:xfrm rot="366600">
              <a:off x="6705720" y="4535280"/>
              <a:ext cx="3142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Line 48"/>
            <p:cNvSpPr/>
            <p:nvPr/>
          </p:nvSpPr>
          <p:spPr>
            <a:xfrm>
              <a:off x="6875640" y="4965840"/>
              <a:ext cx="0" cy="21744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5" name="Line 49"/>
            <p:cNvSpPr/>
            <p:nvPr/>
          </p:nvSpPr>
          <p:spPr>
            <a:xfrm>
              <a:off x="6227640" y="5542200"/>
              <a:ext cx="21564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6" name="Rectangle 51"/>
            <p:cNvSpPr/>
            <p:nvPr/>
          </p:nvSpPr>
          <p:spPr>
            <a:xfrm>
              <a:off x="7740720" y="5327640"/>
              <a:ext cx="934920" cy="50328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Message X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(Hello!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7" name="Rectangle 52"/>
            <p:cNvSpPr/>
            <p:nvPr/>
          </p:nvSpPr>
          <p:spPr>
            <a:xfrm>
              <a:off x="5219640" y="5326200"/>
              <a:ext cx="936360" cy="506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Cipher Y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(6EB69570)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8" name="Line 53"/>
            <p:cNvSpPr/>
            <p:nvPr/>
          </p:nvSpPr>
          <p:spPr>
            <a:xfrm>
              <a:off x="7308720" y="5543640"/>
              <a:ext cx="3603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9" name="Text Box 56"/>
            <p:cNvSpPr/>
            <p:nvPr/>
          </p:nvSpPr>
          <p:spPr>
            <a:xfrm>
              <a:off x="4542840" y="4365720"/>
              <a:ext cx="19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Browallia New"/>
                  <a:ea typeface="Browallia New"/>
                </a:rPr>
                <a:t>Decryption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10" name="Group 48"/>
          <p:cNvGrpSpPr/>
          <p:nvPr/>
        </p:nvGrpSpPr>
        <p:grpSpPr>
          <a:xfrm>
            <a:off x="1571760" y="2438280"/>
            <a:ext cx="2171160" cy="488160"/>
            <a:chOff x="1571760" y="2438280"/>
            <a:chExt cx="2171160" cy="488160"/>
          </a:xfrm>
        </p:grpSpPr>
        <p:pic>
          <p:nvPicPr>
            <p:cNvPr id="1411" name="Picture 4" descr="MCj04040070000[1]"/>
            <p:cNvPicPr/>
            <p:nvPr/>
          </p:nvPicPr>
          <p:blipFill>
            <a:blip r:embed="rId5"/>
            <a:stretch/>
          </p:blipFill>
          <p:spPr>
            <a:xfrm>
              <a:off x="1571760" y="2438280"/>
              <a:ext cx="4633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2" name="TextBox 46"/>
            <p:cNvSpPr/>
            <p:nvPr/>
          </p:nvSpPr>
          <p:spPr>
            <a:xfrm>
              <a:off x="1832400" y="2466720"/>
              <a:ext cx="19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Private Ke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13" name="Group 49"/>
          <p:cNvGrpSpPr/>
          <p:nvPr/>
        </p:nvGrpSpPr>
        <p:grpSpPr>
          <a:xfrm>
            <a:off x="4624200" y="2416320"/>
            <a:ext cx="1927440" cy="510840"/>
            <a:chOff x="4624200" y="2416320"/>
            <a:chExt cx="1927440" cy="510840"/>
          </a:xfrm>
        </p:grpSpPr>
        <p:pic>
          <p:nvPicPr>
            <p:cNvPr id="1414" name="Picture 5" descr="MCj03519260000[1]"/>
            <p:cNvPicPr/>
            <p:nvPr/>
          </p:nvPicPr>
          <p:blipFill>
            <a:blip r:embed="rId6"/>
            <a:stretch/>
          </p:blipFill>
          <p:spPr>
            <a:xfrm rot="543600">
              <a:off x="4656240" y="2437920"/>
              <a:ext cx="3124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TextBox 47"/>
            <p:cNvSpPr/>
            <p:nvPr/>
          </p:nvSpPr>
          <p:spPr>
            <a:xfrm>
              <a:off x="4807440" y="2467440"/>
              <a:ext cx="174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Public Ke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ounded Rectangle 19"/>
          <p:cNvSpPr/>
          <p:nvPr/>
        </p:nvSpPr>
        <p:spPr>
          <a:xfrm>
            <a:off x="4929120" y="1244520"/>
            <a:ext cx="4071960" cy="2381040"/>
          </a:xfrm>
          <a:prstGeom prst="roundRect">
            <a:avLst>
              <a:gd name="adj" fmla="val 11079"/>
            </a:avLst>
          </a:prstGeom>
          <a:solidFill>
            <a:srgbClr val="fff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7" name="Rectangle 30"/>
          <p:cNvSpPr/>
          <p:nvPr/>
        </p:nvSpPr>
        <p:spPr>
          <a:xfrm>
            <a:off x="285840" y="1143000"/>
            <a:ext cx="83516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ertificate Authority (CA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ำหน้าที่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ertify public ke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ห้กับ                                                                   บุคคล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องค์กร โดยออก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Certificate (DC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ปท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ำหน้าที่เป็น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A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ห้กับ 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มาชิ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าตรฐานที่ใช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ช้มาตรฐานสากล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X.509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นการออก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Certifica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Key length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A :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048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Key length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ี่ใช้ในการทำ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Signature: 1024 bit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ashing Algorithm : Secure Hash Algorithm-160 bits (SHA-1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418" name="Group 20"/>
          <p:cNvGrpSpPr/>
          <p:nvPr/>
        </p:nvGrpSpPr>
        <p:grpSpPr>
          <a:xfrm>
            <a:off x="4930920" y="1674720"/>
            <a:ext cx="2927160" cy="1117800"/>
            <a:chOff x="4930920" y="1674720"/>
            <a:chExt cx="2927160" cy="1117800"/>
          </a:xfrm>
        </p:grpSpPr>
        <p:pic>
          <p:nvPicPr>
            <p:cNvPr id="1419" name="Picture 32" descr="MCj04040070000[1]"/>
            <p:cNvPicPr/>
            <p:nvPr/>
          </p:nvPicPr>
          <p:blipFill>
            <a:blip r:embed="rId1"/>
            <a:stretch/>
          </p:blipFill>
          <p:spPr>
            <a:xfrm>
              <a:off x="5592960" y="168912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Text Box 33"/>
            <p:cNvSpPr/>
            <p:nvPr/>
          </p:nvSpPr>
          <p:spPr>
            <a:xfrm>
              <a:off x="4930920" y="1963800"/>
              <a:ext cx="18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Private ke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21" name="Picture 34" descr="MCj03519260000[1]"/>
            <p:cNvPicPr/>
            <p:nvPr/>
          </p:nvPicPr>
          <p:blipFill>
            <a:blip r:embed="rId2"/>
            <a:stretch/>
          </p:blipFill>
          <p:spPr>
            <a:xfrm rot="543600">
              <a:off x="7147800" y="1692360"/>
              <a:ext cx="25560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Text Box 35"/>
            <p:cNvSpPr/>
            <p:nvPr/>
          </p:nvSpPr>
          <p:spPr>
            <a:xfrm>
              <a:off x="6684840" y="1967040"/>
              <a:ext cx="117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Public ke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23" name="Group 21"/>
          <p:cNvGrpSpPr/>
          <p:nvPr/>
        </p:nvGrpSpPr>
        <p:grpSpPr>
          <a:xfrm>
            <a:off x="4500720" y="2463840"/>
            <a:ext cx="4560480" cy="967320"/>
            <a:chOff x="4500720" y="2463840"/>
            <a:chExt cx="4560480" cy="967320"/>
          </a:xfrm>
        </p:grpSpPr>
        <p:sp>
          <p:nvSpPr>
            <p:cNvPr id="1424" name="Text Box 37"/>
            <p:cNvSpPr/>
            <p:nvPr/>
          </p:nvSpPr>
          <p:spPr>
            <a:xfrm>
              <a:off x="6334560" y="2898360"/>
              <a:ext cx="17013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Bob’s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Public Ke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25" name="Picture 38" descr="j0292020"/>
            <p:cNvPicPr/>
            <p:nvPr/>
          </p:nvPicPr>
          <p:blipFill>
            <a:blip r:embed="rId3"/>
            <a:stretch/>
          </p:blipFill>
          <p:spPr>
            <a:xfrm>
              <a:off x="8402400" y="2533680"/>
              <a:ext cx="40572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Text Box 39"/>
            <p:cNvSpPr/>
            <p:nvPr/>
          </p:nvSpPr>
          <p:spPr>
            <a:xfrm>
              <a:off x="8293680" y="2898720"/>
              <a:ext cx="76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27" name="Picture 40" descr="MCj03519260000[1]"/>
            <p:cNvPicPr/>
            <p:nvPr/>
          </p:nvPicPr>
          <p:blipFill>
            <a:blip r:embed="rId4"/>
            <a:stretch/>
          </p:blipFill>
          <p:spPr>
            <a:xfrm rot="366600">
              <a:off x="7070760" y="2530800"/>
              <a:ext cx="2358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41" descr="MCj04348250000[1]"/>
            <p:cNvPicPr/>
            <p:nvPr/>
          </p:nvPicPr>
          <p:blipFill>
            <a:blip r:embed="rId5"/>
            <a:stretch/>
          </p:blipFill>
          <p:spPr>
            <a:xfrm>
              <a:off x="5312160" y="2463840"/>
              <a:ext cx="4057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Text Box 42"/>
            <p:cNvSpPr/>
            <p:nvPr/>
          </p:nvSpPr>
          <p:spPr>
            <a:xfrm>
              <a:off x="4500720" y="2898720"/>
              <a:ext cx="2189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Bob’s Digital 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Certificate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1430" name="Picture 43" descr="MCj03519260000[1]"/>
            <p:cNvPicPr/>
            <p:nvPr/>
          </p:nvPicPr>
          <p:blipFill>
            <a:blip r:embed="rId6"/>
            <a:stretch/>
          </p:blipFill>
          <p:spPr>
            <a:xfrm rot="366600">
              <a:off x="5379480" y="2535120"/>
              <a:ext cx="1749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Rectangle 44"/>
            <p:cNvSpPr/>
            <p:nvPr/>
          </p:nvSpPr>
          <p:spPr>
            <a:xfrm>
              <a:off x="6011640" y="2589120"/>
              <a:ext cx="7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32" name="Text Box 45"/>
            <p:cNvSpPr/>
            <p:nvPr/>
          </p:nvSpPr>
          <p:spPr>
            <a:xfrm>
              <a:off x="7108560" y="2503440"/>
              <a:ext cx="143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8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66"/>
                  </a:solidFill>
                  <a:latin typeface="Browallia New"/>
                  <a:cs typeface="Browallia New"/>
                </a:rPr>
                <a:t>เป็นขอ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433" name="Rectangle 31"/>
          <p:cNvSpPr/>
          <p:nvPr/>
        </p:nvSpPr>
        <p:spPr>
          <a:xfrm>
            <a:off x="45720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3  Public Key Infrastructure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ำหรับ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4" name="Rectangle 45"/>
          <p:cNvSpPr/>
          <p:nvPr/>
        </p:nvSpPr>
        <p:spPr>
          <a:xfrm>
            <a:off x="4568400" y="1243080"/>
            <a:ext cx="21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8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0"/>
          <p:cNvSpPr/>
          <p:nvPr/>
        </p:nvSpPr>
        <p:spPr>
          <a:xfrm>
            <a:off x="468360" y="1266840"/>
            <a:ext cx="85327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uthentication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การยืนยันตัวตนผู้ใช้งานก่อนการใช้งานโดยอิงจาก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Digital Certifica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Private Ke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ถูกจัดเก็บในอุปกรณ์เฉพาะ เช่น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Smartcard, Hardware Security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Module (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ไม่สามารถ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cop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รือเรียกดู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Private Key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ได้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การจัดการสิทธิ์ตามบทบาทหน้าที่ของผู้ใช้งาน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Role-based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้อมูลที่ส่งผ่านเครือข่ายมีการเข้ารหัส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2" marL="1353960" indent="-285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Secure FTP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 lvl="2" marL="1353960" indent="-285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HTTPS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Logs and Audit Trail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การจัดเก็บ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logs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udit trail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าม พรบ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ว่าด้วยการกระทำผิดเกี่ยวกับ</a:t>
            </a:r>
            <a:br>
              <a:rPr sz="2400"/>
            </a:b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คอมพิวเตอร์ พ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0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6" name="Rectangle 31"/>
          <p:cNvSpPr/>
          <p:nvPr/>
        </p:nvSpPr>
        <p:spPr>
          <a:xfrm>
            <a:off x="45720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4   Other ICAS Security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564000" y="260280"/>
            <a:ext cx="2305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ัวข้อบรรย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357120" y="1917720"/>
            <a:ext cx="828684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ระหว่างธนาคารในปัจจุบัน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ด้วยภาพเช็คและระบบการจัดเก็บภาพเช็ค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Imaged Cheque Clearing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nd Archive System - ICAS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3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ลักเกณฑ์และวิธีการจัดทำข้อมูลและหลักฐานทางอิเล็กทรอนิกส์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-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ควบคุมและการรักษาความมั่นคงปลอดภัย – ระบบ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วามแตกต่างที่สำคัญของระบบปัจจุบันและระบบ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6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ูปแบบการทำงานระบบ </a:t>
            </a:r>
            <a:r>
              <a:rPr b="1" lang="en-US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ธนาคารสมาชิก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8" name="TextBox 49"/>
          <p:cNvSpPr/>
          <p:nvPr/>
        </p:nvSpPr>
        <p:spPr>
          <a:xfrm>
            <a:off x="142920" y="1214280"/>
            <a:ext cx="8786880" cy="4899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 </a:t>
            </a:r>
            <a:r>
              <a:rPr b="1" lang="en-US" sz="2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ะบบการหักบัญชีเช็คระหว่างธนาคาร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30"/>
          <p:cNvSpPr/>
          <p:nvPr/>
        </p:nvSpPr>
        <p:spPr>
          <a:xfrm>
            <a:off x="468360" y="126828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S: 5x24 (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จันทร์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-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ุกร์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AS: 7x2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องรับ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99.9% Up tim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ระบบอยู่ที่ศูนย์คอมพิวเตอร์หลักและศูนย์คอมพิวเตอร์สำรองของ ธปท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ป็นเครือข่ายปิดระหว่าง ธปท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ธ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มาชิกเท่านั้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1" marL="896760" indent="-285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มีเครือข่ายหลักและเครือข่ายสำรอ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8" name="Rectangle 31"/>
          <p:cNvSpPr/>
          <p:nvPr/>
        </p:nvSpPr>
        <p:spPr>
          <a:xfrm>
            <a:off x="457200" y="274680"/>
            <a:ext cx="8435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.4  Other ICAS Security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Text Box 36"/>
          <p:cNvSpPr/>
          <p:nvPr/>
        </p:nvSpPr>
        <p:spPr>
          <a:xfrm>
            <a:off x="1357200" y="428760"/>
            <a:ext cx="75726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.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วามแตกต่างที่สำคัญของ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ECS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357120" y="1857240"/>
          <a:ext cx="8572680" cy="198144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  <a:gridCol w="285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บบ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E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บบ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1.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าร </a:t>
                      </a:r>
                      <a:r>
                        <a:rPr b="1" lang="en-US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capture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ภาพเช็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</a:t>
                      </a:r>
                      <a:r>
                        <a:rPr b="1" lang="en-US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(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ใช้งานภายใน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ส่งเรียกเก็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2.</a:t>
                      </a:r>
                      <a:r>
                        <a:rPr b="1" lang="en-US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ารส่งเช็คเรียกเก็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ข้อมูลเช็ค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+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ตัวเช็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ข้อมูลเช็ค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+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ภาพเช็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3. 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ารเก็บรักษาตัวเช็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6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ส่งเรียกเก็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Text Box 36"/>
          <p:cNvSpPr/>
          <p:nvPr/>
        </p:nvSpPr>
        <p:spPr>
          <a:xfrm>
            <a:off x="1500120" y="285840"/>
            <a:ext cx="70009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6.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ูปแบบการทำงานระบบ 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งธนาคารสมาชิก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174600" y="1197000"/>
            <a:ext cx="806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 u="sng">
                <a:solidFill>
                  <a:srgbClr val="002060"/>
                </a:solidFill>
                <a:uFillTx/>
                <a:latin typeface="Browallia New"/>
                <a:cs typeface="Browallia New"/>
              </a:rPr>
              <a:t>จุดส่งข้อมูลเช็ค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Browallia New"/>
                <a:ea typeface="Browallia New"/>
              </a:rPr>
              <a:t>&amp; </a:t>
            </a:r>
            <a:r>
              <a:rPr b="0" lang="th-TH" sz="3000" spc="-1" strike="noStrike" u="sng">
                <a:solidFill>
                  <a:srgbClr val="002060"/>
                </a:solidFill>
                <a:uFillTx/>
                <a:latin typeface="Browallia New"/>
                <a:cs typeface="Browallia New"/>
              </a:rPr>
              <a:t>ภาพเช็คของ ธ</a:t>
            </a:r>
            <a:r>
              <a:rPr b="0" lang="th-TH" sz="3000" spc="-1" strike="noStrike" u="sng">
                <a:solidFill>
                  <a:srgbClr val="002060"/>
                </a:solidFill>
                <a:uFillTx/>
                <a:latin typeface="Browallia New"/>
                <a:ea typeface="Browallia New"/>
              </a:rPr>
              <a:t>.</a:t>
            </a:r>
            <a:r>
              <a:rPr b="0" lang="th-TH" sz="3000" spc="-1" strike="noStrike" u="sng">
                <a:solidFill>
                  <a:srgbClr val="002060"/>
                </a:solidFill>
                <a:uFillTx/>
                <a:latin typeface="Browallia New"/>
                <a:cs typeface="Browallia New"/>
              </a:rPr>
              <a:t>สมาชิก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3" name="Text Box 4"/>
          <p:cNvSpPr/>
          <p:nvPr/>
        </p:nvSpPr>
        <p:spPr>
          <a:xfrm>
            <a:off x="434880" y="1828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แบบที่ </a:t>
            </a: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ea typeface="Browallia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457200" y="2428920"/>
            <a:ext cx="1871640" cy="825480"/>
          </a:xfrm>
          <a:prstGeom prst="rect">
            <a:avLst/>
          </a:prstGeom>
          <a:solidFill>
            <a:srgbClr val="7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าขา ธ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มาชิ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5" name="Line 6"/>
          <p:cNvSpPr/>
          <p:nvPr/>
        </p:nvSpPr>
        <p:spPr>
          <a:xfrm>
            <a:off x="2362320" y="2666880"/>
            <a:ext cx="4606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6934320" y="2292480"/>
            <a:ext cx="1942920" cy="112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บบ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ูนย์หักบัญชีฯ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3421080" y="22366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amp;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8" name="Text Box 9"/>
          <p:cNvSpPr/>
          <p:nvPr/>
        </p:nvSpPr>
        <p:spPr>
          <a:xfrm>
            <a:off x="38592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แบบที่ </a:t>
            </a: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ea typeface="Browalli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9" name="Text Box 10"/>
          <p:cNvSpPr/>
          <p:nvPr/>
        </p:nvSpPr>
        <p:spPr>
          <a:xfrm>
            <a:off x="457200" y="3724200"/>
            <a:ext cx="1871640" cy="825480"/>
          </a:xfrm>
          <a:prstGeom prst="rect">
            <a:avLst/>
          </a:prstGeom>
          <a:solidFill>
            <a:srgbClr val="7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าขา ธ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มาชิ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0" name="Text Box 11"/>
          <p:cNvSpPr/>
          <p:nvPr/>
        </p:nvSpPr>
        <p:spPr>
          <a:xfrm>
            <a:off x="3352680" y="3505320"/>
            <a:ext cx="2735280" cy="1486440"/>
          </a:xfrm>
          <a:prstGeom prst="rect">
            <a:avLst/>
          </a:prstGeom>
          <a:solidFill>
            <a:srgbClr val="7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ูนย์ปฏิบัติการเช็ค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ธ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มาชิ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gt;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1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ูนย์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1" name="Text Box 12"/>
          <p:cNvSpPr/>
          <p:nvPr/>
        </p:nvSpPr>
        <p:spPr>
          <a:xfrm>
            <a:off x="7010280" y="3664080"/>
            <a:ext cx="1871640" cy="112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บบ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ูนย์หักบัญชีฯ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2" name="Line 13"/>
          <p:cNvSpPr/>
          <p:nvPr/>
        </p:nvSpPr>
        <p:spPr>
          <a:xfrm>
            <a:off x="6095880" y="403848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3" name="Line 14"/>
          <p:cNvSpPr/>
          <p:nvPr/>
        </p:nvSpPr>
        <p:spPr>
          <a:xfrm>
            <a:off x="2362320" y="40734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4" name="Text Box 15"/>
          <p:cNvSpPr/>
          <p:nvPr/>
        </p:nvSpPr>
        <p:spPr>
          <a:xfrm>
            <a:off x="2362320" y="3290760"/>
            <a:ext cx="1152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</a:t>
            </a:r>
            <a:r>
              <a:rPr b="1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พ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6095880" y="3290760"/>
            <a:ext cx="11527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</a:t>
            </a:r>
            <a:r>
              <a:rPr b="1" lang="en-US" sz="2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พ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6" name="Text Box 17"/>
          <p:cNvSpPr/>
          <p:nvPr/>
        </p:nvSpPr>
        <p:spPr>
          <a:xfrm>
            <a:off x="380880" y="4419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แบบที่ </a:t>
            </a:r>
            <a:r>
              <a:rPr b="1" lang="th-TH" sz="2400" spc="-1" strike="noStrike" u="sng">
                <a:solidFill>
                  <a:srgbClr val="006600"/>
                </a:solidFill>
                <a:uFillTx/>
                <a:latin typeface="Browallia New"/>
                <a:ea typeface="Browallia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7" name="Text Box 18"/>
          <p:cNvSpPr/>
          <p:nvPr/>
        </p:nvSpPr>
        <p:spPr>
          <a:xfrm>
            <a:off x="457200" y="4995720"/>
            <a:ext cx="2232000" cy="1448280"/>
          </a:xfrm>
          <a:prstGeom prst="rect">
            <a:avLst/>
          </a:prstGeom>
          <a:solidFill>
            <a:srgbClr val="ff7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น่วยงานที่ ธ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มาชิก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Outsour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8" name="Text Box 19"/>
          <p:cNvSpPr/>
          <p:nvPr/>
        </p:nvSpPr>
        <p:spPr>
          <a:xfrm>
            <a:off x="7086600" y="5111640"/>
            <a:ext cx="1800360" cy="148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บบ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ูนย์หักบัญชีฯ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9" name="Line 20"/>
          <p:cNvSpPr/>
          <p:nvPr/>
        </p:nvSpPr>
        <p:spPr>
          <a:xfrm>
            <a:off x="2666880" y="54864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0" name="Text Box 21"/>
          <p:cNvSpPr/>
          <p:nvPr/>
        </p:nvSpPr>
        <p:spPr>
          <a:xfrm>
            <a:off x="3886200" y="49528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&amp;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พเช็ค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TextBox 52"/>
          <p:cNvSpPr/>
          <p:nvPr/>
        </p:nvSpPr>
        <p:spPr>
          <a:xfrm>
            <a:off x="142920" y="1714680"/>
            <a:ext cx="8786880" cy="520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เด็นที่สมาคมธนาคารไทยสนใ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2" name="Text Box 11"/>
          <p:cNvSpPr/>
          <p:nvPr/>
        </p:nvSpPr>
        <p:spPr>
          <a:xfrm>
            <a:off x="1785960" y="2571840"/>
            <a:ext cx="3429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เก็บรักษาตัวเช็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3" name="Text Box 11"/>
          <p:cNvSpPr/>
          <p:nvPr/>
        </p:nvSpPr>
        <p:spPr>
          <a:xfrm>
            <a:off x="1785960" y="3071880"/>
            <a:ext cx="44290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.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ช็คที่มีตราประทับ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4" name="Text Box 11"/>
          <p:cNvSpPr/>
          <p:nvPr/>
        </p:nvSpPr>
        <p:spPr>
          <a:xfrm>
            <a:off x="1785960" y="3571920"/>
            <a:ext cx="67150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3. </a:t>
            </a:r>
            <a:r>
              <a:rPr b="1" lang="th-TH" sz="2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้อตกลงร่วมระหว่างธนาคา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5" name=""/>
          <p:cNvGraphicFramePr/>
          <p:nvPr/>
        </p:nvGraphicFramePr>
        <p:xfrm>
          <a:off x="285840" y="1397160"/>
          <a:ext cx="8572320" cy="3162240"/>
        </p:xfrm>
        <a:graphic>
          <a:graphicData uri="http://schemas.openxmlformats.org/drawingml/2006/table">
            <a:tbl>
              <a:tblPr/>
              <a:tblGrid>
                <a:gridCol w="2571840"/>
                <a:gridCol w="60004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ประเด็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ายละเอีย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1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ารจัดเก็บตัวเช็คที่ผ่านการเรียกเก็บแล้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cs typeface="Browallia New"/>
                        </a:rPr>
                        <a:t>สถานะปัจจุบัน</a:t>
                      </a:r>
                      <a:r>
                        <a:rPr b="1" lang="en-US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ea typeface="Browallia New"/>
                        </a:rPr>
                        <a:t>:</a:t>
                      </a:r>
                      <a:r>
                        <a:rPr b="1" lang="th-TH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ระบบการจัดเก็บตัวเช็คที่เรียกเก็บแล้วได้ออกแบบไว้ให้ </a:t>
                      </a:r>
                      <a:br>
                        <a:rPr sz="2000"/>
                      </a:b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จัดเก็บเช็คของตนเอง หากกำหนดให้ 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ส่งเรียกเก็บจัดเก็บตัวเช็คแทน 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 จะทำให้ต้องออกแบบระบบการจัดเก็บใหม่ และอาจมีปัญหาในการสืบค้นตัวเช็คได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ระบบใหม่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:  </a:t>
                      </a:r>
                      <a:r>
                        <a:rPr b="1" lang="th-TH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cs typeface="Browallia New"/>
                        </a:rPr>
                        <a:t>ธ</a:t>
                      </a:r>
                      <a:r>
                        <a:rPr b="1" lang="th-TH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 u="sng">
                          <a:solidFill>
                            <a:srgbClr val="002060"/>
                          </a:solidFill>
                          <a:uFillTx/>
                          <a:latin typeface="Browallia New"/>
                          <a:cs typeface="Browallia New"/>
                        </a:rPr>
                        <a:t>ผู้ส่งเรียกเก็บเป็นผู้จัดเก็บรักษาตัวเช็ค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ที่ผ่านการเรียกเก็บแทน 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โดยกำหนดมาตรฐานการจัดเก็บตัวเช็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2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เช็คที่มีตราประท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ขอความร่วมมือลูกค้ายกเลิกตราประทับเป็นเงื่อนไขในการสั่งจ่ายเงิ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1466" name="Rectangle 7"/>
          <p:cNvSpPr/>
          <p:nvPr/>
        </p:nvSpPr>
        <p:spPr>
          <a:xfrm>
            <a:off x="1000080" y="303120"/>
            <a:ext cx="842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                          </a:t>
            </a: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ประเด็นที่สมาคมธนาคารไทยสนใจ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7" name=""/>
          <p:cNvGraphicFramePr/>
          <p:nvPr/>
        </p:nvGraphicFramePr>
        <p:xfrm>
          <a:off x="285840" y="1682640"/>
          <a:ext cx="8572320" cy="2818080"/>
        </p:xfrm>
        <a:graphic>
          <a:graphicData uri="http://schemas.openxmlformats.org/drawingml/2006/table">
            <a:tbl>
              <a:tblPr/>
              <a:tblGrid>
                <a:gridCol w="2571840"/>
                <a:gridCol w="60004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ประเด็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ายละเอีย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3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ข้อตกลงร่วมระหว่างธนาคารสมาชิ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1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ำหนดความรับผิดชอบของ 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ส่งเรียกเก็บและ 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ผู้จ่า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2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กำหนดมาตรฐานการปฏิบัติงานร่วมกัน เช่น การตรวจสอบตัวเช็คที่รับฝากจากลูกค้า การแจ้งผลเช็คคืนแก่ลูกค้า เหตุผลการคืนเช็ค และการจัดส่ง               ตัวเช็ค เป็นต้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3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ต้องลงนามร่วมกันโดย ธปท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 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และธ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2060"/>
                          </a:solidFill>
                          <a:latin typeface="Browallia New"/>
                          <a:cs typeface="Browallia New"/>
                        </a:rPr>
                        <a:t>สมาชิ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1468" name="Rectangle 7"/>
          <p:cNvSpPr/>
          <p:nvPr/>
        </p:nvSpPr>
        <p:spPr>
          <a:xfrm>
            <a:off x="1000080" y="303120"/>
            <a:ext cx="842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                             </a:t>
            </a:r>
            <a:r>
              <a:rPr b="1" lang="th-TH" sz="3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ประเด็นที่สมาคมธนาคารไทยสนใจ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71280" y="298080"/>
            <a:ext cx="8459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ยกเลิกตราประทับ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/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รานูน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/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ราสีในเงื่อนไขการสั่งจ่ายเช็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มาชิกขอความร่วมมือลูกค้าให้ปรับเปลี่ยนเงื่อนไขการสั่งจ่ายเงินตามเช็ค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โดยให้มีเฉพาะลายมือชื่อผู้สั่งจ่ายเท่านั้น สำหรับตราประทับ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/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รานูน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/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ราสีไม่ควรใช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ป็นส่วนหนึ่งในเงื่อนไขการสั่งจ่า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นื่องจา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ตราประทับจะรบกวนข้อมูลสำคัญเมื่อปรากฏเป็นภาพเช็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จ่ายไม่สามารถตรวจสอบความนูนต่ำของพื้นผิว และความถูกต้องของสีตาม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งื่อนไขของตราประทับ จะทำให้เกิดความล่าช้าในการเรียกเก็บเงินตามเช็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Text Box 2"/>
          <p:cNvSpPr/>
          <p:nvPr/>
        </p:nvSpPr>
        <p:spPr>
          <a:xfrm>
            <a:off x="3564000" y="260280"/>
            <a:ext cx="2305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ัวข้อบรรย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2" name="TextBox 56"/>
          <p:cNvSpPr/>
          <p:nvPr/>
        </p:nvSpPr>
        <p:spPr>
          <a:xfrm>
            <a:off x="214200" y="1500120"/>
            <a:ext cx="8786880" cy="520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วนที่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เด็นที่ผู้ตรวจสอบควรให้ความสนใ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1000080" y="2503440"/>
            <a:ext cx="82868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เตรียมความพร้อมของระบบ และ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Migration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4" name="Text Box 11"/>
          <p:cNvSpPr/>
          <p:nvPr/>
        </p:nvSpPr>
        <p:spPr>
          <a:xfrm>
            <a:off x="1000080" y="4143240"/>
            <a:ext cx="6643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พระราชบัญญัติว่าด้วยธุรกรรมทางอิเล็กทรอนิกส์ พ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2544 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ก้ไขเพิ่มเติม พ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2551)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5" name="Text Box 11"/>
          <p:cNvSpPr/>
          <p:nvPr/>
        </p:nvSpPr>
        <p:spPr>
          <a:xfrm>
            <a:off x="1000080" y="3357720"/>
            <a:ext cx="82868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3.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BCP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1000080" y="2928960"/>
            <a:ext cx="82868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ปฏิบัติงานและคู่มือปฏิบัติงาน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7" name="Text Box 11"/>
          <p:cNvSpPr/>
          <p:nvPr/>
        </p:nvSpPr>
        <p:spPr>
          <a:xfrm>
            <a:off x="1000080" y="3741840"/>
            <a:ext cx="82868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4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เบียบ </a:t>
            </a:r>
            <a:r>
              <a:rPr b="1" lang="en-US" sz="2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 Box 11"/>
          <p:cNvSpPr/>
          <p:nvPr/>
        </p:nvSpPr>
        <p:spPr>
          <a:xfrm>
            <a:off x="2143080" y="357120"/>
            <a:ext cx="60008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.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. </a:t>
            </a:r>
            <a:r>
              <a:rPr b="1" lang="th-TH" sz="3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ผู้ปฏิบัติงานและคู่มือปฏิบัติงาน  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9" name="TextBox 3"/>
          <p:cNvSpPr/>
          <p:nvPr/>
        </p:nvSpPr>
        <p:spPr>
          <a:xfrm>
            <a:off x="357120" y="1428840"/>
            <a:ext cx="85726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การเตรียมความพร้อมของธนาคารสมาชิ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จัดเตรียมอุปกรณ์ </a:t>
            </a:r>
            <a:r>
              <a:rPr b="1" lang="en-US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</a:t>
            </a: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โปรแกรมและสายสื่อสารสำหรับการปฏิบัติงานระบบ </a:t>
            </a:r>
            <a:r>
              <a:rPr b="1" lang="en-US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</a:t>
            </a:r>
            <a:r>
              <a:rPr b="1" lang="th-TH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</a:t>
            </a: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ทั้งระบบงานจริงและชุดสำรอ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กำหนดพิธีปฏิบัติงานภายในให้สอดคล้องกับการปฏิบัติงานระบบ </a:t>
            </a:r>
            <a:r>
              <a:rPr b="1" lang="en-US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Browalli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อบรมผู้ปฏิบัติงานในการใช้งานระบบ </a:t>
            </a:r>
            <a:r>
              <a:rPr b="1" lang="en-US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 </a:t>
            </a:r>
            <a:r>
              <a:rPr b="1" lang="th-TH" sz="2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ตามคู่มือปฏิบัติงาน และระเบียบ ธปท</a:t>
            </a:r>
            <a:r>
              <a:rPr b="1" lang="th-TH" sz="2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3. Business Continuity Plan - B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ธปท</a:t>
            </a:r>
            <a:r>
              <a:rPr b="1" lang="th-TH" sz="32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Content Placeholder 8" descr=""/>
          <p:cNvPicPr/>
          <p:nvPr/>
        </p:nvPicPr>
        <p:blipFill>
          <a:blip r:embed="rId1"/>
          <a:stretch/>
        </p:blipFill>
        <p:spPr>
          <a:xfrm>
            <a:off x="45072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ธนาคารสมาชิ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Content Placeholder 19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3"/>
          <p:cNvGrpSpPr/>
          <p:nvPr/>
        </p:nvGrpSpPr>
        <p:grpSpPr>
          <a:xfrm>
            <a:off x="0" y="1125360"/>
            <a:ext cx="4500360" cy="5732640"/>
            <a:chOff x="0" y="1125360"/>
            <a:chExt cx="4500360" cy="5732640"/>
          </a:xfrm>
        </p:grpSpPr>
        <p:pic>
          <p:nvPicPr>
            <p:cNvPr id="490" name="Picture 4" descr="thCrop"/>
            <p:cNvPicPr/>
            <p:nvPr/>
          </p:nvPicPr>
          <p:blipFill>
            <a:blip r:embed="rId1"/>
            <a:stretch/>
          </p:blipFill>
          <p:spPr>
            <a:xfrm>
              <a:off x="0" y="1125360"/>
              <a:ext cx="4500360" cy="57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Oval 5"/>
            <p:cNvSpPr/>
            <p:nvPr/>
          </p:nvSpPr>
          <p:spPr>
            <a:xfrm>
              <a:off x="1308960" y="178272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1932480" y="24462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Oval 7"/>
            <p:cNvSpPr/>
            <p:nvPr/>
          </p:nvSpPr>
          <p:spPr>
            <a:xfrm>
              <a:off x="1834200" y="28314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Oval 8"/>
            <p:cNvSpPr/>
            <p:nvPr/>
          </p:nvSpPr>
          <p:spPr>
            <a:xfrm>
              <a:off x="3209760" y="2252880"/>
              <a:ext cx="29484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Oval 9"/>
            <p:cNvSpPr/>
            <p:nvPr/>
          </p:nvSpPr>
          <p:spPr>
            <a:xfrm>
              <a:off x="3308400" y="257472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Oval 10"/>
            <p:cNvSpPr/>
            <p:nvPr/>
          </p:nvSpPr>
          <p:spPr>
            <a:xfrm>
              <a:off x="4193640" y="29599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7" name="Oval 11"/>
            <p:cNvSpPr/>
            <p:nvPr/>
          </p:nvSpPr>
          <p:spPr>
            <a:xfrm>
              <a:off x="2817720" y="3088440"/>
              <a:ext cx="29376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8" name="Oval 12"/>
            <p:cNvSpPr/>
            <p:nvPr/>
          </p:nvSpPr>
          <p:spPr>
            <a:xfrm>
              <a:off x="2326320" y="3665880"/>
              <a:ext cx="29484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9" name="Oval 13"/>
            <p:cNvSpPr/>
            <p:nvPr/>
          </p:nvSpPr>
          <p:spPr>
            <a:xfrm>
              <a:off x="1342080" y="51426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0" name="Oval 14"/>
            <p:cNvSpPr/>
            <p:nvPr/>
          </p:nvSpPr>
          <p:spPr>
            <a:xfrm>
              <a:off x="850320" y="54630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1" name="Oval 15"/>
            <p:cNvSpPr/>
            <p:nvPr/>
          </p:nvSpPr>
          <p:spPr>
            <a:xfrm>
              <a:off x="2030760" y="578484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2424600" y="597672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2227320" y="3857760"/>
              <a:ext cx="29520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1046880" y="193248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5" name="Oval 19"/>
            <p:cNvSpPr/>
            <p:nvPr/>
          </p:nvSpPr>
          <p:spPr>
            <a:xfrm>
              <a:off x="1342080" y="218916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6" name="Oval 20"/>
            <p:cNvSpPr/>
            <p:nvPr/>
          </p:nvSpPr>
          <p:spPr>
            <a:xfrm>
              <a:off x="1539000" y="1997280"/>
              <a:ext cx="295200" cy="12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7" name="Oval 21"/>
            <p:cNvSpPr/>
            <p:nvPr/>
          </p:nvSpPr>
          <p:spPr>
            <a:xfrm>
              <a:off x="1932480" y="193248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8" name="Oval 22"/>
            <p:cNvSpPr/>
            <p:nvPr/>
          </p:nvSpPr>
          <p:spPr>
            <a:xfrm>
              <a:off x="1637280" y="16117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9" name="Oval 23"/>
            <p:cNvSpPr/>
            <p:nvPr/>
          </p:nvSpPr>
          <p:spPr>
            <a:xfrm>
              <a:off x="1046880" y="16117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0" name="Oval 24"/>
            <p:cNvSpPr/>
            <p:nvPr/>
          </p:nvSpPr>
          <p:spPr>
            <a:xfrm>
              <a:off x="1145160" y="231768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1" name="Oval 25"/>
            <p:cNvSpPr/>
            <p:nvPr/>
          </p:nvSpPr>
          <p:spPr>
            <a:xfrm>
              <a:off x="1637280" y="231768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2" name="Oval 26"/>
            <p:cNvSpPr/>
            <p:nvPr/>
          </p:nvSpPr>
          <p:spPr>
            <a:xfrm>
              <a:off x="1342080" y="250956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3" name="Oval 27"/>
            <p:cNvSpPr/>
            <p:nvPr/>
          </p:nvSpPr>
          <p:spPr>
            <a:xfrm>
              <a:off x="1440720" y="276660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4" name="Oval 28"/>
            <p:cNvSpPr/>
            <p:nvPr/>
          </p:nvSpPr>
          <p:spPr>
            <a:xfrm>
              <a:off x="1637280" y="3023640"/>
              <a:ext cx="29520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5" name="Oval 29"/>
            <p:cNvSpPr/>
            <p:nvPr/>
          </p:nvSpPr>
          <p:spPr>
            <a:xfrm>
              <a:off x="2227320" y="263808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6" name="Oval 30"/>
            <p:cNvSpPr/>
            <p:nvPr/>
          </p:nvSpPr>
          <p:spPr>
            <a:xfrm>
              <a:off x="2719440" y="2252880"/>
              <a:ext cx="29520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7" name="Oval 31"/>
            <p:cNvSpPr/>
            <p:nvPr/>
          </p:nvSpPr>
          <p:spPr>
            <a:xfrm>
              <a:off x="2916360" y="2509560"/>
              <a:ext cx="2934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8" name="Oval 32"/>
            <p:cNvSpPr/>
            <p:nvPr/>
          </p:nvSpPr>
          <p:spPr>
            <a:xfrm>
              <a:off x="3111480" y="27666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9" name="Oval 33"/>
            <p:cNvSpPr/>
            <p:nvPr/>
          </p:nvSpPr>
          <p:spPr>
            <a:xfrm>
              <a:off x="3209760" y="3023640"/>
              <a:ext cx="29484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0" name="Oval 34"/>
            <p:cNvSpPr/>
            <p:nvPr/>
          </p:nvSpPr>
          <p:spPr>
            <a:xfrm>
              <a:off x="3014640" y="3280320"/>
              <a:ext cx="2934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1" name="Oval 35"/>
            <p:cNvSpPr/>
            <p:nvPr/>
          </p:nvSpPr>
          <p:spPr>
            <a:xfrm>
              <a:off x="1243800" y="308844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2" name="Oval 36"/>
            <p:cNvSpPr/>
            <p:nvPr/>
          </p:nvSpPr>
          <p:spPr>
            <a:xfrm>
              <a:off x="2227320" y="29599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3" name="Oval 37"/>
            <p:cNvSpPr/>
            <p:nvPr/>
          </p:nvSpPr>
          <p:spPr>
            <a:xfrm>
              <a:off x="1539000" y="32803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4" name="Oval 38"/>
            <p:cNvSpPr/>
            <p:nvPr/>
          </p:nvSpPr>
          <p:spPr>
            <a:xfrm>
              <a:off x="1932480" y="31518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Oval 39"/>
            <p:cNvSpPr/>
            <p:nvPr/>
          </p:nvSpPr>
          <p:spPr>
            <a:xfrm>
              <a:off x="1637280" y="347220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Oval 40"/>
            <p:cNvSpPr/>
            <p:nvPr/>
          </p:nvSpPr>
          <p:spPr>
            <a:xfrm>
              <a:off x="1539000" y="3665880"/>
              <a:ext cx="295200" cy="128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Oval 41"/>
            <p:cNvSpPr/>
            <p:nvPr/>
          </p:nvSpPr>
          <p:spPr>
            <a:xfrm>
              <a:off x="1637280" y="392256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Oval 42"/>
            <p:cNvSpPr/>
            <p:nvPr/>
          </p:nvSpPr>
          <p:spPr>
            <a:xfrm>
              <a:off x="1243800" y="456480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Oval 43"/>
            <p:cNvSpPr/>
            <p:nvPr/>
          </p:nvSpPr>
          <p:spPr>
            <a:xfrm>
              <a:off x="1046880" y="4821840"/>
              <a:ext cx="295200" cy="126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0" name="Oval 44"/>
            <p:cNvSpPr/>
            <p:nvPr/>
          </p:nvSpPr>
          <p:spPr>
            <a:xfrm>
              <a:off x="1539000" y="52711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1" name="Oval 45"/>
            <p:cNvSpPr/>
            <p:nvPr/>
          </p:nvSpPr>
          <p:spPr>
            <a:xfrm>
              <a:off x="1637280" y="552780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2" name="Oval 46"/>
            <p:cNvSpPr/>
            <p:nvPr/>
          </p:nvSpPr>
          <p:spPr>
            <a:xfrm>
              <a:off x="1735920" y="5719680"/>
              <a:ext cx="29484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3" name="Oval 47"/>
            <p:cNvSpPr/>
            <p:nvPr/>
          </p:nvSpPr>
          <p:spPr>
            <a:xfrm>
              <a:off x="3504960" y="2895120"/>
              <a:ext cx="295200" cy="128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4" name="AutoShape 48"/>
            <p:cNvSpPr/>
            <p:nvPr/>
          </p:nvSpPr>
          <p:spPr>
            <a:xfrm rot="15381000">
              <a:off x="844560" y="2145960"/>
              <a:ext cx="1925280" cy="983880"/>
            </a:xfrm>
            <a:custGeom>
              <a:avLst/>
              <a:gdLst>
                <a:gd name="textAreaLeft" fmla="*/ 282600 w 1925280"/>
                <a:gd name="textAreaRight" fmla="*/ 1642680 w 1925280"/>
                <a:gd name="textAreaTop" fmla="*/ 143280 h 983880"/>
                <a:gd name="textAreaBottom" fmla="*/ 84060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82" y="11474"/>
                  </a:moveTo>
                  <a:cubicBezTo>
                    <a:pt x="20498" y="11250"/>
                    <a:pt x="20506" y="11025"/>
                    <a:pt x="20506" y="10800"/>
                  </a:cubicBezTo>
                  <a:cubicBezTo>
                    <a:pt x="20506" y="5439"/>
                    <a:pt x="16160" y="1094"/>
                    <a:pt x="10800" y="1094"/>
                  </a:cubicBezTo>
                  <a:cubicBezTo>
                    <a:pt x="5439" y="1094"/>
                    <a:pt x="1094" y="5439"/>
                    <a:pt x="109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50"/>
                    <a:pt x="21591" y="11301"/>
                    <a:pt x="21573" y="11551"/>
                  </a:cubicBezTo>
                  <a:lnTo>
                    <a:pt x="24267" y="11738"/>
                  </a:lnTo>
                  <a:lnTo>
                    <a:pt x="20802" y="14752"/>
                  </a:lnTo>
                  <a:lnTo>
                    <a:pt x="17789" y="11287"/>
                  </a:lnTo>
                  <a:lnTo>
                    <a:pt x="20482" y="11474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AutoShape 49"/>
            <p:cNvSpPr/>
            <p:nvPr/>
          </p:nvSpPr>
          <p:spPr>
            <a:xfrm rot="18075000">
              <a:off x="1830240" y="2362680"/>
              <a:ext cx="1584000" cy="1000080"/>
            </a:xfrm>
            <a:custGeom>
              <a:avLst/>
              <a:gdLst>
                <a:gd name="textAreaLeft" fmla="*/ 231120 w 1584000"/>
                <a:gd name="textAreaRight" fmla="*/ 1352880 w 1584000"/>
                <a:gd name="textAreaTop" fmla="*/ 146520 h 1000080"/>
                <a:gd name="textAreaBottom" fmla="*/ 853560 h 10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82" y="11474"/>
                  </a:moveTo>
                  <a:cubicBezTo>
                    <a:pt x="20498" y="11250"/>
                    <a:pt x="20506" y="11025"/>
                    <a:pt x="20506" y="10800"/>
                  </a:cubicBezTo>
                  <a:cubicBezTo>
                    <a:pt x="20506" y="5439"/>
                    <a:pt x="16160" y="1094"/>
                    <a:pt x="10800" y="1094"/>
                  </a:cubicBezTo>
                  <a:cubicBezTo>
                    <a:pt x="5439" y="1094"/>
                    <a:pt x="1094" y="5439"/>
                    <a:pt x="1094" y="10800"/>
                  </a:cubicBezTo>
                  <a:cubicBezTo>
                    <a:pt x="1093" y="11895"/>
                    <a:pt x="1279" y="12982"/>
                    <a:pt x="1642" y="14016"/>
                  </a:cubicBezTo>
                  <a:lnTo>
                    <a:pt x="610" y="14379"/>
                  </a:lnTo>
                  <a:cubicBezTo>
                    <a:pt x="206" y="13229"/>
                    <a:pt x="0" y="12018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50"/>
                    <a:pt x="21591" y="11301"/>
                    <a:pt x="21573" y="11551"/>
                  </a:cubicBezTo>
                  <a:lnTo>
                    <a:pt x="24267" y="11738"/>
                  </a:lnTo>
                  <a:lnTo>
                    <a:pt x="20802" y="14752"/>
                  </a:lnTo>
                  <a:lnTo>
                    <a:pt x="17789" y="11287"/>
                  </a:lnTo>
                  <a:lnTo>
                    <a:pt x="20482" y="11474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6" name="AutoShape 50"/>
            <p:cNvSpPr/>
            <p:nvPr/>
          </p:nvSpPr>
          <p:spPr>
            <a:xfrm flipV="1" rot="5863800">
              <a:off x="900360" y="4057560"/>
              <a:ext cx="2430360" cy="1280160"/>
            </a:xfrm>
            <a:custGeom>
              <a:avLst/>
              <a:gdLst>
                <a:gd name="textAreaLeft" fmla="*/ 354960 w 2430360"/>
                <a:gd name="textAreaRight" fmla="*/ 2075400 w 2430360"/>
                <a:gd name="textAreaTop" fmla="*/ 186480 h 1280160"/>
                <a:gd name="textAreaBottom" fmla="*/ 1093680 h 12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60" y="10143"/>
                  </a:moveTo>
                  <a:cubicBezTo>
                    <a:pt x="20514" y="4841"/>
                    <a:pt x="16113" y="718"/>
                    <a:pt x="10800" y="718"/>
                  </a:cubicBezTo>
                  <a:cubicBezTo>
                    <a:pt x="5675" y="717"/>
                    <a:pt x="1366" y="4561"/>
                    <a:pt x="783" y="9652"/>
                  </a:cubicBezTo>
                  <a:lnTo>
                    <a:pt x="70" y="9570"/>
                  </a:lnTo>
                  <a:cubicBezTo>
                    <a:pt x="694" y="4117"/>
                    <a:pt x="5310" y="-1"/>
                    <a:pt x="10800" y="0"/>
                  </a:cubicBezTo>
                  <a:cubicBezTo>
                    <a:pt x="16491" y="0"/>
                    <a:pt x="21206" y="4416"/>
                    <a:pt x="21577" y="10096"/>
                  </a:cubicBezTo>
                  <a:lnTo>
                    <a:pt x="24271" y="9920"/>
                  </a:lnTo>
                  <a:lnTo>
                    <a:pt x="21417" y="13171"/>
                  </a:lnTo>
                  <a:lnTo>
                    <a:pt x="18166" y="10318"/>
                  </a:lnTo>
                  <a:lnTo>
                    <a:pt x="20860" y="10143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7" name="AutoShape 51"/>
            <p:cNvSpPr/>
            <p:nvPr/>
          </p:nvSpPr>
          <p:spPr>
            <a:xfrm rot="20107200">
              <a:off x="2115720" y="2959920"/>
              <a:ext cx="2192760" cy="430560"/>
            </a:xfrm>
            <a:custGeom>
              <a:avLst/>
              <a:gdLst>
                <a:gd name="textAreaLeft" fmla="*/ 321840 w 2192760"/>
                <a:gd name="textAreaRight" fmla="*/ 1870920 w 2192760"/>
                <a:gd name="textAreaTop" fmla="*/ 63360 h 430560"/>
                <a:gd name="textAreaBottom" fmla="*/ 367200 h 4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54" y="12195"/>
                  </a:moveTo>
                  <a:cubicBezTo>
                    <a:pt x="20223" y="11733"/>
                    <a:pt x="20258" y="11267"/>
                    <a:pt x="20258" y="10800"/>
                  </a:cubicBezTo>
                  <a:cubicBezTo>
                    <a:pt x="20258" y="5576"/>
                    <a:pt x="16023" y="1342"/>
                    <a:pt x="10800" y="1342"/>
                  </a:cubicBezTo>
                  <a:cubicBezTo>
                    <a:pt x="5576" y="1342"/>
                    <a:pt x="1342" y="5576"/>
                    <a:pt x="1342" y="10800"/>
                  </a:cubicBezTo>
                  <a:cubicBezTo>
                    <a:pt x="1341" y="11867"/>
                    <a:pt x="1522" y="12927"/>
                    <a:pt x="1876" y="13934"/>
                  </a:cubicBezTo>
                  <a:lnTo>
                    <a:pt x="610" y="14379"/>
                  </a:lnTo>
                  <a:cubicBezTo>
                    <a:pt x="206" y="13229"/>
                    <a:pt x="0" y="12018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333"/>
                    <a:pt x="21560" y="11866"/>
                    <a:pt x="21481" y="12393"/>
                  </a:cubicBezTo>
                  <a:lnTo>
                    <a:pt x="24152" y="12792"/>
                  </a:lnTo>
                  <a:lnTo>
                    <a:pt x="20321" y="15629"/>
                  </a:lnTo>
                  <a:lnTo>
                    <a:pt x="17483" y="11797"/>
                  </a:lnTo>
                  <a:lnTo>
                    <a:pt x="20154" y="12195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8" name="Oval 52"/>
            <p:cNvSpPr/>
            <p:nvPr/>
          </p:nvSpPr>
          <p:spPr>
            <a:xfrm>
              <a:off x="1994040" y="3494880"/>
              <a:ext cx="401760" cy="17100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4572000" y="1500120"/>
            <a:ext cx="4416480" cy="1440000"/>
          </a:xfrm>
          <a:prstGeom prst="roundRect">
            <a:avLst>
              <a:gd name="adj" fmla="val 9106"/>
            </a:avLst>
          </a:prstGeom>
          <a:solidFill>
            <a:srgbClr val="ff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เรียกเก็บระหว่างธนาค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น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เขต กทม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ea typeface="Browallia New"/>
              </a:rPr>
              <a:t>.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และปริมณฑ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Electronic Cheque Clearing System : ECS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1 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วันทำการ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AutoShape 54"/>
          <p:cNvSpPr/>
          <p:nvPr/>
        </p:nvSpPr>
        <p:spPr>
          <a:xfrm>
            <a:off x="4581360" y="3500280"/>
            <a:ext cx="4419720" cy="938520"/>
          </a:xfrm>
          <a:prstGeom prst="roundRect">
            <a:avLst>
              <a:gd name="adj" fmla="val 9106"/>
            </a:avLst>
          </a:prstGeom>
          <a:solidFill>
            <a:srgbClr val="dafe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ภายในจังหวั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1 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วันทำการ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AutoShape 55"/>
          <p:cNvSpPr/>
          <p:nvPr/>
        </p:nvSpPr>
        <p:spPr>
          <a:xfrm>
            <a:off x="4572000" y="5011560"/>
            <a:ext cx="4441680" cy="865440"/>
          </a:xfrm>
          <a:prstGeom prst="roundRect">
            <a:avLst>
              <a:gd name="adj" fmla="val 9106"/>
            </a:avLst>
          </a:prstGeom>
          <a:solidFill>
            <a:srgbClr val="99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ข้ามจังหวัด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(3 – 5 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cs typeface="Browallia New"/>
              </a:rPr>
              <a:t>วันทำการ</a:t>
            </a:r>
            <a:r>
              <a:rPr b="1" lang="th-TH" sz="2400" spc="-1" strike="noStrike">
                <a:solidFill>
                  <a:srgbClr val="cc3300"/>
                </a:solidFill>
                <a:latin typeface="Browallia New"/>
                <a:ea typeface="Browall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Text Box 56"/>
          <p:cNvSpPr/>
          <p:nvPr/>
        </p:nvSpPr>
        <p:spPr>
          <a:xfrm>
            <a:off x="1714680" y="214200"/>
            <a:ext cx="6357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.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ระหว่างธนาคารในปัจจุบั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Oval 52"/>
          <p:cNvSpPr/>
          <p:nvPr/>
        </p:nvSpPr>
        <p:spPr>
          <a:xfrm>
            <a:off x="7572240" y="2571840"/>
            <a:ext cx="500040" cy="285840"/>
          </a:xfrm>
          <a:prstGeom prst="ellipse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Oval 25"/>
          <p:cNvSpPr/>
          <p:nvPr/>
        </p:nvSpPr>
        <p:spPr>
          <a:xfrm>
            <a:off x="7643880" y="4071960"/>
            <a:ext cx="500040" cy="285840"/>
          </a:xfrm>
          <a:prstGeom prst="ellipse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AutoShape 61"/>
          <p:cNvSpPr/>
          <p:nvPr/>
        </p:nvSpPr>
        <p:spPr>
          <a:xfrm>
            <a:off x="7715160" y="5500800"/>
            <a:ext cx="714600" cy="288720"/>
          </a:xfrm>
          <a:prstGeom prst="rightArrow">
            <a:avLst>
              <a:gd name="adj1" fmla="val 50000"/>
              <a:gd name="adj2" fmla="val 49685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Text Box 2"/>
          <p:cNvSpPr/>
          <p:nvPr/>
        </p:nvSpPr>
        <p:spPr>
          <a:xfrm>
            <a:off x="357120" y="1214280"/>
            <a:ext cx="1747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a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ระเบียบ </a:t>
            </a: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ICA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6" name="Rectangle 3"/>
          <p:cNvSpPr/>
          <p:nvPr/>
        </p:nvSpPr>
        <p:spPr>
          <a:xfrm>
            <a:off x="2071800" y="2974680"/>
            <a:ext cx="257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094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3.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ค่าธรรมเนียม </a:t>
            </a:r>
            <a:r>
              <a:rPr b="1" lang="en-US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&amp; 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ค่าปรับ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7" name="Rectangle 4"/>
          <p:cNvSpPr/>
          <p:nvPr/>
        </p:nvSpPr>
        <p:spPr>
          <a:xfrm>
            <a:off x="2143080" y="2428920"/>
            <a:ext cx="7488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1.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มาตรฐานเช็ค มาตรฐานภาพเช็ค มาตรฐานการตรวจสอบคุณภาพของภาพเช็ค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8" name="Rectangle 6"/>
          <p:cNvSpPr/>
          <p:nvPr/>
        </p:nvSpPr>
        <p:spPr>
          <a:xfrm>
            <a:off x="1541160" y="2786040"/>
            <a:ext cx="4842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2.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กำหนดเวลาการทำงานของระบบ </a:t>
            </a:r>
            <a:r>
              <a:rPr b="1" lang="en-US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ICAS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9" name="Rectangle 8"/>
          <p:cNvSpPr/>
          <p:nvPr/>
        </p:nvSpPr>
        <p:spPr>
          <a:xfrm>
            <a:off x="1488960" y="3502080"/>
            <a:ext cx="5488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4. </a:t>
            </a: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พิธีปฏิบัติกรณีมีเหตุวินาศภัยหรือเหตุฉุกเฉิน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0" name="Line 9"/>
          <p:cNvSpPr/>
          <p:nvPr/>
        </p:nvSpPr>
        <p:spPr>
          <a:xfrm>
            <a:off x="1571760" y="1714680"/>
            <a:ext cx="0" cy="2571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1" name="Line 10"/>
          <p:cNvSpPr/>
          <p:nvPr/>
        </p:nvSpPr>
        <p:spPr>
          <a:xfrm>
            <a:off x="1571760" y="21430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2" name="Text Box 11"/>
          <p:cNvSpPr/>
          <p:nvPr/>
        </p:nvSpPr>
        <p:spPr>
          <a:xfrm>
            <a:off x="500040" y="4643280"/>
            <a:ext cx="8319960" cy="825480"/>
          </a:xfrm>
          <a:prstGeom prst="rect">
            <a:avLst/>
          </a:prstGeom>
          <a:solidFill>
            <a:srgbClr val="d3e2f1"/>
          </a:solidFill>
          <a:ln w="0">
            <a:noFill/>
          </a:ln>
          <a:effectLst>
            <a:outerShdw dist="17819" dir="2700000" blurRad="0" rotWithShape="0">
              <a:srgbClr val="7f88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ระเบียบการให้บริการด้านการเงินด้วยวิธีอิเล็กทรอนิกส์ </a:t>
            </a:r>
            <a:r>
              <a:rPr b="1" lang="th-TH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lectronic financial Services : EFS)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3" name="Text Box 12"/>
          <p:cNvSpPr/>
          <p:nvPr/>
        </p:nvSpPr>
        <p:spPr>
          <a:xfrm>
            <a:off x="428760" y="5715000"/>
            <a:ext cx="831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ระเบียบการให้บริการด้านการเงินด้วยวิธีอิเล็กทรอนิกส์ผ่านเครื่องปฏิบัติงาน </a:t>
            </a:r>
            <a:r>
              <a:rPr b="1" lang="en-US" sz="24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Electronic Financial Services via Certified Servers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4" name="Text Box 13"/>
          <p:cNvSpPr/>
          <p:nvPr/>
        </p:nvSpPr>
        <p:spPr>
          <a:xfrm>
            <a:off x="2000160" y="1928880"/>
            <a:ext cx="29527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ประกาศภายใต้ระเบียบ </a:t>
            </a:r>
            <a:r>
              <a:rPr b="1" lang="en-US" sz="22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ICAS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1978200" y="189000"/>
            <a:ext cx="6049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4</a:t>
            </a:r>
            <a:r>
              <a:rPr b="1" lang="th-TH" sz="32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. </a:t>
            </a:r>
            <a:r>
              <a:rPr b="1" lang="th-TH" sz="32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ระเบียบ </a:t>
            </a:r>
            <a:r>
              <a:rPr b="1" lang="en-US" sz="32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&amp; </a:t>
            </a:r>
            <a:r>
              <a:rPr b="1" lang="th-TH" sz="32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ประกาศที่เกี่ยวข้องกับระบบ </a:t>
            </a:r>
            <a:r>
              <a:rPr b="1" lang="en-US" sz="32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6" name="Line 10"/>
          <p:cNvSpPr/>
          <p:nvPr/>
        </p:nvSpPr>
        <p:spPr>
          <a:xfrm>
            <a:off x="1571760" y="42861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7" name="Text Box 13"/>
          <p:cNvSpPr/>
          <p:nvPr/>
        </p:nvSpPr>
        <p:spPr>
          <a:xfrm>
            <a:off x="2000160" y="4000680"/>
            <a:ext cx="29527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ข้อตกลงร่วมระหว่างธนาคาร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15"/>
          <p:cNvSpPr/>
          <p:nvPr/>
        </p:nvSpPr>
        <p:spPr>
          <a:xfrm>
            <a:off x="142920" y="1285920"/>
            <a:ext cx="8858160" cy="4214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9" name="Text Box 135"/>
          <p:cNvSpPr/>
          <p:nvPr/>
        </p:nvSpPr>
        <p:spPr>
          <a:xfrm>
            <a:off x="371520" y="6308640"/>
            <a:ext cx="871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2060"/>
                </a:solidFill>
                <a:uFillTx/>
                <a:latin typeface="Browallia New"/>
                <a:cs typeface="Browallia New"/>
              </a:rPr>
              <a:t>หมายเหตุ</a:t>
            </a:r>
            <a:r>
              <a:rPr b="1" lang="en-US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:  ETA = Electronic Transaction Act 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(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พรบ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.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ว่าด้วยธุรกรรมทางอิเล็กทรอนิกส์ พ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.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ศ 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2544 (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แก้ไขเพิ่มเติม</a:t>
            </a:r>
            <a:r>
              <a:rPr b="1" lang="th-TH" sz="18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) 255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0" name="Text Box 7"/>
          <p:cNvSpPr/>
          <p:nvPr/>
        </p:nvSpPr>
        <p:spPr>
          <a:xfrm>
            <a:off x="67680" y="2046240"/>
            <a:ext cx="1396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เช็คต้นฉบ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1" name="Text Box 8"/>
          <p:cNvSpPr/>
          <p:nvPr/>
        </p:nvSpPr>
        <p:spPr>
          <a:xfrm>
            <a:off x="5195880" y="2014560"/>
            <a:ext cx="957240" cy="764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ภาพเช็ค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2" name="AutoShape 9"/>
          <p:cNvSpPr/>
          <p:nvPr/>
        </p:nvSpPr>
        <p:spPr>
          <a:xfrm>
            <a:off x="4995720" y="4427640"/>
            <a:ext cx="1079640" cy="64764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3" name="Text Box 10"/>
          <p:cNvSpPr/>
          <p:nvPr/>
        </p:nvSpPr>
        <p:spPr>
          <a:xfrm>
            <a:off x="4853520" y="4487760"/>
            <a:ext cx="134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Browallia New"/>
              </a:rPr>
              <a:t>Printout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4" name="Text Box 12"/>
          <p:cNvSpPr/>
          <p:nvPr/>
        </p:nvSpPr>
        <p:spPr>
          <a:xfrm>
            <a:off x="5611320" y="1920960"/>
            <a:ext cx="38779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1.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การรับฟังข้อมูล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และ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Printout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เป็นพยานหลักฐานทางศาล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ETA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ม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1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2.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สถานะของข้อมูล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ที่นำเสนอ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/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จัดเก็บ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ด้วยวิธีการที่น่าเชื่อถือ ให้เสมอกับ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เอกสารต้นฉบับ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ETA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ม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10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5" name="Text Box 13"/>
          <p:cNvSpPr/>
          <p:nvPr/>
        </p:nvSpPr>
        <p:spPr>
          <a:xfrm>
            <a:off x="5958000" y="4302000"/>
            <a:ext cx="22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การรับรอง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Printout</a:t>
            </a:r>
            <a:br>
              <a:rPr sz="1800"/>
            </a:b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เพื่อใช้แทนต้นฉบับได้</a:t>
            </a:r>
            <a:br>
              <a:rPr sz="1800"/>
            </a:b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ETA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ม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10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6" name="Line 14"/>
          <p:cNvSpPr/>
          <p:nvPr/>
        </p:nvSpPr>
        <p:spPr>
          <a:xfrm>
            <a:off x="1324080" y="2251080"/>
            <a:ext cx="3830400" cy="0"/>
          </a:xfrm>
          <a:prstGeom prst="line">
            <a:avLst/>
          </a:prstGeom>
          <a:ln w="1908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7" name="Text Box 15"/>
          <p:cNvSpPr/>
          <p:nvPr/>
        </p:nvSpPr>
        <p:spPr>
          <a:xfrm>
            <a:off x="1152360" y="1714680"/>
            <a:ext cx="4714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การจัดทำ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/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แปลง เอกสารหรือข้อความให้อยู่ในรูปข้อมูล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 </a:t>
            </a:r>
            <a:br>
              <a:rPr sz="1800"/>
            </a:b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(ETA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ม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.1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2/1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8" name="Text Box 16"/>
          <p:cNvSpPr/>
          <p:nvPr/>
        </p:nvSpPr>
        <p:spPr>
          <a:xfrm>
            <a:off x="939960" y="2319480"/>
            <a:ext cx="44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ปัจจุบันกระทรวง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ICT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อยู่ระหว่างการจัดทำ</a:t>
            </a:r>
            <a:br>
              <a:rPr sz="1800"/>
            </a:b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“ร่าง” หลักเกณฑ์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/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วิธีการจัดทำ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-Document</a:t>
            </a:r>
            <a:br>
              <a:rPr sz="1800"/>
            </a:b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ภายใน </a:t>
            </a:r>
            <a:r>
              <a:rPr b="1" lang="en-US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ETA (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อยู่ระหว่างการพิจารณาขอ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คณะอนุฯกรรมการ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4 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คณะ</a:t>
            </a:r>
            <a:r>
              <a:rPr b="1" lang="th-TH" sz="18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9" name="Line 17"/>
          <p:cNvSpPr/>
          <p:nvPr/>
        </p:nvSpPr>
        <p:spPr>
          <a:xfrm>
            <a:off x="5653080" y="2502000"/>
            <a:ext cx="0" cy="1873080"/>
          </a:xfrm>
          <a:prstGeom prst="line">
            <a:avLst/>
          </a:prstGeom>
          <a:ln w="1908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0" name="Rectangle 13"/>
          <p:cNvSpPr/>
          <p:nvPr/>
        </p:nvSpPr>
        <p:spPr>
          <a:xfrm>
            <a:off x="1285920" y="7128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พ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บ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ว่าด้วยธุรกรรมทางอิเล็กทรอนิกส์ พ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2544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             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ก้ไขเพิ่มเติม พ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ศ</a:t>
            </a:r>
            <a:r>
              <a:rPr b="1" lang="th-TH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2551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1" name="Text Box 17"/>
          <p:cNvSpPr/>
          <p:nvPr/>
        </p:nvSpPr>
        <p:spPr>
          <a:xfrm>
            <a:off x="142920" y="5500800"/>
            <a:ext cx="8858160" cy="1032120"/>
          </a:xfrm>
          <a:prstGeom prst="rect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ุรกรรมทางอิเล็กทรอนิกส์ใดที่กระทำตามวิธีการแบบปลอดภัยที่กำหนดในพระราชกฤษฎีกา    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ห้สันนิษฐานว่าเป็นวิธีการที่เชื่อถือได้  </a:t>
            </a:r>
            <a:r>
              <a:rPr b="1" lang="th-TH" sz="2200" spc="-1" strike="noStrike" u="sng">
                <a:solidFill>
                  <a:srgbClr val="990000"/>
                </a:solidFill>
                <a:uFillTx/>
                <a:latin typeface="Browallia New"/>
                <a:ea typeface="Browallia New"/>
              </a:rPr>
              <a:t>(</a:t>
            </a:r>
            <a:r>
              <a:rPr b="1" lang="en-US" sz="2200" spc="-1" strike="noStrike" u="sng">
                <a:solidFill>
                  <a:srgbClr val="990000"/>
                </a:solidFill>
                <a:uFillTx/>
                <a:latin typeface="Browallia New"/>
                <a:ea typeface="Browallia New"/>
              </a:rPr>
              <a:t>ETA </a:t>
            </a:r>
            <a:r>
              <a:rPr b="1" lang="th-TH" sz="2200" spc="-1" strike="noStrike" u="sng">
                <a:solidFill>
                  <a:srgbClr val="990000"/>
                </a:solidFill>
                <a:uFillTx/>
                <a:latin typeface="Browallia New"/>
                <a:cs typeface="Browallia New"/>
              </a:rPr>
              <a:t>ม</a:t>
            </a:r>
            <a:r>
              <a:rPr b="1" lang="th-TH" sz="2200" spc="-1" strike="noStrike" u="sng">
                <a:solidFill>
                  <a:srgbClr val="990000"/>
                </a:solidFill>
                <a:uFillTx/>
                <a:latin typeface="Browallia New"/>
                <a:ea typeface="Browallia New"/>
              </a:rPr>
              <a:t>.25)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Text Box 4"/>
          <p:cNvSpPr/>
          <p:nvPr/>
        </p:nvSpPr>
        <p:spPr>
          <a:xfrm>
            <a:off x="1562400" y="606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3" name="Rectangle 9"/>
          <p:cNvSpPr/>
          <p:nvPr/>
        </p:nvSpPr>
        <p:spPr>
          <a:xfrm>
            <a:off x="457200" y="1628640"/>
            <a:ext cx="82296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หากมีประเด็นสอบถามเกี่ยวกับระบบ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รุณาติดต่อ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: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ทีมพัฒนา 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</a:t>
            </a:r>
            <a:br>
              <a:rPr sz="3000"/>
            </a:b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ฝ่ายระบบการชำระเงิน ธนาคารแห่งประเทศไทย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โทรศัพท์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: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0-2283-5034 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0-2283-6420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โทรสาร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: 0-2282-7718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E-mail : ICS@bot.or.th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4"/>
          <p:cNvSpPr/>
          <p:nvPr/>
        </p:nvSpPr>
        <p:spPr>
          <a:xfrm>
            <a:off x="3279600" y="1268280"/>
            <a:ext cx="26719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8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Q &amp; A</a:t>
            </a:r>
            <a:endParaRPr b="0" lang="en-US" sz="10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515" name="Picture 5" descr="C:\Documents and Settings\sompops\Local Settings\Temporary Internet Files\Content.IE5\U5R05SF2\MCPE06567_0000[1].wmf"/>
          <p:cNvPicPr/>
          <p:nvPr/>
        </p:nvPicPr>
        <p:blipFill>
          <a:blip r:embed="rId1"/>
          <a:stretch/>
        </p:blipFill>
        <p:spPr>
          <a:xfrm>
            <a:off x="3995640" y="3306600"/>
            <a:ext cx="1141560" cy="1141560"/>
          </a:xfrm>
          <a:prstGeom prst="rect">
            <a:avLst/>
          </a:prstGeom>
          <a:ln w="0">
            <a:noFill/>
          </a:ln>
        </p:spPr>
      </p:pic>
      <p:sp>
        <p:nvSpPr>
          <p:cNvPr id="1516" name="Text Box 4"/>
          <p:cNvSpPr/>
          <p:nvPr/>
        </p:nvSpPr>
        <p:spPr>
          <a:xfrm>
            <a:off x="2500560" y="4797360"/>
            <a:ext cx="414324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8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อขอบคุณ</a:t>
            </a:r>
            <a:endParaRPr b="0" lang="en-US" sz="6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762120" y="1752480"/>
          <a:ext cx="7619760" cy="4248360"/>
        </p:xfrm>
        <a:graphic>
          <a:graphicData uri="http://schemas.openxmlformats.org/drawingml/2006/table">
            <a:tbl>
              <a:tblPr/>
              <a:tblGrid>
                <a:gridCol w="3581280"/>
                <a:gridCol w="2133720"/>
                <a:gridCol w="19047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บบงา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4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ปริมาณ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4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มูลค่า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044a8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E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ช็คภายในจังหวั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ช็คข้ามจังหวั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ค่าเฉลี่ยต่อวั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06,936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ฉบับ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37.68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พันล้านบาท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a95"/>
                    </a:solidFill>
                  </a:tcPr>
                </a:tc>
              </a:tr>
            </a:tbl>
          </a:graphicData>
        </a:graphic>
      </p:graphicFrame>
      <p:sp>
        <p:nvSpPr>
          <p:cNvPr id="547" name="Rectangle 26"/>
          <p:cNvSpPr/>
          <p:nvPr/>
        </p:nvSpPr>
        <p:spPr>
          <a:xfrm>
            <a:off x="1586520" y="189000"/>
            <a:ext cx="651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สรุปสัดส่วนการใช้เช็คของ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3 </a:t>
            </a: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6"/>
          <p:cNvGrpSpPr/>
          <p:nvPr/>
        </p:nvGrpSpPr>
        <p:grpSpPr>
          <a:xfrm>
            <a:off x="863640" y="3308400"/>
            <a:ext cx="4798080" cy="918720"/>
            <a:chOff x="863640" y="3308400"/>
            <a:chExt cx="4798080" cy="918720"/>
          </a:xfrm>
        </p:grpSpPr>
        <p:sp>
          <p:nvSpPr>
            <p:cNvPr id="549" name="Rectangle 7"/>
            <p:cNvSpPr/>
            <p:nvPr/>
          </p:nvSpPr>
          <p:spPr>
            <a:xfrm>
              <a:off x="863640" y="3538440"/>
              <a:ext cx="4143600" cy="65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50" name="Group 8"/>
            <p:cNvGrpSpPr/>
            <p:nvPr/>
          </p:nvGrpSpPr>
          <p:grpSpPr>
            <a:xfrm>
              <a:off x="4696200" y="3308400"/>
              <a:ext cx="965520" cy="918720"/>
              <a:chOff x="4696200" y="3308400"/>
              <a:chExt cx="965520" cy="918720"/>
            </a:xfrm>
          </p:grpSpPr>
          <p:grpSp>
            <p:nvGrpSpPr>
              <p:cNvPr id="551" name="Group 9"/>
              <p:cNvGrpSpPr/>
              <p:nvPr/>
            </p:nvGrpSpPr>
            <p:grpSpPr>
              <a:xfrm>
                <a:off x="4696200" y="3308400"/>
                <a:ext cx="965520" cy="918720"/>
                <a:chOff x="4696200" y="3308400"/>
                <a:chExt cx="965520" cy="918720"/>
              </a:xfrm>
            </p:grpSpPr>
            <p:sp>
              <p:nvSpPr>
                <p:cNvPr id="552" name="Oval 10"/>
                <p:cNvSpPr/>
                <p:nvPr/>
              </p:nvSpPr>
              <p:spPr>
                <a:xfrm>
                  <a:off x="4696200" y="3308400"/>
                  <a:ext cx="965520" cy="91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e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53" name="Freeform 11"/>
                <p:cNvSpPr/>
                <p:nvPr/>
              </p:nvSpPr>
              <p:spPr>
                <a:xfrm>
                  <a:off x="4807080" y="3323520"/>
                  <a:ext cx="744480" cy="346680"/>
                </a:xfrm>
                <a:custGeom>
                  <a:avLst/>
                  <a:gdLst>
                    <a:gd name="textAreaLeft" fmla="*/ 0 w 744480"/>
                    <a:gd name="textAreaRight" fmla="*/ 744840 w 744480"/>
                    <a:gd name="textAreaTop" fmla="*/ 0 h 346680"/>
                    <a:gd name="textAreaBottom" fmla="*/ 347040 h 346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554" name="Text Box 12"/>
              <p:cNvSpPr/>
              <p:nvPr/>
            </p:nvSpPr>
            <p:spPr>
              <a:xfrm>
                <a:off x="4978440" y="3434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55" name="Rectangle 13"/>
          <p:cNvSpPr/>
          <p:nvPr/>
        </p:nvSpPr>
        <p:spPr>
          <a:xfrm>
            <a:off x="900000" y="4560840"/>
            <a:ext cx="505152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56" name="Group 14"/>
          <p:cNvGrpSpPr/>
          <p:nvPr/>
        </p:nvGrpSpPr>
        <p:grpSpPr>
          <a:xfrm>
            <a:off x="5364000" y="4305240"/>
            <a:ext cx="976320" cy="924120"/>
            <a:chOff x="5364000" y="4305240"/>
            <a:chExt cx="976320" cy="924120"/>
          </a:xfrm>
        </p:grpSpPr>
        <p:sp>
          <p:nvSpPr>
            <p:cNvPr id="557" name="Oval 15"/>
            <p:cNvSpPr/>
            <p:nvPr/>
          </p:nvSpPr>
          <p:spPr>
            <a:xfrm>
              <a:off x="5364000" y="4305240"/>
              <a:ext cx="976320" cy="924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323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5475600" y="4320360"/>
              <a:ext cx="753120" cy="34884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59" name="Text Box 17"/>
          <p:cNvSpPr/>
          <p:nvPr/>
        </p:nvSpPr>
        <p:spPr>
          <a:xfrm>
            <a:off x="5668920" y="45212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60" name="Group 18"/>
          <p:cNvGrpSpPr/>
          <p:nvPr/>
        </p:nvGrpSpPr>
        <p:grpSpPr>
          <a:xfrm>
            <a:off x="792000" y="2297160"/>
            <a:ext cx="4233240" cy="914040"/>
            <a:chOff x="792000" y="2297160"/>
            <a:chExt cx="4233240" cy="914040"/>
          </a:xfrm>
        </p:grpSpPr>
        <p:sp>
          <p:nvSpPr>
            <p:cNvPr id="561" name="Rectangle 19"/>
            <p:cNvSpPr/>
            <p:nvPr/>
          </p:nvSpPr>
          <p:spPr>
            <a:xfrm>
              <a:off x="792000" y="2547720"/>
              <a:ext cx="3749760" cy="65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62" name="Group 20"/>
            <p:cNvGrpSpPr/>
            <p:nvPr/>
          </p:nvGrpSpPr>
          <p:grpSpPr>
            <a:xfrm>
              <a:off x="4049640" y="2297160"/>
              <a:ext cx="975600" cy="914040"/>
              <a:chOff x="4049640" y="2297160"/>
              <a:chExt cx="975600" cy="914040"/>
            </a:xfrm>
          </p:grpSpPr>
          <p:grpSp>
            <p:nvGrpSpPr>
              <p:cNvPr id="563" name="Group 21"/>
              <p:cNvGrpSpPr/>
              <p:nvPr/>
            </p:nvGrpSpPr>
            <p:grpSpPr>
              <a:xfrm>
                <a:off x="4049640" y="2297160"/>
                <a:ext cx="975600" cy="914040"/>
                <a:chOff x="4049640" y="2297160"/>
                <a:chExt cx="975600" cy="914040"/>
              </a:xfrm>
            </p:grpSpPr>
            <p:sp>
              <p:nvSpPr>
                <p:cNvPr id="564" name="Oval 22"/>
                <p:cNvSpPr/>
                <p:nvPr/>
              </p:nvSpPr>
              <p:spPr>
                <a:xfrm>
                  <a:off x="4049640" y="2297160"/>
                  <a:ext cx="975600" cy="9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1414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65" name="Freeform 23"/>
                <p:cNvSpPr/>
                <p:nvPr/>
              </p:nvSpPr>
              <p:spPr>
                <a:xfrm>
                  <a:off x="4161600" y="2312280"/>
                  <a:ext cx="752400" cy="344880"/>
                </a:xfrm>
                <a:custGeom>
                  <a:avLst/>
                  <a:gdLst>
                    <a:gd name="textAreaLeft" fmla="*/ 0 w 752400"/>
                    <a:gd name="textAreaRight" fmla="*/ 752760 w 75240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566" name="Text Box 24"/>
              <p:cNvSpPr/>
              <p:nvPr/>
            </p:nvSpPr>
            <p:spPr>
              <a:xfrm>
                <a:off x="4363920" y="23986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67" name="Text Box 25"/>
          <p:cNvSpPr/>
          <p:nvPr/>
        </p:nvSpPr>
        <p:spPr>
          <a:xfrm>
            <a:off x="395280" y="2576520"/>
            <a:ext cx="36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One Cheque Clearing System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1401840" y="358452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One Clearing House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1332000" y="459252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One – Day Clearing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0" name="AutoShape 28"/>
          <p:cNvSpPr/>
          <p:nvPr/>
        </p:nvSpPr>
        <p:spPr>
          <a:xfrm>
            <a:off x="5437080" y="1568520"/>
            <a:ext cx="3600720" cy="1663560"/>
          </a:xfrm>
          <a:prstGeom prst="wedgeRoundRectCallout">
            <a:avLst>
              <a:gd name="adj1" fmla="val -35050"/>
              <a:gd name="adj2" fmla="val 89027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นโยบายการพัฒน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ของ ธปท</a:t>
            </a:r>
            <a:r>
              <a:rPr b="1" lang="en-US" sz="3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250920" y="1325520"/>
            <a:ext cx="1439640" cy="4899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ป้าหมาย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68360" y="447840"/>
            <a:ext cx="8351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       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. 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ระบบการหักบัญชีเช็คด้วยภาพเช็คและระบบการจัดเก็บภาพเช็ค  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                </a:t>
            </a:r>
            <a:r>
              <a:rPr b="1" lang="en-US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(Imaged Cheque Clearing and Archive System - ICAS</a:t>
            </a:r>
            <a:r>
              <a:rPr b="1" lang="th-TH" sz="3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468360" y="71280"/>
            <a:ext cx="8351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                            </a:t>
            </a:r>
            <a:r>
              <a:rPr b="1" lang="th-TH" sz="3600" spc="-1" strike="noStrike">
                <a:solidFill>
                  <a:srgbClr val="002060"/>
                </a:solidFill>
                <a:latin typeface="Browallia New"/>
                <a:cs typeface="Browallia New"/>
              </a:rPr>
              <a:t>นโยบายการพัฒนาระบบ </a:t>
            </a:r>
            <a:r>
              <a:rPr b="1" lang="en-US" sz="3600" spc="-1" strike="noStrike">
                <a:solidFill>
                  <a:srgbClr val="002060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611280" y="2422440"/>
            <a:ext cx="7961400" cy="3221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7480" indent="-266760">
              <a:lnSpc>
                <a:spcPct val="115000"/>
              </a:lnSpc>
              <a:spcBef>
                <a:spcPts val="1874"/>
              </a:spcBef>
              <a:buClr>
                <a:srgbClr val="ffffff"/>
              </a:buClr>
              <a:buSzPct val="14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ทดแทน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ะบบเดิม 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ECS)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lvl="1" marL="717480" indent="-266760">
              <a:lnSpc>
                <a:spcPct val="115000"/>
              </a:lnSpc>
              <a:spcBef>
                <a:spcPts val="1874"/>
              </a:spcBef>
              <a:buClr>
                <a:srgbClr val="ffffff"/>
              </a:buClr>
              <a:buSzPct val="14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ลดต้นทุน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องระบบการชำระเงิ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lvl="1" marL="717480" indent="-266760">
              <a:lnSpc>
                <a:spcPct val="115000"/>
              </a:lnSpc>
              <a:spcBef>
                <a:spcPts val="1874"/>
              </a:spcBef>
              <a:buClr>
                <a:srgbClr val="ffffff"/>
              </a:buClr>
              <a:buSzPct val="14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เพิ่มระยะเวลา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ฝากเช็คของลูกค้า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  <a:p>
            <a:pPr lvl="1" marL="717480" indent="-266760">
              <a:lnSpc>
                <a:spcPct val="115000"/>
              </a:lnSpc>
              <a:spcBef>
                <a:spcPts val="1874"/>
              </a:spcBef>
              <a:buClr>
                <a:srgbClr val="ffffff"/>
              </a:buClr>
              <a:buSzPct val="14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ffffff"/>
                </a:solidFill>
                <a:uFillTx/>
                <a:latin typeface="Browallia New"/>
                <a:cs typeface="Browallia New"/>
              </a:rPr>
              <a:t>เพิ่มประสิทธิภาพ</a:t>
            </a:r>
            <a:r>
              <a:rPr b="1" lang="th-TH" sz="3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การหักบัญชีเช็ค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11280" y="1554120"/>
            <a:ext cx="1800000" cy="1068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วัตถุประสงค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reeform 2"/>
          <p:cNvSpPr/>
          <p:nvPr/>
        </p:nvSpPr>
        <p:spPr>
          <a:xfrm>
            <a:off x="3780000" y="3139920"/>
            <a:ext cx="758520" cy="1225800"/>
          </a:xfrm>
          <a:custGeom>
            <a:avLst/>
            <a:gdLst>
              <a:gd name="textAreaLeft" fmla="*/ 0 w 758520"/>
              <a:gd name="textAreaRight" fmla="*/ 758880 w 758520"/>
              <a:gd name="textAreaTop" fmla="*/ 0 h 1225800"/>
              <a:gd name="textAreaBottom" fmla="*/ 1226160 h 12258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7d7d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7" name="Freeform 3"/>
          <p:cNvSpPr/>
          <p:nvPr/>
        </p:nvSpPr>
        <p:spPr>
          <a:xfrm flipH="1">
            <a:off x="4572000" y="3068640"/>
            <a:ext cx="719280" cy="1314360"/>
          </a:xfrm>
          <a:custGeom>
            <a:avLst/>
            <a:gdLst>
              <a:gd name="textAreaLeft" fmla="*/ 360 w 719280"/>
              <a:gd name="textAreaRight" fmla="*/ 720000 w 719280"/>
              <a:gd name="textAreaTop" fmla="*/ 0 h 1314360"/>
              <a:gd name="textAreaBottom" fmla="*/ 1314360 h 1314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537480" y="1413000"/>
            <a:ext cx="8133120" cy="1600920"/>
            <a:chOff x="537480" y="1413000"/>
            <a:chExt cx="8133120" cy="1600920"/>
          </a:xfrm>
        </p:grpSpPr>
        <p:grpSp>
          <p:nvGrpSpPr>
            <p:cNvPr id="579" name="Group 5"/>
            <p:cNvGrpSpPr/>
            <p:nvPr/>
          </p:nvGrpSpPr>
          <p:grpSpPr>
            <a:xfrm>
              <a:off x="1260360" y="1413000"/>
              <a:ext cx="6838200" cy="1600920"/>
              <a:chOff x="1260360" y="1413000"/>
              <a:chExt cx="6838200" cy="1600920"/>
            </a:xfrm>
          </p:grpSpPr>
          <p:grpSp>
            <p:nvGrpSpPr>
              <p:cNvPr id="580" name="Group 6"/>
              <p:cNvGrpSpPr/>
              <p:nvPr/>
            </p:nvGrpSpPr>
            <p:grpSpPr>
              <a:xfrm>
                <a:off x="1260360" y="1555560"/>
                <a:ext cx="6838200" cy="1458360"/>
                <a:chOff x="1260360" y="1555560"/>
                <a:chExt cx="6838200" cy="1458360"/>
              </a:xfrm>
            </p:grpSpPr>
            <p:sp>
              <p:nvSpPr>
                <p:cNvPr id="581" name="Oval 7"/>
                <p:cNvSpPr/>
                <p:nvPr/>
              </p:nvSpPr>
              <p:spPr>
                <a:xfrm>
                  <a:off x="1334880" y="1602000"/>
                  <a:ext cx="6763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6363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82" name="Oval 8"/>
                <p:cNvSpPr/>
                <p:nvPr/>
              </p:nvSpPr>
              <p:spPr>
                <a:xfrm>
                  <a:off x="1260360" y="1555560"/>
                  <a:ext cx="6763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8e8ff"/>
                    </a:gs>
                    <a:gs pos="100000">
                      <a:srgbClr val="cccc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583" name="Oval 9"/>
              <p:cNvSpPr/>
              <p:nvPr/>
            </p:nvSpPr>
            <p:spPr>
              <a:xfrm>
                <a:off x="1582920" y="1413000"/>
                <a:ext cx="6122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5e47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4" name="Oval 10"/>
              <p:cNvSpPr/>
              <p:nvPr/>
            </p:nvSpPr>
            <p:spPr>
              <a:xfrm>
                <a:off x="1662480" y="1420560"/>
                <a:ext cx="5973840" cy="130788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0"/>
                    </a:srgbClr>
                  </a:gs>
                  <a:gs pos="100000">
                    <a:srgbClr val="a6edd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5" name="Oval 11"/>
              <p:cNvSpPr/>
              <p:nvPr/>
            </p:nvSpPr>
            <p:spPr>
              <a:xfrm>
                <a:off x="1724040" y="1433520"/>
                <a:ext cx="5684040" cy="1221840"/>
              </a:xfrm>
              <a:prstGeom prst="ellipse">
                <a:avLst/>
              </a:prstGeom>
              <a:gradFill rotWithShape="0">
                <a:gsLst>
                  <a:gs pos="0">
                    <a:srgbClr val="00a279"/>
                  </a:gs>
                  <a:gs pos="100000">
                    <a:srgbClr val="00cc9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6" name="Oval 12"/>
              <p:cNvSpPr/>
              <p:nvPr/>
            </p:nvSpPr>
            <p:spPr>
              <a:xfrm>
                <a:off x="2024640" y="1460520"/>
                <a:ext cx="500328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87" name="Text Box 13"/>
            <p:cNvSpPr/>
            <p:nvPr/>
          </p:nvSpPr>
          <p:spPr>
            <a:xfrm>
              <a:off x="537480" y="1622160"/>
              <a:ext cx="813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Imaged Cheque Clearing and Archive System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Browallia New"/>
                  <a:ea typeface="Browallia New"/>
                </a:rPr>
                <a:t>ICAS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88" name="Group 14"/>
          <p:cNvGrpSpPr/>
          <p:nvPr/>
        </p:nvGrpSpPr>
        <p:grpSpPr>
          <a:xfrm>
            <a:off x="250920" y="3284640"/>
            <a:ext cx="3384000" cy="2309760"/>
            <a:chOff x="250920" y="3284640"/>
            <a:chExt cx="3384000" cy="2309760"/>
          </a:xfrm>
        </p:grpSpPr>
        <p:sp>
          <p:nvSpPr>
            <p:cNvPr id="589" name="AutoShape 15"/>
            <p:cNvSpPr/>
            <p:nvPr/>
          </p:nvSpPr>
          <p:spPr>
            <a:xfrm>
              <a:off x="250920" y="3284640"/>
              <a:ext cx="338400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0" name="Text Box 16"/>
            <p:cNvSpPr/>
            <p:nvPr/>
          </p:nvSpPr>
          <p:spPr>
            <a:xfrm>
              <a:off x="392040" y="3441240"/>
              <a:ext cx="301752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Imaged Cheque                   Clearing System (ICS)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ระบบการหักบัญชีเช็ค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ด้วยภาพเช็ค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91" name="Group 17"/>
          <p:cNvGrpSpPr/>
          <p:nvPr/>
        </p:nvGrpSpPr>
        <p:grpSpPr>
          <a:xfrm>
            <a:off x="5291280" y="3284640"/>
            <a:ext cx="3673080" cy="2790000"/>
            <a:chOff x="5291280" y="3284640"/>
            <a:chExt cx="3673080" cy="2790000"/>
          </a:xfrm>
        </p:grpSpPr>
        <p:sp>
          <p:nvSpPr>
            <p:cNvPr id="592" name="AutoShape 18"/>
            <p:cNvSpPr/>
            <p:nvPr/>
          </p:nvSpPr>
          <p:spPr>
            <a:xfrm>
              <a:off x="5291280" y="3284640"/>
              <a:ext cx="3673080" cy="21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413680" y="3442680"/>
              <a:ext cx="330588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Image Archive System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(IAS)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ระบบการจัดเก็บรักษาภาพเช็ค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                </a:t>
              </a: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(</a:t>
              </a: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เก็บ </a:t>
              </a:r>
              <a:r>
                <a:rPr b="1" lang="en-US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10 </a:t>
              </a: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ปี</a:t>
              </a:r>
              <a:r>
                <a:rPr b="1" lang="th-TH" sz="2600" spc="-1" strike="noStrike">
                  <a:solidFill>
                    <a:srgbClr val="000099"/>
                  </a:solidFill>
                  <a:latin typeface="Browallia New"/>
                  <a:ea typeface="Browallia New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94" name="Text Box 20"/>
          <p:cNvSpPr/>
          <p:nvPr/>
        </p:nvSpPr>
        <p:spPr>
          <a:xfrm>
            <a:off x="3214800" y="285840"/>
            <a:ext cx="3357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31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พัฒนาระบบ </a:t>
            </a:r>
            <a:r>
              <a:rPr b="1" lang="en-US" sz="31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r>
              <a:rPr b="1" lang="th-TH" sz="31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>
            <a:off x="1116000" y="1246320"/>
            <a:ext cx="676764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dbdb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รอบการพัฒนา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6" name="Group 3"/>
          <p:cNvGrpSpPr/>
          <p:nvPr/>
        </p:nvGrpSpPr>
        <p:grpSpPr>
          <a:xfrm>
            <a:off x="5580000" y="1916280"/>
            <a:ext cx="1944360" cy="2952360"/>
            <a:chOff x="5580000" y="1916280"/>
            <a:chExt cx="1944360" cy="2952360"/>
          </a:xfrm>
        </p:grpSpPr>
        <p:sp>
          <p:nvSpPr>
            <p:cNvPr id="597" name="AutoShape 4"/>
            <p:cNvSpPr/>
            <p:nvPr/>
          </p:nvSpPr>
          <p:spPr>
            <a:xfrm>
              <a:off x="5580000" y="2110320"/>
              <a:ext cx="1944360" cy="2758320"/>
            </a:xfrm>
            <a:custGeom>
              <a:avLst/>
              <a:gdLst>
                <a:gd name="textAreaLeft" fmla="*/ 99720 w 1944360"/>
                <a:gd name="textAreaRight" fmla="*/ 1844640 w 1944360"/>
                <a:gd name="textAreaTop" fmla="*/ 99720 h 2758320"/>
                <a:gd name="textAreaBottom" fmla="*/ 2658600 h 2758320"/>
              </a:gdLst>
              <a:ahLst/>
              <a:rect l="textAreaLeft" t="textAreaTop" r="textAreaRight" b="textAreaBottom"/>
              <a:pathLst>
                <a:path w="21600" h="30641">
                  <a:moveTo>
                    <a:pt x="3782" y="0"/>
                  </a:moveTo>
                  <a:arcTo wR="3782" hR="3782" stAng="16200000" swAng="-5400000"/>
                  <a:lnTo>
                    <a:pt x="0" y="26859"/>
                  </a:lnTo>
                  <a:arcTo wR="3782" hR="3782" stAng="10800000" swAng="-5400000"/>
                  <a:lnTo>
                    <a:pt x="17818" y="3064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AutoShape 5"/>
            <p:cNvSpPr/>
            <p:nvPr/>
          </p:nvSpPr>
          <p:spPr>
            <a:xfrm>
              <a:off x="5580000" y="2180880"/>
              <a:ext cx="1884960" cy="2647800"/>
            </a:xfrm>
            <a:custGeom>
              <a:avLst/>
              <a:gdLst>
                <a:gd name="textAreaLeft" fmla="*/ 91800 w 1884960"/>
                <a:gd name="textAreaRight" fmla="*/ 1793160 w 1884960"/>
                <a:gd name="textAreaTop" fmla="*/ 91800 h 2647800"/>
                <a:gd name="textAreaBottom" fmla="*/ 2556000 h 2647800"/>
              </a:gdLst>
              <a:ahLst/>
              <a:rect l="textAreaLeft" t="textAreaTop" r="textAreaRight" b="textAreaBottom"/>
              <a:pathLst>
                <a:path w="21600" h="30340">
                  <a:moveTo>
                    <a:pt x="3600" y="0"/>
                  </a:moveTo>
                  <a:arcTo wR="3600" hR="3600" stAng="16200000" swAng="-5400000"/>
                  <a:lnTo>
                    <a:pt x="0" y="26740"/>
                  </a:lnTo>
                  <a:arcTo wR="3600" hR="3600" stAng="10800000" swAng="-5400000"/>
                  <a:lnTo>
                    <a:pt x="18000" y="30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9" name="AutoShape 6"/>
            <p:cNvSpPr/>
            <p:nvPr/>
          </p:nvSpPr>
          <p:spPr>
            <a:xfrm>
              <a:off x="5654520" y="4092480"/>
              <a:ext cx="1858320" cy="68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0" name="AutoShape 7"/>
            <p:cNvSpPr/>
            <p:nvPr/>
          </p:nvSpPr>
          <p:spPr>
            <a:xfrm>
              <a:off x="5626440" y="2138760"/>
              <a:ext cx="1858320" cy="68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01" name="Group 8"/>
            <p:cNvGrpSpPr/>
            <p:nvPr/>
          </p:nvGrpSpPr>
          <p:grpSpPr>
            <a:xfrm>
              <a:off x="6201720" y="1916280"/>
              <a:ext cx="578880" cy="414360"/>
              <a:chOff x="6201720" y="1916280"/>
              <a:chExt cx="578880" cy="414360"/>
            </a:xfrm>
          </p:grpSpPr>
          <p:sp>
            <p:nvSpPr>
              <p:cNvPr id="602" name="Oval 9"/>
              <p:cNvSpPr/>
              <p:nvPr/>
            </p:nvSpPr>
            <p:spPr>
              <a:xfrm>
                <a:off x="6201720" y="1916280"/>
                <a:ext cx="578880" cy="41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3" name="Oval 10"/>
              <p:cNvSpPr/>
              <p:nvPr/>
            </p:nvSpPr>
            <p:spPr>
              <a:xfrm>
                <a:off x="6207480" y="1919160"/>
                <a:ext cx="559800" cy="401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4" name="Oval 11"/>
              <p:cNvSpPr/>
              <p:nvPr/>
            </p:nvSpPr>
            <p:spPr>
              <a:xfrm>
                <a:off x="6214680" y="1921680"/>
                <a:ext cx="546840" cy="39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5" name="Oval 12"/>
              <p:cNvSpPr/>
              <p:nvPr/>
            </p:nvSpPr>
            <p:spPr>
              <a:xfrm>
                <a:off x="6220440" y="1925640"/>
                <a:ext cx="519840" cy="36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6" name="Oval 13"/>
              <p:cNvSpPr/>
              <p:nvPr/>
            </p:nvSpPr>
            <p:spPr>
              <a:xfrm>
                <a:off x="6251040" y="1935360"/>
                <a:ext cx="461880" cy="29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607" name="Text Box 14"/>
            <p:cNvSpPr/>
            <p:nvPr/>
          </p:nvSpPr>
          <p:spPr>
            <a:xfrm>
              <a:off x="6334920" y="199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08" name="Text Box 15"/>
          <p:cNvSpPr/>
          <p:nvPr/>
        </p:nvSpPr>
        <p:spPr>
          <a:xfrm>
            <a:off x="5580000" y="2492280"/>
            <a:ext cx="208764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Browall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วามรับผิดชอบ</a:t>
            </a:r>
            <a:br>
              <a:rPr sz="2200"/>
            </a:b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ระหว่างธนาคารใช้</a:t>
            </a:r>
            <a:br>
              <a:rPr sz="2200"/>
            </a:br>
            <a:r>
              <a:rPr b="1" lang="th-TH" sz="22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 </a:t>
            </a: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ระเบียบ ธปท</a:t>
            </a: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ea typeface="Browallia New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Browall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ความรับผิดชอบ</a:t>
            </a:r>
            <a:br>
              <a:rPr sz="2200"/>
            </a:b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</a:t>
            </a: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ระหว่างธนาคารกับ</a:t>
            </a:r>
            <a:br>
              <a:rPr sz="2200"/>
            </a:br>
            <a:r>
              <a:rPr b="1" lang="th-TH" sz="22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 </a:t>
            </a: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ลูกค้าไม่ปลี่ยนแปลง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AutoShape 16"/>
          <p:cNvSpPr/>
          <p:nvPr/>
        </p:nvSpPr>
        <p:spPr>
          <a:xfrm>
            <a:off x="7597800" y="2281320"/>
            <a:ext cx="1438200" cy="2703600"/>
          </a:xfrm>
          <a:custGeom>
            <a:avLst/>
            <a:gdLst>
              <a:gd name="textAreaLeft" fmla="*/ 73440 w 1438200"/>
              <a:gd name="textAreaRight" fmla="*/ 1364760 w 1438200"/>
              <a:gd name="textAreaTop" fmla="*/ 73440 h 2703600"/>
              <a:gd name="textAreaBottom" fmla="*/ 2630160 h 2703600"/>
            </a:gdLst>
            <a:ahLst/>
            <a:rect l="textAreaLeft" t="textAreaTop" r="textAreaRight" b="textAreaBottom"/>
            <a:pathLst>
              <a:path w="21600" h="40600">
                <a:moveTo>
                  <a:pt x="3782" y="0"/>
                </a:moveTo>
                <a:arcTo wR="3782" hR="3782" stAng="16200000" swAng="-5400000"/>
                <a:lnTo>
                  <a:pt x="0" y="36818"/>
                </a:lnTo>
                <a:arcTo wR="3782" hR="3782" stAng="10800000" swAng="-5400000"/>
                <a:lnTo>
                  <a:pt x="17818" y="4060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7597800" y="2208240"/>
            <a:ext cx="1393920" cy="2651040"/>
          </a:xfrm>
          <a:custGeom>
            <a:avLst/>
            <a:gdLst>
              <a:gd name="textAreaLeft" fmla="*/ 68040 w 1393920"/>
              <a:gd name="textAreaRight" fmla="*/ 1325880 w 1393920"/>
              <a:gd name="textAreaTop" fmla="*/ 68040 h 2651040"/>
              <a:gd name="textAreaBottom" fmla="*/ 2583000 h 2651040"/>
            </a:gdLst>
            <a:ahLst/>
            <a:rect l="textAreaLeft" t="textAreaTop" r="textAreaRight" b="textAreaBottom"/>
            <a:pathLst>
              <a:path w="21600" h="41075">
                <a:moveTo>
                  <a:pt x="3600" y="0"/>
                </a:moveTo>
                <a:arcTo wR="3600" hR="3600" stAng="16200000" swAng="-5400000"/>
                <a:lnTo>
                  <a:pt x="0" y="37475"/>
                </a:lnTo>
                <a:arcTo wR="3600" hR="3600" stAng="10800000" swAng="-5400000"/>
                <a:lnTo>
                  <a:pt x="18000" y="41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AutoShape 18"/>
          <p:cNvSpPr/>
          <p:nvPr/>
        </p:nvSpPr>
        <p:spPr>
          <a:xfrm>
            <a:off x="7631280" y="4241880"/>
            <a:ext cx="13762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7631280" y="2309760"/>
            <a:ext cx="1376280" cy="669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Oval 20"/>
          <p:cNvSpPr/>
          <p:nvPr/>
        </p:nvSpPr>
        <p:spPr>
          <a:xfrm>
            <a:off x="8093160" y="1990800"/>
            <a:ext cx="426960" cy="6080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Oval 21"/>
          <p:cNvSpPr/>
          <p:nvPr/>
        </p:nvSpPr>
        <p:spPr>
          <a:xfrm>
            <a:off x="8096400" y="1995480"/>
            <a:ext cx="414360" cy="5889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Oval 22"/>
          <p:cNvSpPr/>
          <p:nvPr/>
        </p:nvSpPr>
        <p:spPr>
          <a:xfrm>
            <a:off x="8102520" y="1998720"/>
            <a:ext cx="403200" cy="574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Oval 23"/>
          <p:cNvSpPr/>
          <p:nvPr/>
        </p:nvSpPr>
        <p:spPr>
          <a:xfrm>
            <a:off x="8105760" y="2004840"/>
            <a:ext cx="384120" cy="5353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Oval 24"/>
          <p:cNvSpPr/>
          <p:nvPr/>
        </p:nvSpPr>
        <p:spPr>
          <a:xfrm>
            <a:off x="8129520" y="2019240"/>
            <a:ext cx="341280" cy="43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Text Box 25"/>
          <p:cNvSpPr/>
          <p:nvPr/>
        </p:nvSpPr>
        <p:spPr>
          <a:xfrm>
            <a:off x="8139240" y="2173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9" name="Text Box 26"/>
          <p:cNvSpPr/>
          <p:nvPr/>
        </p:nvSpPr>
        <p:spPr>
          <a:xfrm>
            <a:off x="7669080" y="2711520"/>
            <a:ext cx="12430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รณี</a:t>
            </a:r>
            <a:r>
              <a:rPr b="1" lang="th-TH" sz="2200" spc="-1" strike="noStrike" u="sng">
                <a:solidFill>
                  <a:srgbClr val="6600cc"/>
                </a:solidFill>
                <a:uFillTx/>
                <a:latin typeface="Browallia New"/>
                <a:cs typeface="Browallia New"/>
              </a:rPr>
              <a:t>เช็คคืน</a:t>
            </a:r>
            <a:r>
              <a:rPr b="1" lang="th-TH" sz="2200" spc="-1" strike="noStrike">
                <a:solidFill>
                  <a:srgbClr val="6600cc"/>
                </a:solidFill>
                <a:latin typeface="Browallia New"/>
                <a:ea typeface="Browallia New"/>
              </a:rPr>
              <a:t>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นาคารผู้รับฝากเช็ค</a:t>
            </a:r>
            <a:r>
              <a:rPr b="1" lang="th-TH" sz="2200" spc="-1" strike="noStrike" u="sng">
                <a:solidFill>
                  <a:srgbClr val="6600cc"/>
                </a:solidFill>
                <a:uFillTx/>
                <a:latin typeface="Browallia New"/>
                <a:cs typeface="Browallia New"/>
              </a:rPr>
              <a:t>คืนตัวเช็คให้ลูกค้า              ผู้ฝากเช็ค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0" name="AutoShape 27"/>
          <p:cNvSpPr/>
          <p:nvPr/>
        </p:nvSpPr>
        <p:spPr>
          <a:xfrm>
            <a:off x="324000" y="5229360"/>
            <a:ext cx="8351640" cy="1152360"/>
          </a:xfrm>
          <a:prstGeom prst="roundRect">
            <a:avLst>
              <a:gd name="adj" fmla="val 50000"/>
            </a:avLst>
          </a:prstGeom>
          <a:solidFill>
            <a:srgbClr val="b1cbe5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 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Browallia New"/>
                <a:cs typeface="Browallia New"/>
              </a:rPr>
              <a:t>กำหนดการใช้งานระบบ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Browallia New"/>
                <a:ea typeface="Browallia New"/>
              </a:rPr>
              <a:t>ICA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เริ่มใช้ระบบ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ใน กทม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และปริมณฑลเดือน กันยายน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3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  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. </a:t>
            </a:r>
            <a:r>
              <a:rPr b="1" lang="th-TH" sz="24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ขยายการใช้งานไปทั่วประเทศภายในปี </a:t>
            </a:r>
            <a:r>
              <a:rPr b="1" lang="en-US" sz="24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555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21" name="Group 28"/>
          <p:cNvGrpSpPr/>
          <p:nvPr/>
        </p:nvGrpSpPr>
        <p:grpSpPr>
          <a:xfrm>
            <a:off x="3781440" y="1919160"/>
            <a:ext cx="1728720" cy="3494880"/>
            <a:chOff x="3781440" y="1919160"/>
            <a:chExt cx="1728720" cy="3494880"/>
          </a:xfrm>
        </p:grpSpPr>
        <p:sp>
          <p:nvSpPr>
            <p:cNvPr id="622" name="AutoShape 29"/>
            <p:cNvSpPr/>
            <p:nvPr/>
          </p:nvSpPr>
          <p:spPr>
            <a:xfrm>
              <a:off x="3781440" y="2209680"/>
              <a:ext cx="1725480" cy="2703600"/>
            </a:xfrm>
            <a:custGeom>
              <a:avLst/>
              <a:gdLst>
                <a:gd name="textAreaLeft" fmla="*/ 88200 w 1725480"/>
                <a:gd name="textAreaRight" fmla="*/ 1637280 w 1725480"/>
                <a:gd name="textAreaTop" fmla="*/ 88200 h 2703600"/>
                <a:gd name="textAreaBottom" fmla="*/ 2615400 h 2703600"/>
              </a:gdLst>
              <a:ahLst/>
              <a:rect l="textAreaLeft" t="textAreaTop" r="textAreaRight" b="textAreaBottom"/>
              <a:pathLst>
                <a:path w="21600" h="33842">
                  <a:moveTo>
                    <a:pt x="3782" y="0"/>
                  </a:moveTo>
                  <a:arcTo wR="3782" hR="3782" stAng="16200000" swAng="-5400000"/>
                  <a:lnTo>
                    <a:pt x="0" y="30060"/>
                  </a:lnTo>
                  <a:arcTo wR="3782" hR="3782" stAng="10800000" swAng="-5400000"/>
                  <a:lnTo>
                    <a:pt x="17818" y="3384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3" name="AutoShape 30"/>
            <p:cNvSpPr/>
            <p:nvPr/>
          </p:nvSpPr>
          <p:spPr>
            <a:xfrm>
              <a:off x="3836880" y="2206800"/>
              <a:ext cx="1673280" cy="2651040"/>
            </a:xfrm>
            <a:custGeom>
              <a:avLst/>
              <a:gdLst>
                <a:gd name="textAreaLeft" fmla="*/ 81360 w 1673280"/>
                <a:gd name="textAreaRight" fmla="*/ 1591920 w 1673280"/>
                <a:gd name="textAreaTop" fmla="*/ 81360 h 2651040"/>
                <a:gd name="textAreaBottom" fmla="*/ 2569680 h 2651040"/>
              </a:gdLst>
              <a:ahLst/>
              <a:rect l="textAreaLeft" t="textAreaTop" r="textAreaRight" b="textAreaBottom"/>
              <a:pathLst>
                <a:path w="21600" h="34219">
                  <a:moveTo>
                    <a:pt x="3600" y="0"/>
                  </a:moveTo>
                  <a:arcTo wR="3600" hR="3600" stAng="16200000" swAng="-5400000"/>
                  <a:lnTo>
                    <a:pt x="0" y="30619"/>
                  </a:lnTo>
                  <a:arcTo wR="3600" hR="3600" stAng="10800000" swAng="-5400000"/>
                  <a:lnTo>
                    <a:pt x="18000" y="342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4" name="AutoShape 31"/>
            <p:cNvSpPr/>
            <p:nvPr/>
          </p:nvSpPr>
          <p:spPr>
            <a:xfrm>
              <a:off x="3822480" y="2238480"/>
              <a:ext cx="165096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5" name="Oval 32"/>
            <p:cNvSpPr/>
            <p:nvPr/>
          </p:nvSpPr>
          <p:spPr>
            <a:xfrm>
              <a:off x="4375080" y="1919160"/>
              <a:ext cx="512640" cy="608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6" name="Oval 33"/>
            <p:cNvSpPr/>
            <p:nvPr/>
          </p:nvSpPr>
          <p:spPr>
            <a:xfrm>
              <a:off x="4379760" y="1924200"/>
              <a:ext cx="496800" cy="588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7" name="Oval 34"/>
            <p:cNvSpPr/>
            <p:nvPr/>
          </p:nvSpPr>
          <p:spPr>
            <a:xfrm>
              <a:off x="4386240" y="1927080"/>
              <a:ext cx="485640" cy="574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8" name="Oval 35"/>
            <p:cNvSpPr/>
            <p:nvPr/>
          </p:nvSpPr>
          <p:spPr>
            <a:xfrm>
              <a:off x="4392360" y="1933560"/>
              <a:ext cx="460440" cy="534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9" name="Oval 36"/>
            <p:cNvSpPr/>
            <p:nvPr/>
          </p:nvSpPr>
          <p:spPr>
            <a:xfrm>
              <a:off x="4419360" y="1947960"/>
              <a:ext cx="409680" cy="43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0" name="Text Box 37"/>
            <p:cNvSpPr/>
            <p:nvPr/>
          </p:nvSpPr>
          <p:spPr>
            <a:xfrm>
              <a:off x="4427640" y="2102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1" name="Text Box 38"/>
            <p:cNvSpPr/>
            <p:nvPr/>
          </p:nvSpPr>
          <p:spPr>
            <a:xfrm>
              <a:off x="3844800" y="2641680"/>
              <a:ext cx="1638360" cy="27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99"/>
                  </a:solidFill>
                  <a:latin typeface="Browallia New"/>
                  <a:cs typeface="Browallia New"/>
                </a:rPr>
                <a:t>ภาพเช็คที่ส่ง             เรียกเก็บผ่านการตรวจสอบคุณภาพ </a:t>
              </a:r>
              <a:r>
                <a:rPr b="1" lang="en-US" sz="2200" spc="-1" strike="noStrike" u="sng">
                  <a:solidFill>
                    <a:srgbClr val="660066"/>
                  </a:solidFill>
                  <a:uFillTx/>
                  <a:latin typeface="Browallia New"/>
                  <a:ea typeface="Browallia New"/>
                </a:rPr>
                <a:t>Image Quality Assurance </a:t>
              </a:r>
              <a:r>
                <a:rPr b="1" lang="th-TH" sz="2200" spc="-1" strike="noStrike" u="sng">
                  <a:solidFill>
                    <a:srgbClr val="660066"/>
                  </a:solidFill>
                  <a:uFillTx/>
                  <a:latin typeface="Browallia New"/>
                  <a:ea typeface="Browallia New"/>
                </a:rPr>
                <a:t>(</a:t>
              </a:r>
              <a:r>
                <a:rPr b="1" lang="en-US" sz="2200" spc="-1" strike="noStrike" u="sng">
                  <a:solidFill>
                    <a:srgbClr val="660066"/>
                  </a:solidFill>
                  <a:uFillTx/>
                  <a:latin typeface="Browallia New"/>
                  <a:ea typeface="Browallia New"/>
                </a:rPr>
                <a:t>IQA</a:t>
              </a:r>
              <a:r>
                <a:rPr b="1" lang="th-TH" sz="2200" spc="-1" strike="noStrike" u="sng">
                  <a:solidFill>
                    <a:srgbClr val="660066"/>
                  </a:solidFill>
                  <a:uFillTx/>
                  <a:latin typeface="Browallia New"/>
                  <a:ea typeface="Browallia New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32" name="AutoShape 39"/>
          <p:cNvSpPr/>
          <p:nvPr/>
        </p:nvSpPr>
        <p:spPr>
          <a:xfrm>
            <a:off x="1913040" y="2208240"/>
            <a:ext cx="1722240" cy="2685960"/>
          </a:xfrm>
          <a:custGeom>
            <a:avLst/>
            <a:gdLst>
              <a:gd name="textAreaLeft" fmla="*/ 88200 w 1722240"/>
              <a:gd name="textAreaRight" fmla="*/ 1634040 w 1722240"/>
              <a:gd name="textAreaTop" fmla="*/ 88200 h 2685960"/>
              <a:gd name="textAreaBottom" fmla="*/ 2597760 h 2685960"/>
            </a:gdLst>
            <a:ahLst/>
            <a:rect l="textAreaLeft" t="textAreaTop" r="textAreaRight" b="textAreaBottom"/>
            <a:pathLst>
              <a:path w="21600" h="33684">
                <a:moveTo>
                  <a:pt x="3782" y="0"/>
                </a:moveTo>
                <a:arcTo wR="3782" hR="3782" stAng="16200000" swAng="-5400000"/>
                <a:lnTo>
                  <a:pt x="0" y="29902"/>
                </a:lnTo>
                <a:arcTo wR="3782" hR="3782" stAng="10800000" swAng="-5400000"/>
                <a:lnTo>
                  <a:pt x="17818" y="3368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1908000" y="2205000"/>
            <a:ext cx="1670400" cy="2635200"/>
          </a:xfrm>
          <a:custGeom>
            <a:avLst/>
            <a:gdLst>
              <a:gd name="textAreaLeft" fmla="*/ 81360 w 1670400"/>
              <a:gd name="textAreaRight" fmla="*/ 1589040 w 1670400"/>
              <a:gd name="textAreaTop" fmla="*/ 81360 h 2635200"/>
              <a:gd name="textAreaBottom" fmla="*/ 2553840 h 2635200"/>
            </a:gdLst>
            <a:ahLst/>
            <a:rect l="textAreaLeft" t="textAreaTop" r="textAreaRight" b="textAreaBottom"/>
            <a:pathLst>
              <a:path w="21600" h="34073">
                <a:moveTo>
                  <a:pt x="3600" y="0"/>
                </a:moveTo>
                <a:arcTo wR="3600" hR="3600" stAng="16200000" swAng="-5400000"/>
                <a:lnTo>
                  <a:pt x="0" y="30473"/>
                </a:lnTo>
                <a:arcTo wR="3600" hR="3600" stAng="10800000" swAng="-5400000"/>
                <a:lnTo>
                  <a:pt x="18000" y="34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AutoShape 41"/>
          <p:cNvSpPr/>
          <p:nvPr/>
        </p:nvSpPr>
        <p:spPr>
          <a:xfrm>
            <a:off x="1954080" y="2236680"/>
            <a:ext cx="1648080" cy="66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35" name="Group 42"/>
          <p:cNvGrpSpPr/>
          <p:nvPr/>
        </p:nvGrpSpPr>
        <p:grpSpPr>
          <a:xfrm>
            <a:off x="2505240" y="1919160"/>
            <a:ext cx="512640" cy="604800"/>
            <a:chOff x="2505240" y="1919160"/>
            <a:chExt cx="512640" cy="604800"/>
          </a:xfrm>
        </p:grpSpPr>
        <p:sp>
          <p:nvSpPr>
            <p:cNvPr id="636" name="Oval 43"/>
            <p:cNvSpPr/>
            <p:nvPr/>
          </p:nvSpPr>
          <p:spPr>
            <a:xfrm>
              <a:off x="2505240" y="1919160"/>
              <a:ext cx="512640" cy="604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7" name="Oval 44"/>
            <p:cNvSpPr/>
            <p:nvPr/>
          </p:nvSpPr>
          <p:spPr>
            <a:xfrm>
              <a:off x="2510280" y="1923840"/>
              <a:ext cx="495720" cy="5857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8" name="Oval 45"/>
            <p:cNvSpPr/>
            <p:nvPr/>
          </p:nvSpPr>
          <p:spPr>
            <a:xfrm>
              <a:off x="2516400" y="1927080"/>
              <a:ext cx="484200" cy="571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9" name="Oval 46"/>
            <p:cNvSpPr/>
            <p:nvPr/>
          </p:nvSpPr>
          <p:spPr>
            <a:xfrm>
              <a:off x="2521800" y="1932840"/>
              <a:ext cx="460440" cy="533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0" name="Oval 47"/>
            <p:cNvSpPr/>
            <p:nvPr/>
          </p:nvSpPr>
          <p:spPr>
            <a:xfrm>
              <a:off x="2548800" y="1947240"/>
              <a:ext cx="408960" cy="43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41" name="Text Box 48"/>
          <p:cNvSpPr/>
          <p:nvPr/>
        </p:nvSpPr>
        <p:spPr>
          <a:xfrm>
            <a:off x="2570040" y="2063880"/>
            <a:ext cx="3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2" name="Text Box 49"/>
          <p:cNvSpPr/>
          <p:nvPr/>
        </p:nvSpPr>
        <p:spPr>
          <a:xfrm>
            <a:off x="1908000" y="2500200"/>
            <a:ext cx="173520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ธปท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. 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ำหนด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7030a0"/>
                </a:solidFill>
                <a:uFillTx/>
                <a:latin typeface="Browallia New"/>
                <a:cs typeface="Browallia New"/>
              </a:rPr>
              <a:t>มาตรฐาน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6600cc"/>
                </a:solidFill>
                <a:uFillTx/>
                <a:latin typeface="Browallia New"/>
                <a:cs typeface="Browallia New"/>
              </a:rPr>
              <a:t>มาตรฐานภาพ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6600cc"/>
                </a:solidFill>
                <a:uFillTx/>
                <a:latin typeface="Browallia New"/>
                <a:cs typeface="Browallia New"/>
              </a:rPr>
              <a:t>มาตรฐานการตรวจสอบคุณภาพภาพ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6600cc"/>
                </a:solidFill>
                <a:uFillTx/>
                <a:latin typeface="Browallia New"/>
                <a:cs typeface="Browallia New"/>
              </a:rPr>
              <a:t>มาตรฐานการจัดเก็บเช็ค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AutoShape 50"/>
          <p:cNvSpPr/>
          <p:nvPr/>
        </p:nvSpPr>
        <p:spPr>
          <a:xfrm>
            <a:off x="109440" y="2206800"/>
            <a:ext cx="1656000" cy="2736720"/>
          </a:xfrm>
          <a:custGeom>
            <a:avLst/>
            <a:gdLst>
              <a:gd name="textAreaLeft" fmla="*/ 84600 w 1656000"/>
              <a:gd name="textAreaRight" fmla="*/ 1571400 w 1656000"/>
              <a:gd name="textAreaTop" fmla="*/ 84600 h 2736720"/>
              <a:gd name="textAreaBottom" fmla="*/ 2652120 h 2736720"/>
            </a:gdLst>
            <a:ahLst/>
            <a:rect l="textAreaLeft" t="textAreaTop" r="textAreaRight" b="textAreaBottom"/>
            <a:pathLst>
              <a:path w="21600" h="35693">
                <a:moveTo>
                  <a:pt x="3782" y="0"/>
                </a:moveTo>
                <a:arcTo wR="3782" hR="3782" stAng="16200000" swAng="-5400000"/>
                <a:lnTo>
                  <a:pt x="0" y="31911"/>
                </a:lnTo>
                <a:arcTo wR="3782" hR="3782" stAng="10800000" swAng="-5400000"/>
                <a:lnTo>
                  <a:pt x="17818" y="3569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AutoShape 51"/>
          <p:cNvSpPr/>
          <p:nvPr/>
        </p:nvSpPr>
        <p:spPr>
          <a:xfrm>
            <a:off x="160200" y="2279520"/>
            <a:ext cx="1605240" cy="2592360"/>
          </a:xfrm>
          <a:custGeom>
            <a:avLst/>
            <a:gdLst>
              <a:gd name="textAreaLeft" fmla="*/ 78120 w 1605240"/>
              <a:gd name="textAreaRight" fmla="*/ 1527120 w 1605240"/>
              <a:gd name="textAreaTop" fmla="*/ 78120 h 2592360"/>
              <a:gd name="textAreaBottom" fmla="*/ 2514240 h 2592360"/>
            </a:gdLst>
            <a:ahLst/>
            <a:rect l="textAreaLeft" t="textAreaTop" r="textAreaRight" b="textAreaBottom"/>
            <a:pathLst>
              <a:path w="21600" h="34880">
                <a:moveTo>
                  <a:pt x="3600" y="0"/>
                </a:moveTo>
                <a:arcTo wR="3600" hR="3600" stAng="16200000" swAng="-5400000"/>
                <a:lnTo>
                  <a:pt x="0" y="31280"/>
                </a:lnTo>
                <a:arcTo wR="3600" hR="3600" stAng="10800000" swAng="-5400000"/>
                <a:lnTo>
                  <a:pt x="18000" y="34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AutoShape 52"/>
          <p:cNvSpPr/>
          <p:nvPr/>
        </p:nvSpPr>
        <p:spPr>
          <a:xfrm>
            <a:off x="112680" y="2228760"/>
            <a:ext cx="1582920" cy="95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46" name="Group 53"/>
          <p:cNvGrpSpPr/>
          <p:nvPr/>
        </p:nvGrpSpPr>
        <p:grpSpPr>
          <a:xfrm>
            <a:off x="601560" y="1919160"/>
            <a:ext cx="493920" cy="576360"/>
            <a:chOff x="601560" y="1919160"/>
            <a:chExt cx="493920" cy="576360"/>
          </a:xfrm>
        </p:grpSpPr>
        <p:sp>
          <p:nvSpPr>
            <p:cNvPr id="647" name="Oval 54"/>
            <p:cNvSpPr/>
            <p:nvPr/>
          </p:nvSpPr>
          <p:spPr>
            <a:xfrm>
              <a:off x="601560" y="1919160"/>
              <a:ext cx="493920" cy="576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8" name="Oval 55"/>
            <p:cNvSpPr/>
            <p:nvPr/>
          </p:nvSpPr>
          <p:spPr>
            <a:xfrm>
              <a:off x="606600" y="1923480"/>
              <a:ext cx="477720" cy="55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Oval 56"/>
            <p:cNvSpPr/>
            <p:nvPr/>
          </p:nvSpPr>
          <p:spPr>
            <a:xfrm>
              <a:off x="612360" y="1926720"/>
              <a:ext cx="466560" cy="544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0" name="Oval 57"/>
            <p:cNvSpPr/>
            <p:nvPr/>
          </p:nvSpPr>
          <p:spPr>
            <a:xfrm>
              <a:off x="617760" y="1932120"/>
              <a:ext cx="443520" cy="507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1" name="Oval 58"/>
            <p:cNvSpPr/>
            <p:nvPr/>
          </p:nvSpPr>
          <p:spPr>
            <a:xfrm>
              <a:off x="643320" y="1945800"/>
              <a:ext cx="394200" cy="41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52" name="Text Box 59"/>
          <p:cNvSpPr/>
          <p:nvPr/>
        </p:nvSpPr>
        <p:spPr>
          <a:xfrm>
            <a:off x="692280" y="203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3" name="Text Box 60"/>
          <p:cNvSpPr/>
          <p:nvPr/>
        </p:nvSpPr>
        <p:spPr>
          <a:xfrm>
            <a:off x="250920" y="2567160"/>
            <a:ext cx="136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ใช้ข้อมูลและภาพเช็คในการเรียกเก็บ</a:t>
            </a:r>
            <a:r>
              <a:rPr b="1" lang="th-TH" sz="22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โดยไม่ส่งตัวเช็คมาที่ศูนย์หักบัญชีฯ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4" name="Rectangle 61"/>
          <p:cNvSpPr/>
          <p:nvPr/>
        </p:nvSpPr>
        <p:spPr>
          <a:xfrm>
            <a:off x="3000240" y="260280"/>
            <a:ext cx="4154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Browallia New"/>
                <a:cs typeface="Browallia New"/>
              </a:rPr>
              <a:t>การพัฒนาระบบ </a:t>
            </a:r>
            <a:r>
              <a:rPr b="1" lang="en-US" sz="3600" spc="-1" strike="noStrike">
                <a:solidFill>
                  <a:srgbClr val="000066"/>
                </a:solidFill>
                <a:latin typeface="Browallia New"/>
                <a:ea typeface="Browallia New"/>
              </a:rPr>
              <a:t>ICA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4:37:21Z</dcterms:created>
  <dc:creator>Administrator</dc:creator>
  <dc:description/>
  <dc:language>en-US</dc:language>
  <cp:lastModifiedBy>BAY_USER</cp:lastModifiedBy>
  <dcterms:modified xsi:type="dcterms:W3CDTF">2010-06-18T08:54:09Z</dcterms:modified>
  <cp:revision>583</cp:revision>
  <dc:subject/>
  <dc:title>กฎหมายที่เกี่ยวข้องกับธุรกิจ e-Pay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วันที่ประชุม">
    <vt:lpwstr>2552-12-21T00:00:00Z</vt:lpwstr>
  </property>
  <property fmtid="{D5CDD505-2E9C-101B-9397-08002B2CF9AE}" pid="3" name="สถานะเอกสาร">
    <vt:lpwstr>ร่าง</vt:lpwstr>
  </property>
</Properties>
</file>