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35F-F204-42AF-A233-C6176789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104-ED5C-4A46-BC28-35B9AFB7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F56-2167-457B-8800-F0AE7828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36D-148A-4C14-94B9-71BCC258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7EC-D99B-4780-ADA8-FC183C1E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5934-8746-4C65-B30C-A7D147F8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DA98-AA82-4143-9754-3D246B98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35D-C844-4A6D-9A32-C63296C6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7865-1DF6-4609-AA59-ECA97B77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8D0-21EC-431F-AE60-4B79A82B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AE6-05F2-44A5-9BF4-379DD4CE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D0C-82BA-43A8-B2FA-E7170689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bafd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9313-F317-49CF-B92B-263C18066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bafd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6280" y="2627280"/>
            <a:ext cx="61722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็นสัมมนาเชิงปฏิบัติการสำหรับพัฒนาผู้ที่เริ่มเข้าสู่วิชาชีพ หรือผู้ตรวจสอบภายในที่ต้องการปฏิบัติงานตรวจสอบอยาง</a:t>
            </a:r>
            <a:br>
              <a:rPr sz="1400"/>
            </a:b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นระบบ เน้นให้ผู้เข้าร่วมสัมมนามีความรู้ความเข้าใจในกระบวนการและฝึกทักษะที่จำเป็นสำหรับการปฏิบัติภารกิจงานตรวจสอบให้บรรลุวัตถุประสงค์ รูปแบบสัมมนาเป็นการบรรยายประกอบกับกรณีศึกษาเพื่อระดมความคิด ทำงานกลุ่ม </a:t>
            </a:r>
            <a:br>
              <a:rPr sz="1400"/>
            </a:b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ฝึกการนำเสนอในที่ประชุม และมีการทดสอบความรู้ทั้งก่อนและหลังการอบรม </a:t>
            </a:r>
            <a:r>
              <a:rPr b="0" lang="en-US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808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ัมมนาเชิงปฏิบัติการ</a:t>
            </a:r>
            <a:br>
              <a:rPr sz="2000"/>
            </a:br>
            <a:br>
              <a:rPr sz="800"/>
            </a:br>
            <a:r>
              <a:rPr b="1" lang="th-TH" sz="2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ระบวนการตรวจสอบภายใน 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Internal Audit Procedure Workshop</a:t>
            </a:r>
            <a:r>
              <a:rPr b="1" lang="th-TH" sz="2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r>
              <a:rPr b="0" lang="th-TH" sz="2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br>
              <a:rPr sz="2000"/>
            </a:br>
            <a:br>
              <a:rPr sz="9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1000" y="3564000"/>
            <a:ext cx="3060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140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imes New Roman"/>
                <a:cs typeface="Angsana New"/>
              </a:rPr>
              <a:t>วัตถุประสงคของหลักสูต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1407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140760">
              <a:lnSpc>
                <a:spcPct val="100000"/>
              </a:lnSpc>
              <a:buClr>
                <a:srgbClr val="000000"/>
              </a:buClr>
              <a:buFont typeface="Browall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พื่อให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ea typeface="Angsana New"/>
              </a:rPr>
              <a:t>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ผู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ea typeface="Angsana New"/>
              </a:rPr>
              <a:t>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ข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ea typeface="Angsana New"/>
              </a:rPr>
              <a:t>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าสัมมนามีความรู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ea typeface="Angsana New"/>
              </a:rPr>
              <a:t>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วามเข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ea typeface="Angsana New"/>
              </a:rPr>
              <a:t>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าใจวัตถุประสงค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ea typeface="Angsana New"/>
              </a:rPr>
              <a:t>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ของการตรวจสอบภายใน และกระบวนการในการตรวจสอบและติดตามผ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1407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Browall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พื่อให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ea typeface="Angsana New"/>
              </a:rPr>
              <a:t>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ผู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ea typeface="Angsana New"/>
              </a:rPr>
              <a:t>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ข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ea typeface="Angsana New"/>
              </a:rPr>
              <a:t>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าสัมมนาสามารถปฏิบัติงานตรวจสอบ</a:t>
            </a:r>
            <a:br>
              <a:rPr sz="1400"/>
            </a:br>
            <a:r>
              <a:rPr b="0" lang="th-TH" sz="1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อย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ea typeface="Angsana New"/>
              </a:rPr>
              <a:t>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างเป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ea typeface="Angsana New"/>
              </a:rPr>
              <a:t>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นระบบ และบริหารทรัพยากรที่ใช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ea typeface="Angsana New"/>
              </a:rPr>
              <a:t>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นการตรวจสอบให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ea typeface="Angsana New"/>
              </a:rPr>
              <a:t>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กิดประสิทธิภาพประสิทธิผ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1407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Browall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พื่อให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ea typeface="Angsana New"/>
              </a:rPr>
              <a:t>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ผู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ea typeface="Angsana New"/>
              </a:rPr>
              <a:t>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ข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ea typeface="Angsana New"/>
              </a:rPr>
              <a:t>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าสัมมนาสามารถกําหนดวัตถุประสงค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ea typeface="Angsana New"/>
              </a:rPr>
              <a:t>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แนวทางการตรวจสอบและการติดตามผลการตรวจสอบได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ea typeface="Angsana New"/>
              </a:rPr>
              <a:t>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ัมพันธ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ea typeface="Angsana New"/>
              </a:rPr>
              <a:t></a:t>
            </a:r>
            <a:r>
              <a:rPr b="0" lang="th-TH" sz="1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ับประเภทของงานตรวจสอ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14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38800" y="3583080"/>
            <a:ext cx="4412880" cy="40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Angsana New"/>
                <a:cs typeface="Angsana New"/>
              </a:rPr>
              <a:t>หัวข้อการสัมมน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7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วามสําคัญ และความหมายของการตรวจสอบภายใ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ทบาทหน้าที่ของผู้ตรวจสอบภายใ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ระบวนการตรวจสอบภายใ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สำรวจเบื้องต้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-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เขียนรายละเอียดเกี่ยวกับผู้รับการตรวจ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-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วิธีการเชิงวิเคราะห์ 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เภทของการตรวจสอบและวัตถุประสงค์การควบคุมภายใ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กำหนดวัตถุประสงค์การตรวจสอบ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กำหนดขอบเขตงานตรวจสอบและจัดทำแผนการทดสอบ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กตรรกะในงานตรวจสอ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 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- 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เขียน </a:t>
            </a:r>
            <a:r>
              <a:rPr b="0" lang="en-US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Primary Audit Arg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วิธีการทดสอบและเก็บหลักฐาน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18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วิธ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 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- 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นวทางประเมินความน่าเชื่อถือของหลักฐาน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จัดทํากระดาษทําการและการเขียนเรื่องที่ตรวจพ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รายงานและติดตามผลการตรวจสอ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ริยธรรมของผูตรวจสอบภายใน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9360" y="1619280"/>
            <a:ext cx="60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ยะเวลาสัมมนา 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2 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วั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762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2240" y="655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105480" y="630072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0000"/>
                </a:solidFill>
                <a:uFillTx/>
                <a:latin typeface="Angsana New"/>
                <a:cs typeface="Angsana New"/>
              </a:rPr>
              <a:t>หลักสูตรนี้เหมาะสำหรั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511200" y="6566040"/>
            <a:ext cx="39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171360"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ูตรวจสอบภายในที่มีประสบการณ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ูตรวจสอบภายในที่เริ่มเข้าสู่วิชาชีพ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นักศึกษาด้านการตรวจสอบภายในและผูสนใจทั่วไ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080" y="7451640"/>
            <a:ext cx="6669000" cy="792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อกสารประกอบการสัมมนาทั้งหมดเป็นภาษาไท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04360" y="3584520"/>
            <a:ext cx="199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( * 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กรณีศึกษาและงานกลุ่ม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bafd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02:50:38Z</dcterms:created>
  <dc:creator>itv</dc:creator>
  <dc:description/>
  <dc:language>en-US</dc:language>
  <cp:lastModifiedBy>pairat</cp:lastModifiedBy>
  <dcterms:modified xsi:type="dcterms:W3CDTF">2006-12-13T06:08:34Z</dcterms:modified>
  <cp:revision>171</cp:revision>
  <dc:subject/>
  <dc:title>งานนำเสนอ PowerPoint</dc:title>
</cp:coreProperties>
</file>