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528480" y="164880"/>
            <a:ext cx="24177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51280" y="164880"/>
            <a:ext cx="2494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ED1-7958-4628-A78A-62E3880BEE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1680" cy="26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604800" y="9429480"/>
            <a:ext cx="2341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480"/>
            <a:ext cx="24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IDE </a:t>
            </a:r>
            <a:fld id="{DD350E1C-BCCA-4FA9-B23D-A8E3D53FF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1904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758880" y="352260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9:0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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จกข้อสอบเพื่อ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ทดสอบความรู้ก่อนการอบร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้ทุกคนเริ่มทำโดยให้เวลาประมาณ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เสร็จแล้วขอให้เก็บกระดาษคำตอบไว้ที่ตัวก่อ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ิทยากรทักทายผู้เข้ารับการอบรมและชี้แจงที่มาและรายละเอียดของหลักสูตร และเอกสารแจ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ินดีต้อนรับสู่สัมมนาเชิงปฏิบัติการกระบวนการตรวจสอบภายใ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 กระบวนการตรวจสอบภายใ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สัมมนาเชิงปฏิบัติการสำหรับพัฒนาผู้ที่เริ่มเข้าสู่วิชาชีพ หรือผู้ตรวจสอบภายในที่ต้องการปฏิบัติงานตรวจสอบ อย่างเปนระบบ เน้นให้ผู้เข้าร่วมสัมมนามีความรู้ความเข้าใจในกระบวนการและฝึกทักษะที่จำเป็นสำหรับการปฏิบัติภารกิจงานตรวจสอบให้บรรลุวัตถุประสงค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ครงสร้างหลักสูตร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ตรวจสอบภายใ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ำรวจเบื้องต้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วัตถุประสงค์ ขอบเขตงานตรวจสอบ และจัดทำแผนการทดสอบ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ดสอบ เก็บหลักฐาน และเขียนเรื่องที่ตรวจพบ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และติดตามผล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การอบร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บรมใช้เวลาทั้งสิ้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น รูปแบบสัมมนาเป็นการบรรยายประกอบกับกรณีศึกษาเพื่อระดมความคิด ทำงานกลุ่ม </a:t>
            </a: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ฝึกการนำเสนอในที่ประชุม วิทยากรจะยึดเอาการเรียนรู้จากกรณีศึกษาเป็นแกนกลาง และใช้การบรรยายเพียงเพื่อเสริมให้ผู้เรียนสามารถนำหลักการทฤษฎี แนวทางและตัวอย่างมาประยุกต์ใช้ในกรณีศึกษาได้ นอกจากนี้จะมีการทดสอบความรู้ทั้งก่อนและหลังการอบรม เพื่อปรับระดับความเข้าใจพื้นฐานของผู้เข้ารับการอบรม วัดผลการเรียนรู้ และกระตุ้นความสนใจในเนื้อหาส่วนที่เหลือที่ไม่ได้นำมาบรรยาย การวัดผลยังรวมไปถึงการประเมินโดยวิทยากรในด้านการมีส่วนร่วมในการระดมความคิดและทำงานเป็นกลุ่ม ความตั้งใจและคุณภาพของงานที่นำเสนอ และพัฒนาการของผู้เข้ารับการอบรมอีก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แจ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รับการอบรมทุกคนจะได้รับแฟ้มเอกสาร ในแฟ้มประกอบด้วย สำเนาสไลด์สำหรับประกอบการฟังบรรยายและจดบันทึก แบบทดสอบความรู้ก่อนและหลังการอบรม และโจทย์กรณีศึกษา นอกจากนี้ จะได้รับแจกหนังสือแนวทางตรวจสอบ และหนังสือมาตรฐาน ของสมาคมทุกค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ไลด์ตัวอย่างที่ใช้ประกอบการเฉลยกรณีศึกษา และเฉลยแบบทดสอบ จะแจกให้ทุกคนในช่วงท้ายของวันที่ส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่อนที่เราจะต้องอยู่ด้วยกันสองวันนับจากนี้ เรามาเริ่มโดยการทำความรู้จักกันก่อน ขอให้ทุกคนเปิดแบบฟอร์มแนะนำผู้เข้าอบรมในหน้าแรกของแฟ้มเอกส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22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23" name=""/>
          <p:cNvSpPr/>
          <p:nvPr/>
        </p:nvSpPr>
        <p:spPr>
          <a:xfrm>
            <a:off x="264960" y="4002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785880" y="359568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0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- 11:4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นำเข้าสู่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ื่อจะได้เข้าใจปัญหาในการสำรวจข้อมูลเบื้องต้น และฝึกทักษะในการหาข้อมูลและตั้งคำถาม จากการตรวจสอบกิจกรรมเล็กๆ ของห้องสมุด สตท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ไลด์กรณีศึกษาให้ดูรูป ห้องสมุด สต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ธิบายว่า ตั้งอยู่ในที่ทำการสมาคม ชั้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อยทองหล่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5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ห้องประชุมเล็กติดแอร์ มีตู้หนังส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ู้ มีเอกสารสิ่งพิมพ์และสื่อประเภทต่างๆ ให้บริการประมาณ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00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 มีเจ้าหน้าที่สมาคมรับผิดชอบดูแล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งเตรียมคำถามเพื่อสัมภาษณ์และรายการเอกสารที่ต้องการ ในการศึกษาข้อมูลภูมิหลังเพื่อตรวจสอบการให้บริการห้องสมุดของ สต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(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บ่งกลุ่มอภิปราย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ามที่กำหนดให้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ำนวนคนที่เหมาะสำหรับกลุ่มย่อยคือ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6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 อาจเป็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็ได้ แต่ไม่ควรเป็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8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  จำนวนกลุ่มที่เหมาะสมคือ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ลุ่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ลือกตัวแทนกลุ่มขึ้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ชั้น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ุกคนจะได้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sent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้กำหนดคนที่มีหน้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คนจับเวล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โอกาสของกลุ่มในการฝึกทักษะการระดมสมอง ให้เลือกตัวแท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่อน จากนั้นเลือกตัวแทนยืนจดความเห็นของทุกคนลงบนฟลิปชาร์ต หรือแผ่นใส แล้วฉายขึ้นดูพร้อมกั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เลขกลุ่มและ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as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ว้ด้ว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อยู่ใ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รูปคำถามหรือข้อมูลที่ขอ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ช่น  “เอกสารระเบียบการใช้ห้องสมุด”   “มีวิธีการจัดเก็บหนังสืออย่างไร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อบรมจะตั้งคำถามมาต่างๆ กัน ส่วนใหญ่มักจะเน้นถามกระบวนการและลงในรายละเอีย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เดินสังเกตการปรึกษาในกลุ่ม กระตุ้นให้ออกความเห็น แก้ปัญหา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่งที่ถ้าขาดไป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ู้บรรยายควรเน้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ของหน่วยงานและกิจกรรม เกณฑ์วัด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ใช้วิธีใดควบคุมให้ได้ตามวัตถุประสงค์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ังการทำงานและจุดควบคุมที่สำคัญ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ว้างๆ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อรายละเอียดทั้งหม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รายงานที่มีทั้งหม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ca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ี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ฝึกทักษะการตั้งคำถาม และรวบรวมข้อมูล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ำถามเปิด กว้าง ตื้นๆ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ดีกว่า คำถามที่เจาะจงขอรายละเอีย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ตือนด้วยว่า วัตถุประสงค์ที่สำคัญของการประชุมเริ่มงานตรวจสอบนอกจากข้อมูลแล้ว ต้องได้บรรยากาศความร่วมมือและลดความเสี่ยงของงานตรวจสอบด้ว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นะนำทีม กระบวนการ เสนอความช่วยเหลือ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มมติว่าผู้ตรวจสอบได้ข้อมูลตามที่ถามไปทั้งหมด จะตั้งวัตถุประสงค์การตรวจสอบได้หรือยัง ทราบได้อย่างไรว่าพอแล้ว และไม่มากเกิน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64" name=""/>
          <p:cNvSpPr/>
          <p:nvPr/>
        </p:nvSpPr>
        <p:spPr>
          <a:xfrm>
            <a:off x="303120" y="4314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65" name=""/>
          <p:cNvSpPr/>
          <p:nvPr/>
        </p:nvSpPr>
        <p:spPr>
          <a:xfrm>
            <a:off x="23004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66" name=""/>
          <p:cNvSpPr/>
          <p:nvPr/>
        </p:nvSpPr>
        <p:spPr>
          <a:xfrm>
            <a:off x="230040" y="6475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:4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spcAft>
                <a:spcPts val="312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ff"/>
                </a:solidFill>
                <a:latin typeface="Tahoma"/>
                <a:cs typeface="Tahoma"/>
              </a:rPr>
              <a:t>สมมติว่าผู้ตรวจสอบได้ข้อมูลตามที่ถามไปทั้งหมด จะตั้งวัตถุประสงค์การตรวจสอบได้หรือยัง ทราบได้อย่างไรว่าพอแล้ว และไม่มากเกิน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ทเรียนจาก 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ไมต้องเตรียมคำถา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วางแผน ประสิทธิภาพ ความพอใจของผู้รับตรวจ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ทราบได้อย่างไรว่าคำถามที่เตรียมเพียงพ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้องได้ข้อมูลสำคัญที่ต้องการ ดูจากสไลด์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มูลที่เราได้ตอบคำถามเหล่านี้ได้หรือยั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a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is done?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กิจกรรมของหน่วยง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it is done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หตุผล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ต้องมีกิจกรรมดังกล่าว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By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om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ดังกล่าวกระทำโด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How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it is done?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ดังกล่าวกระทำ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it is done?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ดังกล่าวกระทำ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มื่อใ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er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it is done?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ดังกล่าวกระทำ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ไห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How it is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monitored or controlle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วิธีการอย่างไรในการ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บคุมและติดตามผ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ากข้อมูลที่ได้จะต้องนำมาเขียน สรุปรายละเอียดเกี่ยวกับผู้รับการตรว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70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:4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ากข้อมูลที่ได้จะต้องนำมาเขียน สรุปรายละเอียดเกี่ยวกับผู้รับการตรว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สรุปรายละเอียด ควรระบุสิ่งเหล่านี้ไว้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ที่มีอยู่ในหน่วยงานหรือกิจกรรม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ถาม ประเมิน ข้อบกพร่องที่เคยเกิด การควบคุมที่ใช้ค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ของผู้บริหาร และวัตถุประสงค์ของแต่ละกิจกรร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ถามถึง แผน เป้าหมา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ควบคุ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ั้งที่มีอยู่และไม่มี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ราบได้จากวัตถุประสงค์ ความเสี่ยง ถาม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น่ใจได้อย่างไรว่า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ุดอ่อนและจุดแข็งของวิธีการควบคุ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ประสิทธิผลของการควบคุมในการจัดการความเสี่ยง เช่น ในการควบคุม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software licensing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นองค์กรที่มีคอมพิวเตอร์หลายพันเครื่อง ควรควบคุมการติดตั้งแบบรวมที่ศูนย์กลา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อกาสในการที่จะปรับปรุงแก้ไข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ี่ผู้ตรวจสอบเห็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 หรือมาตรฐานของหน่วยงานหรือกิจกรร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วามเห็นผู้บริหารในระดับที่สูงพอ มีการสื่อสารไหม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หาข้อมูลและการเขียนรายละเอียดให้ครอบคลุมจุดสำคัญมีวิธีง่ายๆ อยู่ เรียกว่า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PO Model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หว่างการตรวจสอบ ผู้ตรวจสอบควรตื่นตัวถึงสัญญาณเตือนว่ามีการทุจริตและบันทึกไว้เช่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ุคลากรมีอัตราหมุนเวียนสู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าดขวัญกำลังใ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สามารถหาเอกสารสนับสนุนรายการปรับปรุงบัญชีให้ได้ทันท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กระทบยอดบัญชีธนาคารทันทีตามกำหนด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ลูกค้ามีข้อร้องเรียนเพิ่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ายได้กำไรลดลงขณะที่อุตสาหกรรมทั่วไปด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รายการปรับปรุงบัญชีที่มีนัยสำคัญ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ัดบัญชีสูญสินค้าหรือทรัพย์สินที่สูญหายโดยไม่มีการสืบหาสาเหตุ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ำประมาณการผลประกอบการที่เป็นจริงได้ยาก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่าวลือเกี่ยวกับความขัดแย้งทางผลประโยชน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คอยเช็ค และเตือนชั้นเรียน ถ้าสัมมนาดำเนินไปช้ากว่าที่กำหนดมาก  ผู้สอนอาจเร่งความเร็วขึ้น โดยใช้การถามคำถามในชั้นเรียนแทนงานกลุ่มได้ ในบางกรณีศึกษา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, 6, 7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ประเมินแล้วการเร่งความเร็วเป็นไปไม่ได้หรือก่อผลเสียแก่การเรียน ควรเสนอทางเลือกให้ชั้นเรียนตัดสินใจลงมติว่าจะเลิกช้าลง หรือเลือกข้ามเนื้อหาบางอย่าง เมื่อชั้นเรียนกำหนดเวลาเลิกแล้ว ให้ทำตามที่ตกลงอย่างเคร่งครั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74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75" name=""/>
          <p:cNvSpPr/>
          <p:nvPr/>
        </p:nvSpPr>
        <p:spPr>
          <a:xfrm>
            <a:off x="303120" y="726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76" name=""/>
          <p:cNvSpPr/>
          <p:nvPr/>
        </p:nvSpPr>
        <p:spPr>
          <a:xfrm>
            <a:off x="230040" y="8275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:5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-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เที่ยง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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หาข้อมูลและการเขียนรายละเอียดให้ครอบคลุมจุดสำคัญมีวิธีง่ายๆ อยู่ เรียกว่า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PO Model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PO Model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ustomer - Product - Organization Process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ง่ายๆ ว่า ทุกกิจกรรมมีวัตถุประสงค์ และทุกวัตถุประสงค์มีลูกค้าหรือผู้รับบริการเป็นศูนย์กล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ูกค้าหรือผู้รับบริกา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ustomer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เป็นตัวกำหนด สินค้าบริกา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oduct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ต้องส่งม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 สินค้าบริกา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oduc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เป็นตัวกำหนดกระบวนการขององค์ก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Organization Process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ต้องมีเพื่อผลิตมันขึ้นม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เราอยากเข้าใจกระบวนการขององค์ก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Organization Process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ก็ต้องเข้าใจ ลูกค้าหรือผู้รับบริกา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ustomer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่อน ว่ากระบวนการสนับสนุนไหม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ลับมาดูผลงานของเราในกรณีศึกษา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มีคำถามเกี่ยวกับลูกค้า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ามต้องการของลูกค้า 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มูลอะไรบนสไลด์ที่เรายัง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miss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ปใ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Exercise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ลองช่วยกันเพิ่มคำถามที่ขา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ูสไลด์ผลงานของรุ่น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คำถามที่ควรจะเป็นหากเรานำเอ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PO Model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าใช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ำความเข้าใจในภาพรวมหรือ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scan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าจุดเสี่ยงขององค์กร จะทำได้อย่างมีประสิทธิภาพมากด้วยการวิเคราะห์ข้อมู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ได้เวลาพักเที่ยงแล้ว หลังพัก เราจะมาลองฝึกการวิเคราะห์ข้อมูล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เร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นะนำสถานที่ทานข้าว ไม่จำเป็นต้องนั่งทานกับเพื่อนเดิมๆ จากนั้นแจกคูปอง ก่อนออกจากห้องขอให้รวบรวมแผ่นใสที่เจ้าหน้าที่ฝึกอบรม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80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81" name=""/>
          <p:cNvSpPr/>
          <p:nvPr/>
        </p:nvSpPr>
        <p:spPr>
          <a:xfrm>
            <a:off x="230040" y="8059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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13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งเที่ยง ผู้เรียนมักจะง่วงและขาดสมาธิ วิทยากรอาจขอให้เปลี่ยนอิริยาบถโดยการยืนขึ้นแล้วจับคู่กันนวดไหล่เพื่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et ton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ช่วงบ่ายให้มีความสนใจมากขึ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ช่วงเช้า เราได้ลองกระบวนการรวบรวมข้อมูลรายละเอียดผู้รับตรวจแล้ว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ำความเข้าใจในภาพรวมหรือ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scan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าจุดเสี่ยงขององค์กร จะทำได้อย่างมีประสิทธิภาพมากด้วยการวิเคราะห์ข้อมูล มาลองดูตัวอย่างการวิเคราะห์ข้อมู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ข้อมูลที่ผู้ตรวจสอบมี จงวิจารณ์ วิเคราะห์ และตั้งข้อสังเกตที่น่าจะเป็นไปได้เกี่ยวกับ ผล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งาน ของสำนักงานประปาเทศบา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ใดของสำนักงานประปาเทศบาลที่ผู้ตรวจสอบเห็นว่ามีความเสี่ยงสูง หรือแสดงถึ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ที่ขาดประสิทธิภาพ หรือจำเป็นต้องมีการตรวจสอบเพิ่มเติ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ิจกรรมใดที่น่าจะมีความเสี่ยงต่ำ หรือแสดงถึงการควบคุมที่ดี ไม่จำเป็นต้องตรวจสอบเพิ่มเติ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สอบควรประเมินความเชื่อถือได้ของรายงานนี้ก่อนตั้งข้อสรุปหรือไม่  มีวิธีการ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รวบรวมหลัก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ห็นอะไรบ้า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ิจกรรมที่เกิดจริง เทียบกับเป้าหมาย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ที่รับผิดชอบเปลี่ยนมาตร เป็นอย่างไ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ิจกรรมไม่เป็นไปตามเป้า แนวโน้มลดลง ผู้ตรวจสอบควรให้ความสนใจ ว่าได้มีการวิเคราะห์แก้ไข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่วยที่รับผิดชอบซ่อมท่อ เป็นอย่างไ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ปกติดี ทำได้ครบ สรุปได้ว่า ผู้ปฏิบัติเข้าใจมาตรฐานการปฏิบัติงานด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น้ำสูญเสีย เป็นปัญหาไห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ก้ไขได้แล้ว ไม่มีความจำเป็นต้องขยายการตรวจเพิ่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เชื่อถือได้ไห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ทราบ จำเป็นต้องมีการทดสอบการควบคุมภายในในการจัดทำรายงาน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อะไรขึ้นถ้ารายงานนี้เชื่อถือไม่ได้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อาจมองความเสี่ยงผิดพลาด และละเลยจุดสำคัญ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ะเห็นได้ว่าการวิเคราะห์ข้อมูลมีประโยชน์มากในการระบุจุดที่มีความเสี่ยง โดยเฉพาะการวิเคราะห์อัตราส่วนและแนวโน้ม จะช่วยบอกเรื่องที่ผู้ตรวจสอบน่าจะสนใจ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85" name=""/>
          <p:cNvSpPr/>
          <p:nvPr/>
        </p:nvSpPr>
        <p:spPr>
          <a:xfrm>
            <a:off x="374760" y="50817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86" name=""/>
          <p:cNvSpPr/>
          <p:nvPr/>
        </p:nvSpPr>
        <p:spPr>
          <a:xfrm>
            <a:off x="303120" y="5972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87" name=""/>
          <p:cNvSpPr/>
          <p:nvPr/>
        </p:nvSpPr>
        <p:spPr>
          <a:xfrm>
            <a:off x="374760" y="4387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758880" y="337968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13:4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ะเห็นได้ว่าการวิเคราะห์ข้อมูลมีประโยชน์มากในการระบุจุดที่มีความเสี่ยง โดยเฉพาะการวิเคราะห์อัตราส่วนและแนวโน้ม จะช่วยบอกเรื่องที่ผู้ตรวจสอบน่าจะสนใจได้ มาลองฝึกการวิเคราะห์ข้อมูล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5x4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	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5x3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	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5x2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	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5x1</a:t>
            </a:r>
            <a:br>
              <a:rPr sz="900"/>
            </a:b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ส่วนกำไรขั้นต้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6.3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2.6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2.4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2.4%</a:t>
            </a:r>
            <a:br>
              <a:rPr sz="900"/>
            </a:b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หมุนเวียนสินค้าคงคลัง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6.6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7.6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7.6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7.9 </a:t>
            </a:r>
            <a:br>
              <a:rPr sz="900"/>
            </a:b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ัตราส่วนต้นทุนวัตถุดิบที่ซื้อ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59.9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51.8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8.7%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51.1%</a:t>
            </a:r>
            <a:br>
              <a:rPr sz="900"/>
            </a:b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่อต้นทุนสินค้าที่ผลิต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ส่วนกำไรขั้นต้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ายสุทธิ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ขา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ายสุทธิ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หมุนเวียนสินค้าคงคลั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ายสุทธิ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เฉลี่ย ต้นงว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ลายงว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ัตราส่วนต้นทุนวัตถุดิบที่ซื้อต่อต้นทุนสินค้าที่ผลิต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วัตถุดิบที่ซื้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ปลายงวด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ขาย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ต้นงว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ต้นงว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สินค้าที่ผลิต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ขาย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ปลายงวด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ั้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สินค้าที่ผลิต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ปลายงวด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นทุนขาย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ำเร็จรูปคงคลังต้นงว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ปลี่ยนค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ม่เอาคนเดิม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ทำให้ยอดขายเพิ่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ำเป็นไหมที่ตัวเลขต้องเป็นจริงตามที่ได้รับ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จะรู้ได้อย่างไ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อบรมควรชี้ประเด็นเหล่านี้ได้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ยอดขายเพิ่มสม่ำเสมอทุกปีติดต่อกัน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ัตราส่วนกำไรขั้นต้น ดีขึ้นผิดปกติ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ัตราหมุนเวียนสินค้า ช้าลง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ัตราส่วนต้นทุนวัตถุดิบที่ซื้อต่อต้นทุนสินค้าที่ผลิต เพิ่มขึ้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ู้ตรวจสอบควรต้องสนใจตรวจสอบเรื่องใดเป็นพิเศษ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ควรใช้วิธีใดตรวจสอบเพื่อระบุสาเหตุที่แท้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ปี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5x4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ไมจึงมีการซื้อวัตถุดิบเข้ามามาก เกินความจำเป็นที่ต้องใช้ในการผลิตหรือไม่ และถ้าเก็บวัตถุดิบนี้ไว้นานจะเสื่อมสภาพ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ปี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5x4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ไมสินค้ามีอัตราการหมุนเวียนลดลงจาก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ีแรก สินค้าชนิดใดที่ผลิตมาแล้วขายออกช้าหรือขายไม่ได้เลย  เป็นสินค้าแฟชั่นหรือไม่ ล้าสมัยเร็วแค่ไห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ปี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5x4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ไมอัตรากำไรขั้นต้นสูงผิดปกติ เป็นไปได้หรือไม่ว่า การที่ต้นทุนต่อค่าขายต่ำมาจากการสร้างยอดขายปลอม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fictitious sale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โดยไม่ได้มีการส่งสินค้าจริงทำให้สินค้ายังคงเหลืออยู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ภาพรวมมองว่าบริษัทนี้กำลังอยู่ในขาลง ทำให้มีการตกแต่งต่าง ๆ เกิดขึ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ประเมินความเสี่ยงจากการสำรวจเบื้องต้นได้แล้ว ก็สามารถกำหนดวัตถุประสงค์การตรวจสอบ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79520"/>
                <a:tab algn="l" pos="762120"/>
                <a:tab algn="l" pos="1050840"/>
                <a:tab algn="dec" pos="1971720"/>
                <a:tab algn="dec" pos="2695680"/>
                <a:tab algn="dec" pos="3409920"/>
                <a:tab algn="dec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ัญญาณบอกเหตุว่าอาจมีทุจริต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d fla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ื่นๆ ที่อาจเห็นได้จากงบการเงินได้แก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ยอดขาย กำไรที่เติบโตเกินอุตสาหกรรม หรือดีกว่าคู่แข่งโดยไม่มีเหตุผล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เปลี่ยนแปลงของอัตราส่วนหรือแนวโน้มต่างๆ ที่ไม่มีคำอธิบา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บริษัทย่อยใ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ax haven countries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โครงสร้างการกระจายอำนาจโดยขาดระบบการายงานที่ด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ำไรเติบโตแต่ขาดเงินสด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ลือกใช้มาตรฐานบัญชีตามใจชอบ โดยไม่มีเหตุอันควรหรือต่างจากอุตสาหกรร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ebt ratio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ูงเกินไป มีปัญหาในการชำระหนี้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ะได้รับผลกระทบจากการเปลี่ยนแปลงของอัตราดอกเบี้ยอย่างมาก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รายการใกล้สิ้นงวดที่ ซับซ้อน ผิดปกติ หรือ มีนั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รายการเกี่ยวเนื่องกันที่มีนัยและไม่ใช่ธุรกิจปกติ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รายการธุรกรรมที่ซับซ้อนและไม่สอดคล้องกับหลักปกติทั่วไปของธุรกิจที่ด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ญญาข้อตกลง การจัดองค์กร จัดสายการบังคับบัญชา ที่ผิดปกติหรือยุ่งเหยิงโดยไม่มีเหตุอันควร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91" name=""/>
          <p:cNvSpPr/>
          <p:nvPr/>
        </p:nvSpPr>
        <p:spPr>
          <a:xfrm>
            <a:off x="303120" y="7051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92" name=""/>
          <p:cNvSpPr/>
          <p:nvPr/>
        </p:nvSpPr>
        <p:spPr>
          <a:xfrm>
            <a:off x="303120" y="6043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93" name=""/>
          <p:cNvSpPr/>
          <p:nvPr/>
        </p:nvSpPr>
        <p:spPr>
          <a:xfrm>
            <a:off x="230040" y="4962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758880" y="373860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4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ประเมินความเสี่ยงจากการสำรวจเบื้องต้นได้แล้ว ก็สามารถกำหนดวัตถุประสงค์การตรวจสอบ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ของธุรกิจและการควบคุม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นี้ เป็นผลจากการการสำรวจเบื้องต้นเพื่อทำความเข้าใจหน่วยรับตรวจและทราบขอบเขต ข้อเท็จจริงของหน่วยงาน โดยผู้ตรวจสอบจะสรุปเขียนอยู่ในรายละเอียดเกี่ยวกับผู้รับการตรวจ เมื่อได้แล้วผู้ตรวจสอบจะประเมินความเสี่ยงว่าการควบคุมใดที่มีความสำคัญ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เวลาตรวจมีจำกัด ย่อมไม่สามารถจะดูได้ทุกเรื่อง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ผู้ตรวจสอบต้องให้ความสนใจ และกำหนดเป็นวัตถุประสงค์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ของธุรกิจ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คือเป้าหมายหรือวัตถุประสงค์ที่ผู้บริหารต้องการจะบรรล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ัวอย่างวัตถุประสงค์ของธุรกิจ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เช่น การตัดสินใจใช้จ่ายและลงทุนกระทำอย่างมีประสิทธิภาพ ประสิทธิผ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คือการควบคุมที่ช่วยให้ผู้บริหารมั่นใจว่าจะบรรลุเป้าหมายหรือวัตถุประสงค์ดังกล่าว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ัวอย่างการควบคุมที่สำคัญ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เช่น การกำหนดอำนาจอนุมัติให้กับผู้บริหารเพื่อตัดสินใจในเรื่องที่สำคัญ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งค์กรที่ยืดหยุ่นจะให้อำนาจผู้บริหารมากกว่าองค์กรที่เคร่งครัด แต่ใช้หลักการควบคุมเหมือนกั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ควบคุมนี้ควรกำหนดนโยบายเป็นลายลักษณ์อักษรว่าธุรกรรมใดบ้างต้องได้รับการอนุมัติจากผู้บริหาร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แต่ละระดับมีอำนาจอนุมัติเรื่องใดในวงมูลค่าเท่าใ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มีการมอบอำนาจเป็นทางการพร้อมตัวอย่างลายเซ็นของบุคคลที่มีอำนา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มีขั้นตอนปฏิบัติกำหนดว่าใครมีหน้าที่นำเสนอ ใครตรวจสอบลายเซ็นก่อนทำราย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ของงานตรวจสอ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คือสิ่งที่ผู้ตรวจสอบต้องการพิสูจน์เกี่ยวกับการควบคุมดังกล่าว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พิสูจน์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่าง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Test of Control)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ควบคุมที่ควรมีนั้น มีอยู่จริง และการควบคุมที่มีอยู่จริงนั้น ทำงานบรรลุผลตามที่มุ่งหม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นการตรวจสอบและประเมินความมีประสิทธิผลของการควบคุม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ผู้ตรวจสอบจะพิจารณาขั้นตอนการมอบอำนาจ ตัวอย่างลายเซ็น ตรวจสอบเอกสารในการอนุมัติ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างแผนควรจัดทำเป็นหลักฐาน ประกอบด้วย การกำหนดวัตถุประสงค์ของงานตรวจสอบและขอบเขตของงาน วัตถุประสงค์ของงานตรวจสอบเป็นข้อความกว้างๆ ที่จัดทำขึ้นโดยผู้ตรวจสอบ ระบุถึงสิ่งที่ตั้งใจจะบรรลุ โดยใช้วิธีการตรวจสอบ เมื่อรวมวัตถุประสงค์ของการตรวจสอบและวิธีการเข้าด้วยกัน จะเป็นตัวกำหนดขอบเขตของงานของผู้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ของงานตรวจสอบ และลักษณะการควบคุมที่ผู้ตรวจสอบจะประเมิน เป็นตัวแบ่งแยกประเภทการตรวจสอบต่างๆ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อบรมสามารถอ่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กำหนดวัตถุประสงค์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ได้จาก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97" name=""/>
          <p:cNvSpPr/>
          <p:nvPr/>
        </p:nvSpPr>
        <p:spPr>
          <a:xfrm>
            <a:off x="303120" y="473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"/>
          <p:cNvSpPr/>
          <p:nvPr/>
        </p:nvSpPr>
        <p:spPr>
          <a:xfrm>
            <a:off x="758880" y="359568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5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ของงานตรวจสอบ และลักษณะการควบคุมที่ผู้ตรวจสอบจะประเมิน เป็นตัวแบ่งแยกประเภทการตรวจสอบต่างๆ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เภทของ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าจแบ่งได้หลายประเภท แตกต่างกันตามวัตถุประสงค์ของการควบคุมภายในที่เน้น เช่น ความถูกต้องและเชื่อถือได้ของข้อมูล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ฏิบัติตามกฎระเบียบ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ปลอดภัยของสินทรัพย์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สิทธิภาพ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สิทธิผล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ประเภทของการตรวจสอบอื่นๆ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งบการเงิ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การปฏิบัติ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คุณภาพ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การปฏิบัติตามนโยบาย ระเบียบ หรือกฎหม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ระบบสารสนเทศ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ทุจริต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เกี่ยวกับ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ตรวจสอบการปฏิบัติกา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การตรวจสอบและประเมินระบบการควบคุมภายใน และคุณภาพของการดำเนินงานในหน้าที่ความรับผิดชอบ ประเมินกิจกรรมต่างๆ ที่สัมพันธ์กับงานด้านต่างๆ เช่น การตลาด การผลิต การบริหารงานด้านพัสดุ การจัดการด้านความปลอดภัย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 ระบบสารสนเทศ การบริหารงานบุคคล การจัดการด้านการเงินและบัญชี เป็นต้น มีวัตถุประสงค์เพื่อให้องค์กรมีความมั่นใจว่าแต่ละหน่วยงานมีระบบการควบคุมภายในที่ดีและการปฏิบัติงานมีประสิทธิภาพ สิ่งสำคัญของผู้ตรวจสอบคือความเข้าใจในเรื่องระบบการควบคุมภายใน ซึ่งเป็นส่วนหนึ่งในการดำเนินงานขององค์ก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ที่อาจเป็นไปได้ของการตรวจสอ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มากมาย แต่ในการตรวจสอบแต่ละโครงการมักจะมีวัตถุประสงค์หลักเพียงหนึ่งเดียว ซึ่งย่อมขึ้นอยู่กับประเภทของการตรวจสอบด้วย และทิศทางของงานตรวจสอบกำหนดจากการที่ผู้รับรายงานจะนำเอาผลการตรวจสอบไปใช้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บเขตเบื้องต้น ขอบเขตรอ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ภายใต้วัตถุประสงค์ทั่วไปสามารถแตกออกเป็นวัตถุประสงค์เฉพาะ และกำหนดวิธีการทดสอบให้บรรลุวัตถุประสงค์ในแต่ละข้อได้ แล้วจึงกำหนดขอบเขตของการทดสอบย่อยลงไปอีก ผู้ตรวจสอบสามารถนำเอาวัตถุประสงค์ของการควบคมภายในมาช่วยในการกำหนดทั้งวัตถุประสงค์และการกำหนดขอบเขตของงานได้ ในบางงานผู้ตรวจสอบอาจไม่ต้องปฏิบัติงานให้ครอบคลุมหมดทั้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 แต่งานบางงานก็จำเป็นต้องครอบคลุมทั้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 ขึ้นกับประเภทของงานหรือทิศทางที่กำหนดมาโดยผู้บริห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ช่น การตรวจสอบวงจรค่าใช้จ่ายของบริษัทอาจมีวัตถุประสงค์เฉพาะว่า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“เพื่อระบุว่าบริษัทได้รับสินค้าที่ชำระเงินแล้วทุกชิ้น และบันทึกลงบัญชีอย่างถูกต้อง”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จะสนับสนุนวัตถุประสงค์หลักในเรื่อง ความถูกต้องและเชื่อถือได้ของข้อมูล และ ความปลอดภัยของสินทรัพย์ เป็นต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ลดค่าใช้จ่ายเป็นการตรวจสอบประเภทใด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ตรวจสอบการปฏิบัติ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ดูตัวอย่างการเขียนวัตถุประสงค์ทั่วไปของการตรวจสอบแต่ละประเภท ในสไลด์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อบรมสามารถอ่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กำหนดวัตถุประสงค์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ได้จาก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p 155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01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:5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ดูตัวอย่างการเขียนวัตถุประสงค์ทั่วไปของการตรวจสอบแต่ละประเภท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0066ff"/>
                </a:solidFill>
                <a:latin typeface="Tahoma"/>
                <a:cs typeface="Tahoma"/>
              </a:rPr>
              <a:t>วัตถุประสงค์ทั่ว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th-TH" sz="900" spc="-1" strike="noStrike">
                <a:solidFill>
                  <a:srgbClr val="ff3300"/>
                </a:solidFill>
                <a:latin typeface="Tahoma"/>
                <a:cs typeface="Tahoma"/>
              </a:rPr>
              <a:t>วัตถุประสงค์ย่อย</a:t>
            </a:r>
            <a:r>
              <a:rPr b="1" lang="en-US" sz="9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th-TH" sz="900" spc="-1" strike="noStrike">
                <a:solidFill>
                  <a:srgbClr val="ff3300"/>
                </a:solidFill>
                <a:latin typeface="Tahoma"/>
                <a:cs typeface="Tahoma"/>
              </a:rPr>
              <a:t>วัตถุประสงค์ย่อย</a:t>
            </a:r>
            <a:r>
              <a:rPr b="1" lang="en-US" sz="9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ff3300"/>
                </a:solidFill>
                <a:latin typeface="Tahoma"/>
                <a:ea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00"/>
                </a:solidFill>
                <a:latin typeface="Tahoma"/>
                <a:ea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66ff"/>
                </a:solidFill>
                <a:latin typeface="Tahoma"/>
                <a:cs typeface="Tahoma"/>
              </a:rPr>
              <a:t>วัตถุประสงค์ทั่วไป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างต้น ผู้ตรวจสอบจะสามารถกำหน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1" lang="en-US" sz="9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่อยลงไปได้อีกในแต่ละหนึ่งวัตถุประสงค์ทั่วไป ซึ่งเมื่อสามารถบรรลุวัตถุประสงค์เฉพาะเจาะจงได้ทั้งหมดก็จะสามารถบรรลุหนึ่งวัตถุประสงค์ทั่วไปได้เอง ในการกำหนดวัตถุประสงค์ทั่วไปกับวัตถุประสงค์เฉพาะ สามารถนำเอาวัตถุประสงค์ของการควบคุมภายใ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าร ใช้เป็นแนวทางในการกำหนด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ตัวอย่าง หากผู้ตรวจจะตรวจสอบเกี่ยวกับสิ่งแวดล้อม ซึ่งม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66ff"/>
                </a:solidFill>
                <a:latin typeface="Tahoma"/>
                <a:cs typeface="Tahoma"/>
              </a:rPr>
              <a:t>วัตถุประสงค์ทั่วไป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จะระบุว่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66ff"/>
                </a:solidFill>
                <a:uFillTx/>
                <a:latin typeface="Tahoma"/>
                <a:cs typeface="Tahoma"/>
              </a:rPr>
              <a:t>ผู้รับการตรวจมีระบบการจดการสิ่งแวดล้อมที่เหมาะสมหรือไม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อาจเขีย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1" lang="en-US" sz="9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ดังต่อไป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cc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cc00"/>
                </a:solidFill>
                <a:uFillTx/>
                <a:latin typeface="Tahoma"/>
                <a:cs typeface="Tahoma"/>
              </a:rPr>
              <a:t>ระบุว่าผู้รับการตรวจปฏิบัติตามกฎหมายเกี่ยวกับ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cc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cc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cc00"/>
                </a:solidFill>
                <a:uFillTx/>
                <a:latin typeface="Tahoma"/>
                <a:cs typeface="Tahoma"/>
              </a:rPr>
              <a:t>ระบุว่าผู้รับการตรวจปฏิบัติตามนโยบายและคู่มือการปฏิบัติงานเรื่องการรักษา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cc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cc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cc00"/>
                </a:solidFill>
                <a:uFillTx/>
                <a:latin typeface="Tahoma"/>
                <a:cs typeface="Tahoma"/>
              </a:rPr>
              <a:t>ประเมินคู่มือการปฏิบัติงานการรักษาความปลอดภัยมีความเหมาะสมและเป็นไปตามกฎหมาย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ยังต้องกำหนด</a:t>
            </a:r>
            <a:r>
              <a:rPr b="0" lang="en-US" sz="9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ff3300"/>
                </a:solidFill>
                <a:latin typeface="Tahoma"/>
                <a:cs typeface="Tahoma"/>
              </a:rPr>
              <a:t>วัตถุประสงค์ย่อย</a:t>
            </a:r>
            <a:r>
              <a:rPr b="1" lang="en-US" sz="9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แต่ละ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cc00"/>
                </a:solidFill>
                <a:latin typeface="Tahoma"/>
                <a:cs typeface="Tahoma"/>
              </a:rPr>
              <a:t>วัตถุประสงค์เฉพาะ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พื่อกำหนดวิธีการรวบรวมหลักฐาน คำที่มักพบใน</a:t>
            </a:r>
            <a:r>
              <a:rPr b="1" lang="th-TH" sz="900" spc="-1" strike="noStrike">
                <a:solidFill>
                  <a:srgbClr val="ff3300"/>
                </a:solidFill>
                <a:latin typeface="Tahoma"/>
                <a:cs typeface="Tahoma"/>
              </a:rPr>
              <a:t>วัตถุประสงค์ย่อ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จะเป็นคำที่ระบุวิธีการตรวจสอบ ต่างๆ ได้แก่ </a:t>
            </a:r>
            <a:r>
              <a:rPr b="0" lang="th-TH" sz="900" spc="-1" strike="noStrike" u="sng">
                <a:solidFill>
                  <a:srgbClr val="ff3300"/>
                </a:solidFill>
                <a:uFillTx/>
                <a:latin typeface="Tahoma"/>
                <a:cs typeface="Tahoma"/>
              </a:rPr>
              <a:t>ระบุ ตรวจทาน ทด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ป็นต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3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จะได้ทดลองฝึกเขียนวัตถุประสงค์ทั่วไปและกำหนดวัตถุประสงค์เฉพาะย่อย 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เข้าอบรมสามารถอ่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กำหนดวัตถุประสงค์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ได้จาก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p 152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05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0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ารสอบทานการควบคุมภายใน ผู้ตรวจสอบต้องกำหนดสิ่งที่เรียกว่า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และขอบเขตของงานตรวจสอบ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คุ้นเคยกับคำ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“วัตถุประสงค์และขอบเขตของงานตรวจสอบ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ดี แต่น้อยคนจะเขียนได้อย่างถูกต้อ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่อยครั้งที่พบว่าผู้ตรวจสอบ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้แนวการตรวจที่ไม่ตรงกับวัตถุประสงค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รือไม่เพียงพอที่จะสนับสนุนข้อสรุปของต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วัตถุประสงค์และขอบเขตของงานตรวจสอบ จึงมีผลต่อการวางแผนในภารกิจ และผลงานตรวจสอบของเรา อย่างมาก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วัตถุประสงค์ของงานตรวจสอ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เป็นการถามคำถามว่า ทำไ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Why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ไม เราจึงต้องปฏิบัติงานตรวจสอ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น่วยงาน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โครงกา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นี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ัวกำหนด วัตถุประสงค์ทั่วไป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ไม เราจึงต้องตรวจสอ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ระบวนการ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ัวข้อ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นี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ัวกำหนด วัตถุประสงค์เฉพาะ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ไม เราจึงต้องปฏิบัติงานตรวจสอ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ั้นตอ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นี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ัวกำหนด วัตถุประสงค์ย่อ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ทั่วไป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ะบุว่าโรงงานมีระบบการจัดการสิ่งแวดล้อมที่เหมาะสม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เฉพาะ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ะบุว่าโรงงานปฏิบัติตามกฎหมายเกี่ยวกับ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ย่อ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ก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ะบุว่าน้ำเสียได้รับการบำบัดอย่างเหมาะส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ย่อ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ข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ะบุว่าคุณภาพน้ำทิ้งเป็นไปตามมาตร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ะบุว่าโรงงานปฏิบัติตามนโยบายและคู่มือการรักษาสิ่งแวดล้อ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ประเมินคู่มือการปฏิบัติงานเหมาะสมและเป็นไปตามกฎหม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อื่นๆ ในการวัตถุประสงค์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พื่อประเมินความพอเพียงและความมีประสิทธิผลของการควบคุมภายใ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พื่อทดสอบว่าคำสั่งซื้อได้รับการอนุมัติโดยผู้มีอำนาจอย่างเหมาะส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พื่อทดสอบการปฏิบัติงานตามเงื่อนไขสัญญ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พื่อประเมินการบริหารความพึงพอใจลูกค้าและข้อร้องเรีย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้ว ขอบเขตของงานตรวจสอบ คืออะ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09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9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3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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่อนที่เราจะต้องอยู่ด้วยกันสองวันนับจากนี้ เรามาเริ่มโดยการทำความรู้จักกันก่อน ขอให้ทุกคนเปิดแบบฟอร์มแนะนำผู้เข้าอบรมในหน้าแรกของแฟ้มเอกส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นื่องจากหลักสูตรนี้เน้นการทำงานเป็นกลุ่มและการมีปฏิสัมพันธ์ที่ดีและเปิดเผยระหว่างผู้เข้ารับการอบรม วิทยากรควรขอให้ผู้เข้ารับการอบรมแนะนำตัวให้คนในชั้นได้รู้จัก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้เวลาทุกค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กรอกข้อมูลในแบบฟอร์ม จากนั้นขอให้ลุกขึ้นแนะนำตัวทีละค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อันหนึ่งในการช่วยให้ทุกคนคุ้นเคยกันได้เร็วขึ้น คือการให้จับคู่กันสัมภาษณ์เพื่อนๆ และอ่านให้ชั้นเรียนฟั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ซักถามรายละเอียดเพิ่ม และจด “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วามคาดหวังจากหลักสูต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” ไว้ในบนฟลิปชาร์ตหรือที่ที่ทุกคนเห็นได้ชัด ถามว่าผู้เข้าอบรมมีวัตถุประสงค์อื่นหรือความต้องการอื่น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่วนใหญ่ ชั้นเรียนมักจะมาจากอุตสาหกรรมที่หลากหลายและมีประสบการณ์มากน้อยต่างๆ กัน วิทยากรควรชี้ว่าความหลากหลายดังกล่าวเป็นประโยชน์กับทุกคน ในการเรียนรู้สิ่งใหม่ๆ จากการแลกเปลี่ยนทัศนคติ ความคิดเห็นกั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เวียนฟอร์มให้ทุกคนกรอก ชื่อ ชื่อเล่น ที่ทำงาน เบอร์มือถือและอีเมล์ เพื่อจะสำเนาแจกช่วงพั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มาดูกันก่อนว่าหลักสูตรนี้มีวัตถุประสงค์อย่างไรและตรงกับ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ามคาดหวังจากหลักสูตร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ทุกคน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27" name=""/>
          <p:cNvSpPr/>
          <p:nvPr/>
        </p:nvSpPr>
        <p:spPr>
          <a:xfrm>
            <a:off x="303120" y="5251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28" name=""/>
          <p:cNvSpPr/>
          <p:nvPr/>
        </p:nvSpPr>
        <p:spPr>
          <a:xfrm>
            <a:off x="303120" y="6043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0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้ว ขอบเขตของงานตรวจสอบ คืออะ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ขอบเขตของงานตรวจสอบ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เป็นการถามคำถามว่า อะไร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ท่าใด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What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How much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ปฏิบัติงานตรวจสอบ อะไ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จำนวนเท่าใ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ขอบเขต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ตรวจสอบกระบวนการและหน่วยปฏิบัติงานที่สำคัญทั้งหมดในแผน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ตรวจสอบรายการคำสั่งซื้อจากเลขที่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1-1-XX 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ถึงเลขที่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12-31-XX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สุ่มทดสอบรายการที่เกิดขึ้นระหว่างวันที่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ต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2548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ถึง วันที่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31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ธ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.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2548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บเขตที่เพียงพอ หมายความว่า ตัวอย่างที่เราตรวจนั้นเป็นตัวแทนของสิ่งที่จะตรวจได้ หรือความเสี่ยงที่ข้อสรุปของเราจากการพิจารณาตัวอย่างจะไม่ตรงกับข้อเท็จจริงของตัวประชากรนั้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ำ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ึ่งแตกต่างกันไป แล้วแต่เรื่อง 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จะประเมินความพอเพียงและความมีประสิทธิผลของการควบคุมภายในของทั้งแผนก แล้วเรากำหนดขอบเขตตรวจสอบเพียงบางกระบวนการหรือหน่วยปฏิบัติงานที่ไม่สำคัญในแผนก ย่อมจะไม่เพียงพอ 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ต่โดยข้อเท็จจริงเราอาจตรวจทุกกระบวนการหรือหน่วยปฏิบัติงานไม่ได้ด้วยข้อจำกัดเวลา ในกรณีนี้การประเมินการควบคุมเบื้องต้นและการประเมินความเสี่ยงจะมีบทบาทในการเลือกกระบวนการหรือหน่วยปฏิบัติงานที่สำคัญขึ้นตรวจสอ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จะทดสอบว่าคำสั่งซื้อได้รับการอนุมัติโดยผู้มีอำนาจอย่างเหมาะสม เราก็ควรกำหนดขอบเขตตรวจสอบรายการคำสั่งซื้อที่เพิ่งเกิดขึ้นในช่ว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ที่ผ่านมา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ป็นตัวแทนของกระบวนการอนุมัติคำสั่งซื้อในปัจจุบัน ถ้าเพิ่งมีการเปลี่ยนผู้ปฏิบัติงานเมื่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ดือนก่อน ขอบเขต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ดือนจะเหมาะสมกว่า ถ้าด้วยข้อจำกัดเวลา ทำให้เราตรวจทุกคำสั่งซื้อไม่ได้ เราจะใช้วิธีสุ่ม แทนที่จะลดขอบเขตเหลือทุกรายการที่เกิดใ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1-2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ัปดาห์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จะทดสอบการปฏิบัติงานตามเงื่อนไขสัญญา ก็ควรกำหนดขอบเขตตรวจสอบเฉพาะสัญญาที่ยังมีผลบังคับ หลายๆ สัญญา และมีมูลค่าสัญญาไม่ต่ำเกินไป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ัญญาที่ไม่มีผลบังคับแล้ว หรือมูลค่าต่ำ มีความเสี่ยงน้อยกว่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จะทดสอบความถูกต้องของรายการค่าใช้จ่ายเพื่อรับรองงบประจำปี ก็ควรกำหนดขอบเขตรายการค่าใช้จ่ายที่เกิดขึ้นระหว่างปี และเก็บตัวอย่า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ollar samplin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ายการค่าใช้จ่ายมูลค่าสูงมีผลกระทบมากกว่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การกำหนดจำนวนตัวอย่างและระยะเวลาที่เป็นขอบเขตของการตรวจสอบ ขึ้นกับความเพียงพอในการบรรลุวัตถุประสงค์ของ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ำ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พียงพอ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วามเห็นของผู้วางโปรแกรมการตรวจ เป็นการใช้ดุลพินิจของผู้ตรวจสอบกำหนดจำนวนตัวอย่างที่เหมาะสม ขึ้นกับความสำคัญของการควบคุม ระดับความเบี่ยงเบนที่ยอมรับได้ เวลาและค่าใช้จ่ายในการเก็บตัวอย่างเทียบกับประโยชน์ที่จะได้จาก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ึ่งโปรแกรมการตรวจต้องได้รับการทบทวนและเห็นชอบหรืออนุมัติโดยหัวหน้าทีมตรวจสอบหรือหัวหน้าหน่วยงานตรวจสอบ ก่อนปฏิบัติการตรว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และขอบเขตของงานตรวจสอบ ที่ได้จะมีผลไปกำหนด แผนการทดสอบและเก็บหลักฐาน 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13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14:1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-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กาแฟ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และขอบเขตของงานตรวจสอบ ที่ได้จะมีผลไปกำหนด แผนการทดสอบและเก็บหลัก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การทดสอบและเก็บหลักฐา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เป็นการถามคำถามว่า อย่างไ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How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จะบรรลุวัตถุประสงค์ของงานตรวจสอบที่ต้องการ ได้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เลือกตัวอย่าง 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ทำการทดสอบ 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แผนการทดสอบ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่อไปนี้สนับสนุนวัตถุประสงค์ของงานตรวจสอบเรื่องอะ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คำสั่งซื้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 เปรียบเทียบกับตัวอย่างลายเซ็นผู้มีอำนาจอนุมัติ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พื่อทดสอบว่าคำสั่งซื้อได้รับการอนุมัติโดยผู้มีอำนาจอย่างเหมาะสม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นับเงินสดในตู้นิรภั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พื่อระบุจำนวนเงินสดในตู้นิรภั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ังเกตการทำงานของเจ้าหน้าที่รับเงินเปรียบเทียบกับที่มีอยู่ในคู่มือปฏิบัติงาน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พื่อระบุว่าเจ้าหน้าที่รับเงินปฏิบัติตามคู่มือปฏิบัติงา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อย่างไรจึงจะแน่ใจได้ว่าแผนการทดสอบสนับสนุนวัตถุประสงค์ของงานตรวจสอบ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“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ใช้ประสบการณ์” “ให้หัวหน้าดูให้”  เป็นคำแนะนำที่ไม่มีประโยชน์เล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น่าจะได้เวลาพักทานกาแฟ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15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.15-1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.30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จัดการกับพฤติกรรมที่ไม่เหมาะสมทันทีที่สังเกตเห็นก่อนลุกลามจนมีผลกระทบต่อการสัมมนา เช่น การบ่น คัดค้าน แสดงสีหน้าไม่พอใจ ส่ายหน้า มาสายกลับก่อน เงียบไม่มีส่วนร่วม คุยกันเอง นั่งกอดอก หันหน้าหาประตูหน้าต่าง เอางานอื่นมาทำ พูดหรือแสดงกิริยาไม่เห็นด้วยโดยเปิดเผย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่วงพักทานกาแฟเป็นจังหวะดีที่จะเข้าไปพูดคุยกับเป้าหมาย ถามความเห็นและขอข้อเสนอแนะ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ตัวอย่างที่ให้ยังคงเป็นลักษณะของ การตรวจสอบการปฏิบัติตามนโยบาย ระเบียบ หรือกฎหมาย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Compliance Audit)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ซึ่งแผนการตรวจจะค่อนข้างง่าย ตรงไปตรงมา คือเทียบกับสิ่งที่กำหนด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รณีนี้คือ ตัวอย่างลายเซ็น ยอดในทะเบียนคุมเงินสด และ คู่มือปฏิบัติงาน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ต่ในบทบาทปัจจุบันของผู้ตรวจสอบ การจัดทำแผนการทดสอบที่สนับสนุนวัตถุประสงค์ ต้องใช้ทักษะเชิงวิเคราะห์ที่ซับซ้อนขึ้น ซึ่งยังไม่มีอะไรที่ดีไปกว่า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“การวิเคราะห์ด้วยหลักตรรกะ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17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18" name=""/>
          <p:cNvSpPr/>
          <p:nvPr/>
        </p:nvSpPr>
        <p:spPr>
          <a:xfrm>
            <a:off x="230040" y="7843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758880" y="345132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:30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3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จะได้ทดลองฝึกเขียนวัตถุประสงค์ทั่วไปและกำหนดวัตถุประสงค์เฉพาะย่อย 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 :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งานส่งสินค้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บ่งกลุ่มอ่านกรณีศึกษา และเขียนวัตถุประสงค์ทั่วไปและเฉพาะเจาะจง สำหรับการตรวจสอบการปฏิบัติงานขนส่ง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ลุ่มเดิ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ลือกตัวแทนกลุ่มขึ้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ชั้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เปลี่ยนค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ม่เอาคนเดิ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ิดว่าเป็นการตรวจสอบประเภทใด </a:t>
            </a:r>
            <a:r>
              <a:rPr b="0" lang="th-TH" sz="9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3333cc"/>
                </a:solidFill>
                <a:latin typeface="Tahoma"/>
                <a:cs typeface="Tahoma"/>
              </a:rPr>
              <a:t>การตรวจสอบการปฏิบัติการ</a:t>
            </a:r>
            <a:r>
              <a:rPr b="0" lang="th-TH" sz="900" spc="-1" strike="noStrike">
                <a:solidFill>
                  <a:srgbClr val="3333cc"/>
                </a:solidFill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3333cc"/>
                </a:solidFill>
                <a:latin typeface="Tahoma"/>
                <a:cs typeface="Tahoma"/>
              </a:rPr>
              <a:t>ใช้คำ </a:t>
            </a:r>
            <a:r>
              <a:rPr b="0" lang="th-TH" sz="900" spc="-1" strike="noStrike" u="sng">
                <a:solidFill>
                  <a:srgbClr val="3333cc"/>
                </a:solidFill>
                <a:uFillTx/>
                <a:latin typeface="Tahoma"/>
                <a:cs typeface="Tahoma"/>
              </a:rPr>
              <a:t>ระบุ ตรวจทาน ประเมิน</a:t>
            </a:r>
            <a:r>
              <a:rPr b="0" lang="th-TH" sz="900" spc="-1" strike="noStrike">
                <a:solidFill>
                  <a:srgbClr val="3333cc"/>
                </a:solidFill>
                <a:latin typeface="Tahoma"/>
                <a:ea typeface="Tahoma"/>
              </a:rPr>
              <a:t> หรือไม่ในวัตถุประสงค์ย่อ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การตรวจสอบทั่วไป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พิจารณา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ลลัพธ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ระบวนการขนส่งว่าทำได้บรรลุตามวัตถุประสงค์การปฏิบัติงานที่ตั้งไว้หรือไม่ 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ว่า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ขนส่งเหมาะสม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ความเหมาะสมขอ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ารปฏิบัติการคลังสินค้าในส่วนที่เกี่ยวข้องกับงานขนส่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การตรวจสอบที่เฉพาะเจาะจง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พิจารณาว่าจัดส่งภายในเกณฑ์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ั่วโม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ามที่กำหน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ว้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ว่า การจัดส่งทุกคำสั่งซื้อไปยังที่อยู่ที่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ูกต้อ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ไม่ จัดส่งสินค้าตรงกับคำสั่งซื้อหรือไม่ มีการแนบเอกสารที่จำเป็นทั้งหมดไปพร้อมกับการจัดส่งทุกครั้งหรือไม่   มีการบรรจุหีบห่อที่แน่นหนาหรือไม่   ชำระค่าไปรษณีย์ในการจัดส่งถูกต้อง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ว่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ันทึ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ส่งมีความ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ูกต้อง ครบถ้วน เชื่อถือได้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และการคำนวณ การบันทึก การรายง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หมาะส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ขั้นตอ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างๆ ของกระบวนการจัดส่งสินค้าว่า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หมาะส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ว่า กระบวนการจัดส่งที่เกิดขึ้นจริ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ป็นไปตามขั้นตอ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ฏิบัติงานที่เขียนไว้หรือไม่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ไม่เป็นไปตามขั้นตอนการปฏิบัติงานที่เขียนไว้ แต่วิธีที่ปฏิบัติจริงมีประสิทธิภาพดีกว่าโดยไม่เสียการควบคุม ควรรายงานไหม อย่างไร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็ควรรายงานความแตกต่างและแนะนำให้บันทึกการเปลี่ยนแปลงในคู่มือปฏิบัติงา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ว่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ตถุประสงค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วิธีการทำงานของการให้บริการคลังสินค้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อดคล้องกับมาตรฐ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อุตสาหกรรมเดียวกั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22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23" name=""/>
          <p:cNvSpPr/>
          <p:nvPr/>
        </p:nvSpPr>
        <p:spPr>
          <a:xfrm>
            <a:off x="230040" y="842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24" name=""/>
          <p:cNvSpPr/>
          <p:nvPr/>
        </p:nvSpPr>
        <p:spPr>
          <a:xfrm>
            <a:off x="230040" y="4734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4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ที่ให้ใน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Slide 21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ยังคงเป็นลักษณะของ การตรวจสอบการปฏิบัติตามนโยบาย ระเบียบ หรือกฎหมาย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Compliance Audit)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ซึ่งแผนการตรวจจะค่อนข้างง่าย ตรงไปตรงมา คือเทียบกับสิ่งที่กำหนด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รณีนี้คือ ตัวอย่างลายเซ็น ยอดในทะเบียนคุมเงินสด และ คู่มือปฏิบัติงาน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ต่ในบทบาทปัจจุบันของผู้ตรวจสอบ การจัดทำแผนการทดสอบที่สนับสนุนวัตถุประสงค์ ต้องใช้ทักษะเชิงวิเคราะห์ที่ซับซ้อนขึ้น ซึ่งยังไม่มีอะไรที่ดีไปกว่า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“การวิเคราะห์ด้วยหลักตรรกะ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กตรรกะในงานตรวจสอบ ผู้ตรวจสอบสามารถได้ข้อสรุปที่ถูกต้องตามวัตถุประสงค์การตรวจสอบโดยปราศจากข้อโต้แย้ง โดยอาศัยสิ่งที่เรียกว่า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สอบสร้า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ึ้นจากวัตถุประสงค์การตรวจสอบและเงื่อนไขเกี่ยวกับวัตถุประสงค์ดังกล่าวอันเป็นข้อเท็จจริงที่ยอมรับกั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Accepted Claim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เป็นสิ่งที่ผู้ตรวจสอบจะต้องหาทางพิสูจน์ด้วยหลักฐานตรวจสอบ ซึ่งจะได้จากแผนการทดสอบและเก็บหลักฐาน นั่นเ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imary Audit Argum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ศัพท์ทางตรรกวิทยาเรียก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้วงนึก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อบด้วยประโยคเหตุ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mis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 และประโยคผล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 ดังต่อไปนี้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เหตุแรก เป็นความรู้เฉพาะที่มีแต่เดิม เขียนในลักษณะ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“กฏ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ป็นความรู้ที่ยอมรับกั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เหตุ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วามไต่สวนซึ่งอาศัยความรู้เฉพาะจากประโยคเหตุแรก ในการเปรียบเทียบ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่งให้รู้ว่าเหมือนหรือต่างกันอย่างไร เขียนในลักษณะ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“ข้อเท็จจริง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ซึ่งได้รับการยืนยันด้วยหลักฐานตรวจสอบ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ะนั้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ประโยคผล เป็นการอ้างผลตามเหตุจากประโยค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รวบ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educ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 สรุปเกิดเป็นความรู้ใหม่ที่ต่างจากความรู้ใ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โยคแรก เขียนในลักษณะข้อสรุปของผู้ตรวจสอบจากการนำ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“กฏ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มาใช้กับ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“ข้อเท็จจริง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ลองมาดูตัวอย่างของการใช้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ลักษณะ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Deductive Reasoning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28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5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ลองมาดูตัวอย่างของการใช้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ลักษณะ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Deductive Reasoning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Deductive Reasoning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อ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หาข้อสรุปจากข้อเท็จจริงที่เป็นที่ทราบอยู่แล้ว หรือได้รับการพิสูจน์มาแล้ว จึงเป็นวิธีการพิสูจน์ที่ดี เที่ยงตรง และเป็นไปตามหลักตรรกะ สามารถนำไปใช้อ้างอิงได้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การตรว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ความเชื่อถือได้ของระบบไฟฟ้าของโรงง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บไฟฟ้าของโรงงานเชื่อถือได้ถ้ามีอยู่ตลอดเวลาหรือเครื่องปั่นไฟทำงานทดแทนทันทีเมื่อไฟฟ้าดั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บไฟฟ้าของโรงงานมีอยู่ตลอดเวลาหรือเครื่องปั่นไฟทำงานทดแทนทันทีเมื่อไฟฟ้าดับ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ะนั้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บไฟฟ้าของโรงงานเชื่อถือ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ริง และผู้ตรวจสอบมีหลักฐานที่พิสูจน์ได้ว่า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ริงด้วย ผู้ตรวจสอบก็สามารถสรุปประโยคผลได้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ย่างแน่นอ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ามวัตถุประสงค์การตรวจสอบที่ตั้งไว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ีกตัวอย่าง 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การตรว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ความครบถ้วนของหนังสือในห้องสมุ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ในห้องสมุดมีอยู่ครบถ้วน ถ้า หนังสือทั้งหมดในทะเบียนมีอยู่จริงในห้องสมุดหรือถูกยืมออกไป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ทั้งหมดในทะเบียนมีอยู่จริงในห้องสมุดหรือถูกยืมออกไปจริ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ะนั้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ในห้องสมุดมีอยู่ครบถ้ว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ัญหาของผู้ตรวจสอบที่มักจะเจอคือ แม้จะวางหลักเหตุผลไว้มั่นคง ข้อเท็จจริงบางอย่างก็ยังเป็นสิ่งที่ยากต่อการพิสูจน์ หรือหาหลักฐานมาสนับสนุนให้แน่ชัด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0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%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อาจทำได้เพียงหาหลักฐานที่ดีที่สุดซึ่งจะเป็นลักษณะของ ความน่าเชื่อถือ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Believable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รือเป็นไปได้ที่จะจริง  ลักษณะนี้ “ความจริง” ถูกลดระดับจาก “ความแน่นอน” เป็นเพียง “ความน่าเชื่อถือ” ไป ดังตัวอย่างของการใช้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ลักษณะ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Deductive Reasoning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.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32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:5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ัญหาของผู้ตรวจสอบที่มักจะเจอคือ แม้จะวางหลักเหตุผลไว้มั่นคง ข้อเท็จจริงบางอย่างก็ยังเป็นสิ่งที่ยากต่อการพิสูจน์ หรือหาหลักฐานมาสนับสนุนให้แน่ชัด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0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%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อาจทำได้เพียงหาหลักฐานที่ดีที่สุดซึ่งจะเป็นลักษณะของ ความน่าเชื่อถือ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Believable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รือเป็นไปได้ที่จะจริง  ลักษณะนี้ “ความจริง” ถูกลดระดับจาก “ความแน่นอน” เป็นเพียง “ความน่าเชื่อถือ” ไป ดังตัวอย่างของการใช้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ลักษณะ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Inductive Reasoning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ductive reasoning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ระบวนการหาข้อสรุปจากการสังเกตอย่างเดียว จึงไม่ใช่วิธีการพิสูจน์สมมติฐานที่ดี แต่จากการสังเกต เราอาจตั้งสมมติฐานเพื่อการพิสูจน์อย่างเป็นทางการเช่น การสุ่มตัวอย่างทางสถิติ จนได้ข้อสรุปว่า จริง ไม่จริง หรือจริงบางส่วน อย่างมีนัยสำคัญหรือไม่ เพียงไร 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การตรว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การควบคุมที่ดีในการอนุมัติราย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ัติรายการมีการควบคุมที่ดีก็ต่อเมื่อผู้มีอำนาจได้ตรวจสอบและลงนามอนุมัติทุกราย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0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ที่สุ่มตัวอย่างพบว่าทุกรายการยกเว้นเพีย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ที่ไม่ได้ลงนามอนุมัติโดยผู้มีอำนา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นั้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ัติรายการมีการควบคุมที่ด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mise 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ัติรายการมีการควบคุมที่ดีก็ต่อเมื่อผู้มีอำนาจได้ตรวจสอบและลงนามอนุมัติทุกรายการ”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าจถือเป็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ccepted claim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ึ่งมีความน่าเชื่อสู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มีใครแย้งได้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mise 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็มีความน่าเชื่อสูงเช่นกัน เพราะ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ุ่มถึง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00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ายการ พบผิดพลาดไม่ได้ลงนามอนุมัติโดยผู้มีอำนาจเพียง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ายการหรือ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1%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ย่างนี้ ข้อสรุปของผู้ตรวจสอบว่า การอนุมัติรายการมีการควบคุมที่ดี ก็จะมีความน่าเชื่อถือสูงตามไปด้ว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ถ้าห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mise 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พบผิดพลาด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5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รือ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ายการจากสุ่ม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00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อย่างนี้ ก็คงยากที่จะจูงใจผู้รับรายงานให้เชื่อตามประโยคผลดังกล่าว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ีกตัวอย่าง 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การตรว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ระบุว่าเจ้าหน้าที่รับเงินปฏิบัติงานอย่างถูกต้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จ้าหน้าที่รับเงินปฏิบัติงานอย่างถูกต้อง ก็ต่อเมื่อ เจ้าหน้าที่รับเงินปฏิบัติงานตรงกับคู่มือและคู่มือได้รับการจัดทำและปรับปรุงให้มีเนื้อหาถูกต้องเหมาะสมอยู่ตลอดเวล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การสัมภาษณ์ และสังเกตการทำงานของเจ้าหน้าที่รับเงินเป็นเวลา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บว่าเจ้าหน้าที่มีความเข้าใจและปฏิบัติงานตรงกับที่ระบุในคู่มือ นอกจากนี้ พบว่าคู่มือถูกจัดทำโดยฝ่ายการเงินและผ่านการอนุมัติโดยผู้บริหารก่อนใช้งาน โดยมีการสอบทานและปรับปรุงทุกป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นั้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จ้าหน้าที่รับเงินปฏิบัติงานอย่างถูกต้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สูจน์ยังมีอีกปัญหาหนึ่งคือ ปัญหาจากรูปแบบ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36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0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ยังมีอีกปัญหาหนึ่งของการพิสูจน์ คือ ปัญหาจากการใช้ตรรกะที่ผิด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imary Audit Argument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การตรว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กระบวนการผลิตเป็นไปตามกำหน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ผลิตเป็นไปตามกำหนด สินค้าจะส่งถึงลูกค้าตรงเวล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นค้าส่งถึงลูกค้าตรงเวล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ราะฉนั้น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ผลิตเป็นไปตามกำหน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นี้เป็นรูปแบบที่เรียกว่า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ffirming the Consequent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ิด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ริง ก็จะต้องไม่มีสถานการณ์ใดๆ เลยที่เมื่อ กระบวนการผลิตเป็นไปตามกำหนดแล้ว สินค้าจะส่งถึงลูกค้าไม่ตรงเวลา สิ่งที่เป็นจริงก็คือ เมื่อสินค้าส่งตรงเวลาบางครั้งเราก็พบว่ากระบวนการผลิตไม่ได้เป็นไปตามกำหนดได้เช่น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างแก้คือต้องให้ 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ู่ในรูป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Bi-conditional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อใช้อ้างได้อย่างถูกต้องทั้งไป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ลับ 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มื่อการอนุมัติรายการมีการควบคุมที่ดี ผู้มีอำนาจจะตรวจสอบและลงนามอนุมัติทุกราย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มื่อผู้มีอำนาจตรวจสอบและลงนามอนุมัติทุกรายการ การอนุมัติรายการจะมีการควบคุมที่ด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เขียนอีกแบ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1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: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ัติรายการมีการควบคุมที่ดี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็ต่อเมื่อ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มีอำนาจตรวจสอบและลงนามอนุมัติทุกรายการ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ท่านั้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มีอย่างอื่นอี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ยังมีตัวอย่างของ การใช้ตรรกะที่ผิด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Informal Fallacy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ีกมากมายที่มักพบทั่วไป และผู้ตรวจสอบควรคุ้นเคยกับรูปแบบต่างๆ และฝึกวิธีป้องกันเอาไว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40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05-15:2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โยคตรรกะที่ผิด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Informal Fallacy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อการสรุปด้วยวิธีการใช้เหตุผลที่ผิดหลักตรรกะ ตัวอย่างข้างล่างเป็นส่วนหนึ่ง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fallacy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มักพบทั่วไปในชีวิตประจำวันของผู้ตรวจสอบ ซึ่งมีมากกว่า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0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เภท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โยคพวกนี้ผิดอย่างไร 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เจอกับตัวเอง คุณจะตอบ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ทำงานแบบนี้ถูกต้องแน่ เพราะเราทำอย่างนี้ม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ีแล้ว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to Ignorance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ด่วนสรุป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าจมีข้อผิดพลาดที่ยังไม่พ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อ้างประเพณีที่ปฏิบัติสืบมาโดยไม่ดูว่ามีเหตุผลหรือประโยชน์อย่างไร เช่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ฝ่ายตรวจสอบจะมาตั้งประเด็นว่าวิธีการทำงานของเราไม่โปร่งใสได้อย่างไร ในเมื่อเราก็ปฏิบัติเหมือนกับปีก่อนๆ ซึ่งฝ่ายตรวจสอบก็ทราบดี และก็ไม่เคยยกขึ้นมาเป็นประเด็นเล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มขอยืนยันว่าอาคารของเราต่อเติมถูกระเบียบทุกประการและสามารถใช้งานได้อย่างปลอดภั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to Inappropriate Authority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ิดฝาผิดตัว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ถ้าทุกคนยืนยันให้ตัวเองได้ก็คงไม่ต้องมีผู้ตรวจสอบแล้ว แล้วคุณก็ไม่ใช่วิศวกร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มุห์บัญชีท่านเป็นคนขยันมากตลอด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ีที่ผ่านมาไม่เคยขาดลามาสาย เป็นที่รักใคร่ไว้วางใจของทุกคน รับรองว่าไม่มีปัญหาเรื่องทุจริตแน่นอ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to Popular Belief and Attitudes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ว่าตามกั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ขาต้องพิสูจน์ตัวเองเรื่องนั้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คงไม่ล่าช้ากว่ากำหนด ถ้าเราไม่ต้องเสียเวลาคอยตอบคำถามคุณ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False Cause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ึกทัก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ีสาเหตุอื่นเยอะแยะไป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ฉบับนี้มีข้อผิดพลาดอยู่ หน่วยงานที่ทำรายงานไม่มีความสามารถและหัวหน้าก็สับเพร่าไม่ตรวจทานให้ดีก่อนออกรายงา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Hasty Generalization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พูดเหมาเอ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้อผิดพลาดแห่งเดียวไม่จำเป็นต้องมาจากการไร้ความสามารถหรือสับเพร่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ไม่ยอมให้พนักงานใช้รหัสผ่านของคนอื่นเพื่อช่วยกันเข้าข้อมูล เราก็จะไม่มีทางทำงานเสร็จทันตามกำหนด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False Dilemma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ั้งธ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กล้งไม่พูดความเป็นไปได้ทางอื่นๆ เราอาจทำงานให้เสร็จทัน โดยการจ้างคนเพิ่มก็ได้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44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05-15:2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โยคตรรกะที่ผิด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Informal Fallacy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อการสรุปด้วยวิธีการใช้เหตุผลที่ผิดหลักตรรกะ ตัวอย่างข้างล่างเป็นส่วนหนึ่งของ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fallacy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มักพบทั่วไปในชีวิตประจำวันของผู้ตรวจสอบ ซึ่งมีมากกว่า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0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เภท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โยคพวกนี้ผิดอย่างไร 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เจอกับตัวเอง คุณจะตอบ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ุณเลิกนิสัยชอบจับผิดชาวบ้านหรือยัง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Loaded Question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ถามนำ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ำถามอยู่บนสมมติฐานที่ยังไม่ได้พิสูจน์ว่าชอบจับผิด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คอมพิวเตอร์เสียเพราะระบบขัดข้องและปัญหายังไม่ได้รับการแก้ไข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Circular Reasoning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พายเรือในอ่า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สียกับขัดข้องคือสิ่งเดียวกัน ถ้าแก้ปัญหาได้เมื่อไหร่ระบบก็ย่อมจะทำงานแน่ คำตอบอย่างนี้ไม่มีประโยชน์เล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ไม่เอาประเด็นนี้ออกจากรายงาน เรื่องได้ถึงผู้อำนวยการแน่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to Force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่มขู่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ข่มขู่ไม่ได้หมายความว่าการกระทำนี้ถูกต้องหรือเกิดประโยชน์แก่บริษัท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สอบของคุณแต่งตัวยังกับหลุดมาจากปกนิตยสาร คำแนะนำของเธอไม่มีทางจะได้ผลหรอก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Against the Person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คติต่อบุคคล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ำแนะนำของผู้ตรวจสอบของผมอาจจะดีกว่าวิธีการประเมินบุคลิกภาพของคุณก็ได้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ขอตรวจเครดิตลูกค้าทุกรายเท่ากับเป็นการยื่นส่วนแบ่งตลาดให้คู่แข่ง 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Straw Man Fallacy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ั้งตุ๊กต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กล้งสรุปเอาง่ายๆ เพื่อทำลายเครดิตข้อเสนอของคนอื่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นี้จะเพิ่มประสิทธิภาพงานได้มากที่สุดเพราะใช้ต้นทุนต่ำสุด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Definitional Dodge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ีความเข้าข้างตัว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กล้งตลบตะแลงเปลี่ยนนิยามของประสิทธิภาพเข้าข้างตัวเอ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ุณว่าเราไม่ได้กระทบยอดบัญชีเงินฝากธนาคารเหรอ โธ่ นี่ผมทำงานเลิกสี่ทุ่มทุกวัน เสาร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าทิตย์ก็ไม่เคยได้พัก จะเอาอะไรกันอีก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ppeal for Pity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รือ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อความเห็นใจ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ต่หลีกเลี่ยงที่จะคุยถึงเหตุผลที่ไม่ได้ทำ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แถมให้อีก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มก็อยากกลับบ้านเจอหน้าลูกเมียเร็วๆ บ้าง พนักงานเก็บบิลของแผนกโน้นเขาก็ไม่ได้กลับเข้าบริษัทตอนเย็นเหมือนกัน ทำไม่ต้องมาตั้งแง่เอากับพนักงานชั้นผู้น้อยด้ว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้างคนอื่นเป็นตัวอย่า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ยกตัวอย่างการทำผิดของคนอื่นว่าเหมือนที่ตัวเองทำ ถ้าคนอื่นทำได้ตัวเองก็ทำได้ โดยไม่พิจารณาว่าการกระทำดังกล่าวชอบด้วยเหตุผลหรือไม่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การตรวจพึงพอใจกับการทำงานของทีมผู้ตรวจสอบมากเพราะไม่เคยมีเสียงตำหนิให้ได้ยินเล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"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อ้างความไม่รู้เป็นเหตุผล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" -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ต่ก็ไม่มีเสียงชมเหมือนกัน สิ่งที่พิสูจน์ไม่ได้เท่ากับไม่รู้ จึงพ้นวิสัยที่จะสรุปไปทางใดทางหนึ่งได้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17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48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628640" y="71424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>
            <a:off x="474840" y="3379680"/>
            <a:ext cx="60926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2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ทดสอบและเก็บหลักฐ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ช่วงเวลาพัก ปรับตัวอย่างเหล่านี้ให้ใกล้เคียงประสบการณ์ของผู้เข้าสัมมนาที่สุ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Observation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ังเกตการณ์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Observ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ฝ้าดูการปฏิบัติงานและกิจกรรมต่างๆ ของผู้รับการตรว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งเกตขณะลูกค้าชำระเงินค่าสินค้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งเกตการทำงานของพนักงา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ll center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งเกตการซ้อมหนีภั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งเกตการณ์การประชุมผู้ถือหุ้น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งเกตความมีอยู่จริงของการแบ่งแยกหน้าที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ิดตามบันทึกขั้นตอน การปฏิบัติงานทีละขั้นๆ และหรือเอกสารที่ใช้ใน แต่ละขั้นตอ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alk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rough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alk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roug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ปฏิบัติงานบางอย่าง ตั้งแต่เริ่มต้นไปทีละขั้นๆ จนจบขั้นตอนงานนั้น ตามที่ได้มีกำหนดไว้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alk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roug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ฏิบัติงานหรือรายการบางอย่างตั้งแต่เริ่มต้นไปจนจบงานหรือรายการนั้นโดยผ่านทางเอกสาร เพื่อที่จะระบุให้ได้ว่าได้มีมาตรการควบคุมภายในที่มีประสิทธิผลฝังเข้า ไปในระบบหรือไม่ และวิธีการควบคุมเหล่านั้น ได้มีการจัดทำเป็นเอกสารหรือไม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alkthrough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ะบวนการนำเข้าข้อมูลในระบ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walkthrough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นวปฏิบัติกรณีเกิดภัยพิบัติ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alkthrough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ตรวจคุณภาพสินค้าขั้นสุดท้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ยี่ยมชม ณ สถานที่ทำการของผู้รับการตรวจ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our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ดินชมโรงงานและการปฏิบัติงานของผู้รับการตรว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ชมคลังสินค้าและหน่วยบำบัดน้ำเสี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ชมการปฏิบัติงานของ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ata center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ละศูนย์สำรองข้อมูล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ชมสถานที่จัดประมูลรถและพูดคุยกับพนักงานและผู้ที่มาร่วมประมูล 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ดินชมควรมีเจ้าหน้าที่ของผู้รับตรวจพาไป มีแผนผัง รายชื่อ เช็คลิสท์ของสิ่งที่จะสังเกตการณ์ซึ่งผู้ตรวจสอบจะใช้บันทึกสิ่งทีพบพร้อมเวลาและสถานที่ด้วย อาจต้องเตรียมของเหล่านี้ไปด้วยแล้วแต่สถานการณ์ เช่น แว่นขยาย เครื่องคิดเลข กล้องส่องทางไกล กล้องถ่ายรูป ไฟฉาย ครีมกันแดด ปลั๊กอุดหู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มว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องเท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ว่นนิรภัย ผ้าเช็ดหน้าผืนใหญ่ สมุดบันทึก ดินสอ การเดินชมโรงงานหรือกลางแจ้งควรใส่กางเกง รองเท้าผ้าใบ ชุดแต่งกายที่คล่องตัว พร้อมเลอะหรือเปียกได้ ระวังกระโปรงยาวหรือเน็คไทอาจหลุดเข้าเครื่องจักรเกิดอันตร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Physical Examination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ตรา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xamin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ตราโดยละเอียด หรือพิจารณาหลักฐานทางกายภาพ เช่น วัตถุดิบ เครื่องจักร และ เอกสาร เป็นต้นนั้น 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สอบสัญญาที่ทำกับผู้ซื้อ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ว่าเครื่องจักรอยู่ในสภาพที่ใช้การได้หรือไม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งบทดลองดูรายการปรับปรุงบัญชีระหว่างงว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นับ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un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ับและระบุจำนว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ับสินค้าคงคลั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ับเงินสดในตู้นิรภั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้องเปรียบเทียบกับรายงานหรือทะเบียนคุม ดูความมีตัวตน ความถูกต้องของรายงาน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นนั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วรคุ้นเคยกับลักษณะของและไม่ใช่ผู้ที่ปกติสามารถเข้าถึงสินค้าที่นับได้ ควรเป็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ี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2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นหนึ่งนับ อีกคนจดบันทึก หรือถ้า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นไม่ได้ อาจให้คนเดียวนับ โดยอีกคนนับทดสอบงานคนแรก กรณีมี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ินค้าย้า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ออกพื้นที่ระหว่างการนับ ต้องมีคน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ุมระบุชิ้นที่เคลื่อนย้ายเพื่อกระทบยอดตอนท้าย และให้แน่ใจว่าไม่นับของชิ้นเดิมซ้ำ การนับควรระบุ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ายละเอีย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ช่น ยี่ห้อ รุ่น สี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d.no. s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รดและคุณภาพ สถานที่ สภาพ ใหม่ เก่า เสีย ล้าสมัย และบันทึกลง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count sheet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ตรียมไว้ ให้แถวเป็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tem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lum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ลักษณะของสินค้า อาจติ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pre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numbered tag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่อนหรือระหว่างการนับ คนนับจะเก็บสำเน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a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บันทึกเบอร์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a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tem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ใ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unt sheet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คุมการนั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เช็คว่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a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ั้งหมดได้ถูกบันทึกและบันทึกเพียงครั้งเดียว เพื่อป้องกันนับซ้ำหรือหลงข้ามไป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ินค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จัดเรียงวางกองให้นับง่ายไม่สับสน การนับอาจมีการ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รวจท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ดยอีกทีมหรือทีมเดิมแต่สลับหน้าที่คนนั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ด อาจใช้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unt shee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ม่หรือกาบ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hee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ดิมก็ได้  การนับควร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ำหนดเวล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ว้แน่นอน และห้ามเคลื่อนย้ายสินค้า หรือต้องมีการควบคุมและบันทึกอย่างรัดกุม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goods in transi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หว่างคลังสินค้า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FOB shipping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ผู้ขาย อาจนับโดยดูเอกสารที่ระบุการเคลื่อนย้ายในช่วงที่นับแล้ว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follow up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ภายหลัง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ระดาษทำกา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รายงานสรุป ควรแยกจำนวนตามลักษณะ และอาจต้องคำนวณมูลค่า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xtend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ต้นทุนต่อหน่วยสินค้า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52" name=""/>
          <p:cNvSpPr/>
          <p:nvPr/>
        </p:nvSpPr>
        <p:spPr>
          <a:xfrm>
            <a:off x="158760" y="3954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9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4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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1810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มาดูกันก่อนว่าหลักสูตรนี้มีวัตถุประสงค์อย่างไรและตรงกับ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ามคาดหวังจากหลักสูตร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ทุกคน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นี้ต้องการให้ผู้เข้ารับการอบร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“ตรวจสอบเป็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” จึงเน้นให้ความรู้ความเข้าใจในกระบวนการต่างๆ ในงานตรวจสอบและฝึกทักษะต่างๆ ที่จำเป็นที่ผู้ตรวจสอบภายในต้องใช้ในการปฏิบัติภารกิจงานตรวจสอบให้บรรลุผลสำเร็จตามที่ได้รับมอบหมาย ดัง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กำหนดวัตถุประสงค์และขอบเขตการตรวจสอบ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ใจแนวคิด หลักการ ของขั้นตอนต่างๆ ในการปฏิบัติ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ความรู้ความเข้าใจ เทคนิค และทักษะที่จำเป็น ในการปฏิบัติภารกิจ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นำความรู้ที่ได้ไปประยุกต์และปรับปรุงการตรวจสอบในการปฏิบัติงาน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ไล่เรียง “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วามคาดหวังจากหลักสูตร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” ของผู้เข้ารับการอบรมที่จดไว้ทีละข้อ ว่าสามารถครอบคลุมโดยวัตถุประสงค์หลักสูตรหรือไม่ เพียงใ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ชี้แจงด้วยว่าโดยเวลาที่จำกัดของหลักสูตร ทำให้ไม่สามารถลงลึกในทักษะอื่นที่จำเป็น เช่น การสุ่มตัวอย่าง และความรู้ในเรื่องการควบคุมภายในของกิจกรรมแต่ละประเภท ซึ่งผู้เข้ารับการอบรมควรแสวงหาความรู้ดังกล่าวเพิ่มเติมด้วยตนเ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1810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่อนจะเข้าสู่เนื้อหาจะขอแนะนำตัววิทยากรก่อ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หว่างการสัมมนา ถ้าผู้เข้าอบรมมีคำถามหรือต้องการอภิปรายเรื่องที่ยังบรรยายไม่ถึง หรือไม่ได้อยู่ในขอบเขตของหลักสูตร ให้ขออนุญาตใช้ปากกาเขียนจดพักไว้ก่อนบนฟลิปชาร์ตที่ทุกคนเห็นได้ชัด แล้วเดินตา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genda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ตกลงกันไว้ โดยวิทยากรจะกลับมาพูดถึงเรื่องนี้ภายหลังเมื่อถึงเวล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32" name=""/>
          <p:cNvSpPr/>
          <p:nvPr/>
        </p:nvSpPr>
        <p:spPr>
          <a:xfrm>
            <a:off x="303120" y="4746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33" name=""/>
          <p:cNvSpPr/>
          <p:nvPr/>
        </p:nvSpPr>
        <p:spPr>
          <a:xfrm>
            <a:off x="303120" y="7628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590400" y="3522600"/>
            <a:ext cx="58770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2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ทดสอบและเก็บหลักฐ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ช่วงเวลาพัก ปรับตัวอย่างเหล่านี้ให้ใกล้เคียงประสบการณ์ของผู้เข้าสัมมนาที่สุ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Inquirie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ัมภาษณ์ และ สอบถาม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quiry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อบถามคำถามต่างๆ ควรแจ้ง วัตถุประสงค์ ข้อเท็จจริงที่เกี่ยวข้อง รายการข้อมูลที่อยากทราบ และอย่าลืมขอบคุณผู้ให้ข้อมูล  ในการสัมภาษณ์ ผู้ตรวจสอบต้อง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บันทึก ชื่อ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ำแหน่ง ผู้ให้ข้อมูล ผู้ร่วมฟัง คำถาม คำตอบ วันเวลา สถานที่ วัตถุประสงค์ และลักษณะการสัมภาษณ์ เช่น คุยกันต่อหน้า โทรศัพท์ หรือ อีเมล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มภาษณ์เจ้าหน้าที่ถึงวิธีปฏิบัติง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าข้อมูล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ำความเข้าใจ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ัมภาษณ์พยานผู้รู้เห็นเหตุการณ์ทุจริต 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ืนยันยอด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firmation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ิดต่อกับบุคคลภายนอกเพื่อเช็คสอบกับข้อมูลที่จัดทำเป็นเอกสารโดยผู้รับการตรวจ ความน่าเชื่อถือสูงถ้าได้จากบุคคลที่สามโดยไม่ผ่านมือผู้รับตรวจ ปัญหาข้อมูลบางอย่างเป็นความลับอาจไม่ยอมเปิดเผยกัน ผู้ตรวจเองก็ต้องรักษาความลับด้วย จดหมายยืนยันที่ส่งออกต้องได้รับอนุญาตจากหรือลงนามโดยผู้รับตรวจ แต่ผู้ตรวจสอบต้องเป็นผู้จ่าหน้าที่อยู่และจัดส่งซอง หรือกำกับกระบวนการนี้อย่างดี การส่งควรเป็นทางไปรษณีย์ลงทะเบียน โดยผู้ตรวจสอบต้องตรวจตราและบันทึกจดหมายที่ตอบกลับมาทุกฉบับ เพื่อดูว่ามีความแตกต่างจากข้อมูลในบันทึกของผู้รับตรวจหรือไม่ ในการทำ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ositive confirmation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ตรวจจะติดตามจดหมายที่ไม่ได้รับการตอบกลับทุกฉบับ อาจโดยส่งจดหมายซ้ำ หรือถ้าเป็นข้อมูลสำคัญต่อผลการตรวจสอบมาก ผู้ตรวจสอบอาจโทรศัพท์ หรือแม้แต่เดินทางไปพบเพื่อตรวจสอบข้อมูลกับบุคคลที่สามนั้นโดยตรง 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่งจดหมายยืนยันยอดถึงลูกหนี้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โทรยืนยันยอดขายและเงื่อนไขการขายกับลูกค้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ความมีตัวตน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ักษณะ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ositive confirmation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ให้ตอบกลับไม่ว่าจะตรงหรือไม่ตรง หรืออาจขอข้อมูลจ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cord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บุคคลที่สาม โดยไม่บอกข้อมูลของผู้รับตรวจ 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negative confirmation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ขอให้ตอบกลับเมื่อไม่ตรงเท่านั้น จึงไม่แน่ใจว่าข้อมูลตรงหรือส่งไม่ถึงกันแน่ แต่ต้นทุนต่ำ จึงยังใช้อยู่ในกรณีของรายการย่อยจำนวนมากๆ ที่ขนาดแต่ละรายการไม่มีนัยสำคัญ แต่รวมๆ กันมีนัย การควบคุมด้านข้อมูลมีความเสี่ยงต่ำ และไม่มีเหตุควรเชื่อว่าผู้รับจะละเลยไม่สนใจจดหมายยืนยั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 ยอดผ่อนชำระหนี้ ยอดเงินฝา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Documentation Test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อกยอดรวม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Foo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xtend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วกออกยอดรวมของตัวเลขในเอกสารเพื่อที่จะเปรียบเทียบจำนวนที่บวกได้โดยผู้ตรวจสอบ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อกยอดรวมจำนวนสินเชื่อใหม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อกยอดรวมจำนวน ชม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ี่จ่ายค่าแรงล่วงเวล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ความถูกต้อ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ามรอ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rac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ามรายการที่บันทึกบัญชีและตามดูการบันทึกเอกสารบางรายการ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ามรายการส่งของ ไปหา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alanc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นบัญชีแยกประเภทย่อ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ามต้นทุนวัตถุดิบจากรายงานโครงการไปหารายงานสรุป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ว่ามีการ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understat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จ้าหนี้ ค่าใช้จ่าย โดย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ac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ากสัญญากู้ยืมหรือจัดหา ไปยังรายการบันทึกในบัญชีแยกประเภท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ว่าโอนตัวเลขถูกต้อง  บันทึกครบถ้วน เป็นไปตามหลักการ มาตรฐานบัญชี และประมวลรัษฎากร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็คสอบเอกสาร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ouch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ข้อมูลเอกสารที่ประกอบเป็นยอดรวมของรายการที่ได้ถูกบันทึกอยู่ในบัญช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ล่จากรายการค่าใช้จ่ายทั้งหมดไปหาเอกสารประกอบการจ่า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ย้อนกลับว่ารายการที่บันทึก สมเหตุสมผล มีอยู่จริง ที่มาการเกิดของรายการ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ความถูกต้องของฐานข้อมูลการซ่อมบำรุงโดยสุ่มรายการออกมาเทียบกับเอกสารสนับสนุ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สอบบัญชีการเงินจะมีการทดสอบที่เรียกว่า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ut-off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รือ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end-of-period procedur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ou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ที่ลงบัญช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-3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าทิตย์ก่อนและหลังสิ้นงวดว่า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ันทึกบัญชีถูกงว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ห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 พยายามเร่งรายได้ เลื่อนรายจ่า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rac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ต้นทางหารายการที่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บเลี่ยงไม่ถูกบันทึ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ัญชี เช่น เจ้าหนี้ กรณีไม่มีเอกสารต้นทาง ผู้ตรวจสอบอา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ou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follow-up transactio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 ทดสอบรายการจ่ายเงินต้นงวดว่ามาจากเจ้าหนี้ในงวดที่ผ่านมาซึ่งปรากฏในรายงานสิ้นงวดหรือไม่ หรือดู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endor invoice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มาต้นงวดว่าบันทึกเจ้าหนี้ถูกงวดไหม อา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ou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รับเงินว่ามาจากลูกหนี้ที่เป็นรายการที่เกี่ยวข้องกั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related party transaction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บันทึกอย่างเหมาะสม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56" name=""/>
          <p:cNvSpPr/>
          <p:nvPr/>
        </p:nvSpPr>
        <p:spPr>
          <a:xfrm>
            <a:off x="230040" y="409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2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ทดสอบและเก็บหลักฐ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ช่วงเวลาพัก ปรับตัวอย่างเหล่านี้ให้ใกล้เคียงประสบการณ์ของผู้เข้าสัมมนาที่สุ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Comparison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รียบเทียบ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mpar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ุลักษณะที่เหมือนหรือไม่เหมือนของข้อมูลซึ่งเกี่ยวกับวัตถุประสงค์ในการตรวจสอบบาง ประการที่มาจ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หล่ง หรือมากกว่านั้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ทียบสิ่งที่สังเกตเห็นกับคู่มือ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ปรียบเทียบคู่มือฝ่ายจัดซื้อกับระเบียบการจัดซื้อจัดจ้างที่ปรับปรุงใหม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ปรียบเทียบราคาน้ำมันที่เติมรถกับราคาจำหน่ายปลีก ปตท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ปรียบเทียบน้ำหนักสุกรในรายงานกับน้ำหนักมาตรฐานตามเกณฑ์อายุ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า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gap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ำนวณ และคำนวณซ้ำ อีกครั้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mput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คำนวณในทางคณิตศาสตร์ การคำนวณซ้ำจะกระทำเมื่อต้องการเช็คสอบความถูกต้องของตัวเลขที่คำนวณโดยผู้อื่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ำนวณต้นทุนค่าใช้จ่ายการผลิต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ำนวณซ้ำค่าใช้จ่ายดอกเบี้ยระหว่างป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54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x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ำนวณซ้ำค่าแรงจากชั่วโมงทำงานของพนักงานประจำสถานีบริการ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สอบการนับระยะเวลาในการคำนวณต่างๆ หรืออื่นๆ ที่ใช้คนคิดเช่น ค่าปรับ ส่วนลด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สอบการคำนวณของ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preadsheet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ี่อาจถูกแก้ไขสูตรได้ง่า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รวจสอบการคำนวณของ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pplication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่อนรับรองให้ใช้ในงาน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ุความแตกต่า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concil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บุและอธิบาย ความแตกต่างระหว่างตัวเลขและข้อมูลในเอกสารต่างๆ หรือข้อมูลจากแหล่งอื่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concil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หว่างขั้นตอนปฏิบัติงานที่ได้จากการสัมภาษณ์คนงานกับหัวหน้าง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concil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ายชื่อพนักงานในบัญชีเงินสะสมกองทุนสำรองเลี้ยงชีพกับบัญชีรายชื่อพนักงาน ณ สิ้นงวด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ะทบยอดบัญชีธนาคาร และ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concil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ลต่างโดยเปรียบเทียบบัญชีรายรับ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ายจ่ายของบริษัทกับรายการเดินบัญชีเงินฝากกระแสรายวันจากธนาคารในงวดเดียวกั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ธิบายความแตกต่า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ผลการปฏิบัติงานที่เบี่ยงเบนจากเป้าหมาย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การอนุมัติที่ต่างจากข้อกำหนด เช่น ทำรายการจ่ายไปก่อนแล้วขออนุมัติหรือให้สัตยาบันภายหลั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nalys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กตัวเลขยอดสะสมออกเป็นยอดย่อยๆ หลายส่ว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ยกยอดสินค้ารวมแบ่งเป็นประเภท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 คำนวณและแสดงแนวโน้มและความสัมพันธ์ระหว่างตัวเลขต่างๆ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อัตราส่วนประสิทธิภาพ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ductivity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ุณภาพ อัตราของเสีย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centration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ลกระทบ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าสิ่งผิดปกติ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ำความเข้าใจ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ดู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ging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ลูกหนี้ การจัดชั้น หาสัญญาณบ่งชี้ว่าอาจมีทุจริต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05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p 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68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60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:2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ทดสอบและเก็บหลักฐ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ช่วงเวลาพัก ปรับตัวอย่างเหล่านี้ให้ใกล้เคียงประสบการณ์ของผู้เข้าสัมมนาที่สุ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General Procedure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และตัดสินว่า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Verify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ให้ตนเองมั่นใจได้ในข้อมูลชิ้นนั้นว่า สอดคล้องกับที่ได้จากข้อมูลแหล่งอื่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อบทานว่าได้ปฏิบัติตามวิธีการซ่อมบำรุ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อบทานรายงานผลการประเมินการควบคุมด้วยตนเองของฝ่าย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ดสอบและสุ่มตัวอย่า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ampl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ุ่มตรวจตัวอย่างจำนวนหนึ่ง เพื่อให้ได้ข้อสรุปในจำนวนประชากรที่ใหญ่ขึ้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ุ่มทดสอบใบสำคัญจ่ายกับตัวอย่างลายเซ็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ุ่มตัวอย่างรายการส่งของเพื่อ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ace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ารายการในบัญชีแยกประเภท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มื่อตรว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0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%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ได้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valuat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ดสินในเรื่องคุณภาพ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ประเมินประสิทธิภาพการควบคุมภายใ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ประเมินคุณภาพหลักสูตรอบร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ประเมินบุคลิกภาพและลักษณะนิสัยของผู้จัดการสาข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Non Testing Procedures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รรยา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escrib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รรยายแผนผังทางเดินของงาน กราฟ ตาราง และการ ใช้วิธีการพรรณนาความถึงโครงร่างของการ ปฏิบัติงาน วิธีการปฏิบัติบางอย่าง ทรัพยากร เป็นต้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ธิบายวิธีการควบคุมภายใ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รรยายโครงสร้างการบริหารงานในฝ่ายงา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ันทึกเป็นหลักฐานที่อ่าน เข้าใจได้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par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เป็นลายลักษณ์อักษร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ำตารางต้นทุนเป็นรายอาทิตย์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ัดทำรายงาน กระดาษทำ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ฉลยและทบทวนสิ่งที่เรียนมาวันนี้  ถ้ามีเวลาเหลืออาจ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Brief Case 4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เฉลยทดสอบช่วงเช้าได้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ลิ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พรุ่งนี้ เราจะได้ทบทวนความเข้าใจใน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แผนการทดสอบ 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นนี้ขอให้ทุกคนอ่านประมวลจรรยาบรรณ ในหนังสือมาตรฐานที่แจ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บวันแรก ให้กลับมาที่หน้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genda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ทบทวนว่าเนื้อหาวันนี้ได้เรียนรู้อะไรไปบ้าง  เอกสารเก็บในห้องเรียนไม่ต้องนำกลับได้ไหม งานที่ต้องขอกลับไปเตรียมคืนนี้เช่น  อ่าน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ละผู้เข้าอบรมควรศึกษาเรื่องนี้จากหนังส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Auditing: Logic, Principles and Techniques, 200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Institute of Internal Auditors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งโด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atliff &amp; Reding, ch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p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05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p 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68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64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65" name=""/>
          <p:cNvSpPr/>
          <p:nvPr/>
        </p:nvSpPr>
        <p:spPr>
          <a:xfrm>
            <a:off x="303120" y="8346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544680" y="386856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8:3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- 10: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กาแฟ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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ช้เวลาประมาณ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 ทบทวนสิ่งที่เรียนมาในวันแรก  ถ้าผู้เข้าอบรมยังมาไม่ครบ อาจเฉลยแบบทดสอบวันแรก หรือแนะนำการสอบ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IA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จะได้ทดลองฝึกเขียน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udit Argument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แผนการทดสอบกัน ใช้เวลาประมาณ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Brief Case 4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(8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30-8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  Cedar Street Electronics Manufacturing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บ่งกลุ่มอ่านกรณีศึกษา เพื่อประเมินและวิจารณ์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udit Argum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แผนการทดสอบของผู้ตรวจสอบภายใน โดยระบุว่า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udit Argum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ความเหมาะสมหรือไม่  ถ้าไม่เหมาะสม จงให้เหตุผลและข้อเสนอแนะที่จำเป็นเพื่อปรับปรุงปัญหาข้อบกพร่องขอ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rgum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สน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ผนการทดสอบและเก็บหลักฐานที่ผู้ตรวจสอบกำหนด มีความเหมาะสมและเพียงพอในการสนับสนุนประโยคเหต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mise 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ไม่  ถ้าไม่เหมาะสม จงให้เหตุผลและข้อเสนอแนะที่จำเป็นเพื่อปรับปรุงการเก็บหลักฐานให้สนับสนุนการทดสอบได้ดียิ่งขึ้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ลือกตัวแทนกลุ่มขึ้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ช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8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5-9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1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9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45-10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udit Argument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ู่ในรูปแบบ </a:t>
            </a:r>
            <a:r>
              <a:rPr b="0" i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ffirming the Consequent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รือการยืนยันผลที่เกิดจากเหตุ ซึ่งเป็นรูปแบบที่ใช้ไม่ได้  สิ่งที่ผู้ตรวจสอบควรจะใช้ใ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rgument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ือประโยคเหตุ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remise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บบที่เงื่อนไขยังคงเป็นจริงทั้งสองทางไม่ว่าจะอ้างไปหรือกลับกัน หรือ </a:t>
            </a:r>
            <a:r>
              <a:rPr b="0" i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Bi-conditional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ว่า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0" i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โรงงานจะมีการบำรุงรักษาที่ดี </a:t>
            </a:r>
            <a:r>
              <a:rPr b="0" i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็ต่อเมื่อ</a:t>
            </a:r>
            <a:r>
              <a:rPr b="0" i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ได้รับการทำความสะอาดอย่างเหมาะสม และสถานที่อุปกรณ์ต่างๆ ได้รับการซ่อมบำรุงเป็นอย่างดี </a:t>
            </a:r>
            <a:r>
              <a:rPr b="0" i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ท่านั้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ได้เห็นแล้วว่า แผนการทดสอบมีไปเพื่อเก็บหลักฐานที่เกี่ยวข้องกับการตรวจสอบนั่นเอง ต่อไปเราจะเรียนรู้ถึงหลักฐานการตรวจสอบ และคุณลักษณะที่ทำให้หลักฐานและข้อสรุปของผู้ตรวจสอบน่าเชื่อถื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69" name=""/>
          <p:cNvSpPr/>
          <p:nvPr/>
        </p:nvSpPr>
        <p:spPr>
          <a:xfrm>
            <a:off x="158760" y="82040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70" name=""/>
          <p:cNvSpPr/>
          <p:nvPr/>
        </p:nvSpPr>
        <p:spPr>
          <a:xfrm>
            <a:off x="158760" y="5180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628640" y="71424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642960" y="386856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ได้เห็นแล้วว่า แผนการทดสอบมีไปเพื่อเก็บหลักฐานที่เกี่ยวข้องกับการตรวจสอบนั่นเอง ต่อไปเราจะเรียนรู้ถึงหลักฐานการตรวจสอบ และคุณลักษณะที่ทำให้หลักฐานและข้อสรุปของผู้ตรวจสอบน่าเชื่อถื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พิจารณาวัตถุประสงค์การตรวจสอบ ผู้ตรวจสอบต้องทำสิ่งที่เรียกว่า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vidence Box”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 กล่องหลักฐ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้านทั้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กล่องหลักฐาน ประกอบด้วย หลักฐานของ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ลักเกณฑ์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riteria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ี่ยวกับวัตถุประสงค์การตรวจสอบ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dition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พบ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ลกระทบ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ffec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ิดขึ้นหรืออาจเกิดอันเป็นผลจากข้อเท็จจริงที่เกี่ยวข้องกับวัตถุประสงค์การตรวจสอบ และ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ข้อเท็จจริงและผลกระทบที่ติดตามมา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สืบสาววัตถุประสงค์การตรวจสอบหนึ่งๆ ต้องใช้หลักฐานครบทั้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4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ด้านของกล่องหลักฐาน หากขาดด้านหนึ่งด้านใดไปจะทำให้ข้อสรุปของการตรวจสอบนั้นอ่อนลงได้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องพิจารณาหลักฐานทีละด้าน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ฐานของหลักเกณฑ์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riteria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What auditor SHOULD find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าตรฐานที่ใช้อ้างอิงเปรียบเทียบในกระบวนการตรวจสอบ เช่น นโยบาย ระเบียบ วิธีปฏิบัติงาน แผนงาน มาตรฐาน เป้าหมาย วัตถุประสงค์ ข้อกำหนดต่างๆที่กำหนดขึ้นในองค์กร กฎหมาย ข้อกำหนด ของหน่วยงานกำกับดูแลที่ต้องปฏิบัติตาม ตำราหรือแนวปฏิบัติอันเป็นสากลและเอกสารอ้างอิงต่างๆ สัญญา หรืออาจมีแบบไม่เป็นทางการก็ได้ เช่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วิธีทำงานหรือพฤติกรรมที่ยอมรับกันทั่วไป เช่น การตรวจสอบความพึงพอใจในงานของบุคลากรในสถานพยาบาล อาจต้องอิงผลการวิจัย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ไม่ใช่ความเห็นของผู้ตรวจ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ว่าอะไรเป็นปัจจัยสำคัญที่มีผลต่อความพึงพอใ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และหาหลักฐานในปัจจัยเหล่าน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ฐานของข้อเท็จจริง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dition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at auditor ACTUALLY find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อาจเป็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สิ่งที่ผู้รับการตรวจปฏิบัติอยู่จริงๆ สภาพปัจจุบันของทรัพย์สิน ความมีประสิทธิผลของกระบวนการควบคุมภายใน จำนวนที่บันทึกบัญชี หรือ สถานะของหนี้สินภาระผูกพั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ซึ่งอาจได้จากการสอบถาม สังเกตการณ์ หรือพิจารณาจากเอกสาร และอาจเป็นไปตามหลักเกณฑ์ที่กำหนดหรือไม่ก็ได้ ในการตรวจสอบ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”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ือเป็นหัวใจสำคัญของเรื่องที่ตรวจพบ จึงต้องมีข้อมูลสนับสนุนที่เพียงพอ ตรงประเด็นและสอดคล้องกับวัตถุประสงค์ของการตรวจสอบ หากไม่ถูกต้อง ย่อมทำให้ประเด็นผิดพลาด การได้มาซึ่งข้อเท็จจริงที่ถูกต้องจึงจำเป็นและสำคัญ ต้องมีกระบวนการตรวจสอบ การรวบรวมข้อมูล ประเมิน วิเคราะห์ ทดสอบ สอบทานและการควบคุมคุณภาพที่เป็นระบบและได้มาตร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ฐานของผลกระทบ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Effect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o What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ายเกณฑ์ในการเก็บหลักฐานที่เกี่ยวกับผลกระทบ เช่น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ผลกระทบต่อความเสี่ยงและวัตถุประสงค์ การปฏิบัติงาน กระบวนการ ระบบ ผลงาน กิจกรรม คน หน่วยงาน การเงิน ผู้มีส่วนได้เสีย สิ่งแวดล้อม ความมีนัยสำคัญ ช่วงเวลาที่ผลกระทบเกิด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ฐานของสาเหตุ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use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y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ำคัญต่อข้อเท็จจริง ถ้าเราเข้าใจสาเหตุ เราอาจบอกผลลัพธ์ได้ ถ้าข้อเท็จจริงเป็นที่น่าพอใ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ังตรงกับหลักเกณฑ์ดีอยู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ของสาเหตุจะช่วยบอกได้ว่าสภาวะนี้มีความเสถียรและคงทนขนาดไหน หลักฐานของสาเหตุอาจช่วยผู้ใช้รายงานให้สามารถป้องกันเหตุการณ์ลักษณะคล้ายๆ กันเมื่อพบสาเหตุเดียวกันเกิดขึ้น หากข้อเท็จจริงจำเป็นต้องได้รับการแก้ไข สาเหตุจะเป็นตัวช่วยชี้วิธีแก้ไขที่เหมาะส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้วเรามีเครื่องมืออะไรในการประเมินความน่าเชื่อถือได้ของหลัก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74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714240" y="337968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ครื่องมือที่ผู้ตรวจสอยใช้ในการประเมินความน่าเชื่อถือได้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(Persuasiveness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หลักฐาน คือ คุณลักษณะของหลัก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การประเมินหลักฐานและแนวทางในการพิจารณาความน่าเชื่อถือของหลักฐาน แบ่งได้ดังนี้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ามเกี่ยวข้องหรือความสัมพันธ์ 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Relevance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หลักฐานนั้นต้องมีความสัมพันธ์และเกี่ยวข้องกับการสรุปผลการตรวจสอบ ตรงตามวัตถุประสงค์ของการตรวจสอบ เช่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ตรวจสอบความมีตัวตนของลูกหนี้ หนังสือยืนยันยอดที่ส่งไปถึงลูกหนี้และได้รับการตอบกลั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เกี่ยวข้องโดยตรง หรือ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ารไปตรวจเยี่ยมสถานประกอบการของลูกหนี้ เพื่อยืนยันว่ามีตัวตนจริ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สัมพันธ์กับการสรุปผลการตรวจสอบ เป็นต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ี่ยวข้องกับวัตถุประสงค์การตรวจ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levance to the Audit Objectiv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ที่ไม่มีความสัมพันธ์หรือความเกี่ยวข้องต่อการสรุปผลการตรวจสอบ ย่อมไม่น่าเชื่อถือโดยตัวของมันเอง ข้อมูลเกี่ยวข้องก็ต่อเมื่อมันสนับสนุนต่อผลสรุปการตรวจสอบในทางตรรกะ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การตรวจประสิทธิภาพกระบวนการผลิตที่ใช้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Just-In-Time Inventory System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ลักฐานรายงาน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On-time Delivery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องผู้ขายชิ้นส่วนหลัก เกี่ยวข้องมากกว่า ช่วงระยะเวลาระหว่างวันที่ในใบกำกับสินค้าจากผู้ขายถึงวันชำระเงิ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ตรวจการอนุมัติรายการที่สุ่มจากรายการในระบบ เกี่ยวข้องมากกว่า สุ่มจากใบอนุมัติ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สุ่มตัวอย่างรายการเจ้าหนี้ในบัญชีมาตรวจสอบเอกสารประกอบ คำสั่งซื้อและใบแจ้งหนี้ ไม่สัมพันธ์กับวัตถุประสงค์ในการตรวจว่าบัญชีเจ้าหนี้ของบริษัทได้แสดงหนี้สินทั้งหมดครบถ้วน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ามเชื่อถือได้ 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Reliability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หลักฐานที่ได้มาจากแหล่งที่มีความน่าเชื่อถือ และวิธีการได้มาก็ต้องมีเทคนิควิธีการตรวจสอบที่มีความน่าเชื่อถือด้วย ซึ่งอาจพิจารณาจากแหล่งที่ได้มาของข้อมูลจากภายในหรือภายนอกหน่วยงาน หรือเป็นหลักฐานที่ผู้ตรวจสอบได้รับมาโดยตรงไม่ผ่านผู้รับการตรวจสอบ หรือหลักฐานที่ได้จากหน่วยงานที่มีระบบการควบคุมภายในที่ดีจะมีความน่าเชื่อถือได้มากกว่าหน่วยงานที่มีระบบการควบคุมภายในที่ไม่เพียงพ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ี่ยงธรรม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Objectivity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เที่ยงธรรมก็ต่อเมื่อหลักฐานนั้นทำให้ผู้ตรวจสอบสองคนสามารถได้ข้อสรุปอย่างเดียวกั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การตรวจนับสินค้าโดยผู้ตรวจสอบมีความเที่ยงธรรมสูง เพราะผู้ตรวจสอบเป็นผู้ตรวจนับด้วยตนเอง รายงานที่จัดทำโดยผู้บริหารเที่ยงธรรมน้อยกว่า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เอกสาร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ocumentation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ที่มีความเป็นรูปธรรมหรือกายภาพมีความน่าเชื่อถือสูงกว่าหลักฐานที่เป็นนามธรรมหรือจับต้องยาก หรือที่เป็นคำพูดหรือความเห็นทั่วไป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จดหมายชมเชยจากลูกค้า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10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ฉบับน่าเชื่อถือกว่า คำชมที่ไม่ได้เป็นเอกสารจากลูกค้า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10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ราย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ำให้การของเจ้าหน้าที่เกี่ยวกับวันเวลาที่ผ่านเข้าออกห้องมั่นคง น่าเชื่อถือน้อยกว่า รายการบันทึกด้วยมือในสมุดทะเบียนคุมการเข้าออกห้องมั่นคง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ป็นเอกสารไม่ได้หมายความว่าน่าเชื่อถือเหมือนกันหรือเท่ากันทั้งหมด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เอกสารต้นฉบับน่าเชื่อถือกว่าสำเนาซึ่งหากมีการแก้ไขจะสังเกตเห็นได้ยาก เอกสารที่มีการผ่านกระบวนการพิจารณาหรือมีการลงนามพยานหรือรับรอง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น่าเชื่อถือกว่าเอกสารที่ไม่มีการพิจารณา หรือมี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แต่มาจากกระบวนการที่การควบคุมไม่ดี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อกจากนี้การเป็นเอกสารมีจุดอ่อนของมันเพราะเป็นหลักฐานทางอ้อม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อกสารเกี่ยวกับการขายไม่ใช่ตัวธุรกรรมการขาย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าจผิดพลาด หลอกลวง หรือถูกปลอมแปลงได้ กระบวนการควบคุมที่ดีและหลักฐานสนับสนุนอื่นจะช่วยแก้จุดอ่อนนี้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าจากบุคคลภายนอก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ird–party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จากแหล่งข้อมูลภายนอกดีกว่าหลักฐานที่ได้จากภายในองค์กรของผู้รับการตรว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ผลวิเคราะห์คุณภาพสินค้าจากห้องทดลองที่เป็นอิสระ น่าเชื่อถือกว่ารายงานที่ผู้ผลิตทำ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xternal Evidenc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จากภายนอกถึงผู้ตรวจสอบโดยตรง น่าเชื่อถือที่สุด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จดหมายจากทนายรายงานความเห็นเกี่ยวกับคดีของผู้รับการตรวจส่งตรงถึงผู้ตรวจสอบ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positive confirmation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จากลูกหนี้การค้า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ernal-External Evidenc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จัดทำจากภายนอกส่งถึงผู้รับการตรวจ น่าเชื่อถือรองลงม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รายการเดินบัญชีธนาคาร หนังสือเสนอราคาประมูล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78" name=""/>
          <p:cNvSpPr/>
          <p:nvPr/>
        </p:nvSpPr>
        <p:spPr>
          <a:xfrm>
            <a:off x="303120" y="3954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"/>
          <p:cNvSpPr/>
          <p:nvPr/>
        </p:nvSpPr>
        <p:spPr>
          <a:xfrm>
            <a:off x="714240" y="337968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xternal-Internal Evidenc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ประเภทนี้ไม่ค่อยพบกันนัก จัดทำโดยผู้รับตรวจและส่งออกภายนอกก่อนจะกลับมาเก็บที่ผู้รับตรวจอีกครั้ง แม้จะถูกพิจารณาโดยบุคคลภายนอกแต่ก็ยังน่าเชื่อถือน้อยเพราะมีโอกาสที่ผู้รับตรวจจะแก้ไขได้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คำสั่งให้โอนเงิน  ตั๋วสัญญาใช้เงินที่ออกโดยผู้รับตรวจและไถ่ถอนแล้ว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ernal Evidenc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่อนที่สุด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ประมาณการยอดเก็บหนี้ของผู้จัดการสินเชื่อ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จากแหล่งข้อมูลโดยตร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irectness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หลักฐานที่ผู้ตรวจสอบได้รับจากแหล่งข้อมูลโดยตรงย่อมน่าเชื่อถือกว่าข้อมูลที่รวบรวมโดยผู้รับการตรวจสอ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ผู้ตรวจสอบเข้าตรวจนับสินค้าโดยไม่แจ้งล่วงหน้า ย่อมน่าเชื่อถือกว่า บันทึกยอดสินค้าคงคลัง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erpetual inventory record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นการระบุว่ามีสินค้ามูลค่าสูงหายไป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6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จากแหล่งที่มีระบบการควบคุมภายในที่ดี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ernal Control Systems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มาจากระบบที่การควบคุมภายในดีย่อมมีความน่าเชื่อถือสูง ผู้ตรวจสอบจึงควรต้องตรวจสอบการควบคุมในระบบ โดยเฉพาะระบบสารสนเทศ ก่อนจะเชื่อถือหลักฐานที่ผลิตจากระบบเหล่าน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ามเพียงพอ 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Sufficient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หลักฐานนั้นต้องสามารถทำให้ผู้ตรวจสอบหรือผู้ที่มีความรู้โดยทั่วไป สามารถสรุปความเห็นได้ในทิศทางเดียวกัน ซึ่งส่วนใหญ่เป็นหลักฐานทางตรง หากเป็นหลักฐานทางอ้อมจะต้องมีการหาหลักฐานอื่นมาประกอบเพื่อสรุปผลหรือแสดงความเห็น ความเพียงพอในที่นี้ไม่ได้หมายถึงปริมาณของหลักฐานแต่หมายถึงความชัดเจนที่นำไปสู่การสรุปผล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นาดตัวอย่า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ze of the Sampl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สุ่มใบแจ้งหนี้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บกำกับสินค้า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ินวอยซ์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75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บเพื่อยืนยันว่าการชำระเงินมีการควบคุมที่ดีย่อมเชื่อถือได้มากกว่า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25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จำนวนสุ่มเพียงพอหรือไม่ขึ้นกับระดับความเชื่อมั่นที่ต้องการ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ุ่มตัวอย่างเชิงสถิติ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tatistical Sampling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ราะการใช้วิธีการทางสถิติทำให้ผู้ตรวจสอบสามารถระบุระดับความเชื่อมั่นของข้อสรุปของตนได้ แต่ก็มีหลายสถานการณ์ที่จำเป็นต้องใช้ การสุ่มโดยวิจารณญาณ หรือจำนวนตัวอย่างมีน้อยจนต้องตรวจสอบทั้งหม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รับการยืนยั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rroboration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ีหลักฐานอย่างเดียวกันหรือคล้ายกัน จากสองแหล่งข้อมูลที่เป็นอิสระหรือมากกว่า มาสนับสนุนหรือประกอบการสรุปผลเพิ่มเติม เช่น การสัมภาษณ์ หรือทดสอบรายละเอียด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ตรวจบัญชีที่บันทึกต้นทุนเครื่องจักรกับใบกำกับสินค้าของผู้ขาย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ปรียบเทียบยอดในงบการเงินกับ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bank statement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้นกรณีของหลักฐานที่สิ้นข้อสงสั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beyond a reasonable doubt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รรไกรในท้องผู้ป่วย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เป็นข้อเท็จจริงอันทราบโดยทั่วกั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accepted claim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ยืนยันอื่นอาจไม่จำเป็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ามมีประโยชน์ 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Useful</a:t>
            </a:r>
            <a:r>
              <a:rPr b="1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หลักฐานที่เป็นประโยชน์ต่อการตรวจสอบและสรุปผล หรือพิสูจน์ความเชื่อหรือสมมติฐานของการตรวจสอบ ซึ่งอาจพิจารณาได้จากความทันเวลาและมีน้ำหนัก มีสาระต่อการสรุปผลการตรวจสอบให้ตรงตามวัตถุประสงค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0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ันกาล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imeliness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ฐานการตรวจสอบที่เป็นปัจจุบันจะดีกว่า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ป็นปัจจุบัน คือ ก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ลักฐานที่เกิด ณ เวลาที่ตรวจสอบธุรกรรมหรือสภาพนั้น ข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ลักฐานที่ได้รับทันทีที่ผู้ตรวจสอบขอ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1.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แห่งพยานหลักฐา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uthoritativeness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ช่น เอกสารสัญญาต้นฉบับที่มีการลงนาม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โฉนดที่ออกโดยกรมที่ดิ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บัตรประชาชน พาสปอร์ตที่ออกโดยสำนักงานของรัฐบาล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ามคิดเห็นจากผู้เชี่ยวชาญเฉพาะด้าน เช่น ทนาย แพทย์ ดีกว่าความคิดเห็นของคนทั่วไป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แต่ความเห็นของช่างผู้ควบคุมเครื่องจักรเกี่ยวกับว่าเครื่องจักรใช้งานได้ดีเพียงไรอาจมีน้ำหนักมากกว่าความเห็นของวิศวกรที่ออกแบบเครื่องจักรนั้นก็ได้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จะได้ทดลองฝึกประเมินความน่าเชื่อถือได้ของหลักฐาน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82" name=""/>
          <p:cNvSpPr/>
          <p:nvPr/>
        </p:nvSpPr>
        <p:spPr>
          <a:xfrm>
            <a:off x="303120" y="3811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>
            <a:off x="569880" y="366696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จะได้ทดลองฝึกประเมินความน่าเชื่อถือได้ของหลักฐาน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รงงานพลาสติ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ความเกี่ยวข้อ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levanc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พียงพ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ufficiency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ความเชื่อถือได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mpetenc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หลักฐานที่ผู้ตรวจสอบวางแผนรวบรวมเพื่อใช้ในการทดสอบ ตามแนวทางการประเมินหลักฐา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ลือกตัวแทนกลุ่มขึ้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้าช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กี่ยวข้อ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levanc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กี่ยวข้องกับวัตถุประสงค์การตรวจ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YES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การเปรียบเทียบเอกสารต้นฉบับไปหารายการที่บันทึกเป็นวิธีการทดสอบความครบถ้ว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ชื่อถือได้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mpetence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ที่ยงธรรม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YES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 ถูกบันทึกโดยผู้ตรวจสอบที่มีความเชี่ยวชาญ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ป็นเอกสาร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YES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มาจากบุคคลภายนอก </a:t>
            </a:r>
            <a:r>
              <a:rPr b="1" lang="en-US" sz="900" spc="-1" strike="noStrike">
                <a:solidFill>
                  <a:srgbClr val="00cc99"/>
                </a:solidFill>
                <a:latin typeface="Tahoma"/>
                <a:ea typeface="Tahoma"/>
              </a:rPr>
              <a:t>NO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มาจากแหล่งข้อมูลภายในบริษัททั้งสิ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5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ด้จากแหล่งข้อมูลโดยตรง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99"/>
                </a:solidFill>
                <a:latin typeface="Tahoma"/>
                <a:ea typeface="Tahoma"/>
              </a:rPr>
              <a:t>NO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ผู้ตรวจสอบไม่ได้เข้าสังเกตการณ์การส่งและการรับสินค้าโดยตร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6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ด้จากแหล่งที่มีระบบการควบคุมภายในที่ดี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ON’T KNOW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ทราบ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ยังเร็วเกินไปที่จะสรุปแบบน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พียงพอ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ufficiency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7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นาดตัวอย่าง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99"/>
                </a:solidFill>
                <a:latin typeface="Tahoma"/>
                <a:ea typeface="Tahoma"/>
              </a:rPr>
              <a:t>NO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 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cs typeface="Tahoma"/>
              </a:rPr>
              <a:t>การสุ่มเพียง </a:t>
            </a:r>
            <a:r>
              <a:rPr b="0" lang="en-US" sz="900" spc="-1" strike="noStrike">
                <a:solidFill>
                  <a:srgbClr val="ff505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cs typeface="Tahoma"/>
              </a:rPr>
              <a:t>ตัวอย่างถือว่าน้อยมา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8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ตัวอย่างเชิงสถิติ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99"/>
                </a:solidFill>
                <a:latin typeface="Tahoma"/>
                <a:ea typeface="Tahoma"/>
              </a:rPr>
              <a:t>NO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ตัวอย่างน้อยเกินไปที่จะถือเป็นการสุ่มเชิงสถิติ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9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ด้รับการยืนยั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cc99"/>
                </a:solidFill>
                <a:latin typeface="Tahoma"/>
                <a:ea typeface="Tahoma"/>
              </a:rPr>
              <a:t>NO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ไม่ 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เอกสารต่างๆ มาจากแหล่งเดียวกัน ควรดูใบเสร็จรับเงิน และคำสั่งจ่าย เพิ่ม และดูว่ามีสินค้าคงเหลือขาดหายด้วย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มีประโยชน์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Useful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ันกาล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YES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มีครบถ้วนเมื่อเกิดรายการ และมีให้ตรวจทันท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lvl="1" marL="361800" indent="-17136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1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้ำหนักแห่งพยานหลักฐา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YES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ff5050"/>
                </a:solidFill>
                <a:uFillTx/>
                <a:latin typeface="Tahoma"/>
                <a:cs typeface="Tahoma"/>
              </a:rPr>
              <a:t>ใช่</a:t>
            </a:r>
            <a:r>
              <a:rPr b="0" lang="th-TH" sz="900" spc="-1" strike="noStrike">
                <a:solidFill>
                  <a:srgbClr val="ff5050"/>
                </a:solidFill>
                <a:latin typeface="Tahoma"/>
                <a:ea typeface="Tahoma"/>
              </a:rPr>
              <a:t> ไม่มีหลักฐานอื่นที่มีน้ำหนักเหนือกว่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รุปได้ว่าหลักฐานมีความเกี่ยวข้อง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Relevanc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ความมีประโยชน์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Useful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ต่ความเชื่อถือได้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ompetenc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ม่สมบูรณ์เต็มที่ และขาดความเพียงพอ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Sufficiency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ให้หลักฐานนี้ยังไม่มีความน่าเชื่อถือได้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Persuasiveness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ู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marL="171360" indent="-1713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กฐานต่างๆ ที่ผู้ตรวจสอบเก็บรวบรวม หรือ เอกสารที่ผู้ตรวจสอบจัดทำขึ้นเพื่อบันทึกข้อมูลในระหว่างการตรวจสอบ เพื่อสนับสนุนข้อสรุปและผลการตรวจสอบ เราเรียกว่า กระดาษทำ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86" name=""/>
          <p:cNvSpPr/>
          <p:nvPr/>
        </p:nvSpPr>
        <p:spPr>
          <a:xfrm>
            <a:off x="230040" y="5396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87" name=""/>
          <p:cNvSpPr/>
          <p:nvPr/>
        </p:nvSpPr>
        <p:spPr>
          <a:xfrm>
            <a:off x="158760" y="4172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714240" y="366696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กฐานต่างๆ ที่ผู้ตรวจสอบเก็บรวบรวม หรือ เอกสารที่ผู้ตรวจสอบจัดทำขึ้นเพื่อบันทึกข้อมูลในระหว่างการตรวจสอบ เพื่อสนับสนุนข้อสรุปและผลการตรวจสอบ เราเรียกว่า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ระดาษทำ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าตรฐานการปฏิบัติง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ว่าด้วยเรื่องหลักฐานของการตรวจสอบ ได้กำหนดแนวทางในการปฏิบัติงานและความน่าเชื่อถือได้ของหลักฐานของการตรวจสอบไว้อย่างชัดเจนว่า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ฐานการตรวจสอบหรือการจัดทำบันทึกต่างๆ เพื่อสนับสนุนข้อสรุป และผลการตรวจสอบของผู้ตรวจสอบอย่างเหมาะสม ต้องระบุ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วิธีการได้มา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และ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วิเคราะห์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รวมถึ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สอบทาน</a:t>
            </a:r>
            <a:r>
              <a:rPr b="0" lang="th-TH" sz="9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ากหัวหน้าตรวจสอบ 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ะดาษทำการหมายถึ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ที่ผู้ตรวจสอบจัดทำขึ้น เพื่อบันทึกข้อมูลหรือหลักฐานต่างๆ ที่ผู้ตรวจสอบเก็บรวบรวม หรือจัดทำในระหว่างการตรวจสอบ ซึ่งประกอบด้ว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หรือหลักฐานต่างๆ ที่ใช้ใน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ตรวจสอบ ขอบเขตใน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ผล และ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าข้อสรุป เพื่อใช้เป็นแนวทางในการจัดทำรายงานการตรวจสอบ กระดาษทำการที่ผู้ตรวจสอบจัดทำ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จำเป็นที่จะอยู่ในรูปแผ่นกระดาษ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สมอไป อาจอยู่ในรูปสื่อชนิดต่างๆ เช่น เทป รูปถ่าย แผ่นดิสก์ สื่อทางอิเลคทรอนิคส์ หรือสื่ออื่นๆ ก็ได้ สำหรับการจัดทำกระดาษทำการในรูปสื่ออื่นๆ ที่มิใช่เป็นแผ่นกระดาษก็ควรพิจารณาถึ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ระบบการสำรอ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Backup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้วย หากสื่อดังกล่าวเกิดความเสียหา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ในการจัดทำกระดาษทำกา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ไม่มีรูปแบบมาตรฐาน ขึ้นกับดุลพินิจ วิจารณญาณ ความรู้ ความสามารถ และประสบการณ์ของผู้ตรวจสอบแต่ละคน ทั้งยังขึ้นอยู่กับประเภทของกระดาษทำการที่จัดทำ เช่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ระดาษทำการที่เป็นตัวเลขจะจัดทำในรูปตารางเปรียบเทียบ กระดาษทำการที่เป็นการสัมภาษณ์ผู้รับการตรวจสอบจะอยู่ในรูปแบบการบรรยาย กระดาษทำการเกี่ยวกับขั้นตอนการปฏิบัติงานจะแสดงเป็นผังทางเดินของง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ป็นต้น นอกจากนี้ลักษณะ ประเภท และขนาดของกิจการยังทำให้กระดาษทำการมีรูปแบบแตกต่างกันไป ในแต่ละกิจการนั้น ผู้บริหารของฝ่ายตรวจสอบจะเป็นผู้กำหนดรูปแบบของกระดาษทำการเพื่อใช้ร่วมกันในกิจการ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นื้อหาในกระดาษทำกา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จะมีข้อมูลทั่วไปของกระดาษทำการที่จัดทำ เช่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ชื่อหน่วยงานผู้รับการตรวจสอบ ชื่อเรื่องที่ตรวจสอบ ชื่อผู้ตรวจสอบ วันที่ตรวจสอบ ชื่อผู้สอบทาน วันที่สอบท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ป็นต้น ในกรณีที่การตรวจสอบประกอบด้วยการตรวจสอบหลายๆ เรื่องแล้ว กระดาษทำการย่อยในแต่ละเรื่องอาจต้อ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ำหนดรหัสกระดาษทำการเพื่อใช้อ้างอิง หรือระบุวัตถุประสงค์และขอบเขตของ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สอดคล้องกับกระดาษทำการหลัก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งจากผู้ตรวจสอบเก็บรวบรวมหลักฐานต่างๆ และจัดทำเอกสารบันทึกข้อมูลและรายละเอียด เพียงพอสำหรับสนับสนุนข้อสรุปและผลการตรวจสอบแล้ว ผู้ตรวจสอบจะนำข้อเท็จจริงที่พบจากการตรวจสอบมาสรุปเขียนเป็น “เรื่องที่ตรวจพบหรือประเด็น” เพื่อรายงานผล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91" name=""/>
          <p:cNvSpPr/>
          <p:nvPr/>
        </p:nvSpPr>
        <p:spPr>
          <a:xfrm>
            <a:off x="230040" y="450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590400" y="3738600"/>
            <a:ext cx="570888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งจากผู้ตรวจสอบเก็บรวบรวมหลักฐานต่างๆ และจัดทำเอกสารบันทึกข้อมูลและรายละเอียด เพียงพอสำหรับสนับสนุนข้อสรุปและผลการตรวจสอบแล้ว ผู้ตรวจสอบจะนำข้อเท็จจริงที่พบจากการตรวจสอบมาสรุปเขียนเป็น “เรื่องที่ตรวจพบหรือประเด็น” เพื่อรายงานผล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ื่องที่ตรวจพบหรือประเด็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ที่พบจากการตรวจสอบซึ่งจะต้องมีข้อมูลและรายละเอียดสนับสนุนที่เพียงพอเพื่อใช้ในการรายงานผลการตรวจสอบ ถ้าเรื่องที่ตรวจพบเป็นประเด็นเล็กน้อย ผู้ตรวจสอบภายในก็อาจรายงานด้วยวาจาหรือรายงานอย่างไม่เป็นทางการ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ื่องที่ตรวจพบเกิดขึ้นจาก การกระบวนการที่ผู้ตรวจสอบภายในเปรียบเทียบ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ิ่งที่ควรจะเป็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hat should be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ับสิ่งที่เป็นอยู่จริ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hat is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ึ่งถ้าการเปรียบเทียบมีผลตรงกัน กล่าวคือ สิ่งที่เป็นอยู่จริงหรือที่พบจากการตรวจสอบตรงกับสิ่งที่ควรจะเป็นหรือสิ่งที่ผู้ตรวจสอบคาดหวังไว้ ก็สามารถ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ือว่าการปฏิบัติงานของสิ่งที่กำลังได้รับการตรวจสอบนั้นได้ผลตรงตามวัตถุประสงค์เป็นที่น่าพอใ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atisfactory Performance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เช่น ในการตรวจสอบการปฏิบัติตามนโยบาย สิ่งที่ควรจะเป็นหรือสิ่งที่ผู้ตรวจสอบคาดหวังไว้คือผลการตรวจสอบจะเป็นไปตามนโยบายที่กำหนด และหากผลการตรวจสอบเป็นไปตามนโยบายจริงก็ถือว่าผู้รับการตรวจสอบปฏิบัติตาม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ถ้ามีความแตกต่างเกิดขึ้นเช่น พบว่าไม่มีการปฏิบัติตา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ู้ตรวจสอบภายในจะต้องหาสาเหตุ ผลกระทบและแนวทางการแก้ไข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ที่จะได้รายงานและให้ข้อเสนอแนะที่เหมาะสมแก่ผู้รับการตรวจสอบและผู้บริห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รื่องที่ตรวจพบมีองค์ประกอบและคุณลักษณะ 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ประการ ดัง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ข้อเท็จจริง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Condition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หลักเกณฑ์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Criteria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สาเหตุ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ผลกระทบ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Effect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-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ข้อเสนอแนะ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Recommendation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95" name=""/>
          <p:cNvSpPr/>
          <p:nvPr/>
        </p:nvSpPr>
        <p:spPr>
          <a:xfrm>
            <a:off x="303120" y="450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35" name=""/>
          <p:cNvSpPr/>
          <p:nvPr/>
        </p:nvSpPr>
        <p:spPr>
          <a:xfrm>
            <a:off x="735120" y="395460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9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5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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่อนจะเข้าสู่เนื้อหาจะขอแนะนำตัววิทยากรก่อ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แนะนำตัว วิทยากรร่วม ผู้ช่วยวิทยากร หรือผู้ร่วมสังเกตการณ์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จ้าหน้าที่ฝึกอบรม ให้ชั้นเรียนรู้จัก </a:t>
            </a: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ให้ประวัติการทำงานคร่าวๆ และมุมมองที่วิทยากรมีต่อวิชาชีพตรวจสอบด้ว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้อตกลงของชั้นเรีย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อความร่วมมือจากผู้เข้ารับการอบร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วลาเรีย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นเต็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วลาเริ่ม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ลิก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9.00 – 16.30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วลาพัก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แฟ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ช้า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0.30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–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10.45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บ่าย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4.30 – 14.45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ที่ยง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2.00 – 13.00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รงต่อเวลา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ิดป้ายชื่อ ตลอดเวลา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ไม่ทิ้งของมีค่าไว้ในห้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บรรยากาศ ขอให้เป็นกันเอง สามารถลุกออกไปพักทานน้ำ หรือเข้าห้องน้ำได้ทันท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รุณาอย่ารบกวนผู้อื่นระหว่างบรรยาย ควรปิดมือถือหรือใช้ระบบสั่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รให้ทุกคนมีส่วนออกความเห็นในการอภิปรายในกลุ่ม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พูดทีละคน ไม่ขัดจังหวะ คุยกันเอง หรือคุยโทรศัพท์ระหว่างที่คนอื่นกำลังแสดงความเห็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ลาขอให้แจ้งเจ้าหน้าที่ฝึกอบรมเพื่อบันทึกเวลา มีผลกับการเก็บ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pe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ผล นอกจากดูเวลาเข้าเรียนแล้ว ยังรวมไปถึงการประเมินโดยวิทยากรในด้านการมีส่วนร่วมในการระดมความคิดและทำงานเป็นกลุ่ม ความตั้งใจและคุณภาพของงานที่นำเสนอ และพัฒนาการของผู้เข้ารับการอบรมอีก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ถูกออกแบบให้ทุกคนมีส่วนร่วมมากที่สุด สิ่งที่จะได้จากชั้นเรียนก็คือสิ่งที่ทุกคนให้แก่ชั้นเรีย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วังว่าทุกคนจะซักถาม ออกความเห็น แบ่งปันประสบการณ์ มุมมอง มากที่สุด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อกจากการเรียนก็หวังว่าจะได้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ฝึกทักษะการฟัง การพูด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esent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สัมภาษณ์ และการแก้ปัญห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หนืออื่นใด อยากให้สนุกกับชั้นเรียน และ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ำความรู้จักเพื่อนใหม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ต่างองค์กรในวิชาชีพเดียว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ุดนี้โดยทั่วไป บรรยากาศในชั้นเรียนควรจะกระตือรือร้นและมีความร่วมมือมากขึ้น พร้อมที่จะเข้าสู่ตัวหลักสูตร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36" name=""/>
          <p:cNvSpPr/>
          <p:nvPr/>
        </p:nvSpPr>
        <p:spPr>
          <a:xfrm>
            <a:off x="303120" y="4962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785880" y="352260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-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เที่ยง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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รื่องที่ตรวจพบมีองค์ประกอบและคุณลักษณะ </a:t>
            </a:r>
            <a:r>
              <a:rPr b="1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ประการ ดัง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้อเท็จจริง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dition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สิ่งที่พบจากการ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at does exists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ึ่งอาจเป็นไปตามหลักเกณฑ์ที่กำหนดหรือไม่ก็ได้ เช่น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จากการตรวจสอบพบว่าเจ้าหน้าที่การเงินไม่ได้ออกใบเสร็จรับเงินให้ลูกค้าทุกครั้งที่รับเงิน การบันทึกบัญชีไม่ตรงกับเอกสารประกอบ ทรัพย์สินที่จัดเก็บเสื่อมสภาพ หรือ ไม่ได้ออกใบส่งสินค้าทุกครั้งที่ขายสินค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ป็นต้น  ในการตรวจสอบ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”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ือเป็นหัวใจสำคัญของเรื่องที่ตรวจพบ จึงต้องมีข้อมูลสนับสนุนที่เพียงพอ ตรงประเด็นและสอดคล้องกับวัตถุประสงค์ของการตรวจสอบ หากไม่ถูกต้อ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่อมทำให้ประเด็นผิดพลา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ได้มาซึ่งข้อเท็จจริงที่ถูกต้องจึงจำเป็นและสำคัญ ต้องมีกระบวนการตรวจสอบ การรวบรวมข้อมูล ประเมิน วิเคราะห์ ทดสอบ สอบทานและการควบคุมคุณภาพที่เป็นระบบและได้มาตรฐ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ลักเกณฑ์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riteria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มาตรฐานที่ใช้อ้างอิงเปรียบเทียบในกระบวนการตรวจสอบ ซึ่งโดยหลักการทั่วไปแล้ว สิ่งที่ผู้ตรวจสอบภายในใช้อ้างอิงหรือเปรียบเทียบ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โยบาย ระเบียบ วิธีปฏิบัติงาน แผนงาน มาตรฐาน เป้าหมาย วัตถุประสงค์ ข้อกำหนดต่างๆที่กำหนดขึ้นในองค์ก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ฎหมาย ข้อกำหนด ของหน่วยงานกำกับดูแลที่ต้องปฏิบัติตาม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ำราหรือแนวปฏิบัติอันเป็นสากลและเอกสารอ้างอิงต่างๆ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รณีที่ไม่มีนโยบายหรือระเบียบปฏิบัติต่างๆ ผู้ตรวจสอบต้องมั่นใจว่าหลักเกณฑ์ที่ใช้อ้างอิงถูกต้องและเป็นที่ยอมรับของผู้รับตรวจด้วย หากใช้หลักเกณฑ์ที่ผิดพลาดหรือเป็นไปไม่ได้มาเปรียบเทียบ ก็จะทำให้ประเด็นและข้อเสนอแนะไม่เป็นที่ยอมรับเนื่องจากนำไปปฏิบัติไม่ได้ และเสียเวลาของทุกฝ่ายไปโดยเปล่าประโยชน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าเหตุ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use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ต้นเหตุของความแตกต่างระหว่างหลักเกณฑ์กับข้อเท็จจริ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Why the difference exists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ตรวจอาจยอมรับความเสี่ยงของความแตกต่า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ือเป็นเรื่องไม่มีนัยสำคัญ หรืออาจตัดสินใจใช้การควบคุมอื่นชดเชยก็ได้ หรืออาจไม่พร้อมจากงบจำกัด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้น ในการตรวจสอบ อาจช่วยกันหาสาเหตุเพื่อกำหนดทางแก้ไ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จากตัวอย่าง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จ้าหน้าที่การเงินไม่ได้ออกใบเสร็จรับเงินให้ลูกค้าทุกครั้งที่รับเงิน อาจมีสาเหตุจากไม่ได้กำหนดระเบียบไว้ชัดเจน หรือไม่มีการตรวจยอดเงินรับกับใบเสร็จรับเงินประจำวัน หรืออาจเกิดจากความผิดพลาดของเจ้าหน้าที่รับเงินก็ได้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ผู้ตรวจสอบไม่หาสาเหตุของความแตกต่า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ไม่สามารถกำหนดข้อเสนอแนะหรือแนวทางการแก้ไขได้ถูกต้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ลกระทบ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Effect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ผลของความแตกต่างที่เกิดขึ้นซึ่งอาจสร้างความเสียหายแก่องค์ก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mpact of the differenc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พิจารณาถึงผลกระทบที่มีต่อการดำเนินงาน และงบการเงินขององค์กร เช่น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สูญเสียรายได้ ขาดทุน มีค่าใช้จ่ายสูงขึ้น ประสิทธิภาพไม่ดี ไม่สามารถบรรลุวัตถุประสงค์หรือเป้าหมายที่วางไว้ ขั้นตอนซับซ้อน บริการลูกค้าล่าช้า เสื่อมเสียชื่อเสียง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้น  ควรพิจารณาระดับความรุนแร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จากตัวอย่างรับเงินไม่ออกใบเสร็จ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าจทำให้ไม่มีการบันทึกบัญชี ไม่นำเงินฝากธนาคาร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รือฝากล่าช้า เป็นช่องทางทุจริต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และน่าจะเสี่ยงสู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ลกระทบจะกำหนดว่าสิ่งที่ตรวจพบมีนัยสำคัญหรือสมควรรายงานหรือไม่ เรื่องเล็กน้อย อาจเลือกรายงานด้วยวาจ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ไม่เสียเวลาในการจัดทำรายง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ข้อเสนอแนะ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commendation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 แนวทางในการแก้ปัญหา ในการเขียนข้อเสนอแนะ ผู้ตรวจสอบภายในควรต้องพิจารณาจากข้อเท็จจริงที่ตรวจพบว่ามีสาเหตุมาจากอะไร การเขียนข้อเสนอแนะต้องมีแนวทางเพื่อแก้ไขปัญหา ไม่ใช่เพียงบอกว่าให้พิจารณาแก้ไข ดังนั้นข้อเสนอแนะที่ดีจึงต้องชัดเจน โดยอาจมีทางเลือกในการแก้ไขปัญหาให้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ั้นตอนการเขียนประเด็นเรื่องที่ตรวจพบมีความสำคัญมาก ในการที่จะทำให้ผู้ตรวจสอบรับฟังอย่างเห็นด้วยและยินดีปรับปรุงตามข้อเสนอของผู้ตรวจสอบ หลายครั้งที่มักพบว่า รายงา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เด็นของผู้ตรวจสอบขาดความน่าเชื่อถือ หรือไม่มีประโยชน์เพราะผู้ตรวจสอบไม่ให้ความสำคัญกับหลักฐานของสาเหตุ หลังพักทานข้าวเราจะมาดูกันต่อถึงวิธีการเขียนประเด็นที่นำไปสู่การแก้ไขปรับปรุ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999" name=""/>
          <p:cNvSpPr/>
          <p:nvPr/>
        </p:nvSpPr>
        <p:spPr>
          <a:xfrm>
            <a:off x="374760" y="40989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00" name=""/>
          <p:cNvSpPr/>
          <p:nvPr/>
        </p:nvSpPr>
        <p:spPr>
          <a:xfrm>
            <a:off x="230040" y="86104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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714240" y="359568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ั้นตอนการเขียนประเด็นเรื่องที่ตรวจพบมีความสำคัญมาก ในการที่จะทำให้ผู้ตรวจสอบรับฟังอย่างเห็นด้วยและยินดีปรับปรุงตามข้อเสนอของผู้ตรวจสอบ หลายครั้งที่มักพบว่า รายงา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เด็นของผู้ตรวจสอบขาดความน่าเชื่อถือ หรือไม่มีประโยชน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ข้อเท็จจริ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dition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ี่ระบุเพียง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อาการของ ปัญห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แต่ไม่ได้ระบุว่าปัญหาจริงๆ มาจากไห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ค้ำประกันของลูกค้าในตู้จัดเก็บสัญญายังไม่ได้ลงนา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คืออะไรกันแน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าดระบบติดตาม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าดการสอบท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็คและใบเสร็จรับเงินของบริษัทไม่ได้ถูกใช้เรียงตามลำดับเลข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หรือไม่ได้สื่อสารแนวปฏิบัติ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จ้าหน้าที่ไม่เอาใจใส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การตรวจสอบแบบฟอร์มคงเหลื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ะเบียนคุมการเข้าออกศูนย์คอมพิวเตอร์ไม่เป็นปัจจุบั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คนตรวจเช็คก่อนเข้า ไม่แลกบัตร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ผู้รับผิดชอบไม่เอาใจใส่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ัวหน้าไม่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บิกจ่ายงบประมาณล่าช้ากว่าเป้าหมา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0,00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้านบาท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การติดตาม รายงา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าดบุคลากร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แผนงานไม่สามารถปฏิบัติได้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ครื่องจักรในสายการผลิต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ครื่องอยู่ในสภาพที่ใช้งานไม่ได้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ป็นปัญหาการซ่อมบำรุ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ายุใช้งา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ช้งานผิดวิธ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ุบัติเหตุ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ก่อสร้างอาคารหยุดชะงักเนื่องจากขาดแหล่งเงินสนับสนุ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cost overrun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ได้วางแผนกันเงินไว้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ประสานงานไม่ดี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7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ขายเครื่องคอมพิวเตอร์ให้บริษัทได้รับชำระเงินก่อนมีการตรวจรับสินค้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มีการแบ่งแยกหน้าที่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วอย่างอื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8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พบต้นฉบับสัญญากู้เงิ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 ในตู้จัดเก็บสัญญ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คืออะไรกันแน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าย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จัดเก็บเป็นที่ 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ทะเบียนไม่เป็นปัจจุบ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9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ูกค้าร้องเรียนว่า แจ้งยกเลิกใช้บริการนานกว่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แล้ว ยังไม่ได้รับเงินค่ามัดจำคื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งื่อนไขการเลิกบริการ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ลักฐานของลูกค้า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ระบวนการรับข้อร้องเรียนและติดตามการแก้ไข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0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จ้าหน้าที่ให้บริการตู้นิรภัย ปฏิบัติการได้ตลอดทุกขั้นตอ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มีการแบ่งแยกหน้าที่ไหม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ผู้ตรวจสอบไม่ทราบสาเหตุ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ปัญหาที่แท้จริง ข้อเสนอแนะต่างๆ ที่ให้ก็ย่อมจะไม่เหมาะสมหรือไม่สามารถแก้ปัญหาได้อย่างถาวร ดังตัวอย่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04" name=""/>
          <p:cNvSpPr/>
          <p:nvPr/>
        </p:nvSpPr>
        <p:spPr>
          <a:xfrm>
            <a:off x="230040" y="4314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785880" y="352260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ผู้ตรวจสอบไม่ทราบสาเหตุ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ปัญหาที่แท้จริง ข้อเสนอแนะต่างๆ ที่ให้ก็ย่อมจะไม่เหมาะสมหรือไม่สามารถแก้ปัญหาได้อย่างถาวร ดังตัวอย่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ข้อเสนอแนะที่แสดงถึงการขาดการวิเคราะห์ปัญหา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ผู้ตรวจสอบพบเจ้าหน้าที่คีย์ข้อมูลเลขประจำตัวลูกค้าผิด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5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ายการในเดือนสิงหาคม ทำให้ส่งใบทวงหนี้ผิดคน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จ้าหน้าที่ควรระมัดระวังในการคีย์ข้อมูลสำคัญให้ถูกต้อ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รมี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check digit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ป็น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input control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ในเลขประจำตัวลูกค้าเพื่อให้มั่นใจว่าคีย์ข้อมูลถูกต้อง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จ้าหน้าที่แผนกสำรวจเบิกเบี้ยเลี้ยงในวันที่เดินทางไปปฏิบัติงานไม่ครบจำนวนชั่วโมงตามหลักเกณฑ์ที่สำนักงานกำหนด จำนว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34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รั้ง ในปี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254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x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วมเป็นเงิ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23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,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228.25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บาท 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วรดำเนินการทางวินัยกับเจ้าหน้าที่แผนกสำรวจ และเรียกคืนเบี้ยเลี้ยงที่เบิกเกินหลักเกณฑ์ให้สำนักงา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จ้าหน้าที่ไม่ทราบหลักเกณฑ์ ส่วนเจ้าหน้าที่ฝ่ายการเงิน และผู้อนุมัติก็ไม่ได้ตรวจสอบให้ดีก่อนให้เบิก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พนักงานเขียน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password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สำหรับเข้าใช้ระบบงานสำคัญ ลงบนกระดาษโน๊ตและปิดไว้ในที่ที่เห็นได้โดยเปิดเผ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พนักงานควรรักษา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password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ป็นความลับเฉพาะตัว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งค์กรควรจัดให้มีและสื่อสารนโยบายความปลอดภัยระบบสารสนเทศอย่างเป็นทางการ และอบรมพนักงานให้ตระหนักถึงความเสี่ยงและเห็นความสำคัญของการรักษาความปลอดภัย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ลองพยายามยกตัวอย่างอื่น ที่ใกล้เคียงประสบการณ์ของผู้เข้าอบรม เช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ทะเบียนคุมคลังพัสดุไม่เป็นปัจจุบันเนื่องจากพนักงานคุมคลังสินค้าไม่บันทึกรายการทันทีที่นำสินค้าเข้าออกคลัง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วรบันทึกรายการทันทีที่นำสินค้าเข้าออกคลั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งค์กรควรแบ่งแยกหน้าที่ผู้ดูแลทรัพย์สินออกจากผู้บันทึกรายการ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ผู้ตรวจสอบตรวจนิติกรรมสัญญา พบว่า มี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12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ายการที่  พยานยังไม่ได้ลงนาม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เมื่อทำสัญญา ควรให้พยานลงนามทุกครั้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ตรวจสอบสัญญาก่อนจัดเก็บ หรือดำเนินธุรกรรมตามสัญญาไม่รัดกุม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จากการตรวจสอบพบว่า หน่วยงานไม่ได้ออกใบเสร็จรับเงินค่าธรรมเนียม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6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รายกา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การรับค่าธรรมเนียม ต้องออกใบเสร็จทุกครั้ง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ได้เจตนาโกงเพราะนำเงินส่ง แต่อาจขาดแนวปฏิบัติ ส่วนฝ่ายการเงินเองก็ควรรู้ตั้งแต่ตอน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reconcile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สิ้นวัน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ฝ่ายขายมีเป้าหมายยอดขาย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พันล้านบาทในปีนี้ ณ สิงหาคม ฝ่ายขายมียอดขายเพิ่มขึ้นเพียง 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750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ล้านบาท ผู้ตรวจสอบเห็นว่าอาจไม่บรรลุเป้าหมายที่กำหนดไว้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หน่วยควรเร่งยอดขาย เพื่อให้บรรลุเป้าหมายที่ต้องการ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ระบบในการติดตามเทียบกับแผน กระบวนการวางแผนและบริหารความเสี่ยงมีปัญหา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การจ้างพนักงานขายใหม่ล่าช้ามากไม่ทันกับอัตราการลาออกซึ่งสูงกว่าอุตสาหกรรม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ฝ่ายบุคคลควรดำเนินการจ้างให้เร็วขึ้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ควรหาสาเหตุการลาออกโดยจัดให้มี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exit interview, employee satisfaction survey, salary survey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และกำหนด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minimum recruitment turnaround time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ป็น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KPI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องฝ่ายบุคคล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ตรวจพบ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การก่อสร้างอาคารสำนักงานใหม่หยุดชะงักเนื่องจากต้นทุนสูงกว่างบประมาณที่ตั้งไว้ถึง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230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ล้านบาท จากผลขาดทุนอัตราแลกเปลี่ยนและวัสดุก่อสร้างขึ้นราคา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ควรพิจารณาหาแหล่งเงินและเพิ่มงบประมาณให้เพียงพอ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าดการประเมิน จัดการความเสี่ยงและวางแผนการเงินที่ดี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บื้องหลังสาเหตุ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ปัญหาและอาการต่างๆ มาจากการบริหารจัดการที่ไม่ดีทั้งสิ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08" name=""/>
          <p:cNvSpPr/>
          <p:nvPr/>
        </p:nvSpPr>
        <p:spPr>
          <a:xfrm>
            <a:off x="303120" y="4027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628640" y="71424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714240" y="386856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บื้องหลังสาเหตุ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Cause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งปัญหาและอาการต่างๆ มักมาจาก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บริหารจัดการ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ที่ไม่ด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aus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ปัญหามักมาจาก การบริหารจัดการ ไม่ดีในเรื่อ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วางแผ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lanning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จัดองค์กร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rganizing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สั่งการ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irecting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ละการควบคุ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trolling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ังตัวอย่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ลูกค้าได้รับบริการเคลมประกันช้า หรือเรื่องหายไปเฉยๆ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ใช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น่วยเคลมไม่มีประสิทธิภาพ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เป็นปัญหาการบริหารจัดการไม่ด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ขาดระบบทะเบียนกลางในการติดตาม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Planning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สินค้าที่ผลิตถูกตีกลับเพราะคุณภาพไม่ได้มาตรฐาน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ใช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การตรวจคุณภาพไม่ดี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เป็นปัญหาการบริหารจัดการไม่ด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เจ้าหน้าที่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QC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อยู่ใต้บังคับบัญชาของฝ่ายผลิต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Organizing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ฝ่ายประมวลผลพิมพ์และจัดส่งรายงานที่ไม่เป็นประโยชน์แก่ผู้ใช้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ใช่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โปรแกรมเมอร์ไม่เก่ง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เป็นปัญหาการบริหารจัดการไม่ด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ฝ่ายประมวลผลไม่ทราบเพราะผู้ใช้ไม่เคยให้ 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Feedback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Directing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โครงการของฝ่ายวิศวกรรมล่าช้ากว่ากำหนด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ใช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วิศวกรไม่เอาใจใส่ทำงาน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เป็นปัญหาการบริหารจัดการไม่ด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มีการรายงานความคืบหน้าและประเมินงานที่ล่าช้า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  <a:ea typeface="Tahoma"/>
              </a:rPr>
              <a:t>Controlling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น่าจะได้เวลาที่เราจะทบทวนความเข้าใจในการเขียนเรื่องที่ตรวจพบหรือประเด็น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" y="473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13" name=""/>
          <p:cNvSpPr/>
          <p:nvPr/>
        </p:nvSpPr>
        <p:spPr>
          <a:xfrm>
            <a:off x="230040" y="5396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"/>
          <p:cNvSpPr/>
          <p:nvPr/>
        </p:nvSpPr>
        <p:spPr>
          <a:xfrm>
            <a:off x="544680" y="345132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-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น่าจะได้เวลาที่เราจะทบทวนความเข้าใจในการเขียนเรื่องที่ตรวจพบหรือประเด็น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อาจให้เล่นเก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X Man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ปด้วยในกรณีศึกษานี้ เพื่อฝึกทักษะการสังเกตและการสื่อสาร โดยแจกฉลากให้ทุกคนในกลุ่มคนละ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บและแจ้งว่า ใครที่ได้เครื่องหมา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้ทำตัวดีร่วมมือร่วมใจ และคนเดียวในกลุ่มที่ได้เครื่องหมา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ะมีหน้าที่เป็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X Ma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อยขัดขวางการทำงานของกลุ่ม โดยห้ามบอกหรือส่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gnal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ัน ถ้าสงสัยให้เก็บไว้ในใจก่อนจนกว่าจะได้รับอนุญาตให้พูดได้ เมื่อเฉลย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as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ให้ทายว่าใครเป็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X Ma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ามเหตุผล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ามคนที่ถูกสงสัยว่ารู้สึกอย่างไร เขาคิดว่าใครเป็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ฉลยโดยให้ทุกคนแสดงฉลากที่ถืออยู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รุปว่า คนเรามักตั้งธงหรือเกิดอคติกับคนอื่นได้ง่า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มองว่าข้อโต้แย้งเกิดจากเจตนาที่ไม่ดี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ึงควรปรับปรุงการสื่อสารของเราให้เป็นบวก และสังเกตสิ่งต่างๆ ด้วยใจที่เป็นกลา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ลิงไหม้โรงง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องค์ประกอบครบที่จะเป็นประเด็นจากการตรวจสอบ คือ หลักเกณฑ์ เงื่อนไขหรือข้อเท็จจริงที่พบ ผลกระทบ สาเหตุของปัญหาหรือไม่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คร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ที่พบได้ครอบคลุมทุกเงื่อนไขที่สัมพันธ์กับวัตถุประสงค์การตรวจสอบหรือไม่ 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มีการรายงานถึงผลกระทบและสาเหตุของปัญหา นอกจากการอ้างลอยๆ ว่าพนักงานละเลยการใช้บริเวณที่จัดไว้สำหรับสูบบุหรี่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เป็นข้อเท็จจริงในวันเกิดเหตุหรือไม่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ายงานการตรวจสอบไม่ควรระบุเพียงเวลาของการเสนอรายงานการตรวจสอบ แต่ควรระบุเวลาที่ดำเนินการตรวจสอบด้วย รายงานอาจระบุเรื่องนี้ไว้ที่อื่น แต่ก็ไม่ได้อ้างเอาไว้ในส่วนที่คัดม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เสนอข้อสรุปของวัตถุประสงค์การตรวจ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 ทิ้งให้ผู้อ่านเข้าใจเองว่า การควบคุมที่ควรจะมี คือ การจำกัดให้สูบบุหรี่ในสถานที่ที่จัดไว้ และการควบคุมดังกล่าวได้ถูกฝ่าฝืนอยู่เสมอ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ูบบุหรี่มีส่วนเกี่ยวข้องกับเหตุเพลิงไหม้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ทราบ ผู้ตรวจสอบไม่ได้ระบุว่าบริเวณที่จัดไว้เป็นสถานที่สำหรับสูบบุหรี่อยู่ห่างจากโรงงานอย่างเพียงพอ หรือเหตุผลที่ทำให้ผู้ตรวจสอบเชื่อว่าการฝ่าฝืนเรื่องการสูบบุหรี่มีส่วนเกี่ยวข้องกับเหตุเพลิงไหม้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สนอแนะมีน้ำหนักเหตุผลไหม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ึ้นกับว่า ก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้อเสนอแนะตรงกับสาเหตุของปัญหาหรือไม่ และ ข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ีความเป็นไปได้เพียงใดที่ข้อเสนอแนะจะช่วยแก้ปัญหาได้จริง การที่รายงานไม่กล่าวถึงสาเหตุของปัญหา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วมถึงสิ่งอื่นๆ ด้ว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ำให้ประเมินได้ยาก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คือหลักฐานการตรวจสอบในรายงาน หลักฐานเชื่อถือได้  และเพียงพอหรือไม่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ชัดเจน ผู้ตรวจสอบน่าจะได้สังเกตป้ายสัญลักษณ์เตือน และพูดคุยกับพนักงานบางคน  แม้จะไม่ต้องถึงกับบรรยายวิธีการตรวจสอบโดยละเอียด อย่างน้อยผู้ตรวจสอบก็ควรสรุปลักษณะของหลักฐานที่รวบรวมได้ในรายงานพอสังเขป เพื่อสนับสนุนว่า ข้อสังเกต ผลสรุป และข้อเสนอแนะมาจากหลักฐานที่เชื่อถือได้  ถ้ามีหลักฐานประกอบเพียง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2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้อดังกล่าวก็ถือว่าไม่เพียงพออย่างยิ่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เราได้เรียนรู้ กระบวนการตรวจสอบ ตั้งแต่ 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เตรียมการสำหรับงานตรวจสอบ เริ่มตั้งแต่การศึกษาข้อมูลพื้นฐาน กำหนดวัตถุประสงค์ ขอบเขตการตรวจสอบ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ำรวจเบื้องต้น  ทำความเข้าใจหน่วยรับตรวจ สอบทานวิธีการควบคุมภายใน กำหนด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ดสอบ เก็บหลักฐาน และจัดทำเรื่องที่ตรวจพบ แล้ว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่อจากนี้ เราจะพูดถึงขั้นตอนสุดท้ายของกระบวนการตรวจสอบ คือ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รายงานผลการตรวจสอบและการติดตามผล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17" name=""/>
          <p:cNvSpPr/>
          <p:nvPr/>
        </p:nvSpPr>
        <p:spPr>
          <a:xfrm>
            <a:off x="230040" y="8394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18" name=""/>
          <p:cNvSpPr/>
          <p:nvPr/>
        </p:nvSpPr>
        <p:spPr>
          <a:xfrm>
            <a:off x="158760" y="53229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19" name=""/>
          <p:cNvSpPr/>
          <p:nvPr/>
        </p:nvSpPr>
        <p:spPr>
          <a:xfrm>
            <a:off x="158760" y="4734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20" name=""/>
          <p:cNvSpPr/>
          <p:nvPr/>
        </p:nvSpPr>
        <p:spPr>
          <a:xfrm>
            <a:off x="230040" y="409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ได้เรียนรู้ กระบวนการตรวจสอบ ตั้งแต่ 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เตรียมการสำหรับงานตรวจสอบ เริ่มตั้งแต่การศึกษาข้อมูลพื้นฐาน กำหนดวัตถุประสงค์ ขอบเขตการตรวจสอบ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3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ำรวจเบื้องต้น  ทำความเข้าใจหน่วยรับตรวจ สอบทานวิธีการควบคุมภายใน กำหนด 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Audit Program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4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ดสอบ เก็บหลักฐาน และจัดทำเรื่องที่ตรวจพบ แล้ว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เราจะพูดถึงขั้นตอนสุดท้ายของกระบวนการตรวจสอบ คือ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รายงานผลการตรวจสอบและการติดตามผล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หลักของการรายงานเป็นลายลักษณ์อักษร เพื่อบันทึกสิ่งที่ตรวจพบและข้อแนะนำให้แก้ไข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ภทของรายงา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ระหว่างกาล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erim Repor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รายงานที่จัดทำทันทีเมื่อ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บปัญหา หรือเรื่องที่สำคัญที่ต้องแก้ไขโดยเร่งด่ว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ช่น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พบว่าเงินสดหรือสินค้าสูญหายเป็นจำนวนมาก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พบสัญญาณบ่งชี้และหลักฐานที่ควรเชื่อว่ามีการทุจริตและจำเป็นต้องมีการสืบสวนพิเศษเพิ่มเติม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3333ff"/>
                </a:solidFill>
                <a:latin typeface="Tahoma"/>
                <a:cs typeface="Tahoma"/>
              </a:rPr>
              <a:t>การเปิดสายการผลิตใหม่ทำให้คุณภาพน้ำเสียที่ปล่อยจากโรงงานไม่ได้มาตรฐานตามกฎหมาย ฯลฯ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ซึ่งหากไม่ป้องกันหรือแก้ไขโดยทันทีแล้ว จะทำให้เกิดความเสียหายหรือขยายความเสียหายมากขึ้น นอกจากนี้ยังใช้ในกรณี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จ้งเปลี่ยนขอบเขตของการตรวจสอบหรือยืดอายุโครงการตรวจสอบ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รณีที่การตรวจสอบจำเป็นต้องใช้เวลานานกว่ากำหนด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สรุป 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ummary Repor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สำหรับนำเสนอต่อผู้บริหารระดับสูง โดยสรุปภาพรวมและเรื่องที่สำคัญที่ผู้บริหารระดับสูงควรทรา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การตรวจสอบขั้นสุดท้าย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Final Audit Report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จัดทำทุกครั้ง ถึงแม้ว่าได้มีการรายงานระหว่างกาลหรือผู้รับการตรวจสอบได้ดำเนินการแก้ไขตามประเด็นที่ตรวจพบเสร็จเรียบร้อยแล้ว รายงานขั้นสุดท้ายคือรายงานที่ต้องจัดทำหลังจากมีการประชุมสรุปผลแล้ว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24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0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ประกอบของรายงา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ครอบคลุมเรื่องดังต่อไป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ตถุประสงค์ของ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บเขตของ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ซึ่งประกอบไปด้วย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ื่องที่ตรวจพ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เสนอแนะ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Cord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นวทางและแผนการแก้ไข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ผนการแก้ไขของผู้รับการตรวจสอบที่ได้จากการประชุมสรุปผลว่าผู้รับการตรวจสอบเห็นด้วยกับข้อเสนอแนะหรือไม่ มีแนวทางและแผนการดำเนินการแก้ไขอย่างไร และคาดว่าจะแล้วเสร็จเมื่อไ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Cord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สรุปหรือความเห็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ผลการประเมิ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โดยรวมของผู้ตรวจสอบว่า เรื่องที่ตรวจสอบเป็นไปตามที่คาดหมาย หรือวัตถุประสงค์เป้าหมายองค์กรได้บรรลุ ตามที่กำหนดในวัตถุประสงค์การตรวจสอบหรือไม่ การตรวจสอบอาจมีหลายวัตถุประสงค์ เช่น การปฏิบัติตามนโยบายและระเบียบขององค์กร ประสิทธิภาพของการดำเนินงาน และการดูแลรักษาทรัพย์สิน เป็นต้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หากผลพบว่าการควบคุมบางวัตถุประสงค์ดี แต่บางวัตถุประสงค์ยังไม่เพียงพอ ผู้ตรวจสอบก็อาจเขียนข้อสรุปหรือความเห็นแยกเป็นรายวัตถุประสงค์ หรืออาจเขียนยกเว้น เช่น การควบคุมภายในอยู่ในเกณฑ์ดี ยกเว้นแต่ในเรื่องที่จะรายงาน ก็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ขียนข้อสรุปมีหลายวิธี  บางองค์กรกำหนดเป็นระดับมาตรฐานชัดเจน เช่น ประสิทธิผลของการควบคุมหรือผลการประเมินอยู่ในระดับ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ดีมาก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Satisfactory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ระดับดี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Generally Satisfactory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ระดับพอใช้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Less Than Satisfactory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หรือระดับไม่น่าพอใจ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Unsatisfactory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้น ซึ่ง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วรจัดทำเป็นหลักเกณฑ์ชัดเจนและสื่อสารให้ผู้ตรวจสอบและผู้รับตรวจทรา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พื่อลดข้อโต้แย้งที่อาจมีขึ้น และลดความรู้สึกไม่สบายใจของผู้รับตรวจจากการที่ผลตรวจสอบออกมาในเกณฑ์พอใช้หรือไม่น่าพอใ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อกจากนี้ ถ้าจำเป็นรายงานการตรวจสอบควรมีรายละเอียดดังต่อไปนี้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้อมูลพื้นฐา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ำอธิบายเกี่ยวกับหน่วยงานหรือกิจกรรมที่ตรวจสอบ หรือข้อมูลสำคัญที่จำเป็นหรือควรรู้เกี่ยวกับการตรวจสอบนั้นๆ โดยสรุป เช่น ฐานะการเงิน โครงสร้าง เป็นต้น  ควรรวมถึ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ถานะของการตรวจสอบครั้งก่อน และระบุว่าการตรวจสอบครั้งนี้เป็นการตรวจสอบตามปกติหรือเป็นการตรวจสอบที่เป็นโครงการพิเศษ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ผู้ตรวจสอบควรบรรจุข้อมูลพื้นฐานไว้ในรายงาน เมื่อเห็นว่าจะทำให้ผู้รับรายงานเข้าใจหน่วยงานรับตรวจ มากขึ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ามเห็นของผู้รับการตรวจสอบเกี่ยวกับผลการตรวจสอบ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างกรณีผู้รับตรวจสอบอาจมีความเห็นเพิ่มเติมหรือไม่เห็นด้วยกับผู้ตรวจสอบ ซึ่งควรระบุในรายงานด้วยถ้าม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•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ชมเชยผลการดำเนินงาน หรือแนวการปฏิบัติที่ดีของผู้รับการตรวจสอบ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ากผู้รับตรวจได้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ปรับปรุงการดำเนินงานดีขึ้นจากการตรวจครั้งก่อน หรือมีการควบคุมที่ดีอยู่แล้ว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ถ้าเขียนไว้ในรายงานก็จะช่วยให้รายงานมีความสมดุล คือ รายงานทั้งส่วนที่ดีและส่วนที่ต้องปรับปรุงแก้ไข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28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"/>
          <p:cNvSpPr/>
          <p:nvPr/>
        </p:nvSpPr>
        <p:spPr>
          <a:xfrm>
            <a:off x="758880" y="352260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0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-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กาแฟ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ที่ดีจำเป็นอย่างยิ่งที่จะช่วยให้รายงานการตรวจสอบบรรลุวัตถุประสงค์ การที่จะเขียนรายงานให้มีคุณลักษณะที่ดี มีเทคนิคหรือหลักเกณฑ์ที่ควรพิจารณา ดัง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ำนึงถึงว่าใครเป็นผู้รับรายง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รายงานสำหรับผู้บริหารระดับสูงควรจัดทำเป็นรายงานสรุปที่สั้นกระชับ และเน้นเฉพาะประเด็นที่สำคัญ เช่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ไม่เกินหนึ่งหรือสองหน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ถ้าผู้รับเป็นผู้บริหารในระดับกลางควรจัดทำรายงานการตรวจสอบให้มีรายละเอียดของเรื่องที่ตรวจพบอย่างเพียงพอ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ัดลำดับเรื่องสำคัญ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รือเรื่องที่มีความเสี่ยงสูงและมีผลกระทบสูง ไว้ในลำดับแรกๆ จัดเนื้อหาที่เสนอและนำหนักที่เหมาะส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tent and Ton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ี้ให้เห็นถึง ปัญหา สาเหตุของปัญหาและผลกระทบที่มี ซึ่งอาจเป็นข้อผิดพลาดที่ปรากฏแล้ว หรือความเสี่ยงที่ไม่ได้ถูกจัดการ เพื่อปรับปรุงแก้ไข ไม่ชักช้า จัดทำโดยเร็ว ข้อมูลที่ทันสมัย ทันต่อการปรับปรุงแก่ไข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ในเชิงบวกหรือสร้างสรรค์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ปรับปรุงการปฏิบัติงาน พึงระวังถ้อยคำที่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วิพากย์ ติเตีย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รือวิจารณ์การทำงานของผู้รับการตรวจสอบ เช่น ประสิทธิภาพ ศักยภาพ สมรรถภาพ ไม่เหมาะสม ไม่สมควร ไม่ถูกต้อ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ัดกุม แสดงการตำหนิ วิพากษ์วิจารณ์บุคคลเกิดความเสียหาย ส่อไปทางทุจริต ขาดความระมัดระวังรอบคอบ ขาดความรับผิดชอบ ฯลฯ ไม่บิดเบือนจากความจริง ที่ได้รับจากการตรวจสอบ ไม่อคติ กับผู้รับการตรวจ และระมัดระวังเรื่องความสัมพันธ์ส่วนตัว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เฉพาะข้อมูลที่เกี่ยวข้อ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แต่ละประเด็น มีข้อมูลที่จำเป็นต่อ ผู้ใช้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อ่านเพื่อให้เกิดความเข้าใจ อย่างครบถ้วน  ผลจากการประชุมสรุปผลให้ใส่เฉพาะสิ่งที่เกี่ยวข้องหรือที่ได้จากการประชุมสรุปผลเท่านั้น </a:t>
            </a:r>
            <a:r>
              <a:rPr b="0" lang="th-TH" sz="900" spc="-1" strike="noStrike" u="sng">
                <a:solidFill>
                  <a:srgbClr val="3333ff"/>
                </a:solidFill>
                <a:uFillTx/>
                <a:latin typeface="Tahoma"/>
                <a:cs typeface="Tahoma"/>
              </a:rPr>
              <a:t>ถ้ามีรายละเอียดประกอบที่จะทำให้ประเด็นยาวมากกว่าหนึ่งหน้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วรจัดทำเป็นเอกสารแนบต่างหาก เพื่อง่ายต่อการอ่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ห้ใช้เทคนิคการเขียนที่เป็น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Action Wor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รตุวาจก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แต่ละประโยคควรมีใจความเดียว ใช้คำอย่างประหยัด ไม่ต้องมีการเขียนนำ เช่น ไม่ควรเขียนคำว่า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การตรวจสอบของผู้ตรวจสอบภายในพบว่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เขียนให้ชัดเจนเลยว่าพบอะ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ให้เห็นตัวอย่างที่ชัดเจนเพื่อสนับสนุนข้อเสนอแนะ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ช่น เขียนเพียงว่าเกิดความเสี่ยงทุจริต ต้องบอกได้ว่าเสี่ยงอย่างไร หรือผิดพลาดบ่อยครั้ง กี่ครั้งกันแน่ อะไรเป็นข้อเท็จจริง อะไรเป็นการคาดการณ์ อย่ารวม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เรื่องที่ตรวจพบอย่างเป็นเหตุเป็นผล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Logical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ปล่อยให้ผู้อ่านคาดเดาเอาเอง  สื่อให้ผู้รับรายงานเข้าใจ ในเนื้อหา แสดงข้อมูลที่เป็นเหตุเป็นผล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ให้ชัดเจน สั้นกระชับ แต่ครบถ้วนสมบูรณ์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ีกเลี่ยง คำ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ศัพท์เฉพาะทาง ถ้าจำเป็นต้องใช้ ต้องมีคำอธิบายด้วย ใช้ตาราง แผนผัง กราฟ ประกอบ และ ลำดับเนื้อเรื่องให้มีความต่อเนื่องกัน ไม่ได้หมายความเพียงว่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ให้สั้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ตัดคำที่ฟุ่มเฟือยออก ตัดข้อมูลที่ไม่เกี่ยวข้องกับประเด็นที่กล่าวถึ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ให้ถูกหลักไวยากรณ์ ใช้คำที่เข้าใจง่าย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ใช้ประโยคสั้นที่ชัดเจน ประธาน กริยา กรรม ใช้คำขยายแต่จำเป็น หลีกเลี่ยงถ้อยคำที่ไม่มีความชัดเจนว่า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ืออะไร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?”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ื่องที่ไม่เกี่ยวข้องไม่ต้องกล่าวถึง เสนอในหลักการ ที่เป็นเหตุเป็นผล สม่ำเสมอในการใช้คำจะทำให้ผู้อ่านไม่สับสน เช่น ลูกค้า ลูกหนี้ ผู้กู้ ผู้เช่าซื้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ิดถึงผู้อ่านเป็นสำคัญ ก่อนตัดสินใจใช้คำต่างๆต้องแน่ใจว่าผู้อ่านเข้าใจ ศัพท์เฉพาะควรมีคำอธิบายให้เข้าใจตรงกัน ใช้คำสุภาพ ตรงไปตรงมา ไม่กำกวม หรือใช้ภาษาที่ต้องให้ตีควา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งพักกาแฟ เราจะมาลองดูตัวอย่างรายงานที่มีข้อบกพร่อง และวิจารณ์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32" name=""/>
          <p:cNvSpPr/>
          <p:nvPr/>
        </p:nvSpPr>
        <p:spPr>
          <a:xfrm>
            <a:off x="303120" y="5538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33" name=""/>
          <p:cNvSpPr/>
          <p:nvPr/>
        </p:nvSpPr>
        <p:spPr>
          <a:xfrm>
            <a:off x="303120" y="8852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287360" y="744480"/>
            <a:ext cx="4183200" cy="3138480"/>
          </a:xfrm>
          <a:prstGeom prst="rect">
            <a:avLst/>
          </a:prstGeom>
          <a:ln w="0">
            <a:noFill/>
          </a:ln>
        </p:spPr>
      </p:sp>
      <p:sp>
        <p:nvSpPr>
          <p:cNvPr id="1035" name=""/>
          <p:cNvSpPr/>
          <p:nvPr/>
        </p:nvSpPr>
        <p:spPr>
          <a:xfrm>
            <a:off x="519120" y="3954600"/>
            <a:ext cx="594828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เขียนรายงา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ายงานนี้มีข้อบกพร่องตรงไหนบ้าง ถ้าคุณเป็นผู้ตรวจทาน   คุณจะแก้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ทำอะไร สรุปได้ว่าอย่างไร ตรงกับวัตถุประสงค์การตรวจไหม  ข้อเท็จจริงจากการตรวจคืออะไร น่าจะต่างจากเกณฑ์ไหม อย่างไร ผลกระทบคืออะไร อะไรเป็นสาเหตุที่แท้จริง คำแนะนำที่ถูกต้อง  ขาดหลักฐานที่ต้องเก็บเพิ่มเติม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ชื่อหัวข้อรายงานดี ประเด็นที่ตรวจพบน่าสนใจ มีความเสี่ย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มีข้อดีแค่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สุ่มหยิบแฟ้มลูกค้ามาดู ไม่ช่วยตรวจสอบความครบถ้วนของข้อมูล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ะดูประสิทธิผลของกระบวนการพิจารณาเครดิตควรดูแนวโน้มหนี้เสียหรือเปรียบเทียบอุตสาหกรร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ิธีการตรวจไม่สัมพันธ์กับวัตถุประสงค์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พิจารณาเครดิตโดยผู้ตรวจสอ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รรค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ภายในผล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้นวรรคตอนผิ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นุมัติสินเชื่อเกินกว่าอำนาจที่คณะกรรมการทำการ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มอบหมายให้บ่อยครั้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างคำขยายสับส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ลการตรวจสอบปรากฏพบว่า ไม่ได้ถูกทำการ ได้รับการ มีการ ดำเนินการ ในแง่ของ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ฟุ่มเฟือย ใช้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assive voice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อกสารสำคัญ ไม่อยู่ ข้อมูลหลักประกัน ไม่ถูกต้อง เงื่อนไขการปล่อยเงินกู้ บ่อยครั้ง แตกต่างกัน นานแล้ว ดังกล่าวนั้น ข้อบกพร่องที่เกิดขึ้นนั้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ะไร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ระบุไม่ชัดเจ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ิหารขาดความระมัดระวัง นายองอาจ ญาติระอาหรือผู้จัดการฝ่าย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Hire Perchase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นปัจจุบั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ดียวกั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ถ้ามีการเปลี่ยนผู้จัดการ เปลี่ยนเมื่อไหร่ เป็นข้อบกพร่องในช่วงที่เขาดูแลไหม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ควรระบุชื่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ังเกตุ ณ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วันสิ้นเดือ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Hire Perchase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BaLance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าเหต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215,3222.5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บา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องบาท อนุมัต คลั่งค้า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สะกดผิ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าดความระมัดระวังในการสังเกตุเงื่อนไขการปล่อยเงินกู้โดยยังคงมีการอนุมัติสินเชื่อเกินอำนาจ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ไม่ชัดเจน เป็นข้อเท็จจริงหรืออนุมา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ครอนุมาน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ะบบสินเชื่อ ระบบเช่าซื้อ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ลูกค้า ลูกหนี้ ผู้กู้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สม่ำเสมอ สับส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ระบบ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SAP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ั้งแต่แก้ไขผังบัญชีใ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Module FI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ืออะไร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?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คนเขียนเข้าใจอยู่คนเดียว จะให้เข้าใจว่าการแก้ผังบัญชีเป็นสาเหตุหรือเปล่าก็น่าจะว่าม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บ่อยครั้ง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สิ้นเดือนที่แล้ว คั่งค้าง เนิ่นนาน ขาดความระมัดระวัง ซีเรียส ให้มากกว่านี้ แก้เสียให้เรียบร้อย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ใช้คำไม่เหมาะสม เชิงตำหนิ ไม่สุภาพ ภาษาพูด ไม่เจาะจงชัดเ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กณฑ์สำคัญในการสอบท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 การจัดพิมพ์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ูปแบบที่เป็นมาตรฐานเดียวกั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ม่ำเสมอในการใช้คำ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ช้คำที่ควรระมัดระวั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ที่ผู้อ่านเข้าใจง่าย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ข้อเท็จจริง ที่พิสูจน์ได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อนุมาน ต้องระบุว่าอนุม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อบทานให้มั่นใจ ทั้งประเด็นที่พอใจ และประเด็นที่ต้องปรับปรุง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หลักฐานการตรวจสอบอ้างอิงพร้อม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เป็นลายลักษณ์อักษ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eview Note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8568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36" name=""/>
          <p:cNvSpPr/>
          <p:nvPr/>
        </p:nvSpPr>
        <p:spPr>
          <a:xfrm>
            <a:off x="230040" y="5180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37" name=""/>
          <p:cNvSpPr/>
          <p:nvPr/>
        </p:nvSpPr>
        <p:spPr>
          <a:xfrm>
            <a:off x="158760" y="4505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758880" y="352260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และแนวทางการดำเนินการประชุมสรุปผ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ของขั้นตอนนี้ก็เพื่อดำเนินการประชุมหารือร่วมกับผู้รับการตรวจสอบ เพื่อยืนยันว่าเรื่องที่ตรวจพบถูกต้องเป็นความจริง ผู้รับการตรวจสอบเห็นด้วยกับข้อเสนอแนะหรือไม่ และเพื่อกำหนดแนวทางการแก้ไขตลอดจนวันที่คาดว่าจะแก้ไขแล้วเสร็จ  ในบางกรณี ผู้รับการตรวจสอบอาจมีแนวทางวิธีการแก้ไขที่ดีกว่า หรือมีเหตุผลประกอบอื่นที่ดีกว่า ซึ่งทำให้ข้อเสนอแนะของผู้ตรวจสอบใช้ดำเนินการไม่ได้ หรือควรต้องยอมรับความเสี่ยงเป็นต้น  นอกจากนี้ ยังเป็นการเปิดโอกาสให้ผู้รับการตรวจสอบได้มีโอกาสชี้แจงและให้ความเห็นเพิ่มเติม ซึ่งในบางกรณีผู้ตรวจสอบอาจรวบรวมข้อมูลจากผู้ปฏิบัติงานโดยตรงทำให้ได้ข้อมูลที่คลาดเคลื่อน ไม่ครบถ้วนสมบูรณ์ก็เป็นได้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ลลัพธ์ของการประชุมสรุปผล เป็นไปได้หลายกรณี ดังนี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ัดประเด็นทิ้งไป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นื่องจาก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ditio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ข้อเท็จจริงผิดพลาด ไม่ถูกต้อง ถ้ามีมากจะถือว่าระบบการตรวจสอบขาดคุณภาพ ไม่มีการสอบทานที่ดี  ในระหว่างการตรวจสอบ ถ้าผู้ตรวจสอบภายในสามารถยืนยันเรื่องที่ตรวจพบว่าถูกต้อง ไม่ผิดพลาด จะช่วยลดปัญหาของการโต้แย้งในข้อเท็จจริง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 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condition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ูกต้อง แต่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เห็นด้วยกับข้อเสนอแนะ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รือมีแนวทางแก้ไขอื่นที่ผู้ตรวจสอบยอมรับ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การตรวจสอบเห็นว่าประเด็นถูกต้อง แต่เป็นเรื่องเล็ก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ไม่ควรรายงา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ซึ่งถ้าเป็นเรื่องเล็กจริงควรตัดออกจากรายงาน อย่างไรก็ตามหากมีการวิเคราะห์ผลกระทบเป็นอย่างดีแล้วโอกาสที่ผู้รับการตรวจสอบเห็นว่าเป็นเรื่องเล็กจะน้อยล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การตรวจสอบเห็นด้วย แต่ไม่แก้ไขโดย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ยอมรับความเสี่ยง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การตรวจสอบ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ห็นด้วยและจะดำเนินการแก้ไข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ร้อมกำหนดวันที่ที่คาดว่าจะดำเนินการแล้วเสร็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ห็นด้วยและได้แก้ไขเรียบร้อย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ระหว่าง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ั้นตอนนี้จึงเป็นขั้นตอนที่สำคัญที่สุดที่ต้องวางแผน และสอบทานอย่างรอบคอบ เพราะหากดำเนินการไม่ดี จะกระทบต่อเครดิต และความน่าเชื่อถือของหน่วยงานตรวจสอบเป็นอย่างมา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นัดประชุมสรุปผลจะใช้เทคนิคในการนำเสนอด้วยวาจาเป็นสำคัญ แต่ก่อนส่งร่างรายงาน หัวหน้าหน่วยงานตรวจสอบหรือหัวหน้าโครงการต้องมั่นใจว่า วัตถุประสงค์และขอบเขตของการตรวจสอบได้มีการบรรลุอย่างครบถ้วน มีการสอบทานและจัดทำกระดาษทำการประกอบอย่างครบถ้วนและสามารถอ้างอิง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41" name=""/>
          <p:cNvSpPr/>
          <p:nvPr/>
        </p:nvSpPr>
        <p:spPr>
          <a:xfrm>
            <a:off x="303120" y="4314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-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พักกาแฟ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ุกคนหรือส่วนใหญ่น่าจะเคยเห็นนิยามของการตรวจสอบภายใน เรามีความเข้าใจมันว่า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คือ การให้ความเชื่อมั่นและการให้คำปรึกษา อย่างเที่ยงธรรมและเป็นอิสระ เพื่อเพิ่มคุณค่าและปรับปรุงการดำเนินงานขององค์กร  การตรวจสอบภายในช่วยให้องค์กร บรรลุเป้าหมาย ด้วยการประเมินและปรับปรุง</a:t>
            </a:r>
            <a:br>
              <a:rPr sz="900"/>
            </a:b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สิทธิผลของกระบวนการบริหารความเสี่ยง การควบคุม และการกำกับดูแล อย่างเป็นระบบ และเป็นระเบีย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คือ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ให้ความเชื่อมั่น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ให้คำปรึกษา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ื่นๆ ที่ไม่ใช่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่างเที่ยงธรรมและเป็นอิสระ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รงๆ ไม่ลำเอียง อิสระคือสถานการณ์ที่ทำให้รักษาความเที่ยงธรรม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ิ่มคุณค่าและปรับปรุงการดำเนินงานขององค์กร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ุณค่าต่อใ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รับบริการ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ช่วยให้องค์กรบรรลุเป้าหมาย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ู้เป้าหมายองค์กรไหม ต้องถามใ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จะรู้ได้อย่างไรว่าช่วย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ประเมินและปรับปรุงประสิทธิผล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ดูว่ามีโอกาสที่จะบรรลุเป้าหมาย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ระบวนการบริหารความเสี่ยง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ำหนดวัตถุประสงค์ ประเมินความเสี่ยงที่ทำให้ไม่บรรลุ แล้วจัดก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ควบคุม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ิจกรรมที่ทำให้เชื่อมั่นอย่างสมเหตุสมผลว่าวัตถุประสงค์บรรลุ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กำกับดูแล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สอดส่องดูแลโดยผู้มีส่วนได้เสียของการควบคุมหรือการบริหารความเสี่ยงนั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อย่างเป็นระบบ และเป็นระเบียบ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ทำชุ่ยๆ ไม่มีหลักการหรือมาตรฐานได้ไหม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อนนี้ น่าจะได้เวลาพักทานกาแฟ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(10.15-10.30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งพัก เราจะมาลองช่วยกันทบทวนความเข้าใจในสิ่งเหล่านี้ในกรณีศึกษาแรกของเร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ช่วง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0.30-11.00 , 1.30-2.0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.00-3.3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นจะเฉื่อยชา นิ่ง ไม่ออกความเห็น ถ้าจะถามควรถามโดยเจาะจงตัว และจัดกิจกรรมให้มีการเคลื่อนไหวหรืองานกลุ่มย่อย ควรหลีกเลี่ยงการพูดข้างเดียว การอ่าน หรือ งานเดี่ยว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0" name=""/>
          <p:cNvSpPr/>
          <p:nvPr/>
        </p:nvSpPr>
        <p:spPr>
          <a:xfrm>
            <a:off x="303120" y="4964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1" name=""/>
          <p:cNvSpPr/>
          <p:nvPr/>
        </p:nvSpPr>
        <p:spPr>
          <a:xfrm>
            <a:off x="303120" y="582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2" name=""/>
          <p:cNvSpPr/>
          <p:nvPr/>
        </p:nvSpPr>
        <p:spPr>
          <a:xfrm>
            <a:off x="303120" y="8059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3" name=""/>
          <p:cNvSpPr/>
          <p:nvPr/>
        </p:nvSpPr>
        <p:spPr>
          <a:xfrm>
            <a:off x="303120" y="8780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ิดตามผล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ิดตามผลการตรวจสอบ เป็นหน้าที่ หัวหน้าผู้บริหารงานตรวจสอบ ควรจัดให้มีกระบวนการติดตามผลการตรวจสอบ เพื่อให้มั่นใจว่าข้อเสนอแนะเพื่อการปรับปรุงแก้ไขได้นำไปปฏิบัติ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ละได้ผลลัพธ์ตามที่ต้องการหรือไม่ หรือไม่ได้มีการแก้ไขเรื่องที่ตรวจพบเนื่องจากผู้รับการตรวจสอบหรือฝ่ายจัดการยอมรับความเสี่ย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ัวหน้าผู้บริหารงานตรวจสอบมีหน้าที่จัดให้มีกระบวนการติดตามผลการตรวจสอบและกำหนดแนวปฏิบัติในการติดตามผล ซึ่งควรพิจารณาปัจจัยต่อไปนี้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ำคัญของเรื่องที่ตรวจพบและข้อเสนอแนะ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ลกระทบต่อองค์กรถ้าไม่มีการแก้ไขหรือแก้ไขแล้วไม่ได้ผล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ยุ่งยากซับซ้อนในการแก้ไข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ะยะเวลาที่ใช้ในการแก้ไข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บางเรื่องต้องใช้เวลาแก้ไขนาน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การติดตามผลในการตรวจสอบครั้งถัดไปอาจจะเหมาะสมกว่า บางเรื่องเป็นเรื่องเล็ก อาจใช้วิธีการสอบถาม หรือให้ผู้รับการตรวจสอบรายงานเข้ามา เรื่องสำคัญควรสุ่มสอบทาน หรือประเมินว่าได้แก้ไขแล้วหรือไม่ ผู้อำนวยการตรวจสอบต้องวางแผนติดตามผลและถือเป็นส่วนหนึ่งของแผ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ยอมรับความเสี่ยงของผู้บริห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ติดตามผลการตรวจสอบหากพบว่าไม่ได้มีการแก้ไขเรื่องที่ตรวจพบเนื่องจากผู้รับการตรวจสอบหรือฝ่ายจัดการยอมรับความเสี่ยง ผู้ตรวจสอบต้องพิจารณาเหตุผลของการยอมรับความเสี่ยง หากหัวหน้าผู้บริหารงานตรวจสอบมีความเห็นว่าความเสี่ยงที่เหลืออยู่ที่ผู้รับการตรวจสอบหรือฝ่ายจัดการยอมรับนั้นไม่อยู่ในระดับที่องค์กรจะยอมรับได้ หัวหน้าผู้บริหารงานตรวจสอบควรหารือกับผู้บริหารระดับสูง หากยังไม่สามารถหาข้อยุติได้ หัวหน้าผู้บริหารงานตรวจสอบและผู้บริหารระดับสูงควรร่วมกันเสนอต่อคณะกรรมการขององค์กรเพื่อพิจารณาหาข้อยุติ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รายงานผล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การติดตามผล ใช้เทคนิคและวิธีการเดียวกับการรายงานผลการตรวจ โดยเพิ่มหัวข้อการติดตามผลเข้าไปในประเด็นสิ่งที่ตรวจสอบและข้อเสนอแนะ และจัดทำหน้าปกรายงานและรายงานสรุปสำหรับผู้บริหารในรูปแบบเดียวกันได้ ทั้งนี้ ก่อนการรายงานการติดตามผล ควรประชุมหรือสรุปผลกับผู้รับการตรวจและให้ผู้รับการตรวจ สอบทานรายงานการติดตามผลด้วย จะเป็นการสร้างความสัมพันธ์ที่ดี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7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ป็นเรื่องที่วันหนึ่งเราอาจจะพบกับตัวเอ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45" name=""/>
          <p:cNvSpPr/>
          <p:nvPr/>
        </p:nvSpPr>
        <p:spPr>
          <a:xfrm>
            <a:off x="303120" y="473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"/>
          <p:cNvSpPr/>
          <p:nvPr/>
        </p:nvSpPr>
        <p:spPr>
          <a:xfrm>
            <a:off x="544680" y="359568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4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5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7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ป็นเรื่องที่วันหนึ่งเราอาจจะพบกับตัวเอง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ศึกษาที่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7  Whistle Blowing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วลาเตรียม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sent 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าที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่อกลุ่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ุณตกอยู่ในสถานการณ์อย่างนี้ จะทำอย่าง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ฉยๆ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จ้งตำรวจ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ลาออก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+++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่งบัตรสนเท่ห์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ฟ้องกรรมการหรือกรรมการตรวจสอ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ทำไ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ลัวตกงา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ลัวบริษัทจะแย่เสียชื่อเสียง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ลัวครอบครัวลำบาก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ลัวถูกปองร้าย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+++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ยากรักษาความถูกต้อ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พวกที่เฉยๆ ไม่กล้าทำอะไรควรถูกตำหนิ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ำตอบอาจมีทั้งเห็นด้วยไม่เห็นด้ว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ุณคิดว่าสังคมคาดหวังให้ผู้ตรวจสอบภายในทำอะ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ังคมมักคาดหวังให้ผู้ตรวจสอบภายในรับผิดชอบในเชิงศีลธรรมที่จะต้องรายงานทุจริตที่ตนพ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้าผู้ตรวจสอบไม่ทำ จะเกิดอะไรขึ้น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วิชาชีพไม่มีคุณค่า ไม่เป็นที่เชื่อถือ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ระมวลจรรยาบรรณของผู้ตรวจสอบภายในกำหนดว่าอะ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ประมวลจรรยาบรรณของผู้ตรวจสอบภายในกำหนดว่า ผู้ตรวจสอบต้องมีความซื่อสัตย์และไม่เกี่ยวข้องกับการกระทำใดๆ ที่ผิดกฎหมา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ไม่รายงานผิดจรรยาบรรณ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าจถือว่ามีส่วนร่วมในการทุจริตด้วยและผิดจรรยาบรรณก็ได้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ปัญหาของการเปิดเผยทุจริตคืออะ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้องสงสัยยังไม่ผิดกฎหมายจนกว่าศาลจะพิพากษา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ากผู้ตรวจสอบเปิดเผยทุจริตแล้วศาลตัดสินว่าคณะผู้บริหารไม่ได้กระทำผิด จะเกิดอะไรกับผู้ตรวจสอ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จะต้องรับผิดชอบต่อค่าใช้จ่ายและความเสียหายที่เป็นตัวเงินทั้งหมด ตลอดจนการเสื่อมเสียชื่อเสียงของผู้บริหารและบริษัท และคงถูกเลิกจ้างในที่สุด แม้บางประเทศจะมีกฎหมายหรือข้อบังคับของหน่วยงานกำกับดูแลคอยให้ความคุ้มครองอยู่ แต่อย่างน้อยผู้ตรวจสอบก็ต้องตกเป็นจำเลยสังคมและได้รับความอับอา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ราควรสนับสนุนให้ผู้ตรวจสอบยึดถือจรรยาบรรณ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วรแน่นอน เพราะทำให้วิชาชีพเป็นที่ยอมรับ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ครควรมีหน้าที่ช่วยเหลือผู้ตรวจสอบที่กล้าหาญปฏิเสธการกระทำที่ผิดจรรยาบรรณ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งค์กรที่ทำงานตรวจสอบ หน่วยงานกำกับดูแล สถาบันที่เป็นตัวแทนวิชาชีพ และผู้ตรวจสอบด้วยกั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่วยอย่างไร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สถาบันที่เป็นตัวแทนวิชาชีพควรให้คำปรึกษา หรือจัดทนายให้ในกรณีที่จำเป็น เพื่อช่วยปกป้องผู้ตรวจสอบที่ตกอยู่ในสถานการณ์ดังกล่าว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อกจากการเปิดเผยทุจริต ผู้ตรวจสอบมีทางเลือกอะไรบ้าง ที่ยังสามารถรักษาจรรยาบรรณไว้ได้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ปกติแล้ว เมื่อใดที่ผู้ตรวจสอบรู้สึกว่าตนเองกำลังพบการกระทำผิดภายในบริษัทที่ทำให้ผู้ตรวจสอบเสี่ยงต่อการถูกเลิกจ้าง ผู้ตรวจสอบก็มักจะมองหางานตรวจสอบในองค์กรอื่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ลาออกหางานใหม่ง่ายไหม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ขึ้นกับคุณสมบัติของผู้ตรวจสอบคนนั้นเอง ผู้ตรวจสอบที่มีประสบการณ์ความรู้เป็นที่ยอมรับ เช่นถือวุฒิบัตรวิชาชีพ น่าจะมีโอกาสที่ดีกว่า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/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ถ้าไม่มี ผู้ตรวจสอบอาจต้องตกอยู่ในภาวะจำยอมไม่กล้าเปิดเผยทุจริตเพื่อความอยู่รอดของครอบครัว หรือต้องออกจากวิชาชีพไปทำงานสาขาอื่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อนนี้คุณน่าจะต้องเตรียมอย่างไร เพื่อพร้อมรับสถานการณ์นี้หากเกิดกับตัวเองในอนาคต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ต้องพัฒนาตนเองอย่างต่อเนื่องในด้านประสบการณ์ ความรู้ วุฒิบัตรวิชาชีพ และช่วยกันดูแลให้องค์กรวิชาชีพเข้มแข็งเป็นตัวแทนของผู้ตรวจสอบที่ยึดถือจรรยาบรรณได้จริ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ักสูตรนี้ได้รับการจัดทำขึ้นบนความเชื่อที่ว่า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ศึกษาและจริยธรรมควรเป็นพลังพื้นฐานในการสรรค์สร้างสังคมที่ดีกว่า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 หากวันหนึ่งผู้เข้ารับการอบรมได้พบเรื่องนี้กับตัวเอง การทำตัวในสถานการณ์แบบนี้จะเป็นเครื่องชี้คุณค่าในตัวเรา การตัดสินใจในบางสถานการณ์ก็เป็นสิ่งที่ยาก แต่ไม่ว่าท่านจะเลือกอย่างไร ขอให้คิดเสมอว่าเราไม่ได้โดดเดี่ยว อย่างน้อยก็มีคณะผู้จัดทำหลักสูตรและวิทยากร เป็นเพื่อนที่ท่านจะสามารถปรึกษา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49" name=""/>
          <p:cNvSpPr/>
          <p:nvPr/>
        </p:nvSpPr>
        <p:spPr>
          <a:xfrm>
            <a:off x="158760" y="561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0" name=""/>
          <p:cNvSpPr/>
          <p:nvPr/>
        </p:nvSpPr>
        <p:spPr>
          <a:xfrm>
            <a:off x="230040" y="4962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1" name=""/>
          <p:cNvSpPr/>
          <p:nvPr/>
        </p:nvSpPr>
        <p:spPr>
          <a:xfrm>
            <a:off x="158760" y="4505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2" name=""/>
          <p:cNvSpPr/>
          <p:nvPr/>
        </p:nvSpPr>
        <p:spPr>
          <a:xfrm>
            <a:off x="158760" y="8707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1054" name=""/>
          <p:cNvSpPr/>
          <p:nvPr/>
        </p:nvSpPr>
        <p:spPr>
          <a:xfrm>
            <a:off x="714240" y="366696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*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มีเวลาพอ ให้แจกข้อสอบเพื่อ </a:t>
            </a:r>
            <a:r>
              <a:rPr b="1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การทดสอบความรู้หลังการอบรม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ห้ทุกคนทำโดยให้เวลาประมาณ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าที เสร็จแล้วขอเก็บกระดาษคำต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สรุปวัตถุประสงค์ของหลักสูตร ว่าบรรลุในเรื่องใดบ้า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กำหนดวัตถุประสงค์และขอบเขตการตรวจสอบ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ใจแนวคิด หลักการ ของขั้นตอนต่างๆ ในการปฏิบัติ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ความรู้ความเข้าใจ เทคนิค และทักษะที่จำเป็น ในการปฏิบัติภารกิจ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ามารถนำความรู้ที่ได้ไปประยุกต์และปรับปรุงการตรวจสอบในการปฏิบัติงานจริ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ไล่เรียง “ความคาดหวังจากหลักสูตร” ของผู้เข้ารับการอบรมที่จดไว้ ว่าได้ครอบคลุมแล้ว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รุปว่าความต้องการหลักของหลักสูตรให้ผู้เข้ารับการอบรม “ตรวจสอบเป็น” น่าจะบรรลุและผู้เข้ารับการอบรมสามารถนำใช้ในการปฏิบัติภารกิจงานตรวจสอบให้บรรลุผลสำเร็จตามที่ได้รับมอบหมาย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ให้วิทยากรร่วม ผู้ช่วยวิทยากร หรือผู้ร่วมสังเกตการณ์ กล่าวแสดงความเห็นก่อน ปิดหลักสูต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บคุณผู้เข้ารับการอบรมทุกคนในความตั้งใจและพยายามมีส่วนร่วมอย่างเต็มที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จกแบบประเมินและขอให้ทุกคนช่วยกรอกและคืนเจ้าหน้าที่ก่อนออกจากห้อง ขอให้ตอบตามตรง เพื่อประโยชน์ในการปรับปรุงหลักสูต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ูแลเก็บของส่วนตัวกลับด้วย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นำความรู้ไปฝึกใช้จริงโดยทดลองใช้กับงานของตัวเอง หรือตรวจทานงานของคนอื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วรนำความรู้ที่ได้ไปสอนต่อ หรือแนะนำหลักสูตรนี้แก่ผู้ตรวจสอบอื่นในองค์กรของตน  หากไม่สะดวกในการเดินทาง สต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ยินดีจัดหลักสูตรนี้ให้องค์กรนอกสถานที่หรือในต่างจังหวัด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จกวุฒิบัตรรับรองการอบรม ผู้ที่ได้รับแล้วสามารถกลับ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-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บการสัมมนา เวลา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6.30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น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-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ลังจบการสัมมนา ควรประชุมสรุปกับวิทยากรร่วม ผู้ช่วยวิทยากร หรือผู้ร่วมสังเกตการณ์ ถึงผลประเมินและสิ่งที่ควรปรับปรุ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5" name=""/>
          <p:cNvSpPr/>
          <p:nvPr/>
        </p:nvSpPr>
        <p:spPr>
          <a:xfrm>
            <a:off x="303120" y="503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6" name=""/>
          <p:cNvSpPr/>
          <p:nvPr/>
        </p:nvSpPr>
        <p:spPr>
          <a:xfrm>
            <a:off x="231840" y="8105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7" name=""/>
          <p:cNvSpPr/>
          <p:nvPr/>
        </p:nvSpPr>
        <p:spPr>
          <a:xfrm>
            <a:off x="303120" y="6259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58" name=""/>
          <p:cNvSpPr/>
          <p:nvPr/>
        </p:nvSpPr>
        <p:spPr>
          <a:xfrm>
            <a:off x="303120" y="8996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527120" y="642960"/>
            <a:ext cx="3721320" cy="27907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06120" y="4714560"/>
            <a:ext cx="52117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>
            <a:off x="711360" y="3751200"/>
            <a:ext cx="564012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0 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นี้รวมถึงสไลด์และเอกสารคู่มือต่างๆ ถูกริเริ่มจัดทำขึ้นในปี พ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2548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โดยคณะผู้จัดทำหลักสูตรเพื่อใช้สอนในสมาคมผู้ตรวจสอบภายในและองค์กรต่างๆ และได้รับการวิจารณ์ปรับปรุงมาโดยตลอดโดยผู้ตรวจสอบภายในและผู้ทรงคุณวุฒิจำนวนมาก คณะผู้จัดทำมีเจตนาที่จะให้หลักสูตรนี้เป็นสมบัติของวิชาชีพโดยไม่มีผู้หนึ่งผู้ใดถือลิขสิทธิ์หรืออาศัยนำไปหาประโยชน์ในเชิงการค้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ลักสูตรนี้เปิดกว้างสำหรับผู้สนใจจะพัฒนาตนเองเป็นวิทยากรประจำหลักสูตร ควรเป็นผู้ตรวจสอบผู้ถือวุฒิบัตรของสมาคม มีประสบการณ์ตรงในการปฏิบัติงานตรวจสอบ และมีความตั้งใจจริงที่จะช่วยพัฒนาวิชาชีพให้ก้าวหน้า โปรดติดต่อคณะผู้จัดทำหลักสูตร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ศึกษาหรือองค์กรที่ไม่หวังผลกำไร ที่ประสงค์จะจัดหลักสูตรนี้แก่นักศึกษา บุคลากรหรือบุคคลทั่วไป สามารถติดต่อขอความสนับสนุนคู่มือการสอนและ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วิทยากรอาสาสมัครได้ฟรี จากคณะผู้จัดทำหลักสูตร ในกรณีที่นำคู่มือการสอนไปจัดหลักสูตรนี้ด้วยตนเองทั้งหมด ไม่อนุญาตให้แก้ไขดัดแปลงเนื้อหาโดยพละการ กรณีนำไปใช้บางส่วนควรเปิดเผยอ้างอิงแหล่งที่มาอย่างเหมาะสม  หากมีข้อแนะนำแก้ไขหรือปรับปรุงใด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ๆ ได้โปรดส่งมายังคณะผู้จัดทำหลักสูตรจะเป็นพระคุณยิ่ง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ณะผู้จัดทำหลักสูตร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ไพรัช ศรีวิไลฤทธิ์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CBA CCSA CFS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จัดทำหลักสูตร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หลั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airat@tisco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   M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0819031457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ธีรพันธ์ สัตโกวิท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จัดทำหลักสูตร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erapan@ait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c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    M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086821540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ถิต เกิดอรุณสุขศรี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จัดทำหลักสูตร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athit69@hotmail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m    M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0816137751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รัตติยา วัจนะสาธิต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จัดทำหลักสูต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0891195011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ธีรยุทธ ตันติวัฒนวิจิตร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P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หลั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bumacc@yahoo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m    M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0897791889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indent="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ู้มีส่วนในการให้ข้อเสนอแนะและปรับปรุงหลักสูต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มล รัตนไชย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ยุพดี อินทรเกษตร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CFS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น้อย มงคลศิริ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CISA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จันทิภา เดชณรงค์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IA CPA 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ณัฐศักดิ์ คีรีไพฑูรย์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ศราวุธ เอี่ยมสะอาด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ิพยวรรณ สุขประสงค์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ิชาญ อัศวรังสี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นกพร ชินาภิรมย์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บัณฑิต ศรีอมร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พิศิษฐ์ จารุพงศา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สิทธิศักดิ์ เทียนทอง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62" name=""/>
          <p:cNvSpPr/>
          <p:nvPr/>
        </p:nvSpPr>
        <p:spPr>
          <a:xfrm>
            <a:off x="264960" y="4121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063" name=""/>
          <p:cNvSpPr/>
          <p:nvPr/>
        </p:nvSpPr>
        <p:spPr>
          <a:xfrm>
            <a:off x="303120" y="5730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45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พวกเราเคยพบกับสถานการณ์คล้ายๆ อย่างนี้หรือไม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รณีศึกษาสั้นๆ ที่อาจตรงกับประสบการณ์ของหลายคน ผู้ตรวจสอบใหม่ควรทราบคำพูดที่เหมาะกับสถานการณ์ดังกล่าว เพื่อจะได้ทำงานด้วยความมั่นใจต่อไป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ู้ตรวจสอบใหม่คนหนึ่งเดินเข้าไปในสาขาบริษัทและขอพบผู้จัดการเพื่อเริ่มงานตรวจสอบภายในวันแรกในชีวิตการทำงาน หลังจากเริ่มอารัมภบทถึงวัตถุประสงค์ของการมาครั้งนี้ ผู้จัดการได้ขัดจังหวะขึ้นอย่างหมดความอดทนว่า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“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มไม่เข้าใจ ทำไมสำนักงานใหญ่ถึงชอบส่งคนที่ไม่รู้เรื่องมาตรวจเราแล้วถามคำถามเดิมซ้ำๆ ทุกปี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้วนี่คุณกำลังจะบอกผมว่าจะต้องใช้เวลาตรวจสอบถึงสองอาทิตย์ก็ยิ่งไปกันใหญ่ แค่บวกเลขไม่กี่ตัวก็น่าจะสรุปได้แล้วว่าบัญชีเราถูกไหม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..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ไม่ได้กำลังจะไปขึ้นศาลนะคุณ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..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ถ้าคุณเป็นผู้ตรวจสอบ   คุณจะตอบ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ทยากรควรขอให้ทั้งชั้นร่วมกันอภิปราย และจดความเห็นของทุกคนลงบนฟลิปชาร์ต ถ้าไม่มีใครอาสา วิทยากรอาจใช้คำถามต่อไปนี้ถามนำ โดยเจาะจงเรียกชื่อก็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มีใครเคยเจอแบบนี้บ้าง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บบอื่น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มี ช่วยเล่าให้ฟั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ำไมผู้รับการตรวจถึงคิดอย่างนี้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รู้จักงานเร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ำเป็นต้องมีอะไรผิดปกติหรือทุจริตไหม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จำเป็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รทำอย่างไร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ชี้แจง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ล่อยไปได้ไหม คิดว่าผลจะเป็นอย่างไร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ตรวจนี้และในอนาคตจะไม่ราบรื่น ปัญหาในหน่วยงานอาจไม่ถูกตรวจพบและแก้ไข ผู้ตรวจสอบไม่ก้าวหน้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ราแก้ความเข้าใจผู้รับการตรวจได้ไหม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ด้ แต่ต้องใช้เวลา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ไหร่ควรจะเริ่มทำ </a:t>
            </a:r>
            <a:r>
              <a:rPr b="0" lang="en-US" sz="900" spc="-1" strike="noStrike">
                <a:solidFill>
                  <a:srgbClr val="0000ff"/>
                </a:solidFill>
                <a:latin typeface="Tahoma"/>
                <a:ea typeface="Tahoma"/>
              </a:rPr>
              <a:t>?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ลงมือทำเดี๋ยวนี้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กลุ่มคงสรุปได้ว่า ผู้รับการตรวจมีความเข้าใจผิดหลายอย่างต่อวิชาชีพและงานของผู้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นที่ไม่รู้เรื่องมาตรว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ริง แต่เรารู้ว่าวิธีประเมินการควบคุมได้อย่างไ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ถามคำถามเดิมซ้ำๆ 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ราต้องทราบวัตถุประสงค์ของผู้บริหารและข้อมูลปัจจุบันเพื่อประเมินความเสี่ย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ช้เวลาตรวจสอบนานโดยไม่จำเป็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ไม่มีคุณค่า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สร้างความมั่นใจให้ผู้บริหารและผู้มีส่วนได้เสีย มีคุณค่าในตัวเอ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ตรวจสอบภายในเป็นแค่การบวกเลขไม่กี่ตัว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้องใช้เทคนิคในการเก็บหลักฐานและหาข้อสรุปที่เชื่อถือ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ตรวจสอบภายในเป็นเพียงการสรุปว่าบัญชีถูกต้อง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ราไม่ได้ตรวจสอบการเงินอย่างเดียว นอกจากความถูกต้อง และเชื่อถือได้ของข้อมูลแล้ว ผู้ตรวจสอบต้องประเมินการปฏิบัติตามกฎระเบียบ ความปลอดภัยของสินทรัพย์ ประสิทธิภาพและประสิทธิผลของการดำเนินงาน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ายคน แม้แต่ตัวผู้ตรวจสอบเองก็ไม่ทราบว่างานตรวจสอบภายในมีคุณค่าตรงไหน แล้วจะให้คนอื่นมาเข้าใจหรือเห็นความสำคัญของเราได้อย่างไร สไลด์ต่อไปจะช่วยอธิบายบทบาทและความสำคัญของวิชาชีพตรวจสอบภายใ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6" name=""/>
          <p:cNvSpPr/>
          <p:nvPr/>
        </p:nvSpPr>
        <p:spPr>
          <a:xfrm>
            <a:off x="303120" y="6259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47" name=""/>
          <p:cNvSpPr/>
          <p:nvPr/>
        </p:nvSpPr>
        <p:spPr>
          <a:xfrm>
            <a:off x="338040" y="7051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49" name=""/>
          <p:cNvSpPr/>
          <p:nvPr/>
        </p:nvSpPr>
        <p:spPr>
          <a:xfrm>
            <a:off x="758880" y="3946680"/>
            <a:ext cx="5708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:45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หลายคน แม้แต่ตัวผู้ตรวจสอบเองก็ไม่ทราบว่างานตรวจสอบภายในมีความสำคัญอย่างไร แล้วจะให้คนอื่นมาเข้าใจหรือเห็นความสำคัญของเราได้อย่างไร สไลด์ต่อไปจะช่วยอธิบายบทบาทและความสำคัญของวิชาชีพตรวจสอบภายในได้ดีขึ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ภาพ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องค์กร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ป็นขอ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ถือหุ้น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ซึ่งกำกับดูแลการทำงานของผู้บริหาร ผ่า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ณะกรรมการ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แต่งตั้งโดยผู้ถือหุ้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การตรวจสอบรายงานทางการเงินทำโด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สอบบัญชีอิสระ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ที่แต่งตั้งโดยผู้ถือหุ้นเช่นกั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ฝ่ายตรวจสอ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มีหน้าที่ประเมินการควบคุมภายในและรายงานต่อ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ณะกรรมการ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่า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ณะกรรม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ณะกรรมการ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จะแต่งตั้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คณะกรรมการตรวจสอบ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ประกอบด้วยกรรมการอิสระ เพื่อกำกับการทำงานของ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สอบบัญชี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และ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ผู้ตรวจสอบภายใ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ฝ่ายตรวจสอบถือเป็นหน่วยงานอิสระ เพียงหน่วยงานเดียวเท่านั้น ในองค์กร ไม่มีหน่วยงานอิสระอื่นอีก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ความเป็นอิสระของฝ่ายตรวจสอบได้จากสายการบังคับบัญชาขึ้นตรงต่อคณะกรรมการและผู้บริหารสูงสุดขององค์ก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อะไรขึ้นถ้าฝ่ายตรวจสอบไม่มีประสิทธิภาพ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ริหารงานผิดพลาด เกิดความเสียหาย เสียชื่อเสีย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อะไรขึ้นถ้าฝ่ายตรวจสอบขาดความเป็นอิสระ หรือเชื่อถือไม่ได้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ทุจริตโดยผู้บริหาร ผู้ถือหุ้นเสียประโยชน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ฝ่ายตรวจสอบจึงถือเป็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องค์ประกอบสำคัญของการกำกับดูแลกิจการที่ดี และมีผลต่อมูลค่าระยะยาวขององค์ก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่อไปเราจะดูถึงกระบวนการที่ผู้ตรวจสอบใช้ในการตรวจสอบเพื่อให้ความเชื่อมั่นแก่ผู้บริหารว่าองค์กรและกิจกรรมต่างๆ สามารถบรรลุวัตถุประสงค์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50" name=""/>
          <p:cNvSpPr/>
          <p:nvPr/>
        </p:nvSpPr>
        <p:spPr>
          <a:xfrm>
            <a:off x="303120" y="5106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51" name=""/>
          <p:cNvSpPr/>
          <p:nvPr/>
        </p:nvSpPr>
        <p:spPr>
          <a:xfrm>
            <a:off x="303120" y="71229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760320" y="3595680"/>
            <a:ext cx="57088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:5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ต่อไปเราจะดูถึงกระบวนการที่ผู้ตรวจสอบใช้ในการตรวจสอบเพื่อให้ความเชื่อมั่นแก่ผู้บริหารว่าองค์กรและกิจกรรมต่างๆ สามารถบรรลุวัตถุประสงค์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หนังสือแนวทางการตรวจสอบภายใน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น้า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18-120 </a:t>
            </a:r>
            <a:r>
              <a:rPr b="0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ผู้บรรยายใช้เวลาสั้นๆ ทำความเข้าใจกับขั้นตอนต่างๆ ใน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วางแผน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การวางแผนการตรวจสอบที่ดี จะช่วยให้การปฏิบัติงานเป็นไปตามวัตถุประสงค์ภายในระยะเวลา  งบประมาณและอัตรากำลังที่กำหนด ทำให้การปฏิบัติงานมีประสิทธิภาพประสิทธิผล ดังนั้นจึงจำเป็นต้องมีการวางแผนการตรวจสอบอย่างเป็นระบบ กำหนดกลยุทธ์ในการเลือกผู้รับการตรวจสอบ ระบุผู้รับการตรวจสอบ จัดลำดับความเสี่ยงของผู้รับการตรวจสอบ เลือกผู้รับการตรวจสอบ จัดทำ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ผนการ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เตรียมการสำหรับงาน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การเตรียมการจะเริ่มตั้งแต่การศึกษาข้อมูลพื้นฐาน เพื่อนำมากำหนดวัตถุประสงค์ และขอบเขตของการตรวจสอบ เลือกทีมตรวจ การจัดทำแผนการตรวจสอบ ขออนุมัติเพื่อทำการตรวจและมี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หนังสือแจ้งผู้รับตรว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สำรวจเบื้องต้นและการสอบทานระบบการควบคุ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การสำรวจเบื้องต้นเป็นการศึกษาทำความเข้าใจหน่วยรับตรวจ เนื่องจากผู้ตรวจสอบจำเป็นต้องรู้ขอบเขตของงาน ข้อเท็จจริงของหน่วยงาน สอบทานวิธีการควบคุมภายใ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ด้วย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แบบสอบถามการควบคุม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รือ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nternal Control Questionnaire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ICQ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แล้วประเมินความเสี่ยง โดยประเมินว่าที่ใดเป็นจุดอ่อน และนำผลประเมินมากำหนด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udit Program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ทดสอบสาระสำคัญและเรื่องที่ตรวจพ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เมื่อศึกษาและประเมินความเสี่ยงผู้รับการตรวจสอบแล้ว ผู้ตรวจสอบก็พร้อมที่จะทดสอบสาระสำคัญ โดยขยายการค้นหา และพิจารณาว่าการเปลี่ยนแปลงอะไรที่จำเป็นในการปรับปรุงการควบคุมภายใน จากทางเลือกหลาย ๆ ทางเลือก ผู้ตรวจสอบสามารถเลือกและแนะนำวิธีที่เห็นว่าเหมาะสมที่สุด แล้วจัดทำขึ้นเป็น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เรื่องที่ตรวจพบ 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udit Finding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รายงานผลการตรวจสอบและการติดตามผล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หลังจากสรุปผลการตรวจสอบกับผู้รับการตรวจสอบแล้ว ผู้ตรวจสอบจะจัดทำ</a:t>
            </a:r>
            <a:r>
              <a:rPr b="0" lang="th-TH" sz="900" spc="-1" strike="noStrike" u="sng">
                <a:solidFill>
                  <a:srgbClr val="0000ff"/>
                </a:solidFill>
                <a:uFillTx/>
                <a:latin typeface="Tahoma"/>
                <a:cs typeface="Tahoma"/>
              </a:rPr>
              <a:t>รายงานการ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จัดส่งให้กับผู้ที่เกี่ยวข้องเพื่อสื่อสารผลการตรวจสอบให้ทราบ รายงานที่ดีต้องเป็นรายงานที่มีความถูกต้องเชื่อถือได้ มีความชัดเจน เข้าใจง่าย และทันเวลา มีการสอบทานอย่างถี่ถ้วน และจัดเก็บอย่างเหมาะสม เนื่องจากรายงานการตรวจสอบถือเป็นเอกสารสำคัญที่แสดงความเห็นทางวิชาชีพ หลังจากนั้นจะเป็นการติดตามผล ซึ่งเป็นขั้นตอนสุดท้ายของกระบวนการตรวจสอบ และเป็นขั้นตอนที่สามารถใช้วัดประสิทธิภาพประสิทธิผลของการตรวจสอบ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ะไรเป็นผลลัพท์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delivery)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ากแต่ละขั้นตอ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งานในขั้นตอนต่างๆ เป็นหน้าที่ของใค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ัวหน้าฝ่าย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2-5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ัวหน้าทีมและผู้ตรวจสอบ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บรรยาย เราจะข้ามขั้นตอนวางแผนไปเพราะเป็นหน้าที่ของหัวหน้าฝ่าย ผู้เข้าอบรมสามารถอ่านได้จากหนังสือแนวทางตรวจสอบ บทที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สมัครเรียนในหลักสูตร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Risk Based Audit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อง สต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indent="26676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ในหลักสูตรนี้เราเน้นกระบวนการในความรับผิดชอบของหัวหน้าทีมและผู้ตรวจสอบ ตั้งแต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2-5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ผู้ตรวจสอบได้รับมอบหมายให้รับผิดชอบภารกิจงานตรวจสอบแล้ว สิ่งแรกที่ต้องทำก็คือ การเตรียมการหาข้อมูลและสำรวจเบื้องต้น เพื่อทำความเข้าใจหน่วยรับตรวจและจัดทำวัตถุประสงค์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55" name=""/>
          <p:cNvSpPr/>
          <p:nvPr/>
        </p:nvSpPr>
        <p:spPr>
          <a:xfrm>
            <a:off x="303120" y="4172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56" name=""/>
          <p:cNvSpPr/>
          <p:nvPr/>
        </p:nvSpPr>
        <p:spPr>
          <a:xfrm>
            <a:off x="303120" y="82040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619280" y="744480"/>
            <a:ext cx="3540240" cy="26560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544320" y="3711600"/>
            <a:ext cx="57085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758880" y="3595680"/>
            <a:ext cx="57085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เวลา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0:5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น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.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มื่อผู้ตรวจสอบได้รับมอบหมายให้รับผิดชอบภารกิจงานตรวจสอบแล้ว สิ่งแรกที่ต้องทำก็คือ การเตรียมการหาข้อมูลและสำรวจเบื้องต้น เพื่อทำความเข้าใจหน่วยรับตรวจและจัดทำวัตถุประสงค์งานตรวจสอบ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ำรวจเบื้องต้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ศึกษาทำความเข้าใจหน่วยรับตรวจ เนื่องจากผู้ตรวจสอบจำเป็นต้องรู้ขอบเขตของงาน ข้อเท็จจริงของหน่วยงาน กิจกรรมการสำรวจเบื้องต้น ประกอบไปด้วย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ชุมเริ่มงานตรวจสอบ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ตรวจที่ใช้คือ การสัมภาษณ์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ยี่ยมชมสถานที่ปฏิบัติงา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การสังเกตการณ์ และ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ศึกษาเอกสาร    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การอ่านทำความเข้าใจเอกสาร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ที่ได้จะถูกนำมาใช้ใน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ารเขียนรายละเอียดเกี่ยวกับผู้รับการตรวจและ วิธีการเชิงวิเคราะห์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ขียนรายละเอียดเกี่ยวกับผู้รับการตรวจ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ที่ผู้ตรวจสอบรวบรวมได้จากการเปิดการประชุม การสำรวจพื้นที่จริง และการศึกษาเอกสาร ผู้ตรวจสอบจะต้องสรุปเขียนเป็นรายละเอียดเกี่ยวกับผู้รับการตรวจ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ำบรรยายการทำงาน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ังทางเดินเอกสา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ผังการจัดองค์กร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ที่เกี่ยวกับการเงินและการปฏิบัติงา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เชิงวิเคราะห์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นอกจากข้อมูลแล้ว ควรวิเคราะห็หาสาระที่เป็นความหมายของข้อมูล จากคำนวณหาอัตราส่วน แนวโน้มข้อมูลทางการเงิน และการปฏิบัติงาน โดยอาจ ใช้การเปรียบเทียบการดำเนินงานของผู้รับการตรวจกับการปฏิบัติงานในอดีต หรืออัตราเฉลี่ยของอุตสาหกรรม หรือของคู่แข่งขัน หรือหน่วยงานอื่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ุดประสงค์ของวิธีการเชิงวิเคราะห์ เพื่อให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ใจการปฏิบัติงานของผู้รับการตรวจ และ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สิ่งที่เบี่ยงเบน แนวโน้มที่สำคัญ หรือปัญหาที่อาจเกิดขึ้นได้ จะได้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จัดแบ่งเวลาไปใช้ในการตรวจสอบส่วนงานที่มีปัญหาและความเสี่ยงสูง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ขอนำเข้าสู่กรณีศึกษาที่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1 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cs typeface="Tahoma"/>
              </a:rPr>
              <a:t>เพื่อจะได้เข้าใจปัญหาในการสำรวจข้อมูลเบื้องต้น และฝึกทักษะในการหาข้อมูลและตั้งคำถาม จากการตรวจสอบกิจกรรมเล็กๆ ของห้องสมุด สตท</a:t>
            </a:r>
            <a:r>
              <a:rPr b="1" lang="th-TH" sz="900" spc="-1" strike="noStrike">
                <a:solidFill>
                  <a:srgbClr val="0000ff"/>
                </a:solidFill>
                <a:latin typeface="Tahoma"/>
                <a:ea typeface="Tahom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ไลด์กรณีศึกษาให้ดูรูป ห้องสมุด สตท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อธิบายว่า ตั้งอยู่ในที่ทำการสมาคม ชั้น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ซอยทองหล่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5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ห้องประชุมเล็กติดแอร์ มีตู้หนังสือ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ตู้ มีเอกสารสิ่งพิมพ์และสื่อประเภทต่างๆ ให้บริการประมาณ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300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รายการ มีเจ้าหน้าที่สมาคมรับผิดชอบดูแล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ahoma"/>
                <a:cs typeface="Tahoma"/>
              </a:rPr>
              <a:t>คน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60" name=""/>
          <p:cNvSpPr/>
          <p:nvPr/>
        </p:nvSpPr>
        <p:spPr>
          <a:xfrm>
            <a:off x="303120" y="4243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E38-2BD0-43A0-9FFE-A7B33D2F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E1D-0763-4471-9A68-61FD8F2E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FA4-744B-42CF-B32D-54CBF06B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5D0-BF16-4CB9-8CBA-F47A607B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236-C907-4611-A98D-C755B71D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A21-A57D-4E9C-B61F-3A2C4B1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2F83-033E-428A-B836-3BE901A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B11-C278-4138-A7F7-C012BE4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171-B72B-4DB2-BB29-35C56E0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188-5B2C-44C3-B1AA-5B3C6BA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413B-96E6-4FB7-909D-3FFB764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535-F4ED-4B49-BB12-BEBE96F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596E-E5B4-468D-8691-23BD6C4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964B-8387-4F4B-BA27-E9F921D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57C-027B-48BB-BCDC-F02AC2D3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DCA1-618D-4DEF-961C-081DEFB3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D055-0BD9-4437-B317-E3BE8B36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5851-1A41-4C4C-953A-15F086A8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CBC9-3EDA-49C2-875E-16F9EC53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8F31-B515-4761-AE85-97BAD54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A2B5-BC08-4D3B-BE19-F7B364B2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A0FF-EDBA-4316-9A09-04A1E083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BBE-0C1C-451D-A66A-1AAD048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DA1F-479E-4086-BCF1-831DABA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C763-2597-421A-B2C1-5DE28B9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55D5-67EC-4256-8820-45A9A48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A972-1816-4E55-9B24-9C2FFE69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194D-A826-4B32-88D9-F0A72C83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3E5E-E5E0-4D7C-8020-60466343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26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8552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272B-C0A0-4BD8-8E60-E74FBF10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5CE-C636-49DE-B0E3-F0C3A50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2EB-166B-44CB-BE2C-019D665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443-A4E0-4F0F-9668-2BE3204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6F9-0B69-403A-8901-C8105F5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552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9A0-D032-4420-81D9-03EF654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26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552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CD8-0F3F-4C73-A1AD-CF4C306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61280"/>
            <a:ext cx="8075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1EE-A2B4-4CA7-9202-0CD17597947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58920" y="604800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143-57BC-41E1-BEF0-91FB0E7A69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686800" cy="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6461280"/>
            <a:ext cx="76312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24280"/>
            <a:ext cx="9144000" cy="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407-310C-420C-AECC-5EED96675E4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1547640" y="6165360"/>
            <a:ext cx="583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D94-84FA-4F1D-9FD8-9DCB92C8607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6461280"/>
            <a:ext cx="8075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Tahoma"/>
                <a:cs typeface="Tahoma"/>
              </a:rPr>
              <a:t>ไพรัช ศรีวิไลฤทธิ์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pairat@tisco.co.th</a:t>
            </a:r>
            <a:endParaRPr b="0" lang="en-US" sz="9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25092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F6A9-9593-47DE-B2EA-900DC2F414A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258920" y="604800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8306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CF64-D7C5-46FD-854B-642920C3F07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IAP5_T_Slidecase.ppt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IAP5_T_Slidecase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IAP5_T_Slidecase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IAP8_S_Appndx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IAP5_T_Slidecase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IAP5_T_Slidecase.pp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IAP5_T_Slidecase.ppt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2590560" cy="171936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/>
          </p:cNvPr>
          <p:cNvSpPr/>
          <p:nvPr/>
        </p:nvSpPr>
        <p:spPr>
          <a:xfrm>
            <a:off x="831708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สัมมนาเชิงปฏิบัติการ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ตรวจสอบภายใน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Internal Audit Procedure Workshop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319040" y="5734080"/>
            <a:ext cx="6782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5050"/>
                </a:solidFill>
                <a:latin typeface="Tahoma"/>
                <a:cs typeface="Tahoma"/>
              </a:rPr>
              <a:t>สไลด์บรรยาย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DA22-D1C3-4EE4-937C-AF3E010DA0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671963C-49EE-4EF1-ABDC-06BB6CFCA30A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ศึกษาข้อมูลพื้นฐ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>
            <a:hlinkClick r:id="rId1"/>
          </p:cNvPr>
          <p:cNvSpPr/>
          <p:nvPr/>
        </p:nvSpPr>
        <p:spPr>
          <a:xfrm>
            <a:off x="8244000" y="6523200"/>
            <a:ext cx="288720" cy="28872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ห้องสมุด สตท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0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158-E0D1-4271-96EF-3E031BBF45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00134-EBC5-4FF3-B68B-1A0ED97D6491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ข้อมูลพื้นฐ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749240"/>
            <a:ext cx="820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is done?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อะไร</a:t>
            </a:r>
            <a:r>
              <a:rPr b="0" lang="th-TH" sz="2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คือกิจกรรมของหน่วย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Why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it is done?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เหตุผล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ที่ต้องมีกิจกรรมดังกล่า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By whom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?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ิจกรรมดังกล่าวกระทำ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โดยใ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How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it is done?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ิจกรรมดังกล่าวกระทำ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อย่าง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it is done?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ิจกรรมดังกล่าวกระทำ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เมื่อใ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it is done?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ิจกรรมดังกล่าวกระทำ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ที่ไห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How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it is monitored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ใช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วิธีการอย่างไร</a:t>
            </a:r>
            <a:r>
              <a:rPr b="0" lang="th-TH" sz="2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ในการควบคุม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or controlled?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และติดตามผ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D59-44B5-40BA-B9FA-1EA9C710A3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DA9A6-B92D-4856-95A7-1A2010D58BFE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รายละเอียดผู้รับการตรวจ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ความเสี่ยง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ที่มีอยู่ในหน่วยงานหรือกิจกรร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วัตถุประสงค์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ของผู้บริหาร และวัตถุประสงค์ของแต่ละกิจกรร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วิธีการควบคุม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ทั้งที่มีอยู่และไม่ม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จุดอ่อนและจุดแข็ง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ของวิธีการควบคุ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โอกาส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ในการที่จะปรับปรุงแก้ไ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Tahoma"/>
              </a:rPr>
              <a:t>เกณฑ์ หรือมาตรฐาน </a:t>
            </a: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ของหน่วยงานหรือกิจกรร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9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361-B7D9-48F0-9F7E-F56DF79BF9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BBAD7-3E6D-451A-B4ED-AC6C5342459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21098400">
            <a:off x="757080" y="5564160"/>
            <a:ext cx="2267280" cy="4334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C-P-O Mod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198960"/>
            <a:ext cx="209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3333ff"/>
                </a:solidFill>
                <a:latin typeface="Tahoma"/>
                <a:cs typeface="Tahoma"/>
              </a:rPr>
              <a:t>ประเภทลูกค้า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3333ff"/>
                </a:solidFill>
                <a:latin typeface="Tahoma"/>
                <a:cs typeface="Tahoma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3333ff"/>
                </a:solidFill>
                <a:latin typeface="Tahoma"/>
                <a:cs typeface="Tahoma"/>
              </a:rPr>
              <a:t>ความต้องการลูกค้า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39" name=""/>
          <p:cNvSpPr/>
          <p:nvPr/>
        </p:nvSpPr>
        <p:spPr>
          <a:xfrm>
            <a:off x="5730840" y="3176640"/>
            <a:ext cx="3413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การก่อตั้งกระบวนการขององค์กร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ภารกิจ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วิสัยทัศน์ คุณค่า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วัตถุประสงค์ ความเสี่ยง กลยุทธ์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โครงสร้าง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กระบวนการทำงาน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ทรัพยากร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การควบคุมภายใน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ความสัมพันธ์หลั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สภาพแวดล้อมการปฏิบัติงาน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cc0000"/>
                </a:solidFill>
                <a:latin typeface="Tahoma"/>
                <a:cs typeface="Tahoma"/>
              </a:rPr>
              <a:t>การเปลี่ยนแปลงที่สำคัญ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0" name=""/>
          <p:cNvSpPr/>
          <p:nvPr/>
        </p:nvSpPr>
        <p:spPr>
          <a:xfrm>
            <a:off x="1162080" y="2068560"/>
            <a:ext cx="1447920" cy="762120"/>
          </a:xfrm>
          <a:prstGeom prst="flowChartAlternateProcess">
            <a:avLst/>
          </a:prstGeom>
          <a:solidFill>
            <a:srgbClr val="003399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C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ngsana New"/>
              </a:rPr>
              <a:t>ustomer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1" name=""/>
          <p:cNvSpPr/>
          <p:nvPr/>
        </p:nvSpPr>
        <p:spPr>
          <a:xfrm>
            <a:off x="3573360" y="2068560"/>
            <a:ext cx="1447920" cy="762120"/>
          </a:xfrm>
          <a:prstGeom prst="flowChartAlternateProcess">
            <a:avLst/>
          </a:prstGeom>
          <a:solidFill>
            <a:srgbClr val="3399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ngsana New"/>
              </a:rPr>
              <a:t>roduct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2" name=""/>
          <p:cNvSpPr/>
          <p:nvPr/>
        </p:nvSpPr>
        <p:spPr>
          <a:xfrm>
            <a:off x="6068880" y="2068560"/>
            <a:ext cx="1677960" cy="762120"/>
          </a:xfrm>
          <a:prstGeom prst="flowChartAlternateProcess">
            <a:avLst/>
          </a:prstGeom>
          <a:solidFill>
            <a:srgbClr val="9933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ngsana New"/>
              </a:rPr>
              <a:t>rganization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ngsana New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3" name=""/>
          <p:cNvSpPr/>
          <p:nvPr/>
        </p:nvSpPr>
        <p:spPr>
          <a:xfrm>
            <a:off x="2849400" y="2119320"/>
            <a:ext cx="381240" cy="2300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4" name=""/>
          <p:cNvSpPr/>
          <p:nvPr/>
        </p:nvSpPr>
        <p:spPr>
          <a:xfrm>
            <a:off x="5288040" y="2119320"/>
            <a:ext cx="380880" cy="230040"/>
          </a:xfrm>
          <a:prstGeom prst="rightArrow">
            <a:avLst>
              <a:gd name="adj1" fmla="val 50000"/>
              <a:gd name="adj2" fmla="val 41393"/>
            </a:avLst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848680" y="2486160"/>
            <a:ext cx="381240" cy="2300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f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288040" y="2486160"/>
            <a:ext cx="380880" cy="230040"/>
          </a:xfrm>
          <a:prstGeom prst="rightArrow">
            <a:avLst>
              <a:gd name="adj1" fmla="val 50000"/>
              <a:gd name="adj2" fmla="val 41393"/>
            </a:avLst>
          </a:prstGeom>
          <a:solidFill>
            <a:srgbClr val="ff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7" name=""/>
          <p:cNvSpPr/>
          <p:nvPr/>
        </p:nvSpPr>
        <p:spPr>
          <a:xfrm>
            <a:off x="2562120" y="1628640"/>
            <a:ext cx="170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ngsana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ngsana Ne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8" name=""/>
          <p:cNvSpPr/>
          <p:nvPr/>
        </p:nvSpPr>
        <p:spPr>
          <a:xfrm>
            <a:off x="4984920" y="1628640"/>
            <a:ext cx="170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ngsana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ngsana Ne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49" name=""/>
          <p:cNvSpPr/>
          <p:nvPr/>
        </p:nvSpPr>
        <p:spPr>
          <a:xfrm>
            <a:off x="2612880" y="2779560"/>
            <a:ext cx="170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ngsana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ngsana New"/>
              </a:rPr>
              <a:t>Deliver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0" name=""/>
          <p:cNvSpPr/>
          <p:nvPr/>
        </p:nvSpPr>
        <p:spPr>
          <a:xfrm>
            <a:off x="5035680" y="2779560"/>
            <a:ext cx="170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ngsana New"/>
              </a:rPr>
              <a:t>Produce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11280" y="4581360"/>
          <a:ext cx="228600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581360"/>
                    <a:ext cx="2286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16360" y="3213000"/>
            <a:ext cx="28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8000"/>
                </a:solidFill>
                <a:latin typeface="Tahoma"/>
                <a:cs typeface="Tahoma"/>
              </a:rPr>
              <a:t>ประเภทผลิตภัณฑ์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8000"/>
                </a:solidFill>
                <a:latin typeface="Tahoma"/>
                <a:cs typeface="Tahoma"/>
              </a:rPr>
              <a:t>และบริการ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 marL="174600" indent="-17460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8000"/>
                </a:solidFill>
                <a:latin typeface="Tahoma"/>
                <a:cs typeface="Tahoma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  <a:p>
            <a:pPr marL="174600" indent="-17460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8000"/>
                </a:solidFill>
                <a:latin typeface="Tahoma"/>
                <a:cs typeface="Tahoma"/>
              </a:rPr>
              <a:t>การสนองความต้องการ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8000"/>
                </a:solidFill>
                <a:latin typeface="Tahoma"/>
                <a:cs typeface="Tahoma"/>
              </a:rPr>
              <a:t>ลูกค้า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4" name=""/>
          <p:cNvSpPr/>
          <p:nvPr/>
        </p:nvSpPr>
        <p:spPr>
          <a:xfrm>
            <a:off x="7111440" y="65530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6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55" name="">
            <a:hlinkClick r:id="rId3"/>
          </p:cNvPr>
          <p:cNvSpPr/>
          <p:nvPr/>
        </p:nvSpPr>
        <p:spPr>
          <a:xfrm>
            <a:off x="8245440" y="6524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16C-9A17-4F81-9CFC-3343542E32F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B487D-44CA-4D52-98C0-2E010CA62491}" type="datetime1">
              <a:rPr lang="en-US"/>
              <a:t>07/30/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วิธีการเชิงวิเคราะห์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กรณีศึกษาพิเศ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ผู้ตรวจสอบกำลังพิจารณารายงานของสำนักงานประปาเทศบาล ซึ่งมีกำลังผลิ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0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บ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่อวัน ผู้ใช้น้ำ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0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ราย และมีแผนเปลี่ยนมาตรวัดน้ำทุ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เพื่อให้สามารถเก็บค่าน้ำประปาและประเมินน้ำสูญเสียได้ถูกต้อง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71640" y="3500280"/>
          <a:ext cx="7345440" cy="2247840"/>
        </p:xfrm>
        <a:graphic>
          <a:graphicData uri="http://schemas.openxmlformats.org/drawingml/2006/table">
            <a:tbl>
              <a:tblPr/>
              <a:tblGrid>
                <a:gridCol w="2160720"/>
                <a:gridCol w="934920"/>
                <a:gridCol w="935280"/>
                <a:gridCol w="934920"/>
                <a:gridCol w="122724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ไตรมาสที่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 / 25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เกิดจริ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เป้า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ปลี่ยนมาต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ับแจ้งท่อแตก รั่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ซ่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ัตราน้ำสูญเสี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900000" y="5877000"/>
            <a:ext cx="815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ctr" pos="5116680"/>
                <a:tab algn="ctr" pos="5837400"/>
                <a:tab algn="ctr" pos="6556320"/>
                <a:tab algn="ctr" pos="7256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ที่ม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  </a:t>
            </a: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สรุปผลการดำเนินงานประจำไตรมาส สำนักงานประปาเทศบาล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0" name="">
            <a:hlinkClick r:id="rId1"/>
          </p:cNvPr>
          <p:cNvSpPr/>
          <p:nvPr/>
        </p:nvSpPr>
        <p:spPr>
          <a:xfrm>
            <a:off x="8245440" y="6524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D8B-DAD5-49DF-B3B7-C9024EE28E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C8584-8B32-4F45-B74F-21364D77C47A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วิธีการเชิงวิเคราะห์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5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180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BEE-764B-4617-8C9C-BBB35DE653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50E1B-9411-4055-811E-F6D0D03647EF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วัตถุประสงค์ของงาน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ของธุรกิ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อะไรคือเป้าหมายหรือวัตถุประสงค์ที่ผู้บริหาร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ต้องการ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จะบรรลุ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วบคุ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อะไรคือการควบคุมที่ช่วยให้ผู้บริหาร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มั่นใจ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ว่าจะบรรลุเป้าหมายหรือวัตถุประสงค์ดังกล่าว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ของงาน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อะไรคือสิ่งที่ผู้ตรวจสอบต้องการ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พิสูจน์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กี่ยวกับการควบคุมดังกล่าว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96F-0C37-49E4-8689-DC85968F50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D14EF-4CBB-44CE-A790-41CF4E920786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ประเภทของการตรวจสอบ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และวัตถุประสงค์การควบคุมภายในที่เกี่ยวข้อ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1374840"/>
          <a:ext cx="8785440" cy="4722840"/>
        </p:xfrm>
        <a:graphic>
          <a:graphicData uri="http://schemas.openxmlformats.org/drawingml/2006/table">
            <a:tbl>
              <a:tblPr/>
              <a:tblGrid>
                <a:gridCol w="3240360"/>
                <a:gridCol w="1368360"/>
                <a:gridCol w="1224000"/>
                <a:gridCol w="1295280"/>
                <a:gridCol w="865080"/>
                <a:gridCol w="79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ภทของ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วัตถุประสงค์ของการควบคุมภายในแต่ละด้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th-TH" sz="1800" spc="-1" strike="noStrike">
                          <a:solidFill>
                            <a:srgbClr val="008000"/>
                          </a:solidFill>
                          <a:latin typeface="Tahoma"/>
                          <a:cs typeface="Tahoma"/>
                        </a:rPr>
                        <a:t>ขอบเขตเบื้อง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ขอบเขตรอง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วามถูกต้อง และเชื่อถือได้ของข้อมู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การปฏิบัติตาม กฎ ระเบียบ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วามปลอดภัย สินทรัพย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ระสิทธิภา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ระสิทธิผ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งบการเงิ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การปฏิบัต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คุณภา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การปฏิบัติตามนโยบาย ระเบียบ หรือกฎ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ระบบสารสนเท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ทุจร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66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เกี่ยวกับสิ่งแวดล้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Wingdings 2"/>
                          <a:ea typeface="Wingdings 2"/>
                        </a:rPr>
                        <a:t>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ngsana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55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04-AA8C-4135-889C-8C41809C89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8F738-3A9F-48AB-9F60-1C8C9F569B59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ตัวอย่างวัตถุประสงค์ทั่วไปสำหรับการตรวจแต่ละประเภ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628640"/>
          <a:ext cx="8351640" cy="443052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ภทของการตรวจ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อย่างวัตถุประสงค์ทั่วไ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95280" y="1989000"/>
          <a:ext cx="8351640" cy="63972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งบการเงิ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ให้ความเห็นเกี่ยวกับความเหมาะสมของงบการเงินและการนำเสนองบการเงิ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95280" y="2644920"/>
          <a:ext cx="8351640" cy="63972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การปฏิบัติการและการตรวจผลการปฏิบัติ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ระเมินประสิทธิผลและประสิทธิภาพของระบบการควบคุมการผลิตของผู้รับ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95280" y="3284640"/>
          <a:ext cx="8351640" cy="36504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คุณภา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ตรวจเปรียบเทียบคุณภาพของสินค้ากับมาตร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95280" y="3595680"/>
          <a:ext cx="8351640" cy="91440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การปฏิบัติตามนโยบาย ระเบียบ คำสั่ง แผนงาน มาตรฐานต่างๆ หรือกฎ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ะบุการปฏิบัติตามข้อกำหนดในทางกฎหมายสิ่งแวดล้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95280" y="4576680"/>
          <a:ext cx="8351640" cy="36504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สอบระบบสารสนเท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ระเมินความเชื่อถือได้ของระบบสารสนเท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95280" y="4941720"/>
          <a:ext cx="8351640" cy="63972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ทุจริ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ระเมินความน่าจะเป็นที่จะมีการทุจริตเกิดขึ้นในการปฏิบัติ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95280" y="5589720"/>
          <a:ext cx="8351640" cy="501480"/>
        </p:xfrm>
        <a:graphic>
          <a:graphicData uri="http://schemas.openxmlformats.org/drawingml/2006/table">
            <a:tbl>
              <a:tblPr/>
              <a:tblGrid>
                <a:gridCol w="3600360"/>
                <a:gridCol w="47512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เกี่ยวกับสิ่งแวดล้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ะบุความเหมาะสมในการจัดการสิ่งแวดล้อ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52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A50-6BD3-4343-8DA5-57FC0B73A8B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B0E69-F9D6-4DDE-AF5F-39D7F6FB36AE}" type="datetime1">
              <a:rPr lang="en-US"/>
              <a:t>07/30/26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วัตถุประสงค์ของงาน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ทำไม</a:t>
            </a:r>
            <a:r>
              <a:rPr b="0" lang="th-TH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ราจึงต้องตรวจสอบ 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หน่วยงาน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/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โครงการ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นี้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วัตถุประสงค์ทั่วไป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ทำไม</a:t>
            </a:r>
            <a:r>
              <a:rPr b="0" lang="th-TH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ราจึงต้องตรวจสอบ 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กระบวนการ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/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หัวข้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นี้ 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วัตถุประสงค์เฉพาะ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ทำไม</a:t>
            </a:r>
            <a:r>
              <a:rPr b="0" lang="th-TH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ราจึงต้องตรวจสอบ 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ขั้นตอน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นี้               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วัตถุประสงค์ย่อย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 u="sng">
                <a:solidFill>
                  <a:srgbClr val="ff0000"/>
                </a:solidFill>
                <a:uFillTx/>
                <a:latin typeface="Tahoma"/>
              </a:rPr>
              <a:t>วัตถุประสงค์ทั่วไป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ระบุว่าโรงงานมีระบบการจัดการสิ่งแวดล้อมที่เหมาะสมหรือไม่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 u="sng">
                <a:solidFill>
                  <a:srgbClr val="ff0000"/>
                </a:solidFill>
                <a:uFillTx/>
                <a:latin typeface="Tahoma"/>
              </a:rPr>
              <a:t>วัตถุประสงค์เฉพาะ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6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1.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ระบุว่าโรงงานปฏิบัติตามกฎหมายเกี่ยวกับสิ่งแวดล้อ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6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ระบุว่าน้ำเสียได้รับการบำบัดอย่างเหมาะสม 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ย่อย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6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ข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ระบุว่าคุณภาพน้ำทิ้งเป็นไปตามมาตรฐาน   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ย่อย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6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2.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ระบุว่าโรงงานปฏิบัติตามนโยบายและคู่มือการรักษาสิ่งแวดล้อ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6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3.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ประเมินคู่มือการปฏิบัติงานเหมาะสมและเป็นไปตามกฎหมา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11F-98CE-409F-AEA4-5315AEFD71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FAFCC-3821-48E3-841F-5071C56CD5C4}" type="datetime1">
              <a:rPr lang="en-US"/>
              <a:t>07/30/26</a:t>
            </a:fld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แนะนำผู้เข้ารับการอบรม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2708280"/>
            <a:ext cx="1576440" cy="1614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039760"/>
            <a:ext cx="82296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ชื่อเล่น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ที่ทำงาน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ประสบการณ์งานตรวจสอบ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คาดหวังจากหลักสูตร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Tahoma"/>
              </a:rPr>
              <a:t>เพลงโปรด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CFA-24EA-49E6-A69B-9B77C0D9BA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23CA4-BD3A-42B0-8E77-C16916307F9A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ขอบเขตของงาน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What / How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ปฏิบัติงานตรวจสอบ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อะไร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/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เป็นจำนวนเท่าใ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65400" indent="-3510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รวจสอบกระบวนการและหน่วยปฏิบัติงานที่สำคัญทั้งหมดในแผน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65400" indent="-3510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รวจสอบรายการคำสั่งซื้อจากเลขที่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-1-XX 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ถึงเลขที่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2-31-X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65400" indent="-3510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ุ่มทดสอบรายการที่เกิดขึ้นระหว่างวันที่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ค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2548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ถึง วันที่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31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ธ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ค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25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5CD-EB7C-4AFB-B006-609077A14B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4EBEF-D675-4071-AAEB-2A11CF454EA8}" type="datetime1">
              <a:rPr lang="en-US"/>
              <a:t>07/30/26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แผนการทดสอบและเก็บหลักฐ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จะบรรลุวัตถุประสงค์ของงานตรวจสอบที่ต้องการ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ได้อย่าง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เลือกตัวอย่าง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อย่าง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ทำการทดสอบ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อย่าง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อบทานคำสั่งซื้อ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30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ายการ เปรียบเทียบกับตัวอย่างลายเซ็นผู้มีอำนาจอนุมัต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รวจนับเงินสดในตู้นิรภั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ังเกตการทำงานของเจ้าหน้าที่รับเงินเปรียบเทียบกับที่มีอยู่ในคู่มือปฏิบัติ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159-F8E6-4035-A922-B3270DBEB1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60F5A-E5CD-4501-810B-798507906FE3}" type="datetime1">
              <a:rPr lang="en-US"/>
              <a:t>07/30/26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กำหนดวัตถุประสงค์งาน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ารตรวจสอบงานส่งสินค้า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hamber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5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1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C82-B9BF-4564-B07B-866B36143B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EDFA6-1E08-401D-96B1-9EBFDF033222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หลักตรรกะในงาน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udit Argument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อ้างเหตุผลเชิงตรรกะ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กอบด้ว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อ้าง และ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สรุ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ขียนในลักษณะ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กฏ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เป็นความรู้ที่ยอมรับกั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ข้อเท็จจริง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ซึ่งได้รับการยืนยันด้วยหลักฐาน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รวจสอ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สรุป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ข้อสรุป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องผู้ตรวจสอบ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จากการนำกฏมาใช้กับ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้อเท็จจริ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640-C7A6-4CB5-AB86-CF91FACB9E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CB09D-124D-4FC6-92E5-A1A383D2439D}" type="datetime1">
              <a:rPr lang="en-US"/>
              <a:t>07/30/26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อ้างเหตุผลแบบนิรนัย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22360" y="1483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การอ้างเหตุผลแบบนิรนัย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ve Reasoning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601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 คือ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ความเชื่อถือได้ของระบบไฟฟ้า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องโรง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1199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ะบบไฟฟ้าของโรงงานเชื่อถือได้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ถ้า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มีอยู่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ลอดเวลาหรือเครื่องปั่นไฟทำงานทดแทนทันที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มื่อไฟฟ้าดั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1199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ะบบไฟฟ้าของโรงงานมีอยู่ตลอดเวลาหรือ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ครื่องปั่นไฟทำงานทดแทนทันทีเมื่อไฟฟ้าดั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1199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สรุป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ะบบไฟฟ้าของโรงงานเชื่อถือ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240" indent="0">
              <a:spcBef>
                <a:spcPts val="1199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ข้ออ้างจริง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เป็นไปไม่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ข้อสรุปจะเป็นเท็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CD2-00FA-43A2-8FA0-D6AC381B76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886D0-A1BF-430F-A670-0235F7137308}" type="datetime1">
              <a:rPr lang="en-US"/>
              <a:t>07/30/26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อ้างเหตุผลแบบอุปนัย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2360" y="1483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7040" indent="-34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การอ้างเหตุผลแบบอุปนัย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tive Reasoning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 คือ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การควบคุมที่ดีในการอนุมัติราย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ารอนุมัติรายการมีการควบคุมที่ดี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ก็ต่อเมื่อ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ผู้มี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อำนาจได้ตรวจสอบและลงนามอนุมัติทุกราย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จาก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200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ายการที่สุ่มตัวอย่าง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พบว่าผู้มีอำนาจได้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ลงนามอนุมัติทุกรายการ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ยกเว้นเพีย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2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ราย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สรุป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ารอนุมัติรายการมีการควบคุมที่ด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ข้ออ้างจริง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มีความน่าจะเป็นสู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ข้อสรุปจะเป็นจริ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FEE-141E-429C-8067-B35E90A523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AB93A-B9DB-42FB-88CB-FCB3D245D3AD}" type="datetime1">
              <a:rPr lang="en-US"/>
              <a:t>07/30/26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อ้างเหตุผลที่ผิด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9800" y="146160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</a:rPr>
              <a:t>การอ้างเหตุผลผิด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บ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irming the Consequ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การตรวจ คือ</a:t>
            </a:r>
            <a:r>
              <a:rPr b="0" lang="th-TH" sz="2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กระบวนการผลิตเป็นไปตามกำหน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ถ้า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ะบวนการผลิตเป็นไปตามกำหนด สินค้า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จะส่งถึงลูกค้าตรงเวล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อ้าง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ินค้าส่งถึงลูกค้าตรงเวล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สรุป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ะบวนการผลิตเป็นไปตามกำหน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2100"/>
              </a:spcBef>
              <a:buNone/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อ้าง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ไม่จริ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ทำให้ข้อสรุปไม่เป็นจริ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55C-287E-4C20-AABC-8141CCD066B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6EB68-12CF-43E4-BF62-4AA797C41EEA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9280" y="957240"/>
          <a:ext cx="8713800" cy="5295960"/>
        </p:xfrm>
        <a:graphic>
          <a:graphicData uri="http://schemas.openxmlformats.org/drawingml/2006/table">
            <a:tbl>
              <a:tblPr/>
              <a:tblGrid>
                <a:gridCol w="6375600"/>
                <a:gridCol w="233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imes New Roman"/>
                        </a:rPr>
                        <a:t>ตัวอย่างประโย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nformal Fall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วิธีทำงานแบบนี้ถูกต้องแน่ เพราะเราทำอย่างนี้มา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20 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ีแล้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่วนสรุป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to Ignorance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ผมขอยืนยันว่าอาคารของเราต่อเติมถูกระเบียบทุกประการและสามารถใช้งานได้อย่างปลอดภั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ิดฝาผิดตัว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to Inappropriate Authority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สมุห์บัญชีเป็นคนขยันมาก ตลอด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20 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ปีไม่เคยขาดลามาสาย เป็นที่รักใคร่ไว้วางใจของทุกคน ไม่มีทางทุจริตแน่นอ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้างคนส่วนมาก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to Popular Belief and Attitudes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ราคงขายได้ตามเป้า ถ้าไม่ต้องเสียเวลาเพื่อคอยตอบคำถามคุ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ึกทัก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lse Cause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ายงานนี้มีที่ผิดพลาดอยู่ ผู้ตรวจสอบของคุณไม่มีความสามารถเลย และคุณเองก็สับเพร่าที่ไม่ตรวจทานให้ดีก่อนปล่อยรายงานที่เชื่อถือไม่ได้ฉบับนี้ออกม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ูดเหมาเอา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Hasty Generalization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ถ้าไม่ยอมให้พนักงานใช้รหัสผ่านของคนอื่นเพื่อช่วยกันเข้าข้อมูล เราก็จะไม่มีทางทำงานเสร็จทันตามกำหน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ิดตัวเลือก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lse Dilemma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685800" y="2602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ย่างของ</a:t>
            </a:r>
            <a:r>
              <a:rPr b="0" lang="th-TH" sz="2400" spc="-1" strike="noStrike">
                <a:solidFill>
                  <a:srgbClr val="0000ff"/>
                </a:solidFill>
                <a:latin typeface="Tahoma"/>
                <a:cs typeface="Tahoma"/>
              </a:rPr>
              <a:t>การทิ้งเหตุผล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formal Fallacy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07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38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EDD-119E-49EA-A0CE-A519537A316C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94CB7-A605-4AA3-B237-112727260319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50920" y="795240"/>
          <a:ext cx="8640720" cy="5624640"/>
        </p:xfrm>
        <a:graphic>
          <a:graphicData uri="http://schemas.openxmlformats.org/drawingml/2006/table">
            <a:tbl>
              <a:tblPr/>
              <a:tblGrid>
                <a:gridCol w="6321240"/>
                <a:gridCol w="231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imes New Roman"/>
                        </a:rPr>
                        <a:t>ตัวอย่างประโย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nformal Fall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ุณเลิกนิสัยชอบจับผิดชาวบ้านหรือยั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ถามนำ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Loaded Question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ะบบคอมพิวเตอร์เสียเพราะระบบขัดข้องและปัญหายังไม่ได้รับการแก้ไ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ายเรือในอ่าง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ircular Reasoning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ถ้าไม่เอาประเด็นนี้ออกจากรายงาน เรื่องได้ถึงผู้อำนวยการแน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อาอำนาจเข้าข่ม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to Force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ผู้ตรวจสอบของคุณแต่งตัวยังกับหลุดมาจากปกนิตยสาร คำแนะนำของเธอไม่มีทางจะได้ผลหรอ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แย้งที่ตัวบุคคล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Against the Person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การขอตรวจเครดิตลูกค้าทุกรายเท่ากับเป็นการยื่นส่วนแบ่งตลาดให้คู่แข่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้งตุ๊กตา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traw Man Fallacy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วิธีการนี้จะเพิ่มประสิทธิภาพงานได้มากที่สุด เพราะใช้ต้นทุนต่ำสุ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ีความเข้าข้างตัว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Definitional Dodge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ุณว่าเราไม่ได้กระทบยอดบัญชีเงินสดเหรอ คนของผมทำงานเลิกสี่ทุ่มทุกวัน เสาร์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อาทิตย์ก็ไม่เคยได้พัก จะเอาอะไรกันอี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อความเห็นใจ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ppeal for Pity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38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F95-C027-4F8E-8B8C-0701397F2967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ABE9B-3A63-4826-A97B-6A29A0D303FC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ิธีการทดสอบและเก็บหลักฐา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dit Procedu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96720" y="1268280"/>
          <a:ext cx="8351640" cy="50292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ธี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ำอธิบ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96720" y="1689120"/>
          <a:ext cx="8351640" cy="9270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ังเกตการณ์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bserv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ฝ้าดูการปฏิบัติงานและกิจกรรมต่างๆ ของผู้รับ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6720" y="2768760"/>
          <a:ext cx="8351640" cy="9144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ิดตามทีละขั้นตอน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l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rough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ฝ้าดูหรืออ่านจากเอกสารให้เข้าใจวิธีการปฏิบัติงานทีละขั้นตั้งแต่เริ่มต้นจนจบ เพื่อระบุว่ามีมาตรการควบคุมภายในในระบบ และได้ถูกจัดทำเป็นเอกสารหรือไม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96720" y="3954600"/>
          <a:ext cx="8351640" cy="5428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ยี่ยมชม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ur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ดินชมสถานที่และการปฏิบัติงานของผู้รับ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96720" y="4497480"/>
          <a:ext cx="8351640" cy="10872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Physical Exam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รวจตรา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amin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พินิจพิเคราะห์โดยละเอียด หรือพิจารณาหลักฐานทางกายภาพ เช่น วัตถุดิบ เครื่องจักร และ เอกสาร เป็น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96720" y="5792760"/>
          <a:ext cx="8351640" cy="50184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รวจนับ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unt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นับและระบุจำนวน วัดขนาด ปริมา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69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69F-BE0D-4201-A859-A049C5E4B58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DF796-4BEB-49C8-BDE3-57C8774ED6FB}" type="datetime1">
              <a:rPr lang="en-US"/>
              <a:t>07/30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วัตถุประสงค์การเรียนรู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สามารถกำหนดวัตถุประสงค์และขอบเขตการตรวจสอ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เข้าใจแนวคิด หลักการ ของขั้นตอนต่างๆ ในการปฏิบัติงาน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มีความรู้ความเข้าใจ เทคนิค และทักษะที่จำเป็น ในการปฏิบัติภารกิจงาน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สามารถนำความรู้ที่ได้ไปประยุกต์และปรับปรุงการตรวจสอบในการปฏิบัติงานจริ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491-1F84-4BD1-8B4B-DC3FC9F07D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26B14-06C3-4703-A066-AC2B0872D482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0360" y="692280"/>
          <a:ext cx="8351640" cy="54730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ธี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ำอธิบ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360360" y="1125360"/>
          <a:ext cx="8351640" cy="93996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qui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อบถาม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quiry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สัมภาษณ์และสอบถามคำถ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60360" y="2205000"/>
          <a:ext cx="8351640" cy="93672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ืนยัน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firmation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ติดต่อบุคคลภายนอกเพื่อเช็คสอบข้อมูลที่จัดทำโดย</a:t>
                      </a:r>
                      <a:br>
                        <a:rPr sz="1800"/>
                      </a:b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ผู้รับ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60360" y="3141720"/>
          <a:ext cx="8351640" cy="12492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Documentation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อกยอดรวม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ot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tend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การบวกตัวเลขโดยผู้ตรวจสอบเพื่อเปรียบเทียบกับยอดรวมในเอกสารของผู้รับการตรว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0360" y="4529160"/>
          <a:ext cx="8351640" cy="8460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รอย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c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ตามรอยรายการ หรือข้อมูล จากเอกสารต้นทางไปหาเอกสารปลายทา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60360" y="5373720"/>
          <a:ext cx="8351640" cy="93492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ช็คสอบเอกสาร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uch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ตรวจข้อมูล เทียบกับข้อมูลในเอกสารที่เป็นต้นฉบับ หรือเอกสารที่เชื่อถือได้มากกว่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69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CAC-56E5-4322-B399-3C38E37FB7DB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64EC8-96C1-4896-8CE8-6BFD5FBF1A0C}" type="datetime1">
              <a:rPr lang="en-US"/>
              <a:t>07/30/26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60360" y="547560"/>
          <a:ext cx="8352000" cy="5689800"/>
        </p:xfrm>
        <a:graphic>
          <a:graphicData uri="http://schemas.openxmlformats.org/drawingml/2006/table">
            <a:tbl>
              <a:tblPr/>
              <a:tblGrid>
                <a:gridCol w="2592360"/>
                <a:gridCol w="5759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ธี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ำอธิบ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60360" y="981000"/>
          <a:ext cx="8351640" cy="16588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ompar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ปรียบเทียบ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ar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ะบุลักษณะที่เหมือนหรือไม่เหมือนของข้อมูลจากแหล่งต่างๆ หรืออาจเปรียบเทียบกับค่ามาตรฐาน ค่าเฉลี่ย กฏระเบียบที่กำหนด ขึ้นกับวัตถุประสงค์ใน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60360" y="2781360"/>
          <a:ext cx="8351640" cy="93672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นวณ และคำนวณซ้ำ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comput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ป็นการคำนวณในทางคณิตศาสตร์ การคำนวณซ้ำจะกระทำเมื่อต้องการเช็คสอบความถูกต้องของตัวเลขที่คำนวณโดยผู้อื่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60360" y="4005360"/>
          <a:ext cx="8351640" cy="92844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บุความแตกต่าง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concil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ระบุและอธิบาย ความแตกต่างระหว่างตัวเลขและข้อมูลในเอกสารต่างๆ หรือข้อมูลจากแหล่งอื่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60360" y="4896000"/>
          <a:ext cx="8351640" cy="16300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เคราะห์ </a:t>
                      </a:r>
                      <a:br>
                        <a:rPr sz="1800"/>
                      </a:b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alys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แตกตัวเลขยอดสะสมออกเป็นยอดย่อยๆ หลายส่วน การวิเคราะห์ยังรวมถึงการทดสอบความสมเหตุสมผลของข้อมูลเชิงปริมาณโดยการคำนวณ และเปรียบเทียบอัตราส่วน ประมาณการ แนวโน้ม เพื่อระบุสิ่งผิดปกติหรือน่าสงสั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69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D28-4D45-4448-B986-BB62730DDF6A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3E21D-705F-47EE-ABF7-83D83410505D}" type="datetime1">
              <a:rPr lang="en-US"/>
              <a:t>07/30/2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6720" y="549360"/>
          <a:ext cx="8351640" cy="56160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ธีการตรวจสอ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ำอธิบ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96720" y="2637000"/>
          <a:ext cx="8351640" cy="8650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ุ่มตัวอย่าง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mpl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สุ่มตรวจตัวอย่างจำนวนหนึ่ง เพื่อให้ได้ข้อสรุปในจำนวนประชากรที่ใหญ่ขึ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96720" y="3500280"/>
          <a:ext cx="8351640" cy="56664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มิน 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valuat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ตัดสินในเรื่องคุณภา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96720" y="4187880"/>
          <a:ext cx="8351640" cy="132552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on Testing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บรรยาย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b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บรรยายแผนผังทางเดินของงาน กราฟ และตาราง เขียนพรรณนาโครงสร้างองค์กร วิธีปฏิบัติ ทรัพยากร ฯล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96720" y="5630760"/>
          <a:ext cx="8351640" cy="60660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ทำ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pare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จัดทำเป็นลายลักษณ์อักษ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96720" y="981000"/>
          <a:ext cx="8351640" cy="1361880"/>
        </p:xfrm>
        <a:graphic>
          <a:graphicData uri="http://schemas.openxmlformats.org/drawingml/2006/table">
            <a:tbl>
              <a:tblPr/>
              <a:tblGrid>
                <a:gridCol w="2592360"/>
                <a:gridCol w="575928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eneral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อบทานและตัดสินว่า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y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ทำให้ตนเองมั่นใจได้ในข้อมูลชิ้นนั้น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ว่าสอดคล้องกับ หรือได้รับการสนับสนุนโดยข้อมูลจากแหล่งอื่น และมีความน่าเชื่อถื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3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69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334-8FCF-4A12-8CD5-B06955E4DE6C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BA077-6261-49F0-BAE2-478CEC1BAF2C}" type="datetime1">
              <a:rPr lang="en-US"/>
              <a:t>07/30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จัดทำแผนการทด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4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e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60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24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F73-5671-4F86-A8BE-275A6C3A36D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FB671-6357-4958-BA63-A39DDEBE6258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419640" y="2922480"/>
            <a:ext cx="2304720" cy="23050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หลักฐานการ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rot="18874800">
            <a:off x="3097080" y="3895560"/>
            <a:ext cx="2590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ff"/>
                </a:solidFill>
                <a:latin typeface="Arial Black"/>
                <a:ea typeface="Tahoma"/>
              </a:rPr>
              <a:t>   </a:t>
            </a:r>
            <a:r>
              <a:rPr b="1" lang="en-US" sz="1600" spc="-1" strike="noStrike">
                <a:solidFill>
                  <a:srgbClr val="ff00ff"/>
                </a:solidFill>
                <a:latin typeface="Arial Black"/>
                <a:ea typeface="Tahoma"/>
              </a:rPr>
              <a:t>AUDIT</a:t>
            </a:r>
            <a:br>
              <a:rPr sz="1600"/>
            </a:br>
            <a:r>
              <a:rPr b="1" lang="en-US" sz="1600" spc="-1" strike="noStrike">
                <a:solidFill>
                  <a:srgbClr val="ff00ff"/>
                </a:solidFill>
                <a:latin typeface="Arial Black"/>
                <a:ea typeface="Tahoma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1" name=""/>
          <p:cNvSpPr/>
          <p:nvPr/>
        </p:nvSpPr>
        <p:spPr>
          <a:xfrm>
            <a:off x="3782880" y="2060640"/>
            <a:ext cx="2590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49760" indent="-149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ลักเกณฑ์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Tahoma"/>
                <a:ea typeface="Tahoma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2" name=""/>
          <p:cNvSpPr/>
          <p:nvPr/>
        </p:nvSpPr>
        <p:spPr>
          <a:xfrm>
            <a:off x="3782880" y="5372280"/>
            <a:ext cx="2590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49760" indent="-149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ผลกระทบ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Tahoma"/>
                <a:ea typeface="Tahoma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3" name=""/>
          <p:cNvSpPr/>
          <p:nvPr/>
        </p:nvSpPr>
        <p:spPr>
          <a:xfrm>
            <a:off x="5942160" y="3678120"/>
            <a:ext cx="2590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้อเท็จจริง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  <a:ea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4" name=""/>
          <p:cNvSpPr/>
          <p:nvPr/>
        </p:nvSpPr>
        <p:spPr>
          <a:xfrm>
            <a:off x="1476360" y="3641760"/>
            <a:ext cx="180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49760" indent="-14976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าเหตุ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Tahoma"/>
                <a:ea typeface="Tahoma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vidence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84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CFF-0E47-4289-80BA-874BBD48257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ECBA7-E5F6-45FA-AF4B-C495CA75D1A0}" type="datetime1">
              <a:rPr lang="en-US"/>
              <a:t>07/30/26</a:t>
            </a:fld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แนวทางการประเมินหลักฐ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วามเกี่ยวข้องหรือความสัมพันธ์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Relev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.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กี่ยวข้องกับวัตถุประสงค์การตรวจ 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Relevance to the Audit Objective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วามเชื่อถือได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ที่ยงธรรม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Objectivity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ป็นเอกสาร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Documentatio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4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มาจากบุคคลภายนอก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Third–party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ได้จากแหล่งข้อมูลโดยตร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Directnes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6.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ได้จากแหล่งที่มีระบบการควบคุมภายในที่ดี 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Internal Control System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111440" y="65530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8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3D1-05BC-4B6E-947D-4C3AAAE244B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9EFE6-8FFB-450E-B9F2-6F77496FD5B1}" type="datetime1">
              <a:rPr lang="en-US"/>
              <a:t>07/30/26</a:t>
            </a:fld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 rot="5400000">
            <a:off x="6942240" y="4095720"/>
            <a:ext cx="869760" cy="16891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แนวทางการประเมินหลักฐ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วามเพียงพอ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7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นาดตัวอย่า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Size of the Sample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8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ารสุ่มตัวอย่างเชิงสถิติ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Statistical Sampling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9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ได้รับการยืนยัน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rroboratio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วามมีประโยชน์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0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ทันกาล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Timelines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11.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้ำหนักแห่งพยานหลักฐาน 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Authoritativenes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 rot="8619600">
            <a:off x="6659280" y="4581000"/>
            <a:ext cx="1285920" cy="676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111440" y="65530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8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189-9619-4431-B18C-D9231E0BCE8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AD361-972D-4CB9-B82C-79E546CC68EC}" type="datetime1">
              <a:rPr lang="en-US"/>
              <a:t>07/30/26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หลักฐานการ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5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Plas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15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09308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9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C3C-A677-429B-912D-65663E34366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429E0-1E1A-4862-9B7C-AD1EC0FA57AA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rot="3975600">
            <a:off x="6818400" y="2837520"/>
            <a:ext cx="1089360" cy="2414520"/>
          </a:xfrm>
          <a:prstGeom prst="ellipse">
            <a:avLst/>
          </a:prstGeom>
          <a:solidFill>
            <a:srgbClr val="fb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ระดาษทำการ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1871640" cy="1709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07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ุชื่องาน   เรื่อง   วันเวลา   ที่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ัตถุประสงค์   ขอบเขต   และเนื้อหาสาร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ลขรหัส   รหัสอ้างอิ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ครื่องหมายที่แสดงวิธี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หล่งที่มาของข้อมู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ผู้จัดทำ   ผู้สอบทาน   และวันที่สอบท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รุป   ข้อสังเกต   ข้อเสนอแน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ะดาษทำการที่ใช้บ่อย 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ควรกำหนดเป็นรูปแบบมาตรฐ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>
            <a:hlinkClick r:id="rId2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7A8-2549-4210-B801-CAFA7B8B36B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60CE-E41A-459E-8468-A18C6607F139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เรื่องที่ตรวจพ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02144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้อเท็จจริงที่พบจาก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ข้อมูลและรายละเอียดสนับสนุนที่เพียงพ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เด็นเล็กน้อย อาจรายงานด้วยวาจาหรือรายงานอย่างไม่เป็นทาง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ปรียบเทียบสิ่งที่ควรจะเป็น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What should be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 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ับสิ่งที่เป็นอยู่จริ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What i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ถ้าการเปรียบเทียบมีผลตรงกัน ถือว่าได้ผลตรงตามวัตถุประสงค์</a:t>
            </a:r>
            <a:br>
              <a:rPr sz="2400"/>
            </a:b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ป็นที่น่าพอใจ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Satisfactory Performance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728-217E-47A0-8C93-32147255DBD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7E273-1933-4F1C-B168-A2252D30E77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0"/>
            <a:ext cx="785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แนะนำวิทยากร</a:t>
            </a:r>
            <a:endParaRPr b="0" lang="en-US" sz="3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831708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648-FD61-45B8-9B3E-7D5D8614A9D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63DC6-4E3E-4C30-A58F-4A68E4C240DE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The Five Attribu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354040" cy="2208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4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งค์ประกอบของเรื่องที่ตรวจพ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้อเท็จจริ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nditio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หลักเกณฑ์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riteria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าเหตุ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ause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ผลกระทบ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Effects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ข้อเสนอแนะ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commendation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D51-540C-4373-BBE0-69F2E5CE20B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5D9D6-5160-41EF-8199-0D2EE0E775EF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ข้อเท็จจริง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้อเท็จจริง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onditio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ระบุเพียงอาการของ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ปัญห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หนังสือค้ำประกันของลูกค้าในตู้จัดเก็บสัญญายังไม่ได้ลงนา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เช็คและใบเสร็จรับเงินของบริษัทไม่ได้ถูกใช้เรียงตามลำดับเลขที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ทะเบียนคุมการเข้าออกศูนย์คอมพิวเตอร์ไม่เป็นปัจจุบั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การเบิกจ่ายงบประมาณล่าช้ากว่าเป้าหมาย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0,000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ล้านบา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เครื่องจักรในสายการผลิต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เครื่องอยู่ในสภาพที่ใช้งานไม่ได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งานก่อสร้างอาคารหยุดชะงักเนื่องจากขาดแหล่งเงินสนับสนุ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ff"/>
                </a:solidFill>
                <a:latin typeface="Tahoma"/>
              </a:rPr>
              <a:t>ผู้ขายเครื่องคอมพิวเตอร์ให้บริษัทได้รับชำระเงินก่อนการตรวจรับสินค้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89B-42D2-4642-8A13-81730B6FF6D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0DE1-9DEF-4C4A-A983-0841A7883FE9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ข้อเสนอแน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61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ข้อเสนอแนะ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Recommendatio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แสดงถึงการขาดการวิเคราะห์ปัญห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2637000"/>
          <a:ext cx="8569080" cy="3460680"/>
        </p:xfrm>
        <a:graphic>
          <a:graphicData uri="http://schemas.openxmlformats.org/drawingml/2006/table">
            <a:tbl>
              <a:tblPr/>
              <a:tblGrid>
                <a:gridCol w="5545080"/>
                <a:gridCol w="302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ตรวจพ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50920" y="3112920"/>
          <a:ext cx="8569080" cy="935280"/>
        </p:xfrm>
        <a:graphic>
          <a:graphicData uri="http://schemas.openxmlformats.org/drawingml/2006/table">
            <a:tbl>
              <a:tblPr/>
              <a:tblGrid>
                <a:gridCol w="5545080"/>
                <a:gridCol w="30240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ตรวจสอบพบเจ้าหน้าที่คีย์ข้อมูลเลขประจำตัวลูกค้าผิด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ายการในเดือนสิงหาคม ทำให้ส่งใบทวงหนี้ผิดคน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จ้าหน้าที่ควรระมัดระวังในการคีย์ข้อมูลสำคัญให้ถูกต้อ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250920" y="4027320"/>
          <a:ext cx="8569080" cy="1295640"/>
        </p:xfrm>
        <a:graphic>
          <a:graphicData uri="http://schemas.openxmlformats.org/drawingml/2006/table">
            <a:tbl>
              <a:tblPr/>
              <a:tblGrid>
                <a:gridCol w="5545080"/>
                <a:gridCol w="30240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จ้าหน้าที่แผนกสำรวจเบิกเบี้ยเลี้ยงในวันที่เดินทางไปปฏิบัติงานไม่ครบจำนวนชั่วโมงตามหลักเกณฑ์ที่กำหนด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รั้ง ใน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4x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เป็นเงิน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,228.25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บาท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ควรดำเนินการทางวินัยกับเจ้าหน้าที่ และเรียกคืนเบี้ยเลี้ยงที่เบิกเกินหลักเกณฑ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50920" y="5322960"/>
          <a:ext cx="8569080" cy="865080"/>
        </p:xfrm>
        <a:graphic>
          <a:graphicData uri="http://schemas.openxmlformats.org/drawingml/2006/table">
            <a:tbl>
              <a:tblPr/>
              <a:tblGrid>
                <a:gridCol w="5545080"/>
                <a:gridCol w="30240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นักงานเขียน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ssword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หรับเข้าใช้ระบบงานสำคัญ ลงบนกระดาษโน้ตและปิดไว้ในที่ที่เห็นได้โดยเปิดเผ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พนักงานควรรักษา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password </a:t>
                      </a: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ป็นความลับเฉพาะตั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3A5-D5B1-49AE-9CF8-1873FA7D736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CCD4E-30AD-4AE2-9089-D73D35ABA4F0}" type="datetime1">
              <a:rPr lang="en-US"/>
              <a:t>07/30/26</a:t>
            </a:fld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สาเหตุ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45760" y="1628640"/>
            <a:ext cx="7986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าเหตุ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Cause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ของปัญหามักมาจาก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การบริหารจัดการ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ไม่ด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50920" y="2708280"/>
          <a:ext cx="8642160" cy="3181320"/>
        </p:xfrm>
        <a:graphic>
          <a:graphicData uri="http://schemas.openxmlformats.org/drawingml/2006/table">
            <a:tbl>
              <a:tblPr/>
              <a:tblGrid>
                <a:gridCol w="3673440"/>
                <a:gridCol w="1584360"/>
                <a:gridCol w="33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ัญห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9933"/>
                          </a:solidFill>
                          <a:latin typeface="Tahoma"/>
                          <a:cs typeface="Tahoma"/>
                        </a:rPr>
                        <a:t>สาเหตุ</a:t>
                      </a: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Tahoma"/>
                          <a:ea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ลูกค้าได้รับบริการเคลมประกันช้า หรือเรื่องหายไปเฉย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ff9933"/>
                          </a:solidFill>
                          <a:latin typeface="Tahoma"/>
                          <a:cs typeface="Tahoma"/>
                        </a:rPr>
                        <a:t>หน่วยเคลมไม่มีประสิทธิภา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ินค้าที่ผลิตถูกตีกลับเพราะคุณภาพไม่ได้มาตรฐ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9933"/>
                          </a:solidFill>
                          <a:latin typeface="Tahoma"/>
                          <a:cs typeface="Tahoma"/>
                        </a:rPr>
                        <a:t>การตรวจคุณภาพไม่ด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ฝ่ายประมวลผลพิมพ์และจัดส่งรายงานที่ไม่เป็นประโยชน์แก่ผู้ใช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9933"/>
                          </a:solidFill>
                          <a:latin typeface="Tahoma"/>
                          <a:cs typeface="Tahoma"/>
                        </a:rPr>
                        <a:t>โปรแกรมเมอร์ไม่เก่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ครงการของฝ่ายวิศวกรรมล่าช้ากว่ากำหน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9933"/>
                          </a:solidFill>
                          <a:latin typeface="Tahoma"/>
                          <a:cs typeface="Tahoma"/>
                        </a:rPr>
                        <a:t>วิศวกรไม่เอาใจใส่ทำ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50920" y="2708280"/>
          <a:ext cx="8642160" cy="3181320"/>
        </p:xfrm>
        <a:graphic>
          <a:graphicData uri="http://schemas.openxmlformats.org/drawingml/2006/table">
            <a:tbl>
              <a:tblPr/>
              <a:tblGrid>
                <a:gridCol w="3673440"/>
                <a:gridCol w="1584360"/>
                <a:gridCol w="33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สาเหตุจากการบริหารจัด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ขาดระบบทะเบียนกลางในการติดตาม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Planning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เจ้าหน้าที่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QC </a:t>
                      </a: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อยู่ใต้บังคับบัญชาของฝ่ายผลิต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rganizing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ฝ่ายประมวลผลไม่ทราบเพราะผู้ใช้ไม่เคยให้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Feedback</a:t>
                      </a: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Directing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788"/>
                        </a:spcBef>
                        <a:buClr>
                          <a:srgbClr val="66ff33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3333ff"/>
                          </a:solidFill>
                          <a:latin typeface="Tahoma"/>
                          <a:cs typeface="Tahoma"/>
                        </a:rPr>
                        <a:t>ไม่มีการรายงานความคืบหน้าและประเมินงานที่ล่าช้า 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ontrolling</a:t>
                      </a:r>
                      <a:r>
                        <a:rPr b="0" lang="th-TH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8BC-15DC-4036-A200-9E90A7AA49B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79E2A-E1DC-4790-8761-DB999A5D6869}" type="datetime1">
              <a:rPr lang="en-US"/>
              <a:t>07/30/26</a:t>
            </a:fld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รายงานการ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6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พลิงไหม้โรงงาน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Steven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5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471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AD6-0E59-4A9F-AFBB-BBC92A5D14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C2DA0-D42B-444B-AA16-D6B0D564061A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 rot="2806800">
            <a:off x="6658560" y="3501360"/>
            <a:ext cx="1152360" cy="1439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ประเภทของรายง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 rot="19986000">
            <a:off x="6300720" y="4219560"/>
            <a:ext cx="1395360" cy="140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23744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52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ายงานระหว่างกาล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im Repor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ายงานสรุป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Repor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ายงานการตรวจสอบขั้นสุดท้าย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Audit Report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7E7-1C8E-4E49-8A69-8E98844E6C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04EB0-221F-4127-B902-0400EAF10F0F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เนื้อหาของรายง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5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วัตถุประสงค์ของ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ขอบเขตของ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ผลการตรวจสอบ ซึ่งประกอบไปด้วย เรื่องที่ตรวจพบ ข้อเสนอแนะ แนวทางและแผนการแก้ไข และข้อสรุปหรือความเห็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ข้อมูลพื้นฐ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ความเห็นของผู้รับการตรวจสอบเกี่ยวกับผล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การชมเชยผลการดำเนินงาน หรือแนวการปฏิบัติที่ดีของผู้รับ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CF3-93CD-4058-84CE-D202DD9FC92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8C61C-7C78-46D0-943C-C95CB5A205E9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เทคนิคการรายงา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1655640" cy="1549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55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ำนึงถึงว่าใครเป็นผู้รับราย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ัดลำดับเรื่องสำคั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ในเชิงบวกหรือสร้างสรรค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เฉพาะข้อมูลที่เกี่ยวข้องในแต่ละประเด็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ให้ใช้เทคนิคการเขียนที่เป็น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Action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ขียนให้เห็นตัวอย่างที่ชัดเจนเพื่อสนับสนุนข้อเสนอแน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ขียนเรื่องที่ตรวจพบอย่างเป็นเหตุเป็นผล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Logical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ขียนให้ชัดเจน สั้นกระชับ แต่ครบถ้วนสมบูรณ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ขียนให้ถูกหลักไวยากรณ์ ใช้คำที่เข้าใจง่า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F9A-BA18-4530-8B2D-21C6A30432C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E5CB8-4FD4-4575-B831-934112812ADA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-36720" y="649440"/>
            <a:ext cx="90010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รายงานการตรวจสอบ </a:t>
            </a:r>
            <a:br>
              <a:rPr sz="2000"/>
            </a:br>
            <a:r>
              <a:rPr b="0" lang="th-TH" sz="2000" spc="-1" strike="noStrike" u="sng">
                <a:solidFill>
                  <a:srgbClr val="3333ff"/>
                </a:solidFill>
                <a:uFillTx/>
                <a:latin typeface="Tahoma"/>
              </a:rPr>
              <a:t>การควบคุมภายในธุรกิจสินเชื่อเพื่อการบริโภครถยนต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99ccff"/>
                </a:solidFill>
                <a:latin typeface="Tahoma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จากการสุ่มหยิบแฟ้มลูกค้าตามโต๊ะมาตรวจในแง่ของ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ความครบถ้วนถูกต้องของข้อมูลในระบบสินเชื่อและในแง่ของ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ะสิทธิผลของกระบวนการพิจารณาเครดิตโดยผู้ตรวจสอบ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ภายในผลการตรวจสอบปรากฏพบว่าเอกสารสำคัญไม่อยู่ในแฟ้มผู้กู้ ส่วนในแง่ของข้อมูลหลักประกันเงินให้กู้ยืมในสัญญาเช่าซื้อก็มีความไม่ถูกต้องและดูเหมือนกับว่าผู้บริหารมีการขาดความระมัดระวังในแง่ของการสังเกตุเงื่อนไขการปล่อยเงินกู้โดยยังคงมีการอนุมัตสินเชื่อเกินกว่าอำนาจที่คณะกรรมการทำการมอบหมายให้บ่อยครั้ง นอกจากนั้น ก็มีความแตกต่างกันในแง่ของข้อมูลยอ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anc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ูกหนี้ในระบบเช่าซื้อและระบบ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P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สิ้นเดือนที่แล้วถึง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3222.5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บาท ซึ่งจำนวนที่แตกต่างกันถึงสองบาทนั้นมีการคลั่งค้างในระบบนี้มาเนิ่นนานแล้วและไม่ได้ถูกทำการกระทบยอดแล้วดำเนินการตรวจสอบหาสาเหตตั้งแต่ผังบัญชีใ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 FI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ด้รับการปรับปรุงครั้งก่อนหน้านั้น ซึ่งผู้ตรวจสอบมีความเห็นว่านายองอาจ ญาติระอ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รือผู้จัดการฝ่า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re Perchas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คนปัจจุบันไม่ควรทำอะไรแบบนี้และควรได้รับการกำชับให้ซีเรียสกับการปฏิบัติหน้าที่เรื่องดังกล่าวนั้นให้มากกว่านี้และข้อบกพร่องอย่างที่เกิดขึ้นนี้นั้นควรได้รับการแก้เสียให้เรียบร้อ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732720" y="325440"/>
            <a:ext cx="2061720" cy="1447560"/>
            <a:chOff x="6732720" y="325440"/>
            <a:chExt cx="2061720" cy="1447560"/>
          </a:xfrm>
        </p:grpSpPr>
        <p:grpSp>
          <p:nvGrpSpPr>
            <p:cNvPr id="414" name=""/>
            <p:cNvGrpSpPr/>
            <p:nvPr/>
          </p:nvGrpSpPr>
          <p:grpSpPr>
            <a:xfrm>
              <a:off x="6930000" y="644760"/>
              <a:ext cx="1864440" cy="1128240"/>
              <a:chOff x="6930000" y="644760"/>
              <a:chExt cx="1864440" cy="11282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8448120" y="1154880"/>
                <a:ext cx="346320" cy="618120"/>
                <a:chOff x="8448120" y="1154880"/>
                <a:chExt cx="346320" cy="618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448120" y="1154880"/>
                  <a:ext cx="346320" cy="618120"/>
                </a:xfrm>
                <a:custGeom>
                  <a:avLst/>
                  <a:gdLst/>
                  <a:ahLst/>
                  <a:rect l="l" t="t" r="r" b="b"/>
                  <a:pathLst>
                    <a:path w="675" h="1203">
                      <a:moveTo>
                        <a:pt x="675" y="67"/>
                      </a:moveTo>
                      <a:lnTo>
                        <a:pt x="675" y="1203"/>
                      </a:lnTo>
                      <a:lnTo>
                        <a:pt x="196" y="1203"/>
                      </a:lnTo>
                      <a:lnTo>
                        <a:pt x="0" y="410"/>
                      </a:lnTo>
                      <a:lnTo>
                        <a:pt x="152" y="0"/>
                      </a:lnTo>
                      <a:lnTo>
                        <a:pt x="675" y="67"/>
                      </a:lnTo>
                      <a:close/>
                    </a:path>
                  </a:pathLst>
                </a:custGeom>
                <a:solidFill>
                  <a:srgbClr val="a04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77280" y="1203840"/>
                  <a:ext cx="165960" cy="568800"/>
                </a:xfrm>
                <a:custGeom>
                  <a:avLst/>
                  <a:gdLst/>
                  <a:ahLst/>
                  <a:rect l="l" t="t" r="r" b="b"/>
                  <a:pathLst>
                    <a:path w="322" h="1107">
                      <a:moveTo>
                        <a:pt x="70" y="178"/>
                      </a:moveTo>
                      <a:lnTo>
                        <a:pt x="155" y="260"/>
                      </a:lnTo>
                      <a:lnTo>
                        <a:pt x="186" y="290"/>
                      </a:lnTo>
                      <a:lnTo>
                        <a:pt x="231" y="0"/>
                      </a:lnTo>
                      <a:lnTo>
                        <a:pt x="223" y="319"/>
                      </a:lnTo>
                      <a:lnTo>
                        <a:pt x="308" y="448"/>
                      </a:lnTo>
                      <a:lnTo>
                        <a:pt x="299" y="851"/>
                      </a:lnTo>
                      <a:lnTo>
                        <a:pt x="322" y="1107"/>
                      </a:lnTo>
                      <a:lnTo>
                        <a:pt x="47" y="1107"/>
                      </a:lnTo>
                      <a:lnTo>
                        <a:pt x="0" y="478"/>
                      </a:lnTo>
                      <a:lnTo>
                        <a:pt x="70" y="178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686800" y="1208520"/>
                  <a:ext cx="99720" cy="564120"/>
                </a:xfrm>
                <a:custGeom>
                  <a:avLst/>
                  <a:gdLst/>
                  <a:ahLst/>
                  <a:rect l="l" t="t" r="r" b="b"/>
                  <a:pathLst>
                    <a:path w="194" h="1099">
                      <a:moveTo>
                        <a:pt x="24" y="0"/>
                      </a:moveTo>
                      <a:lnTo>
                        <a:pt x="8" y="223"/>
                      </a:lnTo>
                      <a:lnTo>
                        <a:pt x="0" y="358"/>
                      </a:lnTo>
                      <a:lnTo>
                        <a:pt x="38" y="380"/>
                      </a:lnTo>
                      <a:lnTo>
                        <a:pt x="52" y="679"/>
                      </a:lnTo>
                      <a:lnTo>
                        <a:pt x="115" y="956"/>
                      </a:lnTo>
                      <a:lnTo>
                        <a:pt x="139" y="1099"/>
                      </a:lnTo>
                      <a:lnTo>
                        <a:pt x="174" y="1099"/>
                      </a:lnTo>
                      <a:lnTo>
                        <a:pt x="177" y="948"/>
                      </a:lnTo>
                      <a:lnTo>
                        <a:pt x="194" y="806"/>
                      </a:lnTo>
                      <a:lnTo>
                        <a:pt x="170" y="634"/>
                      </a:lnTo>
                      <a:lnTo>
                        <a:pt x="130" y="553"/>
                      </a:lnTo>
                      <a:lnTo>
                        <a:pt x="100" y="501"/>
                      </a:lnTo>
                      <a:lnTo>
                        <a:pt x="69" y="29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715600" y="1173240"/>
                  <a:ext cx="59760" cy="272520"/>
                </a:xfrm>
                <a:custGeom>
                  <a:avLst/>
                  <a:gdLst/>
                  <a:ahLst/>
                  <a:rect l="l" t="t" r="r" b="b"/>
                  <a:pathLst>
                    <a:path w="115" h="529">
                      <a:moveTo>
                        <a:pt x="0" y="98"/>
                      </a:moveTo>
                      <a:lnTo>
                        <a:pt x="115" y="529"/>
                      </a:lnTo>
                      <a:lnTo>
                        <a:pt x="17" y="0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642160" y="1224000"/>
                  <a:ext cx="90720" cy="548640"/>
                </a:xfrm>
                <a:custGeom>
                  <a:avLst/>
                  <a:gdLst/>
                  <a:ahLst/>
                  <a:rect l="l" t="t" r="r" b="b"/>
                  <a:pathLst>
                    <a:path w="177" h="1069">
                      <a:moveTo>
                        <a:pt x="23" y="0"/>
                      </a:moveTo>
                      <a:lnTo>
                        <a:pt x="40" y="289"/>
                      </a:lnTo>
                      <a:lnTo>
                        <a:pt x="54" y="455"/>
                      </a:lnTo>
                      <a:lnTo>
                        <a:pt x="94" y="500"/>
                      </a:lnTo>
                      <a:lnTo>
                        <a:pt x="110" y="575"/>
                      </a:lnTo>
                      <a:lnTo>
                        <a:pt x="177" y="1069"/>
                      </a:lnTo>
                      <a:lnTo>
                        <a:pt x="47" y="1065"/>
                      </a:lnTo>
                      <a:lnTo>
                        <a:pt x="0" y="523"/>
                      </a:lnTo>
                      <a:lnTo>
                        <a:pt x="7" y="22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728200" y="1200960"/>
                  <a:ext cx="57960" cy="260280"/>
                </a:xfrm>
                <a:custGeom>
                  <a:avLst/>
                  <a:gdLst/>
                  <a:ahLst/>
                  <a:rect l="l" t="t" r="r" b="b"/>
                  <a:pathLst>
                    <a:path w="115" h="507">
                      <a:moveTo>
                        <a:pt x="0" y="21"/>
                      </a:moveTo>
                      <a:lnTo>
                        <a:pt x="58" y="270"/>
                      </a:lnTo>
                      <a:lnTo>
                        <a:pt x="115" y="507"/>
                      </a:lnTo>
                      <a:lnTo>
                        <a:pt x="90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736120" y="1496880"/>
                  <a:ext cx="42840" cy="275760"/>
                </a:xfrm>
                <a:custGeom>
                  <a:avLst/>
                  <a:gdLst/>
                  <a:ahLst/>
                  <a:rect l="l" t="t" r="r" b="b"/>
                  <a:pathLst>
                    <a:path w="84" h="537">
                      <a:moveTo>
                        <a:pt x="0" y="0"/>
                      </a:moveTo>
                      <a:lnTo>
                        <a:pt x="34" y="233"/>
                      </a:lnTo>
                      <a:lnTo>
                        <a:pt x="67" y="489"/>
                      </a:lnTo>
                      <a:lnTo>
                        <a:pt x="84" y="537"/>
                      </a:lnTo>
                      <a:lnTo>
                        <a:pt x="84" y="368"/>
                      </a:lnTo>
                      <a:lnTo>
                        <a:pt x="76" y="218"/>
                      </a:lnTo>
                      <a:lnTo>
                        <a:pt x="51" y="1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631360" y="1215000"/>
                  <a:ext cx="27360" cy="237240"/>
                </a:xfrm>
                <a:custGeom>
                  <a:avLst/>
                  <a:gdLst/>
                  <a:ahLst/>
                  <a:rect l="l" t="t" r="r" b="b"/>
                  <a:pathLst>
                    <a:path w="54" h="462">
                      <a:moveTo>
                        <a:pt x="54" y="0"/>
                      </a:moveTo>
                      <a:lnTo>
                        <a:pt x="36" y="256"/>
                      </a:lnTo>
                      <a:lnTo>
                        <a:pt x="36" y="462"/>
                      </a:lnTo>
                      <a:lnTo>
                        <a:pt x="0" y="326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637120" y="1486080"/>
                  <a:ext cx="50760" cy="286560"/>
                </a:xfrm>
                <a:custGeom>
                  <a:avLst/>
                  <a:gdLst/>
                  <a:ahLst/>
                  <a:rect l="l" t="t" r="r" b="b"/>
                  <a:pathLst>
                    <a:path w="99" h="559">
                      <a:moveTo>
                        <a:pt x="17" y="0"/>
                      </a:moveTo>
                      <a:lnTo>
                        <a:pt x="41" y="226"/>
                      </a:lnTo>
                      <a:lnTo>
                        <a:pt x="59" y="384"/>
                      </a:lnTo>
                      <a:lnTo>
                        <a:pt x="99" y="559"/>
                      </a:lnTo>
                      <a:lnTo>
                        <a:pt x="50" y="559"/>
                      </a:lnTo>
                      <a:lnTo>
                        <a:pt x="9" y="317"/>
                      </a:lnTo>
                      <a:lnTo>
                        <a:pt x="0" y="15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551440" y="1541880"/>
                  <a:ext cx="53640" cy="229680"/>
                </a:xfrm>
                <a:custGeom>
                  <a:avLst/>
                  <a:gdLst/>
                  <a:ahLst/>
                  <a:rect l="l" t="t" r="r" b="b"/>
                  <a:pathLst>
                    <a:path w="107" h="446">
                      <a:moveTo>
                        <a:pt x="0" y="0"/>
                      </a:moveTo>
                      <a:lnTo>
                        <a:pt x="75" y="274"/>
                      </a:lnTo>
                      <a:lnTo>
                        <a:pt x="107" y="4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705160" y="1242360"/>
                  <a:ext cx="39600" cy="248040"/>
                </a:xfrm>
                <a:custGeom>
                  <a:avLst/>
                  <a:gdLst/>
                  <a:ahLst/>
                  <a:rect l="l" t="t" r="r" b="b"/>
                  <a:pathLst>
                    <a:path w="77" h="485">
                      <a:moveTo>
                        <a:pt x="0" y="0"/>
                      </a:moveTo>
                      <a:lnTo>
                        <a:pt x="17" y="203"/>
                      </a:lnTo>
                      <a:lnTo>
                        <a:pt x="50" y="364"/>
                      </a:lnTo>
                      <a:lnTo>
                        <a:pt x="77" y="485"/>
                      </a:lnTo>
                      <a:lnTo>
                        <a:pt x="68" y="272"/>
                      </a:lnTo>
                      <a:lnTo>
                        <a:pt x="50" y="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546400" y="1215000"/>
                  <a:ext cx="47520" cy="288000"/>
                </a:xfrm>
                <a:custGeom>
                  <a:avLst/>
                  <a:gdLst/>
                  <a:ahLst/>
                  <a:rect l="l" t="t" r="r" b="b"/>
                  <a:pathLst>
                    <a:path w="92" h="559">
                      <a:moveTo>
                        <a:pt x="92" y="0"/>
                      </a:moveTo>
                      <a:lnTo>
                        <a:pt x="67" y="165"/>
                      </a:lnTo>
                      <a:lnTo>
                        <a:pt x="58" y="308"/>
                      </a:lnTo>
                      <a:lnTo>
                        <a:pt x="43" y="461"/>
                      </a:lnTo>
                      <a:lnTo>
                        <a:pt x="43" y="559"/>
                      </a:lnTo>
                      <a:lnTo>
                        <a:pt x="0" y="346"/>
                      </a:lnTo>
                      <a:lnTo>
                        <a:pt x="18" y="188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930000" y="644760"/>
                <a:ext cx="1672200" cy="1128240"/>
                <a:chOff x="6930000" y="644760"/>
                <a:chExt cx="1672200" cy="1128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930000" y="936000"/>
                  <a:ext cx="1672200" cy="837000"/>
                </a:xfrm>
                <a:custGeom>
                  <a:avLst/>
                  <a:gdLst/>
                  <a:ahLst/>
                  <a:rect l="l" t="t" r="r" b="b"/>
                  <a:pathLst>
                    <a:path w="3256" h="1630">
                      <a:moveTo>
                        <a:pt x="0" y="1630"/>
                      </a:moveTo>
                      <a:lnTo>
                        <a:pt x="1375" y="0"/>
                      </a:lnTo>
                      <a:lnTo>
                        <a:pt x="2937" y="0"/>
                      </a:lnTo>
                      <a:lnTo>
                        <a:pt x="3256" y="1630"/>
                      </a:lnTo>
                      <a:lnTo>
                        <a:pt x="0" y="1630"/>
                      </a:lnTo>
                      <a:close/>
                    </a:path>
                  </a:pathLst>
                </a:custGeom>
                <a:solidFill>
                  <a:srgbClr val="a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7411680" y="644760"/>
                  <a:ext cx="966240" cy="1127880"/>
                  <a:chOff x="7411680" y="644760"/>
                  <a:chExt cx="966240" cy="112788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7423920" y="1420200"/>
                    <a:ext cx="538560" cy="352440"/>
                    <a:chOff x="7423920" y="1420200"/>
                    <a:chExt cx="538560" cy="35244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423920" y="1421640"/>
                      <a:ext cx="53856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8" h="685">
                          <a:moveTo>
                            <a:pt x="233" y="0"/>
                          </a:moveTo>
                          <a:lnTo>
                            <a:pt x="1048" y="0"/>
                          </a:lnTo>
                          <a:lnTo>
                            <a:pt x="1018" y="685"/>
                          </a:lnTo>
                          <a:lnTo>
                            <a:pt x="0" y="685"/>
                          </a:lnTo>
                          <a:lnTo>
                            <a:pt x="233" y="0"/>
                          </a:lnTo>
                          <a:close/>
                        </a:path>
                      </a:pathLst>
                    </a:custGeom>
                    <a:solidFill>
                      <a:srgbClr val="c0e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7529760" y="1420200"/>
                      <a:ext cx="4323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1" h="79">
                          <a:moveTo>
                            <a:pt x="22" y="0"/>
                          </a:moveTo>
                          <a:lnTo>
                            <a:pt x="0" y="79"/>
                          </a:lnTo>
                          <a:lnTo>
                            <a:pt x="838" y="79"/>
                          </a:lnTo>
                          <a:lnTo>
                            <a:pt x="841" y="0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7411680" y="644760"/>
                    <a:ext cx="966240" cy="751680"/>
                    <a:chOff x="7411680" y="644760"/>
                    <a:chExt cx="966240" cy="751680"/>
                  </a:xfrm>
                </p:grpSpPr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7411680" y="644760"/>
                      <a:ext cx="924120" cy="689760"/>
                      <a:chOff x="7411680" y="644760"/>
                      <a:chExt cx="924120" cy="689760"/>
                    </a:xfrm>
                  </p:grpSpPr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7411680" y="875880"/>
                        <a:ext cx="924120" cy="458640"/>
                        <a:chOff x="7411680" y="875880"/>
                        <a:chExt cx="924120" cy="458640"/>
                      </a:xfrm>
                    </p:grpSpPr>
                    <p:grpSp>
                      <p:nvGrpSpPr>
                        <p:cNvPr id="437" name=""/>
                        <p:cNvGrpSpPr/>
                        <p:nvPr/>
                      </p:nvGrpSpPr>
                      <p:grpSpPr>
                        <a:xfrm>
                          <a:off x="7419240" y="875880"/>
                          <a:ext cx="916560" cy="457200"/>
                          <a:chOff x="7419240" y="875880"/>
                          <a:chExt cx="916560" cy="457200"/>
                        </a:xfrm>
                      </p:grpSpPr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419240" y="977400"/>
                            <a:ext cx="326160" cy="12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7" h="242">
                                <a:moveTo>
                                  <a:pt x="0" y="242"/>
                                </a:moveTo>
                                <a:lnTo>
                                  <a:pt x="42" y="242"/>
                                </a:lnTo>
                                <a:lnTo>
                                  <a:pt x="637" y="9"/>
                                </a:lnTo>
                                <a:lnTo>
                                  <a:pt x="618" y="0"/>
                                </a:lnTo>
                                <a:lnTo>
                                  <a:pt x="0" y="24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grpSp>
                        <p:nvGrpSpPr>
                          <p:cNvPr id="439" name=""/>
                          <p:cNvGrpSpPr/>
                          <p:nvPr/>
                        </p:nvGrpSpPr>
                        <p:grpSpPr>
                          <a:xfrm>
                            <a:off x="7497720" y="875880"/>
                            <a:ext cx="838080" cy="457200"/>
                            <a:chOff x="7497720" y="875880"/>
                            <a:chExt cx="838080" cy="457200"/>
                          </a:xfrm>
                        </p:grpSpPr>
                        <p:sp>
                          <p:nvSpPr>
                            <p:cNvPr id="440" name=""/>
                            <p:cNvSpPr/>
                            <p:nvPr/>
                          </p:nvSpPr>
                          <p:spPr>
                            <a:xfrm>
                              <a:off x="7833240" y="1062000"/>
                              <a:ext cx="495000" cy="27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66" h="527">
                                  <a:moveTo>
                                    <a:pt x="966" y="0"/>
                                  </a:moveTo>
                                  <a:lnTo>
                                    <a:pt x="422" y="212"/>
                                  </a:lnTo>
                                  <a:lnTo>
                                    <a:pt x="422" y="238"/>
                                  </a:lnTo>
                                  <a:lnTo>
                                    <a:pt x="417" y="253"/>
                                  </a:lnTo>
                                  <a:lnTo>
                                    <a:pt x="415" y="260"/>
                                  </a:lnTo>
                                  <a:lnTo>
                                    <a:pt x="407" y="270"/>
                                  </a:lnTo>
                                  <a:lnTo>
                                    <a:pt x="304" y="317"/>
                                  </a:lnTo>
                                  <a:lnTo>
                                    <a:pt x="299" y="332"/>
                                  </a:lnTo>
                                  <a:lnTo>
                                    <a:pt x="0" y="458"/>
                                  </a:lnTo>
                                  <a:lnTo>
                                    <a:pt x="0" y="527"/>
                                  </a:lnTo>
                                  <a:lnTo>
                                    <a:pt x="10" y="527"/>
                                  </a:lnTo>
                                  <a:lnTo>
                                    <a:pt x="955" y="115"/>
                                  </a:lnTo>
                                  <a:lnTo>
                                    <a:pt x="959" y="113"/>
                                  </a:lnTo>
                                  <a:lnTo>
                                    <a:pt x="963" y="108"/>
                                  </a:lnTo>
                                  <a:lnTo>
                                    <a:pt x="966" y="97"/>
                                  </a:lnTo>
                                  <a:lnTo>
                                    <a:pt x="96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606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41" name=""/>
                            <p:cNvSpPr/>
                            <p:nvPr/>
                          </p:nvSpPr>
                          <p:spPr>
                            <a:xfrm>
                              <a:off x="8268480" y="1082160"/>
                              <a:ext cx="33480" cy="35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7" h="71">
                                  <a:moveTo>
                                    <a:pt x="0" y="29"/>
                                  </a:moveTo>
                                  <a:lnTo>
                                    <a:pt x="67" y="0"/>
                                  </a:lnTo>
                                  <a:lnTo>
                                    <a:pt x="67" y="41"/>
                                  </a:lnTo>
                                  <a:lnTo>
                                    <a:pt x="0" y="71"/>
                                  </a:lnTo>
                                  <a:lnTo>
                                    <a:pt x="0" y="2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7497720" y="875880"/>
                              <a:ext cx="838080" cy="455760"/>
                              <a:chOff x="7497720" y="875880"/>
                              <a:chExt cx="838080" cy="45576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>
                                <a:off x="7703640" y="914040"/>
                                <a:ext cx="55440" cy="83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8" h="160">
                                    <a:moveTo>
                                      <a:pt x="86" y="0"/>
                                    </a:moveTo>
                                    <a:lnTo>
                                      <a:pt x="108" y="160"/>
                                    </a:lnTo>
                                    <a:lnTo>
                                      <a:pt x="0" y="121"/>
                                    </a:lnTo>
                                    <a:lnTo>
                                      <a:pt x="8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360" bIns="3636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>
                                <a:off x="7497720" y="1066680"/>
                                <a:ext cx="339840" cy="235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4" h="457">
                                    <a:moveTo>
                                      <a:pt x="0" y="27"/>
                                    </a:moveTo>
                                    <a:lnTo>
                                      <a:pt x="664" y="457"/>
                                    </a:lnTo>
                                    <a:lnTo>
                                      <a:pt x="664" y="394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0" y="2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5" name=""/>
                              <p:cNvSpPr/>
                              <p:nvPr/>
                            </p:nvSpPr>
                            <p:spPr>
                              <a:xfrm>
                                <a:off x="7833240" y="1157760"/>
                                <a:ext cx="221400" cy="146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3" h="286">
                                    <a:moveTo>
                                      <a:pt x="0" y="286"/>
                                    </a:moveTo>
                                    <a:lnTo>
                                      <a:pt x="0" y="207"/>
                                    </a:lnTo>
                                    <a:lnTo>
                                      <a:pt x="433" y="0"/>
                                    </a:lnTo>
                                    <a:lnTo>
                                      <a:pt x="433" y="102"/>
                                    </a:lnTo>
                                    <a:lnTo>
                                      <a:pt x="0" y="28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>
                                <a:off x="7945200" y="1006560"/>
                                <a:ext cx="141120" cy="151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78" h="292">
                                    <a:moveTo>
                                      <a:pt x="6" y="0"/>
                                    </a:moveTo>
                                    <a:lnTo>
                                      <a:pt x="0" y="204"/>
                                    </a:lnTo>
                                    <a:lnTo>
                                      <a:pt x="209" y="292"/>
                                    </a:lnTo>
                                    <a:lnTo>
                                      <a:pt x="278" y="131"/>
                                    </a:lnTo>
                                    <a:lnTo>
                                      <a:pt x="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>
                                <a:off x="7734240" y="915480"/>
                                <a:ext cx="129240" cy="127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51" h="249">
                                    <a:moveTo>
                                      <a:pt x="18" y="0"/>
                                    </a:moveTo>
                                    <a:lnTo>
                                      <a:pt x="0" y="166"/>
                                    </a:lnTo>
                                    <a:lnTo>
                                      <a:pt x="174" y="249"/>
                                    </a:lnTo>
                                    <a:lnTo>
                                      <a:pt x="251" y="110"/>
                                    </a:lnTo>
                                    <a:lnTo>
                                      <a:pt x="1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8" name=""/>
                              <p:cNvSpPr/>
                              <p:nvPr/>
                            </p:nvSpPr>
                            <p:spPr>
                              <a:xfrm>
                                <a:off x="7911360" y="1020240"/>
                                <a:ext cx="44640" cy="8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9" h="167">
                                    <a:moveTo>
                                      <a:pt x="89" y="0"/>
                                    </a:moveTo>
                                    <a:lnTo>
                                      <a:pt x="89" y="167"/>
                                    </a:lnTo>
                                    <a:lnTo>
                                      <a:pt x="0" y="120"/>
                                    </a:lnTo>
                                    <a:lnTo>
                                      <a:pt x="8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240" bIns="3924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>
                                <a:off x="7497720" y="1080360"/>
                                <a:ext cx="339840" cy="251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4" h="490">
                                    <a:moveTo>
                                      <a:pt x="664" y="422"/>
                                    </a:moveTo>
                                    <a:lnTo>
                                      <a:pt x="664" y="49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664" y="42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>
                                <a:off x="7951320" y="875880"/>
                                <a:ext cx="384480" cy="155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9" h="302">
                                    <a:moveTo>
                                      <a:pt x="0" y="24"/>
                                    </a:moveTo>
                                    <a:lnTo>
                                      <a:pt x="640" y="302"/>
                                    </a:lnTo>
                                    <a:lnTo>
                                      <a:pt x="749" y="265"/>
                                    </a:lnTo>
                                    <a:lnTo>
                                      <a:pt x="132" y="0"/>
                                    </a:lnTo>
                                    <a:lnTo>
                                      <a:pt x="0" y="2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1" name=""/>
                              <p:cNvSpPr/>
                              <p:nvPr/>
                            </p:nvSpPr>
                            <p:spPr>
                              <a:xfrm>
                                <a:off x="8251200" y="1006560"/>
                                <a:ext cx="84600" cy="87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66" h="170">
                                    <a:moveTo>
                                      <a:pt x="166" y="0"/>
                                    </a:moveTo>
                                    <a:lnTo>
                                      <a:pt x="48" y="38"/>
                                    </a:lnTo>
                                    <a:lnTo>
                                      <a:pt x="0" y="170"/>
                                    </a:lnTo>
                                    <a:lnTo>
                                      <a:pt x="166" y="108"/>
                                    </a:lnTo>
                                    <a:lnTo>
                                      <a:pt x="16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2" name=""/>
                              <p:cNvSpPr/>
                              <p:nvPr/>
                            </p:nvSpPr>
                            <p:spPr>
                              <a:xfrm>
                                <a:off x="7696080" y="887760"/>
                                <a:ext cx="585720" cy="198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42" h="387">
                                    <a:moveTo>
                                      <a:pt x="512" y="0"/>
                                    </a:moveTo>
                                    <a:lnTo>
                                      <a:pt x="67" y="51"/>
                                    </a:lnTo>
                                    <a:lnTo>
                                      <a:pt x="0" y="149"/>
                                    </a:lnTo>
                                    <a:lnTo>
                                      <a:pt x="16" y="177"/>
                                    </a:lnTo>
                                    <a:lnTo>
                                      <a:pt x="93" y="63"/>
                                    </a:lnTo>
                                    <a:lnTo>
                                      <a:pt x="295" y="166"/>
                                    </a:lnTo>
                                    <a:lnTo>
                                      <a:pt x="223" y="273"/>
                                    </a:lnTo>
                                    <a:lnTo>
                                      <a:pt x="429" y="383"/>
                                    </a:lnTo>
                                    <a:lnTo>
                                      <a:pt x="504" y="270"/>
                                    </a:lnTo>
                                    <a:lnTo>
                                      <a:pt x="733" y="387"/>
                                    </a:lnTo>
                                    <a:lnTo>
                                      <a:pt x="1142" y="277"/>
                                    </a:lnTo>
                                    <a:lnTo>
                                      <a:pt x="51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3" name=""/>
                              <p:cNvSpPr/>
                              <p:nvPr/>
                            </p:nvSpPr>
                            <p:spPr>
                              <a:xfrm>
                                <a:off x="8046720" y="1024920"/>
                                <a:ext cx="233640" cy="126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6" h="246">
                                    <a:moveTo>
                                      <a:pt x="456" y="0"/>
                                    </a:moveTo>
                                    <a:lnTo>
                                      <a:pt x="410" y="129"/>
                                    </a:lnTo>
                                    <a:lnTo>
                                      <a:pt x="0" y="246"/>
                                    </a:lnTo>
                                    <a:lnTo>
                                      <a:pt x="43" y="113"/>
                                    </a:lnTo>
                                    <a:lnTo>
                                      <a:pt x="45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4" name=""/>
                              <p:cNvSpPr/>
                              <p:nvPr/>
                            </p:nvSpPr>
                            <p:spPr>
                              <a:xfrm>
                                <a:off x="8046720" y="1088280"/>
                                <a:ext cx="212040" cy="90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15" h="178">
                                    <a:moveTo>
                                      <a:pt x="0" y="120"/>
                                    </a:moveTo>
                                    <a:lnTo>
                                      <a:pt x="0" y="178"/>
                                    </a:lnTo>
                                    <a:lnTo>
                                      <a:pt x="415" y="0"/>
                                    </a:lnTo>
                                    <a:lnTo>
                                      <a:pt x="0" y="1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920" bIns="4392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5" name=""/>
                              <p:cNvSpPr/>
                              <p:nvPr/>
                            </p:nvSpPr>
                            <p:spPr>
                              <a:xfrm>
                                <a:off x="7507080" y="982080"/>
                                <a:ext cx="544320" cy="289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64" h="564">
                                    <a:moveTo>
                                      <a:pt x="0" y="168"/>
                                    </a:moveTo>
                                    <a:lnTo>
                                      <a:pt x="643" y="564"/>
                                    </a:lnTo>
                                    <a:lnTo>
                                      <a:pt x="1031" y="340"/>
                                    </a:lnTo>
                                    <a:lnTo>
                                      <a:pt x="1064" y="325"/>
                                    </a:lnTo>
                                    <a:lnTo>
                                      <a:pt x="446" y="0"/>
                                    </a:lnTo>
                                    <a:lnTo>
                                      <a:pt x="0" y="16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6" name=""/>
                              <p:cNvSpPr/>
                              <p:nvPr/>
                            </p:nvSpPr>
                            <p:spPr>
                              <a:xfrm>
                                <a:off x="7833240" y="1145160"/>
                                <a:ext cx="218160" cy="126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27" h="246">
                                    <a:moveTo>
                                      <a:pt x="0" y="246"/>
                                    </a:moveTo>
                                    <a:lnTo>
                                      <a:pt x="391" y="14"/>
                                    </a:lnTo>
                                    <a:lnTo>
                                      <a:pt x="427" y="0"/>
                                    </a:lnTo>
                                    <a:lnTo>
                                      <a:pt x="427" y="28"/>
                                    </a:lnTo>
                                    <a:lnTo>
                                      <a:pt x="0" y="24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800" spc="-1" strike="noStrike">
                                  <a:solidFill>
                                    <a:srgbClr val="000000"/>
                                  </a:solidFill>
                                  <a:latin typeface="Cordia New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57" name=""/>
                            <p:cNvSpPr/>
                            <p:nvPr/>
                          </p:nvSpPr>
                          <p:spPr>
                            <a:xfrm>
                              <a:off x="7830000" y="1009440"/>
                              <a:ext cx="91800" cy="4896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58" name=""/>
                        <p:cNvGrpSpPr/>
                        <p:nvPr/>
                      </p:nvGrpSpPr>
                      <p:grpSpPr>
                        <a:xfrm>
                          <a:off x="7534800" y="989640"/>
                          <a:ext cx="488880" cy="254880"/>
                          <a:chOff x="7534800" y="989640"/>
                          <a:chExt cx="488880" cy="254880"/>
                        </a:xfrm>
                      </p:grpSpPr>
                      <p:grpSp>
                        <p:nvGrpSpPr>
                          <p:cNvPr id="459" name=""/>
                          <p:cNvGrpSpPr/>
                          <p:nvPr/>
                        </p:nvGrpSpPr>
                        <p:grpSpPr>
                          <a:xfrm>
                            <a:off x="7534800" y="992520"/>
                            <a:ext cx="488880" cy="252000"/>
                            <a:chOff x="7534800" y="992520"/>
                            <a:chExt cx="488880" cy="252000"/>
                          </a:xfrm>
                        </p:grpSpPr>
                        <p:sp>
                          <p:nvSpPr>
                            <p:cNvPr id="460" name=""/>
                            <p:cNvSpPr/>
                            <p:nvPr/>
                          </p:nvSpPr>
                          <p:spPr>
                            <a:xfrm>
                              <a:off x="7651440" y="1098360"/>
                              <a:ext cx="130680" cy="77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6" h="150">
                                  <a:moveTo>
                                    <a:pt x="43" y="0"/>
                                  </a:moveTo>
                                  <a:lnTo>
                                    <a:pt x="256" y="128"/>
                                  </a:lnTo>
                                  <a:lnTo>
                                    <a:pt x="212" y="150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240" bIns="302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7758000" y="1161720"/>
                              <a:ext cx="644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5" h="75">
                                  <a:moveTo>
                                    <a:pt x="47" y="0"/>
                                  </a:moveTo>
                                  <a:lnTo>
                                    <a:pt x="125" y="48"/>
                                  </a:lnTo>
                                  <a:lnTo>
                                    <a:pt x="82" y="75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2" name=""/>
                            <p:cNvSpPr/>
                            <p:nvPr/>
                          </p:nvSpPr>
                          <p:spPr>
                            <a:xfrm>
                              <a:off x="7781040" y="1184760"/>
                              <a:ext cx="7056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7" h="80">
                                  <a:moveTo>
                                    <a:pt x="81" y="0"/>
                                  </a:moveTo>
                                  <a:lnTo>
                                    <a:pt x="137" y="38"/>
                                  </a:lnTo>
                                  <a:lnTo>
                                    <a:pt x="90" y="67"/>
                                  </a:lnTo>
                                  <a:lnTo>
                                    <a:pt x="83" y="59"/>
                                  </a:lnTo>
                                  <a:lnTo>
                                    <a:pt x="50" y="80"/>
                                  </a:lnTo>
                                  <a:lnTo>
                                    <a:pt x="0" y="48"/>
                                  </a:lnTo>
                                  <a:lnTo>
                                    <a:pt x="8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7828560" y="1203120"/>
                              <a:ext cx="6624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81">
                                  <a:moveTo>
                                    <a:pt x="44" y="0"/>
                                  </a:moveTo>
                                  <a:lnTo>
                                    <a:pt x="130" y="57"/>
                                  </a:lnTo>
                                  <a:lnTo>
                                    <a:pt x="84" y="8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4" name=""/>
                            <p:cNvSpPr/>
                            <p:nvPr/>
                          </p:nvSpPr>
                          <p:spPr>
                            <a:xfrm>
                              <a:off x="7617600" y="1078560"/>
                              <a:ext cx="55440" cy="32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9" h="64">
                                  <a:moveTo>
                                    <a:pt x="44" y="0"/>
                                  </a:moveTo>
                                  <a:lnTo>
                                    <a:pt x="109" y="42"/>
                                  </a:lnTo>
                                  <a:lnTo>
                                    <a:pt x="64" y="64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760" bIns="-147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5" name=""/>
                            <p:cNvSpPr/>
                            <p:nvPr/>
                          </p:nvSpPr>
                          <p:spPr>
                            <a:xfrm>
                              <a:off x="7576200" y="1053720"/>
                              <a:ext cx="5076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9" h="57">
                                  <a:moveTo>
                                    <a:pt x="50" y="0"/>
                                  </a:moveTo>
                                  <a:lnTo>
                                    <a:pt x="99" y="31"/>
                                  </a:lnTo>
                                  <a:lnTo>
                                    <a:pt x="50" y="57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5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6" name=""/>
                            <p:cNvSpPr/>
                            <p:nvPr/>
                          </p:nvSpPr>
                          <p:spPr>
                            <a:xfrm>
                              <a:off x="7548480" y="1067760"/>
                              <a:ext cx="475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3">
                                  <a:moveTo>
                                    <a:pt x="45" y="0"/>
                                  </a:moveTo>
                                  <a:lnTo>
                                    <a:pt x="92" y="31"/>
                                  </a:lnTo>
                                  <a:lnTo>
                                    <a:pt x="44" y="53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7" name=""/>
                            <p:cNvSpPr/>
                            <p:nvPr/>
                          </p:nvSpPr>
                          <p:spPr>
                            <a:xfrm>
                              <a:off x="7572960" y="1083240"/>
                              <a:ext cx="4140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0" h="50">
                                  <a:moveTo>
                                    <a:pt x="46" y="0"/>
                                  </a:moveTo>
                                  <a:lnTo>
                                    <a:pt x="80" y="26"/>
                                  </a:lnTo>
                                  <a:lnTo>
                                    <a:pt x="41" y="50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8" name=""/>
                            <p:cNvSpPr/>
                            <p:nvPr/>
                          </p:nvSpPr>
                          <p:spPr>
                            <a:xfrm>
                              <a:off x="7534800" y="105840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2">
                                  <a:moveTo>
                                    <a:pt x="46" y="0"/>
                                  </a:moveTo>
                                  <a:lnTo>
                                    <a:pt x="73" y="20"/>
                                  </a:lnTo>
                                  <a:lnTo>
                                    <a:pt x="27" y="42"/>
                                  </a:lnTo>
                                  <a:lnTo>
                                    <a:pt x="0" y="21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7854480" y="1187640"/>
                              <a:ext cx="6768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1" h="80">
                                  <a:moveTo>
                                    <a:pt x="44" y="0"/>
                                  </a:moveTo>
                                  <a:lnTo>
                                    <a:pt x="131" y="53"/>
                                  </a:lnTo>
                                  <a:lnTo>
                                    <a:pt x="84" y="80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7884000" y="1172520"/>
                              <a:ext cx="6444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7" h="78">
                                  <a:moveTo>
                                    <a:pt x="42" y="0"/>
                                  </a:moveTo>
                                  <a:lnTo>
                                    <a:pt x="127" y="53"/>
                                  </a:lnTo>
                                  <a:lnTo>
                                    <a:pt x="84" y="78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1" name=""/>
                            <p:cNvSpPr/>
                            <p:nvPr/>
                          </p:nvSpPr>
                          <p:spPr>
                            <a:xfrm>
                              <a:off x="7910280" y="1157040"/>
                              <a:ext cx="6768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76">
                                  <a:moveTo>
                                    <a:pt x="40" y="0"/>
                                  </a:moveTo>
                                  <a:lnTo>
                                    <a:pt x="130" y="52"/>
                                  </a:lnTo>
                                  <a:lnTo>
                                    <a:pt x="82" y="76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2" name=""/>
                            <p:cNvSpPr/>
                            <p:nvPr/>
                          </p:nvSpPr>
                          <p:spPr>
                            <a:xfrm>
                              <a:off x="7831440" y="1173960"/>
                              <a:ext cx="4572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5">
                                  <a:moveTo>
                                    <a:pt x="48" y="0"/>
                                  </a:moveTo>
                                  <a:lnTo>
                                    <a:pt x="90" y="27"/>
                                  </a:lnTo>
                                  <a:lnTo>
                                    <a:pt x="44" y="55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3" name=""/>
                            <p:cNvSpPr/>
                            <p:nvPr/>
                          </p:nvSpPr>
                          <p:spPr>
                            <a:xfrm>
                              <a:off x="7860960" y="1158480"/>
                              <a:ext cx="4464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5">
                                  <a:moveTo>
                                    <a:pt x="44" y="0"/>
                                  </a:moveTo>
                                  <a:lnTo>
                                    <a:pt x="86" y="27"/>
                                  </a:lnTo>
                                  <a:lnTo>
                                    <a:pt x="40" y="55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4" name=""/>
                            <p:cNvSpPr/>
                            <p:nvPr/>
                          </p:nvSpPr>
                          <p:spPr>
                            <a:xfrm>
                              <a:off x="7887240" y="114444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1">
                                  <a:moveTo>
                                    <a:pt x="45" y="0"/>
                                  </a:moveTo>
                                  <a:lnTo>
                                    <a:pt x="87" y="25"/>
                                  </a:lnTo>
                                  <a:lnTo>
                                    <a:pt x="42" y="5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5" name=""/>
                            <p:cNvSpPr/>
                            <p:nvPr/>
                          </p:nvSpPr>
                          <p:spPr>
                            <a:xfrm>
                              <a:off x="7914600" y="112932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2">
                                  <a:moveTo>
                                    <a:pt x="45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1" y="52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6" name=""/>
                            <p:cNvSpPr/>
                            <p:nvPr/>
                          </p:nvSpPr>
                          <p:spPr>
                            <a:xfrm>
                              <a:off x="7940880" y="1118520"/>
                              <a:ext cx="3852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5" h="46">
                                  <a:moveTo>
                                    <a:pt x="35" y="0"/>
                                  </a:moveTo>
                                  <a:lnTo>
                                    <a:pt x="75" y="24"/>
                                  </a:lnTo>
                                  <a:lnTo>
                                    <a:pt x="40" y="46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7962480" y="1129320"/>
                              <a:ext cx="3816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7" h="48">
                                  <a:moveTo>
                                    <a:pt x="37" y="0"/>
                                  </a:moveTo>
                                  <a:lnTo>
                                    <a:pt x="77" y="24"/>
                                  </a:lnTo>
                                  <a:lnTo>
                                    <a:pt x="41" y="48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3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8" name=""/>
                            <p:cNvSpPr/>
                            <p:nvPr/>
                          </p:nvSpPr>
                          <p:spPr>
                            <a:xfrm>
                              <a:off x="7936200" y="114156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1">
                                  <a:moveTo>
                                    <a:pt x="46" y="0"/>
                                  </a:moveTo>
                                  <a:lnTo>
                                    <a:pt x="88" y="23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7985520" y="1141560"/>
                              <a:ext cx="3816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6" h="48">
                                  <a:moveTo>
                                    <a:pt x="35" y="0"/>
                                  </a:moveTo>
                                  <a:lnTo>
                                    <a:pt x="76" y="24"/>
                                  </a:lnTo>
                                  <a:lnTo>
                                    <a:pt x="40" y="48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/>
                            <p:nvPr/>
                          </p:nvSpPr>
                          <p:spPr>
                            <a:xfrm>
                              <a:off x="7959240" y="1152360"/>
                              <a:ext cx="4464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5">
                                  <a:moveTo>
                                    <a:pt x="45" y="0"/>
                                  </a:moveTo>
                                  <a:lnTo>
                                    <a:pt x="87" y="26"/>
                                  </a:lnTo>
                                  <a:lnTo>
                                    <a:pt x="40" y="55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1" name=""/>
                            <p:cNvSpPr/>
                            <p:nvPr/>
                          </p:nvSpPr>
                          <p:spPr>
                            <a:xfrm>
                              <a:off x="7836120" y="1146240"/>
                              <a:ext cx="4608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4">
                                  <a:moveTo>
                                    <a:pt x="45" y="0"/>
                                  </a:moveTo>
                                  <a:lnTo>
                                    <a:pt x="89" y="27"/>
                                  </a:lnTo>
                                  <a:lnTo>
                                    <a:pt x="44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2" name=""/>
                            <p:cNvSpPr/>
                            <p:nvPr/>
                          </p:nvSpPr>
                          <p:spPr>
                            <a:xfrm>
                              <a:off x="7864200" y="1130760"/>
                              <a:ext cx="457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3">
                                  <a:moveTo>
                                    <a:pt x="47" y="0"/>
                                  </a:moveTo>
                                  <a:lnTo>
                                    <a:pt x="89" y="27"/>
                                  </a:lnTo>
                                  <a:lnTo>
                                    <a:pt x="44" y="53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3" name=""/>
                            <p:cNvSpPr/>
                            <p:nvPr/>
                          </p:nvSpPr>
                          <p:spPr>
                            <a:xfrm>
                              <a:off x="7893360" y="1117080"/>
                              <a:ext cx="4428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1">
                                  <a:moveTo>
                                    <a:pt x="45" y="0"/>
                                  </a:moveTo>
                                  <a:lnTo>
                                    <a:pt x="86" y="23"/>
                                  </a:lnTo>
                                  <a:lnTo>
                                    <a:pt x="40" y="5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4" name=""/>
                            <p:cNvSpPr/>
                            <p:nvPr/>
                          </p:nvSpPr>
                          <p:spPr>
                            <a:xfrm>
                              <a:off x="7919640" y="1106280"/>
                              <a:ext cx="3816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5">
                                  <a:moveTo>
                                    <a:pt x="33" y="0"/>
                                  </a:moveTo>
                                  <a:lnTo>
                                    <a:pt x="73" y="25"/>
                                  </a:lnTo>
                                  <a:lnTo>
                                    <a:pt x="37" y="45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7808400" y="1159920"/>
                              <a:ext cx="4572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57">
                                  <a:moveTo>
                                    <a:pt x="46" y="0"/>
                                  </a:moveTo>
                                  <a:lnTo>
                                    <a:pt x="91" y="29"/>
                                  </a:lnTo>
                                  <a:lnTo>
                                    <a:pt x="45" y="57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6" name=""/>
                            <p:cNvSpPr/>
                            <p:nvPr/>
                          </p:nvSpPr>
                          <p:spPr>
                            <a:xfrm>
                              <a:off x="7783920" y="1146240"/>
                              <a:ext cx="4608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7">
                                  <a:moveTo>
                                    <a:pt x="47" y="0"/>
                                  </a:moveTo>
                                  <a:lnTo>
                                    <a:pt x="90" y="29"/>
                                  </a:lnTo>
                                  <a:lnTo>
                                    <a:pt x="45" y="57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7814880" y="113220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46" y="0"/>
                                  </a:moveTo>
                                  <a:lnTo>
                                    <a:pt x="87" y="29"/>
                                  </a:lnTo>
                                  <a:lnTo>
                                    <a:pt x="41" y="56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8" name=""/>
                            <p:cNvSpPr/>
                            <p:nvPr/>
                          </p:nvSpPr>
                          <p:spPr>
                            <a:xfrm>
                              <a:off x="7842240" y="111996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4">
                                  <a:moveTo>
                                    <a:pt x="45" y="0"/>
                                  </a:moveTo>
                                  <a:lnTo>
                                    <a:pt x="87" y="26"/>
                                  </a:lnTo>
                                  <a:lnTo>
                                    <a:pt x="43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89" name=""/>
                            <p:cNvSpPr/>
                            <p:nvPr/>
                          </p:nvSpPr>
                          <p:spPr>
                            <a:xfrm>
                              <a:off x="7871760" y="1104840"/>
                              <a:ext cx="428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1">
                                  <a:moveTo>
                                    <a:pt x="45" y="0"/>
                                  </a:moveTo>
                                  <a:lnTo>
                                    <a:pt x="85" y="23"/>
                                  </a:lnTo>
                                  <a:lnTo>
                                    <a:pt x="40" y="5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0" name=""/>
                            <p:cNvSpPr/>
                            <p:nvPr/>
                          </p:nvSpPr>
                          <p:spPr>
                            <a:xfrm>
                              <a:off x="7898040" y="1095480"/>
                              <a:ext cx="367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5">
                                  <a:moveTo>
                                    <a:pt x="35" y="0"/>
                                  </a:moveTo>
                                  <a:lnTo>
                                    <a:pt x="73" y="25"/>
                                  </a:lnTo>
                                  <a:lnTo>
                                    <a:pt x="40" y="45"/>
                                  </a:lnTo>
                                  <a:lnTo>
                                    <a:pt x="0" y="21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7791840" y="1119960"/>
                              <a:ext cx="457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4">
                                  <a:moveTo>
                                    <a:pt x="45" y="0"/>
                                  </a:moveTo>
                                  <a:lnTo>
                                    <a:pt x="88" y="27"/>
                                  </a:lnTo>
                                  <a:lnTo>
                                    <a:pt x="44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/>
                            <p:nvPr/>
                          </p:nvSpPr>
                          <p:spPr>
                            <a:xfrm>
                              <a:off x="7819200" y="1106280"/>
                              <a:ext cx="457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4">
                                  <a:moveTo>
                                    <a:pt x="48" y="0"/>
                                  </a:moveTo>
                                  <a:lnTo>
                                    <a:pt x="90" y="26"/>
                                  </a:lnTo>
                                  <a:lnTo>
                                    <a:pt x="43" y="54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3" name=""/>
                            <p:cNvSpPr/>
                            <p:nvPr/>
                          </p:nvSpPr>
                          <p:spPr>
                            <a:xfrm>
                              <a:off x="7850160" y="109224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1">
                                  <a:moveTo>
                                    <a:pt x="45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7876080" y="108432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41">
                                  <a:moveTo>
                                    <a:pt x="33" y="0"/>
                                  </a:moveTo>
                                  <a:lnTo>
                                    <a:pt x="72" y="22"/>
                                  </a:lnTo>
                                  <a:lnTo>
                                    <a:pt x="38" y="41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7762320" y="1133640"/>
                              <a:ext cx="4716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5">
                                  <a:moveTo>
                                    <a:pt x="49" y="0"/>
                                  </a:moveTo>
                                  <a:lnTo>
                                    <a:pt x="93" y="27"/>
                                  </a:lnTo>
                                  <a:lnTo>
                                    <a:pt x="48" y="55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6" name=""/>
                            <p:cNvSpPr/>
                            <p:nvPr/>
                          </p:nvSpPr>
                          <p:spPr>
                            <a:xfrm>
                              <a:off x="7740720" y="111996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4">
                                  <a:moveTo>
                                    <a:pt x="46" y="0"/>
                                  </a:moveTo>
                                  <a:lnTo>
                                    <a:pt x="86" y="26"/>
                                  </a:lnTo>
                                  <a:lnTo>
                                    <a:pt x="41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7" name=""/>
                            <p:cNvSpPr/>
                            <p:nvPr/>
                          </p:nvSpPr>
                          <p:spPr>
                            <a:xfrm>
                              <a:off x="7768440" y="1106280"/>
                              <a:ext cx="4608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4">
                                  <a:moveTo>
                                    <a:pt x="46" y="0"/>
                                  </a:moveTo>
                                  <a:lnTo>
                                    <a:pt x="89" y="27"/>
                                  </a:lnTo>
                                  <a:lnTo>
                                    <a:pt x="43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8" name=""/>
                            <p:cNvSpPr/>
                            <p:nvPr/>
                          </p:nvSpPr>
                          <p:spPr>
                            <a:xfrm>
                              <a:off x="7797600" y="109404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4">
                                  <a:moveTo>
                                    <a:pt x="45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2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827120" y="1081800"/>
                              <a:ext cx="4284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0">
                                  <a:moveTo>
                                    <a:pt x="45" y="0"/>
                                  </a:moveTo>
                                  <a:lnTo>
                                    <a:pt x="85" y="25"/>
                                  </a:lnTo>
                                  <a:lnTo>
                                    <a:pt x="40" y="50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54480" y="1072440"/>
                              <a:ext cx="3528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3">
                                  <a:moveTo>
                                    <a:pt x="34" y="0"/>
                                  </a:moveTo>
                                  <a:lnTo>
                                    <a:pt x="71" y="23"/>
                                  </a:lnTo>
                                  <a:lnTo>
                                    <a:pt x="38" y="43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3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748640" y="109548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3">
                                  <a:moveTo>
                                    <a:pt x="45" y="0"/>
                                  </a:moveTo>
                                  <a:lnTo>
                                    <a:pt x="85" y="26"/>
                                  </a:lnTo>
                                  <a:lnTo>
                                    <a:pt x="40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77800" y="1081800"/>
                              <a:ext cx="41400" cy="2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3" h="52">
                                  <a:moveTo>
                                    <a:pt x="46" y="0"/>
                                  </a:moveTo>
                                  <a:lnTo>
                                    <a:pt x="83" y="25"/>
                                  </a:lnTo>
                                  <a:lnTo>
                                    <a:pt x="38" y="52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240" bIns="-212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805520" y="106920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2">
                                  <a:moveTo>
                                    <a:pt x="46" y="0"/>
                                  </a:moveTo>
                                  <a:lnTo>
                                    <a:pt x="86" y="24"/>
                                  </a:lnTo>
                                  <a:lnTo>
                                    <a:pt x="40" y="52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7831440" y="1060200"/>
                              <a:ext cx="367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4">
                                  <a:moveTo>
                                    <a:pt x="33" y="0"/>
                                  </a:moveTo>
                                  <a:lnTo>
                                    <a:pt x="73" y="23"/>
                                  </a:lnTo>
                                  <a:lnTo>
                                    <a:pt x="42" y="44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5" name=""/>
                            <p:cNvSpPr/>
                            <p:nvPr/>
                          </p:nvSpPr>
                          <p:spPr>
                            <a:xfrm>
                              <a:off x="7719120" y="1107360"/>
                              <a:ext cx="4608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3">
                                  <a:moveTo>
                                    <a:pt x="46" y="0"/>
                                  </a:moveTo>
                                  <a:lnTo>
                                    <a:pt x="88" y="27"/>
                                  </a:lnTo>
                                  <a:lnTo>
                                    <a:pt x="37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6" name=""/>
                            <p:cNvSpPr/>
                            <p:nvPr/>
                          </p:nvSpPr>
                          <p:spPr>
                            <a:xfrm>
                              <a:off x="7696080" y="109548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3">
                                  <a:moveTo>
                                    <a:pt x="53" y="0"/>
                                  </a:moveTo>
                                  <a:lnTo>
                                    <a:pt x="89" y="26"/>
                                  </a:lnTo>
                                  <a:lnTo>
                                    <a:pt x="43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5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7" name=""/>
                            <p:cNvSpPr/>
                            <p:nvPr/>
                          </p:nvSpPr>
                          <p:spPr>
                            <a:xfrm>
                              <a:off x="7725600" y="108324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49">
                                  <a:moveTo>
                                    <a:pt x="47" y="0"/>
                                  </a:moveTo>
                                  <a:lnTo>
                                    <a:pt x="89" y="24"/>
                                  </a:lnTo>
                                  <a:lnTo>
                                    <a:pt x="41" y="49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/>
                            <p:nvPr/>
                          </p:nvSpPr>
                          <p:spPr>
                            <a:xfrm>
                              <a:off x="7752960" y="1069200"/>
                              <a:ext cx="4608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3">
                                  <a:moveTo>
                                    <a:pt x="48" y="0"/>
                                  </a:moveTo>
                                  <a:lnTo>
                                    <a:pt x="88" y="26"/>
                                  </a:lnTo>
                                  <a:lnTo>
                                    <a:pt x="43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09" name=""/>
                            <p:cNvSpPr/>
                            <p:nvPr/>
                          </p:nvSpPr>
                          <p:spPr>
                            <a:xfrm>
                              <a:off x="7782480" y="105696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0">
                                  <a:moveTo>
                                    <a:pt x="48" y="0"/>
                                  </a:moveTo>
                                  <a:lnTo>
                                    <a:pt x="90" y="23"/>
                                  </a:lnTo>
                                  <a:lnTo>
                                    <a:pt x="41" y="50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7809840" y="104940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3">
                                  <a:moveTo>
                                    <a:pt x="30" y="0"/>
                                  </a:moveTo>
                                  <a:lnTo>
                                    <a:pt x="71" y="26"/>
                                  </a:lnTo>
                                  <a:lnTo>
                                    <a:pt x="41" y="43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3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7706880" y="1072440"/>
                              <a:ext cx="4140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1" h="48">
                                  <a:moveTo>
                                    <a:pt x="49" y="0"/>
                                  </a:moveTo>
                                  <a:lnTo>
                                    <a:pt x="81" y="23"/>
                                  </a:lnTo>
                                  <a:lnTo>
                                    <a:pt x="33" y="48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2" name=""/>
                            <p:cNvSpPr/>
                            <p:nvPr/>
                          </p:nvSpPr>
                          <p:spPr>
                            <a:xfrm>
                              <a:off x="7734600" y="1060200"/>
                              <a:ext cx="4320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3" h="46">
                                  <a:moveTo>
                                    <a:pt x="48" y="0"/>
                                  </a:moveTo>
                                  <a:lnTo>
                                    <a:pt x="83" y="22"/>
                                  </a:lnTo>
                                  <a:lnTo>
                                    <a:pt x="34" y="46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3" name=""/>
                            <p:cNvSpPr/>
                            <p:nvPr/>
                          </p:nvSpPr>
                          <p:spPr>
                            <a:xfrm>
                              <a:off x="7760880" y="1046160"/>
                              <a:ext cx="4464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49">
                                  <a:moveTo>
                                    <a:pt x="52" y="0"/>
                                  </a:moveTo>
                                  <a:lnTo>
                                    <a:pt x="86" y="22"/>
                                  </a:lnTo>
                                  <a:lnTo>
                                    <a:pt x="37" y="49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5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4" name=""/>
                            <p:cNvSpPr/>
                            <p:nvPr/>
                          </p:nvSpPr>
                          <p:spPr>
                            <a:xfrm>
                              <a:off x="7788600" y="1037160"/>
                              <a:ext cx="34920" cy="2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9" h="42">
                                  <a:moveTo>
                                    <a:pt x="32" y="0"/>
                                  </a:moveTo>
                                  <a:lnTo>
                                    <a:pt x="69" y="27"/>
                                  </a:lnTo>
                                  <a:lnTo>
                                    <a:pt x="40" y="42"/>
                                  </a:lnTo>
                                  <a:lnTo>
                                    <a:pt x="0" y="16"/>
                                  </a:lnTo>
                                  <a:lnTo>
                                    <a:pt x="3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5" name=""/>
                            <p:cNvSpPr/>
                            <p:nvPr/>
                          </p:nvSpPr>
                          <p:spPr>
                            <a:xfrm>
                              <a:off x="7677720" y="1084320"/>
                              <a:ext cx="4320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3" h="46">
                                  <a:moveTo>
                                    <a:pt x="52" y="0"/>
                                  </a:moveTo>
                                  <a:lnTo>
                                    <a:pt x="83" y="19"/>
                                  </a:lnTo>
                                  <a:lnTo>
                                    <a:pt x="33" y="46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5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6" name=""/>
                            <p:cNvSpPr/>
                            <p:nvPr/>
                          </p:nvSpPr>
                          <p:spPr>
                            <a:xfrm>
                              <a:off x="7680960" y="1056960"/>
                              <a:ext cx="475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4" h="54">
                                  <a:moveTo>
                                    <a:pt x="48" y="0"/>
                                  </a:moveTo>
                                  <a:lnTo>
                                    <a:pt x="94" y="28"/>
                                  </a:lnTo>
                                  <a:lnTo>
                                    <a:pt x="48" y="54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7" name=""/>
                            <p:cNvSpPr/>
                            <p:nvPr/>
                          </p:nvSpPr>
                          <p:spPr>
                            <a:xfrm>
                              <a:off x="7708320" y="1044720"/>
                              <a:ext cx="493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" h="53">
                                  <a:moveTo>
                                    <a:pt x="50" y="0"/>
                                  </a:moveTo>
                                  <a:lnTo>
                                    <a:pt x="95" y="30"/>
                                  </a:lnTo>
                                  <a:lnTo>
                                    <a:pt x="46" y="53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5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7737840" y="1032120"/>
                              <a:ext cx="4752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4" h="53">
                                  <a:moveTo>
                                    <a:pt x="49" y="0"/>
                                  </a:moveTo>
                                  <a:lnTo>
                                    <a:pt x="94" y="26"/>
                                  </a:lnTo>
                                  <a:lnTo>
                                    <a:pt x="47" y="53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7767000" y="102456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41">
                                  <a:moveTo>
                                    <a:pt x="32" y="0"/>
                                  </a:moveTo>
                                  <a:lnTo>
                                    <a:pt x="72" y="24"/>
                                  </a:lnTo>
                                  <a:lnTo>
                                    <a:pt x="44" y="41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3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0" name=""/>
                            <p:cNvSpPr/>
                            <p:nvPr/>
                          </p:nvSpPr>
                          <p:spPr>
                            <a:xfrm>
                              <a:off x="7651440" y="1069200"/>
                              <a:ext cx="5076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0" h="57">
                                  <a:moveTo>
                                    <a:pt x="51" y="0"/>
                                  </a:moveTo>
                                  <a:lnTo>
                                    <a:pt x="100" y="30"/>
                                  </a:lnTo>
                                  <a:lnTo>
                                    <a:pt x="52" y="57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5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1" name=""/>
                            <p:cNvSpPr/>
                            <p:nvPr/>
                          </p:nvSpPr>
                          <p:spPr>
                            <a:xfrm>
                              <a:off x="7610040" y="1046160"/>
                              <a:ext cx="64440" cy="36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5" h="72">
                                  <a:moveTo>
                                    <a:pt x="48" y="0"/>
                                  </a:moveTo>
                                  <a:lnTo>
                                    <a:pt x="125" y="49"/>
                                  </a:lnTo>
                                  <a:lnTo>
                                    <a:pt x="76" y="72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2" name=""/>
                            <p:cNvSpPr/>
                            <p:nvPr/>
                          </p:nvSpPr>
                          <p:spPr>
                            <a:xfrm>
                              <a:off x="7619400" y="1012320"/>
                              <a:ext cx="8424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6" h="113">
                                  <a:moveTo>
                                    <a:pt x="0" y="41"/>
                                  </a:moveTo>
                                  <a:lnTo>
                                    <a:pt x="119" y="113"/>
                                  </a:lnTo>
                                  <a:lnTo>
                                    <a:pt x="166" y="91"/>
                                  </a:lnTo>
                                  <a:lnTo>
                                    <a:pt x="82" y="41"/>
                                  </a:lnTo>
                                  <a:lnTo>
                                    <a:pt x="140" y="16"/>
                                  </a:lnTo>
                                  <a:lnTo>
                                    <a:pt x="112" y="0"/>
                                  </a:lnTo>
                                  <a:lnTo>
                                    <a:pt x="0" y="4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/>
                            <p:nvPr/>
                          </p:nvSpPr>
                          <p:spPr>
                            <a:xfrm>
                              <a:off x="7668720" y="1021680"/>
                              <a:ext cx="64440" cy="3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8" h="72">
                                  <a:moveTo>
                                    <a:pt x="0" y="23"/>
                                  </a:moveTo>
                                  <a:lnTo>
                                    <a:pt x="79" y="72"/>
                                  </a:lnTo>
                                  <a:lnTo>
                                    <a:pt x="128" y="49"/>
                                  </a:lnTo>
                                  <a:lnTo>
                                    <a:pt x="48" y="0"/>
                                  </a:lnTo>
                                  <a:lnTo>
                                    <a:pt x="0" y="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4" name=""/>
                            <p:cNvSpPr/>
                            <p:nvPr/>
                          </p:nvSpPr>
                          <p:spPr>
                            <a:xfrm>
                              <a:off x="7717680" y="1021680"/>
                              <a:ext cx="4464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48">
                                  <a:moveTo>
                                    <a:pt x="0" y="25"/>
                                  </a:moveTo>
                                  <a:lnTo>
                                    <a:pt x="35" y="48"/>
                                  </a:lnTo>
                                  <a:lnTo>
                                    <a:pt x="85" y="24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0" y="2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5" name=""/>
                            <p:cNvSpPr/>
                            <p:nvPr/>
                          </p:nvSpPr>
                          <p:spPr>
                            <a:xfrm>
                              <a:off x="7696080" y="1009080"/>
                              <a:ext cx="4464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49">
                                  <a:moveTo>
                                    <a:pt x="0" y="26"/>
                                  </a:moveTo>
                                  <a:lnTo>
                                    <a:pt x="41" y="49"/>
                                  </a:lnTo>
                                  <a:lnTo>
                                    <a:pt x="89" y="26"/>
                                  </a:lnTo>
                                  <a:lnTo>
                                    <a:pt x="49" y="0"/>
                                  </a:lnTo>
                                  <a:lnTo>
                                    <a:pt x="0" y="2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7676280" y="1000080"/>
                              <a:ext cx="4284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42">
                                  <a:moveTo>
                                    <a:pt x="0" y="22"/>
                                  </a:moveTo>
                                  <a:lnTo>
                                    <a:pt x="33" y="42"/>
                                  </a:lnTo>
                                  <a:lnTo>
                                    <a:pt x="85" y="19"/>
                                  </a:lnTo>
                                  <a:lnTo>
                                    <a:pt x="55" y="0"/>
                                  </a:lnTo>
                                  <a:lnTo>
                                    <a:pt x="0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7" name=""/>
                            <p:cNvSpPr/>
                            <p:nvPr/>
                          </p:nvSpPr>
                          <p:spPr>
                            <a:xfrm>
                              <a:off x="7706880" y="992520"/>
                              <a:ext cx="30600" cy="1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35">
                                  <a:moveTo>
                                    <a:pt x="0" y="13"/>
                                  </a:moveTo>
                                  <a:lnTo>
                                    <a:pt x="32" y="35"/>
                                  </a:lnTo>
                                  <a:lnTo>
                                    <a:pt x="61" y="20"/>
                                  </a:lnTo>
                                  <a:lnTo>
                                    <a:pt x="30" y="0"/>
                                  </a:lnTo>
                                  <a:lnTo>
                                    <a:pt x="0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440" bIns="-28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8" name=""/>
                            <p:cNvSpPr/>
                            <p:nvPr/>
                          </p:nvSpPr>
                          <p:spPr>
                            <a:xfrm>
                              <a:off x="7724160" y="100152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0" h="40">
                                  <a:moveTo>
                                    <a:pt x="0" y="16"/>
                                  </a:moveTo>
                                  <a:lnTo>
                                    <a:pt x="43" y="40"/>
                                  </a:lnTo>
                                  <a:lnTo>
                                    <a:pt x="70" y="29"/>
                                  </a:lnTo>
                                  <a:lnTo>
                                    <a:pt x="30" y="0"/>
                                  </a:lnTo>
                                  <a:lnTo>
                                    <a:pt x="0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29" name=""/>
                            <p:cNvSpPr/>
                            <p:nvPr/>
                          </p:nvSpPr>
                          <p:spPr>
                            <a:xfrm>
                              <a:off x="7590240" y="1033920"/>
                              <a:ext cx="4284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48">
                                  <a:moveTo>
                                    <a:pt x="0" y="21"/>
                                  </a:moveTo>
                                  <a:lnTo>
                                    <a:pt x="36" y="48"/>
                                  </a:lnTo>
                                  <a:lnTo>
                                    <a:pt x="86" y="23"/>
                                  </a:lnTo>
                                  <a:lnTo>
                                    <a:pt x="54" y="0"/>
                                  </a:lnTo>
                                  <a:lnTo>
                                    <a:pt x="0" y="2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0" name=""/>
                            <p:cNvSpPr/>
                            <p:nvPr/>
                          </p:nvSpPr>
                          <p:spPr>
                            <a:xfrm>
                              <a:off x="7745400" y="1013760"/>
                              <a:ext cx="3528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40">
                                  <a:moveTo>
                                    <a:pt x="0" y="15"/>
                                  </a:moveTo>
                                  <a:lnTo>
                                    <a:pt x="40" y="40"/>
                                  </a:lnTo>
                                  <a:lnTo>
                                    <a:pt x="68" y="24"/>
                                  </a:lnTo>
                                  <a:lnTo>
                                    <a:pt x="28" y="0"/>
                                  </a:lnTo>
                                  <a:lnTo>
                                    <a:pt x="0" y="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7534800" y="989640"/>
                            <a:ext cx="488880" cy="252000"/>
                            <a:chOff x="7534800" y="989640"/>
                            <a:chExt cx="488880" cy="252000"/>
                          </a:xfrm>
                        </p:grpSpPr>
                        <p:sp>
                          <p:nvSpPr>
                            <p:cNvPr id="532" name=""/>
                            <p:cNvSpPr/>
                            <p:nvPr/>
                          </p:nvSpPr>
                          <p:spPr>
                            <a:xfrm>
                              <a:off x="7651440" y="1094040"/>
                              <a:ext cx="1306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6" h="153">
                                  <a:moveTo>
                                    <a:pt x="43" y="0"/>
                                  </a:moveTo>
                                  <a:lnTo>
                                    <a:pt x="256" y="130"/>
                                  </a:lnTo>
                                  <a:lnTo>
                                    <a:pt x="212" y="153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/>
                            <p:nvPr/>
                          </p:nvSpPr>
                          <p:spPr>
                            <a:xfrm>
                              <a:off x="7758000" y="1158840"/>
                              <a:ext cx="644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5" h="74">
                                  <a:moveTo>
                                    <a:pt x="47" y="0"/>
                                  </a:moveTo>
                                  <a:lnTo>
                                    <a:pt x="125" y="50"/>
                                  </a:lnTo>
                                  <a:lnTo>
                                    <a:pt x="82" y="74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4" name=""/>
                            <p:cNvSpPr/>
                            <p:nvPr/>
                          </p:nvSpPr>
                          <p:spPr>
                            <a:xfrm>
                              <a:off x="7781040" y="1181880"/>
                              <a:ext cx="7056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7" h="80">
                                  <a:moveTo>
                                    <a:pt x="81" y="0"/>
                                  </a:moveTo>
                                  <a:lnTo>
                                    <a:pt x="137" y="36"/>
                                  </a:lnTo>
                                  <a:lnTo>
                                    <a:pt x="90" y="65"/>
                                  </a:lnTo>
                                  <a:lnTo>
                                    <a:pt x="84" y="60"/>
                                  </a:lnTo>
                                  <a:lnTo>
                                    <a:pt x="52" y="80"/>
                                  </a:lnTo>
                                  <a:lnTo>
                                    <a:pt x="0" y="47"/>
                                  </a:lnTo>
                                  <a:lnTo>
                                    <a:pt x="8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7828560" y="1200240"/>
                              <a:ext cx="6768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81">
                                  <a:moveTo>
                                    <a:pt x="43" y="0"/>
                                  </a:moveTo>
                                  <a:lnTo>
                                    <a:pt x="130" y="54"/>
                                  </a:lnTo>
                                  <a:lnTo>
                                    <a:pt x="84" y="8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7617600" y="1073880"/>
                              <a:ext cx="56880" cy="3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6">
                                  <a:moveTo>
                                    <a:pt x="44" y="0"/>
                                  </a:moveTo>
                                  <a:lnTo>
                                    <a:pt x="110" y="42"/>
                                  </a:lnTo>
                                  <a:lnTo>
                                    <a:pt x="63" y="66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960" bIns="-129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7" name=""/>
                            <p:cNvSpPr/>
                            <p:nvPr/>
                          </p:nvSpPr>
                          <p:spPr>
                            <a:xfrm>
                              <a:off x="7576200" y="1050840"/>
                              <a:ext cx="5220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2" h="58">
                                  <a:moveTo>
                                    <a:pt x="52" y="0"/>
                                  </a:moveTo>
                                  <a:lnTo>
                                    <a:pt x="102" y="34"/>
                                  </a:lnTo>
                                  <a:lnTo>
                                    <a:pt x="52" y="58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5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8" name=""/>
                            <p:cNvSpPr/>
                            <p:nvPr/>
                          </p:nvSpPr>
                          <p:spPr>
                            <a:xfrm>
                              <a:off x="7548480" y="1064880"/>
                              <a:ext cx="475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2">
                                  <a:moveTo>
                                    <a:pt x="47" y="0"/>
                                  </a:moveTo>
                                  <a:lnTo>
                                    <a:pt x="92" y="31"/>
                                  </a:lnTo>
                                  <a:lnTo>
                                    <a:pt x="45" y="52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39" name=""/>
                            <p:cNvSpPr/>
                            <p:nvPr/>
                          </p:nvSpPr>
                          <p:spPr>
                            <a:xfrm>
                              <a:off x="7572960" y="1080360"/>
                              <a:ext cx="4140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1" h="49">
                                  <a:moveTo>
                                    <a:pt x="46" y="0"/>
                                  </a:moveTo>
                                  <a:lnTo>
                                    <a:pt x="81" y="24"/>
                                  </a:lnTo>
                                  <a:lnTo>
                                    <a:pt x="41" y="49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0" name=""/>
                            <p:cNvSpPr/>
                            <p:nvPr/>
                          </p:nvSpPr>
                          <p:spPr>
                            <a:xfrm>
                              <a:off x="7534800" y="1055880"/>
                              <a:ext cx="36720" cy="2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4" h="42">
                                  <a:moveTo>
                                    <a:pt x="47" y="0"/>
                                  </a:moveTo>
                                  <a:lnTo>
                                    <a:pt x="74" y="19"/>
                                  </a:lnTo>
                                  <a:lnTo>
                                    <a:pt x="28" y="42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7856280" y="1183680"/>
                              <a:ext cx="6588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81">
                                  <a:moveTo>
                                    <a:pt x="44" y="0"/>
                                  </a:moveTo>
                                  <a:lnTo>
                                    <a:pt x="130" y="56"/>
                                  </a:lnTo>
                                  <a:lnTo>
                                    <a:pt x="82" y="81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7884000" y="1169640"/>
                              <a:ext cx="66240" cy="39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78">
                                  <a:moveTo>
                                    <a:pt x="42" y="0"/>
                                  </a:moveTo>
                                  <a:lnTo>
                                    <a:pt x="130" y="56"/>
                                  </a:lnTo>
                                  <a:lnTo>
                                    <a:pt x="84" y="78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840" bIns="-68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7911360" y="1152360"/>
                              <a:ext cx="66240" cy="39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9" h="78">
                                  <a:moveTo>
                                    <a:pt x="41" y="0"/>
                                  </a:moveTo>
                                  <a:lnTo>
                                    <a:pt x="129" y="52"/>
                                  </a:lnTo>
                                  <a:lnTo>
                                    <a:pt x="81" y="78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840" bIns="-68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4" name=""/>
                            <p:cNvSpPr/>
                            <p:nvPr/>
                          </p:nvSpPr>
                          <p:spPr>
                            <a:xfrm>
                              <a:off x="7831440" y="1171080"/>
                              <a:ext cx="4752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7">
                                  <a:moveTo>
                                    <a:pt x="48" y="0"/>
                                  </a:moveTo>
                                  <a:lnTo>
                                    <a:pt x="93" y="28"/>
                                  </a:lnTo>
                                  <a:lnTo>
                                    <a:pt x="45" y="57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5" name=""/>
                            <p:cNvSpPr/>
                            <p:nvPr/>
                          </p:nvSpPr>
                          <p:spPr>
                            <a:xfrm>
                              <a:off x="7860960" y="115740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3">
                                  <a:moveTo>
                                    <a:pt x="45" y="0"/>
                                  </a:moveTo>
                                  <a:lnTo>
                                    <a:pt x="88" y="27"/>
                                  </a:lnTo>
                                  <a:lnTo>
                                    <a:pt x="40" y="53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6" name=""/>
                            <p:cNvSpPr/>
                            <p:nvPr/>
                          </p:nvSpPr>
                          <p:spPr>
                            <a:xfrm>
                              <a:off x="7888320" y="114156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3">
                                  <a:moveTo>
                                    <a:pt x="45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2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7" name=""/>
                            <p:cNvSpPr/>
                            <p:nvPr/>
                          </p:nvSpPr>
                          <p:spPr>
                            <a:xfrm>
                              <a:off x="7916400" y="1126440"/>
                              <a:ext cx="428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2">
                                  <a:moveTo>
                                    <a:pt x="45" y="0"/>
                                  </a:moveTo>
                                  <a:lnTo>
                                    <a:pt x="85" y="24"/>
                                  </a:lnTo>
                                  <a:lnTo>
                                    <a:pt x="40" y="52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8" name=""/>
                            <p:cNvSpPr/>
                            <p:nvPr/>
                          </p:nvSpPr>
                          <p:spPr>
                            <a:xfrm>
                              <a:off x="7940880" y="1116000"/>
                              <a:ext cx="385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5" h="45">
                                  <a:moveTo>
                                    <a:pt x="35" y="0"/>
                                  </a:moveTo>
                                  <a:lnTo>
                                    <a:pt x="75" y="23"/>
                                  </a:lnTo>
                                  <a:lnTo>
                                    <a:pt x="40" y="45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49" name=""/>
                            <p:cNvSpPr/>
                            <p:nvPr/>
                          </p:nvSpPr>
                          <p:spPr>
                            <a:xfrm>
                              <a:off x="7962480" y="1126440"/>
                              <a:ext cx="39960" cy="24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8" h="49">
                                  <a:moveTo>
                                    <a:pt x="36" y="0"/>
                                  </a:moveTo>
                                  <a:lnTo>
                                    <a:pt x="78" y="25"/>
                                  </a:lnTo>
                                  <a:lnTo>
                                    <a:pt x="40" y="49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3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320" bIns="-223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7937640" y="113868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1">
                                  <a:moveTo>
                                    <a:pt x="45" y="0"/>
                                  </a:moveTo>
                                  <a:lnTo>
                                    <a:pt x="86" y="26"/>
                                  </a:lnTo>
                                  <a:lnTo>
                                    <a:pt x="40" y="51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7985520" y="1138680"/>
                              <a:ext cx="3816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7" h="48">
                                  <a:moveTo>
                                    <a:pt x="36" y="0"/>
                                  </a:moveTo>
                                  <a:lnTo>
                                    <a:pt x="77" y="25"/>
                                  </a:lnTo>
                                  <a:lnTo>
                                    <a:pt x="40" y="48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3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7959240" y="114984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3">
                                  <a:moveTo>
                                    <a:pt x="46" y="0"/>
                                  </a:moveTo>
                                  <a:lnTo>
                                    <a:pt x="87" y="24"/>
                                  </a:lnTo>
                                  <a:lnTo>
                                    <a:pt x="41" y="53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3" name=""/>
                            <p:cNvSpPr/>
                            <p:nvPr/>
                          </p:nvSpPr>
                          <p:spPr>
                            <a:xfrm>
                              <a:off x="7837920" y="114336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3">
                                  <a:moveTo>
                                    <a:pt x="45" y="0"/>
                                  </a:moveTo>
                                  <a:lnTo>
                                    <a:pt x="87" y="27"/>
                                  </a:lnTo>
                                  <a:lnTo>
                                    <a:pt x="42" y="53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4" name=""/>
                            <p:cNvSpPr/>
                            <p:nvPr/>
                          </p:nvSpPr>
                          <p:spPr>
                            <a:xfrm>
                              <a:off x="7865280" y="112932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3">
                                  <a:moveTo>
                                    <a:pt x="47" y="0"/>
                                  </a:moveTo>
                                  <a:lnTo>
                                    <a:pt x="87" y="26"/>
                                  </a:lnTo>
                                  <a:lnTo>
                                    <a:pt x="42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7893360" y="1114200"/>
                              <a:ext cx="4428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3">
                                  <a:moveTo>
                                    <a:pt x="45" y="0"/>
                                  </a:moveTo>
                                  <a:lnTo>
                                    <a:pt x="85" y="26"/>
                                  </a:lnTo>
                                  <a:lnTo>
                                    <a:pt x="39" y="53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6" name=""/>
                            <p:cNvSpPr/>
                            <p:nvPr/>
                          </p:nvSpPr>
                          <p:spPr>
                            <a:xfrm>
                              <a:off x="7921080" y="1103400"/>
                              <a:ext cx="367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44">
                                  <a:moveTo>
                                    <a:pt x="32" y="0"/>
                                  </a:moveTo>
                                  <a:lnTo>
                                    <a:pt x="72" y="26"/>
                                  </a:lnTo>
                                  <a:lnTo>
                                    <a:pt x="37" y="44"/>
                                  </a:lnTo>
                                  <a:lnTo>
                                    <a:pt x="0" y="21"/>
                                  </a:lnTo>
                                  <a:lnTo>
                                    <a:pt x="3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7" name=""/>
                            <p:cNvSpPr/>
                            <p:nvPr/>
                          </p:nvSpPr>
                          <p:spPr>
                            <a:xfrm>
                              <a:off x="7808400" y="1157400"/>
                              <a:ext cx="45720" cy="28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57">
                                  <a:moveTo>
                                    <a:pt x="48" y="0"/>
                                  </a:moveTo>
                                  <a:lnTo>
                                    <a:pt x="91" y="29"/>
                                  </a:lnTo>
                                  <a:lnTo>
                                    <a:pt x="46" y="57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0" bIns="-180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7783920" y="1143360"/>
                              <a:ext cx="475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54">
                                  <a:moveTo>
                                    <a:pt x="49" y="0"/>
                                  </a:moveTo>
                                  <a:lnTo>
                                    <a:pt x="91" y="27"/>
                                  </a:lnTo>
                                  <a:lnTo>
                                    <a:pt x="45" y="54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7814880" y="1129320"/>
                              <a:ext cx="4572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4">
                                  <a:moveTo>
                                    <a:pt x="46" y="0"/>
                                  </a:moveTo>
                                  <a:lnTo>
                                    <a:pt x="89" y="26"/>
                                  </a:lnTo>
                                  <a:lnTo>
                                    <a:pt x="41" y="54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7843680" y="111600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3">
                                  <a:moveTo>
                                    <a:pt x="43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1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1" name=""/>
                            <p:cNvSpPr/>
                            <p:nvPr/>
                          </p:nvSpPr>
                          <p:spPr>
                            <a:xfrm>
                              <a:off x="7871760" y="110196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3">
                                  <a:moveTo>
                                    <a:pt x="47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1" y="53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2" name=""/>
                            <p:cNvSpPr/>
                            <p:nvPr/>
                          </p:nvSpPr>
                          <p:spPr>
                            <a:xfrm>
                              <a:off x="7898040" y="1092600"/>
                              <a:ext cx="36720" cy="23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5">
                                  <a:moveTo>
                                    <a:pt x="35" y="0"/>
                                  </a:moveTo>
                                  <a:lnTo>
                                    <a:pt x="73" y="23"/>
                                  </a:lnTo>
                                  <a:lnTo>
                                    <a:pt x="40" y="45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3760" bIns="-237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7793280" y="111708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4">
                                  <a:moveTo>
                                    <a:pt x="46" y="0"/>
                                  </a:moveTo>
                                  <a:lnTo>
                                    <a:pt x="88" y="28"/>
                                  </a:lnTo>
                                  <a:lnTo>
                                    <a:pt x="43" y="54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/>
                            <p:nvPr/>
                          </p:nvSpPr>
                          <p:spPr>
                            <a:xfrm>
                              <a:off x="7820640" y="110340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2">
                                  <a:moveTo>
                                    <a:pt x="46" y="0"/>
                                  </a:moveTo>
                                  <a:lnTo>
                                    <a:pt x="88" y="25"/>
                                  </a:lnTo>
                                  <a:lnTo>
                                    <a:pt x="42" y="52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5" name=""/>
                            <p:cNvSpPr/>
                            <p:nvPr/>
                          </p:nvSpPr>
                          <p:spPr>
                            <a:xfrm>
                              <a:off x="7850160" y="108972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1">
                                  <a:moveTo>
                                    <a:pt x="47" y="0"/>
                                  </a:moveTo>
                                  <a:lnTo>
                                    <a:pt x="86" y="24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7876080" y="1080360"/>
                              <a:ext cx="367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44">
                                  <a:moveTo>
                                    <a:pt x="33" y="0"/>
                                  </a:moveTo>
                                  <a:lnTo>
                                    <a:pt x="72" y="26"/>
                                  </a:lnTo>
                                  <a:lnTo>
                                    <a:pt x="41" y="44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7762320" y="1129320"/>
                              <a:ext cx="4716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6">
                                  <a:moveTo>
                                    <a:pt x="48" y="0"/>
                                  </a:moveTo>
                                  <a:lnTo>
                                    <a:pt x="93" y="29"/>
                                  </a:lnTo>
                                  <a:lnTo>
                                    <a:pt x="47" y="56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7742160" y="1117080"/>
                              <a:ext cx="4464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3">
                                  <a:moveTo>
                                    <a:pt x="47" y="0"/>
                                  </a:moveTo>
                                  <a:lnTo>
                                    <a:pt x="87" y="27"/>
                                  </a:lnTo>
                                  <a:lnTo>
                                    <a:pt x="40" y="53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69" name=""/>
                            <p:cNvSpPr/>
                            <p:nvPr/>
                          </p:nvSpPr>
                          <p:spPr>
                            <a:xfrm>
                              <a:off x="7770240" y="1103400"/>
                              <a:ext cx="44640" cy="27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4">
                                  <a:moveTo>
                                    <a:pt x="47" y="0"/>
                                  </a:moveTo>
                                  <a:lnTo>
                                    <a:pt x="89" y="26"/>
                                  </a:lnTo>
                                  <a:lnTo>
                                    <a:pt x="42" y="54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080" bIns="-19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7799400" y="1091160"/>
                              <a:ext cx="428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3">
                                  <a:moveTo>
                                    <a:pt x="44" y="0"/>
                                  </a:moveTo>
                                  <a:lnTo>
                                    <a:pt x="86" y="25"/>
                                  </a:lnTo>
                                  <a:lnTo>
                                    <a:pt x="41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7827120" y="1078920"/>
                              <a:ext cx="428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1">
                                  <a:moveTo>
                                    <a:pt x="48" y="0"/>
                                  </a:moveTo>
                                  <a:lnTo>
                                    <a:pt x="86" y="23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2" name=""/>
                            <p:cNvSpPr/>
                            <p:nvPr/>
                          </p:nvSpPr>
                          <p:spPr>
                            <a:xfrm>
                              <a:off x="7854480" y="106956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2">
                                  <a:moveTo>
                                    <a:pt x="33" y="0"/>
                                  </a:moveTo>
                                  <a:lnTo>
                                    <a:pt x="73" y="23"/>
                                  </a:lnTo>
                                  <a:lnTo>
                                    <a:pt x="38" y="42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7748640" y="1092600"/>
                              <a:ext cx="4320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2">
                                  <a:moveTo>
                                    <a:pt x="46" y="0"/>
                                  </a:moveTo>
                                  <a:lnTo>
                                    <a:pt x="85" y="23"/>
                                  </a:lnTo>
                                  <a:lnTo>
                                    <a:pt x="41" y="52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7777800" y="1078920"/>
                              <a:ext cx="428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" h="51">
                                  <a:moveTo>
                                    <a:pt x="46" y="0"/>
                                  </a:moveTo>
                                  <a:lnTo>
                                    <a:pt x="85" y="24"/>
                                  </a:lnTo>
                                  <a:lnTo>
                                    <a:pt x="36" y="51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5" name=""/>
                            <p:cNvSpPr/>
                            <p:nvPr/>
                          </p:nvSpPr>
                          <p:spPr>
                            <a:xfrm>
                              <a:off x="7805520" y="106632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0">
                                  <a:moveTo>
                                    <a:pt x="47" y="0"/>
                                  </a:moveTo>
                                  <a:lnTo>
                                    <a:pt x="87" y="24"/>
                                  </a:lnTo>
                                  <a:lnTo>
                                    <a:pt x="41" y="50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6" name=""/>
                            <p:cNvSpPr/>
                            <p:nvPr/>
                          </p:nvSpPr>
                          <p:spPr>
                            <a:xfrm>
                              <a:off x="7833240" y="1057320"/>
                              <a:ext cx="349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2">
                                  <a:moveTo>
                                    <a:pt x="29" y="0"/>
                                  </a:moveTo>
                                  <a:lnTo>
                                    <a:pt x="71" y="23"/>
                                  </a:lnTo>
                                  <a:lnTo>
                                    <a:pt x="41" y="4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2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7719120" y="1104840"/>
                              <a:ext cx="4608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1">
                                  <a:moveTo>
                                    <a:pt x="47" y="0"/>
                                  </a:moveTo>
                                  <a:lnTo>
                                    <a:pt x="88" y="27"/>
                                  </a:lnTo>
                                  <a:lnTo>
                                    <a:pt x="39" y="51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7696080" y="109260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2">
                                  <a:moveTo>
                                    <a:pt x="52" y="0"/>
                                  </a:moveTo>
                                  <a:lnTo>
                                    <a:pt x="89" y="26"/>
                                  </a:lnTo>
                                  <a:lnTo>
                                    <a:pt x="43" y="52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5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79" name=""/>
                            <p:cNvSpPr/>
                            <p:nvPr/>
                          </p:nvSpPr>
                          <p:spPr>
                            <a:xfrm>
                              <a:off x="7725600" y="108036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0">
                                  <a:moveTo>
                                    <a:pt x="47" y="0"/>
                                  </a:moveTo>
                                  <a:lnTo>
                                    <a:pt x="88" y="25"/>
                                  </a:lnTo>
                                  <a:lnTo>
                                    <a:pt x="39" y="50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0" name=""/>
                            <p:cNvSpPr/>
                            <p:nvPr/>
                          </p:nvSpPr>
                          <p:spPr>
                            <a:xfrm>
                              <a:off x="7754760" y="106632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0">
                                  <a:moveTo>
                                    <a:pt x="46" y="0"/>
                                  </a:moveTo>
                                  <a:lnTo>
                                    <a:pt x="87" y="26"/>
                                  </a:lnTo>
                                  <a:lnTo>
                                    <a:pt x="42" y="50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7782480" y="105408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1">
                                  <a:moveTo>
                                    <a:pt x="49" y="0"/>
                                  </a:moveTo>
                                  <a:lnTo>
                                    <a:pt x="90" y="25"/>
                                  </a:lnTo>
                                  <a:lnTo>
                                    <a:pt x="41" y="51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7811640" y="1045080"/>
                              <a:ext cx="34920" cy="2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3">
                                  <a:moveTo>
                                    <a:pt x="30" y="0"/>
                                  </a:moveTo>
                                  <a:lnTo>
                                    <a:pt x="71" y="26"/>
                                  </a:lnTo>
                                  <a:lnTo>
                                    <a:pt x="42" y="43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3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3" name=""/>
                            <p:cNvSpPr/>
                            <p:nvPr/>
                          </p:nvSpPr>
                          <p:spPr>
                            <a:xfrm>
                              <a:off x="7706880" y="1069560"/>
                              <a:ext cx="4140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2" h="46">
                                  <a:moveTo>
                                    <a:pt x="50" y="0"/>
                                  </a:moveTo>
                                  <a:lnTo>
                                    <a:pt x="82" y="23"/>
                                  </a:lnTo>
                                  <a:lnTo>
                                    <a:pt x="35" y="46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5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4" name=""/>
                            <p:cNvSpPr/>
                            <p:nvPr/>
                          </p:nvSpPr>
                          <p:spPr>
                            <a:xfrm>
                              <a:off x="7734600" y="1055880"/>
                              <a:ext cx="4320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3" h="48">
                                  <a:moveTo>
                                    <a:pt x="47" y="0"/>
                                  </a:moveTo>
                                  <a:lnTo>
                                    <a:pt x="83" y="23"/>
                                  </a:lnTo>
                                  <a:lnTo>
                                    <a:pt x="33" y="48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7760880" y="1041840"/>
                              <a:ext cx="4464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48">
                                  <a:moveTo>
                                    <a:pt x="54" y="0"/>
                                  </a:moveTo>
                                  <a:lnTo>
                                    <a:pt x="87" y="25"/>
                                  </a:lnTo>
                                  <a:lnTo>
                                    <a:pt x="37" y="48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5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7788600" y="1034280"/>
                              <a:ext cx="3672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1">
                                  <a:moveTo>
                                    <a:pt x="33" y="0"/>
                                  </a:moveTo>
                                  <a:lnTo>
                                    <a:pt x="71" y="23"/>
                                  </a:lnTo>
                                  <a:lnTo>
                                    <a:pt x="38" y="41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3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7" name=""/>
                            <p:cNvSpPr/>
                            <p:nvPr/>
                          </p:nvSpPr>
                          <p:spPr>
                            <a:xfrm>
                              <a:off x="7677720" y="1081800"/>
                              <a:ext cx="4320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4" h="47">
                                  <a:moveTo>
                                    <a:pt x="52" y="0"/>
                                  </a:moveTo>
                                  <a:lnTo>
                                    <a:pt x="84" y="22"/>
                                  </a:lnTo>
                                  <a:lnTo>
                                    <a:pt x="35" y="47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5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8" name=""/>
                            <p:cNvSpPr/>
                            <p:nvPr/>
                          </p:nvSpPr>
                          <p:spPr>
                            <a:xfrm>
                              <a:off x="7680960" y="1054080"/>
                              <a:ext cx="4896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4" h="56">
                                  <a:moveTo>
                                    <a:pt x="49" y="0"/>
                                  </a:moveTo>
                                  <a:lnTo>
                                    <a:pt x="94" y="30"/>
                                  </a:lnTo>
                                  <a:lnTo>
                                    <a:pt x="47" y="56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7710120" y="1041840"/>
                              <a:ext cx="47520" cy="27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" h="54">
                                  <a:moveTo>
                                    <a:pt x="49" y="0"/>
                                  </a:moveTo>
                                  <a:lnTo>
                                    <a:pt x="95" y="30"/>
                                  </a:lnTo>
                                  <a:lnTo>
                                    <a:pt x="47" y="54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440" bIns="-194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0" name=""/>
                            <p:cNvSpPr/>
                            <p:nvPr/>
                          </p:nvSpPr>
                          <p:spPr>
                            <a:xfrm>
                              <a:off x="7739640" y="1029600"/>
                              <a:ext cx="4572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51">
                                  <a:moveTo>
                                    <a:pt x="49" y="0"/>
                                  </a:moveTo>
                                  <a:lnTo>
                                    <a:pt x="91" y="28"/>
                                  </a:lnTo>
                                  <a:lnTo>
                                    <a:pt x="44" y="51"/>
                                  </a:lnTo>
                                  <a:lnTo>
                                    <a:pt x="0" y="24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1" name=""/>
                            <p:cNvSpPr/>
                            <p:nvPr/>
                          </p:nvSpPr>
                          <p:spPr>
                            <a:xfrm>
                              <a:off x="7767000" y="1022040"/>
                              <a:ext cx="36720" cy="2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42">
                                  <a:moveTo>
                                    <a:pt x="31" y="0"/>
                                  </a:moveTo>
                                  <a:lnTo>
                                    <a:pt x="73" y="26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3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2" name=""/>
                            <p:cNvSpPr/>
                            <p:nvPr/>
                          </p:nvSpPr>
                          <p:spPr>
                            <a:xfrm>
                              <a:off x="7651440" y="1066320"/>
                              <a:ext cx="5076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0" h="56">
                                  <a:moveTo>
                                    <a:pt x="50" y="0"/>
                                  </a:moveTo>
                                  <a:lnTo>
                                    <a:pt x="100" y="30"/>
                                  </a:lnTo>
                                  <a:lnTo>
                                    <a:pt x="51" y="56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5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3" name=""/>
                            <p:cNvSpPr/>
                            <p:nvPr/>
                          </p:nvSpPr>
                          <p:spPr>
                            <a:xfrm>
                              <a:off x="7611840" y="1041840"/>
                              <a:ext cx="62640" cy="36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4" h="72">
                                  <a:moveTo>
                                    <a:pt x="48" y="0"/>
                                  </a:moveTo>
                                  <a:lnTo>
                                    <a:pt x="124" y="53"/>
                                  </a:lnTo>
                                  <a:lnTo>
                                    <a:pt x="76" y="72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7619400" y="1008000"/>
                              <a:ext cx="84240" cy="57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6" h="115">
                                  <a:moveTo>
                                    <a:pt x="0" y="42"/>
                                  </a:moveTo>
                                  <a:lnTo>
                                    <a:pt x="121" y="115"/>
                                  </a:lnTo>
                                  <a:lnTo>
                                    <a:pt x="166" y="96"/>
                                  </a:lnTo>
                                  <a:lnTo>
                                    <a:pt x="82" y="42"/>
                                  </a:lnTo>
                                  <a:lnTo>
                                    <a:pt x="142" y="17"/>
                                  </a:lnTo>
                                  <a:lnTo>
                                    <a:pt x="112" y="0"/>
                                  </a:lnTo>
                                  <a:lnTo>
                                    <a:pt x="0" y="4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7668720" y="1017000"/>
                              <a:ext cx="64440" cy="38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8" h="74">
                                  <a:moveTo>
                                    <a:pt x="0" y="24"/>
                                  </a:moveTo>
                                  <a:lnTo>
                                    <a:pt x="79" y="74"/>
                                  </a:lnTo>
                                  <a:lnTo>
                                    <a:pt x="128" y="52"/>
                                  </a:lnTo>
                                  <a:lnTo>
                                    <a:pt x="48" y="0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280" bIns="-82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6" name=""/>
                            <p:cNvSpPr/>
                            <p:nvPr/>
                          </p:nvSpPr>
                          <p:spPr>
                            <a:xfrm>
                              <a:off x="7717680" y="1018800"/>
                              <a:ext cx="45720" cy="24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48">
                                  <a:moveTo>
                                    <a:pt x="0" y="24"/>
                                  </a:moveTo>
                                  <a:lnTo>
                                    <a:pt x="36" y="48"/>
                                  </a:lnTo>
                                  <a:lnTo>
                                    <a:pt x="89" y="22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2680" bIns="-226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7696080" y="100620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49">
                                  <a:moveTo>
                                    <a:pt x="0" y="23"/>
                                  </a:moveTo>
                                  <a:lnTo>
                                    <a:pt x="41" y="49"/>
                                  </a:lnTo>
                                  <a:lnTo>
                                    <a:pt x="89" y="23"/>
                                  </a:lnTo>
                                  <a:lnTo>
                                    <a:pt x="49" y="0"/>
                                  </a:lnTo>
                                  <a:lnTo>
                                    <a:pt x="0" y="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7676280" y="995760"/>
                              <a:ext cx="4284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4" h="45">
                                  <a:moveTo>
                                    <a:pt x="0" y="23"/>
                                  </a:moveTo>
                                  <a:lnTo>
                                    <a:pt x="33" y="45"/>
                                  </a:lnTo>
                                  <a:lnTo>
                                    <a:pt x="84" y="21"/>
                                  </a:lnTo>
                                  <a:lnTo>
                                    <a:pt x="54" y="0"/>
                                  </a:lnTo>
                                  <a:lnTo>
                                    <a:pt x="0" y="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599" name=""/>
                            <p:cNvSpPr/>
                            <p:nvPr/>
                          </p:nvSpPr>
                          <p:spPr>
                            <a:xfrm>
                              <a:off x="7706880" y="989640"/>
                              <a:ext cx="30600" cy="16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34">
                                  <a:moveTo>
                                    <a:pt x="0" y="16"/>
                                  </a:moveTo>
                                  <a:lnTo>
                                    <a:pt x="31" y="34"/>
                                  </a:lnTo>
                                  <a:lnTo>
                                    <a:pt x="60" y="18"/>
                                  </a:lnTo>
                                  <a:lnTo>
                                    <a:pt x="29" y="0"/>
                                  </a:lnTo>
                                  <a:lnTo>
                                    <a:pt x="0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240" bIns="-302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600" name=""/>
                            <p:cNvSpPr/>
                            <p:nvPr/>
                          </p:nvSpPr>
                          <p:spPr>
                            <a:xfrm>
                              <a:off x="7724160" y="99864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41">
                                  <a:moveTo>
                                    <a:pt x="0" y="15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68" y="26"/>
                                  </a:lnTo>
                                  <a:lnTo>
                                    <a:pt x="28" y="0"/>
                                  </a:lnTo>
                                  <a:lnTo>
                                    <a:pt x="0" y="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7590240" y="1029600"/>
                              <a:ext cx="44640" cy="25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49">
                                  <a:moveTo>
                                    <a:pt x="0" y="24"/>
                                  </a:moveTo>
                                  <a:lnTo>
                                    <a:pt x="35" y="49"/>
                                  </a:lnTo>
                                  <a:lnTo>
                                    <a:pt x="87" y="24"/>
                                  </a:lnTo>
                                  <a:lnTo>
                                    <a:pt x="52" y="0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880" bIns="-2088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7745400" y="1009440"/>
                              <a:ext cx="35280" cy="21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41">
                                  <a:moveTo>
                                    <a:pt x="0" y="17"/>
                                  </a:moveTo>
                                  <a:lnTo>
                                    <a:pt x="40" y="41"/>
                                  </a:lnTo>
                                  <a:lnTo>
                                    <a:pt x="68" y="27"/>
                                  </a:lnTo>
                                  <a:lnTo>
                                    <a:pt x="28" y="0"/>
                                  </a:lnTo>
                                  <a:lnTo>
                                    <a:pt x="0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800" spc="-1" strike="noStrike">
                                <a:solidFill>
                                  <a:srgbClr val="000000"/>
                                </a:solidFill>
                                <a:latin typeface="Cordia Ne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03" name=""/>
                        <p:cNvGrpSpPr/>
                        <p:nvPr/>
                      </p:nvGrpSpPr>
                      <p:grpSpPr>
                        <a:xfrm>
                          <a:off x="7411680" y="1092960"/>
                          <a:ext cx="584280" cy="241560"/>
                          <a:chOff x="7411680" y="1092960"/>
                          <a:chExt cx="584280" cy="241560"/>
                        </a:xfrm>
                      </p:grpSpPr>
                      <p:sp>
                        <p:nvSpPr>
                          <p:cNvPr id="604" name=""/>
                          <p:cNvSpPr/>
                          <p:nvPr/>
                        </p:nvSpPr>
                        <p:spPr>
                          <a:xfrm>
                            <a:off x="7739280" y="1203840"/>
                            <a:ext cx="256680" cy="13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1" h="255">
                                <a:moveTo>
                                  <a:pt x="501" y="0"/>
                                </a:moveTo>
                                <a:lnTo>
                                  <a:pt x="14" y="202"/>
                                </a:lnTo>
                                <a:lnTo>
                                  <a:pt x="4" y="215"/>
                                </a:lnTo>
                                <a:lnTo>
                                  <a:pt x="0" y="228"/>
                                </a:lnTo>
                                <a:lnTo>
                                  <a:pt x="4" y="237"/>
                                </a:lnTo>
                                <a:lnTo>
                                  <a:pt x="9" y="250"/>
                                </a:lnTo>
                                <a:lnTo>
                                  <a:pt x="18" y="255"/>
                                </a:lnTo>
                                <a:lnTo>
                                  <a:pt x="489" y="53"/>
                                </a:lnTo>
                                <a:lnTo>
                                  <a:pt x="50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05" name=""/>
                          <p:cNvSpPr/>
                          <p:nvPr/>
                        </p:nvSpPr>
                        <p:spPr>
                          <a:xfrm>
                            <a:off x="7416360" y="1092960"/>
                            <a:ext cx="348840" cy="21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1" h="428">
                                <a:moveTo>
                                  <a:pt x="681" y="410"/>
                                </a:moveTo>
                                <a:lnTo>
                                  <a:pt x="656" y="419"/>
                                </a:lnTo>
                                <a:lnTo>
                                  <a:pt x="645" y="428"/>
                                </a:lnTo>
                                <a:lnTo>
                                  <a:pt x="0" y="4"/>
                                </a:lnTo>
                                <a:lnTo>
                                  <a:pt x="16" y="2"/>
                                </a:lnTo>
                                <a:lnTo>
                                  <a:pt x="30" y="0"/>
                                </a:lnTo>
                                <a:lnTo>
                                  <a:pt x="45" y="0"/>
                                </a:lnTo>
                                <a:lnTo>
                                  <a:pt x="62" y="3"/>
                                </a:lnTo>
                                <a:lnTo>
                                  <a:pt x="681" y="4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06" name=""/>
                          <p:cNvSpPr/>
                          <p:nvPr/>
                        </p:nvSpPr>
                        <p:spPr>
                          <a:xfrm>
                            <a:off x="7411680" y="1095840"/>
                            <a:ext cx="336960" cy="23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59" h="458">
                                <a:moveTo>
                                  <a:pt x="11" y="0"/>
                                </a:moveTo>
                                <a:lnTo>
                                  <a:pt x="654" y="422"/>
                                </a:lnTo>
                                <a:lnTo>
                                  <a:pt x="652" y="440"/>
                                </a:lnTo>
                                <a:lnTo>
                                  <a:pt x="659" y="458"/>
                                </a:lnTo>
                                <a:lnTo>
                                  <a:pt x="0" y="21"/>
                                </a:lnTo>
                                <a:lnTo>
                                  <a:pt x="0" y="9"/>
                                </a:lnTo>
                                <a:lnTo>
                                  <a:pt x="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7" name=""/>
                      <p:cNvGrpSpPr/>
                      <p:nvPr/>
                    </p:nvGrpSpPr>
                    <p:grpSpPr>
                      <a:xfrm>
                        <a:off x="7760880" y="644760"/>
                        <a:ext cx="455400" cy="429480"/>
                        <a:chOff x="7760880" y="644760"/>
                        <a:chExt cx="455400" cy="429480"/>
                      </a:xfrm>
                    </p:grpSpPr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8080920" y="806400"/>
                          <a:ext cx="135360" cy="26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5" h="521">
                              <a:moveTo>
                                <a:pt x="247" y="0"/>
                              </a:moveTo>
                              <a:lnTo>
                                <a:pt x="265" y="34"/>
                              </a:lnTo>
                              <a:lnTo>
                                <a:pt x="19" y="521"/>
                              </a:lnTo>
                              <a:lnTo>
                                <a:pt x="0" y="483"/>
                              </a:lnTo>
                              <a:lnTo>
                                <a:pt x="2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7760880" y="644760"/>
                          <a:ext cx="449280" cy="41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8" h="802">
                              <a:moveTo>
                                <a:pt x="240" y="0"/>
                              </a:moveTo>
                              <a:lnTo>
                                <a:pt x="878" y="319"/>
                              </a:lnTo>
                              <a:lnTo>
                                <a:pt x="638" y="802"/>
                              </a:lnTo>
                              <a:lnTo>
                                <a:pt x="0" y="480"/>
                              </a:lnTo>
                              <a:lnTo>
                                <a:pt x="2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7786800" y="670680"/>
                          <a:ext cx="399960" cy="35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1" h="690">
                              <a:moveTo>
                                <a:pt x="781" y="292"/>
                              </a:moveTo>
                              <a:lnTo>
                                <a:pt x="582" y="690"/>
                              </a:lnTo>
                              <a:lnTo>
                                <a:pt x="0" y="400"/>
                              </a:lnTo>
                              <a:lnTo>
                                <a:pt x="198" y="0"/>
                              </a:lnTo>
                              <a:lnTo>
                                <a:pt x="781" y="2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7804080" y="689400"/>
                          <a:ext cx="364680" cy="32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2" h="624">
                              <a:moveTo>
                                <a:pt x="712" y="266"/>
                              </a:moveTo>
                              <a:lnTo>
                                <a:pt x="539" y="624"/>
                              </a:lnTo>
                              <a:lnTo>
                                <a:pt x="0" y="356"/>
                              </a:lnTo>
                              <a:lnTo>
                                <a:pt x="178" y="0"/>
                              </a:lnTo>
                              <a:lnTo>
                                <a:pt x="712" y="2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8049960" y="1014480"/>
                          <a:ext cx="33840" cy="3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59">
                              <a:moveTo>
                                <a:pt x="18" y="0"/>
                              </a:moveTo>
                              <a:lnTo>
                                <a:pt x="66" y="23"/>
                              </a:lnTo>
                              <a:lnTo>
                                <a:pt x="48" y="59"/>
                              </a:lnTo>
                              <a:lnTo>
                                <a:pt x="0" y="35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7760880" y="888120"/>
                          <a:ext cx="333720" cy="18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0" h="361">
                              <a:moveTo>
                                <a:pt x="650" y="361"/>
                              </a:moveTo>
                              <a:lnTo>
                                <a:pt x="19" y="41"/>
                              </a:lnTo>
                              <a:lnTo>
                                <a:pt x="0" y="0"/>
                              </a:lnTo>
                              <a:lnTo>
                                <a:pt x="638" y="325"/>
                              </a:lnTo>
                              <a:lnTo>
                                <a:pt x="650" y="3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7839360" y="931320"/>
                          <a:ext cx="1447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215">
                              <a:moveTo>
                                <a:pt x="0" y="104"/>
                              </a:moveTo>
                              <a:lnTo>
                                <a:pt x="73" y="0"/>
                              </a:lnTo>
                              <a:lnTo>
                                <a:pt x="283" y="105"/>
                              </a:lnTo>
                              <a:lnTo>
                                <a:pt x="209" y="215"/>
                              </a:lnTo>
                              <a:lnTo>
                                <a:pt x="0" y="1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8041320" y="1221120"/>
                      <a:ext cx="336600" cy="175320"/>
                      <a:chOff x="8041320" y="1221120"/>
                      <a:chExt cx="336600" cy="175320"/>
                    </a:xfrm>
                  </p:grpSpPr>
                  <p:sp>
                    <p:nvSpPr>
                      <p:cNvPr id="616" name=""/>
                      <p:cNvSpPr/>
                      <p:nvPr/>
                    </p:nvSpPr>
                    <p:spPr>
                      <a:xfrm>
                        <a:off x="8047440" y="1236240"/>
                        <a:ext cx="26892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4" h="313">
                            <a:moveTo>
                              <a:pt x="0" y="183"/>
                            </a:moveTo>
                            <a:lnTo>
                              <a:pt x="339" y="313"/>
                            </a:lnTo>
                            <a:lnTo>
                              <a:pt x="524" y="138"/>
                            </a:lnTo>
                            <a:lnTo>
                              <a:pt x="188" y="0"/>
                            </a:lnTo>
                            <a:lnTo>
                              <a:pt x="0" y="18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grpSp>
                    <p:nvGrpSpPr>
                      <p:cNvPr id="617" name=""/>
                      <p:cNvGrpSpPr/>
                      <p:nvPr/>
                    </p:nvGrpSpPr>
                    <p:grpSpPr>
                      <a:xfrm>
                        <a:off x="8041320" y="1221120"/>
                        <a:ext cx="281160" cy="141480"/>
                        <a:chOff x="8041320" y="1221120"/>
                        <a:chExt cx="281160" cy="141480"/>
                      </a:xfrm>
                    </p:grpSpPr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8041320" y="1221120"/>
                          <a:ext cx="281160" cy="14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9" h="275">
                              <a:moveTo>
                                <a:pt x="0" y="85"/>
                              </a:moveTo>
                              <a:lnTo>
                                <a:pt x="210" y="275"/>
                              </a:lnTo>
                              <a:lnTo>
                                <a:pt x="549" y="186"/>
                              </a:lnTo>
                              <a:lnTo>
                                <a:pt x="339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8048880" y="1247040"/>
                          <a:ext cx="96840" cy="4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84">
                              <a:moveTo>
                                <a:pt x="0" y="39"/>
                              </a:moveTo>
                              <a:lnTo>
                                <a:pt x="46" y="84"/>
                              </a:lnTo>
                              <a:lnTo>
                                <a:pt x="187" y="44"/>
                              </a:lnTo>
                              <a:lnTo>
                                <a:pt x="142" y="0"/>
                              </a:lnTo>
                              <a:lnTo>
                                <a:pt x="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  <p:grpSp>
                    <p:nvGrpSpPr>
                      <p:cNvPr id="620" name=""/>
                      <p:cNvGrpSpPr/>
                      <p:nvPr/>
                    </p:nvGrpSpPr>
                    <p:grpSpPr>
                      <a:xfrm>
                        <a:off x="8099280" y="1245600"/>
                        <a:ext cx="278640" cy="140040"/>
                        <a:chOff x="8099280" y="1245600"/>
                        <a:chExt cx="278640" cy="140040"/>
                      </a:xfrm>
                    </p:grpSpPr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8099280" y="1245600"/>
                          <a:ext cx="278640" cy="14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3" h="274">
                              <a:moveTo>
                                <a:pt x="0" y="84"/>
                              </a:moveTo>
                              <a:lnTo>
                                <a:pt x="208" y="274"/>
                              </a:lnTo>
                              <a:lnTo>
                                <a:pt x="543" y="191"/>
                              </a:lnTo>
                              <a:lnTo>
                                <a:pt x="331" y="0"/>
                              </a:lnTo>
                              <a:lnTo>
                                <a:pt x="0" y="8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8213040" y="1293120"/>
                          <a:ext cx="61200" cy="428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8105400" y="1271520"/>
                          <a:ext cx="96840" cy="4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82">
                              <a:moveTo>
                                <a:pt x="0" y="38"/>
                              </a:moveTo>
                              <a:lnTo>
                                <a:pt x="46" y="82"/>
                              </a:lnTo>
                              <a:lnTo>
                                <a:pt x="188" y="42"/>
                              </a:lnTo>
                              <a:lnTo>
                                <a:pt x="143" y="0"/>
                              </a:lnTo>
                              <a:lnTo>
                                <a:pt x="0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624" name=""/>
            <p:cNvGrpSpPr/>
            <p:nvPr/>
          </p:nvGrpSpPr>
          <p:grpSpPr>
            <a:xfrm>
              <a:off x="6732720" y="757080"/>
              <a:ext cx="770040" cy="1015560"/>
              <a:chOff x="6732720" y="757080"/>
              <a:chExt cx="770040" cy="101556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6732720" y="1043640"/>
                <a:ext cx="770040" cy="729000"/>
                <a:chOff x="6732720" y="1043640"/>
                <a:chExt cx="770040" cy="72900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7162200" y="1320840"/>
                  <a:ext cx="252360" cy="316800"/>
                  <a:chOff x="7162200" y="1320840"/>
                  <a:chExt cx="252360" cy="31680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7192800" y="1320840"/>
                    <a:ext cx="21816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314">
                        <a:moveTo>
                          <a:pt x="425" y="62"/>
                        </a:moveTo>
                        <a:lnTo>
                          <a:pt x="407" y="130"/>
                        </a:lnTo>
                        <a:lnTo>
                          <a:pt x="391" y="152"/>
                        </a:lnTo>
                        <a:lnTo>
                          <a:pt x="385" y="161"/>
                        </a:lnTo>
                        <a:lnTo>
                          <a:pt x="388" y="180"/>
                        </a:lnTo>
                        <a:lnTo>
                          <a:pt x="393" y="200"/>
                        </a:lnTo>
                        <a:lnTo>
                          <a:pt x="394" y="220"/>
                        </a:lnTo>
                        <a:lnTo>
                          <a:pt x="372" y="254"/>
                        </a:lnTo>
                        <a:lnTo>
                          <a:pt x="145" y="209"/>
                        </a:lnTo>
                        <a:lnTo>
                          <a:pt x="74" y="260"/>
                        </a:lnTo>
                        <a:lnTo>
                          <a:pt x="54" y="283"/>
                        </a:lnTo>
                        <a:lnTo>
                          <a:pt x="39" y="305"/>
                        </a:lnTo>
                        <a:lnTo>
                          <a:pt x="21" y="314"/>
                        </a:lnTo>
                        <a:lnTo>
                          <a:pt x="9" y="313"/>
                        </a:lnTo>
                        <a:lnTo>
                          <a:pt x="3" y="306"/>
                        </a:lnTo>
                        <a:lnTo>
                          <a:pt x="0" y="293"/>
                        </a:lnTo>
                        <a:lnTo>
                          <a:pt x="3" y="279"/>
                        </a:lnTo>
                        <a:lnTo>
                          <a:pt x="9" y="268"/>
                        </a:lnTo>
                        <a:lnTo>
                          <a:pt x="29" y="239"/>
                        </a:lnTo>
                        <a:lnTo>
                          <a:pt x="43" y="227"/>
                        </a:lnTo>
                        <a:lnTo>
                          <a:pt x="58" y="212"/>
                        </a:lnTo>
                        <a:lnTo>
                          <a:pt x="75" y="188"/>
                        </a:lnTo>
                        <a:lnTo>
                          <a:pt x="88" y="169"/>
                        </a:lnTo>
                        <a:lnTo>
                          <a:pt x="102" y="154"/>
                        </a:lnTo>
                        <a:lnTo>
                          <a:pt x="116" y="145"/>
                        </a:lnTo>
                        <a:lnTo>
                          <a:pt x="160" y="116"/>
                        </a:lnTo>
                        <a:lnTo>
                          <a:pt x="195" y="91"/>
                        </a:lnTo>
                        <a:lnTo>
                          <a:pt x="227" y="73"/>
                        </a:lnTo>
                        <a:lnTo>
                          <a:pt x="251" y="61"/>
                        </a:lnTo>
                        <a:lnTo>
                          <a:pt x="246" y="46"/>
                        </a:lnTo>
                        <a:lnTo>
                          <a:pt x="251" y="28"/>
                        </a:lnTo>
                        <a:lnTo>
                          <a:pt x="281" y="0"/>
                        </a:lnTo>
                        <a:lnTo>
                          <a:pt x="425" y="62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162200" y="1376280"/>
                    <a:ext cx="252360" cy="2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4" h="510">
                        <a:moveTo>
                          <a:pt x="0" y="375"/>
                        </a:moveTo>
                        <a:lnTo>
                          <a:pt x="27" y="342"/>
                        </a:lnTo>
                        <a:lnTo>
                          <a:pt x="52" y="323"/>
                        </a:lnTo>
                        <a:lnTo>
                          <a:pt x="103" y="290"/>
                        </a:lnTo>
                        <a:lnTo>
                          <a:pt x="101" y="255"/>
                        </a:lnTo>
                        <a:lnTo>
                          <a:pt x="100" y="214"/>
                        </a:lnTo>
                        <a:lnTo>
                          <a:pt x="103" y="178"/>
                        </a:lnTo>
                        <a:lnTo>
                          <a:pt x="106" y="140"/>
                        </a:lnTo>
                        <a:lnTo>
                          <a:pt x="113" y="128"/>
                        </a:lnTo>
                        <a:lnTo>
                          <a:pt x="124" y="117"/>
                        </a:lnTo>
                        <a:lnTo>
                          <a:pt x="143" y="106"/>
                        </a:lnTo>
                        <a:lnTo>
                          <a:pt x="161" y="93"/>
                        </a:lnTo>
                        <a:lnTo>
                          <a:pt x="175" y="77"/>
                        </a:lnTo>
                        <a:lnTo>
                          <a:pt x="179" y="66"/>
                        </a:lnTo>
                        <a:lnTo>
                          <a:pt x="186" y="54"/>
                        </a:lnTo>
                        <a:lnTo>
                          <a:pt x="202" y="23"/>
                        </a:lnTo>
                        <a:lnTo>
                          <a:pt x="209" y="18"/>
                        </a:lnTo>
                        <a:lnTo>
                          <a:pt x="221" y="16"/>
                        </a:lnTo>
                        <a:lnTo>
                          <a:pt x="230" y="18"/>
                        </a:lnTo>
                        <a:lnTo>
                          <a:pt x="234" y="28"/>
                        </a:lnTo>
                        <a:lnTo>
                          <a:pt x="238" y="48"/>
                        </a:lnTo>
                        <a:lnTo>
                          <a:pt x="235" y="71"/>
                        </a:lnTo>
                        <a:lnTo>
                          <a:pt x="229" y="92"/>
                        </a:lnTo>
                        <a:lnTo>
                          <a:pt x="256" y="57"/>
                        </a:lnTo>
                        <a:lnTo>
                          <a:pt x="284" y="28"/>
                        </a:lnTo>
                        <a:lnTo>
                          <a:pt x="319" y="7"/>
                        </a:lnTo>
                        <a:lnTo>
                          <a:pt x="336" y="0"/>
                        </a:lnTo>
                        <a:lnTo>
                          <a:pt x="356" y="4"/>
                        </a:lnTo>
                        <a:lnTo>
                          <a:pt x="374" y="10"/>
                        </a:lnTo>
                        <a:lnTo>
                          <a:pt x="391" y="18"/>
                        </a:lnTo>
                        <a:lnTo>
                          <a:pt x="412" y="28"/>
                        </a:lnTo>
                        <a:lnTo>
                          <a:pt x="419" y="36"/>
                        </a:lnTo>
                        <a:lnTo>
                          <a:pt x="428" y="52"/>
                        </a:lnTo>
                        <a:lnTo>
                          <a:pt x="431" y="70"/>
                        </a:lnTo>
                        <a:lnTo>
                          <a:pt x="441" y="77"/>
                        </a:lnTo>
                        <a:lnTo>
                          <a:pt x="449" y="88"/>
                        </a:lnTo>
                        <a:lnTo>
                          <a:pt x="455" y="107"/>
                        </a:lnTo>
                        <a:lnTo>
                          <a:pt x="459" y="121"/>
                        </a:lnTo>
                        <a:lnTo>
                          <a:pt x="455" y="134"/>
                        </a:lnTo>
                        <a:lnTo>
                          <a:pt x="468" y="140"/>
                        </a:lnTo>
                        <a:lnTo>
                          <a:pt x="473" y="149"/>
                        </a:lnTo>
                        <a:lnTo>
                          <a:pt x="470" y="169"/>
                        </a:lnTo>
                        <a:lnTo>
                          <a:pt x="455" y="187"/>
                        </a:lnTo>
                        <a:lnTo>
                          <a:pt x="471" y="207"/>
                        </a:lnTo>
                        <a:lnTo>
                          <a:pt x="484" y="225"/>
                        </a:lnTo>
                        <a:lnTo>
                          <a:pt x="494" y="255"/>
                        </a:lnTo>
                        <a:lnTo>
                          <a:pt x="488" y="261"/>
                        </a:lnTo>
                        <a:lnTo>
                          <a:pt x="471" y="263"/>
                        </a:lnTo>
                        <a:lnTo>
                          <a:pt x="457" y="252"/>
                        </a:lnTo>
                        <a:lnTo>
                          <a:pt x="442" y="246"/>
                        </a:lnTo>
                        <a:lnTo>
                          <a:pt x="428" y="245"/>
                        </a:lnTo>
                        <a:lnTo>
                          <a:pt x="414" y="247"/>
                        </a:lnTo>
                        <a:lnTo>
                          <a:pt x="395" y="264"/>
                        </a:lnTo>
                        <a:lnTo>
                          <a:pt x="383" y="288"/>
                        </a:lnTo>
                        <a:lnTo>
                          <a:pt x="369" y="318"/>
                        </a:lnTo>
                        <a:lnTo>
                          <a:pt x="349" y="340"/>
                        </a:lnTo>
                        <a:lnTo>
                          <a:pt x="325" y="353"/>
                        </a:lnTo>
                        <a:lnTo>
                          <a:pt x="292" y="380"/>
                        </a:lnTo>
                        <a:lnTo>
                          <a:pt x="265" y="403"/>
                        </a:lnTo>
                        <a:lnTo>
                          <a:pt x="213" y="435"/>
                        </a:lnTo>
                        <a:lnTo>
                          <a:pt x="90" y="510"/>
                        </a:lnTo>
                        <a:lnTo>
                          <a:pt x="0" y="375"/>
                        </a:lnTo>
                        <a:close/>
                      </a:path>
                    </a:pathLst>
                  </a:custGeom>
                  <a:solidFill>
                    <a:srgbClr val="ff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175880" y="1419120"/>
                    <a:ext cx="12132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397">
                        <a:moveTo>
                          <a:pt x="112" y="83"/>
                        </a:moveTo>
                        <a:lnTo>
                          <a:pt x="123" y="68"/>
                        </a:lnTo>
                        <a:lnTo>
                          <a:pt x="144" y="61"/>
                        </a:lnTo>
                        <a:lnTo>
                          <a:pt x="164" y="47"/>
                        </a:lnTo>
                        <a:lnTo>
                          <a:pt x="179" y="29"/>
                        </a:lnTo>
                        <a:lnTo>
                          <a:pt x="198" y="0"/>
                        </a:lnTo>
                        <a:lnTo>
                          <a:pt x="178" y="41"/>
                        </a:lnTo>
                        <a:lnTo>
                          <a:pt x="165" y="57"/>
                        </a:lnTo>
                        <a:lnTo>
                          <a:pt x="150" y="81"/>
                        </a:lnTo>
                        <a:lnTo>
                          <a:pt x="139" y="101"/>
                        </a:lnTo>
                        <a:lnTo>
                          <a:pt x="134" y="129"/>
                        </a:lnTo>
                        <a:lnTo>
                          <a:pt x="143" y="148"/>
                        </a:lnTo>
                        <a:lnTo>
                          <a:pt x="165" y="150"/>
                        </a:lnTo>
                        <a:lnTo>
                          <a:pt x="188" y="146"/>
                        </a:lnTo>
                        <a:lnTo>
                          <a:pt x="211" y="141"/>
                        </a:lnTo>
                        <a:lnTo>
                          <a:pt x="219" y="155"/>
                        </a:lnTo>
                        <a:lnTo>
                          <a:pt x="223" y="175"/>
                        </a:lnTo>
                        <a:lnTo>
                          <a:pt x="217" y="194"/>
                        </a:lnTo>
                        <a:lnTo>
                          <a:pt x="205" y="216"/>
                        </a:lnTo>
                        <a:lnTo>
                          <a:pt x="211" y="230"/>
                        </a:lnTo>
                        <a:lnTo>
                          <a:pt x="220" y="244"/>
                        </a:lnTo>
                        <a:lnTo>
                          <a:pt x="236" y="253"/>
                        </a:lnTo>
                        <a:lnTo>
                          <a:pt x="217" y="254"/>
                        </a:lnTo>
                        <a:lnTo>
                          <a:pt x="201" y="258"/>
                        </a:lnTo>
                        <a:lnTo>
                          <a:pt x="184" y="268"/>
                        </a:lnTo>
                        <a:lnTo>
                          <a:pt x="178" y="286"/>
                        </a:lnTo>
                        <a:lnTo>
                          <a:pt x="179" y="307"/>
                        </a:lnTo>
                        <a:lnTo>
                          <a:pt x="183" y="330"/>
                        </a:lnTo>
                        <a:lnTo>
                          <a:pt x="188" y="351"/>
                        </a:lnTo>
                        <a:lnTo>
                          <a:pt x="116" y="397"/>
                        </a:lnTo>
                        <a:lnTo>
                          <a:pt x="31" y="306"/>
                        </a:lnTo>
                        <a:lnTo>
                          <a:pt x="0" y="253"/>
                        </a:lnTo>
                        <a:lnTo>
                          <a:pt x="40" y="226"/>
                        </a:lnTo>
                        <a:lnTo>
                          <a:pt x="76" y="203"/>
                        </a:lnTo>
                        <a:lnTo>
                          <a:pt x="88" y="184"/>
                        </a:lnTo>
                        <a:lnTo>
                          <a:pt x="93" y="146"/>
                        </a:lnTo>
                        <a:lnTo>
                          <a:pt x="97" y="108"/>
                        </a:lnTo>
                        <a:lnTo>
                          <a:pt x="112" y="83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343640" y="146556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50">
                        <a:moveTo>
                          <a:pt x="101" y="14"/>
                        </a:moveTo>
                        <a:lnTo>
                          <a:pt x="79" y="10"/>
                        </a:lnTo>
                        <a:lnTo>
                          <a:pt x="59" y="11"/>
                        </a:lnTo>
                        <a:lnTo>
                          <a:pt x="38" y="24"/>
                        </a:lnTo>
                        <a:lnTo>
                          <a:pt x="0" y="50"/>
                        </a:lnTo>
                        <a:lnTo>
                          <a:pt x="21" y="31"/>
                        </a:lnTo>
                        <a:lnTo>
                          <a:pt x="39" y="13"/>
                        </a:lnTo>
                        <a:lnTo>
                          <a:pt x="61" y="1"/>
                        </a:lnTo>
                        <a:lnTo>
                          <a:pt x="76" y="0"/>
                        </a:lnTo>
                        <a:lnTo>
                          <a:pt x="93" y="5"/>
                        </a:lnTo>
                        <a:lnTo>
                          <a:pt x="101" y="14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7334280" y="1437840"/>
                    <a:ext cx="612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48">
                        <a:moveTo>
                          <a:pt x="119" y="16"/>
                        </a:moveTo>
                        <a:lnTo>
                          <a:pt x="99" y="10"/>
                        </a:lnTo>
                        <a:lnTo>
                          <a:pt x="79" y="6"/>
                        </a:lnTo>
                        <a:lnTo>
                          <a:pt x="54" y="14"/>
                        </a:lnTo>
                        <a:lnTo>
                          <a:pt x="20" y="38"/>
                        </a:lnTo>
                        <a:lnTo>
                          <a:pt x="0" y="48"/>
                        </a:lnTo>
                        <a:lnTo>
                          <a:pt x="27" y="29"/>
                        </a:lnTo>
                        <a:lnTo>
                          <a:pt x="44" y="14"/>
                        </a:lnTo>
                        <a:lnTo>
                          <a:pt x="58" y="6"/>
                        </a:lnTo>
                        <a:lnTo>
                          <a:pt x="76" y="0"/>
                        </a:lnTo>
                        <a:lnTo>
                          <a:pt x="92" y="1"/>
                        </a:lnTo>
                        <a:lnTo>
                          <a:pt x="119" y="16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7320600" y="1402560"/>
                    <a:ext cx="615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80">
                        <a:moveTo>
                          <a:pt x="119" y="21"/>
                        </a:moveTo>
                        <a:lnTo>
                          <a:pt x="104" y="25"/>
                        </a:lnTo>
                        <a:lnTo>
                          <a:pt x="93" y="25"/>
                        </a:lnTo>
                        <a:lnTo>
                          <a:pt x="80" y="21"/>
                        </a:lnTo>
                        <a:lnTo>
                          <a:pt x="70" y="11"/>
                        </a:lnTo>
                        <a:lnTo>
                          <a:pt x="45" y="25"/>
                        </a:lnTo>
                        <a:lnTo>
                          <a:pt x="30" y="40"/>
                        </a:lnTo>
                        <a:lnTo>
                          <a:pt x="13" y="61"/>
                        </a:lnTo>
                        <a:lnTo>
                          <a:pt x="0" y="80"/>
                        </a:lnTo>
                        <a:lnTo>
                          <a:pt x="16" y="51"/>
                        </a:lnTo>
                        <a:lnTo>
                          <a:pt x="34" y="25"/>
                        </a:lnTo>
                        <a:lnTo>
                          <a:pt x="49" y="11"/>
                        </a:lnTo>
                        <a:lnTo>
                          <a:pt x="65" y="4"/>
                        </a:lnTo>
                        <a:lnTo>
                          <a:pt x="72" y="0"/>
                        </a:lnTo>
                        <a:lnTo>
                          <a:pt x="84" y="12"/>
                        </a:lnTo>
                        <a:lnTo>
                          <a:pt x="93" y="18"/>
                        </a:lnTo>
                        <a:lnTo>
                          <a:pt x="104" y="21"/>
                        </a:lnTo>
                        <a:lnTo>
                          <a:pt x="119" y="21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732720" y="1043640"/>
                  <a:ext cx="770040" cy="729000"/>
                  <a:chOff x="6732720" y="1043640"/>
                  <a:chExt cx="770040" cy="729000"/>
                </a:xfrm>
              </p:grpSpPr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6732720" y="1043640"/>
                    <a:ext cx="770040" cy="729000"/>
                    <a:chOff x="6732720" y="1043640"/>
                    <a:chExt cx="770040" cy="72900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6732720" y="1043640"/>
                      <a:ext cx="770040" cy="72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8" h="1418">
                          <a:moveTo>
                            <a:pt x="424" y="15"/>
                          </a:moveTo>
                          <a:lnTo>
                            <a:pt x="411" y="18"/>
                          </a:lnTo>
                          <a:lnTo>
                            <a:pt x="401" y="29"/>
                          </a:lnTo>
                          <a:lnTo>
                            <a:pt x="389" y="38"/>
                          </a:lnTo>
                          <a:lnTo>
                            <a:pt x="371" y="45"/>
                          </a:lnTo>
                          <a:lnTo>
                            <a:pt x="350" y="49"/>
                          </a:lnTo>
                          <a:lnTo>
                            <a:pt x="334" y="56"/>
                          </a:lnTo>
                          <a:lnTo>
                            <a:pt x="309" y="78"/>
                          </a:lnTo>
                          <a:lnTo>
                            <a:pt x="278" y="105"/>
                          </a:lnTo>
                          <a:lnTo>
                            <a:pt x="247" y="135"/>
                          </a:lnTo>
                          <a:lnTo>
                            <a:pt x="222" y="165"/>
                          </a:lnTo>
                          <a:lnTo>
                            <a:pt x="210" y="185"/>
                          </a:lnTo>
                          <a:lnTo>
                            <a:pt x="195" y="204"/>
                          </a:lnTo>
                          <a:lnTo>
                            <a:pt x="177" y="224"/>
                          </a:lnTo>
                          <a:lnTo>
                            <a:pt x="152" y="251"/>
                          </a:lnTo>
                          <a:lnTo>
                            <a:pt x="133" y="277"/>
                          </a:lnTo>
                          <a:lnTo>
                            <a:pt x="114" y="304"/>
                          </a:lnTo>
                          <a:lnTo>
                            <a:pt x="98" y="332"/>
                          </a:lnTo>
                          <a:lnTo>
                            <a:pt x="81" y="367"/>
                          </a:lnTo>
                          <a:lnTo>
                            <a:pt x="66" y="405"/>
                          </a:lnTo>
                          <a:lnTo>
                            <a:pt x="56" y="440"/>
                          </a:lnTo>
                          <a:lnTo>
                            <a:pt x="48" y="457"/>
                          </a:lnTo>
                          <a:lnTo>
                            <a:pt x="51" y="471"/>
                          </a:lnTo>
                          <a:lnTo>
                            <a:pt x="41" y="493"/>
                          </a:lnTo>
                          <a:lnTo>
                            <a:pt x="34" y="513"/>
                          </a:lnTo>
                          <a:lnTo>
                            <a:pt x="29" y="543"/>
                          </a:lnTo>
                          <a:lnTo>
                            <a:pt x="32" y="569"/>
                          </a:lnTo>
                          <a:lnTo>
                            <a:pt x="35" y="594"/>
                          </a:lnTo>
                          <a:lnTo>
                            <a:pt x="29" y="618"/>
                          </a:lnTo>
                          <a:lnTo>
                            <a:pt x="16" y="627"/>
                          </a:lnTo>
                          <a:lnTo>
                            <a:pt x="7" y="643"/>
                          </a:lnTo>
                          <a:lnTo>
                            <a:pt x="3" y="669"/>
                          </a:lnTo>
                          <a:lnTo>
                            <a:pt x="0" y="708"/>
                          </a:lnTo>
                          <a:lnTo>
                            <a:pt x="2" y="757"/>
                          </a:lnTo>
                          <a:lnTo>
                            <a:pt x="5" y="821"/>
                          </a:lnTo>
                          <a:lnTo>
                            <a:pt x="3" y="865"/>
                          </a:lnTo>
                          <a:lnTo>
                            <a:pt x="2" y="911"/>
                          </a:lnTo>
                          <a:lnTo>
                            <a:pt x="3" y="953"/>
                          </a:lnTo>
                          <a:lnTo>
                            <a:pt x="5" y="1006"/>
                          </a:lnTo>
                          <a:lnTo>
                            <a:pt x="12" y="1019"/>
                          </a:lnTo>
                          <a:lnTo>
                            <a:pt x="21" y="1029"/>
                          </a:lnTo>
                          <a:lnTo>
                            <a:pt x="18" y="1059"/>
                          </a:lnTo>
                          <a:lnTo>
                            <a:pt x="16" y="1103"/>
                          </a:lnTo>
                          <a:lnTo>
                            <a:pt x="21" y="1132"/>
                          </a:lnTo>
                          <a:lnTo>
                            <a:pt x="17" y="1173"/>
                          </a:lnTo>
                          <a:lnTo>
                            <a:pt x="21" y="1211"/>
                          </a:lnTo>
                          <a:lnTo>
                            <a:pt x="31" y="1246"/>
                          </a:lnTo>
                          <a:lnTo>
                            <a:pt x="43" y="1275"/>
                          </a:lnTo>
                          <a:lnTo>
                            <a:pt x="58" y="1309"/>
                          </a:lnTo>
                          <a:lnTo>
                            <a:pt x="72" y="1334"/>
                          </a:lnTo>
                          <a:lnTo>
                            <a:pt x="88" y="1358"/>
                          </a:lnTo>
                          <a:lnTo>
                            <a:pt x="112" y="1376"/>
                          </a:lnTo>
                          <a:lnTo>
                            <a:pt x="141" y="1397"/>
                          </a:lnTo>
                          <a:lnTo>
                            <a:pt x="166" y="1418"/>
                          </a:lnTo>
                          <a:lnTo>
                            <a:pt x="751" y="1418"/>
                          </a:lnTo>
                          <a:lnTo>
                            <a:pt x="773" y="1395"/>
                          </a:lnTo>
                          <a:lnTo>
                            <a:pt x="802" y="1379"/>
                          </a:lnTo>
                          <a:lnTo>
                            <a:pt x="818" y="1372"/>
                          </a:lnTo>
                          <a:lnTo>
                            <a:pt x="824" y="1365"/>
                          </a:lnTo>
                          <a:lnTo>
                            <a:pt x="840" y="1327"/>
                          </a:lnTo>
                          <a:lnTo>
                            <a:pt x="855" y="1305"/>
                          </a:lnTo>
                          <a:lnTo>
                            <a:pt x="880" y="1288"/>
                          </a:lnTo>
                          <a:lnTo>
                            <a:pt x="900" y="1282"/>
                          </a:lnTo>
                          <a:lnTo>
                            <a:pt x="913" y="1269"/>
                          </a:lnTo>
                          <a:lnTo>
                            <a:pt x="922" y="1252"/>
                          </a:lnTo>
                          <a:lnTo>
                            <a:pt x="949" y="1243"/>
                          </a:lnTo>
                          <a:lnTo>
                            <a:pt x="970" y="1231"/>
                          </a:lnTo>
                          <a:lnTo>
                            <a:pt x="981" y="1216"/>
                          </a:lnTo>
                          <a:lnTo>
                            <a:pt x="996" y="1211"/>
                          </a:lnTo>
                          <a:lnTo>
                            <a:pt x="1002" y="1199"/>
                          </a:lnTo>
                          <a:lnTo>
                            <a:pt x="999" y="1179"/>
                          </a:lnTo>
                          <a:lnTo>
                            <a:pt x="998" y="1134"/>
                          </a:lnTo>
                          <a:lnTo>
                            <a:pt x="1002" y="1107"/>
                          </a:lnTo>
                          <a:lnTo>
                            <a:pt x="999" y="1074"/>
                          </a:lnTo>
                          <a:lnTo>
                            <a:pt x="983" y="1046"/>
                          </a:lnTo>
                          <a:lnTo>
                            <a:pt x="959" y="1022"/>
                          </a:lnTo>
                          <a:lnTo>
                            <a:pt x="940" y="1005"/>
                          </a:lnTo>
                          <a:lnTo>
                            <a:pt x="916" y="989"/>
                          </a:lnTo>
                          <a:lnTo>
                            <a:pt x="893" y="975"/>
                          </a:lnTo>
                          <a:lnTo>
                            <a:pt x="869" y="977"/>
                          </a:lnTo>
                          <a:lnTo>
                            <a:pt x="849" y="984"/>
                          </a:lnTo>
                          <a:lnTo>
                            <a:pt x="833" y="1000"/>
                          </a:lnTo>
                          <a:lnTo>
                            <a:pt x="820" y="1009"/>
                          </a:lnTo>
                          <a:lnTo>
                            <a:pt x="802" y="1022"/>
                          </a:lnTo>
                          <a:lnTo>
                            <a:pt x="793" y="1033"/>
                          </a:lnTo>
                          <a:lnTo>
                            <a:pt x="781" y="1036"/>
                          </a:lnTo>
                          <a:lnTo>
                            <a:pt x="769" y="1047"/>
                          </a:lnTo>
                          <a:lnTo>
                            <a:pt x="759" y="1065"/>
                          </a:lnTo>
                          <a:lnTo>
                            <a:pt x="742" y="1062"/>
                          </a:lnTo>
                          <a:lnTo>
                            <a:pt x="729" y="1065"/>
                          </a:lnTo>
                          <a:lnTo>
                            <a:pt x="723" y="1076"/>
                          </a:lnTo>
                          <a:lnTo>
                            <a:pt x="714" y="1081"/>
                          </a:lnTo>
                          <a:lnTo>
                            <a:pt x="698" y="1085"/>
                          </a:lnTo>
                          <a:lnTo>
                            <a:pt x="684" y="1081"/>
                          </a:lnTo>
                          <a:lnTo>
                            <a:pt x="670" y="1059"/>
                          </a:lnTo>
                          <a:lnTo>
                            <a:pt x="719" y="1028"/>
                          </a:lnTo>
                          <a:lnTo>
                            <a:pt x="811" y="920"/>
                          </a:lnTo>
                          <a:lnTo>
                            <a:pt x="968" y="731"/>
                          </a:lnTo>
                          <a:lnTo>
                            <a:pt x="978" y="702"/>
                          </a:lnTo>
                          <a:lnTo>
                            <a:pt x="980" y="670"/>
                          </a:lnTo>
                          <a:lnTo>
                            <a:pt x="975" y="633"/>
                          </a:lnTo>
                          <a:lnTo>
                            <a:pt x="997" y="627"/>
                          </a:lnTo>
                          <a:lnTo>
                            <a:pt x="1017" y="612"/>
                          </a:lnTo>
                          <a:lnTo>
                            <a:pt x="1016" y="601"/>
                          </a:lnTo>
                          <a:lnTo>
                            <a:pt x="999" y="569"/>
                          </a:lnTo>
                          <a:lnTo>
                            <a:pt x="989" y="543"/>
                          </a:lnTo>
                          <a:lnTo>
                            <a:pt x="996" y="491"/>
                          </a:lnTo>
                          <a:lnTo>
                            <a:pt x="998" y="458"/>
                          </a:lnTo>
                          <a:lnTo>
                            <a:pt x="997" y="425"/>
                          </a:lnTo>
                          <a:lnTo>
                            <a:pt x="1024" y="439"/>
                          </a:lnTo>
                          <a:lnTo>
                            <a:pt x="1044" y="455"/>
                          </a:lnTo>
                          <a:lnTo>
                            <a:pt x="1068" y="463"/>
                          </a:lnTo>
                          <a:lnTo>
                            <a:pt x="1096" y="467"/>
                          </a:lnTo>
                          <a:lnTo>
                            <a:pt x="1122" y="464"/>
                          </a:lnTo>
                          <a:lnTo>
                            <a:pt x="1159" y="457"/>
                          </a:lnTo>
                          <a:lnTo>
                            <a:pt x="1184" y="450"/>
                          </a:lnTo>
                          <a:lnTo>
                            <a:pt x="1208" y="449"/>
                          </a:lnTo>
                          <a:lnTo>
                            <a:pt x="1195" y="479"/>
                          </a:lnTo>
                          <a:lnTo>
                            <a:pt x="1187" y="506"/>
                          </a:lnTo>
                          <a:lnTo>
                            <a:pt x="1171" y="526"/>
                          </a:lnTo>
                          <a:lnTo>
                            <a:pt x="1155" y="545"/>
                          </a:lnTo>
                          <a:lnTo>
                            <a:pt x="1145" y="561"/>
                          </a:lnTo>
                          <a:lnTo>
                            <a:pt x="1138" y="576"/>
                          </a:lnTo>
                          <a:lnTo>
                            <a:pt x="1141" y="587"/>
                          </a:lnTo>
                          <a:lnTo>
                            <a:pt x="1150" y="602"/>
                          </a:lnTo>
                          <a:lnTo>
                            <a:pt x="1146" y="588"/>
                          </a:lnTo>
                          <a:lnTo>
                            <a:pt x="1153" y="578"/>
                          </a:lnTo>
                          <a:lnTo>
                            <a:pt x="1165" y="574"/>
                          </a:lnTo>
                          <a:lnTo>
                            <a:pt x="1181" y="573"/>
                          </a:lnTo>
                          <a:lnTo>
                            <a:pt x="1202" y="575"/>
                          </a:lnTo>
                          <a:lnTo>
                            <a:pt x="1223" y="582"/>
                          </a:lnTo>
                          <a:lnTo>
                            <a:pt x="1244" y="592"/>
                          </a:lnTo>
                          <a:lnTo>
                            <a:pt x="1263" y="605"/>
                          </a:lnTo>
                          <a:lnTo>
                            <a:pt x="1279" y="621"/>
                          </a:lnTo>
                          <a:lnTo>
                            <a:pt x="1296" y="643"/>
                          </a:lnTo>
                          <a:lnTo>
                            <a:pt x="1302" y="663"/>
                          </a:lnTo>
                          <a:lnTo>
                            <a:pt x="1297" y="672"/>
                          </a:lnTo>
                          <a:lnTo>
                            <a:pt x="1292" y="679"/>
                          </a:lnTo>
                          <a:lnTo>
                            <a:pt x="1303" y="679"/>
                          </a:lnTo>
                          <a:lnTo>
                            <a:pt x="1316" y="675"/>
                          </a:lnTo>
                          <a:lnTo>
                            <a:pt x="1325" y="672"/>
                          </a:lnTo>
                          <a:lnTo>
                            <a:pt x="1335" y="656"/>
                          </a:lnTo>
                          <a:lnTo>
                            <a:pt x="1343" y="638"/>
                          </a:lnTo>
                          <a:lnTo>
                            <a:pt x="1360" y="620"/>
                          </a:lnTo>
                          <a:lnTo>
                            <a:pt x="1371" y="602"/>
                          </a:lnTo>
                          <a:lnTo>
                            <a:pt x="1391" y="600"/>
                          </a:lnTo>
                          <a:lnTo>
                            <a:pt x="1410" y="600"/>
                          </a:lnTo>
                          <a:lnTo>
                            <a:pt x="1424" y="596"/>
                          </a:lnTo>
                          <a:lnTo>
                            <a:pt x="1438" y="573"/>
                          </a:lnTo>
                          <a:lnTo>
                            <a:pt x="1454" y="543"/>
                          </a:lnTo>
                          <a:lnTo>
                            <a:pt x="1468" y="513"/>
                          </a:lnTo>
                          <a:lnTo>
                            <a:pt x="1481" y="493"/>
                          </a:lnTo>
                          <a:lnTo>
                            <a:pt x="1483" y="479"/>
                          </a:lnTo>
                          <a:lnTo>
                            <a:pt x="1494" y="428"/>
                          </a:lnTo>
                          <a:lnTo>
                            <a:pt x="1498" y="387"/>
                          </a:lnTo>
                          <a:lnTo>
                            <a:pt x="1495" y="354"/>
                          </a:lnTo>
                          <a:lnTo>
                            <a:pt x="1491" y="322"/>
                          </a:lnTo>
                          <a:lnTo>
                            <a:pt x="1486" y="305"/>
                          </a:lnTo>
                          <a:lnTo>
                            <a:pt x="1468" y="277"/>
                          </a:lnTo>
                          <a:lnTo>
                            <a:pt x="1449" y="246"/>
                          </a:lnTo>
                          <a:lnTo>
                            <a:pt x="1432" y="224"/>
                          </a:lnTo>
                          <a:lnTo>
                            <a:pt x="1422" y="219"/>
                          </a:lnTo>
                          <a:lnTo>
                            <a:pt x="1359" y="201"/>
                          </a:lnTo>
                          <a:lnTo>
                            <a:pt x="1305" y="167"/>
                          </a:lnTo>
                          <a:lnTo>
                            <a:pt x="1226" y="125"/>
                          </a:lnTo>
                          <a:lnTo>
                            <a:pt x="1114" y="77"/>
                          </a:lnTo>
                          <a:lnTo>
                            <a:pt x="1074" y="58"/>
                          </a:lnTo>
                          <a:lnTo>
                            <a:pt x="1035" y="32"/>
                          </a:lnTo>
                          <a:lnTo>
                            <a:pt x="994" y="0"/>
                          </a:lnTo>
                          <a:lnTo>
                            <a:pt x="930" y="5"/>
                          </a:lnTo>
                          <a:lnTo>
                            <a:pt x="751" y="292"/>
                          </a:lnTo>
                          <a:lnTo>
                            <a:pt x="666" y="261"/>
                          </a:lnTo>
                          <a:lnTo>
                            <a:pt x="634" y="246"/>
                          </a:lnTo>
                          <a:lnTo>
                            <a:pt x="607" y="229"/>
                          </a:lnTo>
                          <a:lnTo>
                            <a:pt x="576" y="204"/>
                          </a:lnTo>
                          <a:lnTo>
                            <a:pt x="544" y="172"/>
                          </a:lnTo>
                          <a:lnTo>
                            <a:pt x="506" y="127"/>
                          </a:lnTo>
                          <a:lnTo>
                            <a:pt x="424" y="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grpSp>
                  <p:nvGrpSpPr>
                    <p:cNvPr id="636" name=""/>
                    <p:cNvGrpSpPr/>
                    <p:nvPr/>
                  </p:nvGrpSpPr>
                  <p:grpSpPr>
                    <a:xfrm>
                      <a:off x="6744600" y="1045080"/>
                      <a:ext cx="741600" cy="726840"/>
                      <a:chOff x="6744600" y="1045080"/>
                      <a:chExt cx="741600" cy="726840"/>
                    </a:xfrm>
                  </p:grpSpPr>
                  <p:sp>
                    <p:nvSpPr>
                      <p:cNvPr id="637" name=""/>
                      <p:cNvSpPr/>
                      <p:nvPr/>
                    </p:nvSpPr>
                    <p:spPr>
                      <a:xfrm>
                        <a:off x="7243200" y="1164960"/>
                        <a:ext cx="8424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95">
                            <a:moveTo>
                              <a:pt x="0" y="192"/>
                            </a:moveTo>
                            <a:lnTo>
                              <a:pt x="9" y="151"/>
                            </a:lnTo>
                            <a:lnTo>
                              <a:pt x="17" y="114"/>
                            </a:lnTo>
                            <a:lnTo>
                              <a:pt x="16" y="74"/>
                            </a:lnTo>
                            <a:lnTo>
                              <a:pt x="9" y="31"/>
                            </a:lnTo>
                            <a:lnTo>
                              <a:pt x="5" y="0"/>
                            </a:lnTo>
                            <a:lnTo>
                              <a:pt x="22" y="34"/>
                            </a:lnTo>
                            <a:lnTo>
                              <a:pt x="31" y="62"/>
                            </a:lnTo>
                            <a:lnTo>
                              <a:pt x="50" y="80"/>
                            </a:lnTo>
                            <a:lnTo>
                              <a:pt x="75" y="90"/>
                            </a:lnTo>
                            <a:lnTo>
                              <a:pt x="102" y="93"/>
                            </a:lnTo>
                            <a:lnTo>
                              <a:pt x="125" y="94"/>
                            </a:lnTo>
                            <a:lnTo>
                              <a:pt x="165" y="102"/>
                            </a:lnTo>
                            <a:lnTo>
                              <a:pt x="143" y="106"/>
                            </a:lnTo>
                            <a:lnTo>
                              <a:pt x="119" y="112"/>
                            </a:lnTo>
                            <a:lnTo>
                              <a:pt x="101" y="115"/>
                            </a:lnTo>
                            <a:lnTo>
                              <a:pt x="79" y="116"/>
                            </a:lnTo>
                            <a:lnTo>
                              <a:pt x="49" y="115"/>
                            </a:lnTo>
                            <a:lnTo>
                              <a:pt x="68" y="124"/>
                            </a:lnTo>
                            <a:lnTo>
                              <a:pt x="97" y="128"/>
                            </a:lnTo>
                            <a:lnTo>
                              <a:pt x="120" y="129"/>
                            </a:lnTo>
                            <a:lnTo>
                              <a:pt x="165" y="138"/>
                            </a:lnTo>
                            <a:lnTo>
                              <a:pt x="141" y="143"/>
                            </a:lnTo>
                            <a:lnTo>
                              <a:pt x="120" y="147"/>
                            </a:lnTo>
                            <a:lnTo>
                              <a:pt x="96" y="148"/>
                            </a:lnTo>
                            <a:lnTo>
                              <a:pt x="72" y="150"/>
                            </a:lnTo>
                            <a:lnTo>
                              <a:pt x="89" y="157"/>
                            </a:lnTo>
                            <a:lnTo>
                              <a:pt x="108" y="166"/>
                            </a:lnTo>
                            <a:lnTo>
                              <a:pt x="129" y="172"/>
                            </a:lnTo>
                            <a:lnTo>
                              <a:pt x="159" y="178"/>
                            </a:lnTo>
                            <a:lnTo>
                              <a:pt x="133" y="184"/>
                            </a:lnTo>
                            <a:lnTo>
                              <a:pt x="108" y="181"/>
                            </a:lnTo>
                            <a:lnTo>
                              <a:pt x="88" y="174"/>
                            </a:lnTo>
                            <a:lnTo>
                              <a:pt x="72" y="187"/>
                            </a:lnTo>
                            <a:lnTo>
                              <a:pt x="52" y="193"/>
                            </a:lnTo>
                            <a:lnTo>
                              <a:pt x="29" y="195"/>
                            </a:lnTo>
                            <a:lnTo>
                              <a:pt x="0" y="192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38" name=""/>
                      <p:cNvSpPr/>
                      <p:nvPr/>
                    </p:nvSpPr>
                    <p:spPr>
                      <a:xfrm>
                        <a:off x="7217280" y="1155600"/>
                        <a:ext cx="446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421">
                            <a:moveTo>
                              <a:pt x="24" y="0"/>
                            </a:moveTo>
                            <a:lnTo>
                              <a:pt x="36" y="121"/>
                            </a:lnTo>
                            <a:lnTo>
                              <a:pt x="32" y="220"/>
                            </a:lnTo>
                            <a:lnTo>
                              <a:pt x="36" y="245"/>
                            </a:lnTo>
                            <a:lnTo>
                              <a:pt x="32" y="287"/>
                            </a:lnTo>
                            <a:lnTo>
                              <a:pt x="50" y="303"/>
                            </a:lnTo>
                            <a:lnTo>
                              <a:pt x="46" y="330"/>
                            </a:lnTo>
                            <a:lnTo>
                              <a:pt x="60" y="347"/>
                            </a:lnTo>
                            <a:lnTo>
                              <a:pt x="74" y="365"/>
                            </a:lnTo>
                            <a:lnTo>
                              <a:pt x="86" y="383"/>
                            </a:lnTo>
                            <a:lnTo>
                              <a:pt x="87" y="394"/>
                            </a:lnTo>
                            <a:lnTo>
                              <a:pt x="83" y="408"/>
                            </a:lnTo>
                            <a:lnTo>
                              <a:pt x="69" y="416"/>
                            </a:lnTo>
                            <a:lnTo>
                              <a:pt x="56" y="421"/>
                            </a:lnTo>
                            <a:lnTo>
                              <a:pt x="42" y="421"/>
                            </a:lnTo>
                            <a:lnTo>
                              <a:pt x="29" y="420"/>
                            </a:lnTo>
                            <a:lnTo>
                              <a:pt x="0" y="410"/>
                            </a:lnTo>
                            <a:lnTo>
                              <a:pt x="28" y="407"/>
                            </a:lnTo>
                            <a:lnTo>
                              <a:pt x="41" y="403"/>
                            </a:lnTo>
                            <a:lnTo>
                              <a:pt x="50" y="394"/>
                            </a:lnTo>
                            <a:lnTo>
                              <a:pt x="41" y="380"/>
                            </a:lnTo>
                            <a:lnTo>
                              <a:pt x="24" y="365"/>
                            </a:lnTo>
                            <a:lnTo>
                              <a:pt x="7" y="357"/>
                            </a:lnTo>
                            <a:lnTo>
                              <a:pt x="14" y="339"/>
                            </a:lnTo>
                            <a:lnTo>
                              <a:pt x="16" y="322"/>
                            </a:lnTo>
                            <a:lnTo>
                              <a:pt x="11" y="268"/>
                            </a:lnTo>
                            <a:lnTo>
                              <a:pt x="7" y="168"/>
                            </a:lnTo>
                            <a:lnTo>
                              <a:pt x="20" y="96"/>
                            </a:lnTo>
                            <a:lnTo>
                              <a:pt x="24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7173720" y="1366920"/>
                        <a:ext cx="61560" cy="9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181">
                            <a:moveTo>
                              <a:pt x="36" y="0"/>
                            </a:moveTo>
                            <a:lnTo>
                              <a:pt x="49" y="20"/>
                            </a:lnTo>
                            <a:lnTo>
                              <a:pt x="57" y="42"/>
                            </a:lnTo>
                            <a:lnTo>
                              <a:pt x="61" y="64"/>
                            </a:lnTo>
                            <a:lnTo>
                              <a:pt x="62" y="91"/>
                            </a:lnTo>
                            <a:lnTo>
                              <a:pt x="76" y="96"/>
                            </a:lnTo>
                            <a:lnTo>
                              <a:pt x="94" y="95"/>
                            </a:lnTo>
                            <a:lnTo>
                              <a:pt x="108" y="86"/>
                            </a:lnTo>
                            <a:lnTo>
                              <a:pt x="121" y="69"/>
                            </a:lnTo>
                            <a:lnTo>
                              <a:pt x="118" y="90"/>
                            </a:lnTo>
                            <a:lnTo>
                              <a:pt x="111" y="105"/>
                            </a:lnTo>
                            <a:lnTo>
                              <a:pt x="88" y="132"/>
                            </a:lnTo>
                            <a:lnTo>
                              <a:pt x="45" y="181"/>
                            </a:lnTo>
                            <a:lnTo>
                              <a:pt x="0" y="91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7043040" y="1490040"/>
                        <a:ext cx="115560" cy="16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328">
                            <a:moveTo>
                              <a:pt x="0" y="131"/>
                            </a:moveTo>
                            <a:lnTo>
                              <a:pt x="29" y="139"/>
                            </a:lnTo>
                            <a:lnTo>
                              <a:pt x="52" y="122"/>
                            </a:lnTo>
                            <a:lnTo>
                              <a:pt x="74" y="96"/>
                            </a:lnTo>
                            <a:lnTo>
                              <a:pt x="93" y="73"/>
                            </a:lnTo>
                            <a:lnTo>
                              <a:pt x="106" y="49"/>
                            </a:lnTo>
                            <a:lnTo>
                              <a:pt x="120" y="0"/>
                            </a:lnTo>
                            <a:lnTo>
                              <a:pt x="121" y="26"/>
                            </a:lnTo>
                            <a:lnTo>
                              <a:pt x="118" y="58"/>
                            </a:lnTo>
                            <a:lnTo>
                              <a:pt x="106" y="94"/>
                            </a:lnTo>
                            <a:lnTo>
                              <a:pt x="93" y="127"/>
                            </a:lnTo>
                            <a:lnTo>
                              <a:pt x="101" y="148"/>
                            </a:lnTo>
                            <a:lnTo>
                              <a:pt x="116" y="125"/>
                            </a:lnTo>
                            <a:lnTo>
                              <a:pt x="137" y="96"/>
                            </a:lnTo>
                            <a:lnTo>
                              <a:pt x="165" y="67"/>
                            </a:lnTo>
                            <a:lnTo>
                              <a:pt x="195" y="49"/>
                            </a:lnTo>
                            <a:lnTo>
                              <a:pt x="224" y="29"/>
                            </a:lnTo>
                            <a:lnTo>
                              <a:pt x="65" y="211"/>
                            </a:lnTo>
                            <a:lnTo>
                              <a:pt x="64" y="229"/>
                            </a:lnTo>
                            <a:lnTo>
                              <a:pt x="60" y="248"/>
                            </a:lnTo>
                            <a:lnTo>
                              <a:pt x="51" y="262"/>
                            </a:lnTo>
                            <a:lnTo>
                              <a:pt x="39" y="288"/>
                            </a:lnTo>
                            <a:lnTo>
                              <a:pt x="33" y="328"/>
                            </a:lnTo>
                            <a:lnTo>
                              <a:pt x="29" y="261"/>
                            </a:lnTo>
                            <a:lnTo>
                              <a:pt x="22" y="211"/>
                            </a:lnTo>
                            <a:lnTo>
                              <a:pt x="11" y="166"/>
                            </a:lnTo>
                            <a:lnTo>
                              <a:pt x="0" y="131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6993720" y="1353240"/>
                        <a:ext cx="6480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" h="418">
                            <a:moveTo>
                              <a:pt x="25" y="327"/>
                            </a:moveTo>
                            <a:lnTo>
                              <a:pt x="48" y="349"/>
                            </a:lnTo>
                            <a:lnTo>
                              <a:pt x="67" y="365"/>
                            </a:lnTo>
                            <a:lnTo>
                              <a:pt x="87" y="383"/>
                            </a:lnTo>
                            <a:lnTo>
                              <a:pt x="110" y="418"/>
                            </a:lnTo>
                            <a:lnTo>
                              <a:pt x="119" y="388"/>
                            </a:lnTo>
                            <a:lnTo>
                              <a:pt x="126" y="351"/>
                            </a:lnTo>
                            <a:lnTo>
                              <a:pt x="128" y="292"/>
                            </a:lnTo>
                            <a:lnTo>
                              <a:pt x="123" y="251"/>
                            </a:lnTo>
                            <a:lnTo>
                              <a:pt x="110" y="188"/>
                            </a:lnTo>
                            <a:lnTo>
                              <a:pt x="95" y="125"/>
                            </a:lnTo>
                            <a:lnTo>
                              <a:pt x="82" y="85"/>
                            </a:lnTo>
                            <a:lnTo>
                              <a:pt x="65" y="46"/>
                            </a:lnTo>
                            <a:lnTo>
                              <a:pt x="38" y="0"/>
                            </a:lnTo>
                            <a:lnTo>
                              <a:pt x="52" y="46"/>
                            </a:lnTo>
                            <a:lnTo>
                              <a:pt x="63" y="85"/>
                            </a:lnTo>
                            <a:lnTo>
                              <a:pt x="68" y="126"/>
                            </a:lnTo>
                            <a:lnTo>
                              <a:pt x="74" y="177"/>
                            </a:lnTo>
                            <a:lnTo>
                              <a:pt x="77" y="240"/>
                            </a:lnTo>
                            <a:lnTo>
                              <a:pt x="73" y="291"/>
                            </a:lnTo>
                            <a:lnTo>
                              <a:pt x="63" y="302"/>
                            </a:lnTo>
                            <a:lnTo>
                              <a:pt x="48" y="309"/>
                            </a:lnTo>
                            <a:lnTo>
                              <a:pt x="29" y="311"/>
                            </a:lnTo>
                            <a:lnTo>
                              <a:pt x="0" y="307"/>
                            </a:lnTo>
                            <a:lnTo>
                              <a:pt x="25" y="327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6909120" y="1060200"/>
                        <a:ext cx="22140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2" h="393">
                            <a:moveTo>
                              <a:pt x="103" y="12"/>
                            </a:moveTo>
                            <a:lnTo>
                              <a:pt x="87" y="0"/>
                            </a:lnTo>
                            <a:lnTo>
                              <a:pt x="69" y="1"/>
                            </a:lnTo>
                            <a:lnTo>
                              <a:pt x="47" y="13"/>
                            </a:lnTo>
                            <a:lnTo>
                              <a:pt x="31" y="27"/>
                            </a:lnTo>
                            <a:lnTo>
                              <a:pt x="13" y="48"/>
                            </a:lnTo>
                            <a:lnTo>
                              <a:pt x="4" y="68"/>
                            </a:lnTo>
                            <a:lnTo>
                              <a:pt x="0" y="89"/>
                            </a:lnTo>
                            <a:lnTo>
                              <a:pt x="9" y="95"/>
                            </a:lnTo>
                            <a:lnTo>
                              <a:pt x="26" y="100"/>
                            </a:lnTo>
                            <a:lnTo>
                              <a:pt x="45" y="102"/>
                            </a:lnTo>
                            <a:lnTo>
                              <a:pt x="56" y="99"/>
                            </a:lnTo>
                            <a:lnTo>
                              <a:pt x="60" y="117"/>
                            </a:lnTo>
                            <a:lnTo>
                              <a:pt x="68" y="139"/>
                            </a:lnTo>
                            <a:lnTo>
                              <a:pt x="83" y="158"/>
                            </a:lnTo>
                            <a:lnTo>
                              <a:pt x="110" y="183"/>
                            </a:lnTo>
                            <a:lnTo>
                              <a:pt x="138" y="202"/>
                            </a:lnTo>
                            <a:lnTo>
                              <a:pt x="167" y="229"/>
                            </a:lnTo>
                            <a:lnTo>
                              <a:pt x="186" y="259"/>
                            </a:lnTo>
                            <a:lnTo>
                              <a:pt x="204" y="287"/>
                            </a:lnTo>
                            <a:lnTo>
                              <a:pt x="238" y="304"/>
                            </a:lnTo>
                            <a:lnTo>
                              <a:pt x="277" y="332"/>
                            </a:lnTo>
                            <a:lnTo>
                              <a:pt x="307" y="350"/>
                            </a:lnTo>
                            <a:lnTo>
                              <a:pt x="344" y="358"/>
                            </a:lnTo>
                            <a:lnTo>
                              <a:pt x="380" y="371"/>
                            </a:lnTo>
                            <a:lnTo>
                              <a:pt x="412" y="380"/>
                            </a:lnTo>
                            <a:lnTo>
                              <a:pt x="432" y="393"/>
                            </a:lnTo>
                            <a:lnTo>
                              <a:pt x="412" y="373"/>
                            </a:lnTo>
                            <a:lnTo>
                              <a:pt x="380" y="358"/>
                            </a:lnTo>
                            <a:lnTo>
                              <a:pt x="338" y="344"/>
                            </a:lnTo>
                            <a:lnTo>
                              <a:pt x="304" y="332"/>
                            </a:lnTo>
                            <a:lnTo>
                              <a:pt x="277" y="308"/>
                            </a:lnTo>
                            <a:lnTo>
                              <a:pt x="247" y="290"/>
                            </a:lnTo>
                            <a:lnTo>
                              <a:pt x="220" y="274"/>
                            </a:lnTo>
                            <a:lnTo>
                              <a:pt x="208" y="247"/>
                            </a:lnTo>
                            <a:lnTo>
                              <a:pt x="175" y="206"/>
                            </a:lnTo>
                            <a:lnTo>
                              <a:pt x="148" y="187"/>
                            </a:lnTo>
                            <a:lnTo>
                              <a:pt x="129" y="172"/>
                            </a:lnTo>
                            <a:lnTo>
                              <a:pt x="107" y="152"/>
                            </a:lnTo>
                            <a:lnTo>
                              <a:pt x="89" y="130"/>
                            </a:lnTo>
                            <a:lnTo>
                              <a:pt x="80" y="107"/>
                            </a:lnTo>
                            <a:lnTo>
                              <a:pt x="76" y="80"/>
                            </a:lnTo>
                            <a:lnTo>
                              <a:pt x="80" y="55"/>
                            </a:lnTo>
                            <a:lnTo>
                              <a:pt x="91" y="31"/>
                            </a:lnTo>
                            <a:lnTo>
                              <a:pt x="103" y="12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7058520" y="1177200"/>
                        <a:ext cx="7992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02">
                            <a:moveTo>
                              <a:pt x="0" y="0"/>
                            </a:moveTo>
                            <a:lnTo>
                              <a:pt x="31" y="24"/>
                            </a:lnTo>
                            <a:lnTo>
                              <a:pt x="58" y="39"/>
                            </a:lnTo>
                            <a:lnTo>
                              <a:pt x="85" y="51"/>
                            </a:lnTo>
                            <a:lnTo>
                              <a:pt x="115" y="55"/>
                            </a:lnTo>
                            <a:lnTo>
                              <a:pt x="150" y="52"/>
                            </a:lnTo>
                            <a:lnTo>
                              <a:pt x="154" y="102"/>
                            </a:lnTo>
                            <a:lnTo>
                              <a:pt x="121" y="100"/>
                            </a:lnTo>
                            <a:lnTo>
                              <a:pt x="89" y="90"/>
                            </a:lnTo>
                            <a:lnTo>
                              <a:pt x="62" y="74"/>
                            </a:lnTo>
                            <a:lnTo>
                              <a:pt x="42" y="56"/>
                            </a:lnTo>
                            <a:lnTo>
                              <a:pt x="20" y="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6744600" y="1456200"/>
                        <a:ext cx="73800" cy="10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209">
                            <a:moveTo>
                              <a:pt x="0" y="0"/>
                            </a:moveTo>
                            <a:lnTo>
                              <a:pt x="48" y="21"/>
                            </a:lnTo>
                            <a:lnTo>
                              <a:pt x="104" y="49"/>
                            </a:lnTo>
                            <a:lnTo>
                              <a:pt x="146" y="79"/>
                            </a:lnTo>
                            <a:lnTo>
                              <a:pt x="138" y="135"/>
                            </a:lnTo>
                            <a:lnTo>
                              <a:pt x="143" y="209"/>
                            </a:lnTo>
                            <a:lnTo>
                              <a:pt x="111" y="201"/>
                            </a:lnTo>
                            <a:lnTo>
                              <a:pt x="88" y="184"/>
                            </a:lnTo>
                            <a:lnTo>
                              <a:pt x="61" y="149"/>
                            </a:lnTo>
                            <a:lnTo>
                              <a:pt x="43" y="115"/>
                            </a:lnTo>
                            <a:lnTo>
                              <a:pt x="35" y="76"/>
                            </a:lnTo>
                            <a:lnTo>
                              <a:pt x="21" y="3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6942960" y="1479240"/>
                        <a:ext cx="105840" cy="15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305">
                            <a:moveTo>
                              <a:pt x="0" y="0"/>
                            </a:moveTo>
                            <a:lnTo>
                              <a:pt x="37" y="23"/>
                            </a:lnTo>
                            <a:lnTo>
                              <a:pt x="69" y="45"/>
                            </a:lnTo>
                            <a:lnTo>
                              <a:pt x="101" y="73"/>
                            </a:lnTo>
                            <a:lnTo>
                              <a:pt x="128" y="99"/>
                            </a:lnTo>
                            <a:lnTo>
                              <a:pt x="152" y="126"/>
                            </a:lnTo>
                            <a:lnTo>
                              <a:pt x="170" y="162"/>
                            </a:lnTo>
                            <a:lnTo>
                              <a:pt x="177" y="203"/>
                            </a:lnTo>
                            <a:lnTo>
                              <a:pt x="174" y="261"/>
                            </a:lnTo>
                            <a:lnTo>
                              <a:pt x="163" y="305"/>
                            </a:lnTo>
                            <a:lnTo>
                              <a:pt x="199" y="290"/>
                            </a:lnTo>
                            <a:lnTo>
                              <a:pt x="204" y="252"/>
                            </a:lnTo>
                            <a:lnTo>
                              <a:pt x="206" y="213"/>
                            </a:lnTo>
                            <a:lnTo>
                              <a:pt x="202" y="177"/>
                            </a:lnTo>
                            <a:lnTo>
                              <a:pt x="190" y="148"/>
                            </a:lnTo>
                            <a:lnTo>
                              <a:pt x="175" y="118"/>
                            </a:lnTo>
                            <a:lnTo>
                              <a:pt x="150" y="91"/>
                            </a:lnTo>
                            <a:lnTo>
                              <a:pt x="123" y="68"/>
                            </a:lnTo>
                            <a:lnTo>
                              <a:pt x="94" y="45"/>
                            </a:lnTo>
                            <a:lnTo>
                              <a:pt x="63" y="24"/>
                            </a:lnTo>
                            <a:lnTo>
                              <a:pt x="31" y="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6" name=""/>
                      <p:cNvSpPr/>
                      <p:nvPr/>
                    </p:nvSpPr>
                    <p:spPr>
                      <a:xfrm>
                        <a:off x="7090920" y="1298880"/>
                        <a:ext cx="6156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99">
                            <a:moveTo>
                              <a:pt x="0" y="0"/>
                            </a:moveTo>
                            <a:lnTo>
                              <a:pt x="20" y="38"/>
                            </a:lnTo>
                            <a:lnTo>
                              <a:pt x="35" y="64"/>
                            </a:lnTo>
                            <a:lnTo>
                              <a:pt x="56" y="89"/>
                            </a:lnTo>
                            <a:lnTo>
                              <a:pt x="87" y="121"/>
                            </a:lnTo>
                            <a:lnTo>
                              <a:pt x="122" y="152"/>
                            </a:lnTo>
                            <a:lnTo>
                              <a:pt x="118" y="199"/>
                            </a:lnTo>
                            <a:lnTo>
                              <a:pt x="94" y="190"/>
                            </a:lnTo>
                            <a:lnTo>
                              <a:pt x="63" y="165"/>
                            </a:lnTo>
                            <a:lnTo>
                              <a:pt x="36" y="130"/>
                            </a:lnTo>
                            <a:lnTo>
                              <a:pt x="18" y="86"/>
                            </a:lnTo>
                            <a:lnTo>
                              <a:pt x="9" y="5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7137000" y="1410120"/>
                        <a:ext cx="39960" cy="11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227">
                            <a:moveTo>
                              <a:pt x="9" y="0"/>
                            </a:moveTo>
                            <a:lnTo>
                              <a:pt x="4" y="64"/>
                            </a:lnTo>
                            <a:lnTo>
                              <a:pt x="1" y="108"/>
                            </a:lnTo>
                            <a:lnTo>
                              <a:pt x="0" y="151"/>
                            </a:lnTo>
                            <a:lnTo>
                              <a:pt x="3" y="187"/>
                            </a:lnTo>
                            <a:lnTo>
                              <a:pt x="6" y="227"/>
                            </a:lnTo>
                            <a:lnTo>
                              <a:pt x="33" y="194"/>
                            </a:lnTo>
                            <a:lnTo>
                              <a:pt x="80" y="77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7347960" y="1174320"/>
                        <a:ext cx="1382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" h="205">
                            <a:moveTo>
                              <a:pt x="0" y="202"/>
                            </a:moveTo>
                            <a:lnTo>
                              <a:pt x="15" y="178"/>
                            </a:lnTo>
                            <a:lnTo>
                              <a:pt x="32" y="150"/>
                            </a:lnTo>
                            <a:lnTo>
                              <a:pt x="53" y="124"/>
                            </a:lnTo>
                            <a:lnTo>
                              <a:pt x="75" y="110"/>
                            </a:lnTo>
                            <a:lnTo>
                              <a:pt x="103" y="93"/>
                            </a:lnTo>
                            <a:lnTo>
                              <a:pt x="116" y="80"/>
                            </a:lnTo>
                            <a:lnTo>
                              <a:pt x="124" y="56"/>
                            </a:lnTo>
                            <a:lnTo>
                              <a:pt x="140" y="47"/>
                            </a:lnTo>
                            <a:lnTo>
                              <a:pt x="160" y="35"/>
                            </a:lnTo>
                            <a:lnTo>
                              <a:pt x="181" y="22"/>
                            </a:lnTo>
                            <a:lnTo>
                              <a:pt x="224" y="0"/>
                            </a:lnTo>
                            <a:lnTo>
                              <a:pt x="192" y="25"/>
                            </a:lnTo>
                            <a:lnTo>
                              <a:pt x="169" y="42"/>
                            </a:lnTo>
                            <a:lnTo>
                              <a:pt x="153" y="57"/>
                            </a:lnTo>
                            <a:lnTo>
                              <a:pt x="139" y="75"/>
                            </a:lnTo>
                            <a:lnTo>
                              <a:pt x="158" y="74"/>
                            </a:lnTo>
                            <a:lnTo>
                              <a:pt x="189" y="75"/>
                            </a:lnTo>
                            <a:lnTo>
                              <a:pt x="220" y="81"/>
                            </a:lnTo>
                            <a:lnTo>
                              <a:pt x="242" y="93"/>
                            </a:lnTo>
                            <a:lnTo>
                              <a:pt x="256" y="102"/>
                            </a:lnTo>
                            <a:lnTo>
                              <a:pt x="266" y="120"/>
                            </a:lnTo>
                            <a:lnTo>
                              <a:pt x="269" y="146"/>
                            </a:lnTo>
                            <a:lnTo>
                              <a:pt x="257" y="125"/>
                            </a:lnTo>
                            <a:lnTo>
                              <a:pt x="239" y="108"/>
                            </a:lnTo>
                            <a:lnTo>
                              <a:pt x="221" y="99"/>
                            </a:lnTo>
                            <a:lnTo>
                              <a:pt x="200" y="94"/>
                            </a:lnTo>
                            <a:lnTo>
                              <a:pt x="176" y="92"/>
                            </a:lnTo>
                            <a:lnTo>
                              <a:pt x="153" y="93"/>
                            </a:lnTo>
                            <a:lnTo>
                              <a:pt x="133" y="97"/>
                            </a:lnTo>
                            <a:lnTo>
                              <a:pt x="112" y="106"/>
                            </a:lnTo>
                            <a:lnTo>
                              <a:pt x="98" y="119"/>
                            </a:lnTo>
                            <a:lnTo>
                              <a:pt x="104" y="128"/>
                            </a:lnTo>
                            <a:lnTo>
                              <a:pt x="109" y="142"/>
                            </a:lnTo>
                            <a:lnTo>
                              <a:pt x="97" y="138"/>
                            </a:lnTo>
                            <a:lnTo>
                              <a:pt x="81" y="130"/>
                            </a:lnTo>
                            <a:lnTo>
                              <a:pt x="90" y="144"/>
                            </a:lnTo>
                            <a:lnTo>
                              <a:pt x="94" y="157"/>
                            </a:lnTo>
                            <a:lnTo>
                              <a:pt x="75" y="156"/>
                            </a:lnTo>
                            <a:lnTo>
                              <a:pt x="59" y="154"/>
                            </a:lnTo>
                            <a:lnTo>
                              <a:pt x="48" y="170"/>
                            </a:lnTo>
                            <a:lnTo>
                              <a:pt x="26" y="181"/>
                            </a:lnTo>
                            <a:lnTo>
                              <a:pt x="5" y="205"/>
                            </a:lnTo>
                            <a:lnTo>
                              <a:pt x="0" y="202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7329600" y="1274400"/>
                        <a:ext cx="59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79">
                            <a:moveTo>
                              <a:pt x="32" y="4"/>
                            </a:moveTo>
                            <a:lnTo>
                              <a:pt x="25" y="26"/>
                            </a:lnTo>
                            <a:lnTo>
                              <a:pt x="20" y="41"/>
                            </a:lnTo>
                            <a:lnTo>
                              <a:pt x="17" y="58"/>
                            </a:lnTo>
                            <a:lnTo>
                              <a:pt x="0" y="79"/>
                            </a:lnTo>
                            <a:lnTo>
                              <a:pt x="17" y="76"/>
                            </a:lnTo>
                            <a:lnTo>
                              <a:pt x="31" y="67"/>
                            </a:lnTo>
                            <a:lnTo>
                              <a:pt x="48" y="41"/>
                            </a:lnTo>
                            <a:lnTo>
                              <a:pt x="68" y="30"/>
                            </a:lnTo>
                            <a:lnTo>
                              <a:pt x="92" y="23"/>
                            </a:lnTo>
                            <a:lnTo>
                              <a:pt x="117" y="27"/>
                            </a:lnTo>
                            <a:lnTo>
                              <a:pt x="101" y="13"/>
                            </a:lnTo>
                            <a:lnTo>
                              <a:pt x="76" y="2"/>
                            </a:lnTo>
                            <a:lnTo>
                              <a:pt x="53" y="0"/>
                            </a:lnTo>
                            <a:lnTo>
                              <a:pt x="32" y="4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7240320" y="1045080"/>
                        <a:ext cx="217080" cy="14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3" h="286">
                            <a:moveTo>
                              <a:pt x="13" y="242"/>
                            </a:moveTo>
                            <a:lnTo>
                              <a:pt x="8" y="209"/>
                            </a:lnTo>
                            <a:lnTo>
                              <a:pt x="9" y="171"/>
                            </a:lnTo>
                            <a:lnTo>
                              <a:pt x="16" y="129"/>
                            </a:lnTo>
                            <a:lnTo>
                              <a:pt x="22" y="97"/>
                            </a:lnTo>
                            <a:lnTo>
                              <a:pt x="24" y="62"/>
                            </a:lnTo>
                            <a:lnTo>
                              <a:pt x="16" y="36"/>
                            </a:lnTo>
                            <a:lnTo>
                              <a:pt x="0" y="0"/>
                            </a:lnTo>
                            <a:lnTo>
                              <a:pt x="42" y="32"/>
                            </a:lnTo>
                            <a:lnTo>
                              <a:pt x="79" y="59"/>
                            </a:lnTo>
                            <a:lnTo>
                              <a:pt x="116" y="75"/>
                            </a:lnTo>
                            <a:lnTo>
                              <a:pt x="161" y="95"/>
                            </a:lnTo>
                            <a:lnTo>
                              <a:pt x="210" y="115"/>
                            </a:lnTo>
                            <a:lnTo>
                              <a:pt x="257" y="138"/>
                            </a:lnTo>
                            <a:lnTo>
                              <a:pt x="295" y="158"/>
                            </a:lnTo>
                            <a:lnTo>
                              <a:pt x="353" y="192"/>
                            </a:lnTo>
                            <a:lnTo>
                              <a:pt x="372" y="207"/>
                            </a:lnTo>
                            <a:lnTo>
                              <a:pt x="390" y="212"/>
                            </a:lnTo>
                            <a:lnTo>
                              <a:pt x="405" y="224"/>
                            </a:lnTo>
                            <a:lnTo>
                              <a:pt x="423" y="232"/>
                            </a:lnTo>
                            <a:lnTo>
                              <a:pt x="394" y="242"/>
                            </a:lnTo>
                            <a:lnTo>
                              <a:pt x="370" y="245"/>
                            </a:lnTo>
                            <a:lnTo>
                              <a:pt x="349" y="243"/>
                            </a:lnTo>
                            <a:lnTo>
                              <a:pt x="324" y="261"/>
                            </a:lnTo>
                            <a:lnTo>
                              <a:pt x="297" y="278"/>
                            </a:lnTo>
                            <a:lnTo>
                              <a:pt x="266" y="285"/>
                            </a:lnTo>
                            <a:lnTo>
                              <a:pt x="230" y="286"/>
                            </a:lnTo>
                            <a:lnTo>
                              <a:pt x="191" y="285"/>
                            </a:lnTo>
                            <a:lnTo>
                              <a:pt x="146" y="281"/>
                            </a:lnTo>
                            <a:lnTo>
                              <a:pt x="106" y="276"/>
                            </a:lnTo>
                            <a:lnTo>
                              <a:pt x="69" y="267"/>
                            </a:lnTo>
                            <a:lnTo>
                              <a:pt x="38" y="255"/>
                            </a:lnTo>
                            <a:lnTo>
                              <a:pt x="13" y="242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7408080" y="1328400"/>
                        <a:ext cx="6120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103">
                            <a:moveTo>
                              <a:pt x="0" y="103"/>
                            </a:moveTo>
                            <a:lnTo>
                              <a:pt x="13" y="70"/>
                            </a:lnTo>
                            <a:lnTo>
                              <a:pt x="35" y="49"/>
                            </a:lnTo>
                            <a:lnTo>
                              <a:pt x="40" y="25"/>
                            </a:lnTo>
                            <a:lnTo>
                              <a:pt x="63" y="41"/>
                            </a:lnTo>
                            <a:lnTo>
                              <a:pt x="91" y="25"/>
                            </a:lnTo>
                            <a:lnTo>
                              <a:pt x="121" y="0"/>
                            </a:lnTo>
                            <a:lnTo>
                              <a:pt x="95" y="38"/>
                            </a:lnTo>
                            <a:lnTo>
                              <a:pt x="76" y="53"/>
                            </a:lnTo>
                            <a:lnTo>
                              <a:pt x="55" y="62"/>
                            </a:lnTo>
                            <a:lnTo>
                              <a:pt x="0" y="103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7135560" y="1556640"/>
                        <a:ext cx="554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89">
                            <a:moveTo>
                              <a:pt x="109" y="9"/>
                            </a:moveTo>
                            <a:lnTo>
                              <a:pt x="89" y="10"/>
                            </a:lnTo>
                            <a:lnTo>
                              <a:pt x="69" y="4"/>
                            </a:lnTo>
                            <a:lnTo>
                              <a:pt x="51" y="1"/>
                            </a:lnTo>
                            <a:lnTo>
                              <a:pt x="36" y="0"/>
                            </a:lnTo>
                            <a:lnTo>
                              <a:pt x="20" y="12"/>
                            </a:lnTo>
                            <a:lnTo>
                              <a:pt x="12" y="19"/>
                            </a:lnTo>
                            <a:lnTo>
                              <a:pt x="3" y="34"/>
                            </a:lnTo>
                            <a:lnTo>
                              <a:pt x="0" y="56"/>
                            </a:lnTo>
                            <a:lnTo>
                              <a:pt x="20" y="62"/>
                            </a:lnTo>
                            <a:lnTo>
                              <a:pt x="39" y="71"/>
                            </a:lnTo>
                            <a:lnTo>
                              <a:pt x="52" y="89"/>
                            </a:lnTo>
                            <a:lnTo>
                              <a:pt x="67" y="81"/>
                            </a:lnTo>
                            <a:lnTo>
                              <a:pt x="79" y="70"/>
                            </a:lnTo>
                            <a:lnTo>
                              <a:pt x="89" y="52"/>
                            </a:lnTo>
                            <a:lnTo>
                              <a:pt x="98" y="31"/>
                            </a:lnTo>
                            <a:lnTo>
                              <a:pt x="109" y="9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6752160" y="1559520"/>
                        <a:ext cx="112320" cy="21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410">
                            <a:moveTo>
                              <a:pt x="0" y="0"/>
                            </a:moveTo>
                            <a:lnTo>
                              <a:pt x="58" y="11"/>
                            </a:lnTo>
                            <a:lnTo>
                              <a:pt x="93" y="35"/>
                            </a:lnTo>
                            <a:lnTo>
                              <a:pt x="111" y="64"/>
                            </a:lnTo>
                            <a:lnTo>
                              <a:pt x="127" y="35"/>
                            </a:lnTo>
                            <a:lnTo>
                              <a:pt x="140" y="159"/>
                            </a:lnTo>
                            <a:lnTo>
                              <a:pt x="152" y="247"/>
                            </a:lnTo>
                            <a:lnTo>
                              <a:pt x="167" y="315"/>
                            </a:lnTo>
                            <a:lnTo>
                              <a:pt x="218" y="410"/>
                            </a:lnTo>
                            <a:lnTo>
                              <a:pt x="185" y="391"/>
                            </a:lnTo>
                            <a:lnTo>
                              <a:pt x="156" y="368"/>
                            </a:lnTo>
                            <a:lnTo>
                              <a:pt x="125" y="346"/>
                            </a:lnTo>
                            <a:lnTo>
                              <a:pt x="87" y="333"/>
                            </a:lnTo>
                            <a:lnTo>
                              <a:pt x="49" y="325"/>
                            </a:lnTo>
                            <a:lnTo>
                              <a:pt x="81" y="314"/>
                            </a:lnTo>
                            <a:lnTo>
                              <a:pt x="111" y="313"/>
                            </a:lnTo>
                            <a:lnTo>
                              <a:pt x="139" y="320"/>
                            </a:lnTo>
                            <a:lnTo>
                              <a:pt x="160" y="338"/>
                            </a:lnTo>
                            <a:lnTo>
                              <a:pt x="140" y="273"/>
                            </a:lnTo>
                            <a:lnTo>
                              <a:pt x="133" y="216"/>
                            </a:lnTo>
                            <a:lnTo>
                              <a:pt x="91" y="198"/>
                            </a:lnTo>
                            <a:lnTo>
                              <a:pt x="66" y="177"/>
                            </a:lnTo>
                            <a:lnTo>
                              <a:pt x="54" y="159"/>
                            </a:lnTo>
                            <a:lnTo>
                              <a:pt x="62" y="141"/>
                            </a:lnTo>
                            <a:lnTo>
                              <a:pt x="77" y="134"/>
                            </a:lnTo>
                            <a:lnTo>
                              <a:pt x="98" y="127"/>
                            </a:lnTo>
                            <a:lnTo>
                              <a:pt x="115" y="130"/>
                            </a:lnTo>
                            <a:lnTo>
                              <a:pt x="113" y="107"/>
                            </a:lnTo>
                            <a:lnTo>
                              <a:pt x="84" y="102"/>
                            </a:lnTo>
                            <a:lnTo>
                              <a:pt x="58" y="87"/>
                            </a:lnTo>
                            <a:lnTo>
                              <a:pt x="40" y="60"/>
                            </a:lnTo>
                            <a:lnTo>
                              <a:pt x="35" y="2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>
                        <a:off x="6932160" y="1633320"/>
                        <a:ext cx="7200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96">
                            <a:moveTo>
                              <a:pt x="0" y="196"/>
                            </a:moveTo>
                            <a:lnTo>
                              <a:pt x="14" y="149"/>
                            </a:lnTo>
                            <a:lnTo>
                              <a:pt x="18" y="113"/>
                            </a:lnTo>
                            <a:lnTo>
                              <a:pt x="23" y="82"/>
                            </a:lnTo>
                            <a:lnTo>
                              <a:pt x="31" y="66"/>
                            </a:lnTo>
                            <a:lnTo>
                              <a:pt x="42" y="48"/>
                            </a:lnTo>
                            <a:lnTo>
                              <a:pt x="59" y="33"/>
                            </a:lnTo>
                            <a:lnTo>
                              <a:pt x="86" y="22"/>
                            </a:lnTo>
                            <a:lnTo>
                              <a:pt x="112" y="13"/>
                            </a:lnTo>
                            <a:lnTo>
                              <a:pt x="143" y="0"/>
                            </a:lnTo>
                            <a:lnTo>
                              <a:pt x="117" y="28"/>
                            </a:lnTo>
                            <a:lnTo>
                              <a:pt x="99" y="43"/>
                            </a:lnTo>
                            <a:lnTo>
                              <a:pt x="76" y="63"/>
                            </a:lnTo>
                            <a:lnTo>
                              <a:pt x="64" y="94"/>
                            </a:lnTo>
                            <a:lnTo>
                              <a:pt x="55" y="125"/>
                            </a:lnTo>
                            <a:lnTo>
                              <a:pt x="41" y="151"/>
                            </a:lnTo>
                            <a:lnTo>
                              <a:pt x="26" y="171"/>
                            </a:lnTo>
                            <a:lnTo>
                              <a:pt x="0" y="196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6993720" y="1621080"/>
                        <a:ext cx="554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12" y="29"/>
                            </a:moveTo>
                            <a:lnTo>
                              <a:pt x="21" y="43"/>
                            </a:lnTo>
                            <a:lnTo>
                              <a:pt x="23" y="65"/>
                            </a:lnTo>
                            <a:lnTo>
                              <a:pt x="17" y="83"/>
                            </a:lnTo>
                            <a:lnTo>
                              <a:pt x="0" y="103"/>
                            </a:lnTo>
                            <a:lnTo>
                              <a:pt x="26" y="98"/>
                            </a:lnTo>
                            <a:lnTo>
                              <a:pt x="45" y="89"/>
                            </a:lnTo>
                            <a:lnTo>
                              <a:pt x="62" y="76"/>
                            </a:lnTo>
                            <a:lnTo>
                              <a:pt x="74" y="62"/>
                            </a:lnTo>
                            <a:lnTo>
                              <a:pt x="84" y="72"/>
                            </a:lnTo>
                            <a:lnTo>
                              <a:pt x="92" y="81"/>
                            </a:lnTo>
                            <a:lnTo>
                              <a:pt x="94" y="103"/>
                            </a:lnTo>
                            <a:lnTo>
                              <a:pt x="103" y="66"/>
                            </a:lnTo>
                            <a:lnTo>
                              <a:pt x="106" y="38"/>
                            </a:lnTo>
                            <a:lnTo>
                              <a:pt x="102" y="13"/>
                            </a:lnTo>
                            <a:lnTo>
                              <a:pt x="94" y="0"/>
                            </a:lnTo>
                            <a:lnTo>
                              <a:pt x="75" y="0"/>
                            </a:lnTo>
                            <a:lnTo>
                              <a:pt x="48" y="8"/>
                            </a:lnTo>
                            <a:lnTo>
                              <a:pt x="26" y="17"/>
                            </a:lnTo>
                            <a:lnTo>
                              <a:pt x="12" y="29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7050600" y="1647360"/>
                        <a:ext cx="4752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232">
                            <a:moveTo>
                              <a:pt x="0" y="0"/>
                            </a:moveTo>
                            <a:lnTo>
                              <a:pt x="33" y="28"/>
                            </a:lnTo>
                            <a:lnTo>
                              <a:pt x="50" y="55"/>
                            </a:lnTo>
                            <a:lnTo>
                              <a:pt x="59" y="93"/>
                            </a:lnTo>
                            <a:lnTo>
                              <a:pt x="60" y="133"/>
                            </a:lnTo>
                            <a:lnTo>
                              <a:pt x="57" y="167"/>
                            </a:lnTo>
                            <a:lnTo>
                              <a:pt x="45" y="197"/>
                            </a:lnTo>
                            <a:lnTo>
                              <a:pt x="18" y="232"/>
                            </a:lnTo>
                            <a:lnTo>
                              <a:pt x="49" y="214"/>
                            </a:lnTo>
                            <a:lnTo>
                              <a:pt x="73" y="184"/>
                            </a:lnTo>
                            <a:lnTo>
                              <a:pt x="89" y="147"/>
                            </a:lnTo>
                            <a:lnTo>
                              <a:pt x="91" y="103"/>
                            </a:lnTo>
                            <a:lnTo>
                              <a:pt x="84" y="63"/>
                            </a:lnTo>
                            <a:lnTo>
                              <a:pt x="60" y="32"/>
                            </a:lnTo>
                            <a:lnTo>
                              <a:pt x="3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7194240" y="162432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117">
                            <a:moveTo>
                              <a:pt x="0" y="117"/>
                            </a:moveTo>
                            <a:lnTo>
                              <a:pt x="33" y="85"/>
                            </a:lnTo>
                            <a:lnTo>
                              <a:pt x="61" y="57"/>
                            </a:lnTo>
                            <a:lnTo>
                              <a:pt x="95" y="0"/>
                            </a:lnTo>
                            <a:lnTo>
                              <a:pt x="61" y="24"/>
                            </a:lnTo>
                            <a:lnTo>
                              <a:pt x="33" y="64"/>
                            </a:lnTo>
                            <a:lnTo>
                              <a:pt x="0" y="117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6984720" y="1675080"/>
                        <a:ext cx="3204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89">
                            <a:moveTo>
                              <a:pt x="38" y="189"/>
                            </a:moveTo>
                            <a:lnTo>
                              <a:pt x="46" y="159"/>
                            </a:lnTo>
                            <a:lnTo>
                              <a:pt x="58" y="133"/>
                            </a:lnTo>
                            <a:lnTo>
                              <a:pt x="46" y="110"/>
                            </a:lnTo>
                            <a:lnTo>
                              <a:pt x="38" y="84"/>
                            </a:lnTo>
                            <a:lnTo>
                              <a:pt x="41" y="51"/>
                            </a:lnTo>
                            <a:lnTo>
                              <a:pt x="47" y="29"/>
                            </a:lnTo>
                            <a:lnTo>
                              <a:pt x="63" y="0"/>
                            </a:lnTo>
                            <a:lnTo>
                              <a:pt x="37" y="23"/>
                            </a:lnTo>
                            <a:lnTo>
                              <a:pt x="18" y="46"/>
                            </a:lnTo>
                            <a:lnTo>
                              <a:pt x="8" y="69"/>
                            </a:lnTo>
                            <a:lnTo>
                              <a:pt x="0" y="109"/>
                            </a:lnTo>
                            <a:lnTo>
                              <a:pt x="8" y="140"/>
                            </a:lnTo>
                            <a:lnTo>
                              <a:pt x="22" y="167"/>
                            </a:lnTo>
                            <a:lnTo>
                              <a:pt x="38" y="189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6940080" y="1069200"/>
                        <a:ext cx="230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101">
                            <a:moveTo>
                              <a:pt x="47" y="0"/>
                            </a:moveTo>
                            <a:lnTo>
                              <a:pt x="35" y="18"/>
                            </a:lnTo>
                            <a:lnTo>
                              <a:pt x="29" y="33"/>
                            </a:lnTo>
                            <a:lnTo>
                              <a:pt x="22" y="49"/>
                            </a:lnTo>
                            <a:lnTo>
                              <a:pt x="20" y="65"/>
                            </a:lnTo>
                            <a:lnTo>
                              <a:pt x="22" y="81"/>
                            </a:lnTo>
                            <a:lnTo>
                              <a:pt x="25" y="101"/>
                            </a:lnTo>
                            <a:lnTo>
                              <a:pt x="17" y="86"/>
                            </a:lnTo>
                            <a:lnTo>
                              <a:pt x="12" y="65"/>
                            </a:lnTo>
                            <a:lnTo>
                              <a:pt x="8" y="54"/>
                            </a:lnTo>
                            <a:lnTo>
                              <a:pt x="0" y="41"/>
                            </a:lnTo>
                            <a:lnTo>
                              <a:pt x="12" y="40"/>
                            </a:lnTo>
                            <a:lnTo>
                              <a:pt x="22" y="28"/>
                            </a:lnTo>
                            <a:lnTo>
                              <a:pt x="34" y="14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</p:grp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7116120" y="1186920"/>
                    <a:ext cx="86040" cy="337320"/>
                    <a:chOff x="7116120" y="1186920"/>
                    <a:chExt cx="86040" cy="33732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7116120" y="1186920"/>
                      <a:ext cx="8604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657">
                          <a:moveTo>
                            <a:pt x="6" y="0"/>
                          </a:moveTo>
                          <a:lnTo>
                            <a:pt x="4" y="12"/>
                          </a:lnTo>
                          <a:lnTo>
                            <a:pt x="9" y="34"/>
                          </a:lnTo>
                          <a:lnTo>
                            <a:pt x="12" y="60"/>
                          </a:lnTo>
                          <a:lnTo>
                            <a:pt x="6" y="84"/>
                          </a:lnTo>
                          <a:lnTo>
                            <a:pt x="0" y="97"/>
                          </a:lnTo>
                          <a:lnTo>
                            <a:pt x="4" y="111"/>
                          </a:lnTo>
                          <a:lnTo>
                            <a:pt x="14" y="119"/>
                          </a:lnTo>
                          <a:lnTo>
                            <a:pt x="19" y="145"/>
                          </a:lnTo>
                          <a:lnTo>
                            <a:pt x="21" y="173"/>
                          </a:lnTo>
                          <a:lnTo>
                            <a:pt x="13" y="186"/>
                          </a:lnTo>
                          <a:lnTo>
                            <a:pt x="6" y="202"/>
                          </a:lnTo>
                          <a:lnTo>
                            <a:pt x="12" y="231"/>
                          </a:lnTo>
                          <a:lnTo>
                            <a:pt x="21" y="258"/>
                          </a:lnTo>
                          <a:lnTo>
                            <a:pt x="34" y="276"/>
                          </a:lnTo>
                          <a:lnTo>
                            <a:pt x="44" y="312"/>
                          </a:lnTo>
                          <a:lnTo>
                            <a:pt x="49" y="353"/>
                          </a:lnTo>
                          <a:lnTo>
                            <a:pt x="43" y="373"/>
                          </a:lnTo>
                          <a:lnTo>
                            <a:pt x="39" y="391"/>
                          </a:lnTo>
                          <a:lnTo>
                            <a:pt x="41" y="410"/>
                          </a:lnTo>
                          <a:lnTo>
                            <a:pt x="48" y="429"/>
                          </a:lnTo>
                          <a:lnTo>
                            <a:pt x="54" y="451"/>
                          </a:lnTo>
                          <a:lnTo>
                            <a:pt x="50" y="553"/>
                          </a:lnTo>
                          <a:lnTo>
                            <a:pt x="55" y="657"/>
                          </a:lnTo>
                          <a:lnTo>
                            <a:pt x="165" y="532"/>
                          </a:lnTo>
                          <a:lnTo>
                            <a:pt x="156" y="467"/>
                          </a:lnTo>
                          <a:lnTo>
                            <a:pt x="165" y="383"/>
                          </a:lnTo>
                          <a:lnTo>
                            <a:pt x="167" y="299"/>
                          </a:lnTo>
                          <a:lnTo>
                            <a:pt x="156" y="202"/>
                          </a:lnTo>
                          <a:lnTo>
                            <a:pt x="133" y="168"/>
                          </a:lnTo>
                          <a:lnTo>
                            <a:pt x="112" y="145"/>
                          </a:lnTo>
                          <a:lnTo>
                            <a:pt x="97" y="126"/>
                          </a:lnTo>
                          <a:lnTo>
                            <a:pt x="109" y="119"/>
                          </a:lnTo>
                          <a:lnTo>
                            <a:pt x="117" y="111"/>
                          </a:lnTo>
                          <a:lnTo>
                            <a:pt x="109" y="84"/>
                          </a:lnTo>
                          <a:lnTo>
                            <a:pt x="100" y="56"/>
                          </a:lnTo>
                          <a:lnTo>
                            <a:pt x="90" y="28"/>
                          </a:lnTo>
                          <a:lnTo>
                            <a:pt x="77" y="0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7148160" y="1242360"/>
                      <a:ext cx="442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86">
                          <a:moveTo>
                            <a:pt x="86" y="86"/>
                          </a:moveTo>
                          <a:lnTo>
                            <a:pt x="41" y="57"/>
                          </a:lnTo>
                          <a:lnTo>
                            <a:pt x="0" y="34"/>
                          </a:lnTo>
                          <a:lnTo>
                            <a:pt x="10" y="0"/>
                          </a:lnTo>
                          <a:lnTo>
                            <a:pt x="34" y="18"/>
                          </a:lnTo>
                          <a:lnTo>
                            <a:pt x="46" y="31"/>
                          </a:lnTo>
                          <a:lnTo>
                            <a:pt x="71" y="58"/>
                          </a:lnTo>
                          <a:lnTo>
                            <a:pt x="86" y="86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7121880" y="1244160"/>
                      <a:ext cx="7992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236">
                          <a:moveTo>
                            <a:pt x="6" y="61"/>
                          </a:moveTo>
                          <a:lnTo>
                            <a:pt x="3" y="38"/>
                          </a:lnTo>
                          <a:lnTo>
                            <a:pt x="0" y="0"/>
                          </a:lnTo>
                          <a:lnTo>
                            <a:pt x="13" y="40"/>
                          </a:lnTo>
                          <a:lnTo>
                            <a:pt x="24" y="65"/>
                          </a:lnTo>
                          <a:lnTo>
                            <a:pt x="52" y="101"/>
                          </a:lnTo>
                          <a:lnTo>
                            <a:pt x="76" y="123"/>
                          </a:lnTo>
                          <a:lnTo>
                            <a:pt x="116" y="156"/>
                          </a:lnTo>
                          <a:lnTo>
                            <a:pt x="154" y="187"/>
                          </a:lnTo>
                          <a:lnTo>
                            <a:pt x="154" y="236"/>
                          </a:lnTo>
                          <a:lnTo>
                            <a:pt x="114" y="203"/>
                          </a:lnTo>
                          <a:lnTo>
                            <a:pt x="76" y="173"/>
                          </a:lnTo>
                          <a:lnTo>
                            <a:pt x="50" y="154"/>
                          </a:lnTo>
                          <a:lnTo>
                            <a:pt x="52" y="136"/>
                          </a:lnTo>
                          <a:lnTo>
                            <a:pt x="49" y="110"/>
                          </a:lnTo>
                          <a:lnTo>
                            <a:pt x="29" y="91"/>
                          </a:lnTo>
                          <a:lnTo>
                            <a:pt x="6" y="61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134480" y="1368720"/>
                      <a:ext cx="655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64">
                          <a:moveTo>
                            <a:pt x="11" y="0"/>
                          </a:moveTo>
                          <a:lnTo>
                            <a:pt x="4" y="14"/>
                          </a:lnTo>
                          <a:lnTo>
                            <a:pt x="0" y="32"/>
                          </a:lnTo>
                          <a:lnTo>
                            <a:pt x="26" y="38"/>
                          </a:lnTo>
                          <a:lnTo>
                            <a:pt x="19" y="79"/>
                          </a:lnTo>
                          <a:lnTo>
                            <a:pt x="71" y="116"/>
                          </a:lnTo>
                          <a:lnTo>
                            <a:pt x="129" y="164"/>
                          </a:lnTo>
                          <a:lnTo>
                            <a:pt x="123" y="110"/>
                          </a:lnTo>
                          <a:lnTo>
                            <a:pt x="125" y="90"/>
                          </a:lnTo>
                          <a:lnTo>
                            <a:pt x="74" y="50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23680" y="1244160"/>
                      <a:ext cx="3492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28">
                          <a:moveTo>
                            <a:pt x="0" y="6"/>
                          </a:moveTo>
                          <a:lnTo>
                            <a:pt x="32" y="14"/>
                          </a:lnTo>
                          <a:lnTo>
                            <a:pt x="51" y="11"/>
                          </a:lnTo>
                          <a:lnTo>
                            <a:pt x="69" y="0"/>
                          </a:lnTo>
                          <a:lnTo>
                            <a:pt x="58" y="17"/>
                          </a:lnTo>
                          <a:lnTo>
                            <a:pt x="46" y="26"/>
                          </a:lnTo>
                          <a:lnTo>
                            <a:pt x="30" y="28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</p:grp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6917400" y="757080"/>
                <a:ext cx="357120" cy="447840"/>
                <a:chOff x="6917400" y="757080"/>
                <a:chExt cx="357120" cy="44784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6946560" y="887760"/>
                  <a:ext cx="324360" cy="317160"/>
                  <a:chOff x="6946560" y="887760"/>
                  <a:chExt cx="324360" cy="31716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6946560" y="887760"/>
                    <a:ext cx="32436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618">
                        <a:moveTo>
                          <a:pt x="567" y="22"/>
                        </a:moveTo>
                        <a:lnTo>
                          <a:pt x="607" y="58"/>
                        </a:lnTo>
                        <a:lnTo>
                          <a:pt x="615" y="75"/>
                        </a:lnTo>
                        <a:lnTo>
                          <a:pt x="625" y="110"/>
                        </a:lnTo>
                        <a:lnTo>
                          <a:pt x="633" y="145"/>
                        </a:lnTo>
                        <a:lnTo>
                          <a:pt x="630" y="178"/>
                        </a:lnTo>
                        <a:lnTo>
                          <a:pt x="620" y="193"/>
                        </a:lnTo>
                        <a:lnTo>
                          <a:pt x="613" y="206"/>
                        </a:lnTo>
                        <a:lnTo>
                          <a:pt x="616" y="231"/>
                        </a:lnTo>
                        <a:lnTo>
                          <a:pt x="620" y="248"/>
                        </a:lnTo>
                        <a:lnTo>
                          <a:pt x="616" y="272"/>
                        </a:lnTo>
                        <a:lnTo>
                          <a:pt x="609" y="290"/>
                        </a:lnTo>
                        <a:lnTo>
                          <a:pt x="597" y="307"/>
                        </a:lnTo>
                        <a:lnTo>
                          <a:pt x="589" y="318"/>
                        </a:lnTo>
                        <a:lnTo>
                          <a:pt x="589" y="357"/>
                        </a:lnTo>
                        <a:lnTo>
                          <a:pt x="594" y="383"/>
                        </a:lnTo>
                        <a:lnTo>
                          <a:pt x="594" y="397"/>
                        </a:lnTo>
                        <a:lnTo>
                          <a:pt x="571" y="405"/>
                        </a:lnTo>
                        <a:lnTo>
                          <a:pt x="561" y="408"/>
                        </a:lnTo>
                        <a:lnTo>
                          <a:pt x="557" y="439"/>
                        </a:lnTo>
                        <a:lnTo>
                          <a:pt x="557" y="455"/>
                        </a:lnTo>
                        <a:lnTo>
                          <a:pt x="533" y="469"/>
                        </a:lnTo>
                        <a:lnTo>
                          <a:pt x="533" y="477"/>
                        </a:lnTo>
                        <a:lnTo>
                          <a:pt x="537" y="495"/>
                        </a:lnTo>
                        <a:lnTo>
                          <a:pt x="531" y="510"/>
                        </a:lnTo>
                        <a:lnTo>
                          <a:pt x="527" y="518"/>
                        </a:lnTo>
                        <a:lnTo>
                          <a:pt x="524" y="534"/>
                        </a:lnTo>
                        <a:lnTo>
                          <a:pt x="531" y="555"/>
                        </a:lnTo>
                        <a:lnTo>
                          <a:pt x="533" y="576"/>
                        </a:lnTo>
                        <a:lnTo>
                          <a:pt x="531" y="590"/>
                        </a:lnTo>
                        <a:lnTo>
                          <a:pt x="523" y="601"/>
                        </a:lnTo>
                        <a:lnTo>
                          <a:pt x="509" y="610"/>
                        </a:lnTo>
                        <a:lnTo>
                          <a:pt x="487" y="613"/>
                        </a:lnTo>
                        <a:lnTo>
                          <a:pt x="451" y="614"/>
                        </a:lnTo>
                        <a:lnTo>
                          <a:pt x="410" y="618"/>
                        </a:lnTo>
                        <a:lnTo>
                          <a:pt x="376" y="610"/>
                        </a:lnTo>
                        <a:lnTo>
                          <a:pt x="343" y="609"/>
                        </a:lnTo>
                        <a:lnTo>
                          <a:pt x="303" y="596"/>
                        </a:lnTo>
                        <a:lnTo>
                          <a:pt x="246" y="572"/>
                        </a:lnTo>
                        <a:lnTo>
                          <a:pt x="203" y="550"/>
                        </a:lnTo>
                        <a:lnTo>
                          <a:pt x="158" y="518"/>
                        </a:lnTo>
                        <a:lnTo>
                          <a:pt x="118" y="478"/>
                        </a:lnTo>
                        <a:lnTo>
                          <a:pt x="80" y="432"/>
                        </a:lnTo>
                        <a:lnTo>
                          <a:pt x="31" y="365"/>
                        </a:lnTo>
                        <a:lnTo>
                          <a:pt x="26" y="340"/>
                        </a:lnTo>
                        <a:lnTo>
                          <a:pt x="46" y="305"/>
                        </a:lnTo>
                        <a:lnTo>
                          <a:pt x="0" y="215"/>
                        </a:lnTo>
                        <a:lnTo>
                          <a:pt x="42" y="141"/>
                        </a:lnTo>
                        <a:lnTo>
                          <a:pt x="155" y="170"/>
                        </a:lnTo>
                        <a:lnTo>
                          <a:pt x="249" y="121"/>
                        </a:lnTo>
                        <a:lnTo>
                          <a:pt x="252" y="47"/>
                        </a:lnTo>
                        <a:lnTo>
                          <a:pt x="376" y="0"/>
                        </a:lnTo>
                        <a:lnTo>
                          <a:pt x="473" y="0"/>
                        </a:lnTo>
                        <a:lnTo>
                          <a:pt x="567" y="22"/>
                        </a:lnTo>
                        <a:close/>
                      </a:path>
                    </a:pathLst>
                  </a:custGeom>
                  <a:solidFill>
                    <a:srgbClr val="ff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6998760" y="975240"/>
                    <a:ext cx="269640" cy="228240"/>
                    <a:chOff x="6998760" y="975240"/>
                    <a:chExt cx="269640" cy="228240"/>
                  </a:xfrm>
                </p:grpSpPr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7099920" y="975240"/>
                      <a:ext cx="168480" cy="76320"/>
                      <a:chOff x="7099920" y="975240"/>
                      <a:chExt cx="168480" cy="76320"/>
                    </a:xfrm>
                  </p:grpSpPr>
                  <p:grpSp>
                    <p:nvGrpSpPr>
                      <p:cNvPr id="671" name=""/>
                      <p:cNvGrpSpPr/>
                      <p:nvPr/>
                    </p:nvGrpSpPr>
                    <p:grpSpPr>
                      <a:xfrm>
                        <a:off x="7222320" y="975240"/>
                        <a:ext cx="46080" cy="52200"/>
                        <a:chOff x="7222320" y="975240"/>
                        <a:chExt cx="46080" cy="52200"/>
                      </a:xfrm>
                    </p:grpSpPr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>
                          <a:off x="7222320" y="975240"/>
                          <a:ext cx="46080" cy="52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" h="104">
                              <a:moveTo>
                                <a:pt x="24" y="102"/>
                              </a:moveTo>
                              <a:lnTo>
                                <a:pt x="8" y="104"/>
                              </a:lnTo>
                              <a:lnTo>
                                <a:pt x="0" y="88"/>
                              </a:lnTo>
                              <a:lnTo>
                                <a:pt x="0" y="62"/>
                              </a:lnTo>
                              <a:lnTo>
                                <a:pt x="8" y="35"/>
                              </a:lnTo>
                              <a:lnTo>
                                <a:pt x="21" y="15"/>
                              </a:lnTo>
                              <a:lnTo>
                                <a:pt x="42" y="4"/>
                              </a:lnTo>
                              <a:lnTo>
                                <a:pt x="66" y="0"/>
                              </a:lnTo>
                              <a:lnTo>
                                <a:pt x="89" y="5"/>
                              </a:lnTo>
                              <a:lnTo>
                                <a:pt x="80" y="21"/>
                              </a:lnTo>
                              <a:lnTo>
                                <a:pt x="69" y="37"/>
                              </a:lnTo>
                              <a:lnTo>
                                <a:pt x="73" y="64"/>
                              </a:lnTo>
                              <a:lnTo>
                                <a:pt x="54" y="71"/>
                              </a:lnTo>
                              <a:lnTo>
                                <a:pt x="35" y="86"/>
                              </a:lnTo>
                              <a:lnTo>
                                <a:pt x="24" y="1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>
                          <a:off x="7227000" y="1002960"/>
                          <a:ext cx="392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38">
                              <a:moveTo>
                                <a:pt x="0" y="5"/>
                              </a:moveTo>
                              <a:lnTo>
                                <a:pt x="22" y="13"/>
                              </a:lnTo>
                              <a:lnTo>
                                <a:pt x="43" y="22"/>
                              </a:lnTo>
                              <a:lnTo>
                                <a:pt x="60" y="27"/>
                              </a:lnTo>
                              <a:lnTo>
                                <a:pt x="78" y="38"/>
                              </a:lnTo>
                              <a:lnTo>
                                <a:pt x="69" y="16"/>
                              </a:lnTo>
                              <a:lnTo>
                                <a:pt x="67" y="0"/>
                              </a:lnTo>
                              <a:lnTo>
                                <a:pt x="56" y="5"/>
                              </a:lnTo>
                              <a:lnTo>
                                <a:pt x="41" y="11"/>
                              </a:lnTo>
                              <a:lnTo>
                                <a:pt x="27" y="9"/>
                              </a:lnTo>
                              <a:lnTo>
                                <a:pt x="0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>
                          <a:off x="7225200" y="975240"/>
                          <a:ext cx="42840" cy="2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45">
                              <a:moveTo>
                                <a:pt x="86" y="5"/>
                              </a:moveTo>
                              <a:lnTo>
                                <a:pt x="68" y="0"/>
                              </a:lnTo>
                              <a:lnTo>
                                <a:pt x="53" y="0"/>
                              </a:lnTo>
                              <a:lnTo>
                                <a:pt x="31" y="6"/>
                              </a:lnTo>
                              <a:lnTo>
                                <a:pt x="17" y="17"/>
                              </a:lnTo>
                              <a:lnTo>
                                <a:pt x="6" y="30"/>
                              </a:lnTo>
                              <a:lnTo>
                                <a:pt x="0" y="45"/>
                              </a:lnTo>
                              <a:lnTo>
                                <a:pt x="13" y="32"/>
                              </a:lnTo>
                              <a:lnTo>
                                <a:pt x="28" y="22"/>
                              </a:lnTo>
                              <a:lnTo>
                                <a:pt x="49" y="17"/>
                              </a:lnTo>
                              <a:lnTo>
                                <a:pt x="63" y="18"/>
                              </a:lnTo>
                              <a:lnTo>
                                <a:pt x="77" y="24"/>
                              </a:lnTo>
                              <a:lnTo>
                                <a:pt x="80" y="15"/>
                              </a:lnTo>
                              <a:lnTo>
                                <a:pt x="86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8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  <p:grpSp>
                    <p:nvGrpSpPr>
                      <p:cNvPr id="675" name=""/>
                      <p:cNvGrpSpPr/>
                      <p:nvPr/>
                    </p:nvGrpSpPr>
                    <p:grpSpPr>
                      <a:xfrm>
                        <a:off x="7099920" y="978120"/>
                        <a:ext cx="116280" cy="73440"/>
                        <a:chOff x="7099920" y="978120"/>
                        <a:chExt cx="116280" cy="73440"/>
                      </a:xfrm>
                    </p:grpSpPr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>
                          <a:off x="7099920" y="979200"/>
                          <a:ext cx="116280" cy="7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142">
                              <a:moveTo>
                                <a:pt x="0" y="76"/>
                              </a:moveTo>
                              <a:lnTo>
                                <a:pt x="25" y="48"/>
                              </a:lnTo>
                              <a:lnTo>
                                <a:pt x="46" y="29"/>
                              </a:lnTo>
                              <a:lnTo>
                                <a:pt x="67" y="14"/>
                              </a:lnTo>
                              <a:lnTo>
                                <a:pt x="93" y="4"/>
                              </a:lnTo>
                              <a:lnTo>
                                <a:pt x="119" y="0"/>
                              </a:lnTo>
                              <a:lnTo>
                                <a:pt x="144" y="0"/>
                              </a:lnTo>
                              <a:lnTo>
                                <a:pt x="169" y="4"/>
                              </a:lnTo>
                              <a:lnTo>
                                <a:pt x="195" y="13"/>
                              </a:lnTo>
                              <a:lnTo>
                                <a:pt x="209" y="17"/>
                              </a:lnTo>
                              <a:lnTo>
                                <a:pt x="228" y="11"/>
                              </a:lnTo>
                              <a:lnTo>
                                <a:pt x="223" y="29"/>
                              </a:lnTo>
                              <a:lnTo>
                                <a:pt x="222" y="47"/>
                              </a:lnTo>
                              <a:lnTo>
                                <a:pt x="224" y="70"/>
                              </a:lnTo>
                              <a:lnTo>
                                <a:pt x="227" y="93"/>
                              </a:lnTo>
                              <a:lnTo>
                                <a:pt x="223" y="117"/>
                              </a:lnTo>
                              <a:lnTo>
                                <a:pt x="213" y="129"/>
                              </a:lnTo>
                              <a:lnTo>
                                <a:pt x="198" y="142"/>
                              </a:lnTo>
                              <a:lnTo>
                                <a:pt x="204" y="120"/>
                              </a:lnTo>
                              <a:lnTo>
                                <a:pt x="206" y="101"/>
                              </a:lnTo>
                              <a:lnTo>
                                <a:pt x="201" y="88"/>
                              </a:lnTo>
                              <a:lnTo>
                                <a:pt x="192" y="78"/>
                              </a:lnTo>
                              <a:lnTo>
                                <a:pt x="174" y="94"/>
                              </a:lnTo>
                              <a:lnTo>
                                <a:pt x="156" y="103"/>
                              </a:lnTo>
                              <a:lnTo>
                                <a:pt x="135" y="107"/>
                              </a:lnTo>
                              <a:lnTo>
                                <a:pt x="112" y="106"/>
                              </a:lnTo>
                              <a:lnTo>
                                <a:pt x="90" y="94"/>
                              </a:lnTo>
                              <a:lnTo>
                                <a:pt x="70" y="78"/>
                              </a:lnTo>
                              <a:lnTo>
                                <a:pt x="54" y="69"/>
                              </a:lnTo>
                              <a:lnTo>
                                <a:pt x="0" y="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>
                          <a:off x="7131600" y="1005480"/>
                          <a:ext cx="6120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9" h="53">
                              <a:moveTo>
                                <a:pt x="0" y="0"/>
                              </a:moveTo>
                              <a:lnTo>
                                <a:pt x="18" y="15"/>
                              </a:lnTo>
                              <a:lnTo>
                                <a:pt x="36" y="25"/>
                              </a:lnTo>
                              <a:lnTo>
                                <a:pt x="59" y="29"/>
                              </a:lnTo>
                              <a:lnTo>
                                <a:pt x="72" y="29"/>
                              </a:lnTo>
                              <a:lnTo>
                                <a:pt x="86" y="25"/>
                              </a:lnTo>
                              <a:lnTo>
                                <a:pt x="108" y="10"/>
                              </a:lnTo>
                              <a:lnTo>
                                <a:pt x="94" y="26"/>
                              </a:lnTo>
                              <a:lnTo>
                                <a:pt x="119" y="39"/>
                              </a:lnTo>
                              <a:lnTo>
                                <a:pt x="96" y="47"/>
                              </a:lnTo>
                              <a:lnTo>
                                <a:pt x="77" y="53"/>
                              </a:lnTo>
                              <a:lnTo>
                                <a:pt x="53" y="52"/>
                              </a:lnTo>
                              <a:lnTo>
                                <a:pt x="34" y="42"/>
                              </a:lnTo>
                              <a:lnTo>
                                <a:pt x="16" y="2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>
                          <a:off x="7111800" y="978120"/>
                          <a:ext cx="10224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60">
                              <a:moveTo>
                                <a:pt x="0" y="58"/>
                              </a:moveTo>
                              <a:lnTo>
                                <a:pt x="17" y="39"/>
                              </a:lnTo>
                              <a:lnTo>
                                <a:pt x="23" y="30"/>
                              </a:lnTo>
                              <a:lnTo>
                                <a:pt x="34" y="24"/>
                              </a:lnTo>
                              <a:lnTo>
                                <a:pt x="43" y="16"/>
                              </a:lnTo>
                              <a:lnTo>
                                <a:pt x="54" y="11"/>
                              </a:lnTo>
                              <a:lnTo>
                                <a:pt x="66" y="7"/>
                              </a:lnTo>
                              <a:lnTo>
                                <a:pt x="83" y="2"/>
                              </a:lnTo>
                              <a:lnTo>
                                <a:pt x="99" y="0"/>
                              </a:lnTo>
                              <a:lnTo>
                                <a:pt x="119" y="2"/>
                              </a:lnTo>
                              <a:lnTo>
                                <a:pt x="136" y="7"/>
                              </a:lnTo>
                              <a:lnTo>
                                <a:pt x="152" y="11"/>
                              </a:lnTo>
                              <a:lnTo>
                                <a:pt x="174" y="17"/>
                              </a:lnTo>
                              <a:lnTo>
                                <a:pt x="186" y="16"/>
                              </a:lnTo>
                              <a:lnTo>
                                <a:pt x="197" y="15"/>
                              </a:lnTo>
                              <a:lnTo>
                                <a:pt x="201" y="20"/>
                              </a:lnTo>
                              <a:lnTo>
                                <a:pt x="202" y="27"/>
                              </a:lnTo>
                              <a:lnTo>
                                <a:pt x="200" y="39"/>
                              </a:lnTo>
                              <a:lnTo>
                                <a:pt x="195" y="47"/>
                              </a:lnTo>
                              <a:lnTo>
                                <a:pt x="186" y="44"/>
                              </a:lnTo>
                              <a:lnTo>
                                <a:pt x="173" y="45"/>
                              </a:lnTo>
                              <a:lnTo>
                                <a:pt x="160" y="40"/>
                              </a:lnTo>
                              <a:lnTo>
                                <a:pt x="148" y="38"/>
                              </a:lnTo>
                              <a:lnTo>
                                <a:pt x="136" y="38"/>
                              </a:lnTo>
                              <a:lnTo>
                                <a:pt x="128" y="33"/>
                              </a:lnTo>
                              <a:lnTo>
                                <a:pt x="119" y="30"/>
                              </a:lnTo>
                              <a:lnTo>
                                <a:pt x="107" y="27"/>
                              </a:lnTo>
                              <a:lnTo>
                                <a:pt x="96" y="27"/>
                              </a:lnTo>
                              <a:lnTo>
                                <a:pt x="83" y="30"/>
                              </a:lnTo>
                              <a:lnTo>
                                <a:pt x="71" y="29"/>
                              </a:lnTo>
                              <a:lnTo>
                                <a:pt x="57" y="27"/>
                              </a:lnTo>
                              <a:lnTo>
                                <a:pt x="44" y="33"/>
                              </a:lnTo>
                              <a:lnTo>
                                <a:pt x="30" y="40"/>
                              </a:lnTo>
                              <a:lnTo>
                                <a:pt x="18" y="49"/>
                              </a:lnTo>
                              <a:lnTo>
                                <a:pt x="12" y="60"/>
                              </a:lnTo>
                              <a:lnTo>
                                <a:pt x="0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8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9" name=""/>
                    <p:cNvGrpSpPr/>
                    <p:nvPr/>
                  </p:nvGrpSpPr>
                  <p:grpSpPr>
                    <a:xfrm>
                      <a:off x="6998760" y="1019880"/>
                      <a:ext cx="254160" cy="183600"/>
                      <a:chOff x="6998760" y="1019880"/>
                      <a:chExt cx="254160" cy="183600"/>
                    </a:xfrm>
                  </p:grpSpPr>
                  <p:grpSp>
                    <p:nvGrpSpPr>
                      <p:cNvPr id="680" name=""/>
                      <p:cNvGrpSpPr/>
                      <p:nvPr/>
                    </p:nvGrpSpPr>
                    <p:grpSpPr>
                      <a:xfrm>
                        <a:off x="7185960" y="1019880"/>
                        <a:ext cx="66960" cy="101160"/>
                        <a:chOff x="7185960" y="1019880"/>
                        <a:chExt cx="66960" cy="101160"/>
                      </a:xfrm>
                    </p:grpSpPr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>
                          <a:off x="7185960" y="1036800"/>
                          <a:ext cx="42480" cy="6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135">
                              <a:moveTo>
                                <a:pt x="37" y="0"/>
                              </a:moveTo>
                              <a:lnTo>
                                <a:pt x="24" y="30"/>
                              </a:lnTo>
                              <a:lnTo>
                                <a:pt x="16" y="57"/>
                              </a:lnTo>
                              <a:lnTo>
                                <a:pt x="29" y="48"/>
                              </a:lnTo>
                              <a:lnTo>
                                <a:pt x="43" y="42"/>
                              </a:lnTo>
                              <a:lnTo>
                                <a:pt x="55" y="46"/>
                              </a:lnTo>
                              <a:lnTo>
                                <a:pt x="64" y="55"/>
                              </a:lnTo>
                              <a:lnTo>
                                <a:pt x="65" y="68"/>
                              </a:lnTo>
                              <a:lnTo>
                                <a:pt x="56" y="63"/>
                              </a:lnTo>
                              <a:lnTo>
                                <a:pt x="45" y="58"/>
                              </a:lnTo>
                              <a:lnTo>
                                <a:pt x="29" y="57"/>
                              </a:lnTo>
                              <a:lnTo>
                                <a:pt x="18" y="62"/>
                              </a:lnTo>
                              <a:lnTo>
                                <a:pt x="11" y="76"/>
                              </a:lnTo>
                              <a:lnTo>
                                <a:pt x="12" y="91"/>
                              </a:lnTo>
                              <a:lnTo>
                                <a:pt x="21" y="102"/>
                              </a:lnTo>
                              <a:lnTo>
                                <a:pt x="39" y="103"/>
                              </a:lnTo>
                              <a:lnTo>
                                <a:pt x="60" y="106"/>
                              </a:lnTo>
                              <a:lnTo>
                                <a:pt x="73" y="112"/>
                              </a:lnTo>
                              <a:lnTo>
                                <a:pt x="83" y="125"/>
                              </a:lnTo>
                              <a:lnTo>
                                <a:pt x="75" y="134"/>
                              </a:lnTo>
                              <a:lnTo>
                                <a:pt x="56" y="135"/>
                              </a:lnTo>
                              <a:lnTo>
                                <a:pt x="37" y="130"/>
                              </a:lnTo>
                              <a:lnTo>
                                <a:pt x="16" y="117"/>
                              </a:lnTo>
                              <a:lnTo>
                                <a:pt x="3" y="106"/>
                              </a:lnTo>
                              <a:lnTo>
                                <a:pt x="0" y="87"/>
                              </a:lnTo>
                              <a:lnTo>
                                <a:pt x="1" y="73"/>
                              </a:lnTo>
                              <a:lnTo>
                                <a:pt x="9" y="54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>
                          <a:off x="7220880" y="1019880"/>
                          <a:ext cx="32040" cy="10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8">
                              <a:moveTo>
                                <a:pt x="9" y="0"/>
                              </a:moveTo>
                              <a:lnTo>
                                <a:pt x="36" y="42"/>
                              </a:lnTo>
                              <a:lnTo>
                                <a:pt x="45" y="61"/>
                              </a:lnTo>
                              <a:lnTo>
                                <a:pt x="55" y="88"/>
                              </a:lnTo>
                              <a:lnTo>
                                <a:pt x="62" y="106"/>
                              </a:lnTo>
                              <a:lnTo>
                                <a:pt x="64" y="126"/>
                              </a:lnTo>
                              <a:lnTo>
                                <a:pt x="58" y="141"/>
                              </a:lnTo>
                              <a:lnTo>
                                <a:pt x="46" y="148"/>
                              </a:lnTo>
                              <a:lnTo>
                                <a:pt x="31" y="151"/>
                              </a:lnTo>
                              <a:lnTo>
                                <a:pt x="18" y="155"/>
                              </a:lnTo>
                              <a:lnTo>
                                <a:pt x="14" y="198"/>
                              </a:lnTo>
                              <a:lnTo>
                                <a:pt x="9" y="172"/>
                              </a:lnTo>
                              <a:lnTo>
                                <a:pt x="0" y="157"/>
                              </a:lnTo>
                              <a:lnTo>
                                <a:pt x="21" y="148"/>
                              </a:lnTo>
                              <a:lnTo>
                                <a:pt x="37" y="139"/>
                              </a:lnTo>
                              <a:lnTo>
                                <a:pt x="49" y="123"/>
                              </a:lnTo>
                              <a:lnTo>
                                <a:pt x="45" y="95"/>
                              </a:lnTo>
                              <a:lnTo>
                                <a:pt x="36" y="66"/>
                              </a:lnTo>
                              <a:lnTo>
                                <a:pt x="28" y="41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  <p:grpSp>
                    <p:nvGrpSpPr>
                      <p:cNvPr id="683" name=""/>
                      <p:cNvGrpSpPr/>
                      <p:nvPr/>
                    </p:nvGrpSpPr>
                    <p:grpSpPr>
                      <a:xfrm>
                        <a:off x="6998760" y="1081440"/>
                        <a:ext cx="232920" cy="122040"/>
                        <a:chOff x="6998760" y="1081440"/>
                        <a:chExt cx="232920" cy="122040"/>
                      </a:xfrm>
                    </p:grpSpPr>
                    <p:grpSp>
                      <p:nvGrpSpPr>
                        <p:cNvPr id="684" name=""/>
                        <p:cNvGrpSpPr/>
                        <p:nvPr/>
                      </p:nvGrpSpPr>
                      <p:grpSpPr>
                        <a:xfrm>
                          <a:off x="6998760" y="1081440"/>
                          <a:ext cx="215640" cy="122040"/>
                          <a:chOff x="6998760" y="1081440"/>
                          <a:chExt cx="215640" cy="122040"/>
                        </a:xfrm>
                      </p:grpSpPr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>
                            <a:off x="7067520" y="1156320"/>
                            <a:ext cx="73440" cy="43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85">
                                <a:moveTo>
                                  <a:pt x="0" y="0"/>
                                </a:moveTo>
                                <a:lnTo>
                                  <a:pt x="39" y="30"/>
                                </a:lnTo>
                                <a:lnTo>
                                  <a:pt x="74" y="51"/>
                                </a:lnTo>
                                <a:lnTo>
                                  <a:pt x="103" y="64"/>
                                </a:lnTo>
                                <a:lnTo>
                                  <a:pt x="143" y="76"/>
                                </a:lnTo>
                                <a:lnTo>
                                  <a:pt x="118" y="85"/>
                                </a:lnTo>
                                <a:lnTo>
                                  <a:pt x="57" y="64"/>
                                </a:lnTo>
                                <a:lnTo>
                                  <a:pt x="35" y="49"/>
                                </a:lnTo>
                                <a:lnTo>
                                  <a:pt x="18" y="29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>
                            <a:off x="6998760" y="1081440"/>
                            <a:ext cx="73080" cy="94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5" h="186">
                                <a:moveTo>
                                  <a:pt x="0" y="0"/>
                                </a:moveTo>
                                <a:lnTo>
                                  <a:pt x="16" y="43"/>
                                </a:lnTo>
                                <a:lnTo>
                                  <a:pt x="28" y="67"/>
                                </a:lnTo>
                                <a:lnTo>
                                  <a:pt x="47" y="86"/>
                                </a:lnTo>
                                <a:lnTo>
                                  <a:pt x="72" y="112"/>
                                </a:lnTo>
                                <a:lnTo>
                                  <a:pt x="101" y="138"/>
                                </a:lnTo>
                                <a:lnTo>
                                  <a:pt x="126" y="156"/>
                                </a:lnTo>
                                <a:lnTo>
                                  <a:pt x="145" y="186"/>
                                </a:lnTo>
                                <a:lnTo>
                                  <a:pt x="103" y="155"/>
                                </a:lnTo>
                                <a:lnTo>
                                  <a:pt x="72" y="129"/>
                                </a:lnTo>
                                <a:lnTo>
                                  <a:pt x="33" y="93"/>
                                </a:lnTo>
                                <a:lnTo>
                                  <a:pt x="12" y="59"/>
                                </a:lnTo>
                                <a:lnTo>
                                  <a:pt x="2" y="29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87" name=""/>
                          <p:cNvSpPr/>
                          <p:nvPr/>
                        </p:nvSpPr>
                        <p:spPr>
                          <a:xfrm>
                            <a:off x="7147080" y="1180800"/>
                            <a:ext cx="67320" cy="22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1" h="45">
                                <a:moveTo>
                                  <a:pt x="0" y="33"/>
                                </a:moveTo>
                                <a:lnTo>
                                  <a:pt x="22" y="28"/>
                                </a:lnTo>
                                <a:lnTo>
                                  <a:pt x="42" y="22"/>
                                </a:lnTo>
                                <a:lnTo>
                                  <a:pt x="59" y="11"/>
                                </a:lnTo>
                                <a:lnTo>
                                  <a:pt x="72" y="0"/>
                                </a:lnTo>
                                <a:lnTo>
                                  <a:pt x="81" y="15"/>
                                </a:lnTo>
                                <a:lnTo>
                                  <a:pt x="96" y="24"/>
                                </a:lnTo>
                                <a:lnTo>
                                  <a:pt x="111" y="28"/>
                                </a:lnTo>
                                <a:lnTo>
                                  <a:pt x="131" y="24"/>
                                </a:lnTo>
                                <a:lnTo>
                                  <a:pt x="122" y="35"/>
                                </a:lnTo>
                                <a:lnTo>
                                  <a:pt x="109" y="41"/>
                                </a:lnTo>
                                <a:lnTo>
                                  <a:pt x="94" y="45"/>
                                </a:lnTo>
                                <a:lnTo>
                                  <a:pt x="68" y="45"/>
                                </a:lnTo>
                                <a:lnTo>
                                  <a:pt x="44" y="41"/>
                                </a:lnTo>
                                <a:lnTo>
                                  <a:pt x="19" y="40"/>
                                </a:lnTo>
                                <a:lnTo>
                                  <a:pt x="0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8" name=""/>
                        <p:cNvGrpSpPr/>
                        <p:nvPr/>
                      </p:nvGrpSpPr>
                      <p:grpSpPr>
                        <a:xfrm>
                          <a:off x="7153560" y="1108800"/>
                          <a:ext cx="78120" cy="54720"/>
                          <a:chOff x="7153560" y="1108800"/>
                          <a:chExt cx="78120" cy="54720"/>
                        </a:xfrm>
                      </p:grpSpPr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>
                            <a:off x="7171920" y="1132920"/>
                            <a:ext cx="47520" cy="30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4" h="61">
                                <a:moveTo>
                                  <a:pt x="11" y="0"/>
                                </a:moveTo>
                                <a:lnTo>
                                  <a:pt x="29" y="9"/>
                                </a:lnTo>
                                <a:lnTo>
                                  <a:pt x="62" y="23"/>
                                </a:lnTo>
                                <a:lnTo>
                                  <a:pt x="94" y="26"/>
                                </a:lnTo>
                                <a:lnTo>
                                  <a:pt x="84" y="45"/>
                                </a:lnTo>
                                <a:lnTo>
                                  <a:pt x="71" y="48"/>
                                </a:lnTo>
                                <a:lnTo>
                                  <a:pt x="60" y="46"/>
                                </a:lnTo>
                                <a:lnTo>
                                  <a:pt x="39" y="40"/>
                                </a:lnTo>
                                <a:lnTo>
                                  <a:pt x="26" y="43"/>
                                </a:lnTo>
                                <a:lnTo>
                                  <a:pt x="13" y="50"/>
                                </a:lnTo>
                                <a:lnTo>
                                  <a:pt x="0" y="61"/>
                                </a:lnTo>
                                <a:lnTo>
                                  <a:pt x="16" y="37"/>
                                </a:lnTo>
                                <a:lnTo>
                                  <a:pt x="20" y="23"/>
                                </a:lnTo>
                                <a:lnTo>
                                  <a:pt x="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3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200" bIns="-162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7157880" y="1117800"/>
                            <a:ext cx="62640" cy="19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1" h="39">
                                <a:moveTo>
                                  <a:pt x="0" y="16"/>
                                </a:moveTo>
                                <a:lnTo>
                                  <a:pt x="51" y="5"/>
                                </a:lnTo>
                                <a:lnTo>
                                  <a:pt x="92" y="0"/>
                                </a:lnTo>
                                <a:lnTo>
                                  <a:pt x="121" y="11"/>
                                </a:lnTo>
                                <a:lnTo>
                                  <a:pt x="121" y="30"/>
                                </a:lnTo>
                                <a:lnTo>
                                  <a:pt x="114" y="39"/>
                                </a:lnTo>
                                <a:lnTo>
                                  <a:pt x="81" y="39"/>
                                </a:lnTo>
                                <a:lnTo>
                                  <a:pt x="0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4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7153560" y="1108800"/>
                            <a:ext cx="78120" cy="2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3" h="43">
                                <a:moveTo>
                                  <a:pt x="0" y="41"/>
                                </a:moveTo>
                                <a:lnTo>
                                  <a:pt x="20" y="43"/>
                                </a:lnTo>
                                <a:lnTo>
                                  <a:pt x="43" y="39"/>
                                </a:lnTo>
                                <a:lnTo>
                                  <a:pt x="74" y="39"/>
                                </a:lnTo>
                                <a:lnTo>
                                  <a:pt x="98" y="36"/>
                                </a:lnTo>
                                <a:lnTo>
                                  <a:pt x="112" y="36"/>
                                </a:lnTo>
                                <a:lnTo>
                                  <a:pt x="132" y="39"/>
                                </a:lnTo>
                                <a:lnTo>
                                  <a:pt x="141" y="34"/>
                                </a:lnTo>
                                <a:lnTo>
                                  <a:pt x="148" y="27"/>
                                </a:lnTo>
                                <a:lnTo>
                                  <a:pt x="153" y="22"/>
                                </a:lnTo>
                                <a:lnTo>
                                  <a:pt x="143" y="11"/>
                                </a:lnTo>
                                <a:lnTo>
                                  <a:pt x="128" y="2"/>
                                </a:lnTo>
                                <a:lnTo>
                                  <a:pt x="114" y="0"/>
                                </a:lnTo>
                                <a:lnTo>
                                  <a:pt x="96" y="2"/>
                                </a:lnTo>
                                <a:lnTo>
                                  <a:pt x="69" y="14"/>
                                </a:lnTo>
                                <a:lnTo>
                                  <a:pt x="46" y="26"/>
                                </a:lnTo>
                                <a:lnTo>
                                  <a:pt x="20" y="32"/>
                                </a:lnTo>
                                <a:lnTo>
                                  <a:pt x="0" y="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>
                            <a:off x="7153560" y="1123920"/>
                            <a:ext cx="68400" cy="27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5" h="54">
                                <a:moveTo>
                                  <a:pt x="0" y="0"/>
                                </a:moveTo>
                                <a:lnTo>
                                  <a:pt x="53" y="13"/>
                                </a:lnTo>
                                <a:lnTo>
                                  <a:pt x="87" y="15"/>
                                </a:lnTo>
                                <a:lnTo>
                                  <a:pt x="104" y="15"/>
                                </a:lnTo>
                                <a:lnTo>
                                  <a:pt x="119" y="13"/>
                                </a:lnTo>
                                <a:lnTo>
                                  <a:pt x="130" y="6"/>
                                </a:lnTo>
                                <a:lnTo>
                                  <a:pt x="134" y="18"/>
                                </a:lnTo>
                                <a:lnTo>
                                  <a:pt x="135" y="29"/>
                                </a:lnTo>
                                <a:lnTo>
                                  <a:pt x="132" y="45"/>
                                </a:lnTo>
                                <a:lnTo>
                                  <a:pt x="123" y="51"/>
                                </a:lnTo>
                                <a:lnTo>
                                  <a:pt x="114" y="54"/>
                                </a:lnTo>
                                <a:lnTo>
                                  <a:pt x="101" y="53"/>
                                </a:lnTo>
                                <a:lnTo>
                                  <a:pt x="81" y="45"/>
                                </a:lnTo>
                                <a:lnTo>
                                  <a:pt x="58" y="36"/>
                                </a:lnTo>
                                <a:lnTo>
                                  <a:pt x="38" y="26"/>
                                </a:lnTo>
                                <a:lnTo>
                                  <a:pt x="23" y="15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440" bIns="-19440" anchor="t">
                            <a:noAutofit/>
                          </a:bodyPr>
                          <a:p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Cordia New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693" name=""/>
                <p:cNvSpPr/>
                <p:nvPr/>
              </p:nvSpPr>
              <p:spPr>
                <a:xfrm>
                  <a:off x="6917400" y="757080"/>
                  <a:ext cx="357120" cy="320040"/>
                </a:xfrm>
                <a:custGeom>
                  <a:avLst/>
                  <a:gdLst/>
                  <a:ahLst/>
                  <a:rect l="l" t="t" r="r" b="b"/>
                  <a:pathLst>
                    <a:path w="697" h="625">
                      <a:moveTo>
                        <a:pt x="675" y="349"/>
                      </a:moveTo>
                      <a:lnTo>
                        <a:pt x="688" y="311"/>
                      </a:lnTo>
                      <a:lnTo>
                        <a:pt x="694" y="286"/>
                      </a:lnTo>
                      <a:lnTo>
                        <a:pt x="697" y="259"/>
                      </a:lnTo>
                      <a:lnTo>
                        <a:pt x="695" y="233"/>
                      </a:lnTo>
                      <a:lnTo>
                        <a:pt x="689" y="207"/>
                      </a:lnTo>
                      <a:lnTo>
                        <a:pt x="674" y="202"/>
                      </a:lnTo>
                      <a:lnTo>
                        <a:pt x="659" y="200"/>
                      </a:lnTo>
                      <a:lnTo>
                        <a:pt x="667" y="183"/>
                      </a:lnTo>
                      <a:lnTo>
                        <a:pt x="671" y="166"/>
                      </a:lnTo>
                      <a:lnTo>
                        <a:pt x="667" y="153"/>
                      </a:lnTo>
                      <a:lnTo>
                        <a:pt x="650" y="140"/>
                      </a:lnTo>
                      <a:lnTo>
                        <a:pt x="625" y="130"/>
                      </a:lnTo>
                      <a:lnTo>
                        <a:pt x="604" y="124"/>
                      </a:lnTo>
                      <a:lnTo>
                        <a:pt x="594" y="108"/>
                      </a:lnTo>
                      <a:lnTo>
                        <a:pt x="578" y="97"/>
                      </a:lnTo>
                      <a:lnTo>
                        <a:pt x="558" y="88"/>
                      </a:lnTo>
                      <a:lnTo>
                        <a:pt x="542" y="66"/>
                      </a:lnTo>
                      <a:lnTo>
                        <a:pt x="522" y="50"/>
                      </a:lnTo>
                      <a:lnTo>
                        <a:pt x="492" y="43"/>
                      </a:lnTo>
                      <a:lnTo>
                        <a:pt x="477" y="28"/>
                      </a:lnTo>
                      <a:lnTo>
                        <a:pt x="461" y="19"/>
                      </a:lnTo>
                      <a:lnTo>
                        <a:pt x="434" y="15"/>
                      </a:lnTo>
                      <a:lnTo>
                        <a:pt x="416" y="12"/>
                      </a:lnTo>
                      <a:lnTo>
                        <a:pt x="379" y="4"/>
                      </a:lnTo>
                      <a:lnTo>
                        <a:pt x="347" y="0"/>
                      </a:lnTo>
                      <a:lnTo>
                        <a:pt x="318" y="4"/>
                      </a:lnTo>
                      <a:lnTo>
                        <a:pt x="294" y="14"/>
                      </a:lnTo>
                      <a:lnTo>
                        <a:pt x="269" y="17"/>
                      </a:lnTo>
                      <a:lnTo>
                        <a:pt x="251" y="19"/>
                      </a:lnTo>
                      <a:lnTo>
                        <a:pt x="231" y="15"/>
                      </a:lnTo>
                      <a:lnTo>
                        <a:pt x="206" y="19"/>
                      </a:lnTo>
                      <a:lnTo>
                        <a:pt x="182" y="26"/>
                      </a:lnTo>
                      <a:lnTo>
                        <a:pt x="162" y="40"/>
                      </a:lnTo>
                      <a:lnTo>
                        <a:pt x="155" y="58"/>
                      </a:lnTo>
                      <a:lnTo>
                        <a:pt x="139" y="64"/>
                      </a:lnTo>
                      <a:lnTo>
                        <a:pt x="128" y="76"/>
                      </a:lnTo>
                      <a:lnTo>
                        <a:pt x="119" y="90"/>
                      </a:lnTo>
                      <a:lnTo>
                        <a:pt x="107" y="95"/>
                      </a:lnTo>
                      <a:lnTo>
                        <a:pt x="99" y="102"/>
                      </a:lnTo>
                      <a:lnTo>
                        <a:pt x="94" y="116"/>
                      </a:lnTo>
                      <a:lnTo>
                        <a:pt x="80" y="126"/>
                      </a:lnTo>
                      <a:lnTo>
                        <a:pt x="71" y="139"/>
                      </a:lnTo>
                      <a:lnTo>
                        <a:pt x="65" y="161"/>
                      </a:lnTo>
                      <a:lnTo>
                        <a:pt x="57" y="191"/>
                      </a:lnTo>
                      <a:lnTo>
                        <a:pt x="35" y="197"/>
                      </a:lnTo>
                      <a:lnTo>
                        <a:pt x="21" y="206"/>
                      </a:lnTo>
                      <a:lnTo>
                        <a:pt x="14" y="223"/>
                      </a:lnTo>
                      <a:lnTo>
                        <a:pt x="18" y="237"/>
                      </a:lnTo>
                      <a:lnTo>
                        <a:pt x="12" y="261"/>
                      </a:lnTo>
                      <a:lnTo>
                        <a:pt x="8" y="286"/>
                      </a:lnTo>
                      <a:lnTo>
                        <a:pt x="9" y="310"/>
                      </a:lnTo>
                      <a:lnTo>
                        <a:pt x="14" y="340"/>
                      </a:lnTo>
                      <a:lnTo>
                        <a:pt x="16" y="366"/>
                      </a:lnTo>
                      <a:lnTo>
                        <a:pt x="12" y="393"/>
                      </a:lnTo>
                      <a:lnTo>
                        <a:pt x="4" y="417"/>
                      </a:lnTo>
                      <a:lnTo>
                        <a:pt x="0" y="445"/>
                      </a:lnTo>
                      <a:lnTo>
                        <a:pt x="4" y="477"/>
                      </a:lnTo>
                      <a:lnTo>
                        <a:pt x="11" y="507"/>
                      </a:lnTo>
                      <a:lnTo>
                        <a:pt x="26" y="538"/>
                      </a:lnTo>
                      <a:lnTo>
                        <a:pt x="36" y="560"/>
                      </a:lnTo>
                      <a:lnTo>
                        <a:pt x="50" y="574"/>
                      </a:lnTo>
                      <a:lnTo>
                        <a:pt x="66" y="593"/>
                      </a:lnTo>
                      <a:lnTo>
                        <a:pt x="74" y="613"/>
                      </a:lnTo>
                      <a:lnTo>
                        <a:pt x="88" y="625"/>
                      </a:lnTo>
                      <a:lnTo>
                        <a:pt x="107" y="623"/>
                      </a:lnTo>
                      <a:lnTo>
                        <a:pt x="124" y="615"/>
                      </a:lnTo>
                      <a:lnTo>
                        <a:pt x="132" y="598"/>
                      </a:lnTo>
                      <a:lnTo>
                        <a:pt x="132" y="584"/>
                      </a:lnTo>
                      <a:lnTo>
                        <a:pt x="126" y="557"/>
                      </a:lnTo>
                      <a:lnTo>
                        <a:pt x="132" y="546"/>
                      </a:lnTo>
                      <a:lnTo>
                        <a:pt x="112" y="542"/>
                      </a:lnTo>
                      <a:lnTo>
                        <a:pt x="94" y="546"/>
                      </a:lnTo>
                      <a:lnTo>
                        <a:pt x="89" y="523"/>
                      </a:lnTo>
                      <a:lnTo>
                        <a:pt x="81" y="503"/>
                      </a:lnTo>
                      <a:lnTo>
                        <a:pt x="88" y="480"/>
                      </a:lnTo>
                      <a:lnTo>
                        <a:pt x="89" y="463"/>
                      </a:lnTo>
                      <a:lnTo>
                        <a:pt x="86" y="448"/>
                      </a:lnTo>
                      <a:lnTo>
                        <a:pt x="112" y="432"/>
                      </a:lnTo>
                      <a:lnTo>
                        <a:pt x="141" y="427"/>
                      </a:lnTo>
                      <a:lnTo>
                        <a:pt x="169" y="434"/>
                      </a:lnTo>
                      <a:lnTo>
                        <a:pt x="170" y="452"/>
                      </a:lnTo>
                      <a:lnTo>
                        <a:pt x="179" y="470"/>
                      </a:lnTo>
                      <a:lnTo>
                        <a:pt x="191" y="485"/>
                      </a:lnTo>
                      <a:lnTo>
                        <a:pt x="209" y="489"/>
                      </a:lnTo>
                      <a:lnTo>
                        <a:pt x="229" y="490"/>
                      </a:lnTo>
                      <a:lnTo>
                        <a:pt x="245" y="485"/>
                      </a:lnTo>
                      <a:lnTo>
                        <a:pt x="263" y="470"/>
                      </a:lnTo>
                      <a:lnTo>
                        <a:pt x="274" y="448"/>
                      </a:lnTo>
                      <a:lnTo>
                        <a:pt x="294" y="450"/>
                      </a:lnTo>
                      <a:lnTo>
                        <a:pt x="312" y="448"/>
                      </a:lnTo>
                      <a:lnTo>
                        <a:pt x="334" y="434"/>
                      </a:lnTo>
                      <a:lnTo>
                        <a:pt x="344" y="413"/>
                      </a:lnTo>
                      <a:lnTo>
                        <a:pt x="348" y="395"/>
                      </a:lnTo>
                      <a:lnTo>
                        <a:pt x="341" y="366"/>
                      </a:lnTo>
                      <a:lnTo>
                        <a:pt x="356" y="341"/>
                      </a:lnTo>
                      <a:lnTo>
                        <a:pt x="379" y="345"/>
                      </a:lnTo>
                      <a:lnTo>
                        <a:pt x="404" y="349"/>
                      </a:lnTo>
                      <a:lnTo>
                        <a:pt x="421" y="344"/>
                      </a:lnTo>
                      <a:lnTo>
                        <a:pt x="432" y="335"/>
                      </a:lnTo>
                      <a:lnTo>
                        <a:pt x="435" y="342"/>
                      </a:lnTo>
                      <a:lnTo>
                        <a:pt x="432" y="358"/>
                      </a:lnTo>
                      <a:lnTo>
                        <a:pt x="421" y="369"/>
                      </a:lnTo>
                      <a:lnTo>
                        <a:pt x="408" y="377"/>
                      </a:lnTo>
                      <a:lnTo>
                        <a:pt x="389" y="384"/>
                      </a:lnTo>
                      <a:lnTo>
                        <a:pt x="371" y="387"/>
                      </a:lnTo>
                      <a:lnTo>
                        <a:pt x="394" y="398"/>
                      </a:lnTo>
                      <a:lnTo>
                        <a:pt x="416" y="402"/>
                      </a:lnTo>
                      <a:lnTo>
                        <a:pt x="437" y="403"/>
                      </a:lnTo>
                      <a:lnTo>
                        <a:pt x="461" y="402"/>
                      </a:lnTo>
                      <a:lnTo>
                        <a:pt x="482" y="398"/>
                      </a:lnTo>
                      <a:lnTo>
                        <a:pt x="506" y="395"/>
                      </a:lnTo>
                      <a:lnTo>
                        <a:pt x="496" y="409"/>
                      </a:lnTo>
                      <a:lnTo>
                        <a:pt x="484" y="417"/>
                      </a:lnTo>
                      <a:lnTo>
                        <a:pt x="468" y="425"/>
                      </a:lnTo>
                      <a:lnTo>
                        <a:pt x="486" y="427"/>
                      </a:lnTo>
                      <a:lnTo>
                        <a:pt x="513" y="426"/>
                      </a:lnTo>
                      <a:lnTo>
                        <a:pt x="533" y="422"/>
                      </a:lnTo>
                      <a:lnTo>
                        <a:pt x="550" y="413"/>
                      </a:lnTo>
                      <a:lnTo>
                        <a:pt x="574" y="395"/>
                      </a:lnTo>
                      <a:lnTo>
                        <a:pt x="573" y="408"/>
                      </a:lnTo>
                      <a:lnTo>
                        <a:pt x="563" y="422"/>
                      </a:lnTo>
                      <a:lnTo>
                        <a:pt x="551" y="434"/>
                      </a:lnTo>
                      <a:lnTo>
                        <a:pt x="573" y="436"/>
                      </a:lnTo>
                      <a:lnTo>
                        <a:pt x="596" y="432"/>
                      </a:lnTo>
                      <a:lnTo>
                        <a:pt x="616" y="423"/>
                      </a:lnTo>
                      <a:lnTo>
                        <a:pt x="639" y="404"/>
                      </a:lnTo>
                      <a:lnTo>
                        <a:pt x="658" y="381"/>
                      </a:lnTo>
                      <a:lnTo>
                        <a:pt x="675" y="349"/>
                      </a:lnTo>
                      <a:close/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</p:grpSp>
        <p:grpSp>
          <p:nvGrpSpPr>
            <p:cNvPr id="694" name=""/>
            <p:cNvGrpSpPr/>
            <p:nvPr/>
          </p:nvGrpSpPr>
          <p:grpSpPr>
            <a:xfrm>
              <a:off x="7706160" y="325440"/>
              <a:ext cx="1088280" cy="1361880"/>
              <a:chOff x="7706160" y="325440"/>
              <a:chExt cx="1088280" cy="136188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7706160" y="621360"/>
                <a:ext cx="701640" cy="1065960"/>
                <a:chOff x="7706160" y="621360"/>
                <a:chExt cx="701640" cy="1065960"/>
              </a:xfrm>
            </p:grpSpPr>
            <p:grpSp>
              <p:nvGrpSpPr>
                <p:cNvPr id="696" name=""/>
                <p:cNvGrpSpPr/>
                <p:nvPr/>
              </p:nvGrpSpPr>
              <p:grpSpPr>
                <a:xfrm>
                  <a:off x="7706160" y="621360"/>
                  <a:ext cx="701640" cy="1065960"/>
                  <a:chOff x="7706160" y="621360"/>
                  <a:chExt cx="701640" cy="1065960"/>
                </a:xfrm>
              </p:grpSpPr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7706160" y="1235880"/>
                    <a:ext cx="305640" cy="451440"/>
                    <a:chOff x="7706160" y="1235880"/>
                    <a:chExt cx="305640" cy="451440"/>
                  </a:xfrm>
                </p:grpSpPr>
                <p:grpSp>
                  <p:nvGrpSpPr>
                    <p:cNvPr id="698" name=""/>
                    <p:cNvGrpSpPr/>
                    <p:nvPr/>
                  </p:nvGrpSpPr>
                  <p:grpSpPr>
                    <a:xfrm>
                      <a:off x="7706160" y="1339200"/>
                      <a:ext cx="230400" cy="348120"/>
                      <a:chOff x="7706160" y="1339200"/>
                      <a:chExt cx="230400" cy="348120"/>
                    </a:xfrm>
                  </p:grpSpPr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7779600" y="1574640"/>
                        <a:ext cx="766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84">
                            <a:moveTo>
                              <a:pt x="0" y="54"/>
                            </a:moveTo>
                            <a:lnTo>
                              <a:pt x="33" y="0"/>
                            </a:lnTo>
                            <a:lnTo>
                              <a:pt x="67" y="3"/>
                            </a:lnTo>
                            <a:lnTo>
                              <a:pt x="96" y="12"/>
                            </a:lnTo>
                            <a:lnTo>
                              <a:pt x="148" y="31"/>
                            </a:lnTo>
                            <a:lnTo>
                              <a:pt x="131" y="8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7762680" y="1594440"/>
                        <a:ext cx="82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76">
                            <a:moveTo>
                              <a:pt x="40" y="0"/>
                            </a:moveTo>
                            <a:lnTo>
                              <a:pt x="62" y="1"/>
                            </a:lnTo>
                            <a:lnTo>
                              <a:pt x="98" y="10"/>
                            </a:lnTo>
                            <a:lnTo>
                              <a:pt x="134" y="19"/>
                            </a:lnTo>
                            <a:lnTo>
                              <a:pt x="157" y="25"/>
                            </a:lnTo>
                            <a:lnTo>
                              <a:pt x="161" y="36"/>
                            </a:lnTo>
                            <a:lnTo>
                              <a:pt x="160" y="52"/>
                            </a:lnTo>
                            <a:lnTo>
                              <a:pt x="147" y="67"/>
                            </a:lnTo>
                            <a:lnTo>
                              <a:pt x="130" y="76"/>
                            </a:lnTo>
                            <a:lnTo>
                              <a:pt x="98" y="70"/>
                            </a:lnTo>
                            <a:lnTo>
                              <a:pt x="44" y="55"/>
                            </a:lnTo>
                            <a:lnTo>
                              <a:pt x="0" y="27"/>
                            </a:lnTo>
                            <a:lnTo>
                              <a:pt x="40" y="0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7706160" y="1339200"/>
                        <a:ext cx="230400" cy="34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9" h="677">
                            <a:moveTo>
                              <a:pt x="334" y="0"/>
                            </a:moveTo>
                            <a:lnTo>
                              <a:pt x="319" y="27"/>
                            </a:lnTo>
                            <a:lnTo>
                              <a:pt x="311" y="57"/>
                            </a:lnTo>
                            <a:lnTo>
                              <a:pt x="294" y="87"/>
                            </a:lnTo>
                            <a:lnTo>
                              <a:pt x="281" y="106"/>
                            </a:lnTo>
                            <a:lnTo>
                              <a:pt x="268" y="129"/>
                            </a:lnTo>
                            <a:lnTo>
                              <a:pt x="249" y="151"/>
                            </a:lnTo>
                            <a:lnTo>
                              <a:pt x="226" y="169"/>
                            </a:lnTo>
                            <a:lnTo>
                              <a:pt x="221" y="175"/>
                            </a:lnTo>
                            <a:lnTo>
                              <a:pt x="217" y="190"/>
                            </a:lnTo>
                            <a:lnTo>
                              <a:pt x="214" y="214"/>
                            </a:lnTo>
                            <a:lnTo>
                              <a:pt x="205" y="242"/>
                            </a:lnTo>
                            <a:lnTo>
                              <a:pt x="186" y="262"/>
                            </a:lnTo>
                            <a:lnTo>
                              <a:pt x="170" y="283"/>
                            </a:lnTo>
                            <a:lnTo>
                              <a:pt x="160" y="303"/>
                            </a:lnTo>
                            <a:lnTo>
                              <a:pt x="138" y="343"/>
                            </a:lnTo>
                            <a:lnTo>
                              <a:pt x="114" y="385"/>
                            </a:lnTo>
                            <a:lnTo>
                              <a:pt x="110" y="399"/>
                            </a:lnTo>
                            <a:lnTo>
                              <a:pt x="109" y="425"/>
                            </a:lnTo>
                            <a:lnTo>
                              <a:pt x="107" y="456"/>
                            </a:lnTo>
                            <a:lnTo>
                              <a:pt x="109" y="482"/>
                            </a:lnTo>
                            <a:lnTo>
                              <a:pt x="111" y="505"/>
                            </a:lnTo>
                            <a:lnTo>
                              <a:pt x="107" y="524"/>
                            </a:lnTo>
                            <a:lnTo>
                              <a:pt x="92" y="552"/>
                            </a:lnTo>
                            <a:lnTo>
                              <a:pt x="70" y="579"/>
                            </a:lnTo>
                            <a:lnTo>
                              <a:pt x="0" y="663"/>
                            </a:lnTo>
                            <a:lnTo>
                              <a:pt x="47" y="677"/>
                            </a:lnTo>
                            <a:lnTo>
                              <a:pt x="76" y="648"/>
                            </a:lnTo>
                            <a:lnTo>
                              <a:pt x="115" y="610"/>
                            </a:lnTo>
                            <a:lnTo>
                              <a:pt x="143" y="581"/>
                            </a:lnTo>
                            <a:lnTo>
                              <a:pt x="169" y="550"/>
                            </a:lnTo>
                            <a:lnTo>
                              <a:pt x="187" y="524"/>
                            </a:lnTo>
                            <a:lnTo>
                              <a:pt x="205" y="484"/>
                            </a:lnTo>
                            <a:lnTo>
                              <a:pt x="234" y="462"/>
                            </a:lnTo>
                            <a:lnTo>
                              <a:pt x="255" y="446"/>
                            </a:lnTo>
                            <a:lnTo>
                              <a:pt x="267" y="429"/>
                            </a:lnTo>
                            <a:lnTo>
                              <a:pt x="259" y="461"/>
                            </a:lnTo>
                            <a:lnTo>
                              <a:pt x="250" y="491"/>
                            </a:lnTo>
                            <a:lnTo>
                              <a:pt x="245" y="525"/>
                            </a:lnTo>
                            <a:lnTo>
                              <a:pt x="248" y="561"/>
                            </a:lnTo>
                            <a:lnTo>
                              <a:pt x="258" y="600"/>
                            </a:lnTo>
                            <a:lnTo>
                              <a:pt x="266" y="623"/>
                            </a:lnTo>
                            <a:lnTo>
                              <a:pt x="275" y="636"/>
                            </a:lnTo>
                            <a:lnTo>
                              <a:pt x="288" y="644"/>
                            </a:lnTo>
                            <a:lnTo>
                              <a:pt x="303" y="648"/>
                            </a:lnTo>
                            <a:lnTo>
                              <a:pt x="317" y="645"/>
                            </a:lnTo>
                            <a:lnTo>
                              <a:pt x="328" y="641"/>
                            </a:lnTo>
                            <a:lnTo>
                              <a:pt x="333" y="627"/>
                            </a:lnTo>
                            <a:lnTo>
                              <a:pt x="328" y="609"/>
                            </a:lnTo>
                            <a:lnTo>
                              <a:pt x="316" y="597"/>
                            </a:lnTo>
                            <a:lnTo>
                              <a:pt x="304" y="585"/>
                            </a:lnTo>
                            <a:lnTo>
                              <a:pt x="302" y="549"/>
                            </a:lnTo>
                            <a:lnTo>
                              <a:pt x="311" y="510"/>
                            </a:lnTo>
                            <a:lnTo>
                              <a:pt x="313" y="482"/>
                            </a:lnTo>
                            <a:lnTo>
                              <a:pt x="324" y="457"/>
                            </a:lnTo>
                            <a:lnTo>
                              <a:pt x="333" y="437"/>
                            </a:lnTo>
                            <a:lnTo>
                              <a:pt x="347" y="413"/>
                            </a:lnTo>
                            <a:lnTo>
                              <a:pt x="349" y="399"/>
                            </a:lnTo>
                            <a:lnTo>
                              <a:pt x="356" y="359"/>
                            </a:lnTo>
                            <a:lnTo>
                              <a:pt x="357" y="326"/>
                            </a:lnTo>
                            <a:lnTo>
                              <a:pt x="383" y="268"/>
                            </a:lnTo>
                            <a:lnTo>
                              <a:pt x="403" y="218"/>
                            </a:lnTo>
                            <a:lnTo>
                              <a:pt x="419" y="169"/>
                            </a:lnTo>
                            <a:lnTo>
                              <a:pt x="440" y="114"/>
                            </a:lnTo>
                            <a:lnTo>
                              <a:pt x="449" y="22"/>
                            </a:lnTo>
                            <a:lnTo>
                              <a:pt x="334" y="0"/>
                            </a:lnTo>
                            <a:close/>
                          </a:path>
                        </a:pathLst>
                      </a:custGeom>
                      <a:solidFill>
                        <a:srgbClr val="ff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7824240" y="1549800"/>
                        <a:ext cx="244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88">
                            <a:moveTo>
                              <a:pt x="0" y="47"/>
                            </a:moveTo>
                            <a:lnTo>
                              <a:pt x="16" y="37"/>
                            </a:lnTo>
                            <a:lnTo>
                              <a:pt x="27" y="25"/>
                            </a:lnTo>
                            <a:lnTo>
                              <a:pt x="35" y="15"/>
                            </a:lnTo>
                            <a:lnTo>
                              <a:pt x="47" y="0"/>
                            </a:lnTo>
                            <a:lnTo>
                              <a:pt x="36" y="29"/>
                            </a:lnTo>
                            <a:lnTo>
                              <a:pt x="30" y="43"/>
                            </a:lnTo>
                            <a:lnTo>
                              <a:pt x="22" y="68"/>
                            </a:lnTo>
                            <a:lnTo>
                              <a:pt x="16" y="88"/>
                            </a:lnTo>
                            <a:lnTo>
                              <a:pt x="8" y="61"/>
                            </a:lnTo>
                            <a:lnTo>
                              <a:pt x="0" y="47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7847280" y="1579320"/>
                        <a:ext cx="22680" cy="81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157">
                            <a:moveTo>
                              <a:pt x="45" y="132"/>
                            </a:moveTo>
                            <a:lnTo>
                              <a:pt x="29" y="131"/>
                            </a:lnTo>
                            <a:lnTo>
                              <a:pt x="16" y="136"/>
                            </a:lnTo>
                            <a:lnTo>
                              <a:pt x="5" y="149"/>
                            </a:lnTo>
                            <a:lnTo>
                              <a:pt x="0" y="157"/>
                            </a:lnTo>
                            <a:lnTo>
                              <a:pt x="5" y="141"/>
                            </a:lnTo>
                            <a:lnTo>
                              <a:pt x="13" y="129"/>
                            </a:lnTo>
                            <a:lnTo>
                              <a:pt x="23" y="122"/>
                            </a:lnTo>
                            <a:lnTo>
                              <a:pt x="20" y="106"/>
                            </a:lnTo>
                            <a:lnTo>
                              <a:pt x="18" y="78"/>
                            </a:lnTo>
                            <a:lnTo>
                              <a:pt x="22" y="54"/>
                            </a:lnTo>
                            <a:lnTo>
                              <a:pt x="28" y="33"/>
                            </a:lnTo>
                            <a:lnTo>
                              <a:pt x="41" y="0"/>
                            </a:lnTo>
                            <a:lnTo>
                              <a:pt x="38" y="24"/>
                            </a:lnTo>
                            <a:lnTo>
                              <a:pt x="34" y="47"/>
                            </a:lnTo>
                            <a:lnTo>
                              <a:pt x="29" y="72"/>
                            </a:lnTo>
                            <a:lnTo>
                              <a:pt x="28" y="84"/>
                            </a:lnTo>
                            <a:lnTo>
                              <a:pt x="29" y="99"/>
                            </a:lnTo>
                            <a:lnTo>
                              <a:pt x="33" y="115"/>
                            </a:lnTo>
                            <a:lnTo>
                              <a:pt x="45" y="132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560" bIns="345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7758360" y="1534680"/>
                        <a:ext cx="3492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48">
                            <a:moveTo>
                              <a:pt x="2" y="148"/>
                            </a:moveTo>
                            <a:lnTo>
                              <a:pt x="11" y="136"/>
                            </a:lnTo>
                            <a:lnTo>
                              <a:pt x="20" y="118"/>
                            </a:lnTo>
                            <a:lnTo>
                              <a:pt x="25" y="103"/>
                            </a:lnTo>
                            <a:lnTo>
                              <a:pt x="24" y="80"/>
                            </a:lnTo>
                            <a:lnTo>
                              <a:pt x="24" y="58"/>
                            </a:lnTo>
                            <a:lnTo>
                              <a:pt x="26" y="37"/>
                            </a:lnTo>
                            <a:lnTo>
                              <a:pt x="29" y="24"/>
                            </a:lnTo>
                            <a:lnTo>
                              <a:pt x="38" y="15"/>
                            </a:lnTo>
                            <a:lnTo>
                              <a:pt x="52" y="7"/>
                            </a:lnTo>
                            <a:lnTo>
                              <a:pt x="69" y="0"/>
                            </a:lnTo>
                            <a:lnTo>
                              <a:pt x="46" y="7"/>
                            </a:lnTo>
                            <a:lnTo>
                              <a:pt x="30" y="15"/>
                            </a:lnTo>
                            <a:lnTo>
                              <a:pt x="16" y="15"/>
                            </a:lnTo>
                            <a:lnTo>
                              <a:pt x="7" y="10"/>
                            </a:lnTo>
                            <a:lnTo>
                              <a:pt x="3" y="20"/>
                            </a:lnTo>
                            <a:lnTo>
                              <a:pt x="2" y="38"/>
                            </a:lnTo>
                            <a:lnTo>
                              <a:pt x="2" y="55"/>
                            </a:lnTo>
                            <a:lnTo>
                              <a:pt x="0" y="78"/>
                            </a:lnTo>
                            <a:lnTo>
                              <a:pt x="2" y="98"/>
                            </a:lnTo>
                            <a:lnTo>
                              <a:pt x="3" y="114"/>
                            </a:lnTo>
                            <a:lnTo>
                              <a:pt x="6" y="126"/>
                            </a:lnTo>
                            <a:lnTo>
                              <a:pt x="2" y="148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</p:grpSp>
                <p:grpSp>
                  <p:nvGrpSpPr>
                    <p:cNvPr id="705" name=""/>
                    <p:cNvGrpSpPr/>
                    <p:nvPr/>
                  </p:nvGrpSpPr>
                  <p:grpSpPr>
                    <a:xfrm>
                      <a:off x="7862760" y="1235880"/>
                      <a:ext cx="149040" cy="175680"/>
                      <a:chOff x="7862760" y="1235880"/>
                      <a:chExt cx="149040" cy="175680"/>
                    </a:xfrm>
                  </p:grpSpPr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7862760" y="1235880"/>
                        <a:ext cx="149040" cy="17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1" h="342">
                            <a:moveTo>
                              <a:pt x="85" y="0"/>
                            </a:moveTo>
                            <a:lnTo>
                              <a:pt x="130" y="13"/>
                            </a:lnTo>
                            <a:lnTo>
                              <a:pt x="212" y="45"/>
                            </a:lnTo>
                            <a:lnTo>
                              <a:pt x="266" y="89"/>
                            </a:lnTo>
                            <a:lnTo>
                              <a:pt x="291" y="134"/>
                            </a:lnTo>
                            <a:lnTo>
                              <a:pt x="283" y="165"/>
                            </a:lnTo>
                            <a:lnTo>
                              <a:pt x="265" y="188"/>
                            </a:lnTo>
                            <a:lnTo>
                              <a:pt x="249" y="205"/>
                            </a:lnTo>
                            <a:lnTo>
                              <a:pt x="229" y="221"/>
                            </a:lnTo>
                            <a:lnTo>
                              <a:pt x="208" y="248"/>
                            </a:lnTo>
                            <a:lnTo>
                              <a:pt x="190" y="275"/>
                            </a:lnTo>
                            <a:lnTo>
                              <a:pt x="177" y="299"/>
                            </a:lnTo>
                            <a:lnTo>
                              <a:pt x="167" y="317"/>
                            </a:lnTo>
                            <a:lnTo>
                              <a:pt x="152" y="331"/>
                            </a:lnTo>
                            <a:lnTo>
                              <a:pt x="139" y="338"/>
                            </a:lnTo>
                            <a:lnTo>
                              <a:pt x="122" y="342"/>
                            </a:lnTo>
                            <a:lnTo>
                              <a:pt x="126" y="327"/>
                            </a:lnTo>
                            <a:lnTo>
                              <a:pt x="131" y="314"/>
                            </a:lnTo>
                            <a:lnTo>
                              <a:pt x="126" y="283"/>
                            </a:lnTo>
                            <a:lnTo>
                              <a:pt x="103" y="260"/>
                            </a:lnTo>
                            <a:lnTo>
                              <a:pt x="56" y="237"/>
                            </a:lnTo>
                            <a:lnTo>
                              <a:pt x="16" y="232"/>
                            </a:lnTo>
                            <a:lnTo>
                              <a:pt x="6" y="238"/>
                            </a:lnTo>
                            <a:lnTo>
                              <a:pt x="0" y="228"/>
                            </a:lnTo>
                            <a:lnTo>
                              <a:pt x="1" y="218"/>
                            </a:lnTo>
                            <a:lnTo>
                              <a:pt x="3" y="206"/>
                            </a:lnTo>
                            <a:lnTo>
                              <a:pt x="11" y="194"/>
                            </a:lnTo>
                            <a:lnTo>
                              <a:pt x="28" y="165"/>
                            </a:lnTo>
                            <a:lnTo>
                              <a:pt x="37" y="126"/>
                            </a:lnTo>
                            <a:lnTo>
                              <a:pt x="55" y="70"/>
                            </a:lnTo>
                            <a:lnTo>
                              <a:pt x="76" y="18"/>
                            </a:lnTo>
                            <a:lnTo>
                              <a:pt x="8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7865640" y="1348200"/>
                        <a:ext cx="691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122">
                            <a:moveTo>
                              <a:pt x="0" y="13"/>
                            </a:moveTo>
                            <a:lnTo>
                              <a:pt x="4" y="5"/>
                            </a:lnTo>
                            <a:lnTo>
                              <a:pt x="12" y="2"/>
                            </a:lnTo>
                            <a:lnTo>
                              <a:pt x="30" y="0"/>
                            </a:lnTo>
                            <a:lnTo>
                              <a:pt x="45" y="1"/>
                            </a:lnTo>
                            <a:lnTo>
                              <a:pt x="63" y="6"/>
                            </a:lnTo>
                            <a:lnTo>
                              <a:pt x="80" y="14"/>
                            </a:lnTo>
                            <a:lnTo>
                              <a:pt x="98" y="26"/>
                            </a:lnTo>
                            <a:lnTo>
                              <a:pt x="113" y="36"/>
                            </a:lnTo>
                            <a:lnTo>
                              <a:pt x="125" y="51"/>
                            </a:lnTo>
                            <a:lnTo>
                              <a:pt x="134" y="69"/>
                            </a:lnTo>
                            <a:lnTo>
                              <a:pt x="135" y="85"/>
                            </a:lnTo>
                            <a:lnTo>
                              <a:pt x="133" y="103"/>
                            </a:lnTo>
                            <a:lnTo>
                              <a:pt x="128" y="110"/>
                            </a:lnTo>
                            <a:lnTo>
                              <a:pt x="120" y="122"/>
                            </a:lnTo>
                            <a:lnTo>
                              <a:pt x="125" y="101"/>
                            </a:lnTo>
                            <a:lnTo>
                              <a:pt x="128" y="82"/>
                            </a:lnTo>
                            <a:lnTo>
                              <a:pt x="120" y="62"/>
                            </a:lnTo>
                            <a:lnTo>
                              <a:pt x="108" y="47"/>
                            </a:lnTo>
                            <a:lnTo>
                              <a:pt x="88" y="32"/>
                            </a:lnTo>
                            <a:lnTo>
                              <a:pt x="67" y="22"/>
                            </a:lnTo>
                            <a:lnTo>
                              <a:pt x="46" y="15"/>
                            </a:lnTo>
                            <a:lnTo>
                              <a:pt x="27" y="11"/>
                            </a:lnTo>
                            <a:lnTo>
                              <a:pt x="0" y="13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</p:grp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7899840" y="621360"/>
                    <a:ext cx="507960" cy="703440"/>
                    <a:chOff x="7899840" y="621360"/>
                    <a:chExt cx="507960" cy="7034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899840" y="621360"/>
                      <a:ext cx="507960" cy="69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9" h="1359">
                          <a:moveTo>
                            <a:pt x="425" y="0"/>
                          </a:moveTo>
                          <a:lnTo>
                            <a:pt x="787" y="225"/>
                          </a:lnTo>
                          <a:lnTo>
                            <a:pt x="861" y="485"/>
                          </a:lnTo>
                          <a:lnTo>
                            <a:pt x="989" y="687"/>
                          </a:lnTo>
                          <a:lnTo>
                            <a:pt x="930" y="846"/>
                          </a:lnTo>
                          <a:lnTo>
                            <a:pt x="892" y="785"/>
                          </a:lnTo>
                          <a:lnTo>
                            <a:pt x="810" y="725"/>
                          </a:lnTo>
                          <a:lnTo>
                            <a:pt x="709" y="702"/>
                          </a:lnTo>
                          <a:lnTo>
                            <a:pt x="672" y="680"/>
                          </a:lnTo>
                          <a:lnTo>
                            <a:pt x="642" y="650"/>
                          </a:lnTo>
                          <a:lnTo>
                            <a:pt x="619" y="709"/>
                          </a:lnTo>
                          <a:lnTo>
                            <a:pt x="552" y="829"/>
                          </a:lnTo>
                          <a:lnTo>
                            <a:pt x="492" y="919"/>
                          </a:lnTo>
                          <a:lnTo>
                            <a:pt x="488" y="933"/>
                          </a:lnTo>
                          <a:lnTo>
                            <a:pt x="480" y="945"/>
                          </a:lnTo>
                          <a:lnTo>
                            <a:pt x="470" y="950"/>
                          </a:lnTo>
                          <a:lnTo>
                            <a:pt x="461" y="967"/>
                          </a:lnTo>
                          <a:lnTo>
                            <a:pt x="448" y="1009"/>
                          </a:lnTo>
                          <a:lnTo>
                            <a:pt x="435" y="1046"/>
                          </a:lnTo>
                          <a:lnTo>
                            <a:pt x="425" y="1044"/>
                          </a:lnTo>
                          <a:lnTo>
                            <a:pt x="417" y="1046"/>
                          </a:lnTo>
                          <a:lnTo>
                            <a:pt x="402" y="1084"/>
                          </a:lnTo>
                          <a:lnTo>
                            <a:pt x="389" y="1129"/>
                          </a:lnTo>
                          <a:lnTo>
                            <a:pt x="375" y="1140"/>
                          </a:lnTo>
                          <a:lnTo>
                            <a:pt x="359" y="1147"/>
                          </a:lnTo>
                          <a:lnTo>
                            <a:pt x="337" y="1152"/>
                          </a:lnTo>
                          <a:lnTo>
                            <a:pt x="335" y="1179"/>
                          </a:lnTo>
                          <a:lnTo>
                            <a:pt x="330" y="1203"/>
                          </a:lnTo>
                          <a:lnTo>
                            <a:pt x="312" y="1223"/>
                          </a:lnTo>
                          <a:lnTo>
                            <a:pt x="291" y="1233"/>
                          </a:lnTo>
                          <a:lnTo>
                            <a:pt x="272" y="1261"/>
                          </a:lnTo>
                          <a:lnTo>
                            <a:pt x="261" y="1286"/>
                          </a:lnTo>
                          <a:lnTo>
                            <a:pt x="258" y="1308"/>
                          </a:lnTo>
                          <a:lnTo>
                            <a:pt x="250" y="1328"/>
                          </a:lnTo>
                          <a:lnTo>
                            <a:pt x="243" y="1349"/>
                          </a:lnTo>
                          <a:lnTo>
                            <a:pt x="225" y="1355"/>
                          </a:lnTo>
                          <a:lnTo>
                            <a:pt x="202" y="1359"/>
                          </a:lnTo>
                          <a:lnTo>
                            <a:pt x="194" y="1309"/>
                          </a:lnTo>
                          <a:lnTo>
                            <a:pt x="155" y="1260"/>
                          </a:lnTo>
                          <a:lnTo>
                            <a:pt x="81" y="1236"/>
                          </a:lnTo>
                          <a:lnTo>
                            <a:pt x="46" y="1220"/>
                          </a:lnTo>
                          <a:lnTo>
                            <a:pt x="0" y="1225"/>
                          </a:lnTo>
                          <a:lnTo>
                            <a:pt x="17" y="1170"/>
                          </a:lnTo>
                          <a:lnTo>
                            <a:pt x="22" y="1137"/>
                          </a:lnTo>
                          <a:lnTo>
                            <a:pt x="28" y="1101"/>
                          </a:lnTo>
                          <a:lnTo>
                            <a:pt x="40" y="1072"/>
                          </a:lnTo>
                          <a:lnTo>
                            <a:pt x="52" y="1054"/>
                          </a:lnTo>
                          <a:lnTo>
                            <a:pt x="104" y="1017"/>
                          </a:lnTo>
                          <a:lnTo>
                            <a:pt x="100" y="985"/>
                          </a:lnTo>
                          <a:lnTo>
                            <a:pt x="104" y="958"/>
                          </a:lnTo>
                          <a:lnTo>
                            <a:pt x="112" y="928"/>
                          </a:lnTo>
                          <a:lnTo>
                            <a:pt x="126" y="897"/>
                          </a:lnTo>
                          <a:lnTo>
                            <a:pt x="142" y="879"/>
                          </a:lnTo>
                          <a:lnTo>
                            <a:pt x="164" y="861"/>
                          </a:lnTo>
                          <a:lnTo>
                            <a:pt x="187" y="852"/>
                          </a:lnTo>
                          <a:lnTo>
                            <a:pt x="175" y="835"/>
                          </a:lnTo>
                          <a:lnTo>
                            <a:pt x="171" y="815"/>
                          </a:lnTo>
                          <a:lnTo>
                            <a:pt x="167" y="790"/>
                          </a:lnTo>
                          <a:lnTo>
                            <a:pt x="171" y="770"/>
                          </a:lnTo>
                          <a:lnTo>
                            <a:pt x="180" y="749"/>
                          </a:lnTo>
                          <a:lnTo>
                            <a:pt x="196" y="735"/>
                          </a:lnTo>
                          <a:lnTo>
                            <a:pt x="210" y="725"/>
                          </a:lnTo>
                          <a:lnTo>
                            <a:pt x="214" y="709"/>
                          </a:lnTo>
                          <a:lnTo>
                            <a:pt x="224" y="699"/>
                          </a:lnTo>
                          <a:lnTo>
                            <a:pt x="239" y="695"/>
                          </a:lnTo>
                          <a:lnTo>
                            <a:pt x="243" y="676"/>
                          </a:lnTo>
                          <a:lnTo>
                            <a:pt x="259" y="658"/>
                          </a:lnTo>
                          <a:lnTo>
                            <a:pt x="273" y="653"/>
                          </a:lnTo>
                          <a:lnTo>
                            <a:pt x="287" y="649"/>
                          </a:lnTo>
                          <a:lnTo>
                            <a:pt x="290" y="632"/>
                          </a:lnTo>
                          <a:lnTo>
                            <a:pt x="295" y="621"/>
                          </a:lnTo>
                          <a:lnTo>
                            <a:pt x="292" y="601"/>
                          </a:lnTo>
                          <a:lnTo>
                            <a:pt x="287" y="582"/>
                          </a:lnTo>
                          <a:lnTo>
                            <a:pt x="285" y="557"/>
                          </a:lnTo>
                          <a:lnTo>
                            <a:pt x="283" y="538"/>
                          </a:lnTo>
                          <a:lnTo>
                            <a:pt x="290" y="521"/>
                          </a:lnTo>
                          <a:lnTo>
                            <a:pt x="301" y="505"/>
                          </a:lnTo>
                          <a:lnTo>
                            <a:pt x="312" y="493"/>
                          </a:lnTo>
                          <a:lnTo>
                            <a:pt x="322" y="485"/>
                          </a:lnTo>
                          <a:lnTo>
                            <a:pt x="323" y="465"/>
                          </a:lnTo>
                          <a:lnTo>
                            <a:pt x="326" y="447"/>
                          </a:lnTo>
                          <a:lnTo>
                            <a:pt x="322" y="421"/>
                          </a:lnTo>
                          <a:lnTo>
                            <a:pt x="314" y="403"/>
                          </a:lnTo>
                          <a:lnTo>
                            <a:pt x="332" y="349"/>
                          </a:lnTo>
                          <a:lnTo>
                            <a:pt x="352" y="300"/>
                          </a:lnTo>
                          <a:lnTo>
                            <a:pt x="361" y="237"/>
                          </a:lnTo>
                          <a:lnTo>
                            <a:pt x="373" y="184"/>
                          </a:lnTo>
                          <a:lnTo>
                            <a:pt x="425" y="0"/>
                          </a:lnTo>
                          <a:close/>
                        </a:path>
                      </a:pathLst>
                    </a:custGeom>
                    <a:solidFill>
                      <a:srgbClr val="a0a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7901280" y="721440"/>
                      <a:ext cx="495360" cy="603360"/>
                      <a:chOff x="7901280" y="721440"/>
                      <a:chExt cx="495360" cy="60336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8033400" y="721440"/>
                        <a:ext cx="363240" cy="35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8" h="694">
                            <a:moveTo>
                              <a:pt x="255" y="694"/>
                            </a:moveTo>
                            <a:lnTo>
                              <a:pt x="289" y="644"/>
                            </a:lnTo>
                            <a:lnTo>
                              <a:pt x="318" y="599"/>
                            </a:lnTo>
                            <a:lnTo>
                              <a:pt x="342" y="553"/>
                            </a:lnTo>
                            <a:lnTo>
                              <a:pt x="369" y="500"/>
                            </a:lnTo>
                            <a:lnTo>
                              <a:pt x="382" y="464"/>
                            </a:lnTo>
                            <a:lnTo>
                              <a:pt x="409" y="487"/>
                            </a:lnTo>
                            <a:lnTo>
                              <a:pt x="431" y="505"/>
                            </a:lnTo>
                            <a:lnTo>
                              <a:pt x="459" y="517"/>
                            </a:lnTo>
                            <a:lnTo>
                              <a:pt x="502" y="526"/>
                            </a:lnTo>
                            <a:lnTo>
                              <a:pt x="542" y="539"/>
                            </a:lnTo>
                            <a:lnTo>
                              <a:pt x="569" y="549"/>
                            </a:lnTo>
                            <a:lnTo>
                              <a:pt x="596" y="570"/>
                            </a:lnTo>
                            <a:lnTo>
                              <a:pt x="622" y="589"/>
                            </a:lnTo>
                            <a:lnTo>
                              <a:pt x="649" y="621"/>
                            </a:lnTo>
                            <a:lnTo>
                              <a:pt x="668" y="653"/>
                            </a:lnTo>
                            <a:lnTo>
                              <a:pt x="682" y="693"/>
                            </a:lnTo>
                            <a:lnTo>
                              <a:pt x="694" y="655"/>
                            </a:lnTo>
                            <a:lnTo>
                              <a:pt x="708" y="405"/>
                            </a:lnTo>
                            <a:lnTo>
                              <a:pt x="602" y="344"/>
                            </a:lnTo>
                            <a:lnTo>
                              <a:pt x="542" y="269"/>
                            </a:lnTo>
                            <a:lnTo>
                              <a:pt x="498" y="150"/>
                            </a:lnTo>
                            <a:lnTo>
                              <a:pt x="465" y="0"/>
                            </a:lnTo>
                            <a:lnTo>
                              <a:pt x="306" y="14"/>
                            </a:lnTo>
                            <a:lnTo>
                              <a:pt x="270" y="88"/>
                            </a:lnTo>
                            <a:lnTo>
                              <a:pt x="255" y="142"/>
                            </a:lnTo>
                            <a:lnTo>
                              <a:pt x="250" y="208"/>
                            </a:lnTo>
                            <a:lnTo>
                              <a:pt x="255" y="261"/>
                            </a:lnTo>
                            <a:lnTo>
                              <a:pt x="301" y="359"/>
                            </a:lnTo>
                            <a:lnTo>
                              <a:pt x="337" y="405"/>
                            </a:lnTo>
                            <a:lnTo>
                              <a:pt x="262" y="344"/>
                            </a:lnTo>
                            <a:lnTo>
                              <a:pt x="198" y="306"/>
                            </a:lnTo>
                            <a:lnTo>
                              <a:pt x="140" y="267"/>
                            </a:lnTo>
                            <a:lnTo>
                              <a:pt x="68" y="223"/>
                            </a:lnTo>
                            <a:lnTo>
                              <a:pt x="145" y="289"/>
                            </a:lnTo>
                            <a:lnTo>
                              <a:pt x="185" y="338"/>
                            </a:lnTo>
                            <a:lnTo>
                              <a:pt x="205" y="369"/>
                            </a:lnTo>
                            <a:lnTo>
                              <a:pt x="202" y="387"/>
                            </a:lnTo>
                            <a:lnTo>
                              <a:pt x="194" y="401"/>
                            </a:lnTo>
                            <a:lnTo>
                              <a:pt x="177" y="409"/>
                            </a:lnTo>
                            <a:lnTo>
                              <a:pt x="158" y="411"/>
                            </a:lnTo>
                            <a:lnTo>
                              <a:pt x="130" y="404"/>
                            </a:lnTo>
                            <a:lnTo>
                              <a:pt x="60" y="359"/>
                            </a:lnTo>
                            <a:lnTo>
                              <a:pt x="85" y="398"/>
                            </a:lnTo>
                            <a:lnTo>
                              <a:pt x="105" y="424"/>
                            </a:lnTo>
                            <a:lnTo>
                              <a:pt x="131" y="453"/>
                            </a:lnTo>
                            <a:lnTo>
                              <a:pt x="158" y="477"/>
                            </a:lnTo>
                            <a:lnTo>
                              <a:pt x="201" y="509"/>
                            </a:lnTo>
                            <a:lnTo>
                              <a:pt x="167" y="498"/>
                            </a:lnTo>
                            <a:lnTo>
                              <a:pt x="135" y="492"/>
                            </a:lnTo>
                            <a:lnTo>
                              <a:pt x="91" y="491"/>
                            </a:lnTo>
                            <a:lnTo>
                              <a:pt x="50" y="498"/>
                            </a:lnTo>
                            <a:lnTo>
                              <a:pt x="8" y="503"/>
                            </a:lnTo>
                            <a:lnTo>
                              <a:pt x="54" y="514"/>
                            </a:lnTo>
                            <a:lnTo>
                              <a:pt x="93" y="530"/>
                            </a:lnTo>
                            <a:lnTo>
                              <a:pt x="121" y="543"/>
                            </a:lnTo>
                            <a:lnTo>
                              <a:pt x="149" y="563"/>
                            </a:lnTo>
                            <a:lnTo>
                              <a:pt x="102" y="554"/>
                            </a:lnTo>
                            <a:lnTo>
                              <a:pt x="69" y="553"/>
                            </a:lnTo>
                            <a:lnTo>
                              <a:pt x="33" y="559"/>
                            </a:lnTo>
                            <a:lnTo>
                              <a:pt x="0" y="570"/>
                            </a:lnTo>
                            <a:lnTo>
                              <a:pt x="65" y="585"/>
                            </a:lnTo>
                            <a:lnTo>
                              <a:pt x="129" y="604"/>
                            </a:lnTo>
                            <a:lnTo>
                              <a:pt x="174" y="622"/>
                            </a:lnTo>
                            <a:lnTo>
                              <a:pt x="208" y="644"/>
                            </a:lnTo>
                            <a:lnTo>
                              <a:pt x="237" y="669"/>
                            </a:lnTo>
                            <a:lnTo>
                              <a:pt x="255" y="694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7914600" y="1161720"/>
                        <a:ext cx="15552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189">
                            <a:moveTo>
                              <a:pt x="0" y="47"/>
                            </a:moveTo>
                            <a:lnTo>
                              <a:pt x="34" y="48"/>
                            </a:lnTo>
                            <a:lnTo>
                              <a:pt x="74" y="53"/>
                            </a:lnTo>
                            <a:lnTo>
                              <a:pt x="118" y="66"/>
                            </a:lnTo>
                            <a:lnTo>
                              <a:pt x="145" y="79"/>
                            </a:lnTo>
                            <a:lnTo>
                              <a:pt x="178" y="101"/>
                            </a:lnTo>
                            <a:lnTo>
                              <a:pt x="214" y="128"/>
                            </a:lnTo>
                            <a:lnTo>
                              <a:pt x="237" y="157"/>
                            </a:lnTo>
                            <a:lnTo>
                              <a:pt x="262" y="189"/>
                            </a:lnTo>
                            <a:lnTo>
                              <a:pt x="273" y="182"/>
                            </a:lnTo>
                            <a:lnTo>
                              <a:pt x="286" y="175"/>
                            </a:lnTo>
                            <a:lnTo>
                              <a:pt x="303" y="157"/>
                            </a:lnTo>
                            <a:lnTo>
                              <a:pt x="293" y="140"/>
                            </a:lnTo>
                            <a:lnTo>
                              <a:pt x="260" y="119"/>
                            </a:lnTo>
                            <a:lnTo>
                              <a:pt x="232" y="97"/>
                            </a:lnTo>
                            <a:lnTo>
                              <a:pt x="214" y="79"/>
                            </a:lnTo>
                            <a:lnTo>
                              <a:pt x="175" y="52"/>
                            </a:lnTo>
                            <a:lnTo>
                              <a:pt x="136" y="30"/>
                            </a:lnTo>
                            <a:lnTo>
                              <a:pt x="93" y="14"/>
                            </a:lnTo>
                            <a:lnTo>
                              <a:pt x="54" y="4"/>
                            </a:lnTo>
                            <a:lnTo>
                              <a:pt x="18" y="0"/>
                            </a:lnTo>
                            <a:lnTo>
                              <a:pt x="12" y="9"/>
                            </a:lnTo>
                            <a:lnTo>
                              <a:pt x="4" y="27"/>
                            </a:lnTo>
                            <a:lnTo>
                              <a:pt x="0" y="47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7982280" y="1141560"/>
                        <a:ext cx="12492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1" h="131">
                            <a:moveTo>
                              <a:pt x="0" y="10"/>
                            </a:moveTo>
                            <a:lnTo>
                              <a:pt x="41" y="23"/>
                            </a:lnTo>
                            <a:lnTo>
                              <a:pt x="81" y="39"/>
                            </a:lnTo>
                            <a:lnTo>
                              <a:pt x="112" y="56"/>
                            </a:lnTo>
                            <a:lnTo>
                              <a:pt x="146" y="78"/>
                            </a:lnTo>
                            <a:lnTo>
                              <a:pt x="174" y="101"/>
                            </a:lnTo>
                            <a:lnTo>
                              <a:pt x="204" y="131"/>
                            </a:lnTo>
                            <a:lnTo>
                              <a:pt x="219" y="127"/>
                            </a:lnTo>
                            <a:lnTo>
                              <a:pt x="233" y="115"/>
                            </a:lnTo>
                            <a:lnTo>
                              <a:pt x="240" y="101"/>
                            </a:lnTo>
                            <a:lnTo>
                              <a:pt x="241" y="81"/>
                            </a:lnTo>
                            <a:lnTo>
                              <a:pt x="224" y="69"/>
                            </a:lnTo>
                            <a:lnTo>
                              <a:pt x="206" y="64"/>
                            </a:lnTo>
                            <a:lnTo>
                              <a:pt x="184" y="60"/>
                            </a:lnTo>
                            <a:lnTo>
                              <a:pt x="161" y="51"/>
                            </a:lnTo>
                            <a:lnTo>
                              <a:pt x="141" y="36"/>
                            </a:lnTo>
                            <a:lnTo>
                              <a:pt x="119" y="20"/>
                            </a:lnTo>
                            <a:lnTo>
                              <a:pt x="90" y="6"/>
                            </a:lnTo>
                            <a:lnTo>
                              <a:pt x="67" y="2"/>
                            </a:lnTo>
                            <a:lnTo>
                              <a:pt x="48" y="0"/>
                            </a:lnTo>
                            <a:lnTo>
                              <a:pt x="23" y="2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7961040" y="1073880"/>
                        <a:ext cx="17064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5" h="161">
                            <a:moveTo>
                              <a:pt x="0" y="73"/>
                            </a:moveTo>
                            <a:lnTo>
                              <a:pt x="24" y="62"/>
                            </a:lnTo>
                            <a:lnTo>
                              <a:pt x="44" y="53"/>
                            </a:lnTo>
                            <a:lnTo>
                              <a:pt x="79" y="42"/>
                            </a:lnTo>
                            <a:lnTo>
                              <a:pt x="107" y="46"/>
                            </a:lnTo>
                            <a:lnTo>
                              <a:pt x="137" y="64"/>
                            </a:lnTo>
                            <a:lnTo>
                              <a:pt x="164" y="82"/>
                            </a:lnTo>
                            <a:lnTo>
                              <a:pt x="209" y="105"/>
                            </a:lnTo>
                            <a:lnTo>
                              <a:pt x="248" y="132"/>
                            </a:lnTo>
                            <a:lnTo>
                              <a:pt x="288" y="161"/>
                            </a:lnTo>
                            <a:lnTo>
                              <a:pt x="299" y="154"/>
                            </a:lnTo>
                            <a:lnTo>
                              <a:pt x="313" y="153"/>
                            </a:lnTo>
                            <a:lnTo>
                              <a:pt x="326" y="157"/>
                            </a:lnTo>
                            <a:lnTo>
                              <a:pt x="335" y="121"/>
                            </a:lnTo>
                            <a:lnTo>
                              <a:pt x="257" y="69"/>
                            </a:lnTo>
                            <a:lnTo>
                              <a:pt x="203" y="40"/>
                            </a:lnTo>
                            <a:lnTo>
                              <a:pt x="164" y="20"/>
                            </a:lnTo>
                            <a:lnTo>
                              <a:pt x="134" y="6"/>
                            </a:lnTo>
                            <a:lnTo>
                              <a:pt x="103" y="0"/>
                            </a:lnTo>
                            <a:lnTo>
                              <a:pt x="74" y="4"/>
                            </a:lnTo>
                            <a:lnTo>
                              <a:pt x="49" y="16"/>
                            </a:lnTo>
                            <a:lnTo>
                              <a:pt x="24" y="40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7987320" y="1009080"/>
                        <a:ext cx="115200" cy="7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5" h="152">
                            <a:moveTo>
                              <a:pt x="0" y="23"/>
                            </a:moveTo>
                            <a:lnTo>
                              <a:pt x="3" y="50"/>
                            </a:lnTo>
                            <a:lnTo>
                              <a:pt x="10" y="72"/>
                            </a:lnTo>
                            <a:lnTo>
                              <a:pt x="21" y="87"/>
                            </a:lnTo>
                            <a:lnTo>
                              <a:pt x="39" y="95"/>
                            </a:lnTo>
                            <a:lnTo>
                              <a:pt x="116" y="89"/>
                            </a:lnTo>
                            <a:lnTo>
                              <a:pt x="147" y="112"/>
                            </a:lnTo>
                            <a:lnTo>
                              <a:pt x="184" y="132"/>
                            </a:lnTo>
                            <a:lnTo>
                              <a:pt x="225" y="152"/>
                            </a:lnTo>
                            <a:lnTo>
                              <a:pt x="196" y="116"/>
                            </a:lnTo>
                            <a:lnTo>
                              <a:pt x="163" y="87"/>
                            </a:lnTo>
                            <a:lnTo>
                              <a:pt x="133" y="59"/>
                            </a:lnTo>
                            <a:lnTo>
                              <a:pt x="93" y="39"/>
                            </a:lnTo>
                            <a:lnTo>
                              <a:pt x="64" y="17"/>
                            </a:lnTo>
                            <a:lnTo>
                              <a:pt x="44" y="4"/>
                            </a:lnTo>
                            <a:lnTo>
                              <a:pt x="23" y="0"/>
                            </a:lnTo>
                            <a:lnTo>
                              <a:pt x="6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7901280" y="1242000"/>
                        <a:ext cx="11376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162">
                            <a:moveTo>
                              <a:pt x="0" y="6"/>
                            </a:moveTo>
                            <a:lnTo>
                              <a:pt x="21" y="7"/>
                            </a:lnTo>
                            <a:lnTo>
                              <a:pt x="48" y="12"/>
                            </a:lnTo>
                            <a:lnTo>
                              <a:pt x="78" y="22"/>
                            </a:lnTo>
                            <a:lnTo>
                              <a:pt x="105" y="34"/>
                            </a:lnTo>
                            <a:lnTo>
                              <a:pt x="145" y="51"/>
                            </a:lnTo>
                            <a:lnTo>
                              <a:pt x="166" y="64"/>
                            </a:lnTo>
                            <a:lnTo>
                              <a:pt x="186" y="82"/>
                            </a:lnTo>
                            <a:lnTo>
                              <a:pt x="197" y="100"/>
                            </a:lnTo>
                            <a:lnTo>
                              <a:pt x="202" y="122"/>
                            </a:lnTo>
                            <a:lnTo>
                              <a:pt x="206" y="149"/>
                            </a:lnTo>
                            <a:lnTo>
                              <a:pt x="205" y="162"/>
                            </a:lnTo>
                            <a:lnTo>
                              <a:pt x="218" y="145"/>
                            </a:lnTo>
                            <a:lnTo>
                              <a:pt x="223" y="121"/>
                            </a:lnTo>
                            <a:lnTo>
                              <a:pt x="220" y="97"/>
                            </a:lnTo>
                            <a:lnTo>
                              <a:pt x="206" y="74"/>
                            </a:lnTo>
                            <a:lnTo>
                              <a:pt x="187" y="52"/>
                            </a:lnTo>
                            <a:lnTo>
                              <a:pt x="161" y="33"/>
                            </a:lnTo>
                            <a:lnTo>
                              <a:pt x="121" y="15"/>
                            </a:lnTo>
                            <a:lnTo>
                              <a:pt x="81" y="3"/>
                            </a:lnTo>
                            <a:lnTo>
                              <a:pt x="57" y="1"/>
                            </a:lnTo>
                            <a:lnTo>
                              <a:pt x="25" y="0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606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8082720" y="757800"/>
                        <a:ext cx="121320" cy="16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9" h="330">
                            <a:moveTo>
                              <a:pt x="0" y="0"/>
                            </a:moveTo>
                            <a:lnTo>
                              <a:pt x="54" y="52"/>
                            </a:lnTo>
                            <a:lnTo>
                              <a:pt x="97" y="115"/>
                            </a:lnTo>
                            <a:lnTo>
                              <a:pt x="139" y="193"/>
                            </a:lnTo>
                            <a:lnTo>
                              <a:pt x="239" y="323"/>
                            </a:lnTo>
                            <a:lnTo>
                              <a:pt x="237" y="330"/>
                            </a:lnTo>
                            <a:lnTo>
                              <a:pt x="181" y="279"/>
                            </a:lnTo>
                            <a:lnTo>
                              <a:pt x="142" y="238"/>
                            </a:lnTo>
                            <a:lnTo>
                              <a:pt x="96" y="188"/>
                            </a:lnTo>
                            <a:lnTo>
                              <a:pt x="54" y="121"/>
                            </a:lnTo>
                            <a:lnTo>
                              <a:pt x="29" y="6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6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7948440" y="1152360"/>
                        <a:ext cx="1263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7" h="195">
                            <a:moveTo>
                              <a:pt x="247" y="119"/>
                            </a:moveTo>
                            <a:lnTo>
                              <a:pt x="209" y="71"/>
                            </a:lnTo>
                            <a:lnTo>
                              <a:pt x="181" y="48"/>
                            </a:lnTo>
                            <a:lnTo>
                              <a:pt x="137" y="24"/>
                            </a:lnTo>
                            <a:lnTo>
                              <a:pt x="101" y="9"/>
                            </a:lnTo>
                            <a:lnTo>
                              <a:pt x="57" y="3"/>
                            </a:lnTo>
                            <a:lnTo>
                              <a:pt x="27" y="0"/>
                            </a:lnTo>
                            <a:lnTo>
                              <a:pt x="11" y="3"/>
                            </a:lnTo>
                            <a:lnTo>
                              <a:pt x="0" y="9"/>
                            </a:lnTo>
                            <a:lnTo>
                              <a:pt x="3" y="21"/>
                            </a:lnTo>
                            <a:lnTo>
                              <a:pt x="17" y="33"/>
                            </a:lnTo>
                            <a:lnTo>
                              <a:pt x="57" y="52"/>
                            </a:lnTo>
                            <a:lnTo>
                              <a:pt x="96" y="75"/>
                            </a:lnTo>
                            <a:lnTo>
                              <a:pt x="141" y="106"/>
                            </a:lnTo>
                            <a:lnTo>
                              <a:pt x="173" y="136"/>
                            </a:lnTo>
                            <a:lnTo>
                              <a:pt x="197" y="165"/>
                            </a:lnTo>
                            <a:lnTo>
                              <a:pt x="218" y="195"/>
                            </a:lnTo>
                            <a:lnTo>
                              <a:pt x="229" y="178"/>
                            </a:lnTo>
                            <a:lnTo>
                              <a:pt x="241" y="168"/>
                            </a:lnTo>
                            <a:lnTo>
                              <a:pt x="246" y="151"/>
                            </a:lnTo>
                            <a:lnTo>
                              <a:pt x="247" y="137"/>
                            </a:lnTo>
                            <a:lnTo>
                              <a:pt x="247" y="119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7976520" y="1112400"/>
                        <a:ext cx="13968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3" h="149">
                            <a:moveTo>
                              <a:pt x="0" y="47"/>
                            </a:moveTo>
                            <a:lnTo>
                              <a:pt x="32" y="41"/>
                            </a:lnTo>
                            <a:lnTo>
                              <a:pt x="62" y="47"/>
                            </a:lnTo>
                            <a:lnTo>
                              <a:pt x="97" y="56"/>
                            </a:lnTo>
                            <a:lnTo>
                              <a:pt x="126" y="69"/>
                            </a:lnTo>
                            <a:lnTo>
                              <a:pt x="156" y="82"/>
                            </a:lnTo>
                            <a:lnTo>
                              <a:pt x="185" y="105"/>
                            </a:lnTo>
                            <a:lnTo>
                              <a:pt x="196" y="122"/>
                            </a:lnTo>
                            <a:lnTo>
                              <a:pt x="215" y="135"/>
                            </a:lnTo>
                            <a:lnTo>
                              <a:pt x="233" y="145"/>
                            </a:lnTo>
                            <a:lnTo>
                              <a:pt x="251" y="149"/>
                            </a:lnTo>
                            <a:lnTo>
                              <a:pt x="264" y="128"/>
                            </a:lnTo>
                            <a:lnTo>
                              <a:pt x="269" y="109"/>
                            </a:lnTo>
                            <a:lnTo>
                              <a:pt x="273" y="88"/>
                            </a:lnTo>
                            <a:lnTo>
                              <a:pt x="204" y="40"/>
                            </a:lnTo>
                            <a:lnTo>
                              <a:pt x="166" y="19"/>
                            </a:lnTo>
                            <a:lnTo>
                              <a:pt x="126" y="5"/>
                            </a:lnTo>
                            <a:lnTo>
                              <a:pt x="93" y="0"/>
                            </a:lnTo>
                            <a:lnTo>
                              <a:pt x="71" y="2"/>
                            </a:lnTo>
                            <a:lnTo>
                              <a:pt x="48" y="11"/>
                            </a:lnTo>
                            <a:lnTo>
                              <a:pt x="26" y="27"/>
                            </a:lnTo>
                            <a:lnTo>
                              <a:pt x="0" y="47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7968960" y="1003320"/>
                        <a:ext cx="170640" cy="14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291">
                            <a:moveTo>
                              <a:pt x="0" y="160"/>
                            </a:moveTo>
                            <a:lnTo>
                              <a:pt x="34" y="157"/>
                            </a:lnTo>
                            <a:lnTo>
                              <a:pt x="64" y="158"/>
                            </a:lnTo>
                            <a:lnTo>
                              <a:pt x="108" y="163"/>
                            </a:lnTo>
                            <a:lnTo>
                              <a:pt x="150" y="176"/>
                            </a:lnTo>
                            <a:lnTo>
                              <a:pt x="193" y="193"/>
                            </a:lnTo>
                            <a:lnTo>
                              <a:pt x="235" y="215"/>
                            </a:lnTo>
                            <a:lnTo>
                              <a:pt x="269" y="234"/>
                            </a:lnTo>
                            <a:lnTo>
                              <a:pt x="294" y="261"/>
                            </a:lnTo>
                            <a:lnTo>
                              <a:pt x="311" y="291"/>
                            </a:lnTo>
                            <a:lnTo>
                              <a:pt x="325" y="252"/>
                            </a:lnTo>
                            <a:lnTo>
                              <a:pt x="334" y="218"/>
                            </a:lnTo>
                            <a:lnTo>
                              <a:pt x="333" y="192"/>
                            </a:lnTo>
                            <a:lnTo>
                              <a:pt x="327" y="167"/>
                            </a:lnTo>
                            <a:lnTo>
                              <a:pt x="311" y="144"/>
                            </a:lnTo>
                            <a:lnTo>
                              <a:pt x="319" y="120"/>
                            </a:lnTo>
                            <a:lnTo>
                              <a:pt x="315" y="91"/>
                            </a:lnTo>
                            <a:lnTo>
                              <a:pt x="283" y="76"/>
                            </a:lnTo>
                            <a:lnTo>
                              <a:pt x="244" y="66"/>
                            </a:lnTo>
                            <a:lnTo>
                              <a:pt x="202" y="53"/>
                            </a:lnTo>
                            <a:lnTo>
                              <a:pt x="164" y="37"/>
                            </a:lnTo>
                            <a:lnTo>
                              <a:pt x="119" y="16"/>
                            </a:lnTo>
                            <a:lnTo>
                              <a:pt x="91" y="5"/>
                            </a:lnTo>
                            <a:lnTo>
                              <a:pt x="73" y="0"/>
                            </a:lnTo>
                            <a:lnTo>
                              <a:pt x="60" y="5"/>
                            </a:lnTo>
                            <a:lnTo>
                              <a:pt x="50" y="14"/>
                            </a:lnTo>
                            <a:lnTo>
                              <a:pt x="46" y="28"/>
                            </a:lnTo>
                            <a:lnTo>
                              <a:pt x="46" y="44"/>
                            </a:lnTo>
                            <a:lnTo>
                              <a:pt x="54" y="58"/>
                            </a:lnTo>
                            <a:lnTo>
                              <a:pt x="82" y="68"/>
                            </a:lnTo>
                            <a:lnTo>
                              <a:pt x="121" y="76"/>
                            </a:lnTo>
                            <a:lnTo>
                              <a:pt x="182" y="90"/>
                            </a:lnTo>
                            <a:lnTo>
                              <a:pt x="222" y="98"/>
                            </a:lnTo>
                            <a:lnTo>
                              <a:pt x="274" y="106"/>
                            </a:lnTo>
                            <a:lnTo>
                              <a:pt x="228" y="108"/>
                            </a:lnTo>
                            <a:lnTo>
                              <a:pt x="179" y="112"/>
                            </a:lnTo>
                            <a:lnTo>
                              <a:pt x="132" y="120"/>
                            </a:lnTo>
                            <a:lnTo>
                              <a:pt x="94" y="127"/>
                            </a:lnTo>
                            <a:lnTo>
                              <a:pt x="47" y="140"/>
                            </a:lnTo>
                            <a:lnTo>
                              <a:pt x="0" y="16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21" name=""/>
                <p:cNvSpPr/>
                <p:nvPr/>
              </p:nvSpPr>
              <p:spPr>
                <a:xfrm>
                  <a:off x="8180280" y="701280"/>
                  <a:ext cx="209520" cy="225000"/>
                </a:xfrm>
                <a:custGeom>
                  <a:avLst/>
                  <a:gdLst/>
                  <a:ahLst/>
                  <a:rect l="l" t="t" r="r" b="b"/>
                  <a:pathLst>
                    <a:path w="408" h="439">
                      <a:moveTo>
                        <a:pt x="0" y="150"/>
                      </a:moveTo>
                      <a:lnTo>
                        <a:pt x="6" y="101"/>
                      </a:lnTo>
                      <a:lnTo>
                        <a:pt x="16" y="68"/>
                      </a:lnTo>
                      <a:lnTo>
                        <a:pt x="78" y="0"/>
                      </a:lnTo>
                      <a:lnTo>
                        <a:pt x="255" y="144"/>
                      </a:lnTo>
                      <a:lnTo>
                        <a:pt x="293" y="198"/>
                      </a:lnTo>
                      <a:lnTo>
                        <a:pt x="323" y="250"/>
                      </a:lnTo>
                      <a:lnTo>
                        <a:pt x="400" y="310"/>
                      </a:lnTo>
                      <a:lnTo>
                        <a:pt x="408" y="439"/>
                      </a:lnTo>
                      <a:lnTo>
                        <a:pt x="369" y="427"/>
                      </a:lnTo>
                      <a:lnTo>
                        <a:pt x="337" y="411"/>
                      </a:lnTo>
                      <a:lnTo>
                        <a:pt x="307" y="391"/>
                      </a:lnTo>
                      <a:lnTo>
                        <a:pt x="283" y="364"/>
                      </a:lnTo>
                      <a:lnTo>
                        <a:pt x="262" y="332"/>
                      </a:lnTo>
                      <a:lnTo>
                        <a:pt x="240" y="292"/>
                      </a:lnTo>
                      <a:lnTo>
                        <a:pt x="222" y="251"/>
                      </a:lnTo>
                      <a:lnTo>
                        <a:pt x="206" y="196"/>
                      </a:lnTo>
                      <a:lnTo>
                        <a:pt x="193" y="144"/>
                      </a:lnTo>
                      <a:lnTo>
                        <a:pt x="90" y="135"/>
                      </a:lnTo>
                      <a:lnTo>
                        <a:pt x="18" y="139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8233920" y="579600"/>
                <a:ext cx="275400" cy="275400"/>
                <a:chOff x="8233920" y="579600"/>
                <a:chExt cx="275400" cy="2754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8233920" y="579600"/>
                  <a:ext cx="275400" cy="271080"/>
                </a:xfrm>
                <a:custGeom>
                  <a:avLst/>
                  <a:gdLst/>
                  <a:ahLst/>
                  <a:rect l="l" t="t" r="r" b="b"/>
                  <a:pathLst>
                    <a:path w="538" h="529">
                      <a:moveTo>
                        <a:pt x="282" y="529"/>
                      </a:moveTo>
                      <a:lnTo>
                        <a:pt x="229" y="499"/>
                      </a:lnTo>
                      <a:lnTo>
                        <a:pt x="192" y="447"/>
                      </a:lnTo>
                      <a:lnTo>
                        <a:pt x="177" y="409"/>
                      </a:lnTo>
                      <a:lnTo>
                        <a:pt x="153" y="408"/>
                      </a:lnTo>
                      <a:lnTo>
                        <a:pt x="124" y="402"/>
                      </a:lnTo>
                      <a:lnTo>
                        <a:pt x="74" y="382"/>
                      </a:lnTo>
                      <a:lnTo>
                        <a:pt x="38" y="359"/>
                      </a:lnTo>
                      <a:lnTo>
                        <a:pt x="0" y="333"/>
                      </a:lnTo>
                      <a:lnTo>
                        <a:pt x="16" y="323"/>
                      </a:lnTo>
                      <a:lnTo>
                        <a:pt x="54" y="279"/>
                      </a:lnTo>
                      <a:lnTo>
                        <a:pt x="88" y="240"/>
                      </a:lnTo>
                      <a:lnTo>
                        <a:pt x="123" y="192"/>
                      </a:lnTo>
                      <a:lnTo>
                        <a:pt x="161" y="135"/>
                      </a:lnTo>
                      <a:lnTo>
                        <a:pt x="180" y="89"/>
                      </a:lnTo>
                      <a:lnTo>
                        <a:pt x="200" y="0"/>
                      </a:lnTo>
                      <a:lnTo>
                        <a:pt x="538" y="53"/>
                      </a:lnTo>
                      <a:lnTo>
                        <a:pt x="282" y="5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295480" y="670320"/>
                  <a:ext cx="104040" cy="184680"/>
                </a:xfrm>
                <a:custGeom>
                  <a:avLst/>
                  <a:gdLst/>
                  <a:ahLst/>
                  <a:rect l="l" t="t" r="r" b="b"/>
                  <a:pathLst>
                    <a:path w="204" h="359">
                      <a:moveTo>
                        <a:pt x="152" y="350"/>
                      </a:moveTo>
                      <a:lnTo>
                        <a:pt x="175" y="359"/>
                      </a:lnTo>
                      <a:lnTo>
                        <a:pt x="156" y="325"/>
                      </a:lnTo>
                      <a:lnTo>
                        <a:pt x="150" y="300"/>
                      </a:lnTo>
                      <a:lnTo>
                        <a:pt x="146" y="262"/>
                      </a:lnTo>
                      <a:lnTo>
                        <a:pt x="150" y="222"/>
                      </a:lnTo>
                      <a:lnTo>
                        <a:pt x="155" y="179"/>
                      </a:lnTo>
                      <a:lnTo>
                        <a:pt x="164" y="139"/>
                      </a:lnTo>
                      <a:lnTo>
                        <a:pt x="175" y="105"/>
                      </a:lnTo>
                      <a:lnTo>
                        <a:pt x="187" y="78"/>
                      </a:lnTo>
                      <a:lnTo>
                        <a:pt x="195" y="40"/>
                      </a:lnTo>
                      <a:lnTo>
                        <a:pt x="204" y="0"/>
                      </a:lnTo>
                      <a:lnTo>
                        <a:pt x="173" y="40"/>
                      </a:lnTo>
                      <a:lnTo>
                        <a:pt x="150" y="71"/>
                      </a:lnTo>
                      <a:lnTo>
                        <a:pt x="129" y="100"/>
                      </a:lnTo>
                      <a:lnTo>
                        <a:pt x="110" y="131"/>
                      </a:lnTo>
                      <a:lnTo>
                        <a:pt x="84" y="148"/>
                      </a:lnTo>
                      <a:lnTo>
                        <a:pt x="57" y="170"/>
                      </a:lnTo>
                      <a:lnTo>
                        <a:pt x="27" y="195"/>
                      </a:lnTo>
                      <a:lnTo>
                        <a:pt x="0" y="222"/>
                      </a:lnTo>
                      <a:lnTo>
                        <a:pt x="38" y="231"/>
                      </a:lnTo>
                      <a:lnTo>
                        <a:pt x="49" y="249"/>
                      </a:lnTo>
                      <a:lnTo>
                        <a:pt x="61" y="269"/>
                      </a:lnTo>
                      <a:lnTo>
                        <a:pt x="76" y="289"/>
                      </a:lnTo>
                      <a:lnTo>
                        <a:pt x="93" y="307"/>
                      </a:lnTo>
                      <a:lnTo>
                        <a:pt x="110" y="323"/>
                      </a:lnTo>
                      <a:lnTo>
                        <a:pt x="132" y="336"/>
                      </a:lnTo>
                      <a:lnTo>
                        <a:pt x="152" y="35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8290800" y="647280"/>
                  <a:ext cx="75240" cy="138600"/>
                </a:xfrm>
                <a:custGeom>
                  <a:avLst/>
                  <a:gdLst/>
                  <a:ahLst/>
                  <a:rect l="l" t="t" r="r" b="b"/>
                  <a:pathLst>
                    <a:path w="147" h="271">
                      <a:moveTo>
                        <a:pt x="147" y="148"/>
                      </a:moveTo>
                      <a:lnTo>
                        <a:pt x="126" y="145"/>
                      </a:lnTo>
                      <a:lnTo>
                        <a:pt x="107" y="140"/>
                      </a:lnTo>
                      <a:lnTo>
                        <a:pt x="102" y="121"/>
                      </a:lnTo>
                      <a:lnTo>
                        <a:pt x="104" y="95"/>
                      </a:lnTo>
                      <a:lnTo>
                        <a:pt x="109" y="65"/>
                      </a:lnTo>
                      <a:lnTo>
                        <a:pt x="115" y="40"/>
                      </a:lnTo>
                      <a:lnTo>
                        <a:pt x="118" y="19"/>
                      </a:lnTo>
                      <a:lnTo>
                        <a:pt x="124" y="0"/>
                      </a:lnTo>
                      <a:lnTo>
                        <a:pt x="107" y="5"/>
                      </a:lnTo>
                      <a:lnTo>
                        <a:pt x="91" y="15"/>
                      </a:lnTo>
                      <a:lnTo>
                        <a:pt x="77" y="31"/>
                      </a:lnTo>
                      <a:lnTo>
                        <a:pt x="67" y="46"/>
                      </a:lnTo>
                      <a:lnTo>
                        <a:pt x="60" y="65"/>
                      </a:lnTo>
                      <a:lnTo>
                        <a:pt x="59" y="91"/>
                      </a:lnTo>
                      <a:lnTo>
                        <a:pt x="42" y="107"/>
                      </a:lnTo>
                      <a:lnTo>
                        <a:pt x="28" y="130"/>
                      </a:lnTo>
                      <a:lnTo>
                        <a:pt x="14" y="159"/>
                      </a:lnTo>
                      <a:lnTo>
                        <a:pt x="6" y="197"/>
                      </a:lnTo>
                      <a:lnTo>
                        <a:pt x="3" y="237"/>
                      </a:lnTo>
                      <a:lnTo>
                        <a:pt x="0" y="269"/>
                      </a:lnTo>
                      <a:lnTo>
                        <a:pt x="14" y="271"/>
                      </a:lnTo>
                      <a:lnTo>
                        <a:pt x="124" y="181"/>
                      </a:lnTo>
                      <a:lnTo>
                        <a:pt x="147" y="148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8355600" y="533520"/>
                <a:ext cx="438840" cy="713160"/>
                <a:chOff x="8355600" y="533520"/>
                <a:chExt cx="438840" cy="713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8355600" y="533520"/>
                  <a:ext cx="438840" cy="713160"/>
                </a:xfrm>
                <a:custGeom>
                  <a:avLst/>
                  <a:gdLst/>
                  <a:ahLst/>
                  <a:rect l="l" t="t" r="r" b="b"/>
                  <a:pathLst>
                    <a:path w="853" h="1389">
                      <a:moveTo>
                        <a:pt x="56" y="8"/>
                      </a:moveTo>
                      <a:lnTo>
                        <a:pt x="83" y="124"/>
                      </a:lnTo>
                      <a:lnTo>
                        <a:pt x="87" y="169"/>
                      </a:lnTo>
                      <a:lnTo>
                        <a:pt x="75" y="300"/>
                      </a:lnTo>
                      <a:lnTo>
                        <a:pt x="43" y="349"/>
                      </a:lnTo>
                      <a:lnTo>
                        <a:pt x="27" y="403"/>
                      </a:lnTo>
                      <a:lnTo>
                        <a:pt x="22" y="397"/>
                      </a:lnTo>
                      <a:lnTo>
                        <a:pt x="0" y="470"/>
                      </a:lnTo>
                      <a:lnTo>
                        <a:pt x="17" y="621"/>
                      </a:lnTo>
                      <a:lnTo>
                        <a:pt x="22" y="791"/>
                      </a:lnTo>
                      <a:lnTo>
                        <a:pt x="17" y="843"/>
                      </a:lnTo>
                      <a:lnTo>
                        <a:pt x="18" y="906"/>
                      </a:lnTo>
                      <a:lnTo>
                        <a:pt x="25" y="971"/>
                      </a:lnTo>
                      <a:lnTo>
                        <a:pt x="56" y="1112"/>
                      </a:lnTo>
                      <a:lnTo>
                        <a:pt x="100" y="1180"/>
                      </a:lnTo>
                      <a:lnTo>
                        <a:pt x="137" y="1210"/>
                      </a:lnTo>
                      <a:lnTo>
                        <a:pt x="129" y="1292"/>
                      </a:lnTo>
                      <a:lnTo>
                        <a:pt x="196" y="1330"/>
                      </a:lnTo>
                      <a:lnTo>
                        <a:pt x="278" y="1353"/>
                      </a:lnTo>
                      <a:lnTo>
                        <a:pt x="376" y="1337"/>
                      </a:lnTo>
                      <a:lnTo>
                        <a:pt x="421" y="1316"/>
                      </a:lnTo>
                      <a:lnTo>
                        <a:pt x="436" y="1359"/>
                      </a:lnTo>
                      <a:lnTo>
                        <a:pt x="541" y="1367"/>
                      </a:lnTo>
                      <a:lnTo>
                        <a:pt x="669" y="1389"/>
                      </a:lnTo>
                      <a:lnTo>
                        <a:pt x="778" y="1367"/>
                      </a:lnTo>
                      <a:lnTo>
                        <a:pt x="853" y="1323"/>
                      </a:lnTo>
                      <a:lnTo>
                        <a:pt x="853" y="617"/>
                      </a:lnTo>
                      <a:lnTo>
                        <a:pt x="805" y="559"/>
                      </a:lnTo>
                      <a:lnTo>
                        <a:pt x="770" y="511"/>
                      </a:lnTo>
                      <a:lnTo>
                        <a:pt x="710" y="404"/>
                      </a:lnTo>
                      <a:lnTo>
                        <a:pt x="696" y="348"/>
                      </a:lnTo>
                      <a:lnTo>
                        <a:pt x="674" y="285"/>
                      </a:lnTo>
                      <a:lnTo>
                        <a:pt x="642" y="222"/>
                      </a:lnTo>
                      <a:lnTo>
                        <a:pt x="607" y="169"/>
                      </a:lnTo>
                      <a:lnTo>
                        <a:pt x="558" y="116"/>
                      </a:lnTo>
                      <a:lnTo>
                        <a:pt x="518" y="81"/>
                      </a:lnTo>
                      <a:lnTo>
                        <a:pt x="472" y="53"/>
                      </a:lnTo>
                      <a:lnTo>
                        <a:pt x="428" y="31"/>
                      </a:lnTo>
                      <a:lnTo>
                        <a:pt x="363" y="13"/>
                      </a:lnTo>
                      <a:lnTo>
                        <a:pt x="302" y="2"/>
                      </a:lnTo>
                      <a:lnTo>
                        <a:pt x="242" y="0"/>
                      </a:lnTo>
                      <a:lnTo>
                        <a:pt x="188" y="2"/>
                      </a:lnTo>
                      <a:lnTo>
                        <a:pt x="56" y="8"/>
                      </a:lnTo>
                      <a:close/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8357040" y="537840"/>
                  <a:ext cx="435240" cy="692640"/>
                  <a:chOff x="8357040" y="537840"/>
                  <a:chExt cx="435240" cy="6926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8561520" y="984240"/>
                    <a:ext cx="107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425">
                        <a:moveTo>
                          <a:pt x="168" y="40"/>
                        </a:moveTo>
                        <a:lnTo>
                          <a:pt x="109" y="92"/>
                        </a:lnTo>
                        <a:lnTo>
                          <a:pt x="44" y="171"/>
                        </a:lnTo>
                        <a:lnTo>
                          <a:pt x="47" y="208"/>
                        </a:lnTo>
                        <a:lnTo>
                          <a:pt x="4" y="294"/>
                        </a:lnTo>
                        <a:lnTo>
                          <a:pt x="0" y="388"/>
                        </a:lnTo>
                        <a:lnTo>
                          <a:pt x="15" y="425"/>
                        </a:lnTo>
                        <a:lnTo>
                          <a:pt x="18" y="393"/>
                        </a:lnTo>
                        <a:lnTo>
                          <a:pt x="19" y="365"/>
                        </a:lnTo>
                        <a:lnTo>
                          <a:pt x="28" y="335"/>
                        </a:lnTo>
                        <a:lnTo>
                          <a:pt x="36" y="307"/>
                        </a:lnTo>
                        <a:lnTo>
                          <a:pt x="38" y="290"/>
                        </a:lnTo>
                        <a:lnTo>
                          <a:pt x="55" y="277"/>
                        </a:lnTo>
                        <a:lnTo>
                          <a:pt x="56" y="255"/>
                        </a:lnTo>
                        <a:lnTo>
                          <a:pt x="67" y="232"/>
                        </a:lnTo>
                        <a:lnTo>
                          <a:pt x="80" y="213"/>
                        </a:lnTo>
                        <a:lnTo>
                          <a:pt x="96" y="201"/>
                        </a:lnTo>
                        <a:lnTo>
                          <a:pt x="90" y="182"/>
                        </a:lnTo>
                        <a:lnTo>
                          <a:pt x="113" y="164"/>
                        </a:lnTo>
                        <a:lnTo>
                          <a:pt x="129" y="141"/>
                        </a:lnTo>
                        <a:lnTo>
                          <a:pt x="138" y="115"/>
                        </a:lnTo>
                        <a:lnTo>
                          <a:pt x="161" y="102"/>
                        </a:lnTo>
                        <a:lnTo>
                          <a:pt x="183" y="84"/>
                        </a:lnTo>
                        <a:lnTo>
                          <a:pt x="196" y="60"/>
                        </a:lnTo>
                        <a:lnTo>
                          <a:pt x="207" y="30"/>
                        </a:lnTo>
                        <a:lnTo>
                          <a:pt x="210" y="0"/>
                        </a:lnTo>
                        <a:lnTo>
                          <a:pt x="168" y="40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8618760" y="739440"/>
                    <a:ext cx="12456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445">
                        <a:moveTo>
                          <a:pt x="0" y="346"/>
                        </a:moveTo>
                        <a:lnTo>
                          <a:pt x="86" y="248"/>
                        </a:lnTo>
                        <a:lnTo>
                          <a:pt x="106" y="198"/>
                        </a:lnTo>
                        <a:lnTo>
                          <a:pt x="117" y="157"/>
                        </a:lnTo>
                        <a:lnTo>
                          <a:pt x="131" y="100"/>
                        </a:lnTo>
                        <a:lnTo>
                          <a:pt x="139" y="46"/>
                        </a:lnTo>
                        <a:lnTo>
                          <a:pt x="140" y="0"/>
                        </a:lnTo>
                        <a:lnTo>
                          <a:pt x="162" y="37"/>
                        </a:lnTo>
                        <a:lnTo>
                          <a:pt x="176" y="75"/>
                        </a:lnTo>
                        <a:lnTo>
                          <a:pt x="181" y="111"/>
                        </a:lnTo>
                        <a:lnTo>
                          <a:pt x="184" y="143"/>
                        </a:lnTo>
                        <a:lnTo>
                          <a:pt x="211" y="147"/>
                        </a:lnTo>
                        <a:lnTo>
                          <a:pt x="229" y="156"/>
                        </a:lnTo>
                        <a:lnTo>
                          <a:pt x="238" y="174"/>
                        </a:lnTo>
                        <a:lnTo>
                          <a:pt x="243" y="193"/>
                        </a:lnTo>
                        <a:lnTo>
                          <a:pt x="240" y="215"/>
                        </a:lnTo>
                        <a:lnTo>
                          <a:pt x="226" y="241"/>
                        </a:lnTo>
                        <a:lnTo>
                          <a:pt x="199" y="280"/>
                        </a:lnTo>
                        <a:lnTo>
                          <a:pt x="155" y="332"/>
                        </a:lnTo>
                        <a:lnTo>
                          <a:pt x="47" y="445"/>
                        </a:lnTo>
                        <a:lnTo>
                          <a:pt x="0" y="346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8683200" y="903960"/>
                    <a:ext cx="1090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44">
                        <a:moveTo>
                          <a:pt x="16" y="0"/>
                        </a:moveTo>
                        <a:lnTo>
                          <a:pt x="213" y="206"/>
                        </a:lnTo>
                        <a:lnTo>
                          <a:pt x="213" y="244"/>
                        </a:lnTo>
                        <a:lnTo>
                          <a:pt x="0" y="1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8363160" y="543960"/>
                    <a:ext cx="16128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2">
                        <a:moveTo>
                          <a:pt x="25" y="502"/>
                        </a:moveTo>
                        <a:lnTo>
                          <a:pt x="30" y="447"/>
                        </a:lnTo>
                        <a:lnTo>
                          <a:pt x="41" y="395"/>
                        </a:lnTo>
                        <a:lnTo>
                          <a:pt x="52" y="359"/>
                        </a:lnTo>
                        <a:lnTo>
                          <a:pt x="68" y="329"/>
                        </a:lnTo>
                        <a:lnTo>
                          <a:pt x="95" y="292"/>
                        </a:lnTo>
                        <a:lnTo>
                          <a:pt x="131" y="259"/>
                        </a:lnTo>
                        <a:lnTo>
                          <a:pt x="166" y="234"/>
                        </a:lnTo>
                        <a:lnTo>
                          <a:pt x="208" y="202"/>
                        </a:lnTo>
                        <a:lnTo>
                          <a:pt x="235" y="170"/>
                        </a:lnTo>
                        <a:lnTo>
                          <a:pt x="253" y="138"/>
                        </a:lnTo>
                        <a:lnTo>
                          <a:pt x="249" y="103"/>
                        </a:lnTo>
                        <a:lnTo>
                          <a:pt x="258" y="67"/>
                        </a:lnTo>
                        <a:lnTo>
                          <a:pt x="276" y="33"/>
                        </a:lnTo>
                        <a:lnTo>
                          <a:pt x="289" y="17"/>
                        </a:lnTo>
                        <a:lnTo>
                          <a:pt x="315" y="3"/>
                        </a:lnTo>
                        <a:lnTo>
                          <a:pt x="298" y="0"/>
                        </a:lnTo>
                        <a:lnTo>
                          <a:pt x="283" y="3"/>
                        </a:lnTo>
                        <a:lnTo>
                          <a:pt x="254" y="12"/>
                        </a:lnTo>
                        <a:lnTo>
                          <a:pt x="230" y="27"/>
                        </a:lnTo>
                        <a:lnTo>
                          <a:pt x="211" y="50"/>
                        </a:lnTo>
                        <a:lnTo>
                          <a:pt x="194" y="81"/>
                        </a:lnTo>
                        <a:lnTo>
                          <a:pt x="168" y="116"/>
                        </a:lnTo>
                        <a:lnTo>
                          <a:pt x="145" y="144"/>
                        </a:lnTo>
                        <a:lnTo>
                          <a:pt x="112" y="165"/>
                        </a:lnTo>
                        <a:lnTo>
                          <a:pt x="72" y="179"/>
                        </a:lnTo>
                        <a:lnTo>
                          <a:pt x="67" y="232"/>
                        </a:lnTo>
                        <a:lnTo>
                          <a:pt x="63" y="281"/>
                        </a:lnTo>
                        <a:lnTo>
                          <a:pt x="29" y="328"/>
                        </a:lnTo>
                        <a:lnTo>
                          <a:pt x="11" y="367"/>
                        </a:lnTo>
                        <a:lnTo>
                          <a:pt x="0" y="419"/>
                        </a:lnTo>
                        <a:lnTo>
                          <a:pt x="7" y="458"/>
                        </a:lnTo>
                        <a:lnTo>
                          <a:pt x="25" y="502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8357040" y="734760"/>
                    <a:ext cx="84240" cy="42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831">
                        <a:moveTo>
                          <a:pt x="164" y="831"/>
                        </a:moveTo>
                        <a:lnTo>
                          <a:pt x="143" y="788"/>
                        </a:lnTo>
                        <a:lnTo>
                          <a:pt x="131" y="747"/>
                        </a:lnTo>
                        <a:lnTo>
                          <a:pt x="126" y="713"/>
                        </a:lnTo>
                        <a:lnTo>
                          <a:pt x="105" y="689"/>
                        </a:lnTo>
                        <a:lnTo>
                          <a:pt x="95" y="667"/>
                        </a:lnTo>
                        <a:lnTo>
                          <a:pt x="86" y="633"/>
                        </a:lnTo>
                        <a:lnTo>
                          <a:pt x="89" y="605"/>
                        </a:lnTo>
                        <a:lnTo>
                          <a:pt x="95" y="584"/>
                        </a:lnTo>
                        <a:lnTo>
                          <a:pt x="80" y="546"/>
                        </a:lnTo>
                        <a:lnTo>
                          <a:pt x="73" y="505"/>
                        </a:lnTo>
                        <a:lnTo>
                          <a:pt x="76" y="465"/>
                        </a:lnTo>
                        <a:lnTo>
                          <a:pt x="87" y="426"/>
                        </a:lnTo>
                        <a:lnTo>
                          <a:pt x="105" y="416"/>
                        </a:lnTo>
                        <a:lnTo>
                          <a:pt x="119" y="404"/>
                        </a:lnTo>
                        <a:lnTo>
                          <a:pt x="126" y="375"/>
                        </a:lnTo>
                        <a:lnTo>
                          <a:pt x="125" y="344"/>
                        </a:lnTo>
                        <a:lnTo>
                          <a:pt x="119" y="314"/>
                        </a:lnTo>
                        <a:lnTo>
                          <a:pt x="135" y="285"/>
                        </a:lnTo>
                        <a:lnTo>
                          <a:pt x="143" y="261"/>
                        </a:lnTo>
                        <a:lnTo>
                          <a:pt x="135" y="231"/>
                        </a:lnTo>
                        <a:lnTo>
                          <a:pt x="119" y="201"/>
                        </a:lnTo>
                        <a:lnTo>
                          <a:pt x="103" y="179"/>
                        </a:lnTo>
                        <a:lnTo>
                          <a:pt x="112" y="138"/>
                        </a:lnTo>
                        <a:lnTo>
                          <a:pt x="119" y="90"/>
                        </a:lnTo>
                        <a:lnTo>
                          <a:pt x="114" y="59"/>
                        </a:lnTo>
                        <a:lnTo>
                          <a:pt x="118" y="30"/>
                        </a:lnTo>
                        <a:lnTo>
                          <a:pt x="126" y="0"/>
                        </a:lnTo>
                        <a:lnTo>
                          <a:pt x="101" y="7"/>
                        </a:lnTo>
                        <a:lnTo>
                          <a:pt x="82" y="18"/>
                        </a:lnTo>
                        <a:lnTo>
                          <a:pt x="65" y="41"/>
                        </a:lnTo>
                        <a:lnTo>
                          <a:pt x="56" y="68"/>
                        </a:lnTo>
                        <a:lnTo>
                          <a:pt x="54" y="46"/>
                        </a:lnTo>
                        <a:lnTo>
                          <a:pt x="45" y="28"/>
                        </a:lnTo>
                        <a:lnTo>
                          <a:pt x="33" y="13"/>
                        </a:lnTo>
                        <a:lnTo>
                          <a:pt x="22" y="1"/>
                        </a:lnTo>
                        <a:lnTo>
                          <a:pt x="14" y="22"/>
                        </a:lnTo>
                        <a:lnTo>
                          <a:pt x="4" y="53"/>
                        </a:lnTo>
                        <a:lnTo>
                          <a:pt x="0" y="75"/>
                        </a:lnTo>
                        <a:lnTo>
                          <a:pt x="20" y="113"/>
                        </a:lnTo>
                        <a:lnTo>
                          <a:pt x="32" y="157"/>
                        </a:lnTo>
                        <a:lnTo>
                          <a:pt x="34" y="188"/>
                        </a:lnTo>
                        <a:lnTo>
                          <a:pt x="40" y="224"/>
                        </a:lnTo>
                        <a:lnTo>
                          <a:pt x="49" y="258"/>
                        </a:lnTo>
                        <a:lnTo>
                          <a:pt x="63" y="299"/>
                        </a:lnTo>
                        <a:lnTo>
                          <a:pt x="67" y="328"/>
                        </a:lnTo>
                        <a:lnTo>
                          <a:pt x="63" y="358"/>
                        </a:lnTo>
                        <a:lnTo>
                          <a:pt x="47" y="426"/>
                        </a:lnTo>
                        <a:lnTo>
                          <a:pt x="40" y="474"/>
                        </a:lnTo>
                        <a:lnTo>
                          <a:pt x="37" y="525"/>
                        </a:lnTo>
                        <a:lnTo>
                          <a:pt x="43" y="566"/>
                        </a:lnTo>
                        <a:lnTo>
                          <a:pt x="56" y="615"/>
                        </a:lnTo>
                        <a:lnTo>
                          <a:pt x="43" y="664"/>
                        </a:lnTo>
                        <a:lnTo>
                          <a:pt x="47" y="700"/>
                        </a:lnTo>
                        <a:lnTo>
                          <a:pt x="59" y="731"/>
                        </a:lnTo>
                        <a:lnTo>
                          <a:pt x="77" y="758"/>
                        </a:lnTo>
                        <a:lnTo>
                          <a:pt x="100" y="786"/>
                        </a:lnTo>
                        <a:lnTo>
                          <a:pt x="141" y="817"/>
                        </a:lnTo>
                        <a:lnTo>
                          <a:pt x="164" y="831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395200" y="1004400"/>
                    <a:ext cx="1861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7">
                        <a:moveTo>
                          <a:pt x="0" y="0"/>
                        </a:moveTo>
                        <a:lnTo>
                          <a:pt x="29" y="14"/>
                        </a:lnTo>
                        <a:lnTo>
                          <a:pt x="66" y="32"/>
                        </a:lnTo>
                        <a:lnTo>
                          <a:pt x="105" y="48"/>
                        </a:lnTo>
                        <a:lnTo>
                          <a:pt x="138" y="57"/>
                        </a:lnTo>
                        <a:lnTo>
                          <a:pt x="182" y="66"/>
                        </a:lnTo>
                        <a:lnTo>
                          <a:pt x="222" y="62"/>
                        </a:lnTo>
                        <a:lnTo>
                          <a:pt x="266" y="66"/>
                        </a:lnTo>
                        <a:lnTo>
                          <a:pt x="303" y="70"/>
                        </a:lnTo>
                        <a:lnTo>
                          <a:pt x="343" y="83"/>
                        </a:lnTo>
                        <a:lnTo>
                          <a:pt x="356" y="89"/>
                        </a:lnTo>
                        <a:lnTo>
                          <a:pt x="365" y="106"/>
                        </a:lnTo>
                        <a:lnTo>
                          <a:pt x="329" y="113"/>
                        </a:lnTo>
                        <a:lnTo>
                          <a:pt x="285" y="117"/>
                        </a:lnTo>
                        <a:lnTo>
                          <a:pt x="236" y="115"/>
                        </a:lnTo>
                        <a:lnTo>
                          <a:pt x="183" y="108"/>
                        </a:lnTo>
                        <a:lnTo>
                          <a:pt x="128" y="97"/>
                        </a:lnTo>
                        <a:lnTo>
                          <a:pt x="92" y="83"/>
                        </a:lnTo>
                        <a:lnTo>
                          <a:pt x="54" y="58"/>
                        </a:lnTo>
                        <a:lnTo>
                          <a:pt x="29" y="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556840" y="1178280"/>
                    <a:ext cx="2354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87">
                        <a:moveTo>
                          <a:pt x="0" y="2"/>
                        </a:moveTo>
                        <a:lnTo>
                          <a:pt x="46" y="24"/>
                        </a:lnTo>
                        <a:lnTo>
                          <a:pt x="84" y="37"/>
                        </a:lnTo>
                        <a:lnTo>
                          <a:pt x="125" y="51"/>
                        </a:lnTo>
                        <a:lnTo>
                          <a:pt x="175" y="59"/>
                        </a:lnTo>
                        <a:lnTo>
                          <a:pt x="231" y="65"/>
                        </a:lnTo>
                        <a:lnTo>
                          <a:pt x="286" y="63"/>
                        </a:lnTo>
                        <a:lnTo>
                          <a:pt x="326" y="56"/>
                        </a:lnTo>
                        <a:lnTo>
                          <a:pt x="368" y="45"/>
                        </a:lnTo>
                        <a:lnTo>
                          <a:pt x="398" y="33"/>
                        </a:lnTo>
                        <a:lnTo>
                          <a:pt x="426" y="19"/>
                        </a:lnTo>
                        <a:lnTo>
                          <a:pt x="458" y="0"/>
                        </a:lnTo>
                        <a:lnTo>
                          <a:pt x="447" y="20"/>
                        </a:lnTo>
                        <a:lnTo>
                          <a:pt x="419" y="45"/>
                        </a:lnTo>
                        <a:lnTo>
                          <a:pt x="384" y="63"/>
                        </a:lnTo>
                        <a:lnTo>
                          <a:pt x="344" y="74"/>
                        </a:lnTo>
                        <a:lnTo>
                          <a:pt x="301" y="81"/>
                        </a:lnTo>
                        <a:lnTo>
                          <a:pt x="261" y="86"/>
                        </a:lnTo>
                        <a:lnTo>
                          <a:pt x="220" y="87"/>
                        </a:lnTo>
                        <a:lnTo>
                          <a:pt x="178" y="83"/>
                        </a:lnTo>
                        <a:lnTo>
                          <a:pt x="138" y="74"/>
                        </a:lnTo>
                        <a:lnTo>
                          <a:pt x="103" y="64"/>
                        </a:lnTo>
                        <a:lnTo>
                          <a:pt x="63" y="45"/>
                        </a:lnTo>
                        <a:lnTo>
                          <a:pt x="27" y="2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8410680" y="1133640"/>
                    <a:ext cx="1602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68">
                        <a:moveTo>
                          <a:pt x="313" y="28"/>
                        </a:moveTo>
                        <a:lnTo>
                          <a:pt x="261" y="54"/>
                        </a:lnTo>
                        <a:lnTo>
                          <a:pt x="212" y="67"/>
                        </a:lnTo>
                        <a:lnTo>
                          <a:pt x="166" y="68"/>
                        </a:lnTo>
                        <a:lnTo>
                          <a:pt x="121" y="59"/>
                        </a:lnTo>
                        <a:lnTo>
                          <a:pt x="77" y="45"/>
                        </a:lnTo>
                        <a:lnTo>
                          <a:pt x="41" y="28"/>
                        </a:lnTo>
                        <a:lnTo>
                          <a:pt x="0" y="0"/>
                        </a:lnTo>
                        <a:lnTo>
                          <a:pt x="44" y="16"/>
                        </a:lnTo>
                        <a:lnTo>
                          <a:pt x="76" y="25"/>
                        </a:lnTo>
                        <a:lnTo>
                          <a:pt x="131" y="37"/>
                        </a:lnTo>
                        <a:lnTo>
                          <a:pt x="167" y="43"/>
                        </a:lnTo>
                        <a:lnTo>
                          <a:pt x="212" y="45"/>
                        </a:lnTo>
                        <a:lnTo>
                          <a:pt x="263" y="41"/>
                        </a:lnTo>
                        <a:lnTo>
                          <a:pt x="313" y="28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402760" y="1058040"/>
                    <a:ext cx="1753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66">
                        <a:moveTo>
                          <a:pt x="328" y="17"/>
                        </a:moveTo>
                        <a:lnTo>
                          <a:pt x="293" y="25"/>
                        </a:lnTo>
                        <a:lnTo>
                          <a:pt x="258" y="33"/>
                        </a:lnTo>
                        <a:lnTo>
                          <a:pt x="207" y="38"/>
                        </a:lnTo>
                        <a:lnTo>
                          <a:pt x="159" y="36"/>
                        </a:lnTo>
                        <a:lnTo>
                          <a:pt x="112" y="30"/>
                        </a:lnTo>
                        <a:lnTo>
                          <a:pt x="69" y="24"/>
                        </a:lnTo>
                        <a:lnTo>
                          <a:pt x="30" y="15"/>
                        </a:lnTo>
                        <a:lnTo>
                          <a:pt x="0" y="0"/>
                        </a:lnTo>
                        <a:lnTo>
                          <a:pt x="14" y="30"/>
                        </a:lnTo>
                        <a:lnTo>
                          <a:pt x="30" y="64"/>
                        </a:lnTo>
                        <a:lnTo>
                          <a:pt x="50" y="93"/>
                        </a:lnTo>
                        <a:lnTo>
                          <a:pt x="77" y="127"/>
                        </a:lnTo>
                        <a:lnTo>
                          <a:pt x="109" y="150"/>
                        </a:lnTo>
                        <a:lnTo>
                          <a:pt x="151" y="166"/>
                        </a:lnTo>
                        <a:lnTo>
                          <a:pt x="182" y="161"/>
                        </a:lnTo>
                        <a:lnTo>
                          <a:pt x="217" y="157"/>
                        </a:lnTo>
                        <a:lnTo>
                          <a:pt x="251" y="159"/>
                        </a:lnTo>
                        <a:lnTo>
                          <a:pt x="283" y="150"/>
                        </a:lnTo>
                        <a:lnTo>
                          <a:pt x="309" y="141"/>
                        </a:lnTo>
                        <a:lnTo>
                          <a:pt x="342" y="120"/>
                        </a:lnTo>
                        <a:lnTo>
                          <a:pt x="297" y="112"/>
                        </a:lnTo>
                        <a:lnTo>
                          <a:pt x="258" y="111"/>
                        </a:lnTo>
                        <a:lnTo>
                          <a:pt x="208" y="118"/>
                        </a:lnTo>
                        <a:lnTo>
                          <a:pt x="159" y="127"/>
                        </a:lnTo>
                        <a:lnTo>
                          <a:pt x="126" y="92"/>
                        </a:lnTo>
                        <a:lnTo>
                          <a:pt x="90" y="64"/>
                        </a:lnTo>
                        <a:lnTo>
                          <a:pt x="119" y="71"/>
                        </a:lnTo>
                        <a:lnTo>
                          <a:pt x="148" y="78"/>
                        </a:lnTo>
                        <a:lnTo>
                          <a:pt x="187" y="83"/>
                        </a:lnTo>
                        <a:lnTo>
                          <a:pt x="238" y="80"/>
                        </a:lnTo>
                        <a:lnTo>
                          <a:pt x="280" y="74"/>
                        </a:lnTo>
                        <a:lnTo>
                          <a:pt x="311" y="64"/>
                        </a:lnTo>
                        <a:lnTo>
                          <a:pt x="315" y="40"/>
                        </a:lnTo>
                        <a:lnTo>
                          <a:pt x="328" y="17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02760" y="762480"/>
                    <a:ext cx="255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505">
                        <a:moveTo>
                          <a:pt x="0" y="415"/>
                        </a:moveTo>
                        <a:lnTo>
                          <a:pt x="42" y="432"/>
                        </a:lnTo>
                        <a:lnTo>
                          <a:pt x="83" y="445"/>
                        </a:lnTo>
                        <a:lnTo>
                          <a:pt x="119" y="454"/>
                        </a:lnTo>
                        <a:lnTo>
                          <a:pt x="166" y="459"/>
                        </a:lnTo>
                        <a:lnTo>
                          <a:pt x="153" y="468"/>
                        </a:lnTo>
                        <a:lnTo>
                          <a:pt x="137" y="481"/>
                        </a:lnTo>
                        <a:lnTo>
                          <a:pt x="119" y="490"/>
                        </a:lnTo>
                        <a:lnTo>
                          <a:pt x="148" y="499"/>
                        </a:lnTo>
                        <a:lnTo>
                          <a:pt x="185" y="505"/>
                        </a:lnTo>
                        <a:lnTo>
                          <a:pt x="226" y="502"/>
                        </a:lnTo>
                        <a:lnTo>
                          <a:pt x="263" y="490"/>
                        </a:lnTo>
                        <a:lnTo>
                          <a:pt x="309" y="467"/>
                        </a:lnTo>
                        <a:lnTo>
                          <a:pt x="392" y="459"/>
                        </a:lnTo>
                        <a:lnTo>
                          <a:pt x="459" y="459"/>
                        </a:lnTo>
                        <a:lnTo>
                          <a:pt x="498" y="459"/>
                        </a:lnTo>
                        <a:lnTo>
                          <a:pt x="498" y="406"/>
                        </a:lnTo>
                        <a:lnTo>
                          <a:pt x="484" y="324"/>
                        </a:lnTo>
                        <a:lnTo>
                          <a:pt x="490" y="180"/>
                        </a:lnTo>
                        <a:lnTo>
                          <a:pt x="468" y="68"/>
                        </a:lnTo>
                        <a:lnTo>
                          <a:pt x="448" y="33"/>
                        </a:lnTo>
                        <a:lnTo>
                          <a:pt x="423" y="0"/>
                        </a:lnTo>
                        <a:lnTo>
                          <a:pt x="414" y="52"/>
                        </a:lnTo>
                        <a:lnTo>
                          <a:pt x="405" y="121"/>
                        </a:lnTo>
                        <a:lnTo>
                          <a:pt x="401" y="177"/>
                        </a:lnTo>
                        <a:lnTo>
                          <a:pt x="408" y="240"/>
                        </a:lnTo>
                        <a:lnTo>
                          <a:pt x="377" y="361"/>
                        </a:lnTo>
                        <a:lnTo>
                          <a:pt x="347" y="406"/>
                        </a:lnTo>
                        <a:lnTo>
                          <a:pt x="312" y="409"/>
                        </a:lnTo>
                        <a:lnTo>
                          <a:pt x="281" y="411"/>
                        </a:lnTo>
                        <a:lnTo>
                          <a:pt x="240" y="420"/>
                        </a:lnTo>
                        <a:lnTo>
                          <a:pt x="203" y="429"/>
                        </a:lnTo>
                        <a:lnTo>
                          <a:pt x="163" y="414"/>
                        </a:lnTo>
                        <a:lnTo>
                          <a:pt x="127" y="406"/>
                        </a:lnTo>
                        <a:lnTo>
                          <a:pt x="79" y="404"/>
                        </a:lnTo>
                        <a:lnTo>
                          <a:pt x="42" y="408"/>
                        </a:lnTo>
                        <a:lnTo>
                          <a:pt x="0" y="415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413920" y="721080"/>
                    <a:ext cx="17856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431">
                        <a:moveTo>
                          <a:pt x="346" y="0"/>
                        </a:moveTo>
                        <a:lnTo>
                          <a:pt x="347" y="41"/>
                        </a:lnTo>
                        <a:lnTo>
                          <a:pt x="345" y="74"/>
                        </a:lnTo>
                        <a:lnTo>
                          <a:pt x="336" y="117"/>
                        </a:lnTo>
                        <a:lnTo>
                          <a:pt x="323" y="159"/>
                        </a:lnTo>
                        <a:lnTo>
                          <a:pt x="304" y="203"/>
                        </a:lnTo>
                        <a:lnTo>
                          <a:pt x="270" y="244"/>
                        </a:lnTo>
                        <a:lnTo>
                          <a:pt x="231" y="272"/>
                        </a:lnTo>
                        <a:lnTo>
                          <a:pt x="184" y="307"/>
                        </a:lnTo>
                        <a:lnTo>
                          <a:pt x="135" y="332"/>
                        </a:lnTo>
                        <a:lnTo>
                          <a:pt x="107" y="361"/>
                        </a:lnTo>
                        <a:lnTo>
                          <a:pt x="73" y="386"/>
                        </a:lnTo>
                        <a:lnTo>
                          <a:pt x="41" y="409"/>
                        </a:lnTo>
                        <a:lnTo>
                          <a:pt x="0" y="431"/>
                        </a:lnTo>
                        <a:lnTo>
                          <a:pt x="20" y="395"/>
                        </a:lnTo>
                        <a:lnTo>
                          <a:pt x="49" y="360"/>
                        </a:lnTo>
                        <a:lnTo>
                          <a:pt x="76" y="335"/>
                        </a:lnTo>
                        <a:lnTo>
                          <a:pt x="101" y="302"/>
                        </a:lnTo>
                        <a:lnTo>
                          <a:pt x="135" y="271"/>
                        </a:lnTo>
                        <a:lnTo>
                          <a:pt x="168" y="245"/>
                        </a:lnTo>
                        <a:lnTo>
                          <a:pt x="193" y="216"/>
                        </a:lnTo>
                        <a:lnTo>
                          <a:pt x="212" y="187"/>
                        </a:lnTo>
                        <a:lnTo>
                          <a:pt x="246" y="169"/>
                        </a:lnTo>
                        <a:lnTo>
                          <a:pt x="273" y="151"/>
                        </a:lnTo>
                        <a:lnTo>
                          <a:pt x="296" y="118"/>
                        </a:lnTo>
                        <a:lnTo>
                          <a:pt x="316" y="78"/>
                        </a:lnTo>
                        <a:lnTo>
                          <a:pt x="331" y="45"/>
                        </a:lnTo>
                        <a:lnTo>
                          <a:pt x="346" y="0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429040" y="690120"/>
                    <a:ext cx="1260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08">
                        <a:moveTo>
                          <a:pt x="7" y="408"/>
                        </a:moveTo>
                        <a:lnTo>
                          <a:pt x="20" y="377"/>
                        </a:lnTo>
                        <a:lnTo>
                          <a:pt x="25" y="355"/>
                        </a:lnTo>
                        <a:lnTo>
                          <a:pt x="25" y="330"/>
                        </a:lnTo>
                        <a:lnTo>
                          <a:pt x="43" y="327"/>
                        </a:lnTo>
                        <a:lnTo>
                          <a:pt x="61" y="316"/>
                        </a:lnTo>
                        <a:lnTo>
                          <a:pt x="87" y="284"/>
                        </a:lnTo>
                        <a:lnTo>
                          <a:pt x="110" y="249"/>
                        </a:lnTo>
                        <a:lnTo>
                          <a:pt x="168" y="150"/>
                        </a:lnTo>
                        <a:lnTo>
                          <a:pt x="213" y="95"/>
                        </a:lnTo>
                        <a:lnTo>
                          <a:pt x="235" y="59"/>
                        </a:lnTo>
                        <a:lnTo>
                          <a:pt x="244" y="38"/>
                        </a:lnTo>
                        <a:lnTo>
                          <a:pt x="245" y="19"/>
                        </a:lnTo>
                        <a:lnTo>
                          <a:pt x="237" y="6"/>
                        </a:lnTo>
                        <a:lnTo>
                          <a:pt x="219" y="0"/>
                        </a:lnTo>
                        <a:lnTo>
                          <a:pt x="195" y="6"/>
                        </a:lnTo>
                        <a:lnTo>
                          <a:pt x="177" y="20"/>
                        </a:lnTo>
                        <a:lnTo>
                          <a:pt x="151" y="67"/>
                        </a:lnTo>
                        <a:lnTo>
                          <a:pt x="124" y="118"/>
                        </a:lnTo>
                        <a:lnTo>
                          <a:pt x="93" y="185"/>
                        </a:lnTo>
                        <a:lnTo>
                          <a:pt x="67" y="234"/>
                        </a:lnTo>
                        <a:lnTo>
                          <a:pt x="44" y="274"/>
                        </a:lnTo>
                        <a:lnTo>
                          <a:pt x="27" y="298"/>
                        </a:lnTo>
                        <a:lnTo>
                          <a:pt x="0" y="316"/>
                        </a:lnTo>
                        <a:lnTo>
                          <a:pt x="7" y="343"/>
                        </a:lnTo>
                        <a:lnTo>
                          <a:pt x="8" y="369"/>
                        </a:lnTo>
                        <a:lnTo>
                          <a:pt x="7" y="408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690760" y="905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02">
                        <a:moveTo>
                          <a:pt x="0" y="0"/>
                        </a:moveTo>
                        <a:lnTo>
                          <a:pt x="47" y="47"/>
                        </a:lnTo>
                        <a:lnTo>
                          <a:pt x="72" y="75"/>
                        </a:lnTo>
                        <a:lnTo>
                          <a:pt x="103" y="122"/>
                        </a:lnTo>
                        <a:lnTo>
                          <a:pt x="138" y="155"/>
                        </a:lnTo>
                        <a:lnTo>
                          <a:pt x="197" y="202"/>
                        </a:lnTo>
                        <a:lnTo>
                          <a:pt x="107" y="8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425800" y="537840"/>
                    <a:ext cx="2268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51">
                        <a:moveTo>
                          <a:pt x="0" y="0"/>
                        </a:moveTo>
                        <a:lnTo>
                          <a:pt x="15" y="16"/>
                        </a:lnTo>
                        <a:lnTo>
                          <a:pt x="29" y="43"/>
                        </a:lnTo>
                        <a:lnTo>
                          <a:pt x="39" y="72"/>
                        </a:lnTo>
                        <a:lnTo>
                          <a:pt x="45" y="117"/>
                        </a:lnTo>
                        <a:lnTo>
                          <a:pt x="38" y="151"/>
                        </a:lnTo>
                        <a:lnTo>
                          <a:pt x="28" y="82"/>
                        </a:lnTo>
                        <a:lnTo>
                          <a:pt x="15" y="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8466120" y="716040"/>
                    <a:ext cx="20628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638">
                        <a:moveTo>
                          <a:pt x="0" y="609"/>
                        </a:moveTo>
                        <a:lnTo>
                          <a:pt x="53" y="578"/>
                        </a:lnTo>
                        <a:lnTo>
                          <a:pt x="107" y="578"/>
                        </a:lnTo>
                        <a:lnTo>
                          <a:pt x="160" y="585"/>
                        </a:lnTo>
                        <a:lnTo>
                          <a:pt x="172" y="566"/>
                        </a:lnTo>
                        <a:lnTo>
                          <a:pt x="196" y="551"/>
                        </a:lnTo>
                        <a:lnTo>
                          <a:pt x="233" y="542"/>
                        </a:lnTo>
                        <a:lnTo>
                          <a:pt x="267" y="539"/>
                        </a:lnTo>
                        <a:lnTo>
                          <a:pt x="303" y="540"/>
                        </a:lnTo>
                        <a:lnTo>
                          <a:pt x="343" y="548"/>
                        </a:lnTo>
                        <a:lnTo>
                          <a:pt x="365" y="517"/>
                        </a:lnTo>
                        <a:lnTo>
                          <a:pt x="360" y="453"/>
                        </a:lnTo>
                        <a:lnTo>
                          <a:pt x="357" y="394"/>
                        </a:lnTo>
                        <a:lnTo>
                          <a:pt x="360" y="331"/>
                        </a:lnTo>
                        <a:lnTo>
                          <a:pt x="363" y="298"/>
                        </a:lnTo>
                        <a:lnTo>
                          <a:pt x="362" y="259"/>
                        </a:lnTo>
                        <a:lnTo>
                          <a:pt x="351" y="202"/>
                        </a:lnTo>
                        <a:lnTo>
                          <a:pt x="335" y="123"/>
                        </a:lnTo>
                        <a:lnTo>
                          <a:pt x="329" y="76"/>
                        </a:lnTo>
                        <a:lnTo>
                          <a:pt x="320" y="0"/>
                        </a:lnTo>
                        <a:lnTo>
                          <a:pt x="348" y="55"/>
                        </a:lnTo>
                        <a:lnTo>
                          <a:pt x="365" y="98"/>
                        </a:lnTo>
                        <a:lnTo>
                          <a:pt x="380" y="87"/>
                        </a:lnTo>
                        <a:lnTo>
                          <a:pt x="397" y="60"/>
                        </a:lnTo>
                        <a:lnTo>
                          <a:pt x="400" y="89"/>
                        </a:lnTo>
                        <a:lnTo>
                          <a:pt x="396" y="135"/>
                        </a:lnTo>
                        <a:lnTo>
                          <a:pt x="389" y="172"/>
                        </a:lnTo>
                        <a:lnTo>
                          <a:pt x="387" y="228"/>
                        </a:lnTo>
                        <a:lnTo>
                          <a:pt x="389" y="286"/>
                        </a:lnTo>
                        <a:lnTo>
                          <a:pt x="403" y="450"/>
                        </a:lnTo>
                        <a:lnTo>
                          <a:pt x="397" y="534"/>
                        </a:lnTo>
                        <a:lnTo>
                          <a:pt x="383" y="565"/>
                        </a:lnTo>
                        <a:lnTo>
                          <a:pt x="358" y="593"/>
                        </a:lnTo>
                        <a:lnTo>
                          <a:pt x="331" y="611"/>
                        </a:lnTo>
                        <a:lnTo>
                          <a:pt x="304" y="624"/>
                        </a:lnTo>
                        <a:lnTo>
                          <a:pt x="266" y="633"/>
                        </a:lnTo>
                        <a:lnTo>
                          <a:pt x="230" y="638"/>
                        </a:lnTo>
                        <a:lnTo>
                          <a:pt x="192" y="627"/>
                        </a:lnTo>
                        <a:lnTo>
                          <a:pt x="150" y="618"/>
                        </a:lnTo>
                        <a:lnTo>
                          <a:pt x="100" y="616"/>
                        </a:lnTo>
                        <a:lnTo>
                          <a:pt x="0" y="609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466120" y="1031760"/>
                    <a:ext cx="1569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88">
                        <a:moveTo>
                          <a:pt x="0" y="61"/>
                        </a:moveTo>
                        <a:lnTo>
                          <a:pt x="29" y="56"/>
                        </a:lnTo>
                        <a:lnTo>
                          <a:pt x="47" y="46"/>
                        </a:lnTo>
                        <a:lnTo>
                          <a:pt x="91" y="51"/>
                        </a:lnTo>
                        <a:lnTo>
                          <a:pt x="133" y="54"/>
                        </a:lnTo>
                        <a:lnTo>
                          <a:pt x="177" y="51"/>
                        </a:lnTo>
                        <a:lnTo>
                          <a:pt x="209" y="49"/>
                        </a:lnTo>
                        <a:lnTo>
                          <a:pt x="246" y="40"/>
                        </a:lnTo>
                        <a:lnTo>
                          <a:pt x="279" y="20"/>
                        </a:lnTo>
                        <a:lnTo>
                          <a:pt x="307" y="0"/>
                        </a:lnTo>
                        <a:lnTo>
                          <a:pt x="300" y="27"/>
                        </a:lnTo>
                        <a:lnTo>
                          <a:pt x="282" y="55"/>
                        </a:lnTo>
                        <a:lnTo>
                          <a:pt x="254" y="77"/>
                        </a:lnTo>
                        <a:lnTo>
                          <a:pt x="262" y="106"/>
                        </a:lnTo>
                        <a:lnTo>
                          <a:pt x="244" y="128"/>
                        </a:lnTo>
                        <a:lnTo>
                          <a:pt x="235" y="149"/>
                        </a:lnTo>
                        <a:lnTo>
                          <a:pt x="230" y="172"/>
                        </a:lnTo>
                        <a:lnTo>
                          <a:pt x="215" y="191"/>
                        </a:lnTo>
                        <a:lnTo>
                          <a:pt x="210" y="226"/>
                        </a:lnTo>
                        <a:lnTo>
                          <a:pt x="206" y="249"/>
                        </a:lnTo>
                        <a:lnTo>
                          <a:pt x="200" y="288"/>
                        </a:lnTo>
                        <a:lnTo>
                          <a:pt x="208" y="328"/>
                        </a:lnTo>
                        <a:lnTo>
                          <a:pt x="183" y="348"/>
                        </a:lnTo>
                        <a:lnTo>
                          <a:pt x="154" y="366"/>
                        </a:lnTo>
                        <a:lnTo>
                          <a:pt x="119" y="381"/>
                        </a:lnTo>
                        <a:lnTo>
                          <a:pt x="85" y="388"/>
                        </a:lnTo>
                        <a:lnTo>
                          <a:pt x="119" y="365"/>
                        </a:lnTo>
                        <a:lnTo>
                          <a:pt x="147" y="341"/>
                        </a:lnTo>
                        <a:lnTo>
                          <a:pt x="169" y="319"/>
                        </a:lnTo>
                        <a:lnTo>
                          <a:pt x="185" y="291"/>
                        </a:lnTo>
                        <a:lnTo>
                          <a:pt x="155" y="298"/>
                        </a:lnTo>
                        <a:lnTo>
                          <a:pt x="123" y="300"/>
                        </a:lnTo>
                        <a:lnTo>
                          <a:pt x="82" y="296"/>
                        </a:lnTo>
                        <a:lnTo>
                          <a:pt x="39" y="291"/>
                        </a:lnTo>
                        <a:lnTo>
                          <a:pt x="87" y="284"/>
                        </a:lnTo>
                        <a:lnTo>
                          <a:pt x="123" y="274"/>
                        </a:lnTo>
                        <a:lnTo>
                          <a:pt x="151" y="261"/>
                        </a:lnTo>
                        <a:lnTo>
                          <a:pt x="176" y="244"/>
                        </a:lnTo>
                        <a:lnTo>
                          <a:pt x="192" y="222"/>
                        </a:lnTo>
                        <a:lnTo>
                          <a:pt x="156" y="216"/>
                        </a:lnTo>
                        <a:lnTo>
                          <a:pt x="123" y="206"/>
                        </a:lnTo>
                        <a:lnTo>
                          <a:pt x="145" y="186"/>
                        </a:lnTo>
                        <a:lnTo>
                          <a:pt x="170" y="167"/>
                        </a:lnTo>
                        <a:lnTo>
                          <a:pt x="200" y="149"/>
                        </a:lnTo>
                        <a:lnTo>
                          <a:pt x="223" y="137"/>
                        </a:lnTo>
                        <a:lnTo>
                          <a:pt x="204" y="130"/>
                        </a:lnTo>
                        <a:lnTo>
                          <a:pt x="187" y="122"/>
                        </a:lnTo>
                        <a:lnTo>
                          <a:pt x="161" y="114"/>
                        </a:lnTo>
                        <a:lnTo>
                          <a:pt x="187" y="100"/>
                        </a:lnTo>
                        <a:lnTo>
                          <a:pt x="208" y="85"/>
                        </a:lnTo>
                        <a:lnTo>
                          <a:pt x="169" y="86"/>
                        </a:lnTo>
                        <a:lnTo>
                          <a:pt x="136" y="85"/>
                        </a:lnTo>
                        <a:lnTo>
                          <a:pt x="88" y="79"/>
                        </a:lnTo>
                        <a:lnTo>
                          <a:pt x="42" y="7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</p:grpSp>
          </p:grpSp>
          <p:grpSp>
            <p:nvGrpSpPr>
              <p:cNvPr id="745" name=""/>
              <p:cNvGrpSpPr/>
              <p:nvPr/>
            </p:nvGrpSpPr>
            <p:grpSpPr>
              <a:xfrm>
                <a:off x="8437320" y="1339560"/>
                <a:ext cx="189000" cy="266400"/>
                <a:chOff x="8437320" y="1339560"/>
                <a:chExt cx="189000" cy="2664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8438760" y="1339560"/>
                  <a:ext cx="187560" cy="266400"/>
                </a:xfrm>
                <a:custGeom>
                  <a:avLst/>
                  <a:gdLst/>
                  <a:ahLst/>
                  <a:rect l="l" t="t" r="r" b="b"/>
                  <a:pathLst>
                    <a:path w="366" h="518">
                      <a:moveTo>
                        <a:pt x="182" y="24"/>
                      </a:moveTo>
                      <a:lnTo>
                        <a:pt x="169" y="106"/>
                      </a:lnTo>
                      <a:lnTo>
                        <a:pt x="167" y="146"/>
                      </a:lnTo>
                      <a:lnTo>
                        <a:pt x="175" y="188"/>
                      </a:lnTo>
                      <a:lnTo>
                        <a:pt x="188" y="209"/>
                      </a:lnTo>
                      <a:lnTo>
                        <a:pt x="202" y="219"/>
                      </a:lnTo>
                      <a:lnTo>
                        <a:pt x="228" y="232"/>
                      </a:lnTo>
                      <a:lnTo>
                        <a:pt x="267" y="250"/>
                      </a:lnTo>
                      <a:lnTo>
                        <a:pt x="282" y="259"/>
                      </a:lnTo>
                      <a:lnTo>
                        <a:pt x="303" y="273"/>
                      </a:lnTo>
                      <a:lnTo>
                        <a:pt x="309" y="283"/>
                      </a:lnTo>
                      <a:lnTo>
                        <a:pt x="317" y="304"/>
                      </a:lnTo>
                      <a:lnTo>
                        <a:pt x="332" y="314"/>
                      </a:lnTo>
                      <a:lnTo>
                        <a:pt x="348" y="327"/>
                      </a:lnTo>
                      <a:lnTo>
                        <a:pt x="353" y="343"/>
                      </a:lnTo>
                      <a:lnTo>
                        <a:pt x="355" y="358"/>
                      </a:lnTo>
                      <a:lnTo>
                        <a:pt x="348" y="381"/>
                      </a:lnTo>
                      <a:lnTo>
                        <a:pt x="340" y="398"/>
                      </a:lnTo>
                      <a:lnTo>
                        <a:pt x="328" y="411"/>
                      </a:lnTo>
                      <a:lnTo>
                        <a:pt x="317" y="416"/>
                      </a:lnTo>
                      <a:lnTo>
                        <a:pt x="334" y="430"/>
                      </a:lnTo>
                      <a:lnTo>
                        <a:pt x="350" y="447"/>
                      </a:lnTo>
                      <a:lnTo>
                        <a:pt x="361" y="466"/>
                      </a:lnTo>
                      <a:lnTo>
                        <a:pt x="366" y="484"/>
                      </a:lnTo>
                      <a:lnTo>
                        <a:pt x="362" y="502"/>
                      </a:lnTo>
                      <a:lnTo>
                        <a:pt x="358" y="511"/>
                      </a:lnTo>
                      <a:lnTo>
                        <a:pt x="350" y="518"/>
                      </a:lnTo>
                      <a:lnTo>
                        <a:pt x="339" y="516"/>
                      </a:lnTo>
                      <a:lnTo>
                        <a:pt x="324" y="500"/>
                      </a:lnTo>
                      <a:lnTo>
                        <a:pt x="309" y="477"/>
                      </a:lnTo>
                      <a:lnTo>
                        <a:pt x="256" y="439"/>
                      </a:lnTo>
                      <a:lnTo>
                        <a:pt x="218" y="416"/>
                      </a:lnTo>
                      <a:lnTo>
                        <a:pt x="184" y="404"/>
                      </a:lnTo>
                      <a:lnTo>
                        <a:pt x="156" y="397"/>
                      </a:lnTo>
                      <a:lnTo>
                        <a:pt x="126" y="385"/>
                      </a:lnTo>
                      <a:lnTo>
                        <a:pt x="98" y="371"/>
                      </a:lnTo>
                      <a:lnTo>
                        <a:pt x="61" y="349"/>
                      </a:lnTo>
                      <a:lnTo>
                        <a:pt x="15" y="283"/>
                      </a:lnTo>
                      <a:lnTo>
                        <a:pt x="3" y="244"/>
                      </a:lnTo>
                      <a:lnTo>
                        <a:pt x="0" y="205"/>
                      </a:lnTo>
                      <a:lnTo>
                        <a:pt x="5" y="164"/>
                      </a:lnTo>
                      <a:lnTo>
                        <a:pt x="17" y="105"/>
                      </a:lnTo>
                      <a:lnTo>
                        <a:pt x="34" y="0"/>
                      </a:lnTo>
                      <a:lnTo>
                        <a:pt x="182" y="24"/>
                      </a:lnTo>
                      <a:close/>
                    </a:path>
                  </a:pathLst>
                </a:custGeom>
                <a:solidFill>
                  <a:srgbClr val="ffa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557200" y="1521000"/>
                  <a:ext cx="58320" cy="33840"/>
                </a:xfrm>
                <a:custGeom>
                  <a:avLst/>
                  <a:gdLst/>
                  <a:ahLst/>
                  <a:rect l="l" t="t" r="r" b="b"/>
                  <a:pathLst>
                    <a:path w="115" h="65">
                      <a:moveTo>
                        <a:pt x="0" y="0"/>
                      </a:moveTo>
                      <a:lnTo>
                        <a:pt x="33" y="14"/>
                      </a:lnTo>
                      <a:lnTo>
                        <a:pt x="56" y="23"/>
                      </a:lnTo>
                      <a:lnTo>
                        <a:pt x="72" y="22"/>
                      </a:lnTo>
                      <a:lnTo>
                        <a:pt x="82" y="14"/>
                      </a:lnTo>
                      <a:lnTo>
                        <a:pt x="90" y="20"/>
                      </a:lnTo>
                      <a:lnTo>
                        <a:pt x="101" y="26"/>
                      </a:lnTo>
                      <a:lnTo>
                        <a:pt x="115" y="27"/>
                      </a:lnTo>
                      <a:lnTo>
                        <a:pt x="112" y="43"/>
                      </a:lnTo>
                      <a:lnTo>
                        <a:pt x="101" y="57"/>
                      </a:lnTo>
                      <a:lnTo>
                        <a:pt x="86" y="65"/>
                      </a:lnTo>
                      <a:lnTo>
                        <a:pt x="68" y="48"/>
                      </a:lnTo>
                      <a:lnTo>
                        <a:pt x="52" y="34"/>
                      </a:lnTo>
                      <a:lnTo>
                        <a:pt x="29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437320" y="1366920"/>
                  <a:ext cx="93600" cy="163080"/>
                </a:xfrm>
                <a:custGeom>
                  <a:avLst/>
                  <a:gdLst/>
                  <a:ahLst/>
                  <a:rect l="l" t="t" r="r" b="b"/>
                  <a:pathLst>
                    <a:path w="183" h="320">
                      <a:moveTo>
                        <a:pt x="135" y="172"/>
                      </a:moveTo>
                      <a:lnTo>
                        <a:pt x="121" y="148"/>
                      </a:lnTo>
                      <a:lnTo>
                        <a:pt x="109" y="120"/>
                      </a:lnTo>
                      <a:lnTo>
                        <a:pt x="100" y="90"/>
                      </a:lnTo>
                      <a:lnTo>
                        <a:pt x="96" y="65"/>
                      </a:lnTo>
                      <a:lnTo>
                        <a:pt x="98" y="50"/>
                      </a:lnTo>
                      <a:lnTo>
                        <a:pt x="119" y="51"/>
                      </a:lnTo>
                      <a:lnTo>
                        <a:pt x="143" y="49"/>
                      </a:lnTo>
                      <a:lnTo>
                        <a:pt x="159" y="45"/>
                      </a:lnTo>
                      <a:lnTo>
                        <a:pt x="172" y="40"/>
                      </a:lnTo>
                      <a:lnTo>
                        <a:pt x="179" y="31"/>
                      </a:lnTo>
                      <a:lnTo>
                        <a:pt x="183" y="9"/>
                      </a:lnTo>
                      <a:lnTo>
                        <a:pt x="24" y="0"/>
                      </a:lnTo>
                      <a:lnTo>
                        <a:pt x="18" y="46"/>
                      </a:lnTo>
                      <a:lnTo>
                        <a:pt x="14" y="72"/>
                      </a:lnTo>
                      <a:lnTo>
                        <a:pt x="6" y="103"/>
                      </a:lnTo>
                      <a:lnTo>
                        <a:pt x="2" y="127"/>
                      </a:lnTo>
                      <a:lnTo>
                        <a:pt x="0" y="154"/>
                      </a:lnTo>
                      <a:lnTo>
                        <a:pt x="1" y="179"/>
                      </a:lnTo>
                      <a:lnTo>
                        <a:pt x="4" y="198"/>
                      </a:lnTo>
                      <a:lnTo>
                        <a:pt x="7" y="215"/>
                      </a:lnTo>
                      <a:lnTo>
                        <a:pt x="15" y="233"/>
                      </a:lnTo>
                      <a:lnTo>
                        <a:pt x="27" y="251"/>
                      </a:lnTo>
                      <a:lnTo>
                        <a:pt x="36" y="266"/>
                      </a:lnTo>
                      <a:lnTo>
                        <a:pt x="49" y="284"/>
                      </a:lnTo>
                      <a:lnTo>
                        <a:pt x="64" y="301"/>
                      </a:lnTo>
                      <a:lnTo>
                        <a:pt x="77" y="310"/>
                      </a:lnTo>
                      <a:lnTo>
                        <a:pt x="96" y="320"/>
                      </a:lnTo>
                      <a:lnTo>
                        <a:pt x="91" y="304"/>
                      </a:lnTo>
                      <a:lnTo>
                        <a:pt x="89" y="277"/>
                      </a:lnTo>
                      <a:lnTo>
                        <a:pt x="91" y="255"/>
                      </a:lnTo>
                      <a:lnTo>
                        <a:pt x="96" y="233"/>
                      </a:lnTo>
                      <a:lnTo>
                        <a:pt x="108" y="210"/>
                      </a:lnTo>
                      <a:lnTo>
                        <a:pt x="122" y="189"/>
                      </a:lnTo>
                      <a:lnTo>
                        <a:pt x="135" y="172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551080" y="1474920"/>
                  <a:ext cx="50400" cy="23040"/>
                </a:xfrm>
                <a:custGeom>
                  <a:avLst/>
                  <a:gdLst/>
                  <a:ahLst/>
                  <a:rect l="l" t="t" r="r" b="b"/>
                  <a:pathLst>
                    <a:path w="97" h="46">
                      <a:moveTo>
                        <a:pt x="97" y="46"/>
                      </a:moveTo>
                      <a:lnTo>
                        <a:pt x="73" y="29"/>
                      </a:lnTo>
                      <a:lnTo>
                        <a:pt x="47" y="15"/>
                      </a:lnTo>
                      <a:lnTo>
                        <a:pt x="24" y="6"/>
                      </a:lnTo>
                      <a:lnTo>
                        <a:pt x="0" y="0"/>
                      </a:lnTo>
                      <a:lnTo>
                        <a:pt x="29" y="5"/>
                      </a:lnTo>
                      <a:lnTo>
                        <a:pt x="56" y="12"/>
                      </a:lnTo>
                      <a:lnTo>
                        <a:pt x="82" y="24"/>
                      </a:lnTo>
                      <a:lnTo>
                        <a:pt x="93" y="29"/>
                      </a:lnTo>
                      <a:lnTo>
                        <a:pt x="97" y="46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548200" y="1548720"/>
                  <a:ext cx="63000" cy="38160"/>
                </a:xfrm>
                <a:custGeom>
                  <a:avLst/>
                  <a:gdLst/>
                  <a:ahLst/>
                  <a:rect l="l" t="t" r="r" b="b"/>
                  <a:pathLst>
                    <a:path w="123" h="75">
                      <a:moveTo>
                        <a:pt x="123" y="47"/>
                      </a:moveTo>
                      <a:lnTo>
                        <a:pt x="113" y="53"/>
                      </a:lnTo>
                      <a:lnTo>
                        <a:pt x="107" y="62"/>
                      </a:lnTo>
                      <a:lnTo>
                        <a:pt x="98" y="75"/>
                      </a:lnTo>
                      <a:lnTo>
                        <a:pt x="94" y="69"/>
                      </a:lnTo>
                      <a:lnTo>
                        <a:pt x="86" y="62"/>
                      </a:lnTo>
                      <a:lnTo>
                        <a:pt x="67" y="48"/>
                      </a:lnTo>
                      <a:lnTo>
                        <a:pt x="50" y="35"/>
                      </a:lnTo>
                      <a:lnTo>
                        <a:pt x="33" y="25"/>
                      </a:lnTo>
                      <a:lnTo>
                        <a:pt x="17" y="13"/>
                      </a:lnTo>
                      <a:lnTo>
                        <a:pt x="0" y="0"/>
                      </a:lnTo>
                      <a:lnTo>
                        <a:pt x="22" y="11"/>
                      </a:lnTo>
                      <a:lnTo>
                        <a:pt x="37" y="18"/>
                      </a:lnTo>
                      <a:lnTo>
                        <a:pt x="59" y="30"/>
                      </a:lnTo>
                      <a:lnTo>
                        <a:pt x="78" y="45"/>
                      </a:lnTo>
                      <a:lnTo>
                        <a:pt x="91" y="57"/>
                      </a:lnTo>
                      <a:lnTo>
                        <a:pt x="99" y="63"/>
                      </a:lnTo>
                      <a:lnTo>
                        <a:pt x="107" y="53"/>
                      </a:lnTo>
                      <a:lnTo>
                        <a:pt x="123" y="47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8411040" y="1191960"/>
                <a:ext cx="174240" cy="200160"/>
                <a:chOff x="8411040" y="1191960"/>
                <a:chExt cx="174240" cy="2001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8411040" y="1191960"/>
                  <a:ext cx="174240" cy="200160"/>
                </a:xfrm>
                <a:custGeom>
                  <a:avLst/>
                  <a:gdLst/>
                  <a:ahLst/>
                  <a:rect l="l" t="t" r="r" b="b"/>
                  <a:pathLst>
                    <a:path w="338" h="391">
                      <a:moveTo>
                        <a:pt x="22" y="0"/>
                      </a:moveTo>
                      <a:lnTo>
                        <a:pt x="12" y="23"/>
                      </a:lnTo>
                      <a:lnTo>
                        <a:pt x="4" y="51"/>
                      </a:lnTo>
                      <a:lnTo>
                        <a:pt x="0" y="82"/>
                      </a:lnTo>
                      <a:lnTo>
                        <a:pt x="4" y="113"/>
                      </a:lnTo>
                      <a:lnTo>
                        <a:pt x="7" y="126"/>
                      </a:lnTo>
                      <a:lnTo>
                        <a:pt x="20" y="142"/>
                      </a:lnTo>
                      <a:lnTo>
                        <a:pt x="38" y="155"/>
                      </a:lnTo>
                      <a:lnTo>
                        <a:pt x="59" y="169"/>
                      </a:lnTo>
                      <a:lnTo>
                        <a:pt x="52" y="199"/>
                      </a:lnTo>
                      <a:lnTo>
                        <a:pt x="48" y="235"/>
                      </a:lnTo>
                      <a:lnTo>
                        <a:pt x="45" y="276"/>
                      </a:lnTo>
                      <a:lnTo>
                        <a:pt x="49" y="315"/>
                      </a:lnTo>
                      <a:lnTo>
                        <a:pt x="52" y="344"/>
                      </a:lnTo>
                      <a:lnTo>
                        <a:pt x="59" y="359"/>
                      </a:lnTo>
                      <a:lnTo>
                        <a:pt x="81" y="377"/>
                      </a:lnTo>
                      <a:lnTo>
                        <a:pt x="116" y="388"/>
                      </a:lnTo>
                      <a:lnTo>
                        <a:pt x="152" y="391"/>
                      </a:lnTo>
                      <a:lnTo>
                        <a:pt x="186" y="388"/>
                      </a:lnTo>
                      <a:lnTo>
                        <a:pt x="206" y="383"/>
                      </a:lnTo>
                      <a:lnTo>
                        <a:pt x="223" y="371"/>
                      </a:lnTo>
                      <a:lnTo>
                        <a:pt x="241" y="347"/>
                      </a:lnTo>
                      <a:lnTo>
                        <a:pt x="250" y="325"/>
                      </a:lnTo>
                      <a:lnTo>
                        <a:pt x="258" y="298"/>
                      </a:lnTo>
                      <a:lnTo>
                        <a:pt x="260" y="280"/>
                      </a:lnTo>
                      <a:lnTo>
                        <a:pt x="258" y="259"/>
                      </a:lnTo>
                      <a:lnTo>
                        <a:pt x="268" y="238"/>
                      </a:lnTo>
                      <a:lnTo>
                        <a:pt x="272" y="214"/>
                      </a:lnTo>
                      <a:lnTo>
                        <a:pt x="302" y="202"/>
                      </a:lnTo>
                      <a:lnTo>
                        <a:pt x="321" y="190"/>
                      </a:lnTo>
                      <a:lnTo>
                        <a:pt x="326" y="178"/>
                      </a:lnTo>
                      <a:lnTo>
                        <a:pt x="323" y="155"/>
                      </a:lnTo>
                      <a:lnTo>
                        <a:pt x="326" y="133"/>
                      </a:lnTo>
                      <a:lnTo>
                        <a:pt x="331" y="106"/>
                      </a:lnTo>
                      <a:lnTo>
                        <a:pt x="338" y="87"/>
                      </a:lnTo>
                      <a:lnTo>
                        <a:pt x="336" y="69"/>
                      </a:lnTo>
                      <a:lnTo>
                        <a:pt x="330" y="50"/>
                      </a:lnTo>
                      <a:lnTo>
                        <a:pt x="322" y="38"/>
                      </a:lnTo>
                      <a:lnTo>
                        <a:pt x="318" y="27"/>
                      </a:lnTo>
                      <a:lnTo>
                        <a:pt x="293" y="36"/>
                      </a:lnTo>
                      <a:lnTo>
                        <a:pt x="263" y="46"/>
                      </a:lnTo>
                      <a:lnTo>
                        <a:pt x="242" y="51"/>
                      </a:lnTo>
                      <a:lnTo>
                        <a:pt x="218" y="55"/>
                      </a:lnTo>
                      <a:lnTo>
                        <a:pt x="186" y="57"/>
                      </a:lnTo>
                      <a:lnTo>
                        <a:pt x="156" y="54"/>
                      </a:lnTo>
                      <a:lnTo>
                        <a:pt x="128" y="46"/>
                      </a:lnTo>
                      <a:lnTo>
                        <a:pt x="99" y="38"/>
                      </a:lnTo>
                      <a:lnTo>
                        <a:pt x="72" y="23"/>
                      </a:lnTo>
                      <a:lnTo>
                        <a:pt x="45" y="1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469360" y="1274760"/>
                  <a:ext cx="98280" cy="50400"/>
                </a:xfrm>
                <a:custGeom>
                  <a:avLst/>
                  <a:gdLst/>
                  <a:ahLst/>
                  <a:rect l="l" t="t" r="r" b="b"/>
                  <a:pathLst>
                    <a:path w="192" h="100">
                      <a:moveTo>
                        <a:pt x="6" y="3"/>
                      </a:moveTo>
                      <a:lnTo>
                        <a:pt x="28" y="0"/>
                      </a:lnTo>
                      <a:lnTo>
                        <a:pt x="47" y="5"/>
                      </a:lnTo>
                      <a:lnTo>
                        <a:pt x="66" y="12"/>
                      </a:lnTo>
                      <a:lnTo>
                        <a:pt x="87" y="21"/>
                      </a:lnTo>
                      <a:lnTo>
                        <a:pt x="102" y="24"/>
                      </a:lnTo>
                      <a:lnTo>
                        <a:pt x="118" y="21"/>
                      </a:lnTo>
                      <a:lnTo>
                        <a:pt x="135" y="12"/>
                      </a:lnTo>
                      <a:lnTo>
                        <a:pt x="149" y="9"/>
                      </a:lnTo>
                      <a:lnTo>
                        <a:pt x="166" y="12"/>
                      </a:lnTo>
                      <a:lnTo>
                        <a:pt x="178" y="14"/>
                      </a:lnTo>
                      <a:lnTo>
                        <a:pt x="188" y="23"/>
                      </a:lnTo>
                      <a:lnTo>
                        <a:pt x="192" y="37"/>
                      </a:lnTo>
                      <a:lnTo>
                        <a:pt x="172" y="45"/>
                      </a:lnTo>
                      <a:lnTo>
                        <a:pt x="159" y="50"/>
                      </a:lnTo>
                      <a:lnTo>
                        <a:pt x="145" y="60"/>
                      </a:lnTo>
                      <a:lnTo>
                        <a:pt x="132" y="64"/>
                      </a:lnTo>
                      <a:lnTo>
                        <a:pt x="113" y="66"/>
                      </a:lnTo>
                      <a:lnTo>
                        <a:pt x="95" y="73"/>
                      </a:lnTo>
                      <a:lnTo>
                        <a:pt x="86" y="84"/>
                      </a:lnTo>
                      <a:lnTo>
                        <a:pt x="80" y="100"/>
                      </a:lnTo>
                      <a:lnTo>
                        <a:pt x="66" y="82"/>
                      </a:lnTo>
                      <a:lnTo>
                        <a:pt x="46" y="67"/>
                      </a:lnTo>
                      <a:lnTo>
                        <a:pt x="27" y="54"/>
                      </a:lnTo>
                      <a:lnTo>
                        <a:pt x="13" y="45"/>
                      </a:lnTo>
                      <a:lnTo>
                        <a:pt x="4" y="35"/>
                      </a:lnTo>
                      <a:lnTo>
                        <a:pt x="0" y="23"/>
                      </a:lnTo>
                      <a:lnTo>
                        <a:pt x="1" y="1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458560" y="1216080"/>
                  <a:ext cx="36720" cy="5868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5" y="0"/>
                      </a:moveTo>
                      <a:lnTo>
                        <a:pt x="0" y="31"/>
                      </a:lnTo>
                      <a:lnTo>
                        <a:pt x="3" y="57"/>
                      </a:lnTo>
                      <a:lnTo>
                        <a:pt x="12" y="83"/>
                      </a:lnTo>
                      <a:lnTo>
                        <a:pt x="26" y="102"/>
                      </a:lnTo>
                      <a:lnTo>
                        <a:pt x="44" y="114"/>
                      </a:lnTo>
                      <a:lnTo>
                        <a:pt x="49" y="94"/>
                      </a:lnTo>
                      <a:lnTo>
                        <a:pt x="58" y="79"/>
                      </a:lnTo>
                      <a:lnTo>
                        <a:pt x="70" y="65"/>
                      </a:lnTo>
                      <a:lnTo>
                        <a:pt x="53" y="61"/>
                      </a:lnTo>
                      <a:lnTo>
                        <a:pt x="43" y="56"/>
                      </a:lnTo>
                      <a:lnTo>
                        <a:pt x="36" y="33"/>
                      </a:lnTo>
                      <a:lnTo>
                        <a:pt x="29" y="16"/>
                      </a:lnTo>
                      <a:lnTo>
                        <a:pt x="18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421840" y="1199520"/>
                  <a:ext cx="23040" cy="59760"/>
                </a:xfrm>
                <a:custGeom>
                  <a:avLst/>
                  <a:gdLst/>
                  <a:ahLst/>
                  <a:rect l="l" t="t" r="r" b="b"/>
                  <a:pathLst>
                    <a:path w="44" h="117">
                      <a:moveTo>
                        <a:pt x="17" y="0"/>
                      </a:moveTo>
                      <a:lnTo>
                        <a:pt x="27" y="15"/>
                      </a:lnTo>
                      <a:lnTo>
                        <a:pt x="38" y="37"/>
                      </a:lnTo>
                      <a:lnTo>
                        <a:pt x="44" y="55"/>
                      </a:lnTo>
                      <a:lnTo>
                        <a:pt x="38" y="71"/>
                      </a:lnTo>
                      <a:lnTo>
                        <a:pt x="22" y="94"/>
                      </a:lnTo>
                      <a:lnTo>
                        <a:pt x="0" y="117"/>
                      </a:lnTo>
                      <a:lnTo>
                        <a:pt x="13" y="90"/>
                      </a:lnTo>
                      <a:lnTo>
                        <a:pt x="20" y="69"/>
                      </a:lnTo>
                      <a:lnTo>
                        <a:pt x="23" y="46"/>
                      </a:lnTo>
                      <a:lnTo>
                        <a:pt x="20" y="2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432640" y="1276200"/>
                  <a:ext cx="70560" cy="115560"/>
                </a:xfrm>
                <a:custGeom>
                  <a:avLst/>
                  <a:gdLst/>
                  <a:ahLst/>
                  <a:rect l="l" t="t" r="r" b="b"/>
                  <a:pathLst>
                    <a:path w="138" h="226">
                      <a:moveTo>
                        <a:pt x="18" y="0"/>
                      </a:moveTo>
                      <a:lnTo>
                        <a:pt x="40" y="7"/>
                      </a:lnTo>
                      <a:lnTo>
                        <a:pt x="67" y="24"/>
                      </a:lnTo>
                      <a:lnTo>
                        <a:pt x="93" y="45"/>
                      </a:lnTo>
                      <a:lnTo>
                        <a:pt x="111" y="64"/>
                      </a:lnTo>
                      <a:lnTo>
                        <a:pt x="121" y="91"/>
                      </a:lnTo>
                      <a:lnTo>
                        <a:pt x="125" y="114"/>
                      </a:lnTo>
                      <a:lnTo>
                        <a:pt x="121" y="139"/>
                      </a:lnTo>
                      <a:lnTo>
                        <a:pt x="120" y="157"/>
                      </a:lnTo>
                      <a:lnTo>
                        <a:pt x="123" y="175"/>
                      </a:lnTo>
                      <a:lnTo>
                        <a:pt x="130" y="200"/>
                      </a:lnTo>
                      <a:lnTo>
                        <a:pt x="138" y="222"/>
                      </a:lnTo>
                      <a:lnTo>
                        <a:pt x="124" y="226"/>
                      </a:lnTo>
                      <a:lnTo>
                        <a:pt x="103" y="226"/>
                      </a:lnTo>
                      <a:lnTo>
                        <a:pt x="82" y="225"/>
                      </a:lnTo>
                      <a:lnTo>
                        <a:pt x="64" y="220"/>
                      </a:lnTo>
                      <a:lnTo>
                        <a:pt x="48" y="214"/>
                      </a:lnTo>
                      <a:lnTo>
                        <a:pt x="31" y="204"/>
                      </a:lnTo>
                      <a:lnTo>
                        <a:pt x="17" y="194"/>
                      </a:lnTo>
                      <a:lnTo>
                        <a:pt x="8" y="175"/>
                      </a:lnTo>
                      <a:lnTo>
                        <a:pt x="3" y="136"/>
                      </a:lnTo>
                      <a:lnTo>
                        <a:pt x="0" y="109"/>
                      </a:lnTo>
                      <a:lnTo>
                        <a:pt x="3" y="81"/>
                      </a:lnTo>
                      <a:lnTo>
                        <a:pt x="6" y="46"/>
                      </a:lnTo>
                      <a:lnTo>
                        <a:pt x="12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420400" y="1191960"/>
                  <a:ext cx="155160" cy="38160"/>
                </a:xfrm>
                <a:custGeom>
                  <a:avLst/>
                  <a:gdLst/>
                  <a:ahLst/>
                  <a:rect l="l" t="t" r="r" b="b"/>
                  <a:pathLst>
                    <a:path w="304" h="77">
                      <a:moveTo>
                        <a:pt x="3" y="0"/>
                      </a:moveTo>
                      <a:lnTo>
                        <a:pt x="0" y="6"/>
                      </a:lnTo>
                      <a:lnTo>
                        <a:pt x="16" y="18"/>
                      </a:lnTo>
                      <a:lnTo>
                        <a:pt x="32" y="28"/>
                      </a:lnTo>
                      <a:lnTo>
                        <a:pt x="48" y="37"/>
                      </a:lnTo>
                      <a:lnTo>
                        <a:pt x="71" y="48"/>
                      </a:lnTo>
                      <a:lnTo>
                        <a:pt x="92" y="59"/>
                      </a:lnTo>
                      <a:lnTo>
                        <a:pt x="119" y="68"/>
                      </a:lnTo>
                      <a:lnTo>
                        <a:pt x="144" y="74"/>
                      </a:lnTo>
                      <a:lnTo>
                        <a:pt x="163" y="75"/>
                      </a:lnTo>
                      <a:lnTo>
                        <a:pt x="184" y="77"/>
                      </a:lnTo>
                      <a:lnTo>
                        <a:pt x="206" y="74"/>
                      </a:lnTo>
                      <a:lnTo>
                        <a:pt x="228" y="69"/>
                      </a:lnTo>
                      <a:lnTo>
                        <a:pt x="250" y="65"/>
                      </a:lnTo>
                      <a:lnTo>
                        <a:pt x="272" y="59"/>
                      </a:lnTo>
                      <a:lnTo>
                        <a:pt x="291" y="51"/>
                      </a:lnTo>
                      <a:lnTo>
                        <a:pt x="304" y="45"/>
                      </a:lnTo>
                      <a:lnTo>
                        <a:pt x="300" y="29"/>
                      </a:lnTo>
                      <a:lnTo>
                        <a:pt x="275" y="39"/>
                      </a:lnTo>
                      <a:lnTo>
                        <a:pt x="245" y="51"/>
                      </a:lnTo>
                      <a:lnTo>
                        <a:pt x="224" y="57"/>
                      </a:lnTo>
                      <a:lnTo>
                        <a:pt x="200" y="61"/>
                      </a:lnTo>
                      <a:lnTo>
                        <a:pt x="168" y="65"/>
                      </a:lnTo>
                      <a:lnTo>
                        <a:pt x="138" y="60"/>
                      </a:lnTo>
                      <a:lnTo>
                        <a:pt x="110" y="51"/>
                      </a:lnTo>
                      <a:lnTo>
                        <a:pt x="81" y="42"/>
                      </a:lnTo>
                      <a:lnTo>
                        <a:pt x="53" y="27"/>
                      </a:lnTo>
                      <a:lnTo>
                        <a:pt x="27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rdia New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7949160" y="325440"/>
                <a:ext cx="488160" cy="442800"/>
                <a:chOff x="7949160" y="325440"/>
                <a:chExt cx="488160" cy="44280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8006040" y="434520"/>
                  <a:ext cx="340920" cy="333720"/>
                  <a:chOff x="8006040" y="434520"/>
                  <a:chExt cx="340920" cy="333720"/>
                </a:xfrm>
              </p:grpSpPr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8006040" y="434520"/>
                    <a:ext cx="340920" cy="333720"/>
                    <a:chOff x="8006040" y="434520"/>
                    <a:chExt cx="340920" cy="333720"/>
                  </a:xfrm>
                </p:grpSpPr>
                <p:grpSp>
                  <p:nvGrpSpPr>
                    <p:cNvPr id="761" name=""/>
                    <p:cNvGrpSpPr/>
                    <p:nvPr/>
                  </p:nvGrpSpPr>
                  <p:grpSpPr>
                    <a:xfrm>
                      <a:off x="8046000" y="574920"/>
                      <a:ext cx="61200" cy="51840"/>
                      <a:chOff x="8046000" y="574920"/>
                      <a:chExt cx="61200" cy="51840"/>
                    </a:xfrm>
                  </p:grpSpPr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8046000" y="574920"/>
                        <a:ext cx="457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78">
                            <a:moveTo>
                              <a:pt x="3" y="0"/>
                            </a:moveTo>
                            <a:lnTo>
                              <a:pt x="2" y="39"/>
                            </a:lnTo>
                            <a:lnTo>
                              <a:pt x="0" y="54"/>
                            </a:lnTo>
                            <a:lnTo>
                              <a:pt x="0" y="62"/>
                            </a:lnTo>
                            <a:lnTo>
                              <a:pt x="2" y="70"/>
                            </a:lnTo>
                            <a:lnTo>
                              <a:pt x="18" y="71"/>
                            </a:lnTo>
                            <a:lnTo>
                              <a:pt x="88" y="78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a08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8056440" y="594720"/>
                        <a:ext cx="5076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64">
                            <a:moveTo>
                              <a:pt x="0" y="0"/>
                            </a:moveTo>
                            <a:lnTo>
                              <a:pt x="13" y="37"/>
                            </a:lnTo>
                            <a:lnTo>
                              <a:pt x="17" y="51"/>
                            </a:lnTo>
                            <a:lnTo>
                              <a:pt x="15" y="64"/>
                            </a:lnTo>
                            <a:lnTo>
                              <a:pt x="24" y="50"/>
                            </a:lnTo>
                            <a:lnTo>
                              <a:pt x="32" y="47"/>
                            </a:lnTo>
                            <a:lnTo>
                              <a:pt x="99" y="3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</p:grpSp>
                <p:grpSp>
                  <p:nvGrpSpPr>
                    <p:cNvPr id="764" name=""/>
                    <p:cNvGrpSpPr/>
                    <p:nvPr/>
                  </p:nvGrpSpPr>
                  <p:grpSpPr>
                    <a:xfrm>
                      <a:off x="8006040" y="434520"/>
                      <a:ext cx="340920" cy="333720"/>
                      <a:chOff x="8006040" y="434520"/>
                      <a:chExt cx="340920" cy="333720"/>
                    </a:xfrm>
                  </p:grpSpPr>
                  <p:sp>
                    <p:nvSpPr>
                      <p:cNvPr id="765" name=""/>
                      <p:cNvSpPr/>
                      <p:nvPr/>
                    </p:nvSpPr>
                    <p:spPr>
                      <a:xfrm>
                        <a:off x="8006040" y="434520"/>
                        <a:ext cx="333720" cy="33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0" h="648">
                            <a:moveTo>
                              <a:pt x="0" y="166"/>
                            </a:moveTo>
                            <a:lnTo>
                              <a:pt x="45" y="262"/>
                            </a:lnTo>
                            <a:lnTo>
                              <a:pt x="75" y="310"/>
                            </a:lnTo>
                            <a:lnTo>
                              <a:pt x="101" y="339"/>
                            </a:lnTo>
                            <a:lnTo>
                              <a:pt x="135" y="368"/>
                            </a:lnTo>
                            <a:lnTo>
                              <a:pt x="138" y="388"/>
                            </a:lnTo>
                            <a:lnTo>
                              <a:pt x="135" y="413"/>
                            </a:lnTo>
                            <a:lnTo>
                              <a:pt x="130" y="446"/>
                            </a:lnTo>
                            <a:lnTo>
                              <a:pt x="126" y="472"/>
                            </a:lnTo>
                            <a:lnTo>
                              <a:pt x="128" y="487"/>
                            </a:lnTo>
                            <a:lnTo>
                              <a:pt x="135" y="504"/>
                            </a:lnTo>
                            <a:lnTo>
                              <a:pt x="148" y="513"/>
                            </a:lnTo>
                            <a:lnTo>
                              <a:pt x="165" y="518"/>
                            </a:lnTo>
                            <a:lnTo>
                              <a:pt x="187" y="516"/>
                            </a:lnTo>
                            <a:lnTo>
                              <a:pt x="201" y="518"/>
                            </a:lnTo>
                            <a:lnTo>
                              <a:pt x="222" y="547"/>
                            </a:lnTo>
                            <a:lnTo>
                              <a:pt x="227" y="562"/>
                            </a:lnTo>
                            <a:lnTo>
                              <a:pt x="238" y="567"/>
                            </a:lnTo>
                            <a:lnTo>
                              <a:pt x="253" y="565"/>
                            </a:lnTo>
                            <a:lnTo>
                              <a:pt x="260" y="563"/>
                            </a:lnTo>
                            <a:lnTo>
                              <a:pt x="264" y="575"/>
                            </a:lnTo>
                            <a:lnTo>
                              <a:pt x="268" y="588"/>
                            </a:lnTo>
                            <a:lnTo>
                              <a:pt x="280" y="595"/>
                            </a:lnTo>
                            <a:lnTo>
                              <a:pt x="295" y="601"/>
                            </a:lnTo>
                            <a:lnTo>
                              <a:pt x="307" y="599"/>
                            </a:lnTo>
                            <a:lnTo>
                              <a:pt x="321" y="611"/>
                            </a:lnTo>
                            <a:lnTo>
                              <a:pt x="334" y="621"/>
                            </a:lnTo>
                            <a:lnTo>
                              <a:pt x="341" y="634"/>
                            </a:lnTo>
                            <a:lnTo>
                              <a:pt x="366" y="646"/>
                            </a:lnTo>
                            <a:lnTo>
                              <a:pt x="387" y="648"/>
                            </a:lnTo>
                            <a:lnTo>
                              <a:pt x="412" y="639"/>
                            </a:lnTo>
                            <a:lnTo>
                              <a:pt x="437" y="622"/>
                            </a:lnTo>
                            <a:lnTo>
                              <a:pt x="459" y="602"/>
                            </a:lnTo>
                            <a:lnTo>
                              <a:pt x="481" y="572"/>
                            </a:lnTo>
                            <a:lnTo>
                              <a:pt x="504" y="566"/>
                            </a:lnTo>
                            <a:lnTo>
                              <a:pt x="555" y="512"/>
                            </a:lnTo>
                            <a:lnTo>
                              <a:pt x="650" y="397"/>
                            </a:lnTo>
                            <a:lnTo>
                              <a:pt x="634" y="352"/>
                            </a:lnTo>
                            <a:lnTo>
                              <a:pt x="603" y="195"/>
                            </a:lnTo>
                            <a:lnTo>
                              <a:pt x="526" y="90"/>
                            </a:lnTo>
                            <a:lnTo>
                              <a:pt x="406" y="22"/>
                            </a:lnTo>
                            <a:lnTo>
                              <a:pt x="254" y="0"/>
                            </a:lnTo>
                            <a:lnTo>
                              <a:pt x="83" y="29"/>
                            </a:lnTo>
                            <a:lnTo>
                              <a:pt x="22" y="76"/>
                            </a:lnTo>
                            <a:lnTo>
                              <a:pt x="0" y="166"/>
                            </a:lnTo>
                            <a:close/>
                          </a:path>
                        </a:pathLst>
                      </a:custGeom>
                      <a:solidFill>
                        <a:srgbClr val="ff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Cordia New"/>
                        </a:endParaRPr>
                      </a:p>
                    </p:txBody>
                  </p:sp>
                  <p:grpSp>
                    <p:nvGrpSpPr>
                      <p:cNvPr id="766" name=""/>
                      <p:cNvGrpSpPr/>
                      <p:nvPr/>
                    </p:nvGrpSpPr>
                    <p:grpSpPr>
                      <a:xfrm>
                        <a:off x="8084520" y="483840"/>
                        <a:ext cx="262440" cy="284400"/>
                        <a:chOff x="8084520" y="483840"/>
                        <a:chExt cx="262440" cy="284400"/>
                      </a:xfrm>
                    </p:grpSpPr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>
                          <a:off x="8158320" y="722160"/>
                          <a:ext cx="2916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50">
                              <a:moveTo>
                                <a:pt x="0" y="36"/>
                              </a:moveTo>
                              <a:lnTo>
                                <a:pt x="27" y="4"/>
                              </a:lnTo>
                              <a:lnTo>
                                <a:pt x="42" y="5"/>
                              </a:lnTo>
                              <a:lnTo>
                                <a:pt x="57" y="0"/>
                              </a:lnTo>
                              <a:lnTo>
                                <a:pt x="36" y="27"/>
                              </a:lnTo>
                              <a:lnTo>
                                <a:pt x="22" y="50"/>
                              </a:lnTo>
                              <a:lnTo>
                                <a:pt x="13" y="42"/>
                              </a:lnTo>
                              <a:lnTo>
                                <a:pt x="0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>
                          <a:off x="8093880" y="483840"/>
                          <a:ext cx="253080" cy="26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5" h="505">
                              <a:moveTo>
                                <a:pt x="0" y="129"/>
                              </a:moveTo>
                              <a:lnTo>
                                <a:pt x="66" y="155"/>
                              </a:lnTo>
                              <a:lnTo>
                                <a:pt x="101" y="165"/>
                              </a:lnTo>
                              <a:lnTo>
                                <a:pt x="142" y="170"/>
                              </a:lnTo>
                              <a:lnTo>
                                <a:pt x="181" y="173"/>
                              </a:lnTo>
                              <a:lnTo>
                                <a:pt x="171" y="194"/>
                              </a:lnTo>
                              <a:lnTo>
                                <a:pt x="164" y="225"/>
                              </a:lnTo>
                              <a:lnTo>
                                <a:pt x="159" y="256"/>
                              </a:lnTo>
                              <a:lnTo>
                                <a:pt x="147" y="269"/>
                              </a:lnTo>
                              <a:lnTo>
                                <a:pt x="128" y="281"/>
                              </a:lnTo>
                              <a:lnTo>
                                <a:pt x="98" y="294"/>
                              </a:lnTo>
                              <a:lnTo>
                                <a:pt x="85" y="310"/>
                              </a:lnTo>
                              <a:lnTo>
                                <a:pt x="81" y="331"/>
                              </a:lnTo>
                              <a:lnTo>
                                <a:pt x="85" y="357"/>
                              </a:lnTo>
                              <a:lnTo>
                                <a:pt x="97" y="381"/>
                              </a:lnTo>
                              <a:lnTo>
                                <a:pt x="108" y="399"/>
                              </a:lnTo>
                              <a:lnTo>
                                <a:pt x="128" y="416"/>
                              </a:lnTo>
                              <a:lnTo>
                                <a:pt x="138" y="409"/>
                              </a:lnTo>
                              <a:lnTo>
                                <a:pt x="152" y="406"/>
                              </a:lnTo>
                              <a:lnTo>
                                <a:pt x="166" y="408"/>
                              </a:lnTo>
                              <a:lnTo>
                                <a:pt x="159" y="447"/>
                              </a:lnTo>
                              <a:lnTo>
                                <a:pt x="175" y="456"/>
                              </a:lnTo>
                              <a:lnTo>
                                <a:pt x="191" y="466"/>
                              </a:lnTo>
                              <a:lnTo>
                                <a:pt x="202" y="484"/>
                              </a:lnTo>
                              <a:lnTo>
                                <a:pt x="209" y="497"/>
                              </a:lnTo>
                              <a:lnTo>
                                <a:pt x="223" y="503"/>
                              </a:lnTo>
                              <a:lnTo>
                                <a:pt x="238" y="505"/>
                              </a:lnTo>
                              <a:lnTo>
                                <a:pt x="260" y="490"/>
                              </a:lnTo>
                              <a:lnTo>
                                <a:pt x="278" y="472"/>
                              </a:lnTo>
                              <a:lnTo>
                                <a:pt x="289" y="457"/>
                              </a:lnTo>
                              <a:lnTo>
                                <a:pt x="295" y="426"/>
                              </a:lnTo>
                              <a:lnTo>
                                <a:pt x="302" y="391"/>
                              </a:lnTo>
                              <a:lnTo>
                                <a:pt x="317" y="377"/>
                              </a:lnTo>
                              <a:lnTo>
                                <a:pt x="376" y="357"/>
                              </a:lnTo>
                              <a:lnTo>
                                <a:pt x="430" y="335"/>
                              </a:lnTo>
                              <a:lnTo>
                                <a:pt x="469" y="312"/>
                              </a:lnTo>
                              <a:lnTo>
                                <a:pt x="495" y="282"/>
                              </a:lnTo>
                              <a:lnTo>
                                <a:pt x="448" y="99"/>
                              </a:lnTo>
                              <a:lnTo>
                                <a:pt x="159" y="0"/>
                              </a:lnTo>
                              <a:lnTo>
                                <a:pt x="0" y="1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>
                          <a:off x="8084520" y="660960"/>
                          <a:ext cx="52200" cy="4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" h="80">
                              <a:moveTo>
                                <a:pt x="12" y="76"/>
                              </a:moveTo>
                              <a:lnTo>
                                <a:pt x="0" y="71"/>
                              </a:lnTo>
                              <a:lnTo>
                                <a:pt x="0" y="60"/>
                              </a:lnTo>
                              <a:lnTo>
                                <a:pt x="11" y="56"/>
                              </a:lnTo>
                              <a:lnTo>
                                <a:pt x="29" y="54"/>
                              </a:lnTo>
                              <a:lnTo>
                                <a:pt x="45" y="56"/>
                              </a:lnTo>
                              <a:lnTo>
                                <a:pt x="65" y="63"/>
                              </a:lnTo>
                              <a:lnTo>
                                <a:pt x="76" y="41"/>
                              </a:lnTo>
                              <a:lnTo>
                                <a:pt x="76" y="25"/>
                              </a:lnTo>
                              <a:lnTo>
                                <a:pt x="71" y="13"/>
                              </a:lnTo>
                              <a:lnTo>
                                <a:pt x="58" y="9"/>
                              </a:lnTo>
                              <a:lnTo>
                                <a:pt x="47" y="13"/>
                              </a:lnTo>
                              <a:lnTo>
                                <a:pt x="38" y="20"/>
                              </a:lnTo>
                              <a:lnTo>
                                <a:pt x="40" y="9"/>
                              </a:lnTo>
                              <a:lnTo>
                                <a:pt x="52" y="0"/>
                              </a:lnTo>
                              <a:lnTo>
                                <a:pt x="68" y="0"/>
                              </a:lnTo>
                              <a:lnTo>
                                <a:pt x="89" y="7"/>
                              </a:lnTo>
                              <a:lnTo>
                                <a:pt x="98" y="19"/>
                              </a:lnTo>
                              <a:lnTo>
                                <a:pt x="101" y="33"/>
                              </a:lnTo>
                              <a:lnTo>
                                <a:pt x="98" y="51"/>
                              </a:lnTo>
                              <a:lnTo>
                                <a:pt x="88" y="69"/>
                              </a:lnTo>
                              <a:lnTo>
                                <a:pt x="75" y="77"/>
                              </a:lnTo>
                              <a:lnTo>
                                <a:pt x="54" y="80"/>
                              </a:lnTo>
                              <a:lnTo>
                                <a:pt x="41" y="76"/>
                              </a:lnTo>
                              <a:lnTo>
                                <a:pt x="29" y="72"/>
                              </a:lnTo>
                              <a:lnTo>
                                <a:pt x="12" y="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>
                          <a:off x="8181360" y="748440"/>
                          <a:ext cx="414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39">
                              <a:moveTo>
                                <a:pt x="0" y="24"/>
                              </a:moveTo>
                              <a:lnTo>
                                <a:pt x="20" y="15"/>
                              </a:lnTo>
                              <a:lnTo>
                                <a:pt x="39" y="0"/>
                              </a:lnTo>
                              <a:lnTo>
                                <a:pt x="48" y="6"/>
                              </a:lnTo>
                              <a:lnTo>
                                <a:pt x="58" y="14"/>
                              </a:lnTo>
                              <a:lnTo>
                                <a:pt x="69" y="18"/>
                              </a:lnTo>
                              <a:lnTo>
                                <a:pt x="80" y="20"/>
                              </a:lnTo>
                              <a:lnTo>
                                <a:pt x="61" y="32"/>
                              </a:lnTo>
                              <a:lnTo>
                                <a:pt x="43" y="39"/>
                              </a:lnTo>
                              <a:lnTo>
                                <a:pt x="28" y="37"/>
                              </a:lnTo>
                              <a:lnTo>
                                <a:pt x="15" y="33"/>
                              </a:lnTo>
                              <a:lnTo>
                                <a:pt x="0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Cordia New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8119800" y="693360"/>
                    <a:ext cx="57960" cy="50760"/>
                    <a:chOff x="8119800" y="693360"/>
                    <a:chExt cx="57960" cy="5076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8125560" y="693360"/>
                      <a:ext cx="518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81">
                          <a:moveTo>
                            <a:pt x="0" y="54"/>
                          </a:moveTo>
                          <a:lnTo>
                            <a:pt x="23" y="58"/>
                          </a:lnTo>
                          <a:lnTo>
                            <a:pt x="34" y="73"/>
                          </a:lnTo>
                          <a:lnTo>
                            <a:pt x="40" y="81"/>
                          </a:lnTo>
                          <a:lnTo>
                            <a:pt x="77" y="67"/>
                          </a:lnTo>
                          <a:lnTo>
                            <a:pt x="88" y="48"/>
                          </a:lnTo>
                          <a:lnTo>
                            <a:pt x="102" y="0"/>
                          </a:lnTo>
                          <a:lnTo>
                            <a:pt x="86" y="8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e04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8131680" y="693360"/>
                      <a:ext cx="442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73">
                          <a:moveTo>
                            <a:pt x="0" y="51"/>
                          </a:moveTo>
                          <a:lnTo>
                            <a:pt x="20" y="73"/>
                          </a:lnTo>
                          <a:lnTo>
                            <a:pt x="33" y="69"/>
                          </a:lnTo>
                          <a:lnTo>
                            <a:pt x="87" y="8"/>
                          </a:lnTo>
                          <a:lnTo>
                            <a:pt x="88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8119800" y="693360"/>
                      <a:ext cx="579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66">
                          <a:moveTo>
                            <a:pt x="115" y="0"/>
                          </a:moveTo>
                          <a:lnTo>
                            <a:pt x="96" y="10"/>
                          </a:lnTo>
                          <a:lnTo>
                            <a:pt x="66" y="21"/>
                          </a:lnTo>
                          <a:lnTo>
                            <a:pt x="35" y="27"/>
                          </a:lnTo>
                          <a:lnTo>
                            <a:pt x="13" y="39"/>
                          </a:lnTo>
                          <a:lnTo>
                            <a:pt x="4" y="47"/>
                          </a:lnTo>
                          <a:lnTo>
                            <a:pt x="0" y="60"/>
                          </a:lnTo>
                          <a:lnTo>
                            <a:pt x="7" y="66"/>
                          </a:lnTo>
                          <a:lnTo>
                            <a:pt x="18" y="66"/>
                          </a:lnTo>
                          <a:lnTo>
                            <a:pt x="29" y="65"/>
                          </a:lnTo>
                          <a:lnTo>
                            <a:pt x="49" y="55"/>
                          </a:lnTo>
                          <a:lnTo>
                            <a:pt x="71" y="38"/>
                          </a:lnTo>
                          <a:lnTo>
                            <a:pt x="109" y="10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8139240" y="693360"/>
                      <a:ext cx="381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9">
                          <a:moveTo>
                            <a:pt x="75" y="0"/>
                          </a:moveTo>
                          <a:lnTo>
                            <a:pt x="57" y="35"/>
                          </a:lnTo>
                          <a:lnTo>
                            <a:pt x="40" y="54"/>
                          </a:lnTo>
                          <a:lnTo>
                            <a:pt x="31" y="69"/>
                          </a:lnTo>
                          <a:lnTo>
                            <a:pt x="21" y="74"/>
                          </a:lnTo>
                          <a:lnTo>
                            <a:pt x="12" y="74"/>
                          </a:lnTo>
                          <a:lnTo>
                            <a:pt x="0" y="71"/>
                          </a:lnTo>
                          <a:lnTo>
                            <a:pt x="3" y="82"/>
                          </a:lnTo>
                          <a:lnTo>
                            <a:pt x="9" y="87"/>
                          </a:lnTo>
                          <a:lnTo>
                            <a:pt x="26" y="96"/>
                          </a:lnTo>
                          <a:lnTo>
                            <a:pt x="36" y="99"/>
                          </a:lnTo>
                          <a:lnTo>
                            <a:pt x="48" y="98"/>
                          </a:lnTo>
                          <a:lnTo>
                            <a:pt x="58" y="87"/>
                          </a:lnTo>
                          <a:lnTo>
                            <a:pt x="67" y="74"/>
                          </a:lnTo>
                          <a:lnTo>
                            <a:pt x="71" y="58"/>
                          </a:lnTo>
                          <a:lnTo>
                            <a:pt x="69" y="3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p:txBody>
                </p:sp>
              </p:grpSp>
              <p:sp>
                <p:nvSpPr>
                  <p:cNvPr id="776" name=""/>
                  <p:cNvSpPr/>
                  <p:nvPr/>
                </p:nvSpPr>
                <p:spPr>
                  <a:xfrm>
                    <a:off x="8089200" y="588600"/>
                    <a:ext cx="457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84">
                        <a:moveTo>
                          <a:pt x="0" y="46"/>
                        </a:moveTo>
                        <a:lnTo>
                          <a:pt x="10" y="31"/>
                        </a:lnTo>
                        <a:lnTo>
                          <a:pt x="27" y="20"/>
                        </a:lnTo>
                        <a:lnTo>
                          <a:pt x="48" y="9"/>
                        </a:lnTo>
                        <a:lnTo>
                          <a:pt x="67" y="4"/>
                        </a:lnTo>
                        <a:lnTo>
                          <a:pt x="89" y="0"/>
                        </a:lnTo>
                        <a:lnTo>
                          <a:pt x="90" y="13"/>
                        </a:lnTo>
                        <a:lnTo>
                          <a:pt x="91" y="30"/>
                        </a:lnTo>
                        <a:lnTo>
                          <a:pt x="88" y="49"/>
                        </a:lnTo>
                        <a:lnTo>
                          <a:pt x="78" y="66"/>
                        </a:lnTo>
                        <a:lnTo>
                          <a:pt x="64" y="78"/>
                        </a:lnTo>
                        <a:lnTo>
                          <a:pt x="46" y="84"/>
                        </a:lnTo>
                        <a:lnTo>
                          <a:pt x="39" y="70"/>
                        </a:lnTo>
                        <a:lnTo>
                          <a:pt x="27" y="62"/>
                        </a:lnTo>
                        <a:lnTo>
                          <a:pt x="21" y="56"/>
                        </a:lnTo>
                        <a:lnTo>
                          <a:pt x="8" y="52"/>
                        </a:lnTo>
                        <a:lnTo>
                          <a:pt x="0" y="46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110440" y="590040"/>
                    <a:ext cx="226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0" y="29"/>
                        </a:moveTo>
                        <a:lnTo>
                          <a:pt x="20" y="50"/>
                        </a:lnTo>
                        <a:lnTo>
                          <a:pt x="34" y="33"/>
                        </a:lnTo>
                        <a:lnTo>
                          <a:pt x="46" y="10"/>
                        </a:lnTo>
                        <a:lnTo>
                          <a:pt x="47" y="0"/>
                        </a:lnTo>
                        <a:lnTo>
                          <a:pt x="30" y="7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ffff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099640" y="58860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0" y="66"/>
                        </a:moveTo>
                        <a:lnTo>
                          <a:pt x="6" y="59"/>
                        </a:lnTo>
                        <a:lnTo>
                          <a:pt x="15" y="43"/>
                        </a:lnTo>
                        <a:lnTo>
                          <a:pt x="32" y="30"/>
                        </a:lnTo>
                        <a:lnTo>
                          <a:pt x="50" y="17"/>
                        </a:lnTo>
                        <a:lnTo>
                          <a:pt x="64" y="7"/>
                        </a:lnTo>
                        <a:lnTo>
                          <a:pt x="59" y="22"/>
                        </a:lnTo>
                        <a:lnTo>
                          <a:pt x="50" y="38"/>
                        </a:lnTo>
                        <a:lnTo>
                          <a:pt x="42" y="47"/>
                        </a:lnTo>
                        <a:lnTo>
                          <a:pt x="33" y="66"/>
                        </a:lnTo>
                        <a:lnTo>
                          <a:pt x="32" y="79"/>
                        </a:lnTo>
                        <a:lnTo>
                          <a:pt x="37" y="63"/>
                        </a:lnTo>
                        <a:lnTo>
                          <a:pt x="45" y="52"/>
                        </a:lnTo>
                        <a:lnTo>
                          <a:pt x="59" y="34"/>
                        </a:lnTo>
                        <a:lnTo>
                          <a:pt x="64" y="19"/>
                        </a:lnTo>
                        <a:lnTo>
                          <a:pt x="68" y="9"/>
                        </a:lnTo>
                        <a:lnTo>
                          <a:pt x="69" y="0"/>
                        </a:lnTo>
                        <a:lnTo>
                          <a:pt x="59" y="8"/>
                        </a:lnTo>
                        <a:lnTo>
                          <a:pt x="42" y="16"/>
                        </a:lnTo>
                        <a:lnTo>
                          <a:pt x="27" y="26"/>
                        </a:lnTo>
                        <a:lnTo>
                          <a:pt x="14" y="38"/>
                        </a:lnTo>
                        <a:lnTo>
                          <a:pt x="2" y="52"/>
                        </a:lnTo>
                        <a:lnTo>
                          <a:pt x="0" y="6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8104680" y="601200"/>
                    <a:ext cx="183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2">
                        <a:moveTo>
                          <a:pt x="0" y="20"/>
                        </a:moveTo>
                        <a:lnTo>
                          <a:pt x="0" y="36"/>
                        </a:lnTo>
                        <a:lnTo>
                          <a:pt x="10" y="42"/>
                        </a:lnTo>
                        <a:lnTo>
                          <a:pt x="25" y="38"/>
                        </a:lnTo>
                        <a:lnTo>
                          <a:pt x="38" y="23"/>
                        </a:lnTo>
                        <a:lnTo>
                          <a:pt x="38" y="11"/>
                        </a:lnTo>
                        <a:lnTo>
                          <a:pt x="24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604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8104680" y="597960"/>
                    <a:ext cx="22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2">
                        <a:moveTo>
                          <a:pt x="0" y="21"/>
                        </a:moveTo>
                        <a:lnTo>
                          <a:pt x="0" y="43"/>
                        </a:lnTo>
                        <a:lnTo>
                          <a:pt x="11" y="52"/>
                        </a:lnTo>
                        <a:lnTo>
                          <a:pt x="31" y="49"/>
                        </a:lnTo>
                        <a:lnTo>
                          <a:pt x="46" y="30"/>
                        </a:lnTo>
                        <a:lnTo>
                          <a:pt x="46" y="12"/>
                        </a:lnTo>
                        <a:lnTo>
                          <a:pt x="33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106120" y="605520"/>
                    <a:ext cx="16920" cy="1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090640" y="588600"/>
                    <a:ext cx="428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47">
                        <a:moveTo>
                          <a:pt x="0" y="47"/>
                        </a:moveTo>
                        <a:lnTo>
                          <a:pt x="1" y="38"/>
                        </a:lnTo>
                        <a:lnTo>
                          <a:pt x="8" y="27"/>
                        </a:lnTo>
                        <a:lnTo>
                          <a:pt x="17" y="20"/>
                        </a:lnTo>
                        <a:lnTo>
                          <a:pt x="30" y="11"/>
                        </a:lnTo>
                        <a:lnTo>
                          <a:pt x="46" y="4"/>
                        </a:lnTo>
                        <a:lnTo>
                          <a:pt x="64" y="0"/>
                        </a:lnTo>
                        <a:lnTo>
                          <a:pt x="84" y="2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8075160" y="599400"/>
                    <a:ext cx="291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4">
                        <a:moveTo>
                          <a:pt x="0" y="0"/>
                        </a:moveTo>
                        <a:lnTo>
                          <a:pt x="24" y="17"/>
                        </a:lnTo>
                        <a:lnTo>
                          <a:pt x="57" y="32"/>
                        </a:lnTo>
                        <a:lnTo>
                          <a:pt x="42" y="52"/>
                        </a:lnTo>
                        <a:lnTo>
                          <a:pt x="37" y="68"/>
                        </a:lnTo>
                        <a:lnTo>
                          <a:pt x="40" y="91"/>
                        </a:lnTo>
                        <a:lnTo>
                          <a:pt x="55" y="124"/>
                        </a:lnTo>
                        <a:lnTo>
                          <a:pt x="43" y="106"/>
                        </a:lnTo>
                        <a:lnTo>
                          <a:pt x="30" y="88"/>
                        </a:lnTo>
                        <a:lnTo>
                          <a:pt x="20" y="66"/>
                        </a:lnTo>
                        <a:lnTo>
                          <a:pt x="10" y="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069040" y="546840"/>
                    <a:ext cx="554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23">
                        <a:moveTo>
                          <a:pt x="28" y="119"/>
                        </a:moveTo>
                        <a:lnTo>
                          <a:pt x="29" y="101"/>
                        </a:lnTo>
                        <a:lnTo>
                          <a:pt x="31" y="80"/>
                        </a:lnTo>
                        <a:lnTo>
                          <a:pt x="41" y="65"/>
                        </a:lnTo>
                        <a:lnTo>
                          <a:pt x="72" y="44"/>
                        </a:lnTo>
                        <a:lnTo>
                          <a:pt x="103" y="17"/>
                        </a:lnTo>
                        <a:lnTo>
                          <a:pt x="108" y="0"/>
                        </a:lnTo>
                        <a:lnTo>
                          <a:pt x="65" y="35"/>
                        </a:lnTo>
                        <a:lnTo>
                          <a:pt x="22" y="52"/>
                        </a:lnTo>
                        <a:lnTo>
                          <a:pt x="5" y="75"/>
                        </a:lnTo>
                        <a:lnTo>
                          <a:pt x="0" y="97"/>
                        </a:lnTo>
                        <a:lnTo>
                          <a:pt x="0" y="112"/>
                        </a:lnTo>
                        <a:lnTo>
                          <a:pt x="5" y="120"/>
                        </a:lnTo>
                        <a:lnTo>
                          <a:pt x="15" y="123"/>
                        </a:lnTo>
                        <a:lnTo>
                          <a:pt x="28" y="119"/>
                        </a:lnTo>
                        <a:close/>
                      </a:path>
                    </a:pathLst>
                  </a:custGeom>
                  <a:solidFill>
                    <a:srgbClr val="a08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8110440" y="606960"/>
                    <a:ext cx="7560" cy="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949160" y="325440"/>
                  <a:ext cx="488160" cy="352800"/>
                  <a:chOff x="7949160" y="325440"/>
                  <a:chExt cx="488160" cy="35280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7949160" y="325440"/>
                    <a:ext cx="48816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689">
                        <a:moveTo>
                          <a:pt x="166" y="108"/>
                        </a:moveTo>
                        <a:lnTo>
                          <a:pt x="142" y="122"/>
                        </a:lnTo>
                        <a:lnTo>
                          <a:pt x="120" y="141"/>
                        </a:lnTo>
                        <a:lnTo>
                          <a:pt x="94" y="171"/>
                        </a:lnTo>
                        <a:lnTo>
                          <a:pt x="75" y="186"/>
                        </a:lnTo>
                        <a:lnTo>
                          <a:pt x="57" y="208"/>
                        </a:lnTo>
                        <a:lnTo>
                          <a:pt x="47" y="225"/>
                        </a:lnTo>
                        <a:lnTo>
                          <a:pt x="41" y="243"/>
                        </a:lnTo>
                        <a:lnTo>
                          <a:pt x="39" y="260"/>
                        </a:lnTo>
                        <a:lnTo>
                          <a:pt x="41" y="276"/>
                        </a:lnTo>
                        <a:lnTo>
                          <a:pt x="45" y="298"/>
                        </a:lnTo>
                        <a:lnTo>
                          <a:pt x="35" y="316"/>
                        </a:lnTo>
                        <a:lnTo>
                          <a:pt x="27" y="329"/>
                        </a:lnTo>
                        <a:lnTo>
                          <a:pt x="23" y="346"/>
                        </a:lnTo>
                        <a:lnTo>
                          <a:pt x="20" y="366"/>
                        </a:lnTo>
                        <a:lnTo>
                          <a:pt x="11" y="390"/>
                        </a:lnTo>
                        <a:lnTo>
                          <a:pt x="4" y="409"/>
                        </a:lnTo>
                        <a:lnTo>
                          <a:pt x="0" y="431"/>
                        </a:lnTo>
                        <a:lnTo>
                          <a:pt x="3" y="459"/>
                        </a:lnTo>
                        <a:lnTo>
                          <a:pt x="12" y="486"/>
                        </a:lnTo>
                        <a:lnTo>
                          <a:pt x="20" y="505"/>
                        </a:lnTo>
                        <a:lnTo>
                          <a:pt x="30" y="523"/>
                        </a:lnTo>
                        <a:lnTo>
                          <a:pt x="44" y="536"/>
                        </a:lnTo>
                        <a:lnTo>
                          <a:pt x="65" y="549"/>
                        </a:lnTo>
                        <a:lnTo>
                          <a:pt x="56" y="538"/>
                        </a:lnTo>
                        <a:lnTo>
                          <a:pt x="57" y="530"/>
                        </a:lnTo>
                        <a:lnTo>
                          <a:pt x="67" y="525"/>
                        </a:lnTo>
                        <a:lnTo>
                          <a:pt x="78" y="526"/>
                        </a:lnTo>
                        <a:lnTo>
                          <a:pt x="89" y="531"/>
                        </a:lnTo>
                        <a:lnTo>
                          <a:pt x="98" y="541"/>
                        </a:lnTo>
                        <a:lnTo>
                          <a:pt x="112" y="552"/>
                        </a:lnTo>
                        <a:lnTo>
                          <a:pt x="105" y="539"/>
                        </a:lnTo>
                        <a:lnTo>
                          <a:pt x="103" y="530"/>
                        </a:lnTo>
                        <a:lnTo>
                          <a:pt x="124" y="532"/>
                        </a:lnTo>
                        <a:lnTo>
                          <a:pt x="142" y="530"/>
                        </a:lnTo>
                        <a:lnTo>
                          <a:pt x="159" y="521"/>
                        </a:lnTo>
                        <a:lnTo>
                          <a:pt x="170" y="508"/>
                        </a:lnTo>
                        <a:lnTo>
                          <a:pt x="182" y="490"/>
                        </a:lnTo>
                        <a:lnTo>
                          <a:pt x="209" y="496"/>
                        </a:lnTo>
                        <a:lnTo>
                          <a:pt x="235" y="498"/>
                        </a:lnTo>
                        <a:lnTo>
                          <a:pt x="263" y="494"/>
                        </a:lnTo>
                        <a:lnTo>
                          <a:pt x="290" y="486"/>
                        </a:lnTo>
                        <a:lnTo>
                          <a:pt x="316" y="472"/>
                        </a:lnTo>
                        <a:lnTo>
                          <a:pt x="339" y="454"/>
                        </a:lnTo>
                        <a:lnTo>
                          <a:pt x="356" y="436"/>
                        </a:lnTo>
                        <a:lnTo>
                          <a:pt x="372" y="424"/>
                        </a:lnTo>
                        <a:lnTo>
                          <a:pt x="392" y="415"/>
                        </a:lnTo>
                        <a:lnTo>
                          <a:pt x="417" y="419"/>
                        </a:lnTo>
                        <a:lnTo>
                          <a:pt x="450" y="421"/>
                        </a:lnTo>
                        <a:lnTo>
                          <a:pt x="464" y="442"/>
                        </a:lnTo>
                        <a:lnTo>
                          <a:pt x="483" y="467"/>
                        </a:lnTo>
                        <a:lnTo>
                          <a:pt x="510" y="486"/>
                        </a:lnTo>
                        <a:lnTo>
                          <a:pt x="544" y="505"/>
                        </a:lnTo>
                        <a:lnTo>
                          <a:pt x="558" y="518"/>
                        </a:lnTo>
                        <a:lnTo>
                          <a:pt x="566" y="539"/>
                        </a:lnTo>
                        <a:lnTo>
                          <a:pt x="560" y="554"/>
                        </a:lnTo>
                        <a:lnTo>
                          <a:pt x="559" y="570"/>
                        </a:lnTo>
                        <a:lnTo>
                          <a:pt x="564" y="581"/>
                        </a:lnTo>
                        <a:lnTo>
                          <a:pt x="573" y="596"/>
                        </a:lnTo>
                        <a:lnTo>
                          <a:pt x="576" y="623"/>
                        </a:lnTo>
                        <a:lnTo>
                          <a:pt x="573" y="655"/>
                        </a:lnTo>
                        <a:lnTo>
                          <a:pt x="566" y="689"/>
                        </a:lnTo>
                        <a:lnTo>
                          <a:pt x="598" y="680"/>
                        </a:lnTo>
                        <a:lnTo>
                          <a:pt x="643" y="666"/>
                        </a:lnTo>
                        <a:lnTo>
                          <a:pt x="696" y="648"/>
                        </a:lnTo>
                        <a:lnTo>
                          <a:pt x="742" y="625"/>
                        </a:lnTo>
                        <a:lnTo>
                          <a:pt x="775" y="603"/>
                        </a:lnTo>
                        <a:lnTo>
                          <a:pt x="804" y="580"/>
                        </a:lnTo>
                        <a:lnTo>
                          <a:pt x="829" y="574"/>
                        </a:lnTo>
                        <a:lnTo>
                          <a:pt x="856" y="561"/>
                        </a:lnTo>
                        <a:lnTo>
                          <a:pt x="878" y="543"/>
                        </a:lnTo>
                        <a:lnTo>
                          <a:pt x="895" y="518"/>
                        </a:lnTo>
                        <a:lnTo>
                          <a:pt x="908" y="495"/>
                        </a:lnTo>
                        <a:lnTo>
                          <a:pt x="920" y="464"/>
                        </a:lnTo>
                        <a:lnTo>
                          <a:pt x="923" y="436"/>
                        </a:lnTo>
                        <a:lnTo>
                          <a:pt x="920" y="413"/>
                        </a:lnTo>
                        <a:lnTo>
                          <a:pt x="936" y="391"/>
                        </a:lnTo>
                        <a:lnTo>
                          <a:pt x="948" y="363"/>
                        </a:lnTo>
                        <a:lnTo>
                          <a:pt x="952" y="334"/>
                        </a:lnTo>
                        <a:lnTo>
                          <a:pt x="947" y="309"/>
                        </a:lnTo>
                        <a:lnTo>
                          <a:pt x="935" y="280"/>
                        </a:lnTo>
                        <a:lnTo>
                          <a:pt x="909" y="234"/>
                        </a:lnTo>
                        <a:lnTo>
                          <a:pt x="875" y="189"/>
                        </a:lnTo>
                        <a:lnTo>
                          <a:pt x="844" y="149"/>
                        </a:lnTo>
                        <a:lnTo>
                          <a:pt x="815" y="116"/>
                        </a:lnTo>
                        <a:lnTo>
                          <a:pt x="791" y="96"/>
                        </a:lnTo>
                        <a:lnTo>
                          <a:pt x="773" y="86"/>
                        </a:lnTo>
                        <a:lnTo>
                          <a:pt x="748" y="73"/>
                        </a:lnTo>
                        <a:lnTo>
                          <a:pt x="725" y="56"/>
                        </a:lnTo>
                        <a:lnTo>
                          <a:pt x="712" y="29"/>
                        </a:lnTo>
                        <a:lnTo>
                          <a:pt x="694" y="14"/>
                        </a:lnTo>
                        <a:lnTo>
                          <a:pt x="671" y="4"/>
                        </a:lnTo>
                        <a:lnTo>
                          <a:pt x="630" y="0"/>
                        </a:lnTo>
                        <a:lnTo>
                          <a:pt x="595" y="2"/>
                        </a:lnTo>
                        <a:lnTo>
                          <a:pt x="568" y="7"/>
                        </a:lnTo>
                        <a:lnTo>
                          <a:pt x="541" y="13"/>
                        </a:lnTo>
                        <a:lnTo>
                          <a:pt x="509" y="15"/>
                        </a:lnTo>
                        <a:lnTo>
                          <a:pt x="474" y="13"/>
                        </a:lnTo>
                        <a:lnTo>
                          <a:pt x="443" y="7"/>
                        </a:lnTo>
                        <a:lnTo>
                          <a:pt x="411" y="2"/>
                        </a:lnTo>
                        <a:lnTo>
                          <a:pt x="384" y="1"/>
                        </a:lnTo>
                        <a:lnTo>
                          <a:pt x="357" y="6"/>
                        </a:lnTo>
                        <a:lnTo>
                          <a:pt x="331" y="13"/>
                        </a:lnTo>
                        <a:lnTo>
                          <a:pt x="308" y="23"/>
                        </a:lnTo>
                        <a:lnTo>
                          <a:pt x="282" y="29"/>
                        </a:lnTo>
                        <a:lnTo>
                          <a:pt x="257" y="37"/>
                        </a:lnTo>
                        <a:lnTo>
                          <a:pt x="240" y="54"/>
                        </a:lnTo>
                        <a:lnTo>
                          <a:pt x="222" y="76"/>
                        </a:lnTo>
                        <a:lnTo>
                          <a:pt x="201" y="94"/>
                        </a:lnTo>
                        <a:lnTo>
                          <a:pt x="166" y="108"/>
                        </a:lnTo>
                        <a:close/>
                      </a:path>
                    </a:pathLst>
                  </a:custGeom>
                  <a:solidFill>
                    <a:srgbClr val="604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8196840" y="371880"/>
                    <a:ext cx="2325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398">
                        <a:moveTo>
                          <a:pt x="0" y="171"/>
                        </a:moveTo>
                        <a:lnTo>
                          <a:pt x="27" y="184"/>
                        </a:lnTo>
                        <a:lnTo>
                          <a:pt x="54" y="196"/>
                        </a:lnTo>
                        <a:lnTo>
                          <a:pt x="78" y="211"/>
                        </a:lnTo>
                        <a:lnTo>
                          <a:pt x="102" y="228"/>
                        </a:lnTo>
                        <a:lnTo>
                          <a:pt x="120" y="243"/>
                        </a:lnTo>
                        <a:lnTo>
                          <a:pt x="131" y="259"/>
                        </a:lnTo>
                        <a:lnTo>
                          <a:pt x="148" y="297"/>
                        </a:lnTo>
                        <a:lnTo>
                          <a:pt x="165" y="364"/>
                        </a:lnTo>
                        <a:lnTo>
                          <a:pt x="176" y="342"/>
                        </a:lnTo>
                        <a:lnTo>
                          <a:pt x="175" y="366"/>
                        </a:lnTo>
                        <a:lnTo>
                          <a:pt x="168" y="398"/>
                        </a:lnTo>
                        <a:lnTo>
                          <a:pt x="188" y="386"/>
                        </a:lnTo>
                        <a:lnTo>
                          <a:pt x="198" y="372"/>
                        </a:lnTo>
                        <a:lnTo>
                          <a:pt x="205" y="353"/>
                        </a:lnTo>
                        <a:lnTo>
                          <a:pt x="207" y="328"/>
                        </a:lnTo>
                        <a:lnTo>
                          <a:pt x="216" y="344"/>
                        </a:lnTo>
                        <a:lnTo>
                          <a:pt x="219" y="362"/>
                        </a:lnTo>
                        <a:lnTo>
                          <a:pt x="215" y="372"/>
                        </a:lnTo>
                        <a:lnTo>
                          <a:pt x="229" y="363"/>
                        </a:lnTo>
                        <a:lnTo>
                          <a:pt x="241" y="350"/>
                        </a:lnTo>
                        <a:lnTo>
                          <a:pt x="264" y="358"/>
                        </a:lnTo>
                        <a:lnTo>
                          <a:pt x="259" y="345"/>
                        </a:lnTo>
                        <a:lnTo>
                          <a:pt x="260" y="331"/>
                        </a:lnTo>
                        <a:lnTo>
                          <a:pt x="264" y="315"/>
                        </a:lnTo>
                        <a:lnTo>
                          <a:pt x="278" y="318"/>
                        </a:lnTo>
                        <a:lnTo>
                          <a:pt x="293" y="328"/>
                        </a:lnTo>
                        <a:lnTo>
                          <a:pt x="284" y="310"/>
                        </a:lnTo>
                        <a:lnTo>
                          <a:pt x="279" y="290"/>
                        </a:lnTo>
                        <a:lnTo>
                          <a:pt x="282" y="266"/>
                        </a:lnTo>
                        <a:lnTo>
                          <a:pt x="300" y="274"/>
                        </a:lnTo>
                        <a:lnTo>
                          <a:pt x="319" y="286"/>
                        </a:lnTo>
                        <a:lnTo>
                          <a:pt x="332" y="301"/>
                        </a:lnTo>
                        <a:lnTo>
                          <a:pt x="328" y="328"/>
                        </a:lnTo>
                        <a:lnTo>
                          <a:pt x="346" y="293"/>
                        </a:lnTo>
                        <a:lnTo>
                          <a:pt x="346" y="270"/>
                        </a:lnTo>
                        <a:lnTo>
                          <a:pt x="350" y="233"/>
                        </a:lnTo>
                        <a:lnTo>
                          <a:pt x="332" y="183"/>
                        </a:lnTo>
                        <a:lnTo>
                          <a:pt x="349" y="194"/>
                        </a:lnTo>
                        <a:lnTo>
                          <a:pt x="365" y="209"/>
                        </a:lnTo>
                        <a:lnTo>
                          <a:pt x="374" y="233"/>
                        </a:lnTo>
                        <a:lnTo>
                          <a:pt x="386" y="227"/>
                        </a:lnTo>
                        <a:lnTo>
                          <a:pt x="393" y="212"/>
                        </a:lnTo>
                        <a:lnTo>
                          <a:pt x="395" y="193"/>
                        </a:lnTo>
                        <a:lnTo>
                          <a:pt x="393" y="179"/>
                        </a:lnTo>
                        <a:lnTo>
                          <a:pt x="386" y="155"/>
                        </a:lnTo>
                        <a:lnTo>
                          <a:pt x="374" y="126"/>
                        </a:lnTo>
                        <a:lnTo>
                          <a:pt x="391" y="131"/>
                        </a:lnTo>
                        <a:lnTo>
                          <a:pt x="404" y="148"/>
                        </a:lnTo>
                        <a:lnTo>
                          <a:pt x="411" y="170"/>
                        </a:lnTo>
                        <a:lnTo>
                          <a:pt x="422" y="191"/>
                        </a:lnTo>
                        <a:lnTo>
                          <a:pt x="436" y="200"/>
                        </a:lnTo>
                        <a:lnTo>
                          <a:pt x="453" y="206"/>
                        </a:lnTo>
                        <a:lnTo>
                          <a:pt x="434" y="167"/>
                        </a:lnTo>
                        <a:lnTo>
                          <a:pt x="412" y="134"/>
                        </a:lnTo>
                        <a:lnTo>
                          <a:pt x="377" y="89"/>
                        </a:lnTo>
                        <a:lnTo>
                          <a:pt x="347" y="52"/>
                        </a:lnTo>
                        <a:lnTo>
                          <a:pt x="314" y="22"/>
                        </a:lnTo>
                        <a:lnTo>
                          <a:pt x="282" y="0"/>
                        </a:lnTo>
                        <a:lnTo>
                          <a:pt x="271" y="19"/>
                        </a:lnTo>
                        <a:lnTo>
                          <a:pt x="255" y="31"/>
                        </a:lnTo>
                        <a:lnTo>
                          <a:pt x="287" y="53"/>
                        </a:lnTo>
                        <a:lnTo>
                          <a:pt x="305" y="73"/>
                        </a:lnTo>
                        <a:lnTo>
                          <a:pt x="323" y="98"/>
                        </a:lnTo>
                        <a:lnTo>
                          <a:pt x="335" y="118"/>
                        </a:lnTo>
                        <a:lnTo>
                          <a:pt x="344" y="142"/>
                        </a:lnTo>
                        <a:lnTo>
                          <a:pt x="350" y="164"/>
                        </a:lnTo>
                        <a:lnTo>
                          <a:pt x="336" y="153"/>
                        </a:lnTo>
                        <a:lnTo>
                          <a:pt x="317" y="146"/>
                        </a:lnTo>
                        <a:lnTo>
                          <a:pt x="309" y="160"/>
                        </a:lnTo>
                        <a:lnTo>
                          <a:pt x="288" y="122"/>
                        </a:lnTo>
                        <a:lnTo>
                          <a:pt x="268" y="93"/>
                        </a:lnTo>
                        <a:lnTo>
                          <a:pt x="235" y="52"/>
                        </a:lnTo>
                        <a:lnTo>
                          <a:pt x="203" y="16"/>
                        </a:lnTo>
                        <a:lnTo>
                          <a:pt x="234" y="66"/>
                        </a:lnTo>
                        <a:lnTo>
                          <a:pt x="251" y="98"/>
                        </a:lnTo>
                        <a:lnTo>
                          <a:pt x="268" y="131"/>
                        </a:lnTo>
                        <a:lnTo>
                          <a:pt x="287" y="173"/>
                        </a:lnTo>
                        <a:lnTo>
                          <a:pt x="309" y="225"/>
                        </a:lnTo>
                        <a:lnTo>
                          <a:pt x="288" y="201"/>
                        </a:lnTo>
                        <a:lnTo>
                          <a:pt x="268" y="187"/>
                        </a:lnTo>
                        <a:lnTo>
                          <a:pt x="273" y="209"/>
                        </a:lnTo>
                        <a:lnTo>
                          <a:pt x="268" y="228"/>
                        </a:lnTo>
                        <a:lnTo>
                          <a:pt x="260" y="239"/>
                        </a:lnTo>
                        <a:lnTo>
                          <a:pt x="251" y="193"/>
                        </a:lnTo>
                        <a:lnTo>
                          <a:pt x="239" y="152"/>
                        </a:lnTo>
                        <a:lnTo>
                          <a:pt x="223" y="115"/>
                        </a:lnTo>
                        <a:lnTo>
                          <a:pt x="202" y="81"/>
                        </a:lnTo>
                        <a:lnTo>
                          <a:pt x="183" y="54"/>
                        </a:lnTo>
                        <a:lnTo>
                          <a:pt x="157" y="26"/>
                        </a:lnTo>
                        <a:lnTo>
                          <a:pt x="121" y="0"/>
                        </a:lnTo>
                        <a:lnTo>
                          <a:pt x="145" y="36"/>
                        </a:lnTo>
                        <a:lnTo>
                          <a:pt x="163" y="61"/>
                        </a:lnTo>
                        <a:lnTo>
                          <a:pt x="181" y="90"/>
                        </a:lnTo>
                        <a:lnTo>
                          <a:pt x="202" y="127"/>
                        </a:lnTo>
                        <a:lnTo>
                          <a:pt x="217" y="166"/>
                        </a:lnTo>
                        <a:lnTo>
                          <a:pt x="229" y="216"/>
                        </a:lnTo>
                        <a:lnTo>
                          <a:pt x="233" y="293"/>
                        </a:lnTo>
                        <a:lnTo>
                          <a:pt x="215" y="239"/>
                        </a:lnTo>
                        <a:lnTo>
                          <a:pt x="194" y="171"/>
                        </a:lnTo>
                        <a:lnTo>
                          <a:pt x="197" y="215"/>
                        </a:lnTo>
                        <a:lnTo>
                          <a:pt x="194" y="256"/>
                        </a:lnTo>
                        <a:lnTo>
                          <a:pt x="189" y="284"/>
                        </a:lnTo>
                        <a:lnTo>
                          <a:pt x="183" y="312"/>
                        </a:lnTo>
                        <a:lnTo>
                          <a:pt x="174" y="281"/>
                        </a:lnTo>
                        <a:lnTo>
                          <a:pt x="165" y="255"/>
                        </a:lnTo>
                        <a:lnTo>
                          <a:pt x="152" y="225"/>
                        </a:lnTo>
                        <a:lnTo>
                          <a:pt x="157" y="209"/>
                        </a:lnTo>
                        <a:lnTo>
                          <a:pt x="161" y="192"/>
                        </a:lnTo>
                        <a:lnTo>
                          <a:pt x="156" y="171"/>
                        </a:lnTo>
                        <a:lnTo>
                          <a:pt x="150" y="192"/>
                        </a:lnTo>
                        <a:lnTo>
                          <a:pt x="147" y="205"/>
                        </a:lnTo>
                        <a:lnTo>
                          <a:pt x="135" y="220"/>
                        </a:lnTo>
                        <a:lnTo>
                          <a:pt x="114" y="206"/>
                        </a:lnTo>
                        <a:lnTo>
                          <a:pt x="94" y="192"/>
                        </a:lnTo>
                        <a:lnTo>
                          <a:pt x="71" y="182"/>
                        </a:lnTo>
                        <a:lnTo>
                          <a:pt x="49" y="175"/>
                        </a:lnTo>
                        <a:lnTo>
                          <a:pt x="23" y="170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806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Cordia New"/>
                    </a:endParaRPr>
                  </a:p>
                </p:txBody>
              </p:sp>
            </p:grpSp>
          </p:grpSp>
        </p:grpSp>
        <p:grpSp>
          <p:nvGrpSpPr>
            <p:cNvPr id="789" name=""/>
            <p:cNvGrpSpPr/>
            <p:nvPr/>
          </p:nvGrpSpPr>
          <p:grpSpPr>
            <a:xfrm>
              <a:off x="8105040" y="1455840"/>
              <a:ext cx="438120" cy="178560"/>
              <a:chOff x="8105040" y="1455840"/>
              <a:chExt cx="438120" cy="178560"/>
            </a:xfrm>
          </p:grpSpPr>
          <p:sp>
            <p:nvSpPr>
              <p:cNvPr id="790" name=""/>
              <p:cNvSpPr/>
              <p:nvPr/>
            </p:nvSpPr>
            <p:spPr>
              <a:xfrm>
                <a:off x="8105040" y="1455840"/>
                <a:ext cx="438120" cy="178560"/>
              </a:xfrm>
              <a:custGeom>
                <a:avLst/>
                <a:gdLst/>
                <a:ahLst/>
                <a:rect l="l" t="t" r="r" b="b"/>
                <a:pathLst>
                  <a:path w="4808" h="2540">
                    <a:moveTo>
                      <a:pt x="189" y="2438"/>
                    </a:moveTo>
                    <a:lnTo>
                      <a:pt x="48" y="2286"/>
                    </a:lnTo>
                    <a:lnTo>
                      <a:pt x="0" y="1931"/>
                    </a:lnTo>
                    <a:lnTo>
                      <a:pt x="95" y="1829"/>
                    </a:lnTo>
                    <a:lnTo>
                      <a:pt x="48" y="1677"/>
                    </a:lnTo>
                    <a:lnTo>
                      <a:pt x="189" y="1575"/>
                    </a:lnTo>
                    <a:lnTo>
                      <a:pt x="330" y="1727"/>
                    </a:lnTo>
                    <a:lnTo>
                      <a:pt x="1367" y="1220"/>
                    </a:lnTo>
                    <a:lnTo>
                      <a:pt x="1414" y="1016"/>
                    </a:lnTo>
                    <a:lnTo>
                      <a:pt x="2498" y="457"/>
                    </a:lnTo>
                    <a:lnTo>
                      <a:pt x="2782" y="508"/>
                    </a:lnTo>
                    <a:lnTo>
                      <a:pt x="2875" y="204"/>
                    </a:lnTo>
                    <a:lnTo>
                      <a:pt x="3017" y="0"/>
                    </a:lnTo>
                    <a:lnTo>
                      <a:pt x="3206" y="102"/>
                    </a:lnTo>
                    <a:lnTo>
                      <a:pt x="3064" y="254"/>
                    </a:lnTo>
                    <a:lnTo>
                      <a:pt x="3064" y="508"/>
                    </a:lnTo>
                    <a:lnTo>
                      <a:pt x="3300" y="711"/>
                    </a:lnTo>
                    <a:lnTo>
                      <a:pt x="3347" y="1016"/>
                    </a:lnTo>
                    <a:lnTo>
                      <a:pt x="3488" y="1220"/>
                    </a:lnTo>
                    <a:lnTo>
                      <a:pt x="3819" y="1372"/>
                    </a:lnTo>
                    <a:lnTo>
                      <a:pt x="4195" y="1524"/>
                    </a:lnTo>
                    <a:lnTo>
                      <a:pt x="4479" y="1626"/>
                    </a:lnTo>
                    <a:lnTo>
                      <a:pt x="4808" y="1727"/>
                    </a:lnTo>
                    <a:lnTo>
                      <a:pt x="4808" y="1829"/>
                    </a:lnTo>
                    <a:lnTo>
                      <a:pt x="4620" y="2033"/>
                    </a:lnTo>
                    <a:lnTo>
                      <a:pt x="4479" y="2185"/>
                    </a:lnTo>
                    <a:lnTo>
                      <a:pt x="4148" y="2540"/>
                    </a:lnTo>
                    <a:lnTo>
                      <a:pt x="3960" y="2540"/>
                    </a:lnTo>
                    <a:lnTo>
                      <a:pt x="3819" y="2438"/>
                    </a:lnTo>
                    <a:lnTo>
                      <a:pt x="3300" y="2133"/>
                    </a:lnTo>
                    <a:lnTo>
                      <a:pt x="3158" y="1981"/>
                    </a:lnTo>
                    <a:cubicBezTo>
                      <a:pt x="2974" y="2113"/>
                      <a:pt x="2966" y="2097"/>
                      <a:pt x="2809" y="2097"/>
                    </a:cubicBezTo>
                    <a:cubicBezTo>
                      <a:pt x="2655" y="2103"/>
                      <a:pt x="2663" y="2093"/>
                      <a:pt x="2519" y="2075"/>
                    </a:cubicBezTo>
                    <a:cubicBezTo>
                      <a:pt x="2491" y="2065"/>
                      <a:pt x="2461" y="2062"/>
                      <a:pt x="2436" y="2045"/>
                    </a:cubicBezTo>
                    <a:cubicBezTo>
                      <a:pt x="2421" y="2035"/>
                      <a:pt x="2393" y="2016"/>
                      <a:pt x="2393" y="2016"/>
                    </a:cubicBezTo>
                    <a:lnTo>
                      <a:pt x="2357" y="1931"/>
                    </a:lnTo>
                    <a:lnTo>
                      <a:pt x="2215" y="1880"/>
                    </a:lnTo>
                    <a:lnTo>
                      <a:pt x="1933" y="2033"/>
                    </a:lnTo>
                    <a:cubicBezTo>
                      <a:pt x="1886" y="2016"/>
                      <a:pt x="1840" y="1990"/>
                      <a:pt x="1791" y="1981"/>
                    </a:cubicBezTo>
                    <a:cubicBezTo>
                      <a:pt x="1778" y="1979"/>
                      <a:pt x="1768" y="1999"/>
                      <a:pt x="1753" y="2000"/>
                    </a:cubicBezTo>
                    <a:cubicBezTo>
                      <a:pt x="1734" y="2001"/>
                      <a:pt x="1698" y="1986"/>
                      <a:pt x="1698" y="1986"/>
                    </a:cubicBezTo>
                    <a:lnTo>
                      <a:pt x="1697" y="1829"/>
                    </a:lnTo>
                    <a:lnTo>
                      <a:pt x="1273" y="2083"/>
                    </a:lnTo>
                    <a:lnTo>
                      <a:pt x="425" y="2540"/>
                    </a:lnTo>
                    <a:lnTo>
                      <a:pt x="284" y="2490"/>
                    </a:lnTo>
                    <a:lnTo>
                      <a:pt x="189" y="24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8266320" y="1503720"/>
                <a:ext cx="61920" cy="2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8291160" y="1506240"/>
                <a:ext cx="61920" cy="25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8303400" y="1516320"/>
                <a:ext cx="61920" cy="2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8303400" y="1532160"/>
                <a:ext cx="61920" cy="2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8142120" y="1545120"/>
                <a:ext cx="95040" cy="3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03480" y="1543320"/>
                <a:ext cx="131040" cy="70560"/>
              </a:xfrm>
              <a:custGeom>
                <a:avLst/>
                <a:gdLst/>
                <a:ahLst/>
                <a:rect l="l" t="t" r="r" b="b"/>
                <a:pathLst>
                  <a:path w="1406" h="952">
                    <a:moveTo>
                      <a:pt x="136" y="0"/>
                    </a:moveTo>
                    <a:lnTo>
                      <a:pt x="589" y="227"/>
                    </a:lnTo>
                    <a:lnTo>
                      <a:pt x="1179" y="408"/>
                    </a:lnTo>
                    <a:lnTo>
                      <a:pt x="1406" y="453"/>
                    </a:lnTo>
                    <a:lnTo>
                      <a:pt x="862" y="952"/>
                    </a:lnTo>
                    <a:lnTo>
                      <a:pt x="272" y="635"/>
                    </a:lnTo>
                    <a:lnTo>
                      <a:pt x="0" y="363"/>
                    </a:lnTo>
                    <a:lnTo>
                      <a:pt x="13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</p:grpSp>
      </p:grpSp>
      <p:sp>
        <p:nvSpPr>
          <p:cNvPr id="797" name="">
            <a:hlinkClick r:id="rId2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2B0-B60B-4FD9-B657-7213056DC9D8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00FE2-18FB-4120-8895-0461C1075F2B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 rot="19652400">
            <a:off x="6877080" y="4437000"/>
            <a:ext cx="1008000" cy="201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ประชุมสรุปผล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6372360" y="4869000"/>
            <a:ext cx="2139840" cy="11937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6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ผลลัพธ์ของการประชุ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ตัดประเด็นทิ้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ไม่เห็นด้วยกับข้อเสนอแนะ หรือเสนอแนวทางแก้ไขอื่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ห็นว่าไม่ควรราย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4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ยอมรับความเสี่ยง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5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ห็นด้วยและจะดำเนินการแก้ไ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6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ห็นด้วยและได้แก้ไขเรียบร้อยแล้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DE4-3FDB-4EC1-8833-6D0AAA8AB91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88DA-DB85-49E8-A285-7E561F50D163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84360" y="3573360"/>
            <a:ext cx="5832000" cy="792360"/>
            <a:chOff x="684360" y="3573360"/>
            <a:chExt cx="5832000" cy="792360"/>
          </a:xfrm>
        </p:grpSpPr>
        <p:sp>
          <p:nvSpPr>
            <p:cNvPr id="148" name=""/>
            <p:cNvSpPr/>
            <p:nvPr/>
          </p:nvSpPr>
          <p:spPr>
            <a:xfrm>
              <a:off x="4546440" y="3573360"/>
              <a:ext cx="1969920" cy="39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4360" y="3969360"/>
              <a:ext cx="2135160" cy="3963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4360" y="2852640"/>
            <a:ext cx="5687640" cy="1152360"/>
            <a:chOff x="684360" y="2852640"/>
            <a:chExt cx="5687640" cy="1152360"/>
          </a:xfrm>
        </p:grpSpPr>
        <p:sp>
          <p:nvSpPr>
            <p:cNvPr id="151" name=""/>
            <p:cNvSpPr/>
            <p:nvPr/>
          </p:nvSpPr>
          <p:spPr>
            <a:xfrm>
              <a:off x="2663280" y="2852640"/>
              <a:ext cx="3708720" cy="3841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360" y="3236760"/>
              <a:ext cx="5687640" cy="383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4360" y="3620880"/>
              <a:ext cx="3874320" cy="3841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2492280"/>
            <a:ext cx="7343280" cy="720360"/>
            <a:chOff x="684360" y="2492280"/>
            <a:chExt cx="7343280" cy="720360"/>
          </a:xfrm>
        </p:grpSpPr>
        <p:sp>
          <p:nvSpPr>
            <p:cNvPr id="155" name=""/>
            <p:cNvSpPr/>
            <p:nvPr/>
          </p:nvSpPr>
          <p:spPr>
            <a:xfrm>
              <a:off x="3553920" y="2492280"/>
              <a:ext cx="4473720" cy="3600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4360" y="2852280"/>
              <a:ext cx="2026800" cy="3603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4360" y="2133720"/>
            <a:ext cx="7632360" cy="718560"/>
            <a:chOff x="684360" y="2133720"/>
            <a:chExt cx="7632360" cy="718560"/>
          </a:xfrm>
        </p:grpSpPr>
        <p:sp>
          <p:nvSpPr>
            <p:cNvPr id="158" name=""/>
            <p:cNvSpPr/>
            <p:nvPr/>
          </p:nvSpPr>
          <p:spPr>
            <a:xfrm>
              <a:off x="684360" y="2493000"/>
              <a:ext cx="2789640" cy="359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5160" y="2133720"/>
              <a:ext cx="4021560" cy="359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4360" y="2133720"/>
            <a:ext cx="3671640" cy="358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700280"/>
            <a:ext cx="5040000" cy="431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53880" y="169992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ารตรวจสอบภายใ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คือ การให้ความเชื่อมั่นและการให้คำปรึกษา อย่างเที่ยงธรรมและเป็นอิสระ เพื่อเพิ่มคุณค่าและปรับปรุงการดำเนินงานขององค์กร  การตรวจสอบภายในช่วยให้องค์กร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รลุเป้าหมาย   ด้วยการประเมินและปรับปรุง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สิทธิผลของกระบวนการบริหารความเสี่ยง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วบคุม และการกำกับดูแล  อย่างเป็นระบบ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เป็นระเบีย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77800" cy="228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84160" y="65530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3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ิจกรรมการตรวจสอบภายใ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EE1-B6C4-44E7-B598-A9770B2A97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7DA17-510C-4518-BE79-F1275D1BC79F}" type="datetime1">
              <a:rPr lang="en-US"/>
              <a:t>07/30/2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 rot="21066000">
            <a:off x="6924240" y="3959280"/>
            <a:ext cx="1676520" cy="2178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การติดตามผล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11280" y="1461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การติดตามผลการตรวจส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วิธีการรายงานการติดตามผ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การยอมรับความเสี่ยงของผู้บริห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477120" y="4156200"/>
            <a:ext cx="2057400" cy="19191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7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3F9-DA3D-4156-8A64-BD599EB7369E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8379-5042-4302-910D-5DD183D1F0DA}" type="datetime1">
              <a:rPr lang="en-US"/>
              <a:t>07/30/26</a:t>
            </a:fld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จรรยาบรรณผู้ตรวจสอ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>
            <a:hlinkClick r:id="rId1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10" name=""/>
          <p:cNvSpPr/>
          <p:nvPr/>
        </p:nvSpPr>
        <p:spPr>
          <a:xfrm>
            <a:off x="541440" y="623736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66ff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66ff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66ff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66ffff"/>
                </a:solidFill>
                <a:latin typeface="Cordia New"/>
              </a:rPr>
              <a:t>.425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กรณีศึกษาที่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7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Whistle Blo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10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นาท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 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.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493</a:t>
            </a:r>
            <a:r>
              <a:rPr b="0" lang="th-TH" sz="1400" spc="-1" strike="noStrike">
                <a:solidFill>
                  <a:srgbClr val="0099ff"/>
                </a:solidFill>
                <a:latin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981-FE11-4EA4-A64B-2265B98B9CE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8F8E4-E0DA-4977-AB12-33B711A59F0D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163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841920" y="363600"/>
            <a:ext cx="1377720" cy="162540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rId2"/>
          </p:cNvPr>
          <p:cNvSpPr/>
          <p:nvPr/>
        </p:nvSpPr>
        <p:spPr>
          <a:xfrm>
            <a:off x="8244000" y="6524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99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685800" y="4149360"/>
            <a:ext cx="77724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มาคมผู้ตรวจสอบภายในแห่งประเทศไทย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สตท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เลขที่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2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อาคารมูลนิธิคณะเซนต์คาเบรียลแห่งประเทศไทย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ซอยทองหล่อ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25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สุขุมวิท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55 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เขตวัฒนา  กรุงเทพฯ 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10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โทร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.  0-2712-9124 - 7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แฟ็กซ์ </a:t>
            </a: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0-2 712-9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ff"/>
                </a:solidFill>
                <a:latin typeface="Tahoma"/>
              </a:rPr>
              <a:t>http://www.theiiat.or.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C36-32D8-47D1-9EE4-286AFDBBD87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C61D39-CB96-4821-A509-564158EC5CF6}" type="datetime1">
              <a:rPr lang="en-US"/>
              <a:t>07/30/26</a:t>
            </a:fld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เอกสารอ้างอิง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นวทางการตรวจสอบภายใ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รกฎาคม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48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ลาดหลักทรัพย์แห่งประเทศไท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าตรฐานสากลการปฏิบัติงานวิชาชีพการตรวจสอบภายใ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2547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สมาคมผู้ตรวจสอบภายในแห่งประเทศไท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liff &amp; Reding, Introduction to Auditing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, Principles and Techniques, March 2002, The Institute of Internal Auditors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ertified Internal Auditor Model Exam Questions 2004, February 2004, The Institute of Internal Auditors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ารใช้เหตุผล ตรรกวิทยาเชิงปฏิบัต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ิมพ์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254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ภาควิชาปรัชญา คณะอักษรศาสตร์ จุฬาลงกรณ์มหาวิทยาลั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1C7-E3C3-493F-B5C5-73199BA32AE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E64C7-EDD5-420F-BFA0-EBD191E3960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0800000">
            <a:off x="6443640" y="4149360"/>
            <a:ext cx="1550880" cy="1693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6160" y="4187880"/>
            <a:ext cx="1554120" cy="1773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บทบาทหน้าที่ผู้ตรวจสอบภายใ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“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.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ผมไม่เข้าใจ ทำไมสำนักงานใหญ่ถึงชอบส่งคนที่ไม่รู้เรื่องมาตรวจเราแล้วถามคำถามเดิมซ้ำๆ ทุกปี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.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แล้วนี่คุณกำลังจะบอกผมว่าจะต้องใช้เวลาตรวจสอบถึงสองอาทิตย์ก็ยิ่งไปกันใหญ่ แค่บวกเลขไม่กี่ตัวก็น่าจะสรุปได้แล้วว่าบัญชีเราถูกไหม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..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เราไม่ได้กำลังจะไปขึ้นศาลนะคุณ </a:t>
            </a:r>
            <a:r>
              <a:rPr b="0" lang="th-TH" sz="2400" spc="-1" strike="noStrike">
                <a:solidFill>
                  <a:srgbClr val="3333ff"/>
                </a:solidFill>
                <a:latin typeface="Tahoma"/>
              </a:rPr>
              <a:t>...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คุณจะตอบอย่างไ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B44-FA84-4A7A-A842-AEA44AB8BE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021CD-3302-4BED-BA53-499FC24A3C81}" type="datetime1">
              <a:rPr lang="en-US"/>
              <a:t>07/30/26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11280" y="1628640"/>
            <a:ext cx="8243640" cy="1656000"/>
            <a:chOff x="611280" y="1628640"/>
            <a:chExt cx="8243640" cy="1656000"/>
          </a:xfrm>
        </p:grpSpPr>
        <p:grpSp>
          <p:nvGrpSpPr>
            <p:cNvPr id="171" name=""/>
            <p:cNvGrpSpPr/>
            <p:nvPr/>
          </p:nvGrpSpPr>
          <p:grpSpPr>
            <a:xfrm>
              <a:off x="611280" y="1628640"/>
              <a:ext cx="8243640" cy="1656000"/>
              <a:chOff x="611280" y="1628640"/>
              <a:chExt cx="8243640" cy="165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835280" y="1700280"/>
                <a:ext cx="7019640" cy="158436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1280" y="2274840"/>
                <a:ext cx="1368360" cy="576360"/>
              </a:xfrm>
              <a:prstGeom prst="flowChartProcess">
                <a:avLst/>
              </a:prstGeom>
              <a:solidFill>
                <a:srgbClr val="33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Cordia New"/>
                  </a:rPr>
                  <a:t>ผู้ถือหุ้น</a:t>
                </a:r>
                <a:endParaRPr b="0" lang="en-US" sz="24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2920" y="2274840"/>
                <a:ext cx="1512720" cy="576360"/>
              </a:xfrm>
              <a:prstGeom prst="flowChartProcess">
                <a:avLst/>
              </a:prstGeom>
              <a:solidFill>
                <a:srgbClr val="33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Cordia New"/>
                  </a:rPr>
                  <a:t>คณะกรรมการ</a:t>
                </a:r>
                <a:endParaRPr b="0" lang="en-US" sz="24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98920" y="2274840"/>
                <a:ext cx="1368360" cy="576360"/>
              </a:xfrm>
              <a:prstGeom prst="flowChartProcess">
                <a:avLst/>
              </a:prstGeom>
              <a:solidFill>
                <a:srgbClr val="33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Cordia New"/>
                  </a:rPr>
                  <a:t>ผู้บริหาร</a:t>
                </a:r>
                <a:endParaRPr b="0" lang="en-US" sz="24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cxnSp>
            <p:nvCxnSpPr>
              <p:cNvPr id="176" name=""/>
              <p:cNvCxnSpPr>
                <a:stCxn id="173" idx="3"/>
                <a:endCxn id="174" idx="1"/>
              </p:cNvCxnSpPr>
              <p:nvPr/>
            </p:nvCxnSpPr>
            <p:spPr>
              <a:xfrm>
                <a:off x="1979640" y="2563560"/>
                <a:ext cx="504000" cy="1080"/>
              </a:xfrm>
              <a:prstGeom prst="bentConnector2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</p:cxnSp>
          <p:cxnSp>
            <p:nvCxnSpPr>
              <p:cNvPr id="177" name=""/>
              <p:cNvCxnSpPr>
                <a:stCxn id="174" idx="3"/>
                <a:endCxn id="175" idx="1"/>
              </p:cNvCxnSpPr>
              <p:nvPr/>
            </p:nvCxnSpPr>
            <p:spPr>
              <a:xfrm>
                <a:off x="3995640" y="2563560"/>
                <a:ext cx="504000" cy="1080"/>
              </a:xfrm>
              <a:prstGeom prst="bentConnector2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</p:cxnSp>
          <p:sp>
            <p:nvSpPr>
              <p:cNvPr id="178" name=""/>
              <p:cNvSpPr/>
              <p:nvPr/>
            </p:nvSpPr>
            <p:spPr>
              <a:xfrm>
                <a:off x="6946920" y="1628640"/>
                <a:ext cx="1512720" cy="57636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000000"/>
                    </a:solidFill>
                    <a:latin typeface="Cordia New"/>
                  </a:rPr>
                  <a:t>องค์กร</a:t>
                </a:r>
                <a:endParaRPr b="0" lang="en-US" sz="28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87280" y="1628640"/>
              <a:ext cx="1513080" cy="5763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3333ff"/>
                  </a:solidFill>
                  <a:latin typeface="Cordia New"/>
                </a:rPr>
                <a:t>มอบหมาย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6560" y="2850480"/>
            <a:ext cx="6949080" cy="1081800"/>
            <a:chOff x="466560" y="2850480"/>
            <a:chExt cx="6949080" cy="1081800"/>
          </a:xfrm>
        </p:grpSpPr>
        <p:sp>
          <p:nvSpPr>
            <p:cNvPr id="181" name=""/>
            <p:cNvSpPr/>
            <p:nvPr/>
          </p:nvSpPr>
          <p:spPr>
            <a:xfrm>
              <a:off x="466560" y="3355920"/>
              <a:ext cx="1656000" cy="576360"/>
            </a:xfrm>
            <a:prstGeom prst="flowChartProcess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Cordia New"/>
                </a:rPr>
                <a:t>ผู้สอบบัญชี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cxnSp>
          <p:nvCxnSpPr>
            <p:cNvPr id="182" name=""/>
            <p:cNvCxnSpPr>
              <a:stCxn id="173" idx="2"/>
              <a:endCxn id="181" idx="0"/>
            </p:cNvCxnSpPr>
            <p:nvPr/>
          </p:nvCxnSpPr>
          <p:spPr>
            <a:xfrm flipV="1" rot="10800000">
              <a:off x="1294560" y="2850840"/>
              <a:ext cx="1080" cy="505440"/>
            </a:xfrm>
            <a:prstGeom prst="bentConnector2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1" idx="3"/>
              <a:endCxn id="175" idx="2"/>
            </p:cNvCxnSpPr>
            <p:nvPr/>
          </p:nvCxnSpPr>
          <p:spPr>
            <a:xfrm flipV="1">
              <a:off x="2122560" y="2850480"/>
              <a:ext cx="3061440" cy="79452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81" idx="3"/>
              <a:endCxn id="185" idx="2"/>
            </p:cNvCxnSpPr>
            <p:nvPr/>
          </p:nvCxnSpPr>
          <p:spPr>
            <a:xfrm flipV="1">
              <a:off x="2122560" y="2850480"/>
              <a:ext cx="5293440" cy="79452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3240000" y="1413000"/>
            <a:ext cx="5219640" cy="2376360"/>
            <a:chOff x="3240000" y="1413000"/>
            <a:chExt cx="5219640" cy="2376360"/>
          </a:xfrm>
        </p:grpSpPr>
        <p:grpSp>
          <p:nvGrpSpPr>
            <p:cNvPr id="187" name=""/>
            <p:cNvGrpSpPr/>
            <p:nvPr/>
          </p:nvGrpSpPr>
          <p:grpSpPr>
            <a:xfrm>
              <a:off x="3240000" y="1413000"/>
              <a:ext cx="5219640" cy="1438200"/>
              <a:chOff x="3240000" y="1413000"/>
              <a:chExt cx="5219640" cy="1438200"/>
            </a:xfrm>
          </p:grpSpPr>
          <p:sp>
            <p:nvSpPr>
              <p:cNvPr id="185" name=""/>
              <p:cNvSpPr/>
              <p:nvPr/>
            </p:nvSpPr>
            <p:spPr>
              <a:xfrm>
                <a:off x="6370560" y="2274840"/>
                <a:ext cx="2089080" cy="576360"/>
              </a:xfrm>
              <a:prstGeom prst="flowChartProcess">
                <a:avLst/>
              </a:prstGeom>
              <a:solidFill>
                <a:srgbClr val="33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Cordia New"/>
                  </a:rPr>
                  <a:t>ผู้ตรวจสอบภายใน</a:t>
                </a:r>
                <a:endParaRPr b="0" lang="en-US" sz="24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  <p:cxnSp>
            <p:nvCxnSpPr>
              <p:cNvPr id="188" name=""/>
              <p:cNvCxnSpPr>
                <a:stCxn id="175" idx="3"/>
                <a:endCxn id="185" idx="1"/>
              </p:cNvCxnSpPr>
              <p:nvPr/>
            </p:nvCxnSpPr>
            <p:spPr>
              <a:xfrm>
                <a:off x="5867280" y="2563560"/>
                <a:ext cx="504000" cy="1080"/>
              </a:xfrm>
              <a:prstGeom prst="bentConnector2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89" name=""/>
              <p:cNvCxnSpPr>
                <a:stCxn id="174" idx="0"/>
                <a:endCxn id="185" idx="0"/>
              </p:cNvCxnSpPr>
              <p:nvPr/>
            </p:nvCxnSpPr>
            <p:spPr>
              <a:xfrm flipH="1" rot="16200000">
                <a:off x="5326560" y="186840"/>
                <a:ext cx="2520" cy="4176000"/>
              </a:xfrm>
              <a:prstGeom prst="curvedConnector5">
                <a:avLst>
                  <a:gd name="adj1" fmla="val -14400000"/>
                  <a:gd name="adj2" fmla="val 49995"/>
                  <a:gd name="adj3" fmla="val -14400000"/>
                </a:avLst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90" name=""/>
              <p:cNvSpPr/>
              <p:nvPr/>
            </p:nvSpPr>
            <p:spPr>
              <a:xfrm>
                <a:off x="4498920" y="1413000"/>
                <a:ext cx="1513080" cy="5760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000000"/>
                    </a:solidFill>
                    <a:latin typeface="Cordia New"/>
                  </a:rPr>
                  <a:t>คณะกรรมการตรวจสอบ</a:t>
                </a:r>
                <a:endParaRPr b="0" lang="en-US" sz="2400" spc="-1" strike="noStrike">
                  <a:solidFill>
                    <a:srgbClr val="000000"/>
                  </a:solidFill>
                  <a:latin typeface="Cordia New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012000" y="3213000"/>
              <a:ext cx="1512720" cy="5763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0000"/>
                  </a:solidFill>
                  <a:latin typeface="Cordia New"/>
                </a:rPr>
                <a:t>สื่อสาร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50920" y="2850840"/>
            <a:ext cx="8820000" cy="4250160"/>
            <a:chOff x="250920" y="2850840"/>
            <a:chExt cx="8820000" cy="4250160"/>
          </a:xfrm>
        </p:grpSpPr>
        <p:sp>
          <p:nvSpPr>
            <p:cNvPr id="193" name=""/>
            <p:cNvSpPr/>
            <p:nvPr/>
          </p:nvSpPr>
          <p:spPr>
            <a:xfrm>
              <a:off x="5075280" y="5516640"/>
              <a:ext cx="3995640" cy="1584360"/>
            </a:xfrm>
            <a:prstGeom prst="ellipse">
              <a:avLst/>
            </a:prstGeom>
            <a:solidFill>
              <a:srgbClr val="ff00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0920" y="4363920"/>
              <a:ext cx="2087640" cy="792360"/>
            </a:xfrm>
            <a:prstGeom prst="flowChartProcess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Cordia New"/>
                </a:rPr>
                <a:t>หน่วยงานกำกับดูแล</a:t>
              </a:r>
              <a:br>
                <a:rPr sz="2400"/>
              </a:br>
              <a:r>
                <a:rPr b="1" lang="hi-IN" sz="2400" spc="-1" strike="noStrike">
                  <a:solidFill>
                    <a:srgbClr val="ffffff"/>
                  </a:solidFill>
                  <a:latin typeface="Cordia New"/>
                </a:rPr>
                <a:t>ของทางการ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9280" y="4471920"/>
              <a:ext cx="2089080" cy="576360"/>
            </a:xfrm>
            <a:prstGeom prst="flowChartProcess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Cordia New"/>
                </a:rPr>
                <a:t>ผู้มีส่วนได้เสียอื่น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5640" y="5516640"/>
              <a:ext cx="4464000" cy="576360"/>
            </a:xfrm>
            <a:prstGeom prst="flowChartProcess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Cordia New"/>
                </a:rPr>
                <a:t>สาธารณชน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cxnSp>
          <p:nvCxnSpPr>
            <p:cNvPr id="197" name=""/>
            <p:cNvCxnSpPr>
              <a:stCxn id="181" idx="2"/>
              <a:endCxn id="194" idx="0"/>
            </p:cNvCxnSpPr>
            <p:nvPr/>
          </p:nvCxnSpPr>
          <p:spPr>
            <a:xfrm flipV="1" rot="10800000">
              <a:off x="1294560" y="3931920"/>
              <a:ext cx="1080" cy="432360"/>
            </a:xfrm>
            <a:prstGeom prst="bentConnector2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</p:cxnSp>
        <p:cxnSp>
          <p:nvCxnSpPr>
            <p:cNvPr id="198" name=""/>
            <p:cNvCxnSpPr>
              <a:stCxn id="194" idx="3"/>
              <a:endCxn id="195" idx="1"/>
            </p:cNvCxnSpPr>
            <p:nvPr/>
          </p:nvCxnSpPr>
          <p:spPr>
            <a:xfrm>
              <a:off x="2338560" y="4760640"/>
              <a:ext cx="3961080" cy="10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9" name=""/>
            <p:cNvCxnSpPr>
              <a:stCxn id="194" idx="2"/>
              <a:endCxn id="196" idx="1"/>
            </p:cNvCxnSpPr>
            <p:nvPr/>
          </p:nvCxnSpPr>
          <p:spPr>
            <a:xfrm flipH="1" rot="16200000">
              <a:off x="1419840" y="5030280"/>
              <a:ext cx="649800" cy="901080"/>
            </a:xfrm>
            <a:prstGeom prst="bentConnector2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</p:cxnSp>
        <p:cxnSp>
          <p:nvCxnSpPr>
            <p:cNvPr id="200" name=""/>
            <p:cNvCxnSpPr>
              <a:stCxn id="195" idx="2"/>
              <a:endCxn id="196" idx="3"/>
            </p:cNvCxnSpPr>
            <p:nvPr/>
          </p:nvCxnSpPr>
          <p:spPr>
            <a:xfrm rot="5400000">
              <a:off x="6622560" y="5084640"/>
              <a:ext cx="757800" cy="684720"/>
            </a:xfrm>
            <a:prstGeom prst="bentConnector2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>
              <a:off x="5182920" y="2850840"/>
              <a:ext cx="37080" cy="1873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2" name=""/>
            <p:cNvCxnSpPr/>
            <p:nvPr/>
          </p:nvCxnSpPr>
          <p:spPr>
            <a:xfrm>
              <a:off x="3239640" y="2850840"/>
              <a:ext cx="35640" cy="1873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7162920" y="5445000"/>
              <a:ext cx="1512720" cy="5763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3333ff"/>
                  </a:solidFill>
                  <a:latin typeface="Cordia New"/>
                </a:rPr>
                <a:t>มอบหมาย</a:t>
              </a:r>
              <a:endParaRPr b="0" lang="en-US" sz="2400" spc="-1" strike="noStrike">
                <a:solidFill>
                  <a:srgbClr val="000000"/>
                </a:solidFill>
                <a:latin typeface="Cordia New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5668920" y="5700600"/>
              <a:ext cx="163836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7184160" y="65800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20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</a:rPr>
              <a:t>บทบาทหน้าที่ผู้ตรวจสอบภายใน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8EB-CBBA-4023-98A7-CEA53F39745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D5B65-97A4-440F-9E40-538680E29B78}" type="datetime1">
              <a:rPr lang="en-US"/>
              <a:t>07/30/2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46040"/>
            <a:ext cx="7848720" cy="5791320"/>
          </a:xfrm>
          <a:prstGeom prst="ellipse">
            <a:avLst/>
          </a:prstGeom>
          <a:noFill/>
          <a:ln w="66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กระบวนการ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ตรวจสอบ</a:t>
            </a:r>
            <a:endParaRPr b="0" lang="en-US" sz="3600" spc="-1" strike="noStrike">
              <a:solidFill>
                <a:srgbClr val="000000"/>
              </a:solidFill>
              <a:latin typeface="Cordia New"/>
            </a:endParaRPr>
          </a:p>
        </p:txBody>
      </p:sp>
      <p:cxnSp>
        <p:nvCxnSpPr>
          <p:cNvPr id="209" name=""/>
          <p:cNvCxnSpPr>
            <a:stCxn id="210" idx="0"/>
            <a:endCxn id="211" idx="1"/>
          </p:cNvCxnSpPr>
          <p:nvPr/>
        </p:nvCxnSpPr>
        <p:spPr>
          <a:xfrm flipV="1">
            <a:off x="2222640" y="1443960"/>
            <a:ext cx="1434240" cy="826200"/>
          </a:xfrm>
          <a:prstGeom prst="straightConnector1">
            <a:avLst/>
          </a:prstGeom>
          <a:ln w="4140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212" name=""/>
          <p:cNvGrpSpPr/>
          <p:nvPr/>
        </p:nvGrpSpPr>
        <p:grpSpPr>
          <a:xfrm>
            <a:off x="5638680" y="1444680"/>
            <a:ext cx="2336760" cy="1879560"/>
            <a:chOff x="5638680" y="1444680"/>
            <a:chExt cx="2336760" cy="1879560"/>
          </a:xfrm>
        </p:grpSpPr>
        <p:cxnSp>
          <p:nvCxnSpPr>
            <p:cNvPr id="213" name=""/>
            <p:cNvCxnSpPr>
              <a:stCxn id="211" idx="3"/>
              <a:endCxn id="214" idx="0"/>
            </p:cNvCxnSpPr>
            <p:nvPr/>
          </p:nvCxnSpPr>
          <p:spPr>
            <a:xfrm>
              <a:off x="5638680" y="1444680"/>
              <a:ext cx="1356120" cy="753120"/>
            </a:xfrm>
            <a:prstGeom prst="straightConnector1">
              <a:avLst/>
            </a:prstGeom>
            <a:ln w="4140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6013440" y="2197080"/>
              <a:ext cx="1962000" cy="1127160"/>
            </a:xfrm>
            <a:prstGeom prst="flowChartProcess">
              <a:avLst/>
            </a:prstGeom>
            <a:solidFill>
              <a:srgbClr val="0000ff"/>
            </a:solidFill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เตรียมการ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สำหรับงาน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ตรวจสอบ</a:t>
              </a:r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676680" y="880920"/>
            <a:ext cx="1962000" cy="1127160"/>
          </a:xfrm>
          <a:prstGeom prst="flowChartProcess">
            <a:avLst/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 New"/>
              </a:rPr>
              <a:t>การวางแผน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Cordia New"/>
              </a:rPr>
              <a:t>การตรวจสอบ</a:t>
            </a:r>
            <a:endParaRPr b="0" lang="en-US" sz="2800" spc="-1" strike="noStrike">
              <a:solidFill>
                <a:srgbClr val="000000"/>
              </a:solidFill>
              <a:latin typeface="Cordia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59320" y="3344760"/>
            <a:ext cx="2108160" cy="1954440"/>
            <a:chOff x="5359320" y="3344760"/>
            <a:chExt cx="2108160" cy="1954440"/>
          </a:xfrm>
        </p:grpSpPr>
        <p:cxnSp>
          <p:nvCxnSpPr>
            <p:cNvPr id="216" name=""/>
            <p:cNvCxnSpPr>
              <a:stCxn id="214" idx="2"/>
              <a:endCxn id="217" idx="0"/>
            </p:cNvCxnSpPr>
            <p:nvPr/>
          </p:nvCxnSpPr>
          <p:spPr>
            <a:xfrm flipH="1">
              <a:off x="6413400" y="3344760"/>
              <a:ext cx="581400" cy="805680"/>
            </a:xfrm>
            <a:prstGeom prst="straightConnector1">
              <a:avLst/>
            </a:prstGeom>
            <a:ln w="4140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5359320" y="4170600"/>
              <a:ext cx="2108160" cy="1128600"/>
            </a:xfrm>
            <a:prstGeom prst="flowChartProcess">
              <a:avLst/>
            </a:prstGeom>
            <a:solidFill>
              <a:srgbClr val="0000ff"/>
            </a:solidFill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สำรวจเบื้องต้น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และการสอบทาน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ระบบการควบคุม</a:t>
              </a:r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087640" y="4170240"/>
            <a:ext cx="3250800" cy="1128600"/>
            <a:chOff x="2087640" y="4170240"/>
            <a:chExt cx="3250800" cy="1128600"/>
          </a:xfrm>
        </p:grpSpPr>
        <p:cxnSp>
          <p:nvCxnSpPr>
            <p:cNvPr id="219" name=""/>
            <p:cNvCxnSpPr>
              <a:stCxn id="217" idx="1"/>
              <a:endCxn id="220" idx="3"/>
            </p:cNvCxnSpPr>
            <p:nvPr/>
          </p:nvCxnSpPr>
          <p:spPr>
            <a:xfrm flipH="1">
              <a:off x="4069800" y="4734720"/>
              <a:ext cx="1269000" cy="1080"/>
            </a:xfrm>
            <a:prstGeom prst="straightConnector1">
              <a:avLst/>
            </a:prstGeom>
            <a:ln w="4140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2087640" y="4170240"/>
              <a:ext cx="1962000" cy="1128600"/>
            </a:xfrm>
            <a:prstGeom prst="flowChartProcess">
              <a:avLst/>
            </a:prstGeom>
            <a:solidFill>
              <a:srgbClr val="0000ff"/>
            </a:solidFill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ทดสอบ</a:t>
              </a:r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เพิ่มเติม และ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เรื่องที่ตรวจพบ</a:t>
              </a:r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43000" y="2290680"/>
            <a:ext cx="2158920" cy="1858680"/>
            <a:chOff x="1143000" y="2290680"/>
            <a:chExt cx="2158920" cy="1858680"/>
          </a:xfrm>
        </p:grpSpPr>
        <p:cxnSp>
          <p:nvCxnSpPr>
            <p:cNvPr id="222" name=""/>
            <p:cNvCxnSpPr>
              <a:stCxn id="220" idx="0"/>
              <a:endCxn id="210" idx="2"/>
            </p:cNvCxnSpPr>
            <p:nvPr/>
          </p:nvCxnSpPr>
          <p:spPr>
            <a:xfrm flipH="1" flipV="1">
              <a:off x="2222280" y="3439440"/>
              <a:ext cx="846720" cy="710280"/>
            </a:xfrm>
            <a:prstGeom prst="straightConnector1">
              <a:avLst/>
            </a:prstGeom>
            <a:ln w="4140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1143000" y="2290680"/>
              <a:ext cx="2158920" cy="1128960"/>
            </a:xfrm>
            <a:prstGeom prst="flowChartProcess">
              <a:avLst/>
            </a:prstGeom>
            <a:solidFill>
              <a:srgbClr val="0000ff"/>
            </a:solidFill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รายงานผล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ตรวจสอบและ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Cordia New"/>
                </a:rPr>
                <a:t>การติดตามผล</a:t>
              </a:r>
              <a:endParaRPr b="0" lang="en-US" sz="2800" spc="-1" strike="noStrike">
                <a:solidFill>
                  <a:srgbClr val="000000"/>
                </a:solidFill>
                <a:latin typeface="Cordia New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18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1C-FDCC-4049-8B14-4340C38F401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30A8-71AD-4C1D-A8A1-45688BDFEAB9}" type="datetime1">
              <a:rPr lang="en-US"/>
              <a:t>07/30/26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การเตรียมการสำหรับงานตรวจสอบ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2001960" cy="1879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165800" y="65530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(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อ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 </a:t>
            </a:r>
            <a:r>
              <a:rPr b="0" lang="hi-IN" sz="1400" spc="-1" strike="noStrike">
                <a:solidFill>
                  <a:srgbClr val="0099ff"/>
                </a:solidFill>
                <a:latin typeface="Cordia New"/>
              </a:rPr>
              <a:t>น</a:t>
            </a:r>
            <a:r>
              <a:rPr b="0" lang="en-US" sz="1400" spc="-1" strike="noStrike">
                <a:solidFill>
                  <a:srgbClr val="0099ff"/>
                </a:solidFill>
                <a:latin typeface="Cordia New"/>
              </a:rPr>
              <a:t>.161)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การศึกษาเอกสาร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การเยี่ยมชมสถานที่ปฏิบัติงา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สัมภาษณ์ผู้บริห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วิธีการเชิงวิเคราะห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เขียนรายละเอียดเกี่ยวกับผู้รับการตรว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กำหนดวัตถุประสงค์และขอบเขตการตรว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ff"/>
                </a:solidFill>
                <a:latin typeface="Tahoma"/>
              </a:rPr>
              <a:t>ประชุมเริ่มงานตรวจสอบ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543-F7FF-40D1-A4AD-FFC519E820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2E850-FE18-47EF-8A58-8A4E54447B4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0:33:52Z</dcterms:created>
  <dc:creator>Revenue</dc:creator>
  <dc:description/>
  <dc:language>en-US</dc:language>
  <cp:lastModifiedBy>TISCO</cp:lastModifiedBy>
  <cp:lastPrinted>2004-09-17T08:11:13Z</cp:lastPrinted>
  <dcterms:modified xsi:type="dcterms:W3CDTF">2008-07-21T05:20:23Z</dcterms:modified>
  <cp:revision>841</cp:revision>
  <dc:subject/>
  <dc:title>การตรวจสอบการทุจริต</dc:title>
</cp:coreProperties>
</file>