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528480" y="164880"/>
            <a:ext cx="241776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3851280" y="164880"/>
            <a:ext cx="249408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906120" y="4714560"/>
            <a:ext cx="521172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604800" y="9429480"/>
            <a:ext cx="234144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3851280" y="9429480"/>
            <a:ext cx="249408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B58B-8F86-4FCB-883E-BEFEF5D33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619280" y="744480"/>
            <a:ext cx="3540240" cy="265608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544320" y="3711600"/>
            <a:ext cx="5708520" cy="56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0">
              <a:spcBef>
                <a:spcPts val="312"/>
              </a:spcBef>
              <a:spcAft>
                <a:spcPts val="3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90440" indent="0">
              <a:spcBef>
                <a:spcPts val="312"/>
              </a:spcBef>
              <a:spcAft>
                <a:spcPts val="3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90440" indent="0">
              <a:spcBef>
                <a:spcPts val="312"/>
              </a:spcBef>
              <a:spcAft>
                <a:spcPts val="3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90440" indent="0">
              <a:spcBef>
                <a:spcPts val="312"/>
              </a:spcBef>
              <a:spcAft>
                <a:spcPts val="3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90440"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"/>
          <p:cNvSpPr/>
          <p:nvPr/>
        </p:nvSpPr>
        <p:spPr>
          <a:xfrm>
            <a:off x="758880" y="3946680"/>
            <a:ext cx="5708520" cy="56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340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*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วิทยากรควรไปถึงก่อนเวลาประมาณ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15-30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นาทีเพื่อตรวจดูความพร้อม และทักทายผู้เข้ารับการอบรมที่มาถึงก่อนเวลาเพื่อสร้างความคุ้นเคย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340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*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กำหนดลงทะเบียนควรเริ่มประมาณ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8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30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น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ถ้ามีพิธีเปิดควรอยู่ที่ประมาณ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8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:45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- 9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:00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น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340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นที่ </a:t>
            </a:r>
            <a:r>
              <a:rPr b="0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 </a:t>
            </a:r>
            <a:r>
              <a:rPr b="0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ลา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9:00 </a:t>
            </a:r>
            <a:r>
              <a:rPr b="0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น</a:t>
            </a:r>
            <a:r>
              <a:rPr b="0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340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**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ถ้าชั้นเรียนยังมาไม่ครบ วิทยากรอาจเริ่มโดยแจกข้อสอบเพื่อ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การทดสอบความรู้ก่อนการอบรม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ให้ทุกคนเริ่มทำโดยให้เวลาประมาณ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15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นาที เสร็จแล้วขอเก็บกระดาษคำตอบ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340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วิทยากรทักทายผู้เข้ารับการอบรมและชี้แจงที่มาและรายละเอียดของหลักสูตร และเอกสารแจก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340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หลักสูตร แนวทางการตรวจสอบภายใน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340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เป็นสัมมนาเชิงปฏิบัติการสำหรับพัฒนาผู้ที่เริ่มเข้าสู่วิชาชีพ หรือผู้ตรวจสอบภายในที่ต้องการปฏิบัติงานตรวจสอบ อย่างเปนระบบ เน้นให้ผู้เข้าร่วมสัมมนามีความรู้ความเข้าใจในกระบวนการและฝึกทักษะที่จำเป็นสำหรับการปฏิบัติภารกิจงานตรวจสอบให้บรรลุวัตถุประสงค์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340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โครงสร้างหลักสูตร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340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กระบวนการตรวจสอบภายใน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340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การสำรวจเบื้องต้น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340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การกำหนดวัตถุประสงค์ ขอบเขตงานตรวจสอบ และจัดทำแผนการทดสอบ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340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การทดสอบ เก็บหลักฐาน และเขียนเรื่องที่ตรวจพบ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340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การรายงานและติดตามผลการตรวจสอบ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340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รูปแบบการอบรม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340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การอบรมใช้เวลาทั้งสิ้น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วัน รูปแบบสัมมนาเป็นการบรรยายประกอบกับกรณีศึกษาเพื่อระดมความคิด ทำงานกลุ่ม </a:t>
            </a:r>
            <a:br>
              <a:rPr sz="1000"/>
            </a:b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และฝึกการนำเสนอในที่ประชุม วิทยากรจะยึดเอาการเรียนรู้จากกรณีศึกษาเป็นแกนกลาง และใช้การบรรยายเพียงเพื่อเสริมให้ผู้เรียนสามารถนำหลักการทฤษฎี แนวทางและตัวอย่างมาประยุกต์ใช้ในกรณีศึกษาได้ นอกจากนี้จะมีการทดสอบความรู้ทั้งก่อนและหลังการอบรม เพื่อปรับระดับความเข้าใจพื้นฐานของผู้เข้ารับการอบรม วัดผลการเรียนรู้ และกระตุ้นความสนใจในเนื้อหาส่วนที่เหลือที่ไม่ได้นำมาบรรยาย การวัดผลยังรวมไปถึงการประเมินโดยวิทยากรในด้านการมีส่วนร่วมในการระดมความคิดและทำงานเป็นกลุ่ม ความตั้งใจและคุณภาพของงานที่นำเสนอ และพัฒนาการของผู้เข้ารับการอบรมอีกด้วย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340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เอกสารแจก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340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ผู้เข้ารับการอบรมทุกคนจะได้รับแฟ้มเอกสาร ในแฟ้มประกอบด้วย สำเนาสไลด์สำหรับประกอบการฟังบรรยายและจดบันทึก แบบทดสอบความรู้ก่อนและหลังการอบรม และโจทย์กรณีศึกษา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7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ชุด นอกจากนี้ จะได้รับแจกหนังสือแนวทางตรวจสอบ และหนังสือมาตรฐาน ของสมาคมทุกคน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340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ก่อนที่เราจะต้องอยู่ด้วยกันสองวันนับจากนี้ เรามาเริ่มโดยการทำความรู้จักกันก่อน ขอให้ทุกคนเปิดแบบฟอร์มแนะนำผู้เข้าอบรมในหน้าแรกของแฟ้มเอกสาร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06120" y="4714560"/>
            <a:ext cx="521172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06120" y="4714560"/>
            <a:ext cx="521172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06120" y="4714560"/>
            <a:ext cx="521172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06120" y="4714560"/>
            <a:ext cx="521172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06120" y="4714560"/>
            <a:ext cx="521172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06120" y="4714560"/>
            <a:ext cx="521172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06120" y="4714560"/>
            <a:ext cx="521172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06120" y="4714560"/>
            <a:ext cx="521172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619280" y="744480"/>
            <a:ext cx="3540240" cy="265608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544320" y="3711600"/>
            <a:ext cx="5708520" cy="56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"/>
          <p:cNvSpPr/>
          <p:nvPr/>
        </p:nvSpPr>
        <p:spPr>
          <a:xfrm>
            <a:off x="758880" y="3946680"/>
            <a:ext cx="5708520" cy="56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479520"/>
                <a:tab algn="l" pos="762120"/>
                <a:tab algn="l" pos="1050840"/>
                <a:tab algn="dec" pos="1971720"/>
                <a:tab algn="dec" pos="2695680"/>
                <a:tab algn="dec" pos="3409920"/>
                <a:tab algn="dec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นที่ </a:t>
            </a:r>
            <a:r>
              <a:rPr b="0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 </a:t>
            </a:r>
            <a:r>
              <a:rPr b="0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ลา </a:t>
            </a:r>
            <a:r>
              <a:rPr b="0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3:</a:t>
            </a:r>
            <a:r>
              <a:rPr b="0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00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-13:</a:t>
            </a:r>
            <a:r>
              <a:rPr b="0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0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5 </a:t>
            </a:r>
            <a:r>
              <a:rPr b="0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น</a:t>
            </a:r>
            <a:r>
              <a:rPr b="0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. </a:t>
            </a:r>
            <a:r>
              <a:rPr b="1" lang="th-TH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00"/>
              </a:buClr>
              <a:buFont typeface="Tahoma"/>
              <a:buChar char="•"/>
              <a:tabLst>
                <a:tab algn="l" pos="479520"/>
                <a:tab algn="l" pos="762120"/>
                <a:tab algn="l" pos="1050840"/>
                <a:tab algn="dec" pos="1971720"/>
                <a:tab algn="dec" pos="2695680"/>
                <a:tab algn="dec" pos="3409920"/>
                <a:tab algn="dec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หลังเที่ยง ผู้เรียนมักจะง่วงและขาดสมาธิ วิทยากรอาจขอให้เปลี่ยนอิริยาบถโดยการยืนขึ้นแล้วจับคู่กันนวดไหล่เพื่อ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set tone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ในช่วงบ่ายให้มีความสนใจมากขึ้น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00"/>
              </a:buClr>
              <a:buFont typeface="Tahoma"/>
              <a:buChar char="•"/>
              <a:tabLst>
                <a:tab algn="l" pos="479520"/>
                <a:tab algn="l" pos="762120"/>
                <a:tab algn="l" pos="1050840"/>
                <a:tab algn="dec" pos="1971720"/>
                <a:tab algn="dec" pos="2695680"/>
                <a:tab algn="dec" pos="3409920"/>
                <a:tab algn="dec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79520"/>
                <a:tab algn="l" pos="762120"/>
                <a:tab algn="l" pos="1050840"/>
                <a:tab algn="dec" pos="1971720"/>
                <a:tab algn="dec" pos="2695680"/>
                <a:tab algn="dec" pos="3409920"/>
                <a:tab algn="dec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ช่วงเช้า เราได้ลองกระบวนการรวบรวมข้อมูลรายละเอียดผู้รับตรวจแล้ว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79520"/>
                <a:tab algn="l" pos="762120"/>
                <a:tab algn="l" pos="1050840"/>
                <a:tab algn="dec" pos="1971720"/>
                <a:tab algn="dec" pos="2695680"/>
                <a:tab algn="dec" pos="3409920"/>
                <a:tab algn="dec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การทำความเข้าใจในภาพรวมหรือ </a:t>
            </a:r>
            <a:r>
              <a:rPr b="0" lang="en-US" sz="1000" spc="-1" strike="noStrike">
                <a:solidFill>
                  <a:srgbClr val="0000ff"/>
                </a:solidFill>
                <a:latin typeface="Tahoma"/>
                <a:ea typeface="Tahoma"/>
              </a:rPr>
              <a:t>scan </a:t>
            </a:r>
            <a:r>
              <a:rPr b="0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หาจุดเสี่ยงขององค์กร จะทำได้อย่างมีประสิทธิภาพมากด้วยการวิเคราะห์ข้อมูล มาลองดูตัวอย่างการวิเคราะห์ข้อมูล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79520"/>
                <a:tab algn="l" pos="762120"/>
                <a:tab algn="l" pos="1050840"/>
                <a:tab algn="dec" pos="1971720"/>
                <a:tab algn="dec" pos="2695680"/>
                <a:tab algn="dec" pos="3409920"/>
                <a:tab algn="dec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79520"/>
                <a:tab algn="l" pos="762120"/>
                <a:tab algn="l" pos="1050840"/>
                <a:tab algn="dec" pos="1971720"/>
                <a:tab algn="dec" pos="2695680"/>
                <a:tab algn="dec" pos="3409920"/>
                <a:tab algn="dec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จากข้อมูลที่ผู้ตรวจสอบมี จงวิจารณ์ วิเคราะห์ และตั้งข้อสังเกตที่น่าจะเป็นไปได้เกี่ยวกับ ผลการ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79520"/>
                <a:tab algn="l" pos="762120"/>
                <a:tab algn="l" pos="1050840"/>
                <a:tab algn="dec" pos="1971720"/>
                <a:tab algn="dec" pos="2695680"/>
                <a:tab algn="dec" pos="3409920"/>
                <a:tab algn="dec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ดำเนินงาน ของสำนักงานประปาเทศบาล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79520"/>
                <a:tab algn="l" pos="762120"/>
                <a:tab algn="l" pos="1050840"/>
                <a:tab algn="dec" pos="1971720"/>
                <a:tab algn="dec" pos="2695680"/>
                <a:tab algn="dec" pos="3409920"/>
                <a:tab algn="dec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กิจกรรมใดของสำนักงานประปาเทศบาลที่ผู้ตรวจสอบเห็นว่ามีความเสี่ยงสูง หรือแสดงถึง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79520"/>
                <a:tab algn="l" pos="762120"/>
                <a:tab algn="l" pos="1050840"/>
                <a:tab algn="dec" pos="1971720"/>
                <a:tab algn="dec" pos="2695680"/>
                <a:tab algn="dec" pos="3409920"/>
                <a:tab algn="dec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การควบคุมที่ขาดประสิทธิภาพ หรือจำเป็นต้องมีการตรวจสอบเพิ่มเติม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79520"/>
                <a:tab algn="l" pos="762120"/>
                <a:tab algn="l" pos="1050840"/>
                <a:tab algn="dec" pos="1971720"/>
                <a:tab algn="dec" pos="2695680"/>
                <a:tab algn="dec" pos="3409920"/>
                <a:tab algn="dec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กิจกรรมใดที่น่าจะมีความเสี่ยงต่ำ หรือแสดงถึงการควบคุมที่ดี ไม่จำเป็นต้องตรวจสอบเพิ่มเติม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79520"/>
                <a:tab algn="l" pos="762120"/>
                <a:tab algn="l" pos="1050840"/>
                <a:tab algn="dec" pos="1971720"/>
                <a:tab algn="dec" pos="2695680"/>
                <a:tab algn="dec" pos="3409920"/>
                <a:tab algn="dec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ผู้ตรวจสอบควรประเมินความเชื่อถือได้ของรายงานนี้ก่อนตั้งข้อสรุปหรือไม่  มีวิธีการอย่างไร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79520"/>
                <a:tab algn="l" pos="762120"/>
                <a:tab algn="l" pos="1050840"/>
                <a:tab algn="dec" pos="1971720"/>
                <a:tab algn="dec" pos="2695680"/>
                <a:tab algn="dec" pos="3409920"/>
                <a:tab algn="dec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ในการรวบรวมหลักฐาน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00"/>
              </a:buClr>
              <a:buFont typeface="Tahoma"/>
              <a:buChar char="•"/>
              <a:tabLst>
                <a:tab algn="l" pos="479520"/>
                <a:tab algn="l" pos="762120"/>
                <a:tab algn="l" pos="1050840"/>
                <a:tab algn="dec" pos="1971720"/>
                <a:tab algn="dec" pos="2695680"/>
                <a:tab algn="dec" pos="3409920"/>
                <a:tab algn="dec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00"/>
              </a:buClr>
              <a:buFont typeface="Tahoma"/>
              <a:buChar char="•"/>
              <a:tabLst>
                <a:tab algn="l" pos="479520"/>
                <a:tab algn="l" pos="762120"/>
                <a:tab algn="l" pos="1050840"/>
                <a:tab algn="dec" pos="1971720"/>
                <a:tab algn="dec" pos="2695680"/>
                <a:tab algn="dec" pos="3409920"/>
                <a:tab algn="dec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เห็นอะไรบ้าง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? </a:t>
            </a:r>
            <a:r>
              <a:rPr b="1" lang="th-TH" sz="10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กิจกรรมที่เกิดจริง เทียบกับเป้าหมาย 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00"/>
              </a:buClr>
              <a:buFont typeface="Tahoma"/>
              <a:buChar char="•"/>
              <a:tabLst>
                <a:tab algn="l" pos="479520"/>
                <a:tab algn="l" pos="762120"/>
                <a:tab algn="l" pos="1050840"/>
                <a:tab algn="dec" pos="1971720"/>
                <a:tab algn="dec" pos="2695680"/>
                <a:tab algn="dec" pos="3409920"/>
                <a:tab algn="dec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หน่วยที่รับผิดชอบเปลี่ยนมาตร เป็นอย่างไร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?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กิจกรรมไม่เป็นไปตามเป้า แนวโน้มลดลง ผู้ตรวจสอบควรให้ความสนใจ ว่าได้มีการวิเคราะห์แก้ไขไหม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00"/>
              </a:buClr>
              <a:buFont typeface="Tahoma"/>
              <a:buChar char="•"/>
              <a:tabLst>
                <a:tab algn="l" pos="479520"/>
                <a:tab algn="l" pos="762120"/>
                <a:tab algn="l" pos="1050840"/>
                <a:tab algn="dec" pos="1971720"/>
                <a:tab algn="dec" pos="2695680"/>
                <a:tab algn="dec" pos="3409920"/>
                <a:tab algn="dec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หน่วยที่รับผิดชอบซ่อมท่อ เป็นอย่างไร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?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ปกติดี ทำได้ครบ สรุปได้ว่า ผู้ปฏิบัติเข้าใจมาตรฐานการปฏิบัติงานดี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00"/>
              </a:buClr>
              <a:buFont typeface="Tahoma"/>
              <a:buChar char="•"/>
              <a:tabLst>
                <a:tab algn="l" pos="479520"/>
                <a:tab algn="l" pos="762120"/>
                <a:tab algn="l" pos="1050840"/>
                <a:tab algn="dec" pos="1971720"/>
                <a:tab algn="dec" pos="2695680"/>
                <a:tab algn="dec" pos="3409920"/>
                <a:tab algn="dec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อัตราน้ำสูญเสีย เป็นปัญหาไหม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?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แก้ไขได้แล้ว ไม่มีความจำเป็นต้องขยายการตรวจเพิ่ม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00"/>
              </a:buClr>
              <a:buFont typeface="Tahoma"/>
              <a:buChar char="•"/>
              <a:tabLst>
                <a:tab algn="l" pos="479520"/>
                <a:tab algn="l" pos="762120"/>
                <a:tab algn="l" pos="1050840"/>
                <a:tab algn="dec" pos="1971720"/>
                <a:tab algn="dec" pos="2695680"/>
                <a:tab algn="dec" pos="3409920"/>
                <a:tab algn="dec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รายงานเชื่อถือได้ไหม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?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ไม่ทราบ จำเป็นต้องมีการทดสอบการควบคุมภายในในการจัดทำรายงานด้วย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00"/>
              </a:buClr>
              <a:buFont typeface="Tahoma"/>
              <a:buChar char="•"/>
              <a:tabLst>
                <a:tab algn="l" pos="479520"/>
                <a:tab algn="l" pos="762120"/>
                <a:tab algn="l" pos="1050840"/>
                <a:tab algn="dec" pos="1971720"/>
                <a:tab algn="dec" pos="2695680"/>
                <a:tab algn="dec" pos="3409920"/>
                <a:tab algn="dec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เกิดอะไรขึ้นถ้ารายงานนี้เชื่อถือไม่ได้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?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ผู้ตรวจสอบอาจมองความเสี่ยงผิดพลาด และละเลยจุดสำคัญไป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79520"/>
                <a:tab algn="l" pos="762120"/>
                <a:tab algn="l" pos="1050840"/>
                <a:tab algn="dec" pos="1971720"/>
                <a:tab algn="dec" pos="2695680"/>
                <a:tab algn="dec" pos="3409920"/>
                <a:tab algn="dec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79520"/>
                <a:tab algn="l" pos="762120"/>
                <a:tab algn="l" pos="1050840"/>
                <a:tab algn="dec" pos="1971720"/>
                <a:tab algn="dec" pos="2695680"/>
                <a:tab algn="dec" pos="3409920"/>
                <a:tab algn="dec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จะเห็นได้ว่าการวิเคราะห์ข้อมูลมีประโยชน์มากในการระบุจุดที่มีความเสี่ยง โดยเฉพาะการวิเคราะห์อัตราส่วนและแนวโน้ม จะช่วยบอกเรื่องที่ผู้ตรวจสอบน่าจะสนใจได้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511" name=""/>
          <p:cNvSpPr/>
          <p:nvPr/>
        </p:nvSpPr>
        <p:spPr>
          <a:xfrm>
            <a:off x="374760" y="508176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512" name=""/>
          <p:cNvSpPr/>
          <p:nvPr/>
        </p:nvSpPr>
        <p:spPr>
          <a:xfrm>
            <a:off x="303120" y="59720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513" name=""/>
          <p:cNvSpPr/>
          <p:nvPr/>
        </p:nvSpPr>
        <p:spPr>
          <a:xfrm>
            <a:off x="374760" y="43876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06120" y="4714560"/>
            <a:ext cx="521172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06120" y="4714560"/>
            <a:ext cx="521172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06120" y="4714560"/>
            <a:ext cx="521172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06120" y="4714560"/>
            <a:ext cx="521172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06120" y="4714560"/>
            <a:ext cx="521172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06120" y="4714560"/>
            <a:ext cx="521172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06120" y="4714560"/>
            <a:ext cx="521172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06120" y="4714560"/>
            <a:ext cx="521172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06120" y="4714560"/>
            <a:ext cx="521172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06120" y="4714560"/>
            <a:ext cx="521172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3851280" y="9429480"/>
            <a:ext cx="249408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8692-7E51-4ABC-8D5B-708562A79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604800" y="9429480"/>
            <a:ext cx="234144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528480" y="164880"/>
            <a:ext cx="241776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3851280" y="164880"/>
            <a:ext cx="249408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3851280" y="9429480"/>
            <a:ext cx="249408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D123-BCA4-4906-B8C8-7330E6CAF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604800" y="9429480"/>
            <a:ext cx="234144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528480" y="164880"/>
            <a:ext cx="241776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851280" y="164880"/>
            <a:ext cx="249408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06120" y="4714560"/>
            <a:ext cx="521172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06120" y="4714560"/>
            <a:ext cx="521172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06120" y="4714560"/>
            <a:ext cx="521172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06120" y="4714560"/>
            <a:ext cx="521172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06120" y="4714560"/>
            <a:ext cx="521172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06120" y="4714560"/>
            <a:ext cx="521172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06120" y="4714560"/>
            <a:ext cx="521172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06120" y="4714560"/>
            <a:ext cx="521172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06120" y="4714560"/>
            <a:ext cx="521172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06120" y="4714560"/>
            <a:ext cx="521172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06120" y="4714560"/>
            <a:ext cx="521172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06120" y="4714560"/>
            <a:ext cx="521172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06120" y="4714560"/>
            <a:ext cx="521172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06120" y="4714560"/>
            <a:ext cx="521172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06120" y="4714560"/>
            <a:ext cx="521172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06120" y="4714560"/>
            <a:ext cx="521172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06120" y="4714560"/>
            <a:ext cx="521172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06120" y="4714560"/>
            <a:ext cx="521172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06120" y="4714560"/>
            <a:ext cx="521172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 txBox="1"/>
          <p:nvPr/>
        </p:nvSpPr>
        <p:spPr>
          <a:xfrm>
            <a:off x="3851280" y="9429480"/>
            <a:ext cx="249408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36A6-2F88-4E3C-B6B5-2229F6ADF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604800" y="9429480"/>
            <a:ext cx="234144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528480" y="164880"/>
            <a:ext cx="241776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51280" y="164880"/>
            <a:ext cx="249408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3851280" y="9429480"/>
            <a:ext cx="249408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FADE-C9A3-41C9-872D-0D0ABE505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604800" y="9429480"/>
            <a:ext cx="234144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528480" y="164880"/>
            <a:ext cx="241776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3851280" y="164880"/>
            <a:ext cx="249408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3851280" y="9429480"/>
            <a:ext cx="249408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747B-00B6-4A7F-9659-F92700CE7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604800" y="9429480"/>
            <a:ext cx="234144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528480" y="164880"/>
            <a:ext cx="241776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3851280" y="164880"/>
            <a:ext cx="249408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06120" y="4714560"/>
            <a:ext cx="521172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3851280" y="9429480"/>
            <a:ext cx="249408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7E34-2D7E-42B5-90F1-42481A8703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604800" y="9429480"/>
            <a:ext cx="234144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528480" y="164880"/>
            <a:ext cx="241776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3851280" y="164880"/>
            <a:ext cx="249408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3851280" y="9429480"/>
            <a:ext cx="249408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A6CE-FA9A-48CA-85C4-211352940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04800" y="9429480"/>
            <a:ext cx="234144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528480" y="164880"/>
            <a:ext cx="241776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3851280" y="164880"/>
            <a:ext cx="249408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3851280" y="9429480"/>
            <a:ext cx="249408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40FC-53D0-4686-BE70-83C5E1953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604800" y="9429480"/>
            <a:ext cx="234144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528480" y="164880"/>
            <a:ext cx="241776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851280" y="164880"/>
            <a:ext cx="249408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3851280" y="9429480"/>
            <a:ext cx="249408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3512-837D-411A-BAF5-EDD291F80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604800" y="9429480"/>
            <a:ext cx="234144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528480" y="164880"/>
            <a:ext cx="241776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851280" y="164880"/>
            <a:ext cx="249408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06120" y="4714560"/>
            <a:ext cx="521172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06120" y="4714560"/>
            <a:ext cx="521172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287360" y="744480"/>
            <a:ext cx="4183200" cy="3138480"/>
          </a:xfrm>
          <a:prstGeom prst="rect">
            <a:avLst/>
          </a:prstGeom>
          <a:ln w="0">
            <a:noFill/>
          </a:ln>
        </p:spPr>
      </p:sp>
      <p:sp>
        <p:nvSpPr>
          <p:cNvPr id="625" name=""/>
          <p:cNvSpPr/>
          <p:nvPr/>
        </p:nvSpPr>
        <p:spPr>
          <a:xfrm>
            <a:off x="519120" y="3954600"/>
            <a:ext cx="5948280" cy="49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นที่ </a:t>
            </a:r>
            <a:r>
              <a:rPr b="0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 </a:t>
            </a:r>
            <a:r>
              <a:rPr b="0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ลา </a:t>
            </a:r>
            <a:r>
              <a:rPr b="0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4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:</a:t>
            </a:r>
            <a:r>
              <a:rPr b="0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3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0 </a:t>
            </a:r>
            <a:r>
              <a:rPr b="0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น</a:t>
            </a:r>
            <a:r>
              <a:rPr b="0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. </a:t>
            </a:r>
            <a:r>
              <a:rPr b="1" lang="th-TH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</a:t>
            </a:r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เทคนิคการเขียนรายงานการตรวจสอบ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รายงานนี้มีข้อบกพร่องตรงไหนบ้าง ถ้าคุณเป็นผู้ตรวจทาน   คุณจะแก้อย่างไร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ผู้ตรวจสอบทำอะไร สรุปได้ว่าอย่างไร ตรงกับวัตถุประสงค์การตรวจไหม  ข้อเท็จจริงจากการตรวจคืออะไร น่าจะต่างจากเกณฑ์ไหม อย่างไร ผลกระทบคืออะไร อะไรเป็นสาเหตุที่แท้จริง คำแนะนำที่ถูกต้อง  ขาดหลักฐานที่ต้องเก็บเพิ่มเติมไหม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ชื่อหัวข้อรายงานดี ประเด็นที่ตรวจพบน่าสนใจ มีความเสี่ยง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มีข้อดีแค่นี้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การสุ่มหยิบแฟ้มลูกค้ามาดู ไม่ช่วยตรวจสอบความครบถ้วนของข้อมูล</a:t>
            </a:r>
            <a:r>
              <a:rPr b="1" lang="en-US" sz="10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จะดูประสิทธิผลของกระบวนการพิจารณาเครดิตควรดูแนวโน้มหนี้เสียหรือเปรียบเทียบอุตสาหกรรม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ิธีการตรวจไม่สัมพันธ์กับวัตถุประสงค์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การพิจารณาเครดิตโดยผู้ตรวจสอบ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ea typeface="Tahoma"/>
              </a:rPr>
              <a:t>(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วรรค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ea typeface="Tahoma"/>
              </a:rPr>
              <a:t>)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ภายในผลการตรวจสอบ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้นวรรคตอนผิด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อนุมัติสินเชื่อเกินกว่าอำนาจที่คณะกรรมการทำการ</a:t>
            </a:r>
            <a:r>
              <a:rPr b="1" lang="th-TH" sz="10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มอบหมายให้บ่อยครั้ง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างคำขยายสับสน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ผลการตรวจสอบปรากฏพบว่า ไม่ได้ถูกทำการ ได้รับการ มีการ ดำเนินการ ในแง่ของ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ใช้คำฟุ่มเฟือย ใช้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passive voice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เอกสารสำคัญ ไม่อยู่ ข้อมูลหลักประกัน ไม่ถูกต้อง เงื่อนไขการปล่อยเงินกู้ บ่อยครั้ง แตกต่างกัน นานแล้ว ดังกล่าวนั้น ข้อบกพร่องที่เกิดขึ้นนั้น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อะไร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?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ระบุไม่ชัดเจน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ผู้บริหารขาดความระมัดระวัง นายองอาจ ญาติระอาหรือผู้จัดการฝ่าย </a:t>
            </a:r>
            <a:r>
              <a:rPr b="1" lang="en-US" sz="1000" spc="-1" strike="noStrike">
                <a:solidFill>
                  <a:srgbClr val="0000ff"/>
                </a:solidFill>
                <a:latin typeface="Tahoma"/>
                <a:ea typeface="Tahoma"/>
              </a:rPr>
              <a:t>Hire Perchase 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คนปัจจุบัน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ใคร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?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คนเดียวกัน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?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ถ้ามีการเปลี่ยนผู้จัดการ เปลี่ยนเมื่อไหร่ เป็นข้อบกพร่องในช่วงที่เขาดูแลไหม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/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ไม่ควรระบุชื่อ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สังเกตุ ณ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ea typeface="Tahoma"/>
              </a:rPr>
              <a:t>.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วันสิ้นเดือน </a:t>
            </a:r>
            <a:r>
              <a:rPr b="1" lang="en-US" sz="1000" spc="-1" strike="noStrike">
                <a:solidFill>
                  <a:srgbClr val="0000ff"/>
                </a:solidFill>
                <a:latin typeface="Tahoma"/>
                <a:ea typeface="Tahoma"/>
              </a:rPr>
              <a:t>Hire Perchase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ea typeface="Tahoma"/>
              </a:rPr>
              <a:t>  </a:t>
            </a:r>
            <a:r>
              <a:rPr b="1" lang="en-US" sz="1000" spc="-1" strike="noStrike">
                <a:solidFill>
                  <a:srgbClr val="0000ff"/>
                </a:solidFill>
                <a:latin typeface="Tahoma"/>
                <a:ea typeface="Tahoma"/>
              </a:rPr>
              <a:t>BaLance 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สาเหต </a:t>
            </a:r>
            <a:r>
              <a:rPr b="1" lang="en-US" sz="1000" spc="-1" strike="noStrike">
                <a:solidFill>
                  <a:srgbClr val="0000ff"/>
                </a:solidFill>
                <a:latin typeface="Tahoma"/>
                <a:ea typeface="Tahoma"/>
              </a:rPr>
              <a:t>215,3222.5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บาท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สองบาท อนุมัต คลั่งค้าง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สะกดผิด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ขาดความระมัดระวังในการสังเกตุเงื่อนไขการปล่อยเงินกู้โดยยังคงมีการอนุมัติสินเชื่อเกินอำนาจ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ไม่ชัดเจน เป็นข้อเท็จจริงหรืออนุมาน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?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ใครอนุมาน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ระบบสินเชื่อ ระบบเช่าซื้อ 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ea typeface="Tahoma"/>
              </a:rPr>
              <a:t>/ 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ลูกค้า ลูกหนี้ ผู้กู้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ใช้คำไม่สม่ำเสมอ สับสน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ระบบ </a:t>
            </a:r>
            <a:r>
              <a:rPr b="1" lang="en-US" sz="1000" spc="-1" strike="noStrike">
                <a:solidFill>
                  <a:srgbClr val="0000ff"/>
                </a:solidFill>
                <a:latin typeface="Tahoma"/>
                <a:ea typeface="Tahoma"/>
              </a:rPr>
              <a:t>SAP 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ตั้งแต่แก้ไขผังบัญชีใน </a:t>
            </a:r>
            <a:r>
              <a:rPr b="1" lang="en-US" sz="1000" spc="-1" strike="noStrike">
                <a:solidFill>
                  <a:srgbClr val="0000ff"/>
                </a:solidFill>
                <a:latin typeface="Tahoma"/>
                <a:ea typeface="Tahoma"/>
              </a:rPr>
              <a:t>Module F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-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คืออะไร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?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คนเขียนเข้าใจอยู่คนเดียว จะให้เข้าใจว่าการแก้ผังบัญชีเป็นสาเหตุหรือเปล่าก็น่าจะว่ามา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บ่อยครั้ง</a:t>
            </a:r>
            <a:r>
              <a:rPr b="1" lang="en-US" sz="10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สิ้นเดือนที่แล้ว คั่งค้าง เนิ่นนาน ขาดความระมัดระวัง ซีเรียส ให้มากกว่านี้ แก้เสียให้เรียบร้อย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ใช้คำไม่เหมาะสม เชิงตำหนิ ไม่สุภาพ ภาษาพูด ไม่เจาะจงชัดเจน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เกณฑ์สำคัญในการสอบทาน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การใช้คำ การจัดพิมพ์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รูปแบบที่เป็นมาตรฐานเดียวกัน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ความสม่ำเสมอในการใช้คำ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การใช้คำที่ควรระมัดระวัง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ลำดับความที่ผู้อ่านเข้าใจง่าย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เป็นข้อเท็จจริง ที่พิสูจน์ได้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การอนุมาน ต้องระบุว่าอนุมาน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สอบทานให้มั่นใจ ทั้งประเด็นที่พอใจ และประเด็นที่ต้องปรับปรุง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มีหลักฐานการตรวจสอบอ้างอิงพร้อม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ทำเป็นลายลักษณ์อักษร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Review Note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เทคนิคและแนวทางการดำเนินการประชุมสรุปผล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626" name=""/>
          <p:cNvSpPr/>
          <p:nvPr/>
        </p:nvSpPr>
        <p:spPr>
          <a:xfrm>
            <a:off x="230040" y="51800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627" name=""/>
          <p:cNvSpPr/>
          <p:nvPr/>
        </p:nvSpPr>
        <p:spPr>
          <a:xfrm>
            <a:off x="158760" y="45054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287360" y="744480"/>
            <a:ext cx="4183200" cy="3138480"/>
          </a:xfrm>
          <a:prstGeom prst="rect">
            <a:avLst/>
          </a:prstGeom>
          <a:ln w="0">
            <a:noFill/>
          </a:ln>
        </p:spPr>
      </p:sp>
      <p:sp>
        <p:nvSpPr>
          <p:cNvPr id="629" name=""/>
          <p:cNvSpPr/>
          <p:nvPr/>
        </p:nvSpPr>
        <p:spPr>
          <a:xfrm>
            <a:off x="519120" y="3954600"/>
            <a:ext cx="5948280" cy="49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นที่ </a:t>
            </a:r>
            <a:r>
              <a:rPr b="0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 </a:t>
            </a:r>
            <a:r>
              <a:rPr b="0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ลา </a:t>
            </a:r>
            <a:r>
              <a:rPr b="0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4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:</a:t>
            </a:r>
            <a:r>
              <a:rPr b="0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3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0 </a:t>
            </a:r>
            <a:r>
              <a:rPr b="0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น</a:t>
            </a:r>
            <a:r>
              <a:rPr b="0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. </a:t>
            </a:r>
            <a:r>
              <a:rPr b="1" lang="th-TH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</a:t>
            </a:r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เทคนิคการเขียนรายงานการตรวจสอบ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รายงานนี้มีข้อบกพร่องตรงไหนบ้าง ถ้าคุณเป็นผู้ตรวจทาน   คุณจะแก้อย่างไร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ผู้ตรวจสอบทำอะไร สรุปได้ว่าอย่างไร ตรงกับวัตถุประสงค์การตรวจไหม  ข้อเท็จจริงจากการตรวจคืออะไร น่าจะต่างจากเกณฑ์ไหม อย่างไร ผลกระทบคืออะไร อะไรเป็นสาเหตุที่แท้จริง คำแนะนำที่ถูกต้อง  ขาดหลักฐานที่ต้องเก็บเพิ่มเติมไหม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ชื่อหัวข้อรายงานดี ประเด็นที่ตรวจพบน่าสนใจ มีความเสี่ยง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มีข้อดีแค่นี้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การสุ่มหยิบแฟ้มลูกค้ามาดู ไม่ช่วยตรวจสอบความครบถ้วนของข้อมูล</a:t>
            </a:r>
            <a:r>
              <a:rPr b="1" lang="en-US" sz="10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จะดูประสิทธิผลของกระบวนการพิจารณาเครดิตควรดูแนวโน้มหนี้เสียหรือเปรียบเทียบอุตสาหกรรม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ิธีการตรวจไม่สัมพันธ์กับวัตถุประสงค์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การพิจารณาเครดิตโดยผู้ตรวจสอบ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ea typeface="Tahoma"/>
              </a:rPr>
              <a:t>(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วรรค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ea typeface="Tahoma"/>
              </a:rPr>
              <a:t>)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ภายในผลการตรวจสอบ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้นวรรคตอนผิด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อนุมัติสินเชื่อเกินกว่าอำนาจที่คณะกรรมการทำการ</a:t>
            </a:r>
            <a:r>
              <a:rPr b="1" lang="th-TH" sz="10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มอบหมายให้บ่อยครั้ง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างคำขยายสับสน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ผลการตรวจสอบปรากฏพบว่า ไม่ได้ถูกทำการ ได้รับการ มีการ ดำเนินการ ในแง่ของ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ใช้คำฟุ่มเฟือย ใช้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passive voice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เอกสารสำคัญ ไม่อยู่ ข้อมูลหลักประกัน ไม่ถูกต้อง เงื่อนไขการปล่อยเงินกู้ บ่อยครั้ง แตกต่างกัน นานแล้ว ดังกล่าวนั้น ข้อบกพร่องที่เกิดขึ้นนั้น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อะไร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?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ระบุไม่ชัดเจน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ผู้บริหารขาดความระมัดระวัง นายองอาจ ญาติระอาหรือผู้จัดการฝ่าย </a:t>
            </a:r>
            <a:r>
              <a:rPr b="1" lang="en-US" sz="1000" spc="-1" strike="noStrike">
                <a:solidFill>
                  <a:srgbClr val="0000ff"/>
                </a:solidFill>
                <a:latin typeface="Tahoma"/>
                <a:ea typeface="Tahoma"/>
              </a:rPr>
              <a:t>Hire Perchase 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คนปัจจุบัน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ใคร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?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คนเดียวกัน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?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ถ้ามีการเปลี่ยนผู้จัดการ เปลี่ยนเมื่อไหร่ เป็นข้อบกพร่องในช่วงที่เขาดูแลไหม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/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ไม่ควรระบุชื่อ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สังเกตุ ณ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ea typeface="Tahoma"/>
              </a:rPr>
              <a:t>.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วันสิ้นเดือน </a:t>
            </a:r>
            <a:r>
              <a:rPr b="1" lang="en-US" sz="1000" spc="-1" strike="noStrike">
                <a:solidFill>
                  <a:srgbClr val="0000ff"/>
                </a:solidFill>
                <a:latin typeface="Tahoma"/>
                <a:ea typeface="Tahoma"/>
              </a:rPr>
              <a:t>Hire Perchase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ea typeface="Tahoma"/>
              </a:rPr>
              <a:t>  </a:t>
            </a:r>
            <a:r>
              <a:rPr b="1" lang="en-US" sz="1000" spc="-1" strike="noStrike">
                <a:solidFill>
                  <a:srgbClr val="0000ff"/>
                </a:solidFill>
                <a:latin typeface="Tahoma"/>
                <a:ea typeface="Tahoma"/>
              </a:rPr>
              <a:t>BaLance 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สาเหต </a:t>
            </a:r>
            <a:r>
              <a:rPr b="1" lang="en-US" sz="1000" spc="-1" strike="noStrike">
                <a:solidFill>
                  <a:srgbClr val="0000ff"/>
                </a:solidFill>
                <a:latin typeface="Tahoma"/>
                <a:ea typeface="Tahoma"/>
              </a:rPr>
              <a:t>215,3222.5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บาท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สองบาท อนุมัต คลั่งค้าง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สะกดผิด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ขาดความระมัดระวังในการสังเกตุเงื่อนไขการปล่อยเงินกู้โดยยังคงมีการอนุมัติสินเชื่อเกินอำนาจ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ไม่ชัดเจน เป็นข้อเท็จจริงหรืออนุมาน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?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ใครอนุมาน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ระบบสินเชื่อ ระบบเช่าซื้อ 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ea typeface="Tahoma"/>
              </a:rPr>
              <a:t>/ 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ลูกค้า ลูกหนี้ ผู้กู้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ใช้คำไม่สม่ำเสมอ สับสน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ระบบ </a:t>
            </a:r>
            <a:r>
              <a:rPr b="1" lang="en-US" sz="1000" spc="-1" strike="noStrike">
                <a:solidFill>
                  <a:srgbClr val="0000ff"/>
                </a:solidFill>
                <a:latin typeface="Tahoma"/>
                <a:ea typeface="Tahoma"/>
              </a:rPr>
              <a:t>SAP 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ตั้งแต่แก้ไขผังบัญชีใน </a:t>
            </a:r>
            <a:r>
              <a:rPr b="1" lang="en-US" sz="1000" spc="-1" strike="noStrike">
                <a:solidFill>
                  <a:srgbClr val="0000ff"/>
                </a:solidFill>
                <a:latin typeface="Tahoma"/>
                <a:ea typeface="Tahoma"/>
              </a:rPr>
              <a:t>Module F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-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คืออะไร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?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คนเขียนเข้าใจอยู่คนเดียว จะให้เข้าใจว่าการแก้ผังบัญชีเป็นสาเหตุหรือเปล่าก็น่าจะว่ามา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บ่อยครั้ง</a:t>
            </a:r>
            <a:r>
              <a:rPr b="1" lang="en-US" sz="10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สิ้นเดือนที่แล้ว คั่งค้าง เนิ่นนาน ขาดความระมัดระวัง ซีเรียส ให้มากกว่านี้ แก้เสียให้เรียบร้อย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ใช้คำไม่เหมาะสม เชิงตำหนิ ไม่สุภาพ ภาษาพูด ไม่เจาะจงชัดเจน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เกณฑ์สำคัญในการสอบทาน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การใช้คำ การจัดพิมพ์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รูปแบบที่เป็นมาตรฐานเดียวกัน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ความสม่ำเสมอในการใช้คำ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การใช้คำที่ควรระมัดระวัง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ลำดับความที่ผู้อ่านเข้าใจง่าย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เป็นข้อเท็จจริง ที่พิสูจน์ได้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การอนุมาน ต้องระบุว่าอนุมาน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สอบทานให้มั่นใจ ทั้งประเด็นที่พอใจ และประเด็นที่ต้องปรับปรุง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มีหลักฐานการตรวจสอบอ้างอิงพร้อม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ทำเป็นลายลักษณ์อักษร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Review Note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เทคนิคและแนวทางการดำเนินการประชุมสรุปผล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630" name=""/>
          <p:cNvSpPr/>
          <p:nvPr/>
        </p:nvSpPr>
        <p:spPr>
          <a:xfrm>
            <a:off x="230040" y="51800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631" name=""/>
          <p:cNvSpPr/>
          <p:nvPr/>
        </p:nvSpPr>
        <p:spPr>
          <a:xfrm>
            <a:off x="158760" y="45054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287360" y="744480"/>
            <a:ext cx="4183200" cy="3138480"/>
          </a:xfrm>
          <a:prstGeom prst="rect">
            <a:avLst/>
          </a:prstGeom>
          <a:ln w="0">
            <a:noFill/>
          </a:ln>
        </p:spPr>
      </p:sp>
      <p:sp>
        <p:nvSpPr>
          <p:cNvPr id="633" name=""/>
          <p:cNvSpPr/>
          <p:nvPr/>
        </p:nvSpPr>
        <p:spPr>
          <a:xfrm>
            <a:off x="519120" y="3954600"/>
            <a:ext cx="5948280" cy="49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นที่ </a:t>
            </a:r>
            <a:r>
              <a:rPr b="0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 </a:t>
            </a:r>
            <a:r>
              <a:rPr b="0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ลา </a:t>
            </a:r>
            <a:r>
              <a:rPr b="0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4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:</a:t>
            </a:r>
            <a:r>
              <a:rPr b="0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3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0 </a:t>
            </a:r>
            <a:r>
              <a:rPr b="0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น</a:t>
            </a:r>
            <a:r>
              <a:rPr b="0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. </a:t>
            </a:r>
            <a:r>
              <a:rPr b="1" lang="th-TH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</a:t>
            </a:r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เทคนิคการเขียนรายงานการตรวจสอบ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รายงานนี้มีข้อบกพร่องตรงไหนบ้าง ถ้าคุณเป็นผู้ตรวจทาน   คุณจะแก้อย่างไร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ผู้ตรวจสอบทำอะไร สรุปได้ว่าอย่างไร ตรงกับวัตถุประสงค์การตรวจไหม  ข้อเท็จจริงจากการตรวจคืออะไร น่าจะต่างจากเกณฑ์ไหม อย่างไร ผลกระทบคืออะไร อะไรเป็นสาเหตุที่แท้จริง คำแนะนำที่ถูกต้อง  ขาดหลักฐานที่ต้องเก็บเพิ่มเติมไหม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ชื่อหัวข้อรายงานดี ประเด็นที่ตรวจพบน่าสนใจ มีความเสี่ยง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มีข้อดีแค่นี้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การสุ่มหยิบแฟ้มลูกค้ามาดู ไม่ช่วยตรวจสอบความครบถ้วนของข้อมูล</a:t>
            </a:r>
            <a:r>
              <a:rPr b="1" lang="en-US" sz="10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จะดูประสิทธิผลของกระบวนการพิจารณาเครดิตควรดูแนวโน้มหนี้เสียหรือเปรียบเทียบอุตสาหกรรม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ิธีการตรวจไม่สัมพันธ์กับวัตถุประสงค์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การพิจารณาเครดิตโดยผู้ตรวจสอบ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ea typeface="Tahoma"/>
              </a:rPr>
              <a:t>(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วรรค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ea typeface="Tahoma"/>
              </a:rPr>
              <a:t>)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ภายในผลการตรวจสอบ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้นวรรคตอนผิด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อนุมัติสินเชื่อเกินกว่าอำนาจที่คณะกรรมการทำการ</a:t>
            </a:r>
            <a:r>
              <a:rPr b="1" lang="th-TH" sz="10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มอบหมายให้บ่อยครั้ง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างคำขยายสับสน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ผลการตรวจสอบปรากฏพบว่า ไม่ได้ถูกทำการ ได้รับการ มีการ ดำเนินการ ในแง่ของ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ใช้คำฟุ่มเฟือย ใช้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passive voice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เอกสารสำคัญ ไม่อยู่ ข้อมูลหลักประกัน ไม่ถูกต้อง เงื่อนไขการปล่อยเงินกู้ บ่อยครั้ง แตกต่างกัน นานแล้ว ดังกล่าวนั้น ข้อบกพร่องที่เกิดขึ้นนั้น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อะไร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?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ระบุไม่ชัดเจน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ผู้บริหารขาดความระมัดระวัง นายองอาจ ญาติระอาหรือผู้จัดการฝ่าย </a:t>
            </a:r>
            <a:r>
              <a:rPr b="1" lang="en-US" sz="1000" spc="-1" strike="noStrike">
                <a:solidFill>
                  <a:srgbClr val="0000ff"/>
                </a:solidFill>
                <a:latin typeface="Tahoma"/>
                <a:ea typeface="Tahoma"/>
              </a:rPr>
              <a:t>Hire Perchase 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คนปัจจุบัน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ใคร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?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คนเดียวกัน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?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ถ้ามีการเปลี่ยนผู้จัดการ เปลี่ยนเมื่อไหร่ เป็นข้อบกพร่องในช่วงที่เขาดูแลไหม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/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ไม่ควรระบุชื่อ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สังเกตุ ณ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ea typeface="Tahoma"/>
              </a:rPr>
              <a:t>.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วันสิ้นเดือน </a:t>
            </a:r>
            <a:r>
              <a:rPr b="1" lang="en-US" sz="1000" spc="-1" strike="noStrike">
                <a:solidFill>
                  <a:srgbClr val="0000ff"/>
                </a:solidFill>
                <a:latin typeface="Tahoma"/>
                <a:ea typeface="Tahoma"/>
              </a:rPr>
              <a:t>Hire Perchase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ea typeface="Tahoma"/>
              </a:rPr>
              <a:t>  </a:t>
            </a:r>
            <a:r>
              <a:rPr b="1" lang="en-US" sz="1000" spc="-1" strike="noStrike">
                <a:solidFill>
                  <a:srgbClr val="0000ff"/>
                </a:solidFill>
                <a:latin typeface="Tahoma"/>
                <a:ea typeface="Tahoma"/>
              </a:rPr>
              <a:t>BaLance 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สาเหต </a:t>
            </a:r>
            <a:r>
              <a:rPr b="1" lang="en-US" sz="1000" spc="-1" strike="noStrike">
                <a:solidFill>
                  <a:srgbClr val="0000ff"/>
                </a:solidFill>
                <a:latin typeface="Tahoma"/>
                <a:ea typeface="Tahoma"/>
              </a:rPr>
              <a:t>215,3222.5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บาท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สองบาท อนุมัต คลั่งค้าง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สะกดผิด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ขาดความระมัดระวังในการสังเกตุเงื่อนไขการปล่อยเงินกู้โดยยังคงมีการอนุมัติสินเชื่อเกินอำนาจ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ไม่ชัดเจน เป็นข้อเท็จจริงหรืออนุมาน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?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ใครอนุมาน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ระบบสินเชื่อ ระบบเช่าซื้อ 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ea typeface="Tahoma"/>
              </a:rPr>
              <a:t>/ 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ลูกค้า ลูกหนี้ ผู้กู้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ใช้คำไม่สม่ำเสมอ สับสน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ระบบ </a:t>
            </a:r>
            <a:r>
              <a:rPr b="1" lang="en-US" sz="1000" spc="-1" strike="noStrike">
                <a:solidFill>
                  <a:srgbClr val="0000ff"/>
                </a:solidFill>
                <a:latin typeface="Tahoma"/>
                <a:ea typeface="Tahoma"/>
              </a:rPr>
              <a:t>SAP 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ตั้งแต่แก้ไขผังบัญชีใน </a:t>
            </a:r>
            <a:r>
              <a:rPr b="1" lang="en-US" sz="1000" spc="-1" strike="noStrike">
                <a:solidFill>
                  <a:srgbClr val="0000ff"/>
                </a:solidFill>
                <a:latin typeface="Tahoma"/>
                <a:ea typeface="Tahoma"/>
              </a:rPr>
              <a:t>Module F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-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คืออะไร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?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คนเขียนเข้าใจอยู่คนเดียว จะให้เข้าใจว่าการแก้ผังบัญชีเป็นสาเหตุหรือเปล่าก็น่าจะว่ามา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บ่อยครั้ง</a:t>
            </a:r>
            <a:r>
              <a:rPr b="1" lang="en-US" sz="10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สิ้นเดือนที่แล้ว คั่งค้าง เนิ่นนาน ขาดความระมัดระวัง ซีเรียส ให้มากกว่านี้ แก้เสียให้เรียบร้อย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ใช้คำไม่เหมาะสม เชิงตำหนิ ไม่สุภาพ ภาษาพูด ไม่เจาะจงชัดเจน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เกณฑ์สำคัญในการสอบทาน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การใช้คำ การจัดพิมพ์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รูปแบบที่เป็นมาตรฐานเดียวกัน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ความสม่ำเสมอในการใช้คำ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การใช้คำที่ควรระมัดระวัง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ลำดับความที่ผู้อ่านเข้าใจง่าย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เป็นข้อเท็จจริง ที่พิสูจน์ได้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การอนุมาน ต้องระบุว่าอนุมาน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สอบทานให้มั่นใจ ทั้งประเด็นที่พอใจ และประเด็นที่ต้องปรับปรุง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มีหลักฐานการตรวจสอบอ้างอิงพร้อม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ทำเป็นลายลักษณ์อักษร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Review Note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เทคนิคและแนวทางการดำเนินการประชุมสรุปผล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634" name=""/>
          <p:cNvSpPr/>
          <p:nvPr/>
        </p:nvSpPr>
        <p:spPr>
          <a:xfrm>
            <a:off x="230040" y="51800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635" name=""/>
          <p:cNvSpPr/>
          <p:nvPr/>
        </p:nvSpPr>
        <p:spPr>
          <a:xfrm>
            <a:off x="158760" y="45054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287360" y="744480"/>
            <a:ext cx="4183200" cy="3138480"/>
          </a:xfrm>
          <a:prstGeom prst="rect">
            <a:avLst/>
          </a:prstGeom>
          <a:ln w="0">
            <a:noFill/>
          </a:ln>
        </p:spPr>
      </p:sp>
      <p:sp>
        <p:nvSpPr>
          <p:cNvPr id="637" name=""/>
          <p:cNvSpPr/>
          <p:nvPr/>
        </p:nvSpPr>
        <p:spPr>
          <a:xfrm>
            <a:off x="519120" y="3954600"/>
            <a:ext cx="5948280" cy="49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นที่ </a:t>
            </a:r>
            <a:r>
              <a:rPr b="0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 </a:t>
            </a:r>
            <a:r>
              <a:rPr b="0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ลา </a:t>
            </a:r>
            <a:r>
              <a:rPr b="0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4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:</a:t>
            </a:r>
            <a:r>
              <a:rPr b="0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3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0 </a:t>
            </a:r>
            <a:r>
              <a:rPr b="0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น</a:t>
            </a:r>
            <a:r>
              <a:rPr b="0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. </a:t>
            </a:r>
            <a:r>
              <a:rPr b="1" lang="th-TH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</a:t>
            </a:r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เทคนิคการเขียนรายงานการตรวจสอบ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รายงานนี้มีข้อบกพร่องตรงไหนบ้าง ถ้าคุณเป็นผู้ตรวจทาน   คุณจะแก้อย่างไร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ผู้ตรวจสอบทำอะไร สรุปได้ว่าอย่างไร ตรงกับวัตถุประสงค์การตรวจไหม  ข้อเท็จจริงจากการตรวจคืออะไร น่าจะต่างจากเกณฑ์ไหม อย่างไร ผลกระทบคืออะไร อะไรเป็นสาเหตุที่แท้จริง คำแนะนำที่ถูกต้อง  ขาดหลักฐานที่ต้องเก็บเพิ่มเติมไหม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ชื่อหัวข้อรายงานดี ประเด็นที่ตรวจพบน่าสนใจ มีความเสี่ยง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มีข้อดีแค่นี้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การสุ่มหยิบแฟ้มลูกค้ามาดู ไม่ช่วยตรวจสอบความครบถ้วนของข้อมูล</a:t>
            </a:r>
            <a:r>
              <a:rPr b="1" lang="en-US" sz="10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จะดูประสิทธิผลของกระบวนการพิจารณาเครดิตควรดูแนวโน้มหนี้เสียหรือเปรียบเทียบอุตสาหกรรม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ิธีการตรวจไม่สัมพันธ์กับวัตถุประสงค์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การพิจารณาเครดิตโดยผู้ตรวจสอบ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ea typeface="Tahoma"/>
              </a:rPr>
              <a:t>(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วรรค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ea typeface="Tahoma"/>
              </a:rPr>
              <a:t>)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ภายในผลการตรวจสอบ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้นวรรคตอนผิด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อนุมัติสินเชื่อเกินกว่าอำนาจที่คณะกรรมการทำการ</a:t>
            </a:r>
            <a:r>
              <a:rPr b="1" lang="th-TH" sz="10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มอบหมายให้บ่อยครั้ง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างคำขยายสับสน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ผลการตรวจสอบปรากฏพบว่า ไม่ได้ถูกทำการ ได้รับการ มีการ ดำเนินการ ในแง่ของ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ใช้คำฟุ่มเฟือย ใช้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passive voice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เอกสารสำคัญ ไม่อยู่ ข้อมูลหลักประกัน ไม่ถูกต้อง เงื่อนไขการปล่อยเงินกู้ บ่อยครั้ง แตกต่างกัน นานแล้ว ดังกล่าวนั้น ข้อบกพร่องที่เกิดขึ้นนั้น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อะไร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?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ระบุไม่ชัดเจน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ผู้บริหารขาดความระมัดระวัง นายองอาจ ญาติระอาหรือผู้จัดการฝ่าย </a:t>
            </a:r>
            <a:r>
              <a:rPr b="1" lang="en-US" sz="1000" spc="-1" strike="noStrike">
                <a:solidFill>
                  <a:srgbClr val="0000ff"/>
                </a:solidFill>
                <a:latin typeface="Tahoma"/>
                <a:ea typeface="Tahoma"/>
              </a:rPr>
              <a:t>Hire Perchase 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คนปัจจุบัน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ใคร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?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คนเดียวกัน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?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ถ้ามีการเปลี่ยนผู้จัดการ เปลี่ยนเมื่อไหร่ เป็นข้อบกพร่องในช่วงที่เขาดูแลไหม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/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ไม่ควรระบุชื่อ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สังเกตุ ณ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ea typeface="Tahoma"/>
              </a:rPr>
              <a:t>.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วันสิ้นเดือน </a:t>
            </a:r>
            <a:r>
              <a:rPr b="1" lang="en-US" sz="1000" spc="-1" strike="noStrike">
                <a:solidFill>
                  <a:srgbClr val="0000ff"/>
                </a:solidFill>
                <a:latin typeface="Tahoma"/>
                <a:ea typeface="Tahoma"/>
              </a:rPr>
              <a:t>Hire Perchase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ea typeface="Tahoma"/>
              </a:rPr>
              <a:t>  </a:t>
            </a:r>
            <a:r>
              <a:rPr b="1" lang="en-US" sz="1000" spc="-1" strike="noStrike">
                <a:solidFill>
                  <a:srgbClr val="0000ff"/>
                </a:solidFill>
                <a:latin typeface="Tahoma"/>
                <a:ea typeface="Tahoma"/>
              </a:rPr>
              <a:t>BaLance 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สาเหต </a:t>
            </a:r>
            <a:r>
              <a:rPr b="1" lang="en-US" sz="1000" spc="-1" strike="noStrike">
                <a:solidFill>
                  <a:srgbClr val="0000ff"/>
                </a:solidFill>
                <a:latin typeface="Tahoma"/>
                <a:ea typeface="Tahoma"/>
              </a:rPr>
              <a:t>215,3222.5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บาท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สองบาท อนุมัต คลั่งค้าง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สะกดผิด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ขาดความระมัดระวังในการสังเกตุเงื่อนไขการปล่อยเงินกู้โดยยังคงมีการอนุมัติสินเชื่อเกินอำนาจ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ไม่ชัดเจน เป็นข้อเท็จจริงหรืออนุมาน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?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ใครอนุมาน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ระบบสินเชื่อ ระบบเช่าซื้อ 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ea typeface="Tahoma"/>
              </a:rPr>
              <a:t>/ 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ลูกค้า ลูกหนี้ ผู้กู้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ใช้คำไม่สม่ำเสมอ สับสน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ระบบ </a:t>
            </a:r>
            <a:r>
              <a:rPr b="1" lang="en-US" sz="1000" spc="-1" strike="noStrike">
                <a:solidFill>
                  <a:srgbClr val="0000ff"/>
                </a:solidFill>
                <a:latin typeface="Tahoma"/>
                <a:ea typeface="Tahoma"/>
              </a:rPr>
              <a:t>SAP 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ตั้งแต่แก้ไขผังบัญชีใน </a:t>
            </a:r>
            <a:r>
              <a:rPr b="1" lang="en-US" sz="1000" spc="-1" strike="noStrike">
                <a:solidFill>
                  <a:srgbClr val="0000ff"/>
                </a:solidFill>
                <a:latin typeface="Tahoma"/>
                <a:ea typeface="Tahoma"/>
              </a:rPr>
              <a:t>Module F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-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คืออะไร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?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คนเขียนเข้าใจอยู่คนเดียว จะให้เข้าใจว่าการแก้ผังบัญชีเป็นสาเหตุหรือเปล่าก็น่าจะว่ามา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บ่อยครั้ง</a:t>
            </a:r>
            <a:r>
              <a:rPr b="1" lang="en-US" sz="10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สิ้นเดือนที่แล้ว คั่งค้าง เนิ่นนาน ขาดความระมัดระวัง ซีเรียส ให้มากกว่านี้ แก้เสียให้เรียบร้อย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ใช้คำไม่เหมาะสม เชิงตำหนิ ไม่สุภาพ ภาษาพูด ไม่เจาะจงชัดเจน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เกณฑ์สำคัญในการสอบทาน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การใช้คำ การจัดพิมพ์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รูปแบบที่เป็นมาตรฐานเดียวกัน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ความสม่ำเสมอในการใช้คำ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การใช้คำที่ควรระมัดระวัง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ลำดับความที่ผู้อ่านเข้าใจง่าย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เป็นข้อเท็จจริง ที่พิสูจน์ได้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การอนุมาน ต้องระบุว่าอนุมาน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สอบทานให้มั่นใจ ทั้งประเด็นที่พอใจ และประเด็นที่ต้องปรับปรุง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มีหลักฐานการตรวจสอบอ้างอิงพร้อม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ทำเป็นลายลักษณ์อักษร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Review Note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เทคนิคและแนวทางการดำเนินการประชุมสรุปผล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638" name=""/>
          <p:cNvSpPr/>
          <p:nvPr/>
        </p:nvSpPr>
        <p:spPr>
          <a:xfrm>
            <a:off x="230040" y="51800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639" name=""/>
          <p:cNvSpPr/>
          <p:nvPr/>
        </p:nvSpPr>
        <p:spPr>
          <a:xfrm>
            <a:off x="158760" y="45054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06120" y="4714560"/>
            <a:ext cx="521172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287360" y="744480"/>
            <a:ext cx="4183200" cy="3138480"/>
          </a:xfrm>
          <a:prstGeom prst="rect">
            <a:avLst/>
          </a:prstGeom>
          <a:ln w="0">
            <a:noFill/>
          </a:ln>
        </p:spPr>
      </p:sp>
      <p:sp>
        <p:nvSpPr>
          <p:cNvPr id="641" name=""/>
          <p:cNvSpPr/>
          <p:nvPr/>
        </p:nvSpPr>
        <p:spPr>
          <a:xfrm>
            <a:off x="519120" y="3954600"/>
            <a:ext cx="5948280" cy="49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นที่ </a:t>
            </a:r>
            <a:r>
              <a:rPr b="0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 </a:t>
            </a:r>
            <a:r>
              <a:rPr b="0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ลา </a:t>
            </a:r>
            <a:r>
              <a:rPr b="0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4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:</a:t>
            </a:r>
            <a:r>
              <a:rPr b="0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3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0 </a:t>
            </a:r>
            <a:r>
              <a:rPr b="0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น</a:t>
            </a:r>
            <a:r>
              <a:rPr b="0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. </a:t>
            </a:r>
            <a:r>
              <a:rPr b="1" lang="th-TH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</a:t>
            </a:r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เทคนิคการเขียนรายงานการตรวจสอบ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รายงานนี้มีข้อบกพร่องตรงไหนบ้าง ถ้าคุณเป็นผู้ตรวจทาน   คุณจะแก้อย่างไร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ผู้ตรวจสอบทำอะไร สรุปได้ว่าอย่างไร ตรงกับวัตถุประสงค์การตรวจไหม  ข้อเท็จจริงจากการตรวจคืออะไร น่าจะต่างจากเกณฑ์ไหม อย่างไร ผลกระทบคืออะไร อะไรเป็นสาเหตุที่แท้จริง คำแนะนำที่ถูกต้อง  ขาดหลักฐานที่ต้องเก็บเพิ่มเติมไหม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ชื่อหัวข้อรายงานดี ประเด็นที่ตรวจพบน่าสนใจ มีความเสี่ยง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มีข้อดีแค่นี้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การสุ่มหยิบแฟ้มลูกค้ามาดู ไม่ช่วยตรวจสอบความครบถ้วนของข้อมูล</a:t>
            </a:r>
            <a:r>
              <a:rPr b="1" lang="en-US" sz="10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จะดูประสิทธิผลของกระบวนการพิจารณาเครดิตควรดูแนวโน้มหนี้เสียหรือเปรียบเทียบอุตสาหกรรม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ิธีการตรวจไม่สัมพันธ์กับวัตถุประสงค์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การพิจารณาเครดิตโดยผู้ตรวจสอบ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ea typeface="Tahoma"/>
              </a:rPr>
              <a:t>(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วรรค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ea typeface="Tahoma"/>
              </a:rPr>
              <a:t>)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ภายในผลการตรวจสอบ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้นวรรคตอนผิด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อนุมัติสินเชื่อเกินกว่าอำนาจที่คณะกรรมการทำการ</a:t>
            </a:r>
            <a:r>
              <a:rPr b="1" lang="th-TH" sz="10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มอบหมายให้บ่อยครั้ง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างคำขยายสับสน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ผลการตรวจสอบปรากฏพบว่า ไม่ได้ถูกทำการ ได้รับการ มีการ ดำเนินการ ในแง่ของ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ใช้คำฟุ่มเฟือย ใช้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passive voice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เอกสารสำคัญ ไม่อยู่ ข้อมูลหลักประกัน ไม่ถูกต้อง เงื่อนไขการปล่อยเงินกู้ บ่อยครั้ง แตกต่างกัน นานแล้ว ดังกล่าวนั้น ข้อบกพร่องที่เกิดขึ้นนั้น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อะไร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?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ระบุไม่ชัดเจน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ผู้บริหารขาดความระมัดระวัง นายองอาจ ญาติระอาหรือผู้จัดการฝ่าย </a:t>
            </a:r>
            <a:r>
              <a:rPr b="1" lang="en-US" sz="1000" spc="-1" strike="noStrike">
                <a:solidFill>
                  <a:srgbClr val="0000ff"/>
                </a:solidFill>
                <a:latin typeface="Tahoma"/>
                <a:ea typeface="Tahoma"/>
              </a:rPr>
              <a:t>Hire Perchase 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คนปัจจุบัน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ใคร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?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คนเดียวกัน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?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ถ้ามีการเปลี่ยนผู้จัดการ เปลี่ยนเมื่อไหร่ เป็นข้อบกพร่องในช่วงที่เขาดูแลไหม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/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ไม่ควรระบุชื่อ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สังเกตุ ณ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ea typeface="Tahoma"/>
              </a:rPr>
              <a:t>.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วันสิ้นเดือน </a:t>
            </a:r>
            <a:r>
              <a:rPr b="1" lang="en-US" sz="1000" spc="-1" strike="noStrike">
                <a:solidFill>
                  <a:srgbClr val="0000ff"/>
                </a:solidFill>
                <a:latin typeface="Tahoma"/>
                <a:ea typeface="Tahoma"/>
              </a:rPr>
              <a:t>Hire Perchase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ea typeface="Tahoma"/>
              </a:rPr>
              <a:t>  </a:t>
            </a:r>
            <a:r>
              <a:rPr b="1" lang="en-US" sz="1000" spc="-1" strike="noStrike">
                <a:solidFill>
                  <a:srgbClr val="0000ff"/>
                </a:solidFill>
                <a:latin typeface="Tahoma"/>
                <a:ea typeface="Tahoma"/>
              </a:rPr>
              <a:t>BaLance 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สาเหต </a:t>
            </a:r>
            <a:r>
              <a:rPr b="1" lang="en-US" sz="1000" spc="-1" strike="noStrike">
                <a:solidFill>
                  <a:srgbClr val="0000ff"/>
                </a:solidFill>
                <a:latin typeface="Tahoma"/>
                <a:ea typeface="Tahoma"/>
              </a:rPr>
              <a:t>215,3222.5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บาท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สองบาท อนุมัต คลั่งค้าง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สะกดผิด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ขาดความระมัดระวังในการสังเกตุเงื่อนไขการปล่อยเงินกู้โดยยังคงมีการอนุมัติสินเชื่อเกินอำนาจ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ไม่ชัดเจน เป็นข้อเท็จจริงหรืออนุมาน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?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ใครอนุมาน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ระบบสินเชื่อ ระบบเช่าซื้อ 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ea typeface="Tahoma"/>
              </a:rPr>
              <a:t>/ 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ลูกค้า ลูกหนี้ ผู้กู้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ใช้คำไม่สม่ำเสมอ สับสน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ระบบ </a:t>
            </a:r>
            <a:r>
              <a:rPr b="1" lang="en-US" sz="1000" spc="-1" strike="noStrike">
                <a:solidFill>
                  <a:srgbClr val="0000ff"/>
                </a:solidFill>
                <a:latin typeface="Tahoma"/>
                <a:ea typeface="Tahoma"/>
              </a:rPr>
              <a:t>SAP 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ตั้งแต่แก้ไขผังบัญชีใน </a:t>
            </a:r>
            <a:r>
              <a:rPr b="1" lang="en-US" sz="1000" spc="-1" strike="noStrike">
                <a:solidFill>
                  <a:srgbClr val="0000ff"/>
                </a:solidFill>
                <a:latin typeface="Tahoma"/>
                <a:ea typeface="Tahoma"/>
              </a:rPr>
              <a:t>Module F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-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คืออะไร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?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คนเขียนเข้าใจอยู่คนเดียว จะให้เข้าใจว่าการแก้ผังบัญชีเป็นสาเหตุหรือเปล่าก็น่าจะว่ามา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บ่อยครั้ง</a:t>
            </a:r>
            <a:r>
              <a:rPr b="1" lang="en-US" sz="10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สิ้นเดือนที่แล้ว คั่งค้าง เนิ่นนาน ขาดความระมัดระวัง ซีเรียส ให้มากกว่านี้ แก้เสียให้เรียบร้อย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ใช้คำไม่เหมาะสม เชิงตำหนิ ไม่สุภาพ ภาษาพูด ไม่เจาะจงชัดเจน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เกณฑ์สำคัญในการสอบทาน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การใช้คำ การจัดพิมพ์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รูปแบบที่เป็นมาตรฐานเดียวกัน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ความสม่ำเสมอในการใช้คำ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การใช้คำที่ควรระมัดระวัง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ลำดับความที่ผู้อ่านเข้าใจง่าย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เป็นข้อเท็จจริง ที่พิสูจน์ได้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การอนุมาน ต้องระบุว่าอนุมาน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สอบทานให้มั่นใจ ทั้งประเด็นที่พอใจ และประเด็นที่ต้องปรับปรุง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มีหลักฐานการตรวจสอบอ้างอิงพร้อม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ทำเป็นลายลักษณ์อักษร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Review Note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เทคนิคและแนวทางการดำเนินการประชุมสรุปผล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642" name=""/>
          <p:cNvSpPr/>
          <p:nvPr/>
        </p:nvSpPr>
        <p:spPr>
          <a:xfrm>
            <a:off x="230040" y="51800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643" name=""/>
          <p:cNvSpPr/>
          <p:nvPr/>
        </p:nvSpPr>
        <p:spPr>
          <a:xfrm>
            <a:off x="158760" y="45054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287360" y="744480"/>
            <a:ext cx="4183200" cy="3138480"/>
          </a:xfrm>
          <a:prstGeom prst="rect">
            <a:avLst/>
          </a:prstGeom>
          <a:ln w="0">
            <a:noFill/>
          </a:ln>
        </p:spPr>
      </p:sp>
      <p:sp>
        <p:nvSpPr>
          <p:cNvPr id="645" name=""/>
          <p:cNvSpPr/>
          <p:nvPr/>
        </p:nvSpPr>
        <p:spPr>
          <a:xfrm>
            <a:off x="519120" y="3954600"/>
            <a:ext cx="5948280" cy="49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นที่ </a:t>
            </a:r>
            <a:r>
              <a:rPr b="0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 </a:t>
            </a:r>
            <a:r>
              <a:rPr b="0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ลา </a:t>
            </a:r>
            <a:r>
              <a:rPr b="0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4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:</a:t>
            </a:r>
            <a:r>
              <a:rPr b="0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3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0 </a:t>
            </a:r>
            <a:r>
              <a:rPr b="0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น</a:t>
            </a:r>
            <a:r>
              <a:rPr b="0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. </a:t>
            </a:r>
            <a:r>
              <a:rPr b="1" lang="th-TH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</a:t>
            </a:r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เทคนิคการเขียนรายงานการตรวจสอบ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รายงานนี้มีข้อบกพร่องตรงไหนบ้าง ถ้าคุณเป็นผู้ตรวจทาน   คุณจะแก้อย่างไร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ผู้ตรวจสอบทำอะไร สรุปได้ว่าอย่างไร ตรงกับวัตถุประสงค์การตรวจไหม  ข้อเท็จจริงจากการตรวจคืออะไร น่าจะต่างจากเกณฑ์ไหม อย่างไร ผลกระทบคืออะไร อะไรเป็นสาเหตุที่แท้จริง คำแนะนำที่ถูกต้อง  ขาดหลักฐานที่ต้องเก็บเพิ่มเติมไหม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ชื่อหัวข้อรายงานดี ประเด็นที่ตรวจพบน่าสนใจ มีความเสี่ยง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มีข้อดีแค่นี้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การสุ่มหยิบแฟ้มลูกค้ามาดู ไม่ช่วยตรวจสอบความครบถ้วนของข้อมูล</a:t>
            </a:r>
            <a:r>
              <a:rPr b="1" lang="en-US" sz="10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จะดูประสิทธิผลของกระบวนการพิจารณาเครดิตควรดูแนวโน้มหนี้เสียหรือเปรียบเทียบอุตสาหกรรม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ิธีการตรวจไม่สัมพันธ์กับวัตถุประสงค์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การพิจารณาเครดิตโดยผู้ตรวจสอบ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ea typeface="Tahoma"/>
              </a:rPr>
              <a:t>(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วรรค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ea typeface="Tahoma"/>
              </a:rPr>
              <a:t>)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ภายในผลการตรวจสอบ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้นวรรคตอนผิด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อนุมัติสินเชื่อเกินกว่าอำนาจที่คณะกรรมการทำการ</a:t>
            </a:r>
            <a:r>
              <a:rPr b="1" lang="th-TH" sz="10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มอบหมายให้บ่อยครั้ง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างคำขยายสับสน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ผลการตรวจสอบปรากฏพบว่า ไม่ได้ถูกทำการ ได้รับการ มีการ ดำเนินการ ในแง่ของ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ใช้คำฟุ่มเฟือย ใช้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passive voice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เอกสารสำคัญ ไม่อยู่ ข้อมูลหลักประกัน ไม่ถูกต้อง เงื่อนไขการปล่อยเงินกู้ บ่อยครั้ง แตกต่างกัน นานแล้ว ดังกล่าวนั้น ข้อบกพร่องที่เกิดขึ้นนั้น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อะไร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?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ระบุไม่ชัดเจน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ผู้บริหารขาดความระมัดระวัง นายองอาจ ญาติระอาหรือผู้จัดการฝ่าย </a:t>
            </a:r>
            <a:r>
              <a:rPr b="1" lang="en-US" sz="1000" spc="-1" strike="noStrike">
                <a:solidFill>
                  <a:srgbClr val="0000ff"/>
                </a:solidFill>
                <a:latin typeface="Tahoma"/>
                <a:ea typeface="Tahoma"/>
              </a:rPr>
              <a:t>Hire Perchase 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คนปัจจุบัน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ใคร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?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คนเดียวกัน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?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ถ้ามีการเปลี่ยนผู้จัดการ เปลี่ยนเมื่อไหร่ เป็นข้อบกพร่องในช่วงที่เขาดูแลไหม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/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ไม่ควรระบุชื่อ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สังเกตุ ณ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ea typeface="Tahoma"/>
              </a:rPr>
              <a:t>.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วันสิ้นเดือน </a:t>
            </a:r>
            <a:r>
              <a:rPr b="1" lang="en-US" sz="1000" spc="-1" strike="noStrike">
                <a:solidFill>
                  <a:srgbClr val="0000ff"/>
                </a:solidFill>
                <a:latin typeface="Tahoma"/>
                <a:ea typeface="Tahoma"/>
              </a:rPr>
              <a:t>Hire Perchase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ea typeface="Tahoma"/>
              </a:rPr>
              <a:t>  </a:t>
            </a:r>
            <a:r>
              <a:rPr b="1" lang="en-US" sz="1000" spc="-1" strike="noStrike">
                <a:solidFill>
                  <a:srgbClr val="0000ff"/>
                </a:solidFill>
                <a:latin typeface="Tahoma"/>
                <a:ea typeface="Tahoma"/>
              </a:rPr>
              <a:t>BaLance 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สาเหต </a:t>
            </a:r>
            <a:r>
              <a:rPr b="1" lang="en-US" sz="1000" spc="-1" strike="noStrike">
                <a:solidFill>
                  <a:srgbClr val="0000ff"/>
                </a:solidFill>
                <a:latin typeface="Tahoma"/>
                <a:ea typeface="Tahoma"/>
              </a:rPr>
              <a:t>215,3222.5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บาท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สองบาท อนุมัต คลั่งค้าง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สะกดผิด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ขาดความระมัดระวังในการสังเกตุเงื่อนไขการปล่อยเงินกู้โดยยังคงมีการอนุมัติสินเชื่อเกินอำนาจ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ไม่ชัดเจน เป็นข้อเท็จจริงหรืออนุมาน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?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ใครอนุมาน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ระบบสินเชื่อ ระบบเช่าซื้อ 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ea typeface="Tahoma"/>
              </a:rPr>
              <a:t>/ 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ลูกค้า ลูกหนี้ ผู้กู้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ใช้คำไม่สม่ำเสมอ สับสน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ระบบ </a:t>
            </a:r>
            <a:r>
              <a:rPr b="1" lang="en-US" sz="1000" spc="-1" strike="noStrike">
                <a:solidFill>
                  <a:srgbClr val="0000ff"/>
                </a:solidFill>
                <a:latin typeface="Tahoma"/>
                <a:ea typeface="Tahoma"/>
              </a:rPr>
              <a:t>SAP 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ตั้งแต่แก้ไขผังบัญชีใน </a:t>
            </a:r>
            <a:r>
              <a:rPr b="1" lang="en-US" sz="1000" spc="-1" strike="noStrike">
                <a:solidFill>
                  <a:srgbClr val="0000ff"/>
                </a:solidFill>
                <a:latin typeface="Tahoma"/>
                <a:ea typeface="Tahoma"/>
              </a:rPr>
              <a:t>Module F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-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คืออะไร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?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คนเขียนเข้าใจอยู่คนเดียว จะให้เข้าใจว่าการแก้ผังบัญชีเป็นสาเหตุหรือเปล่าก็น่าจะว่ามา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บ่อยครั้ง</a:t>
            </a:r>
            <a:r>
              <a:rPr b="1" lang="en-US" sz="10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สิ้นเดือนที่แล้ว คั่งค้าง เนิ่นนาน ขาดความระมัดระวัง ซีเรียส ให้มากกว่านี้ แก้เสียให้เรียบร้อย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ใช้คำไม่เหมาะสม เชิงตำหนิ ไม่สุภาพ ภาษาพูด ไม่เจาะจงชัดเจน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เกณฑ์สำคัญในการสอบทาน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การใช้คำ การจัดพิมพ์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รูปแบบที่เป็นมาตรฐานเดียวกัน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ความสม่ำเสมอในการใช้คำ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การใช้คำที่ควรระมัดระวัง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ลำดับความที่ผู้อ่านเข้าใจง่าย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เป็นข้อเท็จจริง ที่พิสูจน์ได้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การอนุมาน ต้องระบุว่าอนุมาน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สอบทานให้มั่นใจ ทั้งประเด็นที่พอใจ และประเด็นที่ต้องปรับปรุง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มีหลักฐานการตรวจสอบอ้างอิงพร้อม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ทำเป็นลายลักษณ์อักษร 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Review Note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เทคนิคและแนวทางการดำเนินการประชุมสรุปผล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646" name=""/>
          <p:cNvSpPr/>
          <p:nvPr/>
        </p:nvSpPr>
        <p:spPr>
          <a:xfrm>
            <a:off x="230040" y="51800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647" name=""/>
          <p:cNvSpPr/>
          <p:nvPr/>
        </p:nvSpPr>
        <p:spPr>
          <a:xfrm>
            <a:off x="158760" y="45054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06120" y="4714560"/>
            <a:ext cx="521172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06120" y="4714560"/>
            <a:ext cx="521172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06120" y="4714560"/>
            <a:ext cx="521172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06120" y="4714560"/>
            <a:ext cx="521172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906120" y="4714560"/>
            <a:ext cx="521172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06120" y="4714560"/>
            <a:ext cx="521172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06120" y="4714560"/>
            <a:ext cx="521172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06120" y="4714560"/>
            <a:ext cx="521172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06120" y="4714560"/>
            <a:ext cx="521172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06120" y="4714560"/>
            <a:ext cx="521172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06120" y="4714560"/>
            <a:ext cx="521172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06120" y="4714560"/>
            <a:ext cx="521172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06120" y="4714560"/>
            <a:ext cx="521172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06120" y="4714560"/>
            <a:ext cx="521172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06120" y="4714560"/>
            <a:ext cx="521172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06120" y="4714560"/>
            <a:ext cx="521172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8982-E9C6-4094-A6C3-374E59F03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552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1E46-CBAE-4465-9DCA-78DB8638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726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552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552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DEBD-ABFF-41A0-97D1-4B6A666B3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3726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3726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552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552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552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BF56-6DC7-460E-8D01-8B161C975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38E4-4C26-40C4-AC3C-BAB66FA0B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3726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17A5-F483-402E-BE2E-839BAF00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3B9E-5F65-4C23-80D8-F28A4508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726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13E0-5DF9-4EA2-823E-4A03195E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3ED4-6545-440F-9DDC-7A374A3A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-360"/>
            <a:ext cx="7859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CB099-E3D3-448B-BEF6-523A9221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726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552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FAA0-9481-4BAC-885D-AAA01E28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3726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6FD8-338D-4EBF-9905-5A63F03F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726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552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C464-95C7-4CBE-8A2A-BC2BE7E6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3726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552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BE6CB-3BB7-412A-A266-FB719676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552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6E55-1095-4A71-BBCF-2B18FCEB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3726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552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552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E4470-55F1-4B12-83FA-A643CDF57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3726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3726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552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552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552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BD902-0D3F-4235-95FA-6DEEB701D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6B70B-6439-49EA-AC9F-514FA6DAA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3726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15158-24A8-4505-8311-C1707A74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E1570-95AE-45B6-9243-D8000D06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3726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049C7-DADD-470B-8644-1FAB2235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8D40D-4319-4809-B5DD-15144328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A771-D75F-423D-83C1-BF0F11D0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6840" y="-360"/>
            <a:ext cx="7859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334CB-3203-4017-8476-8A7CBE2A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3726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8552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F493C-E1A5-41E2-B134-49267501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3726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8552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876C9-1694-4F6A-95F9-A01A89A9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3726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552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A6A51-F7D2-48F9-A5DE-BE30E95D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8552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2C4BC-01C7-4F2F-B6CA-7703F8A0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3726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8552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8552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67115-EABA-46B6-9FFF-736DFC7F1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3726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3726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8552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8552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8552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3AA2C-446F-4A77-AB13-BCD7893B7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726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0565-337C-4662-ADDD-A3BF11C6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781F-1D0C-41E7-98DE-C7459D55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-360"/>
            <a:ext cx="7859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67D0-999B-4823-B417-86B60630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726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552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0511-18E9-4F12-A9E4-DB790C20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26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552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7F4A-B9AB-4AAE-A42A-35BE796B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26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52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1B9D-4FF9-451F-AC37-C614462E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6461280"/>
            <a:ext cx="807552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99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ffffff"/>
                </a:solidFill>
                <a:latin typeface="Tahoma"/>
                <a:cs typeface="Tahoma"/>
              </a:rPr>
              <a:t>ไพรัช ศรีวิไลฤทธิ์</a:t>
            </a:r>
            <a:br>
              <a:rPr sz="900"/>
            </a:br>
            <a:r>
              <a:rPr b="1" lang="en-US" sz="900" spc="-1" strike="noStrike">
                <a:solidFill>
                  <a:srgbClr val="ffffff"/>
                </a:solidFill>
                <a:latin typeface="Tahoma"/>
                <a:ea typeface="Tahoma"/>
              </a:rPr>
              <a:t>pairat@tisco.co.th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726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50920" y="655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ngsan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ngsana Ne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258920" y="6048000"/>
            <a:ext cx="61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ngsan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ngsana Ne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30640" y="646128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1050-7AF8-4398-80DE-E65F9B36B3F4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26920" y="6461280"/>
            <a:ext cx="763128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99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ffffff"/>
                </a:solidFill>
                <a:latin typeface="Tahoma"/>
                <a:cs typeface="Tahoma"/>
              </a:rPr>
              <a:t>ไพรัช ศรีวิไลฤทธิ์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  <a:ea typeface="Tahoma"/>
              </a:rPr>
              <a:t>pairat@tisco.co.th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66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924280"/>
            <a:ext cx="9144000" cy="9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99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250920" y="655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ngsan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ngsana Ne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1547640" y="6165360"/>
            <a:ext cx="583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ngsan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ngsana Ne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830640" y="646128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8519-C8EE-41C6-9AE7-6C2FC4CC2F1D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6461280"/>
            <a:ext cx="807552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99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ffffff"/>
                </a:solidFill>
                <a:latin typeface="Tahoma"/>
                <a:cs typeface="Tahoma"/>
              </a:rPr>
              <a:t>ไพรัช ศรีวิไลฤทธิ์</a:t>
            </a:r>
            <a:br>
              <a:rPr sz="900"/>
            </a:br>
            <a:r>
              <a:rPr b="1" lang="en-US" sz="900" spc="-1" strike="noStrike">
                <a:solidFill>
                  <a:srgbClr val="ffffff"/>
                </a:solidFill>
                <a:latin typeface="Tahoma"/>
                <a:ea typeface="Tahoma"/>
              </a:rPr>
              <a:t>pairat@tisco.co.th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dt" idx="7"/>
          </p:nvPr>
        </p:nvSpPr>
        <p:spPr>
          <a:xfrm>
            <a:off x="250920" y="655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ngsan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ngsana Ne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8"/>
          </p:nvPr>
        </p:nvSpPr>
        <p:spPr>
          <a:xfrm>
            <a:off x="1258920" y="6048000"/>
            <a:ext cx="61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ngsan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ngsana Ne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9"/>
          </p:nvPr>
        </p:nvSpPr>
        <p:spPr>
          <a:xfrm>
            <a:off x="6830640" y="646128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1D91-E795-4AD1-9CCB-847283814404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IAP4_T_SlideGU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file:///IAP4_T_SlideGU.ppt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IAP4_T_SlideGU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ahoma"/>
              </a:rPr>
              <a:t>สัมมนาเชิงปฏิบัติการ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Tahoma"/>
              </a:rPr>
              <a:t>กระบวนการตรวจสอบภายใน </a:t>
            </a:r>
            <a:br>
              <a:rPr sz="3600"/>
            </a:br>
            <a:br>
              <a:rPr sz="3600"/>
            </a:br>
            <a:br>
              <a:rPr sz="1800"/>
            </a:br>
            <a:r>
              <a:rPr b="0" lang="th-TH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nternal Audit Procedure Workshop</a:t>
            </a:r>
            <a:r>
              <a:rPr b="0" lang="th-TH" sz="24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1" lang="th-TH" sz="32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18680" y="5229360"/>
            <a:ext cx="6782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cc0000"/>
                </a:solidFill>
                <a:latin typeface="Tahoma"/>
              </a:rPr>
              <a:t>สไลด์ประกอบแบบทดสอบและกรณีศึกษ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F82F-942E-493A-8A17-4A6199F6A54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42920" y="764640"/>
            <a:ext cx="8316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lvl="1" marL="76644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556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9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เมื่อการประเมินการควบคุมภายในในเบื้องต้น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preliminary evaluation of internal controls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ปรากฏผลว่าการควบคุมอาจจะไม่เพียงพอ 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may be inadequate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ในขั้นตอนต่อไป ผู้ตรวจสอบภายในควร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Part I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...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ข้อ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86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.] ..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6644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66440" indent="0">
              <a:spcBef>
                <a:spcPts val="1125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ขยายการตรวจสอบ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d audit work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ก่อนจัดเตรียมรายงานผลการตรวจสอบในขั้นสุดท้าย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gagement final communication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66440" indent="0">
              <a:spcBef>
                <a:spcPts val="1125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จัดทำผังทางเดินของงาน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lowchart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พรรณาระบบควบคุมภายใน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rnal control system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66440" indent="0">
              <a:spcBef>
                <a:spcPts val="1125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ระบุประเด็นที่พบ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e an exception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ในรายงานผลการตรวจสอบในขั้นสุดท้าย หากพบว่าได้มีความเสียหายเกิดขึ้น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losses have occurred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66440" indent="0">
              <a:spcBef>
                <a:spcPts val="1125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จัดให้มีระบบการควบคุมภายในที่ต้องการ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lement the desired controls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6644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6644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*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ตอบ ข้อ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)</a:t>
            </a:r>
            <a:r>
              <a:rPr b="0" lang="th-TH" sz="1800" spc="-1" strike="noStrike">
                <a:solidFill>
                  <a:srgbClr val="ff505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ผู้ตรวจสอบควรพิจารณาขยายการทดสอบเมื่อสงสัยว่าการควบคุมมีจุดอ่อน ข้อ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(b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ควรทำก่อนการประเมินการควบคุมภายในในเบื้องต้นข้อ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(c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ควรตรวจสอบเพิ่มเติมก่อนทำรายงาน ข้อ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(d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เป็นงานของผู้บริหาร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333360"/>
            <a:ext cx="771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60400" indent="-285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Pre-Test</a:t>
            </a:r>
            <a:endParaRPr b="0" lang="en-US" sz="32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D241-0C9A-4653-B982-765D1211009F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indefinite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indefinite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indefinite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70920" y="764640"/>
            <a:ext cx="9037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lvl="1" marL="83592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56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10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ผู้บริหารแผนกอ้างว่ากำไรขั้นต้นที่เพิ่มขึ้น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gross margin increase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ระยะหลังเป็นผลจากการเพิ่มประสิทธิภาพ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increased efficiency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ของกระบวนการผลิต แนวทางการตรวจสอบ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audit procedures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ในข้อใดที่ใช้พิสูจน์คำกล่าวอ้างดังกล่าวได้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ดีที่สุด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most relevant to that assertion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 [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Part I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...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ข้อ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93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.] ..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592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ตรวจนับสินค้าคงคลัง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hysical count of inventory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592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สุ่มสินค้าขึ้นมาเปรียบเทียบต้นทุนต่อหน่วย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 –per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it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ของปีนี้กับปีที่แล้ว ทดสอบองค์ประกอบของต้นทุน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 cost buildups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และวิเคราะห์ค่าความแปรปรวนมาตรฐานของต้นทุน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alyze standard cost variances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592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ตรวจรายการอุปกรณ์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hysical inventory of equipment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เพื่อหาการเปลี่ยนแปลงที่มีนัยสำคัญ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592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สุ่มสินค้าสำเร็จ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nished goods inventory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ขึ้นมาและตรวจสอบต้นทุนวัตถุดิบย้อนไปถึงราคาที่จัดซื้อ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 back to purchase prices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เพื่อยืนยันความถูกต้องของราคาวัตถุดิบที่บันทึ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592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*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ตอบ ข้อ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b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)</a:t>
            </a:r>
            <a:r>
              <a:rPr b="0" lang="th-TH" sz="1800" spc="-1" strike="noStrike">
                <a:solidFill>
                  <a:srgbClr val="ff505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การวิเคราะห์ช่วยพิสูจน์ประสิทธิภาพการผลิตได้ดีที่สุด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a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ช่วยพิสูจน์ได้เฉพาะเมื่อกำไรขั้นต้นที่เพิ่มขึ้นเป็นผลจากการรายงานสินค้าคงคลังเกินความเป็นจริง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overstated inventory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c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การเปลี่ยนอุปกรณ์อาจเพิ่มประสิทธิภาพการผลิตแต่ไม่ยืนยันชัดเจนเท่าข้อ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แนวทางการตรวจสอบในข้อ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d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เพียงช่วยยืนยันความถูกต้องของราคาวัตถุดิบแต่ไม่ยืนยันประสิทธิภาพการผลิต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333360"/>
            <a:ext cx="771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60400" indent="-285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Pre-Test</a:t>
            </a:r>
            <a:endParaRPr b="0" lang="en-US" sz="32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154" name="">
            <a:hlinkClick r:id="rId2"/>
          </p:cNvPr>
          <p:cNvSpPr/>
          <p:nvPr/>
        </p:nvSpPr>
        <p:spPr>
          <a:xfrm>
            <a:off x="8172360" y="6481800"/>
            <a:ext cx="360360" cy="331920"/>
          </a:xfrm>
          <a:custGeom>
            <a:avLst/>
            <a:gdLst>
              <a:gd name="textAreaLeft" fmla="*/ 21240 w 360360"/>
              <a:gd name="textAreaRight" fmla="*/ 339120 w 360360"/>
              <a:gd name="textAreaTop" fmla="*/ 21240 h 331920"/>
              <a:gd name="textAreaBottom" fmla="*/ 310680 h 331920"/>
            </a:gdLst>
            <a:ahLst/>
            <a:rect l="textAreaLeft" t="textAreaTop" r="textAreaRight" b="textAreaBottom"/>
            <a:pathLst>
              <a:path w="23449" h="21600">
                <a:moveTo>
                  <a:pt x="0" y="0"/>
                </a:moveTo>
                <a:lnTo>
                  <a:pt x="23449" y="0"/>
                </a:lnTo>
                <a:lnTo>
                  <a:pt x="23449" y="21600"/>
                </a:lnTo>
                <a:lnTo>
                  <a:pt x="0" y="21600"/>
                </a:lnTo>
                <a:close/>
              </a:path>
              <a:path fill="lightenLess" w="23449" h="21600">
                <a:moveTo>
                  <a:pt x="0" y="0"/>
                </a:moveTo>
                <a:lnTo>
                  <a:pt x="23449" y="0"/>
                </a:lnTo>
                <a:lnTo>
                  <a:pt x="22049" y="1400"/>
                </a:lnTo>
                <a:lnTo>
                  <a:pt x="1400" y="1400"/>
                </a:lnTo>
                <a:close/>
              </a:path>
              <a:path fill="darken" w="23449" h="21600">
                <a:moveTo>
                  <a:pt x="23449" y="0"/>
                </a:moveTo>
                <a:lnTo>
                  <a:pt x="23449" y="21600"/>
                </a:lnTo>
                <a:lnTo>
                  <a:pt x="22049" y="20200"/>
                </a:lnTo>
                <a:lnTo>
                  <a:pt x="22049" y="1400"/>
                </a:lnTo>
                <a:close/>
              </a:path>
              <a:path fill="darkenLess" w="23449" h="21600">
                <a:moveTo>
                  <a:pt x="234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49" y="20200"/>
                </a:lnTo>
                <a:close/>
              </a:path>
              <a:path fill="lighten" w="234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49" h="21600">
                <a:moveTo>
                  <a:pt x="4718" y="10800"/>
                </a:moveTo>
                <a:lnTo>
                  <a:pt x="18731" y="3794"/>
                </a:lnTo>
                <a:lnTo>
                  <a:pt x="18731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A3CB-ABDD-4858-9A7F-3EF3FA427BF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indefinite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indefinite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indefinite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03280" y="1483920"/>
            <a:ext cx="80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จงเตรียมคำถามเพื่อสัมภาษณ์และรายการเอกสารที่ต้องการ ในการศึกษาข้อมูลพื้นฐานเพื่อตรวจสอบการให้บริการห้องสมุดของ สตท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. (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นาที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84360" y="2276640"/>
          <a:ext cx="7848000" cy="3816000"/>
        </p:xfrm>
        <a:graphic>
          <a:graphicData uri="http://schemas.openxmlformats.org/drawingml/2006/table">
            <a:tbl>
              <a:tblPr/>
              <a:tblGrid>
                <a:gridCol w="3891600"/>
                <a:gridCol w="3956400"/>
              </a:tblGrid>
              <a:tr h="483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0000ff"/>
                          </a:solidFill>
                          <a:latin typeface="Tahoma"/>
                          <a:cs typeface="Times New Roman"/>
                        </a:rPr>
                        <a:t>ข้อมูลที่ต้องการ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/ </a:t>
                      </a:r>
                      <a:r>
                        <a:rPr b="0" lang="hi-IN" sz="2000" spc="-1" strike="noStrike">
                          <a:solidFill>
                            <a:srgbClr val="0000ff"/>
                          </a:solidFill>
                          <a:latin typeface="Tahoma"/>
                          <a:cs typeface="Times New Roman"/>
                        </a:rPr>
                        <a:t>คำถา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0000ff"/>
                          </a:solidFill>
                          <a:latin typeface="Tahoma"/>
                          <a:cs typeface="Times New Roman"/>
                        </a:rPr>
                        <a:t>แหล่งข้อมู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2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99"/>
                        </a:buClr>
                        <a:buSzPct val="80000"/>
                        <a:buFont typeface="Cordia New"/>
                        <a:buChar char="•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468360" y="333360"/>
            <a:ext cx="771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lvl="1" marL="671040" indent="-222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84120"/>
                <a:tab algn="r" pos="7273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ahoma"/>
                <a:cs typeface="Tahoma"/>
              </a:rPr>
              <a:t>กรณีศึกษาที่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1" lang="th-TH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cs typeface="Tahoma"/>
              </a:rPr>
              <a:t>ห้องสมุด สตท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3860-2567-49F5-86D8-A0885F89B9CD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116000" y="1128600"/>
            <a:ext cx="6912000" cy="51800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68360" y="333360"/>
            <a:ext cx="771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lvl="1" marL="671040" indent="-222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84120"/>
                <a:tab algn="r" pos="7273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ahoma"/>
                <a:cs typeface="Tahoma"/>
              </a:rPr>
              <a:t>กรณีศึกษาที่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1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cs typeface="Tahoma"/>
              </a:rPr>
              <a:t>ที่ตั้งสมาคม</a:t>
            </a:r>
            <a:endParaRPr b="0" lang="en-US" sz="20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5F2D-19A1-4F6C-824D-058C65D2C4A4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116000" y="1128600"/>
            <a:ext cx="6912000" cy="51800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68360" y="333360"/>
            <a:ext cx="771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lvl="1" marL="671040" indent="-222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84120"/>
                <a:tab algn="r" pos="73566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ahoma"/>
                <a:cs typeface="Tahoma"/>
              </a:rPr>
              <a:t>กรณีศึกษาที่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cs typeface="Tahoma"/>
              </a:rPr>
              <a:t>ส่วนห้องสมุด</a:t>
            </a:r>
            <a:endParaRPr b="0" lang="en-US" sz="20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76DD-B450-4ED3-97CA-D92B9E406EED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556000" y="1052640"/>
            <a:ext cx="3994200" cy="5329080"/>
          </a:xfrm>
          <a:prstGeom prst="rect">
            <a:avLst/>
          </a:prstGeom>
          <a:ln w="0">
            <a:noFill/>
          </a:ln>
        </p:spPr>
      </p:pic>
      <p:sp>
        <p:nvSpPr>
          <p:cNvPr id="163" name="">
            <a:hlinkClick r:id="rId3"/>
          </p:cNvPr>
          <p:cNvSpPr/>
          <p:nvPr/>
        </p:nvSpPr>
        <p:spPr>
          <a:xfrm>
            <a:off x="8172360" y="6481800"/>
            <a:ext cx="360360" cy="331920"/>
          </a:xfrm>
          <a:custGeom>
            <a:avLst/>
            <a:gdLst>
              <a:gd name="textAreaLeft" fmla="*/ 21240 w 360360"/>
              <a:gd name="textAreaRight" fmla="*/ 339120 w 360360"/>
              <a:gd name="textAreaTop" fmla="*/ 21240 h 331920"/>
              <a:gd name="textAreaBottom" fmla="*/ 310680 h 331920"/>
            </a:gdLst>
            <a:ahLst/>
            <a:rect l="textAreaLeft" t="textAreaTop" r="textAreaRight" b="textAreaBottom"/>
            <a:pathLst>
              <a:path w="23449" h="21600">
                <a:moveTo>
                  <a:pt x="0" y="0"/>
                </a:moveTo>
                <a:lnTo>
                  <a:pt x="23449" y="0"/>
                </a:lnTo>
                <a:lnTo>
                  <a:pt x="23449" y="21600"/>
                </a:lnTo>
                <a:lnTo>
                  <a:pt x="0" y="21600"/>
                </a:lnTo>
                <a:close/>
              </a:path>
              <a:path fill="lightenLess" w="23449" h="21600">
                <a:moveTo>
                  <a:pt x="0" y="0"/>
                </a:moveTo>
                <a:lnTo>
                  <a:pt x="23449" y="0"/>
                </a:lnTo>
                <a:lnTo>
                  <a:pt x="22049" y="1400"/>
                </a:lnTo>
                <a:lnTo>
                  <a:pt x="1400" y="1400"/>
                </a:lnTo>
                <a:close/>
              </a:path>
              <a:path fill="darken" w="23449" h="21600">
                <a:moveTo>
                  <a:pt x="23449" y="0"/>
                </a:moveTo>
                <a:lnTo>
                  <a:pt x="23449" y="21600"/>
                </a:lnTo>
                <a:lnTo>
                  <a:pt x="22049" y="20200"/>
                </a:lnTo>
                <a:lnTo>
                  <a:pt x="22049" y="1400"/>
                </a:lnTo>
                <a:close/>
              </a:path>
              <a:path fill="darkenLess" w="23449" h="21600">
                <a:moveTo>
                  <a:pt x="234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49" y="20200"/>
                </a:lnTo>
                <a:close/>
              </a:path>
              <a:path fill="lighten" w="234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49" h="21600">
                <a:moveTo>
                  <a:pt x="4718" y="10800"/>
                </a:moveTo>
                <a:lnTo>
                  <a:pt x="18731" y="3794"/>
                </a:lnTo>
                <a:lnTo>
                  <a:pt x="18731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333360"/>
            <a:ext cx="771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lvl="1" marL="671040" indent="-222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84120"/>
                <a:tab algn="r" pos="7273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ahoma"/>
                <a:cs typeface="Tahoma"/>
              </a:rPr>
              <a:t>กรณีศึกษาที่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cs typeface="Tahoma"/>
              </a:rPr>
              <a:t>ตู้หนังสือ</a:t>
            </a:r>
            <a:endParaRPr b="0" lang="en-US" sz="20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01A4-1648-4F4C-8E1F-ABF54417E20A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07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lvl="1" marL="671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84120"/>
                <a:tab algn="r" pos="788364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ahoma"/>
              </a:rPr>
              <a:t>กรณีศึกษาที่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</a:rPr>
              <a:t>ตัวอย่างผลงานจากกลุ่มอื่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539640" y="1197000"/>
          <a:ext cx="8136000" cy="4986360"/>
        </p:xfrm>
        <a:graphic>
          <a:graphicData uri="http://schemas.openxmlformats.org/drawingml/2006/table">
            <a:tbl>
              <a:tblPr/>
              <a:tblGrid>
                <a:gridCol w="6264360"/>
                <a:gridCol w="1871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ff"/>
                          </a:solidFill>
                          <a:latin typeface="Tahoma"/>
                          <a:cs typeface="Times New Roman"/>
                        </a:rPr>
                        <a:t>ข้อมูลที่ต้องการ</a:t>
                      </a: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/ </a:t>
                      </a:r>
                      <a:r>
                        <a:rPr b="0" lang="hi-IN" sz="1800" spc="-1" strike="noStrike">
                          <a:solidFill>
                            <a:srgbClr val="0000ff"/>
                          </a:solidFill>
                          <a:latin typeface="Tahoma"/>
                          <a:cs typeface="Times New Roman"/>
                        </a:rPr>
                        <a:t>คำถา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ff"/>
                          </a:solidFill>
                          <a:latin typeface="Tahoma"/>
                          <a:cs typeface="Times New Roman"/>
                        </a:rPr>
                        <a:t>แหล่งข้อมู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ถิติจำนวนผู้รับเข้าบริการ ชาย 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/ 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หญิ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ถิติสมาชิกที่ใช้บริการห้องสมุดย้อนหลัง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ป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ข้อมูลแบบสอบถาม 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/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ำรวจความพึงพอใจของผู้ใช้บริกา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ประเภทของหนังสือ และการให้บริกา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ลักษณะเงื่อนไขการให้บริการ ยืม 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/ 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จำหน่า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่าธรรมเนียมในการให้บริการ 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/ 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่าปรับต่อวั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วันที่เปิดบริการ  เวลา  ระยะเวลาให้บริกา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ประเภทหนังสือที่ได้รับความนิย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โครงสร้างองค์กร 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/ 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หน้าที่ 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/ 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แบ่งแยกหน้าที่กันอย่างไร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ข้อกำหนด 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/ 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เงื่อนไข 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/ 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ะเบียบการ 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/ 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ให้บริการห้องสมุ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มีขั้นตอนการดำเนินงานอย่างไร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?  Work Flow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ขั้นตอนการจัดซื้อ จัดหา และการบำรุงรักษาหนังสื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ะบบการดูแลทรัพย์สิน 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/ 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ขั้นตอนในการดูแลรักษ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มีวิธีการจัดเก็บหนังสือของห้องสมุดอย่างไร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มีการนำระบบสารสนเทศมาใช้หรือไม่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?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มีการจัดเก็บ 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/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Update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ฐานข้อมูลของสมาชิกอย่างไร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imes New Roman"/>
                        </a:rPr>
                        <a:t>บรรณารักษ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imes New Roman"/>
                        </a:rPr>
                        <a:t>การเงิน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/ </a:t>
                      </a: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imes New Roman"/>
                        </a:rPr>
                        <a:t>บัญช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imes New Roman"/>
                        </a:rPr>
                        <a:t>จัดซื้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2358-CD60-46EC-9012-3774FB5FF355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351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74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84120"/>
                <a:tab algn="r" pos="780264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ahoma"/>
              </a:rPr>
              <a:t>กรณีศึกษาที่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</a:rPr>
              <a:t>คำถามแนว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CPO Model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95280" y="1197000"/>
          <a:ext cx="8497800" cy="5111640"/>
        </p:xfrm>
        <a:graphic>
          <a:graphicData uri="http://schemas.openxmlformats.org/drawingml/2006/table">
            <a:tbl>
              <a:tblPr/>
              <a:tblGrid>
                <a:gridCol w="6724800"/>
                <a:gridCol w="1773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imes New Roman"/>
                        </a:rPr>
                        <a:t>ข้อมูลที่ต้องการ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/ </a:t>
                      </a: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imes New Roman"/>
                        </a:rPr>
                        <a:t>คำถา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imes New Roman"/>
                        </a:rPr>
                        <a:t>แหล่งข้อมู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1720" indent="-26676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528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531720" indent="-266760">
                        <a:lnSpc>
                          <a:spcPct val="100000"/>
                        </a:lnSpc>
                        <a:buClr>
                          <a:srgbClr val="0000ff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528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วัตถุประสงค์ที่ สตท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. 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จัดให้มีห้องสมุดคืออะไ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531720" indent="-266760">
                        <a:lnSpc>
                          <a:spcPct val="100000"/>
                        </a:lnSpc>
                        <a:buClr>
                          <a:srgbClr val="0000ff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528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ใครเป็นกลุ่มเป้าหมายที่ต้องการให้บริกา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531720" indent="-266760">
                        <a:lnSpc>
                          <a:spcPct val="100000"/>
                        </a:lnSpc>
                        <a:buClr>
                          <a:srgbClr val="0000ff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528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กลุ่มเป้าหมายมีจำนวน ลักษณะ และความต้องการอย่างไ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531720" indent="-266760">
                        <a:lnSpc>
                          <a:spcPct val="100000"/>
                        </a:lnSpc>
                        <a:buClr>
                          <a:srgbClr val="0000ff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528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กลุ่มเป้าหมายต้องการบริการอะไรบ้าง อย่างไ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531720" indent="-266760">
                        <a:lnSpc>
                          <a:spcPct val="100000"/>
                        </a:lnSpc>
                        <a:spcBef>
                          <a:spcPts val="1125"/>
                        </a:spcBef>
                        <a:buClr>
                          <a:srgbClr val="008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528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8000"/>
                          </a:solidFill>
                          <a:latin typeface="Tahoma"/>
                          <a:cs typeface="Tahoma"/>
                        </a:rPr>
                        <a:t>ประเภทของหนังสือ และการให้บริการของห้องสมุ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531720" indent="-266760">
                        <a:lnSpc>
                          <a:spcPct val="100000"/>
                        </a:lnSpc>
                        <a:buClr>
                          <a:srgbClr val="008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528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8000"/>
                          </a:solidFill>
                          <a:latin typeface="Tahoma"/>
                          <a:cs typeface="Tahoma"/>
                        </a:rPr>
                        <a:t>ลักษณะเงื่อนไข การให้บริการของห้องสมุด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531720" indent="-266760">
                        <a:lnSpc>
                          <a:spcPct val="100000"/>
                        </a:lnSpc>
                        <a:buClr>
                          <a:srgbClr val="008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528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8000"/>
                          </a:solidFill>
                          <a:latin typeface="Tahoma"/>
                          <a:cs typeface="Tahoma"/>
                        </a:rPr>
                        <a:t>บริการที่มีตอบสนองความต้องการของกลุ่มเป้าหมายได้ดีเพียงไ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531720" indent="-266760">
                        <a:lnSpc>
                          <a:spcPct val="100000"/>
                        </a:lnSpc>
                        <a:spcBef>
                          <a:spcPts val="1125"/>
                        </a:spcBef>
                        <a:buClr>
                          <a:srgbClr val="cc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528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cc0000"/>
                          </a:solidFill>
                          <a:latin typeface="Tahoma"/>
                          <a:cs typeface="Tahoma"/>
                        </a:rPr>
                        <a:t>การก่อตั้งห้องสมุด สตท</a:t>
                      </a:r>
                      <a:r>
                        <a:rPr b="0" lang="th-TH" sz="1800" spc="-1" strike="noStrike">
                          <a:solidFill>
                            <a:srgbClr val="cc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th-TH" sz="1800" spc="-1" strike="noStrike">
                          <a:solidFill>
                            <a:srgbClr val="cc0000"/>
                          </a:solidFill>
                          <a:latin typeface="Tahoma"/>
                          <a:cs typeface="Tahoma"/>
                        </a:rPr>
                        <a:t>มีความเป็นมาอย่างไ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531720" indent="-266760">
                        <a:lnSpc>
                          <a:spcPct val="100000"/>
                        </a:lnSpc>
                        <a:buClr>
                          <a:srgbClr val="cc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528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cc0000"/>
                          </a:solidFill>
                          <a:latin typeface="Tahoma"/>
                          <a:cs typeface="Tahoma"/>
                        </a:rPr>
                        <a:t>มีเป้าหมายหรือแผนงานระยะยาวอย่างไ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531720" indent="-266760">
                        <a:lnSpc>
                          <a:spcPct val="100000"/>
                        </a:lnSpc>
                        <a:buClr>
                          <a:srgbClr val="cc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528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cc0000"/>
                          </a:solidFill>
                          <a:latin typeface="Tahoma"/>
                          <a:cs typeface="Tahoma"/>
                        </a:rPr>
                        <a:t>การบริหารงานห้องสมุดมีความเสี่ยง และกลยุทธ์อย่างไ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531720" indent="-266760">
                        <a:lnSpc>
                          <a:spcPct val="100000"/>
                        </a:lnSpc>
                        <a:buClr>
                          <a:srgbClr val="cc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528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cc0000"/>
                          </a:solidFill>
                          <a:latin typeface="Tahoma"/>
                          <a:cs typeface="Tahoma"/>
                        </a:rPr>
                        <a:t>โครงสร้างองค์กร </a:t>
                      </a:r>
                      <a:r>
                        <a:rPr b="0" lang="th-TH" sz="1800" spc="-1" strike="noStrike">
                          <a:solidFill>
                            <a:srgbClr val="cc0000"/>
                          </a:solidFill>
                          <a:latin typeface="Tahoma"/>
                          <a:ea typeface="Tahoma"/>
                        </a:rPr>
                        <a:t>/ </a:t>
                      </a:r>
                      <a:r>
                        <a:rPr b="0" lang="th-TH" sz="1800" spc="-1" strike="noStrike">
                          <a:solidFill>
                            <a:srgbClr val="cc0000"/>
                          </a:solidFill>
                          <a:latin typeface="Tahoma"/>
                          <a:cs typeface="Tahoma"/>
                        </a:rPr>
                        <a:t>หน้าที่ </a:t>
                      </a:r>
                      <a:r>
                        <a:rPr b="0" lang="th-TH" sz="1800" spc="-1" strike="noStrike">
                          <a:solidFill>
                            <a:srgbClr val="cc0000"/>
                          </a:solidFill>
                          <a:latin typeface="Tahoma"/>
                          <a:ea typeface="Tahoma"/>
                        </a:rPr>
                        <a:t>/ </a:t>
                      </a:r>
                      <a:r>
                        <a:rPr b="0" lang="th-TH" sz="1800" spc="-1" strike="noStrike">
                          <a:solidFill>
                            <a:srgbClr val="cc0000"/>
                          </a:solidFill>
                          <a:latin typeface="Tahoma"/>
                          <a:cs typeface="Tahoma"/>
                        </a:rPr>
                        <a:t>การแบ่งแยกหน้าที่กันอย่างไ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531720" indent="-266760">
                        <a:lnSpc>
                          <a:spcPct val="100000"/>
                        </a:lnSpc>
                        <a:buClr>
                          <a:srgbClr val="cc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528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cc0000"/>
                          </a:solidFill>
                          <a:latin typeface="Tahoma"/>
                          <a:cs typeface="Tahoma"/>
                        </a:rPr>
                        <a:t>มีกระบวนการ ขั้นตอนการดำเนินงานอย่างไ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531720" indent="-266760">
                        <a:lnSpc>
                          <a:spcPct val="100000"/>
                        </a:lnSpc>
                        <a:buClr>
                          <a:srgbClr val="cc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528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cc0000"/>
                          </a:solidFill>
                          <a:latin typeface="Tahoma"/>
                          <a:cs typeface="Tahoma"/>
                        </a:rPr>
                        <a:t>ทรัพยากรหลักๆ ของห้องสมุดมีอะไรบ้า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531720" indent="-266760">
                        <a:lnSpc>
                          <a:spcPct val="100000"/>
                        </a:lnSpc>
                        <a:buClr>
                          <a:srgbClr val="cc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528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cc0000"/>
                          </a:solidFill>
                          <a:latin typeface="Tahoma"/>
                          <a:cs typeface="Tahoma"/>
                        </a:rPr>
                        <a:t>กระบวนการควบคุมภายในที่สำคัญมีอะไรบ้า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531720" indent="-266760">
                        <a:lnSpc>
                          <a:spcPct val="100000"/>
                        </a:lnSpc>
                        <a:buClr>
                          <a:srgbClr val="cc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528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cc0000"/>
                          </a:solidFill>
                          <a:latin typeface="Tahoma"/>
                          <a:cs typeface="Tahoma"/>
                        </a:rPr>
                        <a:t>ในช่วงเวลาที่ผ่านมามีการเปลี่ยนแปลงที่สำคัญอะไรบ้า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imes New Roman"/>
                        </a:rPr>
                        <a:t>ผู้บริหารสมาค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imes New Roman"/>
                        </a:rPr>
                        <a:t>บรรณารักษ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imes New Roman"/>
                        </a:rPr>
                        <a:t>การเงิน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/ </a:t>
                      </a: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imes New Roman"/>
                        </a:rPr>
                        <a:t>บัญช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imes New Roman"/>
                        </a:rPr>
                        <a:t>จัดซื้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imes New Roman"/>
                        </a:rPr>
                        <a:t>ผู้ใช้บริกา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8172360" y="6481800"/>
            <a:ext cx="360360" cy="331920"/>
          </a:xfrm>
          <a:custGeom>
            <a:avLst/>
            <a:gdLst>
              <a:gd name="textAreaLeft" fmla="*/ 21240 w 360360"/>
              <a:gd name="textAreaRight" fmla="*/ 339120 w 360360"/>
              <a:gd name="textAreaTop" fmla="*/ 21240 h 331920"/>
              <a:gd name="textAreaBottom" fmla="*/ 310680 h 331920"/>
            </a:gdLst>
            <a:ahLst/>
            <a:rect l="textAreaLeft" t="textAreaTop" r="textAreaRight" b="textAreaBottom"/>
            <a:pathLst>
              <a:path w="23449" h="21600">
                <a:moveTo>
                  <a:pt x="0" y="0"/>
                </a:moveTo>
                <a:lnTo>
                  <a:pt x="23449" y="0"/>
                </a:lnTo>
                <a:lnTo>
                  <a:pt x="23449" y="21600"/>
                </a:lnTo>
                <a:lnTo>
                  <a:pt x="0" y="21600"/>
                </a:lnTo>
                <a:close/>
              </a:path>
              <a:path fill="lightenLess" w="23449" h="21600">
                <a:moveTo>
                  <a:pt x="0" y="0"/>
                </a:moveTo>
                <a:lnTo>
                  <a:pt x="23449" y="0"/>
                </a:lnTo>
                <a:lnTo>
                  <a:pt x="22049" y="1400"/>
                </a:lnTo>
                <a:lnTo>
                  <a:pt x="1400" y="1400"/>
                </a:lnTo>
                <a:close/>
              </a:path>
              <a:path fill="darken" w="23449" h="21600">
                <a:moveTo>
                  <a:pt x="23449" y="0"/>
                </a:moveTo>
                <a:lnTo>
                  <a:pt x="23449" y="21600"/>
                </a:lnTo>
                <a:lnTo>
                  <a:pt x="22049" y="20200"/>
                </a:lnTo>
                <a:lnTo>
                  <a:pt x="22049" y="1400"/>
                </a:lnTo>
                <a:close/>
              </a:path>
              <a:path fill="darkenLess" w="23449" h="21600">
                <a:moveTo>
                  <a:pt x="234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49" y="20200"/>
                </a:lnTo>
                <a:close/>
              </a:path>
              <a:path fill="lighten" w="234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49" h="21600">
                <a:moveTo>
                  <a:pt x="4718" y="10800"/>
                </a:moveTo>
                <a:lnTo>
                  <a:pt x="18731" y="3794"/>
                </a:lnTo>
                <a:lnTo>
                  <a:pt x="18731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68360" y="1676520"/>
          <a:ext cx="469800" cy="4560840"/>
        </p:xfrm>
        <a:graphic>
          <a:graphicData uri="http://schemas.openxmlformats.org/drawingml/2006/table">
            <a:tbl>
              <a:tblPr/>
              <a:tblGrid>
                <a:gridCol w="469800"/>
              </a:tblGrid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66ff66">
                        <a:alpha val="50000"/>
                      </a:srgbClr>
                    </a:solidFill>
                  </a:tcPr>
                </a:tc>
              </a:tr>
              <a:tr h="237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7c8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 rot="16200000">
            <a:off x="98640" y="21924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Arial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176400" y="3280320"/>
            <a:ext cx="8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  <a:ea typeface="Arial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-403920" y="4926240"/>
            <a:ext cx="201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  <a:ea typeface="Arial"/>
              </a:rPr>
              <a:t>Organization Process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7225-D520-4B53-B9AB-38306D8FAA78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66720" y="4869000"/>
            <a:ext cx="81532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ctr" pos="5116680"/>
                <a:tab algn="ctr" pos="5837400"/>
                <a:tab algn="ctr" pos="6556320"/>
                <a:tab algn="ctr" pos="7256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cc0000"/>
                </a:solidFill>
                <a:latin typeface="Tahoma"/>
              </a:rPr>
              <a:t>กิจกรรมเปลี่ยนมาตรมีปัญหาอาจทำไม่ได้ตามเป้า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ผู้ตรวจสอบควรสอบถามสาเหตุจากผู้บริหาร และขยายการทดสอบในประเด็นนี้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ctr" pos="5116680"/>
                <a:tab algn="ctr" pos="5837400"/>
                <a:tab algn="ctr" pos="6556320"/>
                <a:tab algn="ctr" pos="7256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cc0000"/>
                </a:solidFill>
                <a:latin typeface="Tahoma"/>
              </a:rPr>
              <a:t>กิจกรรมซ่อมท่อแตกรั่วทำได้ตามเป้า บนเงื่อนไขว่า ถ้ารายงานนี้เชื่อถือได้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ผู้ตรวจสอบต้องทดสอบการควบคุมภายในในการจัดทำรายงาน เช่น การแยกหน้าที่ระหว่างผู้รับแจ้ง ผู้ซ่อม และผู้จัดทำรายงาน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971640" y="1701720"/>
          <a:ext cx="7345440" cy="2247840"/>
        </p:xfrm>
        <a:graphic>
          <a:graphicData uri="http://schemas.openxmlformats.org/drawingml/2006/table">
            <a:tbl>
              <a:tblPr/>
              <a:tblGrid>
                <a:gridCol w="2160720"/>
                <a:gridCol w="934920"/>
                <a:gridCol w="935280"/>
                <a:gridCol w="934920"/>
                <a:gridCol w="1227240"/>
                <a:gridCol w="1152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cc0000"/>
                          </a:solidFill>
                          <a:latin typeface="Tahoma"/>
                          <a:cs typeface="Tahoma"/>
                        </a:rPr>
                        <a:t>ไตรมาสที่ </a:t>
                      </a:r>
                      <a:r>
                        <a:rPr b="0" lang="th-TH" sz="1800" spc="-1" strike="noStrike">
                          <a:solidFill>
                            <a:srgbClr val="cc0000"/>
                          </a:solidFill>
                          <a:latin typeface="Tahoma"/>
                          <a:ea typeface="Tahoma"/>
                        </a:rPr>
                        <a:t>3 / 25</a:t>
                      </a: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ahoma"/>
                          <a:ea typeface="Tahoma"/>
                        </a:rPr>
                        <a:t>X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ิจกรร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ก</a:t>
                      </a: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hi-IN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ค</a:t>
                      </a: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ส</a:t>
                      </a: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hi-IN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ค</a:t>
                      </a: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ก</a:t>
                      </a: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hi-IN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ย</a:t>
                      </a: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cc0000"/>
                          </a:solidFill>
                          <a:latin typeface="Tahoma"/>
                          <a:cs typeface="Tahoma"/>
                        </a:rPr>
                        <a:t>เกิดจริ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cc0000"/>
                          </a:solidFill>
                          <a:latin typeface="Tahoma"/>
                          <a:cs typeface="Tahoma"/>
                        </a:rPr>
                        <a:t>เป้าหมา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99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เปลี่ยนมาต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4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4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ahoma"/>
                          <a:ea typeface="Tahoma"/>
                        </a:rPr>
                        <a:t>13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ahoma"/>
                          <a:ea typeface="Tahoma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99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ับแจ้งท่อแตก รั่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ahoma"/>
                          <a:ea typeface="Tahoma"/>
                        </a:rPr>
                        <a:t>1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ดำเนินการซ่อ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ahoma"/>
                          <a:ea typeface="Tahoma"/>
                        </a:rPr>
                        <a:t>1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cc0000"/>
                          </a:solidFill>
                          <a:latin typeface="Tahoma"/>
                          <a:ea typeface="Tahoma"/>
                        </a:rPr>
                        <a:t>100</a:t>
                      </a: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ahoma"/>
                          <a:ea typeface="Tahoma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99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อัตราน้ำสูญเสี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ahoma"/>
                          <a:ea typeface="Tahoma"/>
                        </a:rPr>
                        <a:t>1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ahoma"/>
                          <a:ea typeface="Tahoma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900000" y="4078440"/>
            <a:ext cx="8153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ctr" pos="5116680"/>
                <a:tab algn="ctr" pos="5837400"/>
                <a:tab algn="ctr" pos="6556320"/>
                <a:tab algn="ctr" pos="7256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Tahoma"/>
                <a:cs typeface="Tahoma"/>
              </a:rPr>
              <a:t>ที่มา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:  </a:t>
            </a:r>
            <a:r>
              <a:rPr b="0" lang="hi-IN" sz="1600" spc="-1" strike="noStrike">
                <a:solidFill>
                  <a:srgbClr val="000000"/>
                </a:solidFill>
                <a:latin typeface="Tahoma"/>
                <a:cs typeface="Tahoma"/>
              </a:rPr>
              <a:t>รายงานสรุปผลการดำเนินงานประจำไตรมาส สำนักงานประปาเทศบาล</a:t>
            </a: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333360"/>
            <a:ext cx="771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748440" indent="-24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84120"/>
                <a:tab algn="r" pos="7273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ahoma"/>
                <a:cs typeface="Tahoma"/>
              </a:rPr>
              <a:t>กรณีศึกษาพิเศษ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hi-IN" sz="2000" spc="-1" strike="noStrike">
                <a:solidFill>
                  <a:srgbClr val="0000ff"/>
                </a:solidFill>
                <a:latin typeface="Tahoma"/>
                <a:cs typeface="Tahoma"/>
              </a:rPr>
              <a:t>เฉลย</a:t>
            </a:r>
            <a:endParaRPr b="0" lang="en-US" sz="20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178" name=""/>
          <p:cNvSpPr/>
          <p:nvPr/>
        </p:nvSpPr>
        <p:spPr>
          <a:xfrm>
            <a:off x="6084720" y="2351160"/>
            <a:ext cx="2159280" cy="5032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179" name=""/>
          <p:cNvSpPr/>
          <p:nvPr/>
        </p:nvSpPr>
        <p:spPr>
          <a:xfrm>
            <a:off x="3132000" y="1341360"/>
            <a:ext cx="2664000" cy="576360"/>
          </a:xfrm>
          <a:prstGeom prst="wedgeRoundRectCallout">
            <a:avLst>
              <a:gd name="adj1" fmla="val 65194"/>
              <a:gd name="adj2" fmla="val 134847"/>
              <a:gd name="adj3" fmla="val 1666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ff"/>
                </a:solidFill>
                <a:latin typeface="Tahoma"/>
                <a:cs typeface="Tahoma"/>
              </a:rPr>
              <a:t>เปลี่ยนมาตร </a:t>
            </a:r>
            <a:r>
              <a:rPr b="0" lang="hi-IN" sz="1800" spc="-1" strike="noStrike">
                <a:solidFill>
                  <a:srgbClr val="cc0000"/>
                </a:solidFill>
                <a:latin typeface="Tahoma"/>
                <a:cs typeface="Tahoma"/>
              </a:rPr>
              <a:t>ต่ำกว่าเป้า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 แนวโน้ม </a:t>
            </a:r>
            <a:r>
              <a:rPr b="0" lang="hi-IN" sz="1800" spc="-1" strike="noStrike">
                <a:solidFill>
                  <a:srgbClr val="cc0000"/>
                </a:solidFill>
                <a:latin typeface="Tahoma"/>
                <a:cs typeface="Tahoma"/>
              </a:rPr>
              <a:t>ลดลง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180" name=""/>
          <p:cNvSpPr/>
          <p:nvPr/>
        </p:nvSpPr>
        <p:spPr>
          <a:xfrm>
            <a:off x="6084720" y="2782800"/>
            <a:ext cx="935280" cy="792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181" name=""/>
          <p:cNvSpPr/>
          <p:nvPr/>
        </p:nvSpPr>
        <p:spPr>
          <a:xfrm>
            <a:off x="6838920" y="4005360"/>
            <a:ext cx="1765440" cy="574560"/>
          </a:xfrm>
          <a:prstGeom prst="wedgeRoundRectCallout">
            <a:avLst>
              <a:gd name="adj1" fmla="val -49638"/>
              <a:gd name="adj2" fmla="val -126796"/>
              <a:gd name="adj3" fmla="val 1666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ff"/>
                </a:solidFill>
                <a:latin typeface="Tahoma"/>
                <a:cs typeface="Tahoma"/>
              </a:rPr>
              <a:t>ซ่อมท่อ </a:t>
            </a:r>
            <a:br>
              <a:rPr sz="1800"/>
            </a:br>
            <a:r>
              <a:rPr b="0" lang="hi-IN" sz="1800" spc="-1" strike="noStrike">
                <a:solidFill>
                  <a:srgbClr val="cc0000"/>
                </a:solidFill>
                <a:latin typeface="Tahoma"/>
                <a:cs typeface="Tahoma"/>
              </a:rPr>
              <a:t>ครบตามเป้า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182" name=""/>
          <p:cNvSpPr/>
          <p:nvPr/>
        </p:nvSpPr>
        <p:spPr>
          <a:xfrm>
            <a:off x="4103640" y="3502080"/>
            <a:ext cx="1692360" cy="50472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183" name=""/>
          <p:cNvSpPr/>
          <p:nvPr/>
        </p:nvSpPr>
        <p:spPr>
          <a:xfrm>
            <a:off x="755640" y="4006800"/>
            <a:ext cx="2664000" cy="647640"/>
          </a:xfrm>
          <a:prstGeom prst="wedgeRoundRectCallout">
            <a:avLst>
              <a:gd name="adj1" fmla="val 78726"/>
              <a:gd name="adj2" fmla="val -61518"/>
              <a:gd name="adj3" fmla="val 1666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ff"/>
                </a:solidFill>
                <a:latin typeface="Tahoma"/>
                <a:cs typeface="Tahoma"/>
              </a:rPr>
              <a:t>น้ำสูญเสีย</a:t>
            </a:r>
            <a:r>
              <a:rPr b="0" lang="en-US" sz="1800" spc="-1" strike="noStrike">
                <a:solidFill>
                  <a:srgbClr val="3366ff"/>
                </a:solidFill>
                <a:latin typeface="Tahoma"/>
                <a:ea typeface="Tahoma"/>
              </a:rPr>
              <a:t> </a:t>
            </a:r>
            <a:r>
              <a:rPr b="0" lang="hi-IN" sz="1800" spc="-1" strike="noStrike">
                <a:solidFill>
                  <a:srgbClr val="cc0000"/>
                </a:solidFill>
                <a:latin typeface="Tahoma"/>
                <a:cs typeface="Tahoma"/>
              </a:rPr>
              <a:t>ไม่ได้ตามเป้า</a:t>
            </a:r>
            <a:r>
              <a:rPr b="0" lang="en-US" sz="1800" spc="-1" strike="noStrike">
                <a:solidFill>
                  <a:srgbClr val="3366ff"/>
                </a:solidFill>
                <a:latin typeface="Tahoma"/>
                <a:ea typeface="Tahoma"/>
              </a:rPr>
              <a:t> </a:t>
            </a:r>
            <a:br>
              <a:rPr sz="1800"/>
            </a:br>
            <a:r>
              <a:rPr b="0" lang="hi-IN" sz="1800" spc="-1" strike="noStrike">
                <a:solidFill>
                  <a:srgbClr val="0000ff"/>
                </a:solidFill>
                <a:latin typeface="Tahoma"/>
                <a:cs typeface="Tahoma"/>
              </a:rPr>
              <a:t>แก้ไขได้แล้ว</a:t>
            </a:r>
            <a:r>
              <a:rPr b="0" lang="en-US" sz="1800" spc="-1" strike="noStrike">
                <a:solidFill>
                  <a:srgbClr val="3366ff"/>
                </a:solidFill>
                <a:latin typeface="Tahoma"/>
                <a:ea typeface="Tahoma"/>
              </a:rPr>
              <a:t> </a:t>
            </a:r>
            <a:r>
              <a:rPr b="0" lang="hi-IN" sz="1800" spc="-1" strike="noStrike">
                <a:solidFill>
                  <a:srgbClr val="cc0000"/>
                </a:solidFill>
                <a:latin typeface="Tahoma"/>
                <a:cs typeface="Tahoma"/>
              </a:rPr>
              <a:t>ไม่มีปัญหา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184" name=""/>
          <p:cNvSpPr/>
          <p:nvPr/>
        </p:nvSpPr>
        <p:spPr>
          <a:xfrm>
            <a:off x="8172360" y="6481800"/>
            <a:ext cx="360360" cy="331920"/>
          </a:xfrm>
          <a:custGeom>
            <a:avLst/>
            <a:gdLst>
              <a:gd name="textAreaLeft" fmla="*/ 21240 w 360360"/>
              <a:gd name="textAreaRight" fmla="*/ 339120 w 360360"/>
              <a:gd name="textAreaTop" fmla="*/ 21240 h 331920"/>
              <a:gd name="textAreaBottom" fmla="*/ 310680 h 331920"/>
            </a:gdLst>
            <a:ahLst/>
            <a:rect l="textAreaLeft" t="textAreaTop" r="textAreaRight" b="textAreaBottom"/>
            <a:pathLst>
              <a:path w="23449" h="21600">
                <a:moveTo>
                  <a:pt x="0" y="0"/>
                </a:moveTo>
                <a:lnTo>
                  <a:pt x="23449" y="0"/>
                </a:lnTo>
                <a:lnTo>
                  <a:pt x="23449" y="21600"/>
                </a:lnTo>
                <a:lnTo>
                  <a:pt x="0" y="21600"/>
                </a:lnTo>
                <a:close/>
              </a:path>
              <a:path fill="lightenLess" w="23449" h="21600">
                <a:moveTo>
                  <a:pt x="0" y="0"/>
                </a:moveTo>
                <a:lnTo>
                  <a:pt x="23449" y="0"/>
                </a:lnTo>
                <a:lnTo>
                  <a:pt x="22049" y="1400"/>
                </a:lnTo>
                <a:lnTo>
                  <a:pt x="1400" y="1400"/>
                </a:lnTo>
                <a:close/>
              </a:path>
              <a:path fill="darken" w="23449" h="21600">
                <a:moveTo>
                  <a:pt x="23449" y="0"/>
                </a:moveTo>
                <a:lnTo>
                  <a:pt x="23449" y="21600"/>
                </a:lnTo>
                <a:lnTo>
                  <a:pt x="22049" y="20200"/>
                </a:lnTo>
                <a:lnTo>
                  <a:pt x="22049" y="1400"/>
                </a:lnTo>
                <a:close/>
              </a:path>
              <a:path fill="darkenLess" w="23449" h="21600">
                <a:moveTo>
                  <a:pt x="234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49" y="20200"/>
                </a:lnTo>
                <a:close/>
              </a:path>
              <a:path fill="lighten" w="234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49" h="21600">
                <a:moveTo>
                  <a:pt x="4718" y="10800"/>
                </a:moveTo>
                <a:lnTo>
                  <a:pt x="18731" y="3794"/>
                </a:lnTo>
                <a:lnTo>
                  <a:pt x="18731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E27D-89DB-429F-96E4-8E0BE8B03C48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215640" y="1483920"/>
            <a:ext cx="86770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0">
              <a:spcBef>
                <a:spcPts val="451"/>
              </a:spcBef>
              <a:buNone/>
              <a:tabLst>
                <a:tab algn="l" pos="0"/>
                <a:tab algn="l" pos="384120"/>
                <a:tab algn="r" pos="816912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ผู้ตรวจสอบได้รับข้อมูลของบริษัทย่อยซึ่งประกอบธุรกิจผลิต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ค้าส่ง ชุด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อุปกรณ์ออกกำลังกายซึ่งเป็นตลาดสินค้าแฟชั่นที่มีการแข่งขัน และใช้ค่าใช้จ่ายสนับสนุนการขายค่อนข้างสูง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จงคำนวณและวิจารณ์เหตุผลการเปลี่ยนแปลงของ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อัตราส่วนกำไรขั้นต้น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,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อัตราหมุนเวียนสินค้าคงคลัง และ อัตราส่วนต้นทุนวัตถุดิบที่ซื้อต่อต้นทุนสินค้าที่ผลิต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จากข้อมูลที่ให้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นาที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826920" y="3716280"/>
          <a:ext cx="7632720" cy="2224080"/>
        </p:xfrm>
        <a:graphic>
          <a:graphicData uri="http://schemas.openxmlformats.org/drawingml/2006/table">
            <a:tbl>
              <a:tblPr/>
              <a:tblGrid>
                <a:gridCol w="3456000"/>
                <a:gridCol w="1079280"/>
                <a:gridCol w="982800"/>
                <a:gridCol w="1055520"/>
                <a:gridCol w="1059120"/>
              </a:tblGrid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25X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25X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25X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25X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ขายสุทธ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1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1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2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2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ต้นทุนขา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1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1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1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ินค้าสำเร็จรูปคงคลัง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ต้นงว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ินค้าสำเร็จรูปคงคลัง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ปลายงวด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ต้นทุนวัตถุดิบที่ซื้อ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1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468360" y="333360"/>
            <a:ext cx="771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lvl="1" marL="671040" indent="-222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84120"/>
                <a:tab algn="r" pos="73566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ahoma"/>
                <a:cs typeface="Tahoma"/>
              </a:rPr>
              <a:t>กรณีศึกษาที่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1" lang="th-TH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cs typeface="Tahoma"/>
              </a:rPr>
              <a:t>วิธีการเชิงวิเคราะห์</a:t>
            </a:r>
            <a:endParaRPr b="0" lang="en-US" sz="20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188" name=""/>
          <p:cNvSpPr/>
          <p:nvPr/>
        </p:nvSpPr>
        <p:spPr>
          <a:xfrm>
            <a:off x="6227640" y="3286080"/>
            <a:ext cx="2303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68560" indent="-26856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84120"/>
                <a:tab algn="r" pos="816912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หน่วย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ล้านบาท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189" name=""/>
          <p:cNvSpPr/>
          <p:nvPr/>
        </p:nvSpPr>
        <p:spPr>
          <a:xfrm>
            <a:off x="7165800" y="655308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(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อ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3 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น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180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7678-CDFD-4195-9D79-B80932ECFD03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79280" y="766440"/>
            <a:ext cx="8785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lvl="1" marL="77616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952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ผู้บริหารและคณะกรรมการบริษัท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management and the board of directors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มีหน้าที่รับผิดชอบในการติดตามการปฏิบัติตาม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follow up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ข้อสังเกตและคำแนะนำของผู้สอบบัญชีภายนอก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external auditors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กิจกรรมการตรวจสอบภายใน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internal audit activity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ควรมีบทบาทอย่างไรในกระบวนการนี้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Part I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...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ข้อ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52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.]...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7616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กิจกรรมการตรวจสอบภายในไม่ควรมีบทบาทในกระบวนการนี้เพื่อไม่ให้ความเป็นอิสระถูกบั่นทอน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ensure independence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7616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กิจกรรมการตรวจสอบภายในควรเกี่ยวข้องเฉพาะเมื่อหัวหน้าผู้บริหารงานตรวจสอบ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ief audit executive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มีหลักฐานอันควรเชื่อ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fficient evidence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ว่าไม่ได้มีการติดตามการปฏิบัติตาม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low up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ข้อสังเกตและคำแนะนำของผู้สอบบัญชีภายนอ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7616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กิจกรรมการตรวจสอบภายในควรจัดตั้งกระบวนการติดตาม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nitoring process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เพื่อตรวจสอบว่าการติดตามการปฏิบัติตามโดยผู้บริหาร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nagement's follow up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เพียงพอและมีประสิทธิผลหรือไม่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7616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กิจกรรมการตรวจสอบภายในควรเกี่ยวข้องเฉพาะเมื่อได้รับคำร้องขอจากผู้บริหารและคณะกรรมการบริษัทเป็นรายกรณีไป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specifically requested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9520" indent="0">
              <a:spcBef>
                <a:spcPts val="499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*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ตอบ ข้อ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)</a:t>
            </a:r>
            <a:r>
              <a:rPr b="0" lang="th-TH" sz="1800" spc="-1" strike="noStrike">
                <a:solidFill>
                  <a:srgbClr val="ff505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CAE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ควรจัดตั้งกระบวนการติดตามเพื่อตรวจสอบความเพียงพอ ประสิทธิผล และความทันกาล ของการปฏิบัติตาม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[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การสั่งการแก้ไข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]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โดยผู้บริหาร ต่อข้อสังเกตและเสนอแนะของผู้ตรวจสอบภายใน และผู้สอบบัญชีภายนอกหรือหน่วยงานอื่นๆ</a:t>
            </a:r>
            <a:r>
              <a:rPr b="0" lang="th-TH" sz="2000" spc="-1" strike="noStrike">
                <a:solidFill>
                  <a:srgbClr val="0000ff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333360"/>
            <a:ext cx="771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60400" indent="-285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Pre-Test</a:t>
            </a:r>
            <a:endParaRPr b="0" lang="en-US" sz="32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F4B0-3FFD-4E2E-A548-2CF6E88296F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611280" y="1730520"/>
          <a:ext cx="7920000" cy="4290840"/>
        </p:xfrm>
        <a:graphic>
          <a:graphicData uri="http://schemas.openxmlformats.org/drawingml/2006/table">
            <a:tbl>
              <a:tblPr/>
              <a:tblGrid>
                <a:gridCol w="3573360"/>
                <a:gridCol w="1100160"/>
                <a:gridCol w="1098360"/>
                <a:gridCol w="1074960"/>
                <a:gridCol w="10731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X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X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X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X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ขายสุทธ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ต้นทุนขา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   </a:t>
                      </a:r>
                      <a:r>
                        <a:rPr b="0" lang="hi-IN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กำไรขั้นต้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ินค้าสำเร็จรูปคงคลัง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ต้นงว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ินค้าสำเร็จรูปคงคลัง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ปลายงวด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ต้นทุนสินค้าที่ผลิ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1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1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1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ต้นทุนวัตถุดิบที่ซื้อ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อัตราส่วนกำไรขั้นต้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22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22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22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26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อัตราหมุนเวียนสินค้าคงคลั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7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7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7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อัตราส่วนต้นทุนวัตถุดิบที่ซื้อต่อต้นทุนสินค้าที่ผลิ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51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48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51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59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468360" y="333360"/>
            <a:ext cx="771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748440" indent="-24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84120"/>
                <a:tab algn="r" pos="73566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ahoma"/>
                <a:cs typeface="Tahoma"/>
              </a:rPr>
              <a:t>กรณีศึกษาที่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ea typeface="Tahoma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cs typeface="Tahoma"/>
              </a:rPr>
              <a:t>เฉลยการคำนวณ</a:t>
            </a:r>
            <a:endParaRPr b="0" lang="en-US" sz="20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192" name=""/>
          <p:cNvSpPr/>
          <p:nvPr/>
        </p:nvSpPr>
        <p:spPr>
          <a:xfrm>
            <a:off x="6227640" y="1341360"/>
            <a:ext cx="2303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68560" indent="-26856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84120"/>
                <a:tab algn="r" pos="816912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หน่วย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ล้านบาท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193" name=""/>
          <p:cNvSpPr/>
          <p:nvPr/>
        </p:nvSpPr>
        <p:spPr>
          <a:xfrm>
            <a:off x="7165800" y="655308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(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อ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3 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น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180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4A73-B183-4086-AE40-D110D42CFFCF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611280" y="1730520"/>
          <a:ext cx="7920000" cy="4290840"/>
        </p:xfrm>
        <a:graphic>
          <a:graphicData uri="http://schemas.openxmlformats.org/drawingml/2006/table">
            <a:tbl>
              <a:tblPr/>
              <a:tblGrid>
                <a:gridCol w="3573360"/>
                <a:gridCol w="1100160"/>
                <a:gridCol w="1098360"/>
                <a:gridCol w="1074960"/>
                <a:gridCol w="10731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X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X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X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X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ขายสุทธ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ต้นทุนขา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   </a:t>
                      </a:r>
                      <a:r>
                        <a:rPr b="0" lang="hi-IN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กำไรขั้นต้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ินค้าสำเร็จรูปคงคลัง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ต้นงว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ินค้าสำเร็จรูปคงคลัง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ปลายงวด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ต้นทุนสินค้าที่ผลิ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1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1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1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ต้นทุนวัตถุดิบที่ซื้อ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3366ff"/>
                          </a:solidFill>
                          <a:latin typeface="Tahoma"/>
                          <a:cs typeface="Tahoma"/>
                        </a:rPr>
                        <a:t>อัตราส่วนกำไรขั้นต้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66ff"/>
                          </a:solidFill>
                          <a:latin typeface="Tahoma"/>
                          <a:ea typeface="Tahoma"/>
                        </a:rPr>
                        <a:t>22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66ff"/>
                          </a:solidFill>
                          <a:latin typeface="Tahoma"/>
                          <a:ea typeface="Tahoma"/>
                        </a:rPr>
                        <a:t>22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66ff"/>
                          </a:solidFill>
                          <a:latin typeface="Tahoma"/>
                          <a:ea typeface="Tahoma"/>
                        </a:rPr>
                        <a:t>22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66ff"/>
                          </a:solidFill>
                          <a:latin typeface="Tahoma"/>
                          <a:ea typeface="Tahoma"/>
                        </a:rPr>
                        <a:t>26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3366ff"/>
                          </a:solidFill>
                          <a:latin typeface="Tahoma"/>
                          <a:cs typeface="Tahoma"/>
                        </a:rPr>
                        <a:t>อัตราหมุนเวียนสินค้าคงคลั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66ff"/>
                          </a:solidFill>
                          <a:latin typeface="Tahoma"/>
                          <a:ea typeface="Tahoma"/>
                        </a:rPr>
                        <a:t>7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66ff"/>
                          </a:solidFill>
                          <a:latin typeface="Tahoma"/>
                          <a:ea typeface="Tahoma"/>
                        </a:rPr>
                        <a:t>7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66ff"/>
                          </a:solidFill>
                          <a:latin typeface="Tahoma"/>
                          <a:ea typeface="Tahoma"/>
                        </a:rPr>
                        <a:t>7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66ff"/>
                          </a:solidFill>
                          <a:latin typeface="Tahoma"/>
                          <a:ea typeface="Tahoma"/>
                        </a:rPr>
                        <a:t>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3366ff"/>
                          </a:solidFill>
                          <a:latin typeface="Tahoma"/>
                          <a:cs typeface="Tahoma"/>
                        </a:rPr>
                        <a:t>อัตราส่วนต้นทุนวัตถุดิบที่ซื้อต่อต้นทุนสินค้าที่ผลิ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66ff"/>
                          </a:solidFill>
                          <a:latin typeface="Tahoma"/>
                          <a:ea typeface="Tahoma"/>
                        </a:rPr>
                        <a:t>51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66ff"/>
                          </a:solidFill>
                          <a:latin typeface="Tahoma"/>
                          <a:ea typeface="Tahoma"/>
                        </a:rPr>
                        <a:t>48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66ff"/>
                          </a:solidFill>
                          <a:latin typeface="Tahoma"/>
                          <a:ea typeface="Tahoma"/>
                        </a:rPr>
                        <a:t>51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dec" pos="331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66ff"/>
                          </a:solidFill>
                          <a:latin typeface="Tahoma"/>
                          <a:ea typeface="Tahoma"/>
                        </a:rPr>
                        <a:t>59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468360" y="333360"/>
            <a:ext cx="771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748440" indent="-24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84120"/>
                <a:tab algn="r" pos="73566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ahoma"/>
                <a:cs typeface="Tahoma"/>
              </a:rPr>
              <a:t>กรณีศึกษาที่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ea typeface="Tahoma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cs typeface="Tahoma"/>
              </a:rPr>
              <a:t>เฉลย</a:t>
            </a:r>
            <a:endParaRPr b="0" lang="en-US" sz="20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196" name=""/>
          <p:cNvSpPr/>
          <p:nvPr/>
        </p:nvSpPr>
        <p:spPr>
          <a:xfrm>
            <a:off x="6227640" y="1341360"/>
            <a:ext cx="2303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68560" indent="-26856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84120"/>
                <a:tab algn="r" pos="816912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หน่วย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ล้านบาท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197" name=""/>
          <p:cNvSpPr/>
          <p:nvPr/>
        </p:nvSpPr>
        <p:spPr>
          <a:xfrm>
            <a:off x="4067280" y="1949400"/>
            <a:ext cx="4608360" cy="615960"/>
          </a:xfrm>
          <a:prstGeom prst="ellipse">
            <a:avLst/>
          </a:prstGeom>
          <a:noFill/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198" name=""/>
          <p:cNvSpPr/>
          <p:nvPr/>
        </p:nvSpPr>
        <p:spPr>
          <a:xfrm>
            <a:off x="1116000" y="1444680"/>
            <a:ext cx="2664000" cy="647640"/>
          </a:xfrm>
          <a:prstGeom prst="wedgeRoundRectCallout">
            <a:avLst>
              <a:gd name="adj1" fmla="val 69425"/>
              <a:gd name="adj2" fmla="val 47305"/>
              <a:gd name="adj3" fmla="val 16667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Tahoma"/>
              </a:rPr>
              <a:t>ยอดขายเพิ่มสม่ำเสมอทุกปีติดต่อกัน 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199" name=""/>
          <p:cNvSpPr/>
          <p:nvPr/>
        </p:nvSpPr>
        <p:spPr>
          <a:xfrm>
            <a:off x="7451640" y="4541760"/>
            <a:ext cx="936720" cy="576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00" name=""/>
          <p:cNvSpPr/>
          <p:nvPr/>
        </p:nvSpPr>
        <p:spPr>
          <a:xfrm>
            <a:off x="4932360" y="2924280"/>
            <a:ext cx="2448000" cy="576000"/>
          </a:xfrm>
          <a:prstGeom prst="wedgeRoundRectCallout">
            <a:avLst>
              <a:gd name="adj1" fmla="val 60634"/>
              <a:gd name="adj2" fmla="val 229064"/>
              <a:gd name="adj3" fmla="val 1666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ff"/>
                </a:solidFill>
                <a:latin typeface="Tahoma"/>
                <a:cs typeface="Tahoma"/>
              </a:rPr>
              <a:t>อัตราส่วนกำไรขั้นต้น </a:t>
            </a:r>
            <a:br>
              <a:rPr sz="1800"/>
            </a:br>
            <a:r>
              <a:rPr b="0" lang="th-TH" sz="1800" spc="-1" strike="noStrike">
                <a:solidFill>
                  <a:srgbClr val="0000ff"/>
                </a:solidFill>
                <a:latin typeface="Tahoma"/>
                <a:cs typeface="Tahoma"/>
              </a:rPr>
              <a:t>ดีขึ้น</a:t>
            </a:r>
            <a:r>
              <a:rPr b="0" lang="en-US" sz="1800" spc="-1" strike="noStrike">
                <a:solidFill>
                  <a:srgbClr val="3366ff"/>
                </a:solidFill>
                <a:latin typeface="Tahoma"/>
                <a:ea typeface="Tahoma"/>
              </a:rPr>
              <a:t>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  <a:cs typeface="Tahoma"/>
              </a:rPr>
              <a:t>ผิดปกติ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01" name=""/>
          <p:cNvSpPr/>
          <p:nvPr/>
        </p:nvSpPr>
        <p:spPr>
          <a:xfrm>
            <a:off x="7597800" y="4941720"/>
            <a:ext cx="790560" cy="57492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4005360"/>
            <a:ext cx="2125800" cy="574560"/>
          </a:xfrm>
          <a:prstGeom prst="wedgeRoundRectCallout">
            <a:avLst>
              <a:gd name="adj1" fmla="val 90106"/>
              <a:gd name="adj2" fmla="val 151379"/>
              <a:gd name="adj3" fmla="val 1666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ff"/>
                </a:solidFill>
                <a:latin typeface="Tahoma"/>
                <a:cs typeface="Tahoma"/>
              </a:rPr>
              <a:t>อัตราหมุนเวียนสินค้า</a:t>
            </a:r>
            <a:r>
              <a:rPr b="0" lang="en-US" sz="1800" spc="-1" strike="noStrike">
                <a:solidFill>
                  <a:srgbClr val="3366ff"/>
                </a:solidFill>
                <a:latin typeface="Tahoma"/>
                <a:ea typeface="Tahoma"/>
              </a:rPr>
              <a:t> </a:t>
            </a:r>
            <a:r>
              <a:rPr b="0" lang="hi-IN" sz="1800" spc="-1" strike="noStrike">
                <a:solidFill>
                  <a:srgbClr val="cc0000"/>
                </a:solidFill>
                <a:latin typeface="Tahoma"/>
                <a:cs typeface="Tahoma"/>
              </a:rPr>
              <a:t>ช้าลง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03" name=""/>
          <p:cNvSpPr/>
          <p:nvPr/>
        </p:nvSpPr>
        <p:spPr>
          <a:xfrm>
            <a:off x="7451640" y="5373720"/>
            <a:ext cx="936720" cy="576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04" name=""/>
          <p:cNvSpPr/>
          <p:nvPr/>
        </p:nvSpPr>
        <p:spPr>
          <a:xfrm>
            <a:off x="3419640" y="5805360"/>
            <a:ext cx="3456000" cy="648000"/>
          </a:xfrm>
          <a:prstGeom prst="wedgeRoundRectCallout">
            <a:avLst>
              <a:gd name="adj1" fmla="val 65018"/>
              <a:gd name="adj2" fmla="val -58333"/>
              <a:gd name="adj3" fmla="val 1666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ff"/>
                </a:solidFill>
                <a:latin typeface="Tahoma"/>
                <a:cs typeface="Tahoma"/>
              </a:rPr>
              <a:t>อัตราส่วนต้นทุนวัตถุดิบที่ซื้อต่อต้นทุนสินค้าที่ผลิต</a:t>
            </a:r>
            <a:r>
              <a:rPr b="0" lang="en-US" sz="1800" spc="-1" strike="noStrike">
                <a:solidFill>
                  <a:srgbClr val="3366ff"/>
                </a:solidFill>
                <a:latin typeface="Tahoma"/>
                <a:ea typeface="Tahoma"/>
              </a:rPr>
              <a:t> </a:t>
            </a:r>
            <a:r>
              <a:rPr b="0" lang="hi-IN" sz="1800" spc="-1" strike="noStrike">
                <a:solidFill>
                  <a:srgbClr val="cc0000"/>
                </a:solidFill>
                <a:latin typeface="Tahoma"/>
                <a:cs typeface="Tahoma"/>
              </a:rPr>
              <a:t>เพิ่มขึ้น</a:t>
            </a:r>
            <a:r>
              <a:rPr b="0" lang="en-US" sz="1800" spc="-1" strike="noStrike">
                <a:solidFill>
                  <a:srgbClr val="3366ff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05" name=""/>
          <p:cNvSpPr/>
          <p:nvPr/>
        </p:nvSpPr>
        <p:spPr>
          <a:xfrm>
            <a:off x="7165800" y="655308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(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อ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3 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น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180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CE7E-2344-4390-93CC-8338E5467754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76360" y="1269720"/>
            <a:ext cx="809928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ประเด็นในกรณีศึกษาที่ผู้ตรวจสอบควรต้องสนใจตรวจสอบเป็นพิเศษ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spcBef>
                <a:spcPts val="1687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ในปี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5x4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มีการซื้อวัตถุดิบเข้ามามากเกินความจำเป็นที่ต้องใช้ในการผลิต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  </a:t>
            </a:r>
            <a:br>
              <a:rPr sz="1800"/>
            </a:b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ทำไมจึงมีการซื้อวัตถุดิบเข้ามามากและ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วัตถุดิบนี้จะเสื่อมสภาพ</a:t>
            </a:r>
            <a:r>
              <a:rPr b="0" lang="th-TH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ได้หรือไม่ถ้าเก็บไว้นา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spcBef>
                <a:spcPts val="1125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ในปี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5x4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มีอัตราการหมุนเวียนของสินค้าลดลง จากช่วงอัตราของ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ปีแรก</a:t>
            </a:r>
            <a:br>
              <a:rPr sz="1800"/>
            </a:b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มีสินค้าชนิดใดที่ผลิตมาแล้ว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ขายออกช้าหรือขายไม่ได้เลย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  เป็นสินค้าแฟชั่นหรือไม่ ล้าสมัยเร็วแค่ไห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spcBef>
                <a:spcPts val="1125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ในปี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5x4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มีอัตรากำไรขั้นต้นสูงผิดปกติ</a:t>
            </a:r>
            <a:br>
              <a:rPr sz="1800"/>
            </a:b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การที่ต้นทุนต่อค่าขายต่ำสะท้อนให้เห็นว่าอาจมี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การขายปลอม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fictitious sale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)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สร้างยอดขายโดยไม่ได้มีการส่งสินค้าจริง ทำให้สินค้ายังคงเหลืออยู่ การสร้างยอดขายปลอมอาจมีเหตุจูงใจจากการที่ต้องทำให้ได้ยอดตามที่บริษัทแม่กำหนดมาก็ได้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spcBef>
                <a:spcPts val="1687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ในภาพรวมมองว่าบริษัทนี้กำลังอยู่ในขาลง ทำให้มีการตกแต่งต่าง ๆ เกิดขึ้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>
            <a:hlinkClick r:id="rId2"/>
          </p:cNvPr>
          <p:cNvSpPr/>
          <p:nvPr/>
        </p:nvSpPr>
        <p:spPr>
          <a:xfrm>
            <a:off x="8172360" y="6481800"/>
            <a:ext cx="360360" cy="331920"/>
          </a:xfrm>
          <a:custGeom>
            <a:avLst/>
            <a:gdLst>
              <a:gd name="textAreaLeft" fmla="*/ 21240 w 360360"/>
              <a:gd name="textAreaRight" fmla="*/ 339120 w 360360"/>
              <a:gd name="textAreaTop" fmla="*/ 21240 h 331920"/>
              <a:gd name="textAreaBottom" fmla="*/ 310680 h 331920"/>
            </a:gdLst>
            <a:ahLst/>
            <a:rect l="textAreaLeft" t="textAreaTop" r="textAreaRight" b="textAreaBottom"/>
            <a:pathLst>
              <a:path w="23449" h="21600">
                <a:moveTo>
                  <a:pt x="0" y="0"/>
                </a:moveTo>
                <a:lnTo>
                  <a:pt x="23449" y="0"/>
                </a:lnTo>
                <a:lnTo>
                  <a:pt x="23449" y="21600"/>
                </a:lnTo>
                <a:lnTo>
                  <a:pt x="0" y="21600"/>
                </a:lnTo>
                <a:close/>
              </a:path>
              <a:path fill="lightenLess" w="23449" h="21600">
                <a:moveTo>
                  <a:pt x="0" y="0"/>
                </a:moveTo>
                <a:lnTo>
                  <a:pt x="23449" y="0"/>
                </a:lnTo>
                <a:lnTo>
                  <a:pt x="22049" y="1400"/>
                </a:lnTo>
                <a:lnTo>
                  <a:pt x="1400" y="1400"/>
                </a:lnTo>
                <a:close/>
              </a:path>
              <a:path fill="darken" w="23449" h="21600">
                <a:moveTo>
                  <a:pt x="23449" y="0"/>
                </a:moveTo>
                <a:lnTo>
                  <a:pt x="23449" y="21600"/>
                </a:lnTo>
                <a:lnTo>
                  <a:pt x="22049" y="20200"/>
                </a:lnTo>
                <a:lnTo>
                  <a:pt x="22049" y="1400"/>
                </a:lnTo>
                <a:close/>
              </a:path>
              <a:path fill="darkenLess" w="23449" h="21600">
                <a:moveTo>
                  <a:pt x="234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49" y="20200"/>
                </a:lnTo>
                <a:close/>
              </a:path>
              <a:path fill="lighten" w="234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49" h="21600">
                <a:moveTo>
                  <a:pt x="4718" y="10800"/>
                </a:moveTo>
                <a:lnTo>
                  <a:pt x="18731" y="3794"/>
                </a:lnTo>
                <a:lnTo>
                  <a:pt x="18731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08" name=""/>
          <p:cNvSpPr/>
          <p:nvPr/>
        </p:nvSpPr>
        <p:spPr>
          <a:xfrm>
            <a:off x="468360" y="333360"/>
            <a:ext cx="771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748440" indent="-24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84120"/>
                <a:tab algn="r" pos="73566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ahoma"/>
                <a:cs typeface="Tahoma"/>
              </a:rPr>
              <a:t>กรณีศึกษาที่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ea typeface="Tahoma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cs typeface="Tahoma"/>
              </a:rPr>
              <a:t>เฉลย</a:t>
            </a:r>
            <a:endParaRPr b="0" lang="en-US" sz="20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09" name=""/>
          <p:cNvSpPr/>
          <p:nvPr/>
        </p:nvSpPr>
        <p:spPr>
          <a:xfrm>
            <a:off x="7165800" y="655308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(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อ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3 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น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180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A6B0-D99D-4393-97A8-E639302F6CA1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250560" y="1412640"/>
            <a:ext cx="860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ผู้ตรวจสอบภายในของบริษัทหนึ่งซึ่งประกอบธุรกิจขายอุปกรณ์ถ่ายภาพโดยจัดส่งทางไปรษณีย์ ต้องการตรวจสอบ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ความมีประสิทธิผล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ของฝ่ายปฏิบัติการคลังสินค้า ผู้จัดการคลังสินค้าได้ตั้งวัตถุประสงค์การจัดส่งสินค้าสำหรับทุกคำสั่งซื้อดังต่อไปนี้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60400" indent="-285840">
              <a:spcBef>
                <a:spcPts val="451"/>
              </a:spcBef>
              <a:spcAft>
                <a:spcPts val="451"/>
              </a:spcAft>
              <a:buClr>
                <a:srgbClr val="0000ff"/>
              </a:buClr>
              <a:buFont typeface="Tahoma"/>
              <a:buChar char="–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จัดส่งสินค้าภายใน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24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ชั่วโมงหลังจากที่ได้รับคำสั่งซื้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60400" indent="-285840">
              <a:spcBef>
                <a:spcPts val="451"/>
              </a:spcBef>
              <a:spcAft>
                <a:spcPts val="451"/>
              </a:spcAft>
              <a:buClr>
                <a:srgbClr val="0000ff"/>
              </a:buClr>
              <a:buFont typeface="Tahoma"/>
              <a:buChar char="–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จัดส่งสินค้าไปยังที่อยู่ที่ถูกต้อง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60400" indent="-285840">
              <a:spcBef>
                <a:spcPts val="451"/>
              </a:spcBef>
              <a:spcAft>
                <a:spcPts val="451"/>
              </a:spcAft>
              <a:buClr>
                <a:srgbClr val="0000ff"/>
              </a:buClr>
              <a:buFont typeface="Tahoma"/>
              <a:buChar char="–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จัดส่งสินค้าให้ถูกต้องตรงตามคำสั่งซื้อเท่านั้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60400" indent="-285840">
              <a:spcBef>
                <a:spcPts val="451"/>
              </a:spcBef>
              <a:spcAft>
                <a:spcPts val="451"/>
              </a:spcAft>
              <a:buClr>
                <a:srgbClr val="0000ff"/>
              </a:buClr>
              <a:buFont typeface="Tahoma"/>
              <a:buChar char="–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บรรจุหีบห่อสินค้าให้แน่นหนา เพื่อลดความเสี่ยงที่สินค้าจะเสียหาย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60400" indent="-285840">
              <a:spcBef>
                <a:spcPts val="451"/>
              </a:spcBef>
              <a:spcAft>
                <a:spcPts val="451"/>
              </a:spcAft>
              <a:buClr>
                <a:srgbClr val="0000ff"/>
              </a:buClr>
              <a:buFont typeface="Tahoma"/>
              <a:buChar char="–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ชำระค่าไปรษณีย์ในการจัดส่งทุกครั้งให้เหมาะสม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60400" indent="-285840">
              <a:spcBef>
                <a:spcPts val="451"/>
              </a:spcBef>
              <a:spcAft>
                <a:spcPts val="451"/>
              </a:spcAft>
              <a:buClr>
                <a:srgbClr val="0000ff"/>
              </a:buClr>
              <a:buFont typeface="Tahoma"/>
              <a:buChar char="–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แนบเอกสารที่จำเป็นทั้งหมดไปพร้อมกับการจัดส่งทุกครั้ง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60400" indent="-285840">
              <a:spcBef>
                <a:spcPts val="451"/>
              </a:spcBef>
              <a:spcAft>
                <a:spcPts val="451"/>
              </a:spcAft>
              <a:buClr>
                <a:srgbClr val="0000ff"/>
              </a:buClr>
              <a:buFont typeface="Tahoma"/>
              <a:buChar char="–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บันทึกรายการและเก็บเอกสารการจัดส่งทุกครั้งอย่างเหมาะสม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ให้เขียน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วัตถุประสงค์ทั่วไป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และ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วัตถุประสงค์เฉพาะเจาะจง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สำหรับการตรวจสอบการปฏิบัติงานขนส่ง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นาที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333360"/>
            <a:ext cx="771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lvl="1" marL="671040" indent="-222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84120"/>
                <a:tab algn="r" pos="73566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ahoma"/>
                <a:cs typeface="Tahoma"/>
              </a:rPr>
              <a:t>กรณีศึกษาที่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3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hi-IN" sz="2000" spc="-1" strike="noStrike">
                <a:solidFill>
                  <a:srgbClr val="0000ff"/>
                </a:solidFill>
                <a:latin typeface="Tahoma"/>
                <a:cs typeface="Tahoma"/>
              </a:rPr>
              <a:t>การตรวจสอบงานส่งสินค้า</a:t>
            </a:r>
            <a:endParaRPr b="0" lang="en-US" sz="20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12" name=""/>
          <p:cNvSpPr/>
          <p:nvPr/>
        </p:nvSpPr>
        <p:spPr>
          <a:xfrm>
            <a:off x="7165800" y="655308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(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อ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3 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น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211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FEC9-7079-48B7-8B45-26E72F8A9230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285840" y="1195200"/>
            <a:ext cx="82468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 u="sng">
                <a:solidFill>
                  <a:srgbClr val="000000"/>
                </a:solidFill>
                <a:uFillTx/>
                <a:latin typeface="Tahoma"/>
              </a:rPr>
              <a:t>ประสิทธิผลของกระบวนการขนส่ง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การประเมิน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ประสิทธิผล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 ของกระบวนการขนส่ง อาจประเมินได้โดยดูจาก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การบรรลุวัตถุประสงค์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 ของการปฏิบัติงาน และการประเมิน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ความเหมาะสม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 ของวัตถุประสงค์ของการปฏิบัติงานที่ตั้งไว้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 u="sng">
                <a:solidFill>
                  <a:srgbClr val="000000"/>
                </a:solidFill>
                <a:uFillTx/>
                <a:latin typeface="Tahoma"/>
              </a:rPr>
              <a:t>ประเด็น หรือความเสี่ยงหลัก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ที่ผู้ตรวจสอบสนใจเกี่ยวกับ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ประสิทธิผลของกระบวนการขนส่ง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จะเป็นตัวกำหนด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ทิศทางการตรวจสอบ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และ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วัตถุประสงค์การตรวจสอบ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ตัวอย่างเช่น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หลังจากที่ได้ 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สำรวจข้อมูลพื้นฐาน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ของหน่วยงานที่จะตรวจสอบมาเป็นอย่างด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60400" indent="-285840">
              <a:spcBef>
                <a:spcPts val="451"/>
              </a:spcBef>
              <a:spcAft>
                <a:spcPts val="451"/>
              </a:spcAft>
              <a:buClr>
                <a:srgbClr val="0000ff"/>
              </a:buClr>
              <a:buSzPct val="50000"/>
              <a:buFont typeface="Tahoma"/>
              <a:buChar char="–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ผู้ตรวจสอบ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A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อาจสนใจว่า</a:t>
            </a:r>
            <a:r>
              <a:rPr b="0" lang="th-TH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ผลลัพธ์</a:t>
            </a:r>
            <a:r>
              <a:rPr b="0" lang="th-TH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ของกระบวนการสำเร็จหรือไม่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60400" indent="-285840">
              <a:spcBef>
                <a:spcPts val="451"/>
              </a:spcBef>
              <a:spcAft>
                <a:spcPts val="451"/>
              </a:spcAft>
              <a:buClr>
                <a:srgbClr val="0000ff"/>
              </a:buClr>
              <a:buSzPct val="50000"/>
              <a:buFont typeface="Tahoma"/>
              <a:buChar char="–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ผู้ตรวจสอบ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อาจเห็นว่า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กิจกรรม</a:t>
            </a:r>
            <a:r>
              <a:rPr b="0" lang="th-TH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ในกระบวนการขนส่งควรได้รับการปรับปรุง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60400" indent="-285840">
              <a:spcBef>
                <a:spcPts val="451"/>
              </a:spcBef>
              <a:spcAft>
                <a:spcPts val="451"/>
              </a:spcAft>
              <a:buClr>
                <a:srgbClr val="0000ff"/>
              </a:buClr>
              <a:buSzPct val="50000"/>
              <a:buFont typeface="Tahoma"/>
              <a:buChar char="–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ผู้ตรวจสอบ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C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อาจไม่แน่ใจว่า</a:t>
            </a:r>
            <a:r>
              <a:rPr b="0" lang="th-TH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วัตถุประสงค์</a:t>
            </a:r>
            <a:r>
              <a:rPr b="0" lang="th-TH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ของการปฏิบัติงานที่ผู้บริหารตั้งไว้ จะเหมาะสมกับเป้าหมายทางธุรกิจ หรือสภาพการแข่งขันในปัจจุบั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ผู้ตรวจสอบทั้ง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3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คน อาจได้วัตถุประสงค์การตรวจสอบต่างแนวทางกันก็ได้ขึ้นกับประเด็นหรือความเสี่ยงหลักที่แต่ละคนสนใจ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333360"/>
            <a:ext cx="771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748440" indent="-24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84120"/>
                <a:tab algn="r" pos="73566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ahoma"/>
                <a:cs typeface="Tahoma"/>
              </a:rPr>
              <a:t>กรณีศึกษาที่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ea typeface="Tahoma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cs typeface="Tahoma"/>
              </a:rPr>
              <a:t>เฉลย</a:t>
            </a:r>
            <a:endParaRPr b="0" lang="en-US" sz="20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15" name=""/>
          <p:cNvSpPr/>
          <p:nvPr/>
        </p:nvSpPr>
        <p:spPr>
          <a:xfrm>
            <a:off x="7165800" y="655308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(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อ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3 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น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211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4852-A168-4117-A819-B4956C04F9C5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468360" y="333360"/>
            <a:ext cx="771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748440" indent="-24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84120"/>
                <a:tab algn="r" pos="73566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ahoma"/>
                <a:cs typeface="Tahoma"/>
              </a:rPr>
              <a:t>กรณีศึกษาที่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ea typeface="Tahoma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cs typeface="Tahoma"/>
              </a:rPr>
              <a:t>เฉลย</a:t>
            </a:r>
            <a:endParaRPr b="0" lang="en-US" sz="20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41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กรณี</a:t>
            </a:r>
            <a:r>
              <a:rPr b="0" lang="th-TH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th-TH" sz="2000" spc="-1" strike="noStrike">
                <a:solidFill>
                  <a:srgbClr val="0000ff"/>
                </a:solidFill>
                <a:latin typeface="Tahoma"/>
              </a:rPr>
              <a:t>ผู้ตรวจสอบสนใจว่า</a:t>
            </a:r>
            <a:r>
              <a:rPr b="0" lang="th-TH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th-TH" sz="2000" spc="-1" strike="noStrike" u="sng">
                <a:solidFill>
                  <a:srgbClr val="cc0000"/>
                </a:solidFill>
                <a:uFillTx/>
                <a:latin typeface="Tahoma"/>
              </a:rPr>
              <a:t>ผลลัพธ์</a:t>
            </a:r>
            <a:r>
              <a:rPr b="0" lang="th-TH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th-TH" sz="2000" spc="-1" strike="noStrike">
                <a:solidFill>
                  <a:srgbClr val="0000ff"/>
                </a:solidFill>
                <a:latin typeface="Tahoma"/>
              </a:rPr>
              <a:t>ของกระบวนการสำเร็จหรือไม่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วัตถุประสงค์การตรวจสอบทั่วไ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spcBef>
                <a:spcPts val="451"/>
              </a:spcBef>
              <a:spcAft>
                <a:spcPts val="451"/>
              </a:spcAft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พิจารณา 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ผลลัพธ์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 ของกระบวนการขนส่งว่าทำได้บรรลุตามวัตถุประสงค์การปฏิบัติงานที่ตั้งไว้หรือไม่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วัตถุประสงค์การตรวจสอบที่เฉพาะเจาะจง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(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เน้นที่ 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ผลลัพธ์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 สัมพันธ์กับวัตถุประสงค์การให้บริการ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spcBef>
                <a:spcPts val="451"/>
              </a:spcBef>
              <a:spcAft>
                <a:spcPts val="451"/>
              </a:spcAft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พิจารณาว่าจัดส่งภายในเกณฑ์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24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ชั่วโมงตามที่กำหนดไว้หรือไม่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spcBef>
                <a:spcPts val="451"/>
              </a:spcBef>
              <a:spcAft>
                <a:spcPts val="451"/>
              </a:spcAft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พิจารณาว่า การจัดส่งทุกคำสั่งซื้อไปยังที่อยู่ที่ถูกต้องหรือไม่ จัดส่งสินค้าตรงกับคำสั่งซื้อหรือไม่ มีการแนบเอกสารที่จำเป็นทั้งหมดไปพร้อมกับการจัดส่งทุกครั้งหรือไม่   มีการบรรจุหีบห่อที่แน่นหนาหรือไม่   ชำระค่าไปรษณีย์ในการจัดส่งถูกต้องหรือไม่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(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เน้นที่ 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ผลลัพธ์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 สัมพันธ์กับวัตถุประสงค์ของระบบสารสนเทศ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spcBef>
                <a:spcPts val="451"/>
              </a:spcBef>
              <a:spcAft>
                <a:spcPts val="451"/>
              </a:spcAft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พิจารณาว่า บันทึกการจัดส่งมีความถูกต้อง ครบถ้วน เชื่อถือได้ และการคำนวณ การบันทึก การรายงาน เหมาะสมหรือไม่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7165800" y="655308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(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อ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3 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น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211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3E24-25ED-4180-8B8A-DF84A8EF1051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68360" y="333360"/>
            <a:ext cx="771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748440" indent="-24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84120"/>
                <a:tab algn="r" pos="73566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ahoma"/>
                <a:cs typeface="Tahoma"/>
              </a:rPr>
              <a:t>กรณีศึกษาที่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ea typeface="Tahoma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cs typeface="Tahoma"/>
              </a:rPr>
              <a:t>เฉลย</a:t>
            </a:r>
            <a:endParaRPr b="0" lang="en-US" sz="20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74760" y="112356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4120" indent="0">
              <a:spcBef>
                <a:spcPts val="499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กรณี</a:t>
            </a:r>
            <a:r>
              <a:rPr b="0" lang="th-TH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th-TH" sz="2000" spc="-1" strike="noStrike">
                <a:solidFill>
                  <a:srgbClr val="0000ff"/>
                </a:solidFill>
                <a:latin typeface="Tahoma"/>
              </a:rPr>
              <a:t>ผู้ตรวจสอบเห็นว่า</a:t>
            </a:r>
            <a:r>
              <a:rPr b="0" lang="th-TH" sz="20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th-TH" sz="2000" spc="-1" strike="noStrike" u="sng">
                <a:solidFill>
                  <a:srgbClr val="cc0000"/>
                </a:solidFill>
                <a:uFillTx/>
                <a:latin typeface="Tahoma"/>
              </a:rPr>
              <a:t>กิจกรรม</a:t>
            </a:r>
            <a:r>
              <a:rPr b="0" lang="th-TH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th-TH" sz="2000" spc="-1" strike="noStrike">
                <a:solidFill>
                  <a:srgbClr val="0000ff"/>
                </a:solidFill>
                <a:latin typeface="Tahoma"/>
              </a:rPr>
              <a:t>ในกระบวนการขนส่งควรต้องได้รับการปรับปรุง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spcBef>
                <a:spcPts val="1250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วัตถุประสงค์การตรวจสอบทั่วไ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spcBef>
                <a:spcPts val="451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พิจารณาว่า 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กิจกรรม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การขนส่งเหมาะสมหรือไม่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spcBef>
                <a:spcPts val="1250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วัตถุประสงค์การตรวจสอบที่เฉพาะเจาะจง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(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เน้นที่การหาโอกาสในการปรับปรุง 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กระบวนการ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 จัดส่ง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spcBef>
                <a:spcPts val="451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ประเมินวิธีการขั้นตอนต่างๆ ของกระบวนการจัดส่งสินค้าว่าเหมาะสมหรือไม่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(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เน้นที่การทำงานของ 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กระบวนการ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 จริงตรงกับที่กำหนดไว้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spcBef>
                <a:spcPts val="451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พิจารณาว่า กระบวนการจัดส่งที่เกิดขึ้นจริงเป็นไปตามขั้นตอนการปฏิบัติงานที่เขียนไว้หรือไม่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7165800" y="655308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(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อ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3 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น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211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7D52-8412-4A6B-9789-CCB1032C46F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21840" y="1123920"/>
            <a:ext cx="86425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0">
              <a:spcBef>
                <a:spcPts val="499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Tahoma"/>
              </a:rPr>
              <a:t>กรณี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hi-IN" sz="2000" spc="-1" strike="noStrike">
                <a:solidFill>
                  <a:srgbClr val="0000ff"/>
                </a:solidFill>
                <a:latin typeface="Tahoma"/>
              </a:rPr>
              <a:t>ผู้ตรวจสอบไม่แน่ใจว่า </a:t>
            </a:r>
            <a:r>
              <a:rPr b="0" lang="hi-IN" sz="2000" spc="-1" strike="noStrike" u="sng">
                <a:solidFill>
                  <a:srgbClr val="cc0000"/>
                </a:solidFill>
                <a:uFillTx/>
                <a:latin typeface="Tahoma"/>
              </a:rPr>
              <a:t>วัตถุประสงค์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hi-IN" sz="2000" spc="-1" strike="noStrike">
                <a:solidFill>
                  <a:srgbClr val="0000ff"/>
                </a:solidFill>
                <a:latin typeface="Tahoma"/>
              </a:rPr>
              <a:t>ของการปฏิบัติงานที่ผู้บริหารตั้งไว้เหมาะสม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spcBef>
                <a:spcPts val="1250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Tahoma"/>
              </a:rPr>
              <a:t>วัตถุประสงค์การตรวจสอบทั่วไ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spcBef>
                <a:spcPts val="451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ff"/>
                </a:solidFill>
                <a:latin typeface="Tahoma"/>
              </a:rPr>
              <a:t>ประเมินความเหมาะสมของ </a:t>
            </a:r>
            <a:r>
              <a:rPr b="0" lang="hi-IN" sz="1800" spc="-1" strike="noStrike" u="sng">
                <a:solidFill>
                  <a:srgbClr val="cc0000"/>
                </a:solidFill>
                <a:uFillTx/>
                <a:latin typeface="Tahoma"/>
              </a:rPr>
              <a:t>วัตถุประสงค์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ของการปฏิบัติการคลังสินค้าในส่วนที่เกี่ยวข้องกับงานขนส่ง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spcBef>
                <a:spcPts val="1250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Tahoma"/>
              </a:rPr>
              <a:t>วัตถุประสงค์การตรวจสอบที่เฉพาะเจาะจง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(</a:t>
            </a:r>
            <a:r>
              <a:rPr b="0" lang="hi-IN" sz="1800" spc="-1" strike="noStrike">
                <a:solidFill>
                  <a:srgbClr val="cc0000"/>
                </a:solidFill>
                <a:latin typeface="Tahoma"/>
              </a:rPr>
              <a:t>วัตถุประสงค์นี้เน้นการประเมินว่า </a:t>
            </a:r>
            <a:r>
              <a:rPr b="0" lang="hi-IN" sz="1800" spc="-1" strike="noStrike" u="sng">
                <a:solidFill>
                  <a:srgbClr val="cc0000"/>
                </a:solidFill>
                <a:uFillTx/>
                <a:latin typeface="Tahoma"/>
              </a:rPr>
              <a:t>วัตถุประสงค์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 ของการบริการคลังสินค้านี้แข่งขันได้หรือไม่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spcBef>
                <a:spcPts val="451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ff"/>
                </a:solidFill>
                <a:latin typeface="Tahoma"/>
              </a:rPr>
              <a:t>พิจารณาว่า วัตถุประสงค์และวิธีการทำงานของการให้บริการคลังสินค้า สอดคล้องกับมาตรฐานในอุตสาหกรรมเดียวกัน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8101080" y="6481800"/>
            <a:ext cx="360360" cy="331920"/>
          </a:xfrm>
          <a:custGeom>
            <a:avLst/>
            <a:gdLst>
              <a:gd name="textAreaLeft" fmla="*/ 21240 w 360360"/>
              <a:gd name="textAreaRight" fmla="*/ 339120 w 360360"/>
              <a:gd name="textAreaTop" fmla="*/ 21240 h 331920"/>
              <a:gd name="textAreaBottom" fmla="*/ 310680 h 331920"/>
            </a:gdLst>
            <a:ahLst/>
            <a:rect l="textAreaLeft" t="textAreaTop" r="textAreaRight" b="textAreaBottom"/>
            <a:pathLst>
              <a:path w="23449" h="21600">
                <a:moveTo>
                  <a:pt x="0" y="0"/>
                </a:moveTo>
                <a:lnTo>
                  <a:pt x="23449" y="0"/>
                </a:lnTo>
                <a:lnTo>
                  <a:pt x="23449" y="21600"/>
                </a:lnTo>
                <a:lnTo>
                  <a:pt x="0" y="21600"/>
                </a:lnTo>
                <a:close/>
              </a:path>
              <a:path fill="lightenLess" w="23449" h="21600">
                <a:moveTo>
                  <a:pt x="0" y="0"/>
                </a:moveTo>
                <a:lnTo>
                  <a:pt x="23449" y="0"/>
                </a:lnTo>
                <a:lnTo>
                  <a:pt x="22049" y="1400"/>
                </a:lnTo>
                <a:lnTo>
                  <a:pt x="1400" y="1400"/>
                </a:lnTo>
                <a:close/>
              </a:path>
              <a:path fill="darken" w="23449" h="21600">
                <a:moveTo>
                  <a:pt x="23449" y="0"/>
                </a:moveTo>
                <a:lnTo>
                  <a:pt x="23449" y="21600"/>
                </a:lnTo>
                <a:lnTo>
                  <a:pt x="22049" y="20200"/>
                </a:lnTo>
                <a:lnTo>
                  <a:pt x="22049" y="1400"/>
                </a:lnTo>
                <a:close/>
              </a:path>
              <a:path fill="darkenLess" w="23449" h="21600">
                <a:moveTo>
                  <a:pt x="234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49" y="20200"/>
                </a:lnTo>
                <a:close/>
              </a:path>
              <a:path fill="lighten" w="234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49" h="21600">
                <a:moveTo>
                  <a:pt x="4718" y="10800"/>
                </a:moveTo>
                <a:lnTo>
                  <a:pt x="18731" y="3794"/>
                </a:lnTo>
                <a:lnTo>
                  <a:pt x="18731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24" name=""/>
          <p:cNvSpPr/>
          <p:nvPr/>
        </p:nvSpPr>
        <p:spPr>
          <a:xfrm>
            <a:off x="468360" y="333360"/>
            <a:ext cx="771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748440" indent="-24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84120"/>
                <a:tab algn="r" pos="73566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ahoma"/>
                <a:cs typeface="Tahoma"/>
              </a:rPr>
              <a:t>กรณีศึกษาที่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ea typeface="Tahoma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cs typeface="Tahoma"/>
              </a:rPr>
              <a:t>เฉลย</a:t>
            </a:r>
            <a:endParaRPr b="0" lang="en-US" sz="20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25" name=""/>
          <p:cNvSpPr/>
          <p:nvPr/>
        </p:nvSpPr>
        <p:spPr>
          <a:xfrm>
            <a:off x="7165800" y="655308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(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อ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3 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น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211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987F-08C2-4276-8881-E2C4C50F7E24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50560" y="1052280"/>
            <a:ext cx="8713800" cy="59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แนวทางการตรวจสอบ งานแคชเชียร์  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ที่ใช้ 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Procedure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ไม่ชัดเจ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spcAft>
                <a:spcPts val="451"/>
              </a:spcAft>
              <a:buClr>
                <a:srgbClr val="0000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ตรวจสอบ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 การแบ่งแยกหน้าที่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spcAft>
                <a:spcPts val="451"/>
              </a:spcAft>
              <a:buClr>
                <a:srgbClr val="0000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ตรวจดู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 ข้อมูล ระบุสิ่งผิดปกติหรือน่าสงสัย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spcAft>
                <a:spcPts val="451"/>
              </a:spcAft>
              <a:buClr>
                <a:srgbClr val="0000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ตรวจดู</a:t>
            </a:r>
            <a:r>
              <a:rPr b="0" lang="th-TH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การปฏิบัติงานของเจ้าหน้าที่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spcAft>
                <a:spcPts val="451"/>
              </a:spcAft>
              <a:buClr>
                <a:srgbClr val="0000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สอบทาน</a:t>
            </a:r>
            <a:r>
              <a:rPr b="0" lang="th-TH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แผนผังทางเดินงาน เอกสาร และจุดควบคุม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spcAft>
                <a:spcPts val="451"/>
              </a:spcAft>
              <a:buClr>
                <a:srgbClr val="0000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นับ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 เงินสด แบบฟอร์มเช็ค ใบเสร็จ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spcAft>
                <a:spcPts val="451"/>
              </a:spcAft>
              <a:buClr>
                <a:srgbClr val="0000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ตรวจสอบ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 ความปลอดภัยของเงินสด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spcAft>
                <a:spcPts val="451"/>
              </a:spcAft>
              <a:buClr>
                <a:srgbClr val="0000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ตรวจสอบ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 กิจกรรมการพิสูจน์ยอดเงินฝากธนาคาร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spcAft>
                <a:spcPts val="451"/>
              </a:spcAft>
              <a:buClr>
                <a:srgbClr val="0000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ตรวจทาน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 การบันทึกรายการ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spcAft>
                <a:spcPts val="451"/>
              </a:spcAft>
              <a:buClr>
                <a:srgbClr val="0000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สุ่มตัวอย่าง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 เอกสารอนุมัต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spcAft>
                <a:spcPts val="451"/>
              </a:spcAft>
              <a:buClr>
                <a:srgbClr val="0000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สอบทาน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 เอกสารที่สงสัย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468360" y="333360"/>
            <a:ext cx="771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748440" indent="-24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84120"/>
                <a:tab algn="r" pos="73566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Audit Procedure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  <a:ea typeface="Tahoma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cs typeface="Tahoma"/>
              </a:rPr>
              <a:t>ตัวอย่าง</a:t>
            </a:r>
            <a:endParaRPr b="0" lang="en-US" sz="20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1326-C507-49FF-BDE9-F34BB3660B73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250560" y="1052280"/>
            <a:ext cx="8713800" cy="59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แนวทางการตรวจสอบ งานแคชเชียร์ 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ที่ใช้ 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Procedure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อย่างถูกต้อง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spcAft>
                <a:spcPts val="451"/>
              </a:spcAft>
              <a:buClr>
                <a:srgbClr val="3366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ประเมิน</a:t>
            </a:r>
            <a:r>
              <a:rPr b="0" lang="th-TH" sz="1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การแบ่งแยกหน้าที่ระหว่างพนักงาน จากผังองค์กร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คำบรรยายลักษณะงาน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และขอบเขตอำนาจหน้าที่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spcAft>
                <a:spcPts val="451"/>
              </a:spcAft>
              <a:buClr>
                <a:srgbClr val="3366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วิเคราะห์</a:t>
            </a:r>
            <a:r>
              <a:rPr b="0" lang="th-TH" sz="1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ข้อมูล ระบุสิ่งผิดปกติหรือน่าสงสัย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spcAft>
                <a:spcPts val="451"/>
              </a:spcAft>
              <a:buClr>
                <a:srgbClr val="3366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เยี่ยมชม</a:t>
            </a:r>
            <a:r>
              <a:rPr b="0" lang="th-TH" sz="1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และ</a:t>
            </a:r>
            <a:r>
              <a:rPr b="0" lang="th-TH" sz="1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สอบถาม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เจ้าหน้าที่ ผู้รับบริการ ดูตัวอย่างเอกสารหรือ</a:t>
            </a:r>
            <a:r>
              <a:rPr b="0" lang="th-TH" sz="1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สังเกตการณ์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วิธีปฏิบัติของเจ้าหน้าที่</a:t>
            </a:r>
            <a:r>
              <a:rPr b="0" lang="th-TH" sz="1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ทีละขั้นตั้งแต่ต้นจนจบ</a:t>
            </a:r>
            <a:r>
              <a:rPr b="0" lang="th-TH" sz="1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และ</a:t>
            </a:r>
            <a:r>
              <a:rPr b="0" lang="th-TH" sz="1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ระบุความแตกต่าง</a:t>
            </a:r>
            <a:r>
              <a:rPr b="0" lang="th-TH" sz="1800" spc="-1" strike="noStrike">
                <a:solidFill>
                  <a:srgbClr val="ff505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จากคู่มื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spcAft>
                <a:spcPts val="451"/>
              </a:spcAft>
              <a:buClr>
                <a:srgbClr val="3366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บรรยาย</a:t>
            </a:r>
            <a:r>
              <a:rPr b="0" lang="th-TH" sz="1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แผนผังทางเดินงาน เอกสาร ระบุจุดควบคุมและ</a:t>
            </a:r>
            <a:r>
              <a:rPr b="0" lang="th-TH" sz="1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จัดทำ</a:t>
            </a:r>
            <a:r>
              <a:rPr b="0" lang="th-TH" sz="1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เป็นเอกสาร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spcAft>
                <a:spcPts val="451"/>
              </a:spcAft>
              <a:buClr>
                <a:srgbClr val="3366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ตรวจนับ</a:t>
            </a:r>
            <a:r>
              <a:rPr b="0" lang="th-TH" sz="1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เงินสด แบบฟอร์มเช็ค ใบเสร็จ โดยไม่แจ้งล่วงหน้า</a:t>
            </a:r>
            <a:r>
              <a:rPr b="0" lang="th-TH" sz="1800" spc="-1" strike="noStrike">
                <a:solidFill>
                  <a:srgbClr val="ff5050"/>
                </a:solidFill>
                <a:latin typeface="Tahoma"/>
              </a:rPr>
              <a:t> 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เปรียบเทียบ</a:t>
            </a:r>
            <a:r>
              <a:rPr b="0" lang="th-TH" sz="1800" spc="-1" strike="noStrike">
                <a:solidFill>
                  <a:srgbClr val="ff505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กับทะเบียนคุม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spcAft>
                <a:spcPts val="451"/>
              </a:spcAft>
              <a:buClr>
                <a:srgbClr val="3366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ประเมิน</a:t>
            </a:r>
            <a:r>
              <a:rPr b="0" lang="th-TH" sz="1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ความปลอดภัยในการเก็บรักษา ขนย้าย เบิกจ่ายเงินสด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spcAft>
                <a:spcPts val="451"/>
              </a:spcAft>
              <a:buClr>
                <a:srgbClr val="3366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ตรวจตรา</a:t>
            </a:r>
            <a:r>
              <a:rPr b="0" lang="th-TH" sz="1800" spc="-1" strike="noStrike">
                <a:solidFill>
                  <a:srgbClr val="ff505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หลักฐานว่ามีการจัดทำและตรวจทานงบพิสูจน์ยอดเงินฝากธนาคาร</a:t>
            </a:r>
            <a:r>
              <a:rPr b="0" lang="th-TH" sz="18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spcAft>
                <a:spcPts val="451"/>
              </a:spcAft>
              <a:buClr>
                <a:srgbClr val="3366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ตามรอย</a:t>
            </a:r>
            <a:r>
              <a:rPr b="0" lang="th-TH" sz="1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การบันทึกรายการ</a:t>
            </a:r>
            <a:r>
              <a:rPr b="0" lang="th-TH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ออกยอดรวม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คำนวณซ้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spcAft>
                <a:spcPts val="451"/>
              </a:spcAft>
              <a:buClr>
                <a:srgbClr val="3366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สุ่มตัวอย่าง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เช็คสอบเอกสาร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ประเมิน</a:t>
            </a:r>
            <a:r>
              <a:rPr b="0" lang="th-TH" sz="1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ว่ามีการอนุมัติ ตรวจทานเหมาะสม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spcAft>
                <a:spcPts val="451"/>
              </a:spcAft>
              <a:buClr>
                <a:srgbClr val="3366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สอบทาน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 เอกสารที่สงสัย แล้ว</a:t>
            </a:r>
            <a:r>
              <a:rPr b="0" lang="th-TH" sz="1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ยืนยัน</a:t>
            </a:r>
            <a:r>
              <a:rPr b="0" lang="th-TH" sz="1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หรือ</a:t>
            </a:r>
            <a:r>
              <a:rPr b="0" lang="th-TH" sz="1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เปรียบเทียบ</a:t>
            </a:r>
            <a:r>
              <a:rPr b="0" lang="th-TH" sz="1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กับข้อมูลจากแหล่งอื่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8101080" y="6481800"/>
            <a:ext cx="360360" cy="331920"/>
          </a:xfrm>
          <a:custGeom>
            <a:avLst/>
            <a:gdLst>
              <a:gd name="textAreaLeft" fmla="*/ 21240 w 360360"/>
              <a:gd name="textAreaRight" fmla="*/ 339120 w 360360"/>
              <a:gd name="textAreaTop" fmla="*/ 21240 h 331920"/>
              <a:gd name="textAreaBottom" fmla="*/ 310680 h 331920"/>
            </a:gdLst>
            <a:ahLst/>
            <a:rect l="textAreaLeft" t="textAreaTop" r="textAreaRight" b="textAreaBottom"/>
            <a:pathLst>
              <a:path w="23449" h="21600">
                <a:moveTo>
                  <a:pt x="0" y="0"/>
                </a:moveTo>
                <a:lnTo>
                  <a:pt x="23449" y="0"/>
                </a:lnTo>
                <a:lnTo>
                  <a:pt x="23449" y="21600"/>
                </a:lnTo>
                <a:lnTo>
                  <a:pt x="0" y="21600"/>
                </a:lnTo>
                <a:close/>
              </a:path>
              <a:path fill="lightenLess" w="23449" h="21600">
                <a:moveTo>
                  <a:pt x="0" y="0"/>
                </a:moveTo>
                <a:lnTo>
                  <a:pt x="23449" y="0"/>
                </a:lnTo>
                <a:lnTo>
                  <a:pt x="22049" y="1400"/>
                </a:lnTo>
                <a:lnTo>
                  <a:pt x="1400" y="1400"/>
                </a:lnTo>
                <a:close/>
              </a:path>
              <a:path fill="darken" w="23449" h="21600">
                <a:moveTo>
                  <a:pt x="23449" y="0"/>
                </a:moveTo>
                <a:lnTo>
                  <a:pt x="23449" y="21600"/>
                </a:lnTo>
                <a:lnTo>
                  <a:pt x="22049" y="20200"/>
                </a:lnTo>
                <a:lnTo>
                  <a:pt x="22049" y="1400"/>
                </a:lnTo>
                <a:close/>
              </a:path>
              <a:path fill="darkenLess" w="23449" h="21600">
                <a:moveTo>
                  <a:pt x="234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49" y="20200"/>
                </a:lnTo>
                <a:close/>
              </a:path>
              <a:path fill="lighten" w="234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49" h="21600">
                <a:moveTo>
                  <a:pt x="4718" y="10800"/>
                </a:moveTo>
                <a:lnTo>
                  <a:pt x="18731" y="3794"/>
                </a:lnTo>
                <a:lnTo>
                  <a:pt x="18731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30" name=""/>
          <p:cNvSpPr/>
          <p:nvPr/>
        </p:nvSpPr>
        <p:spPr>
          <a:xfrm>
            <a:off x="468360" y="333360"/>
            <a:ext cx="771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748440" indent="-24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84120"/>
                <a:tab algn="r" pos="73566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Audit Procedure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  <a:ea typeface="Tahoma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cs typeface="Tahoma"/>
              </a:rPr>
              <a:t>ตัวอย่าง</a:t>
            </a:r>
            <a:endParaRPr b="0" lang="en-US" sz="20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BAE7-6174-4C93-B6FC-19D24CADED34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78920" y="764640"/>
            <a:ext cx="8317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lvl="1" marL="78624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312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2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ข้อใดเป็นวัตถุประสงค์ของภารกิจการตรวจสอบ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audit engagement objective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ที่เหมาะสม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Part I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...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ข้อ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83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.] ..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8624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86240" indent="0">
              <a:spcBef>
                <a:spcPts val="1125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เพื่อสังเกตการณ์การนับสินค้าคงคลัง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serve physical inventory count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86240" indent="0">
              <a:spcBef>
                <a:spcPts val="1125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เพื่อประเมินว่าสต็อกสินค้าเพียงพอกับยอดขายที่ประมาณไว้หรือไม่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86240" indent="0">
              <a:spcBef>
                <a:spcPts val="1125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เพื่อค้นหาสินค้าล้าสมัย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solete inventory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โดยคำนวณจากอัตราหมุนเวียนสินค้าแต่ละประเภท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ventory turnover by product line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86240" indent="0">
              <a:spcBef>
                <a:spcPts val="1125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เพื่อรวบรวมข้อมูลสินค้าขาดสต็อก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ockouts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ไว้ในการรายงานผลการตรวจสอบ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nal engagement communication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8624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8624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8624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8624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*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ตอบ ข้อ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b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)</a:t>
            </a:r>
            <a:r>
              <a:rPr b="0" lang="th-TH" sz="1800" spc="-1" strike="noStrike">
                <a:solidFill>
                  <a:srgbClr val="ff5050"/>
                </a:solidFill>
                <a:latin typeface="Tahoma"/>
              </a:rPr>
              <a:t> 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ข้ออื่นเป็นขั้นตอนในโปรแกรมการตรวจสอบ ส่วนข้อ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d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กำหนดคุณสมบัติของรายงา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3120" indent="0">
              <a:spcBef>
                <a:spcPts val="451"/>
              </a:spcBef>
              <a:buNone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333360"/>
            <a:ext cx="771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60400" indent="-285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Pre-Test</a:t>
            </a:r>
            <a:endParaRPr b="0" lang="en-US" sz="32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1185-E9FF-4CF5-858A-A2D394A35137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indefinite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indefinite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indefinite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68360" y="333360"/>
            <a:ext cx="771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lvl="1" marL="671040" indent="-222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84120"/>
                <a:tab algn="r" pos="698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ahoma"/>
                <a:cs typeface="Tahoma"/>
              </a:rPr>
              <a:t>กรณีศึกษาที่ </a:t>
            </a:r>
            <a:r>
              <a:rPr b="1" lang="th-TH" sz="32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th-TH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  <a:ea typeface="Tahoma"/>
              </a:rPr>
              <a:t>Cedar Street</a:t>
            </a:r>
            <a:endParaRPr b="0" lang="en-US" sz="2000" spc="-1" strike="noStrike">
              <a:solidFill>
                <a:srgbClr val="000000"/>
              </a:solidFill>
              <a:latin typeface="Cordia New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95280" y="1406520"/>
          <a:ext cx="8497800" cy="4759200"/>
        </p:xfrm>
        <a:graphic>
          <a:graphicData uri="http://schemas.openxmlformats.org/drawingml/2006/table">
            <a:tbl>
              <a:tblPr/>
              <a:tblGrid>
                <a:gridCol w="2139840"/>
                <a:gridCol w="6357960"/>
              </a:tblGrid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วัตถุประสงค์การตรวจสอ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เพื่อที่จะระบุว่าทรัพย์สินถาวรของโรงงานมี </a:t>
                      </a:r>
                      <a:r>
                        <a:rPr b="0" lang="hi-IN" sz="1800" spc="-1" strike="noStrike">
                          <a:solidFill>
                            <a:srgbClr val="cc0000"/>
                          </a:solidFill>
                          <a:latin typeface="Tahoma"/>
                          <a:cs typeface="Tahoma"/>
                        </a:rPr>
                        <a:t>การบำรุงรักษาที่เหมาะสม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hi-IN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หรือไม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2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ข้อสรุปจากการประชุมร่วมกับฝ่ายบริหาร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263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cc0000"/>
                          </a:solidFill>
                          <a:latin typeface="Tahoma"/>
                          <a:cs typeface="Tahoma"/>
                        </a:rPr>
                        <a:t>การบำรุงรักษาที่เหมาะสม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 ประกอบด้วย </a:t>
                      </a: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ปัจจัยหลัก คือ</a:t>
                      </a:r>
                      <a:r>
                        <a:rPr b="0" lang="th-TH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0" lang="th-TH" sz="1800" spc="-1" strike="noStrike">
                          <a:solidFill>
                            <a:srgbClr val="cc0000"/>
                          </a:solidFill>
                          <a:latin typeface="Tahoma"/>
                          <a:ea typeface="Tahoma"/>
                        </a:rPr>
                        <a:t>) </a:t>
                      </a:r>
                      <a:r>
                        <a:rPr b="0" lang="th-TH" sz="1800" spc="-1" strike="noStrike">
                          <a:solidFill>
                            <a:srgbClr val="cc0000"/>
                          </a:solidFill>
                          <a:latin typeface="Tahoma"/>
                          <a:cs typeface="Tahoma"/>
                        </a:rPr>
                        <a:t>การดูแลรักษาความสะอาดที่ดี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0" lang="th-TH" sz="1800" spc="-1" strike="noStrike">
                          <a:solidFill>
                            <a:srgbClr val="cc0000"/>
                          </a:solidFill>
                          <a:latin typeface="Tahoma"/>
                          <a:ea typeface="Tahoma"/>
                        </a:rPr>
                        <a:t>) </a:t>
                      </a:r>
                      <a:r>
                        <a:rPr b="0" lang="th-TH" sz="1800" spc="-1" strike="noStrike">
                          <a:solidFill>
                            <a:srgbClr val="cc0000"/>
                          </a:solidFill>
                          <a:latin typeface="Tahoma"/>
                          <a:cs typeface="Tahoma"/>
                        </a:rPr>
                        <a:t>การบำรุงรักษาและซ่อมแซมอุปกรณ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องค์ประกอบย่อยในแต่ละปัจจัยหลั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5040"/>
                          <a:tab algn="l" pos="812880"/>
                          <a:tab algn="l" pos="1260360"/>
                          <a:tab algn="l" pos="1706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0" lang="th-TH" sz="1800" spc="-1" strike="noStrike">
                          <a:solidFill>
                            <a:srgbClr val="cc0000"/>
                          </a:solidFill>
                          <a:latin typeface="Tahoma"/>
                          <a:ea typeface="Tahoma"/>
                        </a:rPr>
                        <a:t>) </a:t>
                      </a:r>
                      <a:r>
                        <a:rPr b="0" lang="th-TH" sz="1800" spc="-1" strike="noStrike">
                          <a:solidFill>
                            <a:srgbClr val="cc0000"/>
                          </a:solidFill>
                          <a:latin typeface="Tahoma"/>
                          <a:cs typeface="Tahoma"/>
                        </a:rPr>
                        <a:t>การดูแลรักษาความสะอาด</a:t>
                      </a:r>
                      <a:r>
                        <a:rPr b="0" lang="th-TH" sz="1800" spc="-1" strike="noStrike">
                          <a:solidFill>
                            <a:srgbClr val="cc0000"/>
                          </a:solidFill>
                          <a:latin typeface="Tahoma"/>
                          <a:ea typeface="Tahoma"/>
                        </a:rPr>
                        <a:t>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65040"/>
                          <a:tab algn="l" pos="812880"/>
                          <a:tab algn="l" pos="1260360"/>
                          <a:tab algn="l" pos="1706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- 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การทำความสะอาดตามกำหนดเวล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65040"/>
                          <a:tab algn="l" pos="812880"/>
                          <a:tab algn="l" pos="1260360"/>
                          <a:tab algn="l" pos="1706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- 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การทำความสะอาดนอกกำหนดเวล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65040"/>
                          <a:tab algn="l" pos="812880"/>
                          <a:tab algn="l" pos="1260360"/>
                          <a:tab algn="l" pos="1706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- 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การตรวจสอบคุณภาพอย่างสม่ำเสม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5040"/>
                          <a:tab algn="l" pos="812880"/>
                          <a:tab algn="l" pos="1260360"/>
                          <a:tab algn="l" pos="1706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0" lang="th-TH" sz="1800" spc="-1" strike="noStrike">
                          <a:solidFill>
                            <a:srgbClr val="cc0000"/>
                          </a:solidFill>
                          <a:latin typeface="Tahoma"/>
                          <a:ea typeface="Tahoma"/>
                        </a:rPr>
                        <a:t>) </a:t>
                      </a:r>
                      <a:r>
                        <a:rPr b="0" lang="th-TH" sz="1800" spc="-1" strike="noStrike">
                          <a:solidFill>
                            <a:srgbClr val="cc0000"/>
                          </a:solidFill>
                          <a:latin typeface="Tahoma"/>
                          <a:cs typeface="Tahoma"/>
                        </a:rPr>
                        <a:t>การซ่อมแซมและบำรุงรักษาอุปกรณ์</a:t>
                      </a:r>
                      <a:r>
                        <a:rPr b="0" lang="th-TH" sz="1800" spc="-1" strike="noStrike">
                          <a:solidFill>
                            <a:srgbClr val="cc0000"/>
                          </a:solidFill>
                          <a:latin typeface="Tahoma"/>
                          <a:ea typeface="Tahoma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65040"/>
                          <a:tab algn="l" pos="812880"/>
                          <a:tab algn="l" pos="1260360"/>
                          <a:tab algn="l" pos="1706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- 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การบำรุงรักษาเชิงป้องกั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65040"/>
                          <a:tab algn="l" pos="812880"/>
                          <a:tab algn="l" pos="1260360"/>
                          <a:tab algn="l" pos="1706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+ 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การบำรุงรักษาตามกำหนดเวล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65040"/>
                          <a:tab algn="l" pos="812880"/>
                          <a:tab algn="l" pos="1260360"/>
                          <a:tab algn="l" pos="1706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+ 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การบำรุงรักษานอกกำหนดเวลาเมื่อมีความจำเป็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65040"/>
                          <a:tab algn="l" pos="812880"/>
                          <a:tab algn="l" pos="1260360"/>
                          <a:tab algn="l" pos="1706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+ 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การตรวจสอบคุณภาพอย่างสม่ำเสม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65040"/>
                          <a:tab algn="l" pos="812880"/>
                          <a:tab algn="l" pos="1260360"/>
                          <a:tab algn="l" pos="1706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- 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การซ่อมแซมเมื่อมีความจำเป็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"/>
          <p:cNvSpPr/>
          <p:nvPr/>
        </p:nvSpPr>
        <p:spPr>
          <a:xfrm>
            <a:off x="7165800" y="655308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(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อ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3 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น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241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3B82-8407-4482-9989-DB6547A9DF54}" type="slidenum">
              <a:t>3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ผู้ตรวจสอบนำข้อสรุปของปัจจัยหลักและองค์ประกอบดังกล่าวมาสร้าง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Primary Audit Argu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“</a:t>
            </a:r>
            <a:r>
              <a:rPr b="1" lang="th-TH" sz="1800" spc="-1" strike="noStrike">
                <a:solidFill>
                  <a:srgbClr val="cc0000"/>
                </a:solidFill>
                <a:latin typeface="Tahoma"/>
              </a:rPr>
              <a:t>ข้ออ้าง </a:t>
            </a: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1</a:t>
            </a:r>
            <a:r>
              <a:rPr b="1" lang="th-TH" sz="1800" spc="-1" strike="noStrike">
                <a:solidFill>
                  <a:srgbClr val="cc0000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โรงงานใดที่มีการบำรุงรักษาที่ดี โรงงานนั้นย่อมจะได้รับการทำความสะอาดอย่างเหมาะสม และสถานที่อุปกรณ์ต่างๆ ได้รับการซ่อมบำรุงเป็นอย่างด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1" lang="th-TH" sz="1800" spc="-1" strike="noStrike">
                <a:solidFill>
                  <a:srgbClr val="cc0000"/>
                </a:solidFill>
                <a:latin typeface="Tahoma"/>
              </a:rPr>
              <a:t>ข้ออ้าง </a:t>
            </a: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2</a:t>
            </a:r>
            <a:r>
              <a:rPr b="1" lang="th-TH" sz="1800" spc="-1" strike="noStrike">
                <a:solidFill>
                  <a:srgbClr val="cc0000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โรงงานนี้ได้รับการทำความสะอาดอย่างเหมาะสม และสถานที่อุปกรณ์ต่างๆ ได้รับการซ่อมบำรุงเป็นอย่างด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1" lang="th-TH" sz="1800" spc="-1" strike="noStrike">
                <a:solidFill>
                  <a:srgbClr val="cc0000"/>
                </a:solidFill>
                <a:latin typeface="Tahoma"/>
              </a:rPr>
              <a:t>ข้อสรุป </a:t>
            </a:r>
            <a:r>
              <a:rPr b="1" lang="th-TH" sz="1800" spc="-1" strike="noStrike">
                <a:solidFill>
                  <a:srgbClr val="cc0000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โรงงานนี้มีการบำรุงรักษาที่ดี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Audit Argum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มีความเหมาะสมหรือไม่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468360" y="333360"/>
            <a:ext cx="771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60400" indent="-285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ahoma"/>
                <a:cs typeface="Tahoma"/>
              </a:rPr>
              <a:t>กรณีศึกษาที่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36" name=""/>
          <p:cNvSpPr/>
          <p:nvPr/>
        </p:nvSpPr>
        <p:spPr>
          <a:xfrm>
            <a:off x="7165800" y="655308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(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อ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3 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น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241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B43B-CA9E-4E9F-8381-A51600D6160B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50920" y="3645000"/>
            <a:ext cx="8569080" cy="2448000"/>
          </a:xfrm>
          <a:prstGeom prst="roundRect">
            <a:avLst>
              <a:gd name="adj" fmla="val 9796"/>
            </a:avLst>
          </a:prstGeom>
          <a:solidFill>
            <a:srgbClr val="ccff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5140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dit Argument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เดิม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751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“</a:t>
            </a:r>
            <a:r>
              <a:rPr b="1" lang="th-TH" sz="1800" spc="-1" strike="noStrike">
                <a:solidFill>
                  <a:srgbClr val="cc0000"/>
                </a:solidFill>
                <a:latin typeface="Tahoma"/>
              </a:rPr>
              <a:t>ข้ออ้าง </a:t>
            </a: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1</a:t>
            </a:r>
            <a:r>
              <a:rPr b="1" lang="th-TH" sz="1800" spc="-1" strike="noStrike">
                <a:solidFill>
                  <a:srgbClr val="cc0000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โรงงานใดที่มีการบำรุงรักษาที่ดี โรงงานนั้น 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ย่อมจะได้รับ</a:t>
            </a:r>
            <a:r>
              <a:rPr b="0" lang="th-TH" sz="18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การทำความสะอาดอย่างเหมาะสม และสถานที่อุปกรณ์ต่างๆ ได้รับการซ่อมบำรุงเป็นอย่างด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751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1" lang="th-TH" sz="1800" spc="-1" strike="noStrike">
                <a:solidFill>
                  <a:srgbClr val="cc0000"/>
                </a:solidFill>
                <a:latin typeface="Tahoma"/>
              </a:rPr>
              <a:t>ข้ออ้าง </a:t>
            </a: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2</a:t>
            </a:r>
            <a:r>
              <a:rPr b="1" lang="th-TH" sz="1800" spc="-1" strike="noStrike">
                <a:solidFill>
                  <a:srgbClr val="cc0000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โรงงานนี้ได้รับการทำความสะอาดอย่างเหมาะสม และสถานที่อุปกรณ์ต่างๆ ได้รับการซ่อมบำรุงเป็นอย่างด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751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th-TH" sz="1800" spc="-1" strike="noStrike">
                <a:solidFill>
                  <a:srgbClr val="cc0000"/>
                </a:solidFill>
                <a:latin typeface="Tahoma"/>
              </a:rPr>
              <a:t>ข้อสรุป </a:t>
            </a:r>
            <a:r>
              <a:rPr b="1" lang="th-TH" sz="1800" spc="-1" strike="noStrike">
                <a:solidFill>
                  <a:srgbClr val="cc0000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โรงงานนี้มี การบำรุงรักษาที่ดี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751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75140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dit Argument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ที่เหมาะสม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751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“</a:t>
            </a:r>
            <a:r>
              <a:rPr b="1" lang="th-TH" sz="1800" spc="-1" strike="noStrike">
                <a:solidFill>
                  <a:srgbClr val="cc0000"/>
                </a:solidFill>
                <a:latin typeface="Tahoma"/>
              </a:rPr>
              <a:t>ข้ออ้าง </a:t>
            </a: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1</a:t>
            </a:r>
            <a:r>
              <a:rPr b="1" lang="th-TH" sz="1800" spc="-1" strike="noStrike">
                <a:solidFill>
                  <a:srgbClr val="cc0000"/>
                </a:solidFill>
                <a:latin typeface="Tahoma"/>
              </a:rPr>
              <a:t>:</a:t>
            </a:r>
            <a:r>
              <a:rPr b="0" lang="th-TH" sz="18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โรงงานจะมีการบำรุงรักษาที่ดี</a:t>
            </a:r>
            <a:r>
              <a:rPr b="0" lang="th-TH" sz="1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ก็ต่อเมื่อ</a:t>
            </a:r>
            <a:r>
              <a:rPr b="0" lang="th-TH" sz="1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ได้รับการทำความสะอาดอย่างเหมาะสม และสถานที่อุปกรณ์ต่างๆ ได้รับการซ่อมบำรุงเป็นอย่างดี</a:t>
            </a:r>
            <a:r>
              <a:rPr b="0" lang="th-TH" sz="1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เท่านั้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751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3366ff"/>
                </a:solidFill>
                <a:latin typeface="Tahoma"/>
              </a:rPr>
              <a:t>  </a:t>
            </a:r>
            <a:r>
              <a:rPr b="1" lang="th-TH" sz="1800" spc="-1" strike="noStrike">
                <a:solidFill>
                  <a:srgbClr val="cc0000"/>
                </a:solidFill>
                <a:latin typeface="Tahoma"/>
              </a:rPr>
              <a:t>ข้ออ้าง </a:t>
            </a: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2</a:t>
            </a:r>
            <a:r>
              <a:rPr b="1" lang="th-TH" sz="1800" spc="-1" strike="noStrike">
                <a:solidFill>
                  <a:srgbClr val="cc0000"/>
                </a:solidFill>
                <a:latin typeface="Tahoma"/>
              </a:rPr>
              <a:t>:</a:t>
            </a:r>
            <a:r>
              <a:rPr b="0" lang="th-TH" sz="18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โรงงานนี้ได้รับการทำความสะอาดอย่างเหมาะสม และสถานที่อุปกรณ์ต่างๆ ได้รับการซ่อมบำรุงเป็นอย่างด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751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th-TH" sz="1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th-TH" sz="1800" spc="-1" strike="noStrike">
                <a:solidFill>
                  <a:srgbClr val="cc0000"/>
                </a:solidFill>
                <a:latin typeface="Tahoma"/>
              </a:rPr>
              <a:t>ข้อสรุป </a:t>
            </a:r>
            <a:r>
              <a:rPr b="1" lang="th-TH" sz="1800" spc="-1" strike="noStrike">
                <a:solidFill>
                  <a:srgbClr val="cc0000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โรงงานนี้มี การบำรุงรักษาที่ดี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468360" y="333360"/>
            <a:ext cx="771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748440" indent="-24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84120"/>
                <a:tab algn="r" pos="74376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ahoma"/>
                <a:cs typeface="Tahoma"/>
              </a:rPr>
              <a:t>กรณีศึกษาที่ </a:t>
            </a:r>
            <a:r>
              <a:rPr b="1" lang="th-TH" sz="32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cs typeface="Tahoma"/>
              </a:rPr>
              <a:t>เฉลย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  <a:ea typeface="Tahoma"/>
              </a:rPr>
              <a:t>Audit Argument</a:t>
            </a:r>
            <a:endParaRPr b="0" lang="en-US" sz="20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40" name=""/>
          <p:cNvSpPr/>
          <p:nvPr/>
        </p:nvSpPr>
        <p:spPr>
          <a:xfrm>
            <a:off x="7165800" y="655308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(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อ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3 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น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241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4B0E-8D09-4DF7-AA19-E6921509AE9C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68360" y="333360"/>
            <a:ext cx="771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748440" indent="-24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84120"/>
                <a:tab algn="r" pos="7273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ahoma"/>
                <a:cs typeface="Tahoma"/>
              </a:rPr>
              <a:t>กรณีศึกษาที่ </a:t>
            </a:r>
            <a:r>
              <a:rPr b="1" lang="th-TH" sz="32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cs typeface="Tahoma"/>
              </a:rPr>
              <a:t>เฉลย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  <a:ea typeface="Tahoma"/>
              </a:rPr>
              <a:t>Audit Argument</a:t>
            </a:r>
            <a:endParaRPr b="0" lang="en-US" sz="20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250920" y="1198080"/>
            <a:ext cx="847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7360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ปรึกษาฝ่ายบริหาร และกำหนด</a:t>
            </a:r>
            <a:r>
              <a:rPr b="0" lang="th-TH" sz="20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Secondary Audit Argu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3600" indent="0">
              <a:spcBef>
                <a:spcPts val="499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•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th-TH" sz="2000" spc="-1" strike="noStrike">
                <a:solidFill>
                  <a:srgbClr val="cc0000"/>
                </a:solidFill>
                <a:latin typeface="Tahoma"/>
              </a:rPr>
              <a:t>การทำความสะอาดอย่างเหมาะสม</a:t>
            </a:r>
            <a:r>
              <a:rPr b="0" lang="th-TH" sz="20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360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ก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โรงงานต้องได้รับการทำความสะอาดตามที่กำหนดในตารางเวลาอย่างสม่ำเสมอ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360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ข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มีการเตรียมพร้อมสำหรับการทำความสะอาดที่ไม่ได้กำหนดในตารางเวลาเมื่อจำเป็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360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ค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มีการตรวจคุณภาพงานทำความสะอาดอย่างน้อย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ครั้งต่อวัน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3600" indent="0">
              <a:spcBef>
                <a:spcPts val="499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•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th-TH" sz="2000" spc="-1" strike="noStrike">
                <a:solidFill>
                  <a:srgbClr val="cc0000"/>
                </a:solidFill>
                <a:latin typeface="Tahoma"/>
              </a:rPr>
              <a:t>การซ่อมบำรุงที่ดี คือการบำรุงรักษาเชิงป้องกันที่เหมาะสม ประกอบด้วย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360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ก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การบำรุงรักษาตามกำหนดเวลาอย่างสม่ำเสมอ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360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ข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การบำรุงรักษานอกกำหนดเวลาเมื่อมีความจำเป็น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360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ค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การตรวจคุณภาพงานบำรุงรักษาอย่างน้อยสัปดาห์ละ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ครั้ง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3600" indent="0">
              <a:spcBef>
                <a:spcPts val="499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•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th-TH" sz="2000" spc="-1" strike="noStrike">
                <a:solidFill>
                  <a:srgbClr val="cc0000"/>
                </a:solidFill>
                <a:latin typeface="Tahoma"/>
              </a:rPr>
              <a:t>การซ่อมแซมเครื่องจักรอุปกรณ์เมื่อจำเป็น ที่ดีมีคุณภาพ ดูจาก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360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ก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มีช่วงเวลาที่เครื่องจักรต้องหยุดทำงานเพราะเสียหรือขัดข้องน้อยที่สุด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360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ข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พนักงานซ่อมบำรุงตอบสนองคำขออย่างรวดเร็วทันเวลา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360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ค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งานซ่อมแซมมีคุณภาพ การเรียกช่างมาแก้ไขงานซ่อมที่ผิดพลาดมีน้อยครั้ง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7165800" y="655308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(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อ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3 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น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241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AB03-75CA-40DB-AE74-057F451F057A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42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324000" y="1700280"/>
          <a:ext cx="8569080" cy="4662360"/>
        </p:xfrm>
        <a:graphic>
          <a:graphicData uri="http://schemas.openxmlformats.org/drawingml/2006/table">
            <a:tbl>
              <a:tblPr/>
              <a:tblGrid>
                <a:gridCol w="3384360"/>
                <a:gridCol w="5184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เงื่อนไขที่ต้องการพิสูจน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ผนการทดสอบและเก็บหลักฐา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3520" indent="-263520">
                        <a:lnSpc>
                          <a:spcPct val="100000"/>
                        </a:lnSpc>
                        <a:tabLst>
                          <a:tab algn="l" pos="0"/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a) 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การปฏิบัติที่สม่ำเสมอตามตารางกำหนดเวลาการทำความสะอา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cc0000"/>
                          </a:solidFill>
                          <a:latin typeface="Tahoma"/>
                          <a:cs typeface="Tahoma"/>
                        </a:rPr>
                        <a:t>สังเกตการทำความสะอาดใน</a:t>
                      </a: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ahoma"/>
                          <a:ea typeface="Tahoma"/>
                        </a:rPr>
                        <a:t>1 </a:t>
                      </a:r>
                      <a:r>
                        <a:rPr b="0" lang="th-TH" sz="1800" spc="-1" strike="noStrike">
                          <a:solidFill>
                            <a:srgbClr val="cc0000"/>
                          </a:solidFill>
                          <a:latin typeface="Tahoma"/>
                          <a:cs typeface="Tahoma"/>
                        </a:rPr>
                        <a:t>วันว่าตารางการทำความสะอาดได้รับการปฏิบัติจริ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3520" indent="-263520">
                        <a:lnSpc>
                          <a:spcPct val="100000"/>
                        </a:lnSpc>
                        <a:tabLst>
                          <a:tab algn="l" pos="0"/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b) 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การทำความสะอาดนอกกำหนดเวลามีความรวดเร็วและละเอียดถี่ถ้วนด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cc0000"/>
                          </a:solidFill>
                          <a:latin typeface="Tahoma"/>
                          <a:cs typeface="Tahoma"/>
                        </a:rPr>
                        <a:t>สัมภาษณ์พนักงานโรงงานว่าการทำความสะอาดนอกกำหนดเวลาได้ปฏิบัติอย่างเพียงพอหรือไม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3520" indent="-263520">
                        <a:lnSpc>
                          <a:spcPct val="100000"/>
                        </a:lnSpc>
                        <a:tabLst>
                          <a:tab algn="l" pos="0"/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c) 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การตรวจคุณภาพงานทำความสะอาดรายวั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cc0000"/>
                          </a:solidFill>
                          <a:latin typeface="Tahoma"/>
                          <a:cs typeface="Tahoma"/>
                        </a:rPr>
                        <a:t>คอยดูระหว่างการตรวจสอบว่าพนักงานฝ่ายทำความสะอาดละเว้นไม่ตรวจคุณภาพงานหรือไม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3520" indent="-263520">
                        <a:lnSpc>
                          <a:spcPct val="100000"/>
                        </a:lnSpc>
                        <a:tabLst>
                          <a:tab algn="l" pos="0"/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d) 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การบำรุงรักษาเครื่องจักรตามตารางการบำรุงรักษาที่กำหนดอย่างสม่ำเสมอ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cc0000"/>
                          </a:solidFill>
                          <a:latin typeface="Tahoma"/>
                          <a:cs typeface="Tahoma"/>
                        </a:rPr>
                        <a:t>เนื่องจากพนักงานคุมเครื่องจักรไม่เอาใจใส่ต่อการบำรุงรักษาและเหตุเครื่องจักรหยุดทำงาน ผู้ตรวจสอบจึงเห็นว่า แม้จะมีตารางการบำรุงรักษากำหนดไว้ แต่ก็อาจจะไม่ได้ปฏิบัติตาม จึงไม่จำเป็นต้องทดสอ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3520" indent="-263520">
                        <a:lnSpc>
                          <a:spcPct val="100000"/>
                        </a:lnSpc>
                        <a:tabLst>
                          <a:tab algn="l" pos="0"/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e) 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การบำรุงรักษาเครื่องจักรนอกกำหนดเวลามีความรวดเร็วและละเอียดถี่ถ้วนด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cc0000"/>
                          </a:solidFill>
                          <a:latin typeface="Tahoma"/>
                          <a:cs typeface="Tahoma"/>
                        </a:rPr>
                        <a:t>ถามพนักงานคุมเครื่องจักรว่าเครื่องจักรไม่ได้รับการบำรุงรักษานอกกำหนดเวลาเพราะช่างซ่อมบำรุงไม่ได้ทำใช่หรือไม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0" y="643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95360" y="119700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ผู้ตรวจสอบได้วางแผนทดสอบตาม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ary Audit Argument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ดังนี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468360" y="333360"/>
            <a:ext cx="771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60400" indent="-285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ahoma"/>
                <a:cs typeface="Tahoma"/>
              </a:rPr>
              <a:t>กรณีศึกษาที่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49" name=""/>
          <p:cNvSpPr/>
          <p:nvPr/>
        </p:nvSpPr>
        <p:spPr>
          <a:xfrm>
            <a:off x="7165800" y="655308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(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อ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3 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น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241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F809-3A30-4D35-8C06-9D7A617507DF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42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24000" y="1125360"/>
          <a:ext cx="8569080" cy="4297320"/>
        </p:xfrm>
        <a:graphic>
          <a:graphicData uri="http://schemas.openxmlformats.org/drawingml/2006/table">
            <a:tbl>
              <a:tblPr/>
              <a:tblGrid>
                <a:gridCol w="3384360"/>
                <a:gridCol w="5184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เงื่อนไขที่ต้องการพิสูจน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ผนการทดสอบและเก็บหลักฐา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3520" indent="-263520">
                        <a:lnSpc>
                          <a:spcPct val="100000"/>
                        </a:lnSpc>
                        <a:tabLst>
                          <a:tab algn="l" pos="0"/>
                          <a:tab algn="l" pos="263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f) 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การตรวจคุณภาพงานบำรุงรักษารายสัปดาห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cc0000"/>
                          </a:solidFill>
                          <a:latin typeface="Tahoma"/>
                          <a:cs typeface="Tahoma"/>
                        </a:rPr>
                        <a:t>สอบถามหัวหน้าพนักงานฝ่ายทำความสะอาดโรงงานว่ามีการตรวจสอบคุณภาพทุกสัปดาห์หรือไม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3520" indent="-263520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g) 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มีช่วงเวลาที่เครื่องจักรต้องหยุดทำงานเพราะเสียหรือขัดข้องน้อยที่สุ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cc0000"/>
                          </a:solidFill>
                          <a:latin typeface="Tahoma"/>
                          <a:cs typeface="Tahoma"/>
                        </a:rPr>
                        <a:t>ทำตารางปริมาณการผลิตรวมรายวันเพื่อดูความถี่และความรุนแรงของการเสียหรือขัดข้องของเครื่องจัก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3520" indent="-263520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h) 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พนักงานซ่อมบำรุงตอบสนองคำขออย่างรวดเร็วทันเวล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cc0000"/>
                          </a:solidFill>
                          <a:latin typeface="Tahoma"/>
                          <a:cs typeface="Tahoma"/>
                        </a:rPr>
                        <a:t>วิเคราะห์บันทึกการซ่อมแซมเพื่อเปรียบเทียบเวลาตั้งแต่ได้รับคำขอจนกระทั่งพนักงานซ่อมบำรุงถูกส่งไปแก้ปัญห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3520" indent="-263520">
                        <a:lnSpc>
                          <a:spcPct val="100000"/>
                        </a:lnSpc>
                        <a:tabLst>
                          <a:tab algn="l" pos="0"/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i) 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งานซ่อมแซมมีคุณภาพ การเรียกช่างมาแก้ไขงานซ่อมที่ผิดพลาดมีน้อยครั้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cc0000"/>
                          </a:solidFill>
                          <a:latin typeface="Tahoma"/>
                          <a:cs typeface="Tahoma"/>
                        </a:rPr>
                        <a:t>การเรียกช่างมาแก้ไขงานซ่อมที่ผิดพลาดจะระบุอยู่ในใบคำขอซ่อมบำรุง  ระบุการร้องขอซ้ำในใบคำขอซ่อมบำรุงทั้งหมดในช่วง</a:t>
                      </a: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ahoma"/>
                          <a:ea typeface="Tahoma"/>
                        </a:rPr>
                        <a:t>3 </a:t>
                      </a:r>
                      <a:r>
                        <a:rPr b="0" lang="th-TH" sz="1800" spc="-1" strike="noStrike">
                          <a:solidFill>
                            <a:srgbClr val="cc0000"/>
                          </a:solidFill>
                          <a:latin typeface="Tahoma"/>
                          <a:cs typeface="Tahoma"/>
                        </a:rPr>
                        <a:t>เดือนที่ผ่านมา และพิจารณาสาเหตุว่าเกิดจากการเลือกใช้ชิ้นส่วนอะไหล่ผิดพลาด หรือเกิดจากการติดตั้งที่ไม่ได้มาตรฐา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"/>
          <p:cNvSpPr/>
          <p:nvPr/>
        </p:nvSpPr>
        <p:spPr>
          <a:xfrm>
            <a:off x="0" y="643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53" name=""/>
          <p:cNvSpPr/>
          <p:nvPr/>
        </p:nvSpPr>
        <p:spPr>
          <a:xfrm>
            <a:off x="468360" y="333360"/>
            <a:ext cx="771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60400" indent="-285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ahoma"/>
                <a:cs typeface="Tahoma"/>
              </a:rPr>
              <a:t>กรณีศึกษาที่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522360" y="5662440"/>
            <a:ext cx="815328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แผนการทดสอบที่กำหนด เหมาะสมและเพียงพอหรือไม่  ถ้าไม่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จงให้เหตุผลและข้อเสนอแนะที่จำเป็นเพื่อปรับปรุงแผนการทดสอบให้ดีขึ้น 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นาที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7165800" y="655308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(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อ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3 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น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241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502A-39DA-41DF-B142-5141AACC5267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42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324000" y="1327320"/>
          <a:ext cx="8569080" cy="4189320"/>
        </p:xfrm>
        <a:graphic>
          <a:graphicData uri="http://schemas.openxmlformats.org/drawingml/2006/table">
            <a:tbl>
              <a:tblPr/>
              <a:tblGrid>
                <a:gridCol w="3168360"/>
                <a:gridCol w="5400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เงื่อนไขที่ต้องการพิสูจน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ผนการทดสอบและเก็บหลักฐา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) 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ปฏิบัติที่สม่ำเสมอตามตารางกำหนดเวลาการทำความสะอา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เดิม </a:t>
                      </a: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ahoma"/>
                          <a:ea typeface="Tahoma"/>
                        </a:rPr>
                        <a:t>“</a:t>
                      </a:r>
                      <a:r>
                        <a:rPr b="0" lang="th-TH" sz="1800" spc="-1" strike="noStrike">
                          <a:solidFill>
                            <a:srgbClr val="cc0000"/>
                          </a:solidFill>
                          <a:latin typeface="Tahoma"/>
                          <a:cs typeface="Tahoma"/>
                        </a:rPr>
                        <a:t>สังเกตการทำความสะอาดใน </a:t>
                      </a: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0" lang="th-TH" sz="1800" spc="-1" strike="noStrike">
                          <a:solidFill>
                            <a:srgbClr val="cc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th-TH" sz="1800" spc="-1" strike="noStrike">
                          <a:solidFill>
                            <a:srgbClr val="cc0000"/>
                          </a:solidFill>
                          <a:latin typeface="Tahoma"/>
                          <a:cs typeface="Tahoma"/>
                        </a:rPr>
                        <a:t>วันว่าตารางการทำความสะอาดได้รับการปฏิบัติจริง</a:t>
                      </a: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ahoma"/>
                          <a:ea typeface="Tahoma"/>
                        </a:rPr>
                        <a:t>”</a:t>
                      </a: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ff5050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ดูเพียงวันเดียว แล้วเหมาเอาว่า ทั้งหมดได้รับการปฏิบัติอย่างสม่ำเสมอ เป็น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  <a:ea typeface="Tahoma"/>
                        </a:rPr>
                        <a:t>Fallacy of Hasty General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แก้ไ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lvl="1" marL="711360" indent="-254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ก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) 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จะต้องมีตารางกำหนดเวลาการทำความสะอาดที่สม่ำเสม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lvl="1" marL="711360" indent="-254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ข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) 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ตารางการทำความสะอาดจะต้องถูกออกแบบมาอย่างด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lvl="1" marL="711360" indent="-254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ค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) 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จะต้องมีการปฏิบัติจริงตามตารางดังกล่า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"/>
          <p:cNvSpPr/>
          <p:nvPr/>
        </p:nvSpPr>
        <p:spPr>
          <a:xfrm>
            <a:off x="0" y="643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59" name=""/>
          <p:cNvSpPr/>
          <p:nvPr/>
        </p:nvSpPr>
        <p:spPr>
          <a:xfrm>
            <a:off x="468360" y="333360"/>
            <a:ext cx="771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748440" indent="-24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84120"/>
                <a:tab algn="r" pos="7273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ahoma"/>
                <a:cs typeface="Tahoma"/>
              </a:rPr>
              <a:t>กรณีศึกษาที่ </a:t>
            </a:r>
            <a:r>
              <a:rPr b="1" lang="th-TH" sz="32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cs typeface="Tahoma"/>
              </a:rPr>
              <a:t>เฉลย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  <a:ea typeface="Tahoma"/>
              </a:rPr>
              <a:t>Audit Program</a:t>
            </a:r>
            <a:endParaRPr b="0" lang="en-US" sz="20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60" name=""/>
          <p:cNvSpPr/>
          <p:nvPr/>
        </p:nvSpPr>
        <p:spPr>
          <a:xfrm>
            <a:off x="7165800" y="655308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(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อ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3 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น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241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48C0-59F0-46CF-83EC-A60603AEFAF3}" type="slidenum">
              <a:t>3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42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324000" y="1327320"/>
          <a:ext cx="8569080" cy="4981320"/>
        </p:xfrm>
        <a:graphic>
          <a:graphicData uri="http://schemas.openxmlformats.org/drawingml/2006/table">
            <a:tbl>
              <a:tblPr/>
              <a:tblGrid>
                <a:gridCol w="3168360"/>
                <a:gridCol w="5400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เงื่อนไขที่ต้องการพิสูจน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ผนการทดสอบและเก็บหลักฐา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) 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ทำความสะอาดนอกกำหนดเวลามีความรวดเร็วและละเอียดถี่ถ้วนด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เดิม</a:t>
                      </a:r>
                      <a:r>
                        <a:rPr b="0" lang="th-TH" sz="1800" spc="-1" strike="noStrike">
                          <a:solidFill>
                            <a:srgbClr val="ff505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ahoma"/>
                          <a:ea typeface="Tahoma"/>
                        </a:rPr>
                        <a:t>“</a:t>
                      </a:r>
                      <a:r>
                        <a:rPr b="0" lang="th-TH" sz="1800" spc="-1" strike="noStrike">
                          <a:solidFill>
                            <a:srgbClr val="cc0000"/>
                          </a:solidFill>
                          <a:latin typeface="Tahoma"/>
                          <a:cs typeface="Tahoma"/>
                        </a:rPr>
                        <a:t>สัมภาษณ์พนักงานโรงงานว่าการทำความสะอาดนอกกำหนดเวลาได้ปฏิบัติอย่างเพียงพอหรือไม่</a:t>
                      </a: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ahoma"/>
                          <a:ea typeface="Tahoma"/>
                        </a:rPr>
                        <a:t>”</a:t>
                      </a: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ff5050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ถามผิดคน ไม่แน่ว่าพนักงานทุกคนจะอยู่ในฐานะที่จะทราบข้อเท็จจริง เป็น 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  <a:ea typeface="Tahoma"/>
                        </a:rPr>
                        <a:t>Fallacy of Inappropriate Authority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ละความเห็นของพนักงานส่วนใหญ่อาจผิดได้ การอ้างคนส่วนมากโดยขาดหลักฐาน เป็น</a:t>
                      </a:r>
                      <a:r>
                        <a:rPr b="0" lang="th-TH" sz="1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  <a:ea typeface="Tahoma"/>
                        </a:rPr>
                        <a:t>Fallacy of Popular Belie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แก้ไ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สัมภาษณ์ผู้รับบริการว่าการทำความสะอาดนอกกำหนดเวล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lvl="1" marL="711360" indent="-254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ก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) 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ปฏิบัติอย่างเพียงพอ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lvl="1" marL="711360" indent="-254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ข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) 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ความรวดเร็วและความละเอียดถี่ถ้วนของการทำความสะอาด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lvl="1" marL="711360" indent="-254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ค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) 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หลักเกณฑ์ที่ผู้รับบริการใช้ในการประเมิ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3" name=""/>
          <p:cNvSpPr/>
          <p:nvPr/>
        </p:nvSpPr>
        <p:spPr>
          <a:xfrm>
            <a:off x="0" y="643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64" name=""/>
          <p:cNvSpPr/>
          <p:nvPr/>
        </p:nvSpPr>
        <p:spPr>
          <a:xfrm>
            <a:off x="468360" y="333360"/>
            <a:ext cx="771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748440" indent="-24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84120"/>
                <a:tab algn="r" pos="7273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ahoma"/>
                <a:cs typeface="Tahoma"/>
              </a:rPr>
              <a:t>กรณีศึกษาที่ </a:t>
            </a:r>
            <a:r>
              <a:rPr b="1" lang="th-TH" sz="32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cs typeface="Tahoma"/>
              </a:rPr>
              <a:t>เฉลย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  <a:ea typeface="Tahoma"/>
              </a:rPr>
              <a:t>Audit Program</a:t>
            </a:r>
            <a:endParaRPr b="0" lang="en-US" sz="20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65" name=""/>
          <p:cNvSpPr/>
          <p:nvPr/>
        </p:nvSpPr>
        <p:spPr>
          <a:xfrm>
            <a:off x="7165800" y="655308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(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อ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3 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น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241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70B4-E76E-4333-B615-ADB97275DAB3}" type="slidenum">
              <a:t>3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42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324000" y="1336680"/>
          <a:ext cx="8569080" cy="4971960"/>
        </p:xfrm>
        <a:graphic>
          <a:graphicData uri="http://schemas.openxmlformats.org/drawingml/2006/table">
            <a:tbl>
              <a:tblPr/>
              <a:tblGrid>
                <a:gridCol w="3168360"/>
                <a:gridCol w="5400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เงื่อนไขที่ต้องการพิสูจน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ผนการทดสอบและเก็บหลักฐา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) 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ตรวจคุณภาพงานทำความสะอาดรายวั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เดิม</a:t>
                      </a:r>
                      <a:r>
                        <a:rPr b="0" lang="th-TH" sz="1800" spc="-1" strike="noStrike">
                          <a:solidFill>
                            <a:srgbClr val="ff505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ahoma"/>
                          <a:ea typeface="Tahoma"/>
                        </a:rPr>
                        <a:t>“</a:t>
                      </a:r>
                      <a:r>
                        <a:rPr b="0" lang="th-TH" sz="1800" spc="-1" strike="noStrike">
                          <a:solidFill>
                            <a:srgbClr val="cc0000"/>
                          </a:solidFill>
                          <a:latin typeface="Tahoma"/>
                          <a:cs typeface="Tahoma"/>
                        </a:rPr>
                        <a:t>คอยดูระหว่างการตรวจสอบว่าพนักงานฝ่ายทำความสะอาดละเว้นไม่ตรวจคุณภาพงานหรือไม่</a:t>
                      </a: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ahoma"/>
                          <a:ea typeface="Tahoma"/>
                        </a:rPr>
                        <a:t>”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ด่วนสรุปโดยละเลยไม่สอบทานอย่างเป็นระบบ แต่ใช้วิธ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  <a:ea typeface="Tahoma"/>
                        </a:rPr>
                        <a:t>Negative Assuranc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ทน คือถ้าไม่เห็นการละเว้นก็จะสรุปว่ามี เป็น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  <a:ea typeface="Tahoma"/>
                        </a:rPr>
                        <a:t>Fallacy of Ignoranc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แก้ไ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lvl="1" marL="711360" indent="-254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ก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) 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สอบทานความมีอยู่จริงและความเพียงพอของ </a:t>
                      </a: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checklis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lvl="1" marL="711360" indent="-254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ข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) 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ตรวจตรา </a:t>
                      </a: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checklist 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ย้อนหลัง </a:t>
                      </a: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เดือนว่าได้รับการกรอกเรียบร้อย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lvl="1" marL="711360" indent="-254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ค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) 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สังเกตการณ์การตรวจคุณภาพงานทำความสะอาดรายวันอย่างน้อยหนึ่งครั้ง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lvl="1" marL="711360" indent="-254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ง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) 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สอบถามผู้บริหารโรงงานและผู้บริหารฝ่ายทำความสะอาดเกี่ยวกับความเพียงพอของการตรวจคุณภาพงานทำความสะอาดรายวั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"/>
          <p:cNvSpPr/>
          <p:nvPr/>
        </p:nvSpPr>
        <p:spPr>
          <a:xfrm>
            <a:off x="0" y="643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69" name=""/>
          <p:cNvSpPr/>
          <p:nvPr/>
        </p:nvSpPr>
        <p:spPr>
          <a:xfrm>
            <a:off x="468360" y="333360"/>
            <a:ext cx="771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748440" indent="-24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84120"/>
                <a:tab algn="r" pos="7273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ahoma"/>
                <a:cs typeface="Tahoma"/>
              </a:rPr>
              <a:t>กรณีศึกษาที่ </a:t>
            </a:r>
            <a:r>
              <a:rPr b="1" lang="th-TH" sz="32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cs typeface="Tahoma"/>
              </a:rPr>
              <a:t>เฉลย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  <a:ea typeface="Tahoma"/>
              </a:rPr>
              <a:t>Audit Program</a:t>
            </a:r>
            <a:endParaRPr b="0" lang="en-US" sz="20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70" name=""/>
          <p:cNvSpPr/>
          <p:nvPr/>
        </p:nvSpPr>
        <p:spPr>
          <a:xfrm>
            <a:off x="7165800" y="655308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(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อ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3 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น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241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BD77-D660-4A54-AD35-74B6DBA70F44}" type="slidenum">
              <a:t>3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42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24000" y="1336680"/>
          <a:ext cx="8569080" cy="4998960"/>
        </p:xfrm>
        <a:graphic>
          <a:graphicData uri="http://schemas.openxmlformats.org/drawingml/2006/table">
            <a:tbl>
              <a:tblPr/>
              <a:tblGrid>
                <a:gridCol w="3168360"/>
                <a:gridCol w="5400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เงื่อนไขที่ต้องการพิสูจน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ผนการทดสอบและเก็บหลักฐา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9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) 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บำรุงรักษาเครื่องจักรตามตารางการบำรุงรักษาที่กำหนดอย่างสม่ำเสมอ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เดิม </a:t>
                      </a: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ahoma"/>
                          <a:ea typeface="Tahoma"/>
                        </a:rPr>
                        <a:t>“</a:t>
                      </a:r>
                      <a:r>
                        <a:rPr b="0" lang="th-TH" sz="1800" spc="-1" strike="noStrike">
                          <a:solidFill>
                            <a:srgbClr val="cc0000"/>
                          </a:solidFill>
                          <a:latin typeface="Tahoma"/>
                          <a:cs typeface="Tahoma"/>
                        </a:rPr>
                        <a:t>เนื่องจากพนักงานคุมเครื่องจักรไม่เอาใจใส่ต่อการบำรุงรักษาและเหตุเครื่องจักรหยุดทำงาน ผู้ตรวจสอบจึงเห็นว่า แม้จะมีตารางการบำรุงรักษากำหนดไว้ แต่ก็อาจจะไม่ได้ปฏิบัติตาม จึงไม่จำเป็นต้องทดสอบ</a:t>
                      </a: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ahoma"/>
                          <a:ea typeface="Tahoma"/>
                        </a:rPr>
                        <a:t>”</a:t>
                      </a: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ff5050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ผู้ตรวจสอบมีอคติต่อผู้รับการตรวจ จึงละเลยไม่สอบทานอย่างเป็นระบบ เป็นการแย้งที่ตัวบุคคล หรือ 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  <a:ea typeface="Tahoma"/>
                        </a:rPr>
                        <a:t>Fallacy of an Appeal against the Person</a:t>
                      </a:r>
                      <a:r>
                        <a:rPr b="0" lang="th-TH" sz="1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  <a:ea typeface="Tahoma"/>
                        </a:rPr>
                        <a:t>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  <a:ea typeface="Tahoma"/>
                        </a:rPr>
                        <a:t>s</a:t>
                      </a:r>
                      <a:r>
                        <a:rPr b="0" lang="th-TH" sz="1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  <a:ea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แก้ไข เหมือน </a:t>
                      </a: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) 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บำรุงรักษาเครื่องจักรนอกกำหนดเวลามีความรวดเร็วและละเอียดถี่ถ้วนด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เดิม</a:t>
                      </a:r>
                      <a:r>
                        <a:rPr b="0" lang="th-TH" sz="1800" spc="-1" strike="noStrike">
                          <a:solidFill>
                            <a:srgbClr val="ff505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ahoma"/>
                          <a:ea typeface="Tahoma"/>
                        </a:rPr>
                        <a:t>“</a:t>
                      </a:r>
                      <a:r>
                        <a:rPr b="0" lang="th-TH" sz="1800" spc="-1" strike="noStrike">
                          <a:solidFill>
                            <a:srgbClr val="cc0000"/>
                          </a:solidFill>
                          <a:latin typeface="Tahoma"/>
                          <a:cs typeface="Tahoma"/>
                        </a:rPr>
                        <a:t>ถามพนักงานคุมเครื่องจักรว่าเครื่องจักรไม่ได้รับการบำรุงรักษานอกกำหนดเวลาเพราะช่างซ่อมบำรุงไม่ได้ทำใช่หรือไม่</a:t>
                      </a: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ahoma"/>
                          <a:ea typeface="Tahoma"/>
                        </a:rPr>
                        <a:t>”</a:t>
                      </a: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Tahoma"/>
                          <a:ea typeface="Tahoma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ff5050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ถามโดยทึกทักเอาเองว่าไม่มีการบำรุงรักษาถือเป็นการถามนำหรือ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  <a:ea typeface="Tahoma"/>
                        </a:rPr>
                        <a:t>Loaded Ques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แก้ไข เหมือน </a:t>
                      </a: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"/>
          <p:cNvSpPr/>
          <p:nvPr/>
        </p:nvSpPr>
        <p:spPr>
          <a:xfrm>
            <a:off x="0" y="643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74" name=""/>
          <p:cNvSpPr/>
          <p:nvPr/>
        </p:nvSpPr>
        <p:spPr>
          <a:xfrm>
            <a:off x="468360" y="333360"/>
            <a:ext cx="771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748440" indent="-24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84120"/>
                <a:tab algn="r" pos="7273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ahoma"/>
                <a:cs typeface="Tahoma"/>
              </a:rPr>
              <a:t>กรณีศึกษาที่ </a:t>
            </a:r>
            <a:r>
              <a:rPr b="1" lang="th-TH" sz="32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cs typeface="Tahoma"/>
              </a:rPr>
              <a:t>เฉลย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  <a:ea typeface="Tahoma"/>
              </a:rPr>
              <a:t>Audit Program</a:t>
            </a:r>
            <a:endParaRPr b="0" lang="en-US" sz="20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75" name=""/>
          <p:cNvSpPr/>
          <p:nvPr/>
        </p:nvSpPr>
        <p:spPr>
          <a:xfrm>
            <a:off x="7165800" y="655308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(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อ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3 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น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241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4174-8D92-44D5-BBB8-489B27FA1738}" type="slidenum">
              <a:t>3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81080" y="766440"/>
            <a:ext cx="8928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318600" indent="0">
              <a:spcBef>
                <a:spcPts val="451"/>
              </a:spcBef>
              <a:buNone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60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3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ผู้ตรวจสอบได้รับมอบหมายให้วิเคราะห์ความมีประสิทธิผล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analyze effectiveness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ของโครงการฟื้นฟู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rehabilitation programs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จำนวนหนึ่ง ซึ่งได้ดำเนินการมาถึงสิบปีโดยไม่เคยมีการประเมินผล  หน่วยงานซึ่งเป็นผู้ให้ข้อมูลแก่ผู้ตรวจสอบแจ้งว่าข้อมูลที่ให้มาไม่สมบูรณ์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incomplete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ผู้ตรวจสอบควร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Part I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...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ข้อ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90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.]  ..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2584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ทำการวิเคราะห์ต่อไป โดยประเมินผลกระทบจากความไม่สมบูรณ์ของข้อมูลด้วย และไม่ให้คำรับรองยืนยันใดๆ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claim any assertion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เกี่ยวกับความเชื่อถือได้ของข้อมูล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2584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ตามรอย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รายการที่สุ่มเลือกมา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ndomly chosen records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ไปยังแฟ้มข้อมูลต้นทาง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files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เพื่อประเมินความถูกต้องและครบถ้วนสมบูรณ์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completeness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ของข้อมูลที่ได้รับ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2584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งดทำการวิเคราะห์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perform the analysis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2584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เลื่อนการวิเคราะห์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pone the analysis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ออกไปจนกว่าข้อมูลจะสมบูรณ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25840" indent="0">
              <a:spcBef>
                <a:spcPts val="675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*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ตอบ ข้อ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)</a:t>
            </a:r>
            <a:r>
              <a:rPr b="0" lang="th-TH" sz="1800" spc="-1" strike="noStrike">
                <a:solidFill>
                  <a:srgbClr val="ff505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โครงการซึ่งดำเนินมาสิบปีจำเป็นต้องได้รับการประเมิน บ่อยครั้งที่ผู้ตรวจสอบต้องทำงานกับข้อมูลที่ไม่สมบูรณ์ จึงไม่ควรงดหรือเลื่อนการวิเคราะห์ด้วยสาเหตุนี้  การประเมินผลกระทบจากความไม่สมบูรณ์ของข้อมูลที่มีต่อการวิเคราะห์ และกล่าวถึงข้อจำกัดเรื่องความเชื่อถือได้ของข้อมูลไว้ในรายงาน จะทำให้ผู้อ่านยังคงได้รับประโยชน์จากรายงานการวิเคราะห์ประสิทธิผลของโครงการ โดยไม่เข้าใจผิดว่าผู้ตรวจสอบทำงานบนข้อมูลที่ครบถ้วนสมบูรณ์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เป็นขั้นตอนที่ไม่จำเป็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333360"/>
            <a:ext cx="771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60400" indent="-285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Pre-Test</a:t>
            </a:r>
            <a:endParaRPr b="0" lang="en-US" sz="32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ADB1-B26F-4FDB-8F4F-7F001499505E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indefinite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42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324000" y="1306440"/>
          <a:ext cx="8569080" cy="4025880"/>
        </p:xfrm>
        <a:graphic>
          <a:graphicData uri="http://schemas.openxmlformats.org/drawingml/2006/table">
            <a:tbl>
              <a:tblPr/>
              <a:tblGrid>
                <a:gridCol w="3168360"/>
                <a:gridCol w="5400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เงื่อนไขที่ต้องการพิสูจน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ผนการทดสอบและเก็บหลักฐา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) 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ตรวจคุณภาพงานบำรุงรักษารายสัปดาห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เดิม</a:t>
                      </a:r>
                      <a:r>
                        <a:rPr b="0" lang="th-TH" sz="1800" spc="-1" strike="noStrike">
                          <a:solidFill>
                            <a:srgbClr val="ff505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ahoma"/>
                          <a:ea typeface="Tahoma"/>
                        </a:rPr>
                        <a:t>“</a:t>
                      </a:r>
                      <a:r>
                        <a:rPr b="0" lang="th-TH" sz="1800" spc="-1" strike="noStrike">
                          <a:solidFill>
                            <a:srgbClr val="cc0000"/>
                          </a:solidFill>
                          <a:latin typeface="Tahoma"/>
                          <a:cs typeface="Tahoma"/>
                        </a:rPr>
                        <a:t>สอบถามหัวหน้าพนักงานฝ่ายทำความสะอาดโรงงานว่ามีการตรวจสอบคุณภาพทุกสัปดาห์หรือไม่</a:t>
                      </a: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ahoma"/>
                          <a:ea typeface="Tahoma"/>
                        </a:rPr>
                        <a:t>”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ff5050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ถามผิดคน น่าจะถามผู้ที่เหมาะสมกว่านี้ เป็น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  <a:ea typeface="Tahoma"/>
                        </a:rPr>
                        <a:t>Fallacy of Inappropriate Autho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แก้ไ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เหมือน </a:t>
                      </a: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c)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เว้นแต่การเก็บหลักฐานควรเป็นรายสัปดาห์แทนที่จะเป็นรายวัน และควรสัมภาษณ์ฝ่ายบริหารโรงงาน ผู้ใช้เครื่องจักร และพนักงานซ่อมบำรุงเครื่องจักร แทนการสัมภาษณ์หัวหน้าพนักงานฝ่ายทำความสะอา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"/>
          <p:cNvSpPr/>
          <p:nvPr/>
        </p:nvSpPr>
        <p:spPr>
          <a:xfrm>
            <a:off x="0" y="643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79" name=""/>
          <p:cNvSpPr/>
          <p:nvPr/>
        </p:nvSpPr>
        <p:spPr>
          <a:xfrm>
            <a:off x="468360" y="333360"/>
            <a:ext cx="771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748440" indent="-24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84120"/>
                <a:tab algn="r" pos="7273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ahoma"/>
                <a:cs typeface="Tahoma"/>
              </a:rPr>
              <a:t>กรณีศึกษาที่ </a:t>
            </a:r>
            <a:r>
              <a:rPr b="1" lang="th-TH" sz="32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cs typeface="Tahoma"/>
              </a:rPr>
              <a:t>เฉลย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  <a:ea typeface="Tahoma"/>
              </a:rPr>
              <a:t>Audit Program</a:t>
            </a:r>
            <a:endParaRPr b="0" lang="en-US" sz="20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80" name=""/>
          <p:cNvSpPr/>
          <p:nvPr/>
        </p:nvSpPr>
        <p:spPr>
          <a:xfrm>
            <a:off x="7165800" y="655308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(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อ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3 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น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241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20F0-37D5-4BFB-AE8A-26A0A55D7022}" type="slidenum">
              <a:t>4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42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324000" y="1268280"/>
          <a:ext cx="8569080" cy="5040360"/>
        </p:xfrm>
        <a:graphic>
          <a:graphicData uri="http://schemas.openxmlformats.org/drawingml/2006/table">
            <a:tbl>
              <a:tblPr/>
              <a:tblGrid>
                <a:gridCol w="3168360"/>
                <a:gridCol w="5400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เงื่อนไขที่ต้องการพิสูจน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ผนการทดสอบและเก็บหลักฐา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2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) 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มีช่วงเวลาที่เครื่องจักรต้องหยุดทำงานเพราะเสียหรือขัดข้องน้อยที่สุ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เดิม </a:t>
                      </a: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ahoma"/>
                          <a:ea typeface="Tahoma"/>
                        </a:rPr>
                        <a:t>“</a:t>
                      </a:r>
                      <a:r>
                        <a:rPr b="0" lang="th-TH" sz="1800" spc="-1" strike="noStrike">
                          <a:solidFill>
                            <a:srgbClr val="cc0000"/>
                          </a:solidFill>
                          <a:latin typeface="Tahoma"/>
                          <a:cs typeface="Tahoma"/>
                        </a:rPr>
                        <a:t>ทำตารางปริมาณการผลิตรวมรายวันเพื่อดูความถี่และความรุนแรงของการเสียหรือขัดข้องของเครื่องจักร</a:t>
                      </a: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ahoma"/>
                          <a:ea typeface="Tahoma"/>
                        </a:rPr>
                        <a:t>”</a:t>
                      </a: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Tahoma"/>
                          <a:ea typeface="Tahoma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ff5050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ผลิตที่ลดลงอาจมาจากสาเหตุอื่นอีก การทึกทักว่ามาจากเครื่องจักรเสียเพียงสาเหตุเดียวเป็น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  <a:ea typeface="Tahoma"/>
                        </a:rPr>
                        <a:t>Fallacy of False Caus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แก้ไ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ก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) 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สัมภาษณ์ฝ่ายบริหารโรงงาน ผู้ควบคุมเครื่องจักร และพนักงานซ่อมบำรุง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ข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) 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ตรวจตารางบันทึกการผลิตของโรงงาน ดูข้อมูลรายละเอียดการผลิตในแต่ละวันและเวลา เพื่อค้นหาการหยุดเดินเครื่องเพื่อบำรุงรักษาตามกำหนดเวลาและนอกกำหนดเวล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ค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) 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ตรวจใบคำขอซ่อมบำรุงและตารางบันทึกการซ่อมบำรุง ดูรายละเอียดระยะเวลา ความถี่ สถานที่ สาเหตุ และผลลัพธ์ของการเสียของเครื่องจัก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"/>
          <p:cNvSpPr/>
          <p:nvPr/>
        </p:nvSpPr>
        <p:spPr>
          <a:xfrm>
            <a:off x="468360" y="333360"/>
            <a:ext cx="771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748440" indent="-24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84120"/>
                <a:tab algn="r" pos="7273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ahoma"/>
                <a:cs typeface="Tahoma"/>
              </a:rPr>
              <a:t>กรณีศึกษาที่ </a:t>
            </a:r>
            <a:r>
              <a:rPr b="1" lang="th-TH" sz="32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cs typeface="Tahoma"/>
              </a:rPr>
              <a:t>เฉลย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  <a:ea typeface="Tahoma"/>
              </a:rPr>
              <a:t>Audit Program</a:t>
            </a:r>
            <a:endParaRPr b="0" lang="en-US" sz="20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84" name=""/>
          <p:cNvSpPr/>
          <p:nvPr/>
        </p:nvSpPr>
        <p:spPr>
          <a:xfrm>
            <a:off x="7165800" y="655308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(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อ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3 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น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241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E31B-FAE3-419A-8648-062D996C31B0}" type="slidenum">
              <a:t>4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42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324000" y="1433520"/>
          <a:ext cx="8569080" cy="2103480"/>
        </p:xfrm>
        <a:graphic>
          <a:graphicData uri="http://schemas.openxmlformats.org/drawingml/2006/table">
            <a:tbl>
              <a:tblPr/>
              <a:tblGrid>
                <a:gridCol w="3168360"/>
                <a:gridCol w="5400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เงื่อนไขที่ต้องการพิสูจน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ผนการทดสอบและเก็บหลักฐา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h) 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พนักงานซ่อมบำรุงตอบสนองคำขออย่างรวดเร็วทันเวล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เดิม</a:t>
                      </a:r>
                      <a:r>
                        <a:rPr b="0" lang="th-TH" sz="1800" spc="-1" strike="noStrike">
                          <a:solidFill>
                            <a:srgbClr val="ff505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ahoma"/>
                          <a:ea typeface="Tahoma"/>
                        </a:rPr>
                        <a:t>“</a:t>
                      </a:r>
                      <a:r>
                        <a:rPr b="0" lang="th-TH" sz="1800" spc="-1" strike="noStrike">
                          <a:solidFill>
                            <a:srgbClr val="cc0000"/>
                          </a:solidFill>
                          <a:latin typeface="Tahoma"/>
                          <a:cs typeface="Tahoma"/>
                        </a:rPr>
                        <a:t>วิเคราะห์บันทึกการซ่อมแซมเพื่อเปรียบเทียบเวลาตั้งแต่ได้รับคำขอจนกระทั่งพนักงานซ่อมบำรุงถูกส่งไปแก้ปัญหา</a:t>
                      </a: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ahoma"/>
                          <a:ea typeface="Tahoma"/>
                        </a:rPr>
                        <a:t>”</a:t>
                      </a:r>
                      <a:r>
                        <a:rPr b="0" lang="th-TH" sz="1800" spc="-1" strike="noStrike">
                          <a:solidFill>
                            <a:srgbClr val="cc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ไม่มีปัญหา ถ้าบันทึกการซ่อมแซมถูกต้องและเป็นปัจจุบั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>
            <a:off x="468360" y="333360"/>
            <a:ext cx="771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748440" indent="-24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84120"/>
                <a:tab algn="r" pos="7273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ahoma"/>
                <a:cs typeface="Tahoma"/>
              </a:rPr>
              <a:t>กรณีศึกษาที่ </a:t>
            </a:r>
            <a:r>
              <a:rPr b="1" lang="th-TH" sz="32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cs typeface="Tahoma"/>
              </a:rPr>
              <a:t>เฉลย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  <a:ea typeface="Tahoma"/>
              </a:rPr>
              <a:t>Audit Program</a:t>
            </a:r>
            <a:endParaRPr b="0" lang="en-US" sz="20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655308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(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อ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3 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น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241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1F45-445A-4F8F-9AA0-4CD0C09983BD}" type="slidenum">
              <a:t>4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42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24000" y="189000"/>
          <a:ext cx="8569080" cy="6222960"/>
        </p:xfrm>
        <a:graphic>
          <a:graphicData uri="http://schemas.openxmlformats.org/drawingml/2006/table">
            <a:tbl>
              <a:tblPr/>
              <a:tblGrid>
                <a:gridCol w="2952720"/>
                <a:gridCol w="5616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เงื่อนไขที่ต้องการพิสูจน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ผนการทดสอบและเก็บหลักฐา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) 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งานซ่อมแซมมีคุณภาพ การเรียกช่างมาแก้ไขงานซ่อมที่ผิดพลาดมีน้อยครั้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เดิม</a:t>
                      </a:r>
                      <a:r>
                        <a:rPr b="0" lang="th-TH" sz="1800" spc="-1" strike="noStrike">
                          <a:solidFill>
                            <a:srgbClr val="ff505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ahoma"/>
                          <a:ea typeface="Tahoma"/>
                        </a:rPr>
                        <a:t>“</a:t>
                      </a:r>
                      <a:r>
                        <a:rPr b="0" lang="th-TH" sz="1800" spc="-1" strike="noStrike">
                          <a:solidFill>
                            <a:srgbClr val="cc0000"/>
                          </a:solidFill>
                          <a:latin typeface="Tahoma"/>
                          <a:cs typeface="Tahoma"/>
                        </a:rPr>
                        <a:t>การเรียกช่างมาแก้ไขงานซ่อมที่ผิดพลาดจะระบุอยู่ในใบคำขอซ่อมบำรุง  ระบุการร้องขอซ้ำในใบคำขอซ่อมบำรุงทั้งหมดในช่วง </a:t>
                      </a: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0" lang="th-TH" sz="1800" spc="-1" strike="noStrike">
                          <a:solidFill>
                            <a:srgbClr val="cc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th-TH" sz="1800" spc="-1" strike="noStrike">
                          <a:solidFill>
                            <a:srgbClr val="cc0000"/>
                          </a:solidFill>
                          <a:latin typeface="Tahoma"/>
                          <a:cs typeface="Tahoma"/>
                        </a:rPr>
                        <a:t>เดือนที่ผ่านมา และพิจารณาสาเหตุว่าเกิดจากการเลือกใช้ชิ้นส่วนอะไหล่ผิดพลาด หรือเกิดจากการติดตั้งที่ไม่ได้มาตรฐาน</a:t>
                      </a: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ahoma"/>
                          <a:ea typeface="Tahoma"/>
                        </a:rPr>
                        <a:t>”</a:t>
                      </a: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Tahoma"/>
                          <a:ea typeface="Tahoma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หลักฐานที่เก็บอาจเพียงพอที่จะระบุความถี่ของการร้องขอซ้ำ 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allback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) 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ต่สาเหตุไม่จำเป็นต้องเกิดจากการเลือกใช้ชิ้นส่วนอะไหล่ผิดพลาด หรือเกิดจากการติดตั้งที่ไม่ได้มาตรฐานเท่านั้น แต่อาจเกิดจากเหตุผลอื่น เช่น การปรับเครื่องจักร การ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Upgrade 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เครื่อง หรือการเสียของชิ้นส่วนอื่นที่เกี่ยวข้อง ได้เช่นกัน การปิดตัวเลือกว่ามีเพียงสองสาเหตุนี้เท่านั้นถือเป็น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  <a:ea typeface="Tahoma"/>
                        </a:rPr>
                        <a:t>False Dilemm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แก้ไ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lvl="1" marL="365040" indent="-185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ก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) 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รวบรวมสาเหตุทั้งหมดที่ทำให้เกิดการร้องขอซ้ำ 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Callback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) 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และระบุสาเหตุข้อที่เป็นความผิดพลาดจากการซ่อมแซมในครั้งแร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lvl="1" marL="365040" indent="-185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ข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) </a:t>
                      </a:r>
                      <a:r>
                        <a:rPr b="0" lang="th-TH" sz="1800" spc="-1" strike="noStrike">
                          <a:solidFill>
                            <a:srgbClr val="0000ff"/>
                          </a:solidFill>
                          <a:latin typeface="Tahoma"/>
                          <a:cs typeface="Tahoma"/>
                        </a:rPr>
                        <a:t>สอบถามเพิ่มเติมจากวิศวกร ผู้ผลิตเครื่องจักร พนักงานประจำเครื่องจักร ฝ่ายบริหารโรงงาน พนักงานซ่อมบำรุง และแหล่งข้อมูลที่เชื่อถือได้อื่นๆ ตามความจำเป็น ว่าความผิดพลาดจากการซ่อมแซมลักษณะใดที่ควรจะหลีกเลี่ยงได้ และจะหลีกเลี่ยงได้อย่างไ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"/>
          <p:cNvSpPr/>
          <p:nvPr/>
        </p:nvSpPr>
        <p:spPr>
          <a:xfrm>
            <a:off x="8101080" y="6481800"/>
            <a:ext cx="360360" cy="331920"/>
          </a:xfrm>
          <a:custGeom>
            <a:avLst/>
            <a:gdLst>
              <a:gd name="textAreaLeft" fmla="*/ 21240 w 360360"/>
              <a:gd name="textAreaRight" fmla="*/ 339120 w 360360"/>
              <a:gd name="textAreaTop" fmla="*/ 21240 h 331920"/>
              <a:gd name="textAreaBottom" fmla="*/ 310680 h 331920"/>
            </a:gdLst>
            <a:ahLst/>
            <a:rect l="textAreaLeft" t="textAreaTop" r="textAreaRight" b="textAreaBottom"/>
            <a:pathLst>
              <a:path w="23449" h="21600">
                <a:moveTo>
                  <a:pt x="0" y="0"/>
                </a:moveTo>
                <a:lnTo>
                  <a:pt x="23449" y="0"/>
                </a:lnTo>
                <a:lnTo>
                  <a:pt x="23449" y="21600"/>
                </a:lnTo>
                <a:lnTo>
                  <a:pt x="0" y="21600"/>
                </a:lnTo>
                <a:close/>
              </a:path>
              <a:path fill="lightenLess" w="23449" h="21600">
                <a:moveTo>
                  <a:pt x="0" y="0"/>
                </a:moveTo>
                <a:lnTo>
                  <a:pt x="23449" y="0"/>
                </a:lnTo>
                <a:lnTo>
                  <a:pt x="22049" y="1400"/>
                </a:lnTo>
                <a:lnTo>
                  <a:pt x="1400" y="1400"/>
                </a:lnTo>
                <a:close/>
              </a:path>
              <a:path fill="darken" w="23449" h="21600">
                <a:moveTo>
                  <a:pt x="23449" y="0"/>
                </a:moveTo>
                <a:lnTo>
                  <a:pt x="23449" y="21600"/>
                </a:lnTo>
                <a:lnTo>
                  <a:pt x="22049" y="20200"/>
                </a:lnTo>
                <a:lnTo>
                  <a:pt x="22049" y="1400"/>
                </a:lnTo>
                <a:close/>
              </a:path>
              <a:path fill="darkenLess" w="23449" h="21600">
                <a:moveTo>
                  <a:pt x="234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49" y="20200"/>
                </a:lnTo>
                <a:close/>
              </a:path>
              <a:path fill="lighten" w="234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49" h="21600">
                <a:moveTo>
                  <a:pt x="4718" y="10800"/>
                </a:moveTo>
                <a:lnTo>
                  <a:pt x="18731" y="3794"/>
                </a:lnTo>
                <a:lnTo>
                  <a:pt x="18731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92" name=""/>
          <p:cNvSpPr/>
          <p:nvPr/>
        </p:nvSpPr>
        <p:spPr>
          <a:xfrm>
            <a:off x="7165800" y="655308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(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อ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3 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น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241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F78F-0C63-47FD-BAD4-3C4F43703947}" type="slidenum">
              <a:t>4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31280" y="1378080"/>
            <a:ext cx="8317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177480" indent="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ผู้ตรวจสอบของโรงงานพลาสติกกำลังตรวจสอบสินค้าคงเหลือ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ventories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โดยมีวัตถุประสงค์การตรวจข้อหนึ่งดังนี้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“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เพื่อระบุความครบถ้วน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Completeness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ของบันทึกการส่งสินค้า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Recorded shipment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7480" indent="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ในการตรวจสอบเพื่อบรรลุวัตถุประสงค์หลักดังกล่าว ผู้ตรวจสอบตกลงทำการทดสอบวัตถุประสงค์ย่อยที่เฉพาะเจาะจงหลายข้อ และข้อหนึ่งในจำนวนนั้นคื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“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ไม่มีเอกสารการส่งสินค้าที่มีสาระสำคัญ ที่ไม่ได้ถูกบันทึกลงในสมุดรายวันขาย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Sales Journal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และในรายละเอียดสินค้าคงเหลือ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Inventory Log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อย่างเหมาะสม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7480" indent="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เพื่อทดสอบวัตถุประสงค์ย่อยข้อนี้ ผู้ตรวจสอบวางแผนรวบรวมหลักฐานโดย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:-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“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เปรียบเทียบเอกสารการส่งสินค้า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3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รายการ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จากทั้งหมดประมาณ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4,000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รายการ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กับรายการที่บันทึกในสมุดรายวันขาย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Sales Journal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และรายละเอียดสินค้าคงเหลือ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Inventory Log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เพื่อตรวจตรา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Examine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ว่าเอกสารการส่งสินค้าที่เลือกมาทดสอบทั้งหมดได้ถูกบันทึกรายการไว้อย่างครบถ้วน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"/>
          <p:cNvSpPr/>
          <p:nvPr/>
        </p:nvSpPr>
        <p:spPr>
          <a:xfrm>
            <a:off x="468360" y="333360"/>
            <a:ext cx="771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lvl="1" marL="671040" indent="-222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84120"/>
                <a:tab algn="r" pos="73566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ahoma"/>
                <a:cs typeface="Tahoma"/>
              </a:rPr>
              <a:t>กรณีศึกษาที่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5</a:t>
            </a:r>
            <a:r>
              <a:rPr b="1" lang="th-TH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cs typeface="Tahoma"/>
              </a:rPr>
              <a:t>โรงงานพลาสติก</a:t>
            </a:r>
            <a:endParaRPr b="0" lang="en-US" sz="20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95" name=""/>
          <p:cNvSpPr/>
          <p:nvPr/>
        </p:nvSpPr>
        <p:spPr>
          <a:xfrm>
            <a:off x="7165800" y="655308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(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อ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3 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น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393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6778-C51B-47F9-ADF1-06DA3DA40ACD}" type="slidenum">
              <a:t>4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287280" y="1197000"/>
            <a:ext cx="87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41640" indent="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ประเมินความเกี่ยวข้อง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levance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ความเชื่อถือได้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etence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ความเพียงพอ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fficiency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แล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ความมีประโยชน์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ful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ของหลักฐานที่ผู้ตรวจสอบวางแผนรวบรวมเพื่อใช้ในการทดสอบ ตามแนวทางการประเมินหลักฐาน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ข้อ และเสนอแนะวิธีปรับปรุงความน่าเชื่อถือของหลักฐาน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นาที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85600" indent="0"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0" lang="th-TH" sz="1600" spc="-1" strike="noStrike">
                <a:solidFill>
                  <a:srgbClr val="0000ff"/>
                </a:solidFill>
                <a:latin typeface="Tahoma"/>
              </a:rPr>
              <a:t>. 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เกี่ยวข้องกับวัตถุประสงค์การตรวจ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Ralevance to the Audit Objective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85600" indent="0"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2</a:t>
            </a:r>
            <a:r>
              <a:rPr b="0" lang="th-TH" sz="1800" spc="-1" strike="noStrike">
                <a:solidFill>
                  <a:srgbClr val="008000"/>
                </a:solidFill>
                <a:latin typeface="Tahoma"/>
              </a:rPr>
              <a:t>. 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8000"/>
                </a:solidFill>
                <a:latin typeface="Tahoma"/>
              </a:rPr>
              <a:t>เที่ยงธรรม </a:t>
            </a:r>
            <a:r>
              <a:rPr b="0" lang="th-TH" sz="1800" spc="-1" strike="noStrike">
                <a:solidFill>
                  <a:srgbClr val="008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Objectivity</a:t>
            </a:r>
            <a:r>
              <a:rPr b="0" lang="th-TH" sz="1800" spc="-1" strike="noStrike">
                <a:solidFill>
                  <a:srgbClr val="008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85600" indent="0"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3</a:t>
            </a:r>
            <a:r>
              <a:rPr b="0" lang="th-TH" sz="1800" spc="-1" strike="noStrike">
                <a:solidFill>
                  <a:srgbClr val="008000"/>
                </a:solidFill>
                <a:latin typeface="Tahoma"/>
              </a:rPr>
              <a:t>. 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8000"/>
                </a:solidFill>
                <a:latin typeface="Tahoma"/>
              </a:rPr>
              <a:t>เป็นเอกสาร </a:t>
            </a:r>
            <a:r>
              <a:rPr b="0" lang="th-TH" sz="1800" spc="-1" strike="noStrike">
                <a:solidFill>
                  <a:srgbClr val="008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Documentation</a:t>
            </a:r>
            <a:r>
              <a:rPr b="0" lang="th-TH" sz="1800" spc="-1" strike="noStrike">
                <a:solidFill>
                  <a:srgbClr val="008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85600" indent="0"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4</a:t>
            </a:r>
            <a:r>
              <a:rPr b="0" lang="th-TH" sz="1800" spc="-1" strike="noStrike">
                <a:solidFill>
                  <a:srgbClr val="008000"/>
                </a:solidFill>
                <a:latin typeface="Tahoma"/>
              </a:rPr>
              <a:t>. 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8000"/>
                </a:solidFill>
                <a:latin typeface="Tahoma"/>
              </a:rPr>
              <a:t>มาจากบุคคลภายนอก </a:t>
            </a:r>
            <a:r>
              <a:rPr b="0" lang="th-TH" sz="1800" spc="-1" strike="noStrike">
                <a:solidFill>
                  <a:srgbClr val="008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Third–party</a:t>
            </a:r>
            <a:r>
              <a:rPr b="0" lang="th-TH" sz="1800" spc="-1" strike="noStrike">
                <a:solidFill>
                  <a:srgbClr val="008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85600" indent="0"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8000"/>
                </a:solidFill>
                <a:latin typeface="Tahoma"/>
              </a:rPr>
              <a:t>5. 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8000"/>
                </a:solidFill>
                <a:latin typeface="Tahoma"/>
              </a:rPr>
              <a:t>ได้จากแหล่งข้อมูลโดยตรง </a:t>
            </a:r>
            <a:r>
              <a:rPr b="0" lang="th-TH" sz="1800" spc="-1" strike="noStrike">
                <a:solidFill>
                  <a:srgbClr val="008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Directness</a:t>
            </a:r>
            <a:r>
              <a:rPr b="0" lang="th-TH" sz="1800" spc="-1" strike="noStrike">
                <a:solidFill>
                  <a:srgbClr val="008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85600" indent="0"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8000"/>
                </a:solidFill>
                <a:latin typeface="Tahoma"/>
              </a:rPr>
              <a:t>6. 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8000"/>
                </a:solidFill>
                <a:latin typeface="Tahoma"/>
              </a:rPr>
              <a:t>ได้จากแหล่งที่มีระบบการควบคุมภายในที่ดี </a:t>
            </a:r>
            <a:r>
              <a:rPr b="0" lang="th-TH" sz="1800" spc="-1" strike="noStrike">
                <a:solidFill>
                  <a:srgbClr val="008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Internal Control Systems</a:t>
            </a:r>
            <a:r>
              <a:rPr b="0" lang="th-TH" sz="1800" spc="-1" strike="noStrike">
                <a:solidFill>
                  <a:srgbClr val="008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85600" indent="0"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7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. 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ขนาดตัวอย่าง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Size of the Sample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85600" indent="0"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8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. 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การสุ่มตัวอย่างเชิงสถิติ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Statistical Sampling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85600" indent="0"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9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. 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ได้รับการยืนยัน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Corroboration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85600" indent="0"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10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ทันกาล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meliness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85600" indent="0"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11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น้ำหนักแห่งพยานหลักฐาน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uthoritativeness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8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85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885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468360" y="333360"/>
            <a:ext cx="771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60400" indent="-285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84120"/>
                <a:tab algn="r" pos="73566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ahoma"/>
                <a:cs typeface="Tahoma"/>
              </a:rPr>
              <a:t>กรณีศึกษาที่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ordia New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66560" y="2349360"/>
          <a:ext cx="792360" cy="3959280"/>
        </p:xfrm>
        <a:graphic>
          <a:graphicData uri="http://schemas.openxmlformats.org/drawingml/2006/table">
            <a:tbl>
              <a:tblPr/>
              <a:tblGrid>
                <a:gridCol w="792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</a:tr>
              <a:tr h="176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66ff66">
                        <a:alpha val="50000"/>
                      </a:srgbClr>
                    </a:solidFill>
                  </a:tcPr>
                </a:tc>
              </a:tr>
              <a:tr h="100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7c80">
                        <a:alpha val="50000"/>
                      </a:srgbClr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99" name=""/>
          <p:cNvSpPr/>
          <p:nvPr/>
        </p:nvSpPr>
        <p:spPr>
          <a:xfrm rot="16200000">
            <a:off x="-342000" y="1644840"/>
            <a:ext cx="106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Arial"/>
              </a:rPr>
              <a:t>Relevance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00" name=""/>
          <p:cNvSpPr/>
          <p:nvPr/>
        </p:nvSpPr>
        <p:spPr>
          <a:xfrm rot="16200000">
            <a:off x="-434880" y="310572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  <a:ea typeface="Arial"/>
              </a:rPr>
              <a:t>Competence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01" name=""/>
          <p:cNvSpPr/>
          <p:nvPr/>
        </p:nvSpPr>
        <p:spPr>
          <a:xfrm rot="16200000">
            <a:off x="-377280" y="4871520"/>
            <a:ext cx="113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  <a:ea typeface="Arial"/>
              </a:rPr>
              <a:t>Sufficiency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02" name=""/>
          <p:cNvSpPr/>
          <p:nvPr/>
        </p:nvSpPr>
        <p:spPr>
          <a:xfrm rot="16200000">
            <a:off x="-172080" y="6081120"/>
            <a:ext cx="7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seful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03" name=""/>
          <p:cNvSpPr/>
          <p:nvPr/>
        </p:nvSpPr>
        <p:spPr>
          <a:xfrm>
            <a:off x="7165800" y="655308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(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อ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3 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น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393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15EF-51DF-416D-BA11-9CA86BC9C266}" type="slidenum">
              <a:t>4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287280" y="620640"/>
            <a:ext cx="838836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  <a:p>
            <a:pPr lvl="1" marL="875880" indent="-3592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   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  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    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  <a:ea typeface="Tahoma"/>
              </a:rPr>
              <a:t>  </a:t>
            </a:r>
            <a:r>
              <a:rPr b="0" lang="th-TH" sz="18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ใช่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  <a:ea typeface="Tahoma"/>
              </a:rPr>
              <a:t> การเปรียบเทียบเอกสารต้นฉบับไปหารายการที่บันทึก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  <a:ea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Trace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  <a:ea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  <a:cs typeface="Tahoma"/>
              </a:rPr>
              <a:t>เป็นวิธีการทดสอบความครบถ้วน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  <a:p>
            <a:pPr lvl="1" marL="875880" indent="-3592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    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  <a:ea typeface="Tahoma"/>
              </a:rPr>
              <a:t>  </a:t>
            </a:r>
            <a:r>
              <a:rPr b="0" lang="th-TH" sz="18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ใช่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  <a:ea typeface="Tahoma"/>
              </a:rPr>
              <a:t>  ถูกบันทึกโดยผู้ตรวจสอบที่มีความเชี่ยวชาญ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  <a:p>
            <a:pPr lvl="1" marL="875880" indent="-3592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    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  <a:ea typeface="Tahoma"/>
              </a:rPr>
              <a:t>  </a:t>
            </a:r>
            <a:r>
              <a:rPr b="0" lang="th-TH" sz="18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ใช่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  <a:cs typeface="Tahoma"/>
              </a:rPr>
              <a:t>หลักฐานทั้งหมดเป็นเอกสาร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  <a:p>
            <a:pPr lvl="1" marL="875880" indent="-3592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     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  <a:cs typeface="Tahoma"/>
              </a:rPr>
              <a:t>ไม่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  <a:ea typeface="Tahoma"/>
              </a:rPr>
              <a:t> มาจากแหล่งข้อมูลภายในบริษัททั้งสิ้น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  <a:p>
            <a:pPr lvl="1" marL="875880" indent="-3592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     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  <a:cs typeface="Tahoma"/>
              </a:rPr>
              <a:t>ไม่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  <a:ea typeface="Tahoma"/>
              </a:rPr>
              <a:t> ผู้ตรวจสอบไม่ได้เข้าสังเกตการณ์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  <a:ea typeface="Tahoma"/>
              </a:rPr>
              <a:t>(Observe)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  <a:cs typeface="Tahoma"/>
              </a:rPr>
              <a:t>การส่งและการรับสินค้าโดยตรง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  <a:p>
            <a:pPr lvl="1" marL="875880" indent="-3592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                  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      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  <a:cs typeface="Tahoma"/>
              </a:rPr>
              <a:t>ไม่ทราบ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  <a:p>
            <a:pPr lvl="1" marL="875880" indent="-3592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      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  <a:cs typeface="Tahoma"/>
              </a:rPr>
              <a:t>ไม่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  <a:cs typeface="Tahoma"/>
              </a:rPr>
              <a:t>การสุ่มเพียง 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  <a:ea typeface="Tahoma"/>
              </a:rPr>
              <a:t>3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  <a:ea typeface="Tahoma"/>
              </a:rPr>
              <a:t>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  <a:cs typeface="Tahoma"/>
              </a:rPr>
              <a:t>ตัวอย่างถือว่าน้อยมาก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  <a:p>
            <a:pPr lvl="1" marL="875880" indent="-3592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  <a:cs typeface="Tahoma"/>
              </a:rPr>
              <a:t>ไม่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  <a:ea typeface="Tahoma"/>
              </a:rPr>
              <a:t> ตัวอย่างน้อยเกินไป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  <a:p>
            <a:pPr lvl="1" marL="875880" indent="-3592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      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  <a:cs typeface="Tahoma"/>
              </a:rPr>
              <a:t>ไม่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  <a:ea typeface="Tahoma"/>
              </a:rPr>
              <a:t> เอกสารต่างๆ มาจากแหล่งเดียวกัน อาจดู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  <a:ea typeface="Tahoma"/>
              </a:rPr>
              <a:t> 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  <a:cs typeface="Tahoma"/>
              </a:rPr>
              <a:t>สำเนาใบสั่งซื้อ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  <a:ea typeface="Tahoma"/>
              </a:rPr>
              <a:t> หรือ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  <a:ea typeface="Tahoma"/>
              </a:rPr>
              <a:t> 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  <a:cs typeface="Tahoma"/>
              </a:rPr>
              <a:t>เอกสารการรับชำระเงินจากลูกค้า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  <a:ea typeface="Tahoma"/>
              </a:rPr>
              <a:t>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  <a:cs typeface="Tahoma"/>
              </a:rPr>
              <a:t>เพื่อยืนยันเพิ่ม 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  <a:cs typeface="Tahoma"/>
              </a:rPr>
              <a:t>การนับสินค้าแล้วไม่พบว่าขาดหาย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  <a:ea typeface="Tahoma"/>
              </a:rPr>
              <a:t>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  <a:cs typeface="Tahoma"/>
              </a:rPr>
              <a:t>ก็สามารถช่วยยืนยันทางอ้อมได้ว่าไม่มีการส่งของโดยมิชอบ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  <a:p>
            <a:pPr lvl="1" marL="875880" indent="-3592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th-TH" sz="18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ใช่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  <a:ea typeface="Tahoma"/>
              </a:rPr>
              <a:t> มีครบถ้วนเมื่อเกิดรายการ และมีให้ตรวจทันที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  <a:p>
            <a:pPr lvl="1" marL="875880" indent="-3592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    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  <a:ea typeface="Tahoma"/>
              </a:rPr>
              <a:t>  </a:t>
            </a:r>
            <a:r>
              <a:rPr b="0" lang="th-TH" sz="18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ใช่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  <a:ea typeface="Tahoma"/>
              </a:rPr>
              <a:t> ไม่มีหลักฐานอื่นที่มีน้ำหนักเหนือกว่า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250920" y="1052640"/>
          <a:ext cx="1008000" cy="5400720"/>
        </p:xfrm>
        <a:graphic>
          <a:graphicData uri="http://schemas.openxmlformats.org/drawingml/2006/table">
            <a:tbl>
              <a:tblPr/>
              <a:tblGrid>
                <a:gridCol w="100800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</a:tr>
              <a:tr h="20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66ff66">
                        <a:alpha val="50000"/>
                      </a:srgbClr>
                    </a:solidFill>
                  </a:tcPr>
                </a:tc>
              </a:tr>
              <a:tr h="17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7c80">
                        <a:alpha val="50000"/>
                      </a:srgbClr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286920" y="620280"/>
            <a:ext cx="8388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758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เกี่ยวข้องกับวัตถุประสงค์การตรวจ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758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เที่ยงธรรม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758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เป็นเอกสาร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758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มาจากบุคคลภายนอก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cc0000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758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5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ได้จากแหล่งข้อมูลโดยตรง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758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6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ได้จากแหล่งที่มีระบบการควบคุมภายในที่ดี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cc0000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758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ขนาดตัวอย่าง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cc0000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758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การสุ่มตัวอย่างเชิงสถิติ </a:t>
            </a:r>
            <a:r>
              <a:rPr b="0" lang="en-US" sz="1800" spc="-1" strike="noStrike" u="sng">
                <a:solidFill>
                  <a:srgbClr val="cc0000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758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ได้รับการยืนยัน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758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10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ทันกาล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758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11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น้ำหนักแห่งพยานหลักฐาน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"/>
          <p:cNvSpPr/>
          <p:nvPr/>
        </p:nvSpPr>
        <p:spPr>
          <a:xfrm>
            <a:off x="8101080" y="6481800"/>
            <a:ext cx="360360" cy="331920"/>
          </a:xfrm>
          <a:custGeom>
            <a:avLst/>
            <a:gdLst>
              <a:gd name="textAreaLeft" fmla="*/ 21240 w 360360"/>
              <a:gd name="textAreaRight" fmla="*/ 339120 w 360360"/>
              <a:gd name="textAreaTop" fmla="*/ 21240 h 331920"/>
              <a:gd name="textAreaBottom" fmla="*/ 310680 h 331920"/>
            </a:gdLst>
            <a:ahLst/>
            <a:rect l="textAreaLeft" t="textAreaTop" r="textAreaRight" b="textAreaBottom"/>
            <a:pathLst>
              <a:path w="23449" h="21600">
                <a:moveTo>
                  <a:pt x="0" y="0"/>
                </a:moveTo>
                <a:lnTo>
                  <a:pt x="23449" y="0"/>
                </a:lnTo>
                <a:lnTo>
                  <a:pt x="23449" y="21600"/>
                </a:lnTo>
                <a:lnTo>
                  <a:pt x="0" y="21600"/>
                </a:lnTo>
                <a:close/>
              </a:path>
              <a:path fill="lightenLess" w="23449" h="21600">
                <a:moveTo>
                  <a:pt x="0" y="0"/>
                </a:moveTo>
                <a:lnTo>
                  <a:pt x="23449" y="0"/>
                </a:lnTo>
                <a:lnTo>
                  <a:pt x="22049" y="1400"/>
                </a:lnTo>
                <a:lnTo>
                  <a:pt x="1400" y="1400"/>
                </a:lnTo>
                <a:close/>
              </a:path>
              <a:path fill="darken" w="23449" h="21600">
                <a:moveTo>
                  <a:pt x="23449" y="0"/>
                </a:moveTo>
                <a:lnTo>
                  <a:pt x="23449" y="21600"/>
                </a:lnTo>
                <a:lnTo>
                  <a:pt x="22049" y="20200"/>
                </a:lnTo>
                <a:lnTo>
                  <a:pt x="22049" y="1400"/>
                </a:lnTo>
                <a:close/>
              </a:path>
              <a:path fill="darkenLess" w="23449" h="21600">
                <a:moveTo>
                  <a:pt x="234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49" y="20200"/>
                </a:lnTo>
                <a:close/>
              </a:path>
              <a:path fill="lighten" w="234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49" h="21600">
                <a:moveTo>
                  <a:pt x="4718" y="10800"/>
                </a:moveTo>
                <a:lnTo>
                  <a:pt x="18731" y="3794"/>
                </a:lnTo>
                <a:lnTo>
                  <a:pt x="18731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08" name=""/>
          <p:cNvSpPr/>
          <p:nvPr/>
        </p:nvSpPr>
        <p:spPr>
          <a:xfrm>
            <a:off x="468360" y="333360"/>
            <a:ext cx="771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748440" indent="-24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84120"/>
                <a:tab algn="r" pos="7273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ahoma"/>
                <a:cs typeface="Tahoma"/>
              </a:rPr>
              <a:t>กรณีศึกษาที่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5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cs typeface="Tahoma"/>
              </a:rPr>
              <a:t>เฉลย</a:t>
            </a:r>
            <a:endParaRPr b="0" lang="en-US" sz="20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09" name=""/>
          <p:cNvSpPr/>
          <p:nvPr/>
        </p:nvSpPr>
        <p:spPr>
          <a:xfrm rot="16200000">
            <a:off x="720" y="1428840"/>
            <a:ext cx="106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Arial"/>
              </a:rPr>
              <a:t>Relevance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10" name=""/>
          <p:cNvSpPr/>
          <p:nvPr/>
        </p:nvSpPr>
        <p:spPr>
          <a:xfrm rot="16200000">
            <a:off x="-91800" y="288972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  <a:ea typeface="Arial"/>
              </a:rPr>
              <a:t>Competence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11" name=""/>
          <p:cNvSpPr/>
          <p:nvPr/>
        </p:nvSpPr>
        <p:spPr>
          <a:xfrm rot="16200000">
            <a:off x="-34200" y="4655160"/>
            <a:ext cx="113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  <a:ea typeface="Arial"/>
              </a:rPr>
              <a:t>Sufficiency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170640" y="5865120"/>
            <a:ext cx="7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seful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655308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(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อ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3 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น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393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14" name=""/>
          <p:cNvSpPr/>
          <p:nvPr/>
        </p:nvSpPr>
        <p:spPr>
          <a:xfrm>
            <a:off x="4348800" y="1052640"/>
            <a:ext cx="51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</a:t>
            </a:r>
            <a:endParaRPr b="0" lang="en-US" sz="32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15" name=""/>
          <p:cNvSpPr/>
          <p:nvPr/>
        </p:nvSpPr>
        <p:spPr>
          <a:xfrm>
            <a:off x="2188440" y="1697040"/>
            <a:ext cx="51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</a:t>
            </a:r>
            <a:endParaRPr b="0" lang="en-US" sz="32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16" name=""/>
          <p:cNvSpPr/>
          <p:nvPr/>
        </p:nvSpPr>
        <p:spPr>
          <a:xfrm>
            <a:off x="2261160" y="2060640"/>
            <a:ext cx="51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</a:t>
            </a:r>
            <a:endParaRPr b="0" lang="en-US" sz="32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17" name=""/>
          <p:cNvSpPr/>
          <p:nvPr/>
        </p:nvSpPr>
        <p:spPr>
          <a:xfrm>
            <a:off x="1973880" y="5586480"/>
            <a:ext cx="51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</a:t>
            </a:r>
            <a:endParaRPr b="0" lang="en-US" sz="32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18" name=""/>
          <p:cNvSpPr/>
          <p:nvPr/>
        </p:nvSpPr>
        <p:spPr>
          <a:xfrm>
            <a:off x="3701160" y="5950080"/>
            <a:ext cx="51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</a:t>
            </a:r>
            <a:endParaRPr b="0" lang="en-US" sz="32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19" name=""/>
          <p:cNvSpPr/>
          <p:nvPr/>
        </p:nvSpPr>
        <p:spPr>
          <a:xfrm>
            <a:off x="3267360" y="2355840"/>
            <a:ext cx="49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</a:t>
            </a:r>
            <a:endParaRPr b="0" lang="en-US" sz="36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20" name=""/>
          <p:cNvSpPr/>
          <p:nvPr/>
        </p:nvSpPr>
        <p:spPr>
          <a:xfrm>
            <a:off x="3699360" y="2781360"/>
            <a:ext cx="49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</a:t>
            </a:r>
            <a:endParaRPr b="0" lang="en-US" sz="36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21" name=""/>
          <p:cNvSpPr/>
          <p:nvPr/>
        </p:nvSpPr>
        <p:spPr>
          <a:xfrm>
            <a:off x="2546640" y="3795840"/>
            <a:ext cx="49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</a:t>
            </a:r>
            <a:endParaRPr b="0" lang="en-US" sz="36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22" name=""/>
          <p:cNvSpPr/>
          <p:nvPr/>
        </p:nvSpPr>
        <p:spPr>
          <a:xfrm>
            <a:off x="3339000" y="4221000"/>
            <a:ext cx="49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</a:t>
            </a:r>
            <a:endParaRPr b="0" lang="en-US" sz="36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23" name=""/>
          <p:cNvSpPr/>
          <p:nvPr/>
        </p:nvSpPr>
        <p:spPr>
          <a:xfrm>
            <a:off x="2618280" y="4581360"/>
            <a:ext cx="49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</a:t>
            </a:r>
            <a:endParaRPr b="0" lang="en-US" sz="36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24" name=""/>
          <p:cNvSpPr/>
          <p:nvPr/>
        </p:nvSpPr>
        <p:spPr>
          <a:xfrm>
            <a:off x="5167800" y="3435480"/>
            <a:ext cx="49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</a:t>
            </a:r>
            <a:endParaRPr b="0" lang="en-US" sz="36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8BC6-404E-4B82-8CC1-058CE5D364C0}" type="slidenum">
              <a:t>4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9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9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900" fill="hold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900" fill="hold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900" fill="hold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900" fill="hold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900" fill="hold"/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900" fill="hold"/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900" fill="hold"/>
                                        <p:tgtEl>
                                          <p:spTgt spid="3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900" fill="hold"/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3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900" fill="hold"/>
                                        <p:tgtEl>
                                          <p:spTgt spid="3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993600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900000" y="1054080"/>
            <a:ext cx="7632720" cy="69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หน่วยงานที่ตรวจสอบ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โรงงานพลาสติ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โครงงาน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เรื่องที่ตรวจสอบ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สินค้าคงเหลือ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เพียงวันที่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:  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31/12/25X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สารบาญกระดาษทำการ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หมวด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การบริหารงานตรวจสอบ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ministration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-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หนังสือแจ้งผู้รับตรวจ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-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เอกสารวางแผนงานตรวจ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-3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ข้อมูลพื้นฐา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-4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การวิเคราะห์และประเมินความเสี่ยง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-5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ร่างรายงานการตรวจสอบ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หมวด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การสำรวจข้อมูลเบื้องต้น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liminary Survey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-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การสัมภาษณ์ผู้รับการตรวจสอบ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-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ผลการประเมินการควบคุมภายใ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หมวด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แนวการตรวจสอบภายใน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udit Program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หมวด 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E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การวิเคราะห์อัตราหมุนเวียนสินค้า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หมวด 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F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การบันทึกรายการส่งสินค้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หมวด 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การตรวจนับสินค้าคงเหลื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หมวด 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H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การประกันภัยและการเก็บรักษาสินค้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"/>
          <p:cNvSpPr/>
          <p:nvPr/>
        </p:nvSpPr>
        <p:spPr>
          <a:xfrm>
            <a:off x="468360" y="333360"/>
            <a:ext cx="835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748440" indent="-24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84120"/>
                <a:tab algn="r" pos="798516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ahoma"/>
                <a:cs typeface="Tahoma"/>
              </a:rPr>
              <a:t>กระดาษทำการ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  <a:ea typeface="Tahoma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ea typeface="Tahoma"/>
              </a:rPr>
              <a:t> ตัวอย่างจากกรณีศึกษาที่ 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ea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DB06-7C22-4FDC-A7CE-DC52A24F5A50}" type="slidenum">
              <a:t>4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99360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56908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หน่วยงานที่ตรวจสอบ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โรงงานพลาสติ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โครงงาน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เรื่องที่ตรวจสอบ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สินค้าคงเหลือ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เพียงวันที่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:  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31/12/25X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วัตถุประสงค์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เพื่อระบุความครบถ้วนของบันทึกการส่งสินค้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ขอบเขต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เอกสารการส่งสินค้าของปี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25X1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เลขที่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24165 - 28458 (4293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รายการ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แผนการทดสอบและเก็บหลักฐาน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สุ่มตัวอย่างเอกสารการส่งสินค้า ตามรอยการบันทึกรายการไปยังสมุดรายวันขาย 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(1)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และรายละเอียดสินค้าคงเหลือ 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(2)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และเช็คสอบกับใบสั่งซื้อจากลูกค้า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(3)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และรายการรับชำระเงิน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(4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ขนาดตัวอย่างที่สุ่ม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            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45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วิธีการสุ่ม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เครื่องมือ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Simple Random / MS Exc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468360" y="333360"/>
            <a:ext cx="835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748440" indent="-24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84120"/>
                <a:tab algn="r" pos="798516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ahoma"/>
                <a:cs typeface="Tahoma"/>
              </a:rPr>
              <a:t>กระดาษทำการ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  <a:ea typeface="Tahoma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ea typeface="Tahoma"/>
              </a:rPr>
              <a:t> ตัวอย่างจากกรณีศึกษาที่ 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ea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31" name=""/>
          <p:cNvSpPr/>
          <p:nvPr/>
        </p:nvSpPr>
        <p:spPr>
          <a:xfrm>
            <a:off x="250920" y="3500280"/>
            <a:ext cx="87138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0"/>
          </a:bodyPr>
          <a:p>
            <a:pPr marL="137160" indent="-13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จำนวนเบี่ยงเบนที่ยอมได้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: 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  <a:ea typeface="Tahoma"/>
              </a:rPr>
              <a:t>0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  <a:p>
            <a:pPr marL="137160" indent="-13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จำนวนเบี่ยงเบนที่พบ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: 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  <a:ea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  <a:p>
            <a:pPr marL="137160" indent="-13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  <a:cs typeface="Tahoma"/>
              </a:rPr>
              <a:t>สรุปได้ที่ระดับความเชื่อมั่น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90%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  <a:cs typeface="Tahoma"/>
              </a:rPr>
              <a:t>ว่าอัตราเบี่ยงเบนสูงสุดในประชากรไม่เกิน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5%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  <a:cs typeface="Tahoma"/>
              </a:rPr>
              <a:t>ซึ่งยังไม่เกิน เกณฑ์กำหนดของระดับอัตราเบี่ยงเบนที่จะทำให้การควบคุมไม่น่าเชื่อถือที่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5%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  <a:cs typeface="Tahoma"/>
              </a:rPr>
              <a:t>สำหรับการทดสอบการควบคุมประเภทที่ใช้กำจัดความเสี่ยง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  <a:p>
            <a:pPr marL="137160" indent="-13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  <a:p>
            <a:pPr marL="137160" indent="-13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สรุป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  <a:cs typeface="Tahoma"/>
              </a:rPr>
              <a:t>บันทึกการส่งสินค้าครบถ้วนตามที่ควร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32" name=""/>
          <p:cNvSpPr/>
          <p:nvPr/>
        </p:nvSpPr>
        <p:spPr>
          <a:xfrm>
            <a:off x="8244000" y="1197000"/>
            <a:ext cx="649080" cy="649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ngsana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33" name=""/>
          <p:cNvSpPr/>
          <p:nvPr/>
        </p:nvSpPr>
        <p:spPr>
          <a:xfrm>
            <a:off x="3060720" y="29973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ngsana New"/>
              </a:rPr>
              <a:t>F-1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34" name=""/>
          <p:cNvSpPr/>
          <p:nvPr/>
        </p:nvSpPr>
        <p:spPr>
          <a:xfrm>
            <a:off x="3038400" y="37893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ngsana New"/>
              </a:rPr>
              <a:t>F-2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3708360" y="5805360"/>
            <a:ext cx="5256360" cy="863640"/>
            <a:chOff x="3708360" y="5805360"/>
            <a:chExt cx="5256360" cy="863640"/>
          </a:xfrm>
        </p:grpSpPr>
        <p:sp>
          <p:nvSpPr>
            <p:cNvPr id="336" name=""/>
            <p:cNvSpPr/>
            <p:nvPr/>
          </p:nvSpPr>
          <p:spPr>
            <a:xfrm>
              <a:off x="3708360" y="5805360"/>
              <a:ext cx="5256360" cy="86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marL="425160" indent="-425160">
                <a:lnSpc>
                  <a:spcPct val="100000"/>
                </a:lnSpc>
                <a:tabLst>
                  <a:tab algn="l" pos="0"/>
                  <a:tab algn="l" pos="995400"/>
                  <a:tab algn="l" pos="2682720"/>
                  <a:tab algn="l" pos="3860640"/>
                  <a:tab algn="l" pos="60148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rdia New"/>
              </a:endParaRPr>
            </a:p>
            <a:p>
              <a:pPr marL="425160" indent="-425160">
                <a:lnSpc>
                  <a:spcPct val="100000"/>
                </a:lnSpc>
                <a:tabLst>
                  <a:tab algn="l" pos="0"/>
                  <a:tab algn="l" pos="995400"/>
                  <a:tab algn="l" pos="2682720"/>
                  <a:tab algn="l" pos="3860640"/>
                  <a:tab algn="l" pos="60148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จัดทำโดย</a:t>
              </a:r>
              <a:r>
                <a:rPr b="0" lang="th-TH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th-TH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th-TH" sz="14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สอบทานโดย </a:t>
              </a:r>
              <a:r>
                <a:rPr b="0" lang="th-TH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Cordia New"/>
              </a:endParaRPr>
            </a:p>
            <a:p>
              <a:pPr marL="425160" indent="-425160">
                <a:lnSpc>
                  <a:spcPct val="100000"/>
                </a:lnSpc>
                <a:tabLst>
                  <a:tab algn="l" pos="0"/>
                  <a:tab algn="l" pos="995400"/>
                  <a:tab algn="l" pos="2682720"/>
                  <a:tab algn="l" pos="3860640"/>
                  <a:tab algn="l" pos="60148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วันที่</a:t>
              </a:r>
              <a:r>
                <a:rPr b="0" lang="th-TH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th-TH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i="1" lang="en-US" sz="1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10</a:t>
              </a:r>
              <a:r>
                <a:rPr b="0" i="1" lang="th-TH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/</a:t>
              </a:r>
              <a:r>
                <a:rPr b="0" i="1" lang="th-TH" sz="1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 1 </a:t>
              </a:r>
              <a:r>
                <a:rPr b="0" i="1" lang="th-TH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/</a:t>
              </a:r>
              <a:r>
                <a:rPr b="0" i="1" lang="th-TH" sz="1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 </a:t>
              </a:r>
              <a:r>
                <a:rPr b="0" i="1" lang="en-US" sz="1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X2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th-TH" sz="14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วันที่</a:t>
              </a:r>
              <a:r>
                <a:rPr b="0" lang="th-TH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i="1" lang="en-US" sz="1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20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i="1" lang="th-TH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/ </a:t>
              </a:r>
              <a:r>
                <a:rPr b="0" i="1" lang="th-TH" sz="1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1 </a:t>
              </a:r>
              <a:r>
                <a:rPr b="0" i="1" lang="th-TH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i="1" lang="en-US" sz="1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X2</a:t>
              </a:r>
              <a:r>
                <a:rPr b="0" i="1" lang="th-TH" sz="1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ordia New"/>
              </a:endParaRPr>
            </a:p>
          </p:txBody>
        </p:sp>
        <p:pic>
          <p:nvPicPr>
            <p:cNvPr id="337" name="" descr=""/>
            <p:cNvPicPr/>
            <p:nvPr/>
          </p:nvPicPr>
          <p:blipFill>
            <a:blip r:embed="rId3"/>
            <a:stretch/>
          </p:blipFill>
          <p:spPr>
            <a:xfrm>
              <a:off x="4932360" y="5833800"/>
              <a:ext cx="122544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4"/>
            <a:stretch/>
          </p:blipFill>
          <p:spPr>
            <a:xfrm>
              <a:off x="7956720" y="5846760"/>
              <a:ext cx="718920" cy="37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A9FF-1120-496E-9019-E05528C9C1CF}" type="slidenum">
              <a:t>4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99360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713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885600" indent="0">
              <a:buNone/>
              <a:tabLst>
                <a:tab algn="l" pos="0"/>
                <a:tab algn="l" pos="331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แบบฟอร์มการสุ่มตัวอย่างเพื่อทดสอบเอกสารหลักฐานของกระบวนการควบคุม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885600" indent="0">
              <a:buNone/>
              <a:tabLst>
                <a:tab algn="l" pos="0"/>
                <a:tab algn="l" pos="331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Sampling to Test Documentary Evidence of Control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885600" indent="0">
              <a:buNone/>
              <a:tabLst>
                <a:tab algn="l" pos="0"/>
                <a:tab algn="l" pos="331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กระบวนการควบคุม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i="1" lang="en-US" sz="1800" spc="-1" strike="noStrike">
                <a:solidFill>
                  <a:srgbClr val="0000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885600" indent="0">
              <a:buNone/>
              <a:tabLst>
                <a:tab algn="l" pos="0"/>
                <a:tab algn="l" pos="331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 u="sng">
                <a:solidFill>
                  <a:srgbClr val="000000"/>
                </a:solidFill>
                <a:uFillTx/>
                <a:latin typeface="Tahoma"/>
              </a:rPr>
              <a:t>ขนาดตัวอย่าง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885600" indent="0">
              <a:buNone/>
              <a:tabLst>
                <a:tab algn="l" pos="0"/>
                <a:tab algn="l" pos="331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เลือกวัตถุประสงค์การสุ่มตัวอย่าง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  </a:t>
            </a:r>
            <a:r>
              <a:rPr b="1" lang="th-TH" sz="1800" spc="-1" strike="noStrike" u="sng">
                <a:solidFill>
                  <a:srgbClr val="0000ff"/>
                </a:solidFill>
                <a:uFillTx/>
                <a:latin typeface="Tahoma"/>
              </a:rPr>
              <a:t>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หรือ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885600" indent="0">
              <a:buNone/>
              <a:tabLst>
                <a:tab algn="l" pos="0"/>
                <a:tab algn="l" pos="331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เพื่อทดสอบการควบคุมที่กำจัดความเสี่ยง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885600" indent="0">
              <a:buNone/>
              <a:tabLst>
                <a:tab algn="l" pos="0"/>
                <a:tab algn="l" pos="331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เพื่อทดสอบการควบคุมที่ช่วยยืนยั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885600" indent="0">
              <a:buNone/>
              <a:tabLst>
                <a:tab algn="l" pos="0"/>
                <a:tab algn="l" pos="331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ความน่าเชื่อถือของรายงา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885600" indent="0">
              <a:buNone/>
              <a:tabLst>
                <a:tab algn="l" pos="0"/>
                <a:tab algn="l" pos="331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ระบุจำนวนเบี่ยงเบนที่ยอมได้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หรือ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885600" indent="0">
              <a:buNone/>
              <a:tabLst>
                <a:tab algn="l" pos="0"/>
                <a:tab algn="l" pos="331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ขนาดตัวอย่างที่สุ่ม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ble 1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1" lang="en-US" sz="1800" spc="-1" strike="noStrike" u="sng">
                <a:solidFill>
                  <a:srgbClr val="ffff66"/>
                </a:solidFill>
                <a:uFillTx/>
                <a:latin typeface="Tahoma"/>
              </a:rPr>
              <a:t>.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885600" indent="0">
              <a:buNone/>
              <a:tabLst>
                <a:tab algn="l" pos="0"/>
                <a:tab algn="l" pos="331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 u="sng">
                <a:solidFill>
                  <a:srgbClr val="000000"/>
                </a:solidFill>
                <a:uFillTx/>
                <a:latin typeface="Tahoma"/>
              </a:rPr>
              <a:t>การประเมินตัวอย่าง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885600" indent="0">
              <a:buNone/>
              <a:tabLst>
                <a:tab algn="l" pos="0"/>
                <a:tab algn="l" pos="331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ขนาดตัวอย่างที่ทดสอบ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        </a:t>
            </a:r>
            <a:r>
              <a:rPr b="1" lang="en-US" sz="1800" spc="-1" strike="noStrike" u="sng">
                <a:solidFill>
                  <a:srgbClr val="ffff66"/>
                </a:solidFill>
                <a:uFillTx/>
                <a:latin typeface="Tahoma"/>
              </a:rPr>
              <a:t>.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885600" indent="0">
              <a:buNone/>
              <a:tabLst>
                <a:tab algn="l" pos="0"/>
                <a:tab algn="l" pos="331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จำนวนเบี่ยงเบนที่พบ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        </a:t>
            </a:r>
            <a:r>
              <a:rPr b="1" lang="en-US" sz="1800" spc="-1" strike="noStrike" u="sng">
                <a:solidFill>
                  <a:srgbClr val="ffff66"/>
                </a:solidFill>
                <a:uFillTx/>
                <a:latin typeface="Tahoma"/>
              </a:rPr>
              <a:t>.</a:t>
            </a:r>
            <a:r>
              <a:rPr b="0" lang="en-US" sz="1800" spc="-1" strike="noStrike" u="sng">
                <a:solidFill>
                  <a:srgbClr val="ffff66"/>
                </a:solidFill>
                <a:uFillTx/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885600" indent="0">
              <a:buNone/>
              <a:tabLst>
                <a:tab algn="l" pos="0"/>
                <a:tab algn="l" pos="331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อัตราเบี่ยงเบนสูงสุดในประชากร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          </a:t>
            </a:r>
            <a:r>
              <a:rPr b="1" lang="en-US" sz="1800" spc="-1" strike="noStrike" u="sng">
                <a:solidFill>
                  <a:srgbClr val="ffff66"/>
                </a:solidFill>
                <a:uFillTx/>
                <a:latin typeface="Tahoma"/>
              </a:rPr>
              <a:t>.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885600" indent="0">
              <a:buNone/>
              <a:tabLst>
                <a:tab algn="l" pos="0"/>
                <a:tab algn="l" pos="331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ที่ระดับความเชื่อมั่น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9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%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*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885600" indent="0">
              <a:buNone/>
              <a:tabLst>
                <a:tab algn="l" pos="0"/>
                <a:tab algn="l" pos="331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ble 2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885600" indent="0">
              <a:spcBef>
                <a:spcPts val="1400"/>
              </a:spcBef>
              <a:buNone/>
              <a:tabLst>
                <a:tab algn="l" pos="0"/>
                <a:tab algn="l" pos="331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4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i="1" lang="th-TH" sz="1400" spc="-1" strike="noStrike">
                <a:solidFill>
                  <a:srgbClr val="000000"/>
                </a:solidFill>
                <a:latin typeface="Tahoma"/>
              </a:rPr>
              <a:t>การควบคุมไม่น่าเชื่อถือถ้าอัตราเบี่ยงเบน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885600" indent="0">
              <a:buNone/>
              <a:tabLst>
                <a:tab algn="l" pos="0"/>
                <a:tab algn="l" pos="331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400" spc="-1" strike="noStrike">
                <a:solidFill>
                  <a:srgbClr val="000000"/>
                </a:solidFill>
                <a:latin typeface="Tahoma"/>
              </a:rPr>
              <a:t>สูงสุดเกิน </a:t>
            </a:r>
            <a:r>
              <a:rPr b="0" i="1" lang="th-TH" sz="1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%</a:t>
            </a:r>
            <a:r>
              <a:rPr b="0" i="1" lang="th-TH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th-TH" sz="1400" spc="-1" strike="noStrike">
                <a:solidFill>
                  <a:srgbClr val="000000"/>
                </a:solidFill>
                <a:latin typeface="Tahoma"/>
              </a:rPr>
              <a:t>สำหรับวัตถุประสงค์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th-TH" sz="1400" spc="-1" strike="noStrike">
                <a:solidFill>
                  <a:srgbClr val="000000"/>
                </a:solidFill>
                <a:latin typeface="Tahoma"/>
              </a:rPr>
              <a:t>หรือ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885600" indent="0">
              <a:buNone/>
              <a:tabLst>
                <a:tab algn="l" pos="0"/>
                <a:tab algn="l" pos="331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400" spc="-1" strike="noStrike">
                <a:solidFill>
                  <a:srgbClr val="000000"/>
                </a:solidFill>
                <a:latin typeface="Tahoma"/>
              </a:rPr>
              <a:t>เกิน </a:t>
            </a:r>
            <a:r>
              <a:rPr b="0" i="1" lang="th-TH" sz="14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%</a:t>
            </a:r>
            <a:r>
              <a:rPr b="0" i="1" lang="th-TH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th-TH" sz="1400" spc="-1" strike="noStrike">
                <a:solidFill>
                  <a:srgbClr val="000000"/>
                </a:solidFill>
                <a:latin typeface="Tahoma"/>
              </a:rPr>
              <a:t>สำหรับวัตถุประสงค์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"/>
          <p:cNvSpPr/>
          <p:nvPr/>
        </p:nvSpPr>
        <p:spPr>
          <a:xfrm>
            <a:off x="468360" y="333360"/>
            <a:ext cx="835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748440" indent="-24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84120"/>
                <a:tab algn="r" pos="798516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ahoma"/>
                <a:cs typeface="Tahoma"/>
              </a:rPr>
              <a:t>กระดาษทำการ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  <a:ea typeface="Tahoma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ea typeface="Tahoma"/>
              </a:rPr>
              <a:t> ตัวอย่างจากกรณีศึกษาที่ 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ea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ordia New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5867280" y="2276640"/>
          <a:ext cx="3025800" cy="1144440"/>
        </p:xfrm>
        <a:graphic>
          <a:graphicData uri="http://schemas.openxmlformats.org/drawingml/2006/table">
            <a:tbl>
              <a:tblPr/>
              <a:tblGrid>
                <a:gridCol w="1079280"/>
                <a:gridCol w="1011240"/>
                <a:gridCol w="935280"/>
              </a:tblGrid>
              <a:tr h="276480">
                <a:tc gridSpan="3">
                  <a:txBody>
                    <a:bodyPr lIns="0" rIns="18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Table 1  Sample Size T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b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Obje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Allowance for dev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B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3" name=""/>
          <p:cNvGraphicFramePr/>
          <p:nvPr/>
        </p:nvGraphicFramePr>
        <p:xfrm>
          <a:off x="4932360" y="3716280"/>
          <a:ext cx="4032360" cy="1761840"/>
        </p:xfrm>
        <a:graphic>
          <a:graphicData uri="http://schemas.openxmlformats.org/drawingml/2006/table">
            <a:tbl>
              <a:tblPr/>
              <a:tblGrid>
                <a:gridCol w="1139760"/>
                <a:gridCol w="988920"/>
                <a:gridCol w="989280"/>
                <a:gridCol w="914400"/>
              </a:tblGrid>
              <a:tr h="459000">
                <a:tc gridSpan="4">
                  <a:txBody>
                    <a:bodyPr lIns="0" rIns="0" tIns="46800" bIns="46800" anchor="b">
                      <a:noAutofit/>
                    </a:bodyPr>
                    <a:p>
                      <a:pPr marL="628560" indent="-6285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Table 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Sample Evaluation Table (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90% Confidence) Showing Maximum Deviation Ra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 rowSpan="2"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Sample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Number of Deviations in Samp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9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15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2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6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9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13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5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8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11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7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3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5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7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4" name=""/>
          <p:cNvSpPr/>
          <p:nvPr/>
        </p:nvSpPr>
        <p:spPr>
          <a:xfrm>
            <a:off x="8244000" y="1197000"/>
            <a:ext cx="649080" cy="649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ngsana New"/>
              </a:rPr>
              <a:t>F-1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45" name=""/>
          <p:cNvSpPr/>
          <p:nvPr/>
        </p:nvSpPr>
        <p:spPr>
          <a:xfrm>
            <a:off x="7236000" y="2909880"/>
            <a:ext cx="374400" cy="37476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46" name=""/>
          <p:cNvSpPr/>
          <p:nvPr/>
        </p:nvSpPr>
        <p:spPr>
          <a:xfrm>
            <a:off x="6357960" y="4941720"/>
            <a:ext cx="374760" cy="37476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47" name=""/>
          <p:cNvSpPr/>
          <p:nvPr/>
        </p:nvSpPr>
        <p:spPr>
          <a:xfrm>
            <a:off x="3060720" y="43657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ngsana New"/>
              </a:rPr>
              <a:t>F-2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48" name=""/>
          <p:cNvSpPr/>
          <p:nvPr/>
        </p:nvSpPr>
        <p:spPr>
          <a:xfrm>
            <a:off x="4286160" y="35672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ngsana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3708360" y="5805360"/>
            <a:ext cx="5256360" cy="863640"/>
            <a:chOff x="3708360" y="5805360"/>
            <a:chExt cx="5256360" cy="863640"/>
          </a:xfrm>
        </p:grpSpPr>
        <p:sp>
          <p:nvSpPr>
            <p:cNvPr id="350" name=""/>
            <p:cNvSpPr/>
            <p:nvPr/>
          </p:nvSpPr>
          <p:spPr>
            <a:xfrm>
              <a:off x="3708360" y="5805360"/>
              <a:ext cx="5256360" cy="86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marL="425160" indent="-425160">
                <a:lnSpc>
                  <a:spcPct val="100000"/>
                </a:lnSpc>
                <a:tabLst>
                  <a:tab algn="l" pos="0"/>
                  <a:tab algn="l" pos="995400"/>
                  <a:tab algn="l" pos="2682720"/>
                  <a:tab algn="l" pos="3860640"/>
                  <a:tab algn="l" pos="60148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rdia New"/>
              </a:endParaRPr>
            </a:p>
            <a:p>
              <a:pPr marL="425160" indent="-425160">
                <a:lnSpc>
                  <a:spcPct val="100000"/>
                </a:lnSpc>
                <a:tabLst>
                  <a:tab algn="l" pos="0"/>
                  <a:tab algn="l" pos="995400"/>
                  <a:tab algn="l" pos="2682720"/>
                  <a:tab algn="l" pos="3860640"/>
                  <a:tab algn="l" pos="60148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จัดทำโดย</a:t>
              </a:r>
              <a:r>
                <a:rPr b="0" lang="th-TH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th-TH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th-TH" sz="14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สอบทานโดย </a:t>
              </a:r>
              <a:r>
                <a:rPr b="0" lang="th-TH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Cordia New"/>
              </a:endParaRPr>
            </a:p>
            <a:p>
              <a:pPr marL="425160" indent="-425160">
                <a:lnSpc>
                  <a:spcPct val="100000"/>
                </a:lnSpc>
                <a:tabLst>
                  <a:tab algn="l" pos="0"/>
                  <a:tab algn="l" pos="995400"/>
                  <a:tab algn="l" pos="2682720"/>
                  <a:tab algn="l" pos="3860640"/>
                  <a:tab algn="l" pos="60148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วันที่</a:t>
              </a:r>
              <a:r>
                <a:rPr b="0" lang="th-TH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th-TH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i="1" lang="en-US" sz="1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10</a:t>
              </a:r>
              <a:r>
                <a:rPr b="0" i="1" lang="th-TH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/</a:t>
              </a:r>
              <a:r>
                <a:rPr b="0" i="1" lang="th-TH" sz="1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 1 </a:t>
              </a:r>
              <a:r>
                <a:rPr b="0" i="1" lang="th-TH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/</a:t>
              </a:r>
              <a:r>
                <a:rPr b="0" i="1" lang="th-TH" sz="1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 </a:t>
              </a:r>
              <a:r>
                <a:rPr b="0" i="1" lang="en-US" sz="1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X2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th-TH" sz="14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วันที่</a:t>
              </a:r>
              <a:r>
                <a:rPr b="0" lang="th-TH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i="1" lang="en-US" sz="1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20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i="1" lang="th-TH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/ </a:t>
              </a:r>
              <a:r>
                <a:rPr b="0" i="1" lang="th-TH" sz="1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1 </a:t>
              </a:r>
              <a:r>
                <a:rPr b="0" i="1" lang="th-TH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i="1" lang="en-US" sz="1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X2</a:t>
              </a:r>
              <a:r>
                <a:rPr b="0" i="1" lang="th-TH" sz="1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ordia New"/>
              </a:endParaRPr>
            </a:p>
          </p:txBody>
        </p:sp>
        <p:pic>
          <p:nvPicPr>
            <p:cNvPr id="351" name="" descr=""/>
            <p:cNvPicPr/>
            <p:nvPr/>
          </p:nvPicPr>
          <p:blipFill>
            <a:blip r:embed="rId3"/>
            <a:stretch/>
          </p:blipFill>
          <p:spPr>
            <a:xfrm>
              <a:off x="4932360" y="5833800"/>
              <a:ext cx="122544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" descr=""/>
            <p:cNvPicPr/>
            <p:nvPr/>
          </p:nvPicPr>
          <p:blipFill>
            <a:blip r:embed="rId4"/>
            <a:stretch/>
          </p:blipFill>
          <p:spPr>
            <a:xfrm>
              <a:off x="7956720" y="5846760"/>
              <a:ext cx="718920" cy="37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3" name=""/>
          <p:cNvSpPr/>
          <p:nvPr/>
        </p:nvSpPr>
        <p:spPr>
          <a:xfrm>
            <a:off x="3709440" y="212868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54" name=""/>
          <p:cNvSpPr/>
          <p:nvPr/>
        </p:nvSpPr>
        <p:spPr>
          <a:xfrm>
            <a:off x="3819240" y="3213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55" name=""/>
          <p:cNvSpPr/>
          <p:nvPr/>
        </p:nvSpPr>
        <p:spPr>
          <a:xfrm>
            <a:off x="3825000" y="35002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56" name=""/>
          <p:cNvSpPr/>
          <p:nvPr/>
        </p:nvSpPr>
        <p:spPr>
          <a:xfrm>
            <a:off x="3678840" y="464652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ff"/>
                </a:solidFill>
                <a:latin typeface="Tahoma"/>
                <a:ea typeface="Tahoma"/>
              </a:rPr>
              <a:t>5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57" name=""/>
          <p:cNvSpPr/>
          <p:nvPr/>
        </p:nvSpPr>
        <p:spPr>
          <a:xfrm>
            <a:off x="3890520" y="4357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58" name=""/>
          <p:cNvSpPr/>
          <p:nvPr/>
        </p:nvSpPr>
        <p:spPr>
          <a:xfrm>
            <a:off x="3825000" y="40705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59" name=""/>
          <p:cNvSpPr/>
          <p:nvPr/>
        </p:nvSpPr>
        <p:spPr>
          <a:xfrm>
            <a:off x="2633400" y="1622520"/>
            <a:ext cx="18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1800" spc="-1" strike="noStrike">
                <a:solidFill>
                  <a:srgbClr val="0000ff"/>
                </a:solidFill>
                <a:latin typeface="Arial"/>
                <a:cs typeface="Tahoma"/>
              </a:rPr>
              <a:t>บันทึกการส่งสินค้า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60" name=""/>
          <p:cNvSpPr/>
          <p:nvPr/>
        </p:nvSpPr>
        <p:spPr>
          <a:xfrm>
            <a:off x="4284720" y="2349360"/>
            <a:ext cx="1942920" cy="719280"/>
          </a:xfrm>
          <a:prstGeom prst="line">
            <a:avLst/>
          </a:prstGeom>
          <a:ln w="50760">
            <a:solidFill>
              <a:srgbClr val="ff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61" name=""/>
          <p:cNvSpPr/>
          <p:nvPr/>
        </p:nvSpPr>
        <p:spPr>
          <a:xfrm>
            <a:off x="6588000" y="3141720"/>
            <a:ext cx="648000" cy="0"/>
          </a:xfrm>
          <a:prstGeom prst="line">
            <a:avLst/>
          </a:prstGeom>
          <a:ln w="50760">
            <a:solidFill>
              <a:srgbClr val="ff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62" name=""/>
          <p:cNvSpPr/>
          <p:nvPr/>
        </p:nvSpPr>
        <p:spPr>
          <a:xfrm>
            <a:off x="7451640" y="2276640"/>
            <a:ext cx="0" cy="504720"/>
          </a:xfrm>
          <a:prstGeom prst="line">
            <a:avLst/>
          </a:prstGeom>
          <a:ln w="50760">
            <a:solidFill>
              <a:srgbClr val="ff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71640" y="3284640"/>
            <a:ext cx="2629080" cy="360360"/>
          </a:xfrm>
          <a:prstGeom prst="line">
            <a:avLst/>
          </a:prstGeom>
          <a:ln w="50760">
            <a:solidFill>
              <a:srgbClr val="ff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64" name=""/>
          <p:cNvSpPr/>
          <p:nvPr/>
        </p:nvSpPr>
        <p:spPr>
          <a:xfrm>
            <a:off x="4356000" y="4292640"/>
            <a:ext cx="936720" cy="792000"/>
          </a:xfrm>
          <a:prstGeom prst="line">
            <a:avLst/>
          </a:prstGeom>
          <a:ln w="50760">
            <a:solidFill>
              <a:srgbClr val="ff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65" name=""/>
          <p:cNvSpPr/>
          <p:nvPr/>
        </p:nvSpPr>
        <p:spPr>
          <a:xfrm>
            <a:off x="6588000" y="4365720"/>
            <a:ext cx="0" cy="504720"/>
          </a:xfrm>
          <a:prstGeom prst="line">
            <a:avLst/>
          </a:prstGeom>
          <a:ln w="50760">
            <a:solidFill>
              <a:srgbClr val="ff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66" name=""/>
          <p:cNvSpPr/>
          <p:nvPr/>
        </p:nvSpPr>
        <p:spPr>
          <a:xfrm>
            <a:off x="5651640" y="5157720"/>
            <a:ext cx="647640" cy="0"/>
          </a:xfrm>
          <a:prstGeom prst="line">
            <a:avLst/>
          </a:prstGeom>
          <a:ln w="50760">
            <a:solidFill>
              <a:srgbClr val="ff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22A4-B248-487E-906F-1A63ED5F571F}" type="slidenum">
              <a:t>4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30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40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000"/>
                            </p:stCondLst>
                            <p:childTnLst>
                              <p:par>
                                <p:cTn id="4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300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16000" y="764640"/>
            <a:ext cx="8316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lvl="1" marL="72648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008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4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หน้าที่งานใดที่ควรรวมอยู่ในงานตรวจสอบภายในที่เกี่ยวข้องกับรายงานทางการเงินที่ใช้ภายในบริษัท 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internal financial reports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 [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Part I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...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ข้อ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3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.] ..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648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6480" indent="0">
              <a:spcBef>
                <a:spcPts val="1125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ช่วยให้มั่นใจว่าการจัดเตรียมรายงานเป็นไปตามขั้นตอนแนวทางที่กำหนด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6480" indent="0">
              <a:spcBef>
                <a:spcPts val="1125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ทบทวนรายการชำระเงิน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enditure items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และตรวจเทียบกับรายการค่าใช้จ่ายที่เกิดขึ้น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enses incurred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6480" indent="0">
              <a:spcBef>
                <a:spcPts val="1125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พิจารณาว่ามีพนักงานใช้จ่ายเงินโดยไม่ได้รับอนุมัติถูกต้องหรือไม่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ending funds without authorization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6480" indent="0">
              <a:spcBef>
                <a:spcPts val="1125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ระบุจุดอ่อนของการควบคุม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adequate controls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ที่อาจทำให้เพิ่มโอกาสของการใช้จ่ายเงินโดยไม่ได้รับอนุมัติถูกต้อง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authorized expenditures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648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648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648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648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*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ตอบ ข้อ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d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)</a:t>
            </a:r>
            <a:r>
              <a:rPr b="0" lang="th-TH" sz="1800" spc="-1" strike="noStrike">
                <a:solidFill>
                  <a:srgbClr val="ff505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ผู้ตรวจสอบภายในมีหน้าที่ประเมินความพอเพียงของการควบคุม ประสิทธิผลของการบริหารจัดการ และระบุจุดที่เป็นความเสี่ยงทั่วๆ ไป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333360"/>
            <a:ext cx="771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60400" indent="-285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Pre-Test</a:t>
            </a:r>
            <a:endParaRPr b="0" lang="en-US" sz="32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87F2-AAB9-4F33-943A-9E8DE785288A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indefinite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indefinite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indefinite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993600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71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หน่วยงานที่ตรวจสอบ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โรงงานพลาสติ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โครงงาน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เรื่องที่ตรวจสอบ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สินค้าคงเหลือ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เพียงวันที่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:  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31/12/25X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"/>
          <p:cNvSpPr/>
          <p:nvPr/>
        </p:nvSpPr>
        <p:spPr>
          <a:xfrm>
            <a:off x="468360" y="333360"/>
            <a:ext cx="835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748440" indent="-24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84120"/>
                <a:tab algn="r" pos="798516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ahoma"/>
                <a:cs typeface="Tahoma"/>
              </a:rPr>
              <a:t>กระดาษทำการ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  <a:ea typeface="Tahoma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ea typeface="Tahoma"/>
              </a:rPr>
              <a:t> ตัวอย่างจากกรณีศึกษาที่ 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ea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ordia New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179280" y="1989000"/>
          <a:ext cx="8820360" cy="2089440"/>
        </p:xfrm>
        <a:graphic>
          <a:graphicData uri="http://schemas.openxmlformats.org/drawingml/2006/table">
            <a:tbl>
              <a:tblPr/>
              <a:tblGrid>
                <a:gridCol w="863640"/>
                <a:gridCol w="1225440"/>
                <a:gridCol w="1727280"/>
                <a:gridCol w="1152720"/>
                <a:gridCol w="1331640"/>
                <a:gridCol w="648000"/>
                <a:gridCol w="647640"/>
                <a:gridCol w="647640"/>
                <a:gridCol w="576360"/>
              </a:tblGrid>
              <a:tr h="243000">
                <a:tc rowSpan="2"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เลขที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ลูกค้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หัสสินค้า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x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Q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วันที่ส่งสินค้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จำนวนเงิ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4"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udit Ste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"/>
          <p:cNvSpPr/>
          <p:nvPr/>
        </p:nvSpPr>
        <p:spPr>
          <a:xfrm>
            <a:off x="250920" y="4076640"/>
            <a:ext cx="8713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1000"/>
          </a:bodyPr>
          <a:p>
            <a:pPr marL="141480" indent="-141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ตามรอยการบันทึกรายการไปยังสมุดรายวันขาย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600" spc="-1" strike="noStrike">
                <a:solidFill>
                  <a:srgbClr val="0000ff"/>
                </a:solidFill>
                <a:latin typeface="Wingdings"/>
                <a:ea typeface="Wingdings"/>
              </a:rPr>
              <a:t>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ตรวจเทียบกับ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GL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  <a:p>
            <a:pPr marL="141480" indent="-141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ตามรอยการบันทึกรายการไปยังรายละเอียดสินค้าคงเหลือ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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ตรวจเทียบกับเอกสารใบสำคัญ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  <a:p>
            <a:pPr marL="141480" indent="-141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เช็คสอบกับใบสั่งซื้อจากลูกค้า 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  <a:p>
            <a:pPr marL="141480" indent="-141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เช็คสอบกับรายการรับชำระเงิน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  <a:p>
            <a:pPr marL="141480" indent="-141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  <a:p>
            <a:pPr marL="141480" indent="-141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จำนวนเบี่ยงเบนที่พบ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: 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  <a:p>
            <a:pPr marL="141480" indent="-141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72" name=""/>
          <p:cNvSpPr/>
          <p:nvPr/>
        </p:nvSpPr>
        <p:spPr>
          <a:xfrm>
            <a:off x="8244000" y="1197000"/>
            <a:ext cx="649080" cy="649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ngsana New"/>
              </a:rPr>
              <a:t>F</a:t>
            </a:r>
            <a:r>
              <a:rPr b="1" i="1" lang="th-TH" sz="1800" spc="-1" strike="noStrike">
                <a:solidFill>
                  <a:srgbClr val="ff0000"/>
                </a:solidFill>
                <a:latin typeface="Arial"/>
                <a:ea typeface="Angsana New"/>
              </a:rPr>
              <a:t>-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ngsana Ne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73" name=""/>
          <p:cNvSpPr/>
          <p:nvPr/>
        </p:nvSpPr>
        <p:spPr>
          <a:xfrm>
            <a:off x="3709800" y="5149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ngsana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3708360" y="5805360"/>
            <a:ext cx="5256360" cy="863640"/>
            <a:chOff x="3708360" y="5805360"/>
            <a:chExt cx="5256360" cy="863640"/>
          </a:xfrm>
        </p:grpSpPr>
        <p:sp>
          <p:nvSpPr>
            <p:cNvPr id="375" name=""/>
            <p:cNvSpPr/>
            <p:nvPr/>
          </p:nvSpPr>
          <p:spPr>
            <a:xfrm>
              <a:off x="3708360" y="5805360"/>
              <a:ext cx="5256360" cy="86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marL="425160" indent="-425160">
                <a:lnSpc>
                  <a:spcPct val="100000"/>
                </a:lnSpc>
                <a:tabLst>
                  <a:tab algn="l" pos="0"/>
                  <a:tab algn="l" pos="995400"/>
                  <a:tab algn="l" pos="2682720"/>
                  <a:tab algn="l" pos="3860640"/>
                  <a:tab algn="l" pos="60148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rdia New"/>
              </a:endParaRPr>
            </a:p>
            <a:p>
              <a:pPr marL="425160" indent="-425160">
                <a:lnSpc>
                  <a:spcPct val="100000"/>
                </a:lnSpc>
                <a:tabLst>
                  <a:tab algn="l" pos="0"/>
                  <a:tab algn="l" pos="995400"/>
                  <a:tab algn="l" pos="2682720"/>
                  <a:tab algn="l" pos="3860640"/>
                  <a:tab algn="l" pos="60148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จัดทำโดย</a:t>
              </a:r>
              <a:r>
                <a:rPr b="0" lang="th-TH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th-TH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th-TH" sz="14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สอบทานโดย </a:t>
              </a:r>
              <a:r>
                <a:rPr b="0" lang="th-TH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Cordia New"/>
              </a:endParaRPr>
            </a:p>
            <a:p>
              <a:pPr marL="425160" indent="-425160">
                <a:lnSpc>
                  <a:spcPct val="100000"/>
                </a:lnSpc>
                <a:tabLst>
                  <a:tab algn="l" pos="0"/>
                  <a:tab algn="l" pos="995400"/>
                  <a:tab algn="l" pos="2682720"/>
                  <a:tab algn="l" pos="3860640"/>
                  <a:tab algn="l" pos="60148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วันที่</a:t>
              </a:r>
              <a:r>
                <a:rPr b="0" lang="th-TH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th-TH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i="1" lang="en-US" sz="1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10</a:t>
              </a:r>
              <a:r>
                <a:rPr b="0" i="1" lang="th-TH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/</a:t>
              </a:r>
              <a:r>
                <a:rPr b="0" i="1" lang="th-TH" sz="1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 1 </a:t>
              </a:r>
              <a:r>
                <a:rPr b="0" i="1" lang="th-TH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/</a:t>
              </a:r>
              <a:r>
                <a:rPr b="0" i="1" lang="th-TH" sz="1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 </a:t>
              </a:r>
              <a:r>
                <a:rPr b="0" i="1" lang="en-US" sz="1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X2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th-TH" sz="14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วันที่</a:t>
              </a:r>
              <a:r>
                <a:rPr b="0" lang="th-TH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i="1" lang="en-US" sz="1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20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i="1" lang="th-TH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/ </a:t>
              </a:r>
              <a:r>
                <a:rPr b="0" i="1" lang="th-TH" sz="1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1 </a:t>
              </a:r>
              <a:r>
                <a:rPr b="0" i="1" lang="th-TH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i="1" lang="en-US" sz="1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X2</a:t>
              </a:r>
              <a:r>
                <a:rPr b="0" i="1" lang="th-TH" sz="1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ordia New"/>
              </a:endParaRPr>
            </a:p>
          </p:txBody>
        </p:sp>
        <p:pic>
          <p:nvPicPr>
            <p:cNvPr id="376" name="" descr=""/>
            <p:cNvPicPr/>
            <p:nvPr/>
          </p:nvPicPr>
          <p:blipFill>
            <a:blip r:embed="rId3"/>
            <a:stretch/>
          </p:blipFill>
          <p:spPr>
            <a:xfrm>
              <a:off x="4932360" y="5833800"/>
              <a:ext cx="122544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" descr=""/>
            <p:cNvPicPr/>
            <p:nvPr/>
          </p:nvPicPr>
          <p:blipFill>
            <a:blip r:embed="rId4"/>
            <a:stretch/>
          </p:blipFill>
          <p:spPr>
            <a:xfrm>
              <a:off x="7956720" y="5846760"/>
              <a:ext cx="718920" cy="37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8" name=""/>
          <p:cNvSpPr/>
          <p:nvPr/>
        </p:nvSpPr>
        <p:spPr>
          <a:xfrm>
            <a:off x="8099280" y="6453360"/>
            <a:ext cx="360360" cy="331560"/>
          </a:xfrm>
          <a:custGeom>
            <a:avLst/>
            <a:gdLst>
              <a:gd name="textAreaLeft" fmla="*/ 21240 w 360360"/>
              <a:gd name="textAreaRight" fmla="*/ 339120 w 360360"/>
              <a:gd name="textAreaTop" fmla="*/ 21240 h 331560"/>
              <a:gd name="textAreaBottom" fmla="*/ 310320 h 331560"/>
            </a:gdLst>
            <a:ahLst/>
            <a:rect l="textAreaLeft" t="textAreaTop" r="textAreaRight" b="textAreaBottom"/>
            <a:pathLst>
              <a:path w="23474" h="21600">
                <a:moveTo>
                  <a:pt x="0" y="0"/>
                </a:moveTo>
                <a:lnTo>
                  <a:pt x="23474" y="0"/>
                </a:lnTo>
                <a:lnTo>
                  <a:pt x="23474" y="21600"/>
                </a:lnTo>
                <a:lnTo>
                  <a:pt x="0" y="21600"/>
                </a:lnTo>
                <a:close/>
              </a:path>
              <a:path fill="lightenLess" w="23474" h="21600">
                <a:moveTo>
                  <a:pt x="0" y="0"/>
                </a:moveTo>
                <a:lnTo>
                  <a:pt x="23474" y="0"/>
                </a:lnTo>
                <a:lnTo>
                  <a:pt x="22074" y="1400"/>
                </a:lnTo>
                <a:lnTo>
                  <a:pt x="1400" y="1400"/>
                </a:lnTo>
                <a:close/>
              </a:path>
              <a:path fill="darken" w="23474" h="21600">
                <a:moveTo>
                  <a:pt x="23474" y="0"/>
                </a:moveTo>
                <a:lnTo>
                  <a:pt x="23474" y="21600"/>
                </a:lnTo>
                <a:lnTo>
                  <a:pt x="22074" y="20200"/>
                </a:lnTo>
                <a:lnTo>
                  <a:pt x="22074" y="1400"/>
                </a:lnTo>
                <a:close/>
              </a:path>
              <a:path fill="darkenLess" w="23474" h="21600">
                <a:moveTo>
                  <a:pt x="234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74" y="20200"/>
                </a:lnTo>
                <a:close/>
              </a:path>
              <a:path fill="lighten" w="234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74" h="21600">
                <a:moveTo>
                  <a:pt x="4731" y="10800"/>
                </a:moveTo>
                <a:lnTo>
                  <a:pt x="18744" y="3794"/>
                </a:lnTo>
                <a:lnTo>
                  <a:pt x="1874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79" name=""/>
          <p:cNvSpPr/>
          <p:nvPr/>
        </p:nvSpPr>
        <p:spPr>
          <a:xfrm>
            <a:off x="376200" y="2421000"/>
            <a:ext cx="614052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ctr" pos="1081080"/>
                <a:tab algn="ctr" pos="2687760"/>
                <a:tab algn="ctr" pos="4129200"/>
                <a:tab algn="dec" pos="5735520"/>
                <a:tab algn="ctr" pos="6373800"/>
                <a:tab algn="ctr" pos="699624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24199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Dole Ind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PPE778 x 30 cart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13/1/X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82,250.00 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20000"/>
              </a:lnSpc>
              <a:tabLst>
                <a:tab algn="l" pos="0"/>
                <a:tab algn="ctr" pos="1081080"/>
                <a:tab algn="ctr" pos="2687760"/>
                <a:tab algn="ctr" pos="4129200"/>
                <a:tab algn="dec" pos="5735520"/>
                <a:tab algn="ctr" pos="6373800"/>
                <a:tab algn="ctr" pos="699624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24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278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  <a:ea typeface="Tahoma"/>
              </a:rPr>
              <a:t>Validly Cancelled - </a:t>
            </a:r>
            <a:r>
              <a:rPr b="0" lang="th-TH" sz="1400" spc="-1" strike="noStrike">
                <a:solidFill>
                  <a:srgbClr val="0000ff"/>
                </a:solidFill>
                <a:latin typeface="Tahoma"/>
                <a:cs typeface="Tahoma"/>
              </a:rPr>
              <a:t>เลือกเอกสารลำดับถัดไปแทน</a:t>
            </a:r>
            <a:r>
              <a:rPr b="0" lang="th-TH" sz="14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20000"/>
              </a:lnSpc>
              <a:tabLst>
                <a:tab algn="l" pos="0"/>
                <a:tab algn="ctr" pos="1081080"/>
                <a:tab algn="ctr" pos="2687760"/>
                <a:tab algn="ctr" pos="4129200"/>
                <a:tab algn="dec" pos="5735520"/>
                <a:tab algn="ctr" pos="6373800"/>
                <a:tab algn="ctr" pos="699624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24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279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Hawk &amp; Co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ZT008 x 10 doz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18/1/X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28,500.50 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20000"/>
              </a:lnSpc>
              <a:tabLst>
                <a:tab algn="l" pos="0"/>
                <a:tab algn="ctr" pos="1081080"/>
                <a:tab algn="ctr" pos="2687760"/>
                <a:tab algn="ctr" pos="4129200"/>
                <a:tab algn="dec" pos="5735520"/>
                <a:tab algn="ctr" pos="6373800"/>
                <a:tab algn="ctr" pos="699624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24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40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Bird Mfg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KYJ111 x 5 kg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31/1/X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132,000.00 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20000"/>
              </a:lnSpc>
              <a:tabLst>
                <a:tab algn="l" pos="0"/>
                <a:tab algn="ctr" pos="1081080"/>
                <a:tab algn="ctr" pos="2687760"/>
                <a:tab algn="ctr" pos="4129200"/>
                <a:tab algn="dec" pos="5735520"/>
                <a:tab algn="ctr" pos="6373800"/>
                <a:tab algn="ctr" pos="699624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..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..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..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..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... 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20000"/>
              </a:lnSpc>
              <a:tabLst>
                <a:tab algn="l" pos="0"/>
                <a:tab algn="ctr" pos="1081080"/>
                <a:tab algn="ctr" pos="2687760"/>
                <a:tab algn="ctr" pos="4129200"/>
                <a:tab algn="dec" pos="5735520"/>
                <a:tab algn="ctr" pos="6373800"/>
                <a:tab algn="ctr" pos="699624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841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Michae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310 XL x 1 pc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20/12/X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12,700.00 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80" name=""/>
          <p:cNvSpPr/>
          <p:nvPr/>
        </p:nvSpPr>
        <p:spPr>
          <a:xfrm>
            <a:off x="3285720" y="5149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81" name=""/>
          <p:cNvSpPr/>
          <p:nvPr/>
        </p:nvSpPr>
        <p:spPr>
          <a:xfrm>
            <a:off x="6588000" y="2421000"/>
            <a:ext cx="432000" cy="26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ctr" pos="179280"/>
                <a:tab algn="ctr" pos="2687760"/>
                <a:tab algn="ctr" pos="4129200"/>
                <a:tab algn="dec" pos="5735520"/>
                <a:tab algn="ctr" pos="6373800"/>
                <a:tab algn="ctr" pos="699624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600" spc="-1" strike="noStrike">
                <a:solidFill>
                  <a:srgbClr val="0000ff"/>
                </a:solidFill>
                <a:latin typeface="Wingdings"/>
                <a:ea typeface="Wingdings"/>
              </a:rPr>
              <a:t>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15000"/>
              </a:lnSpc>
              <a:tabLst>
                <a:tab algn="l" pos="0"/>
                <a:tab algn="ctr" pos="179280"/>
                <a:tab algn="ctr" pos="2687760"/>
                <a:tab algn="ctr" pos="4129200"/>
                <a:tab algn="dec" pos="5735520"/>
                <a:tab algn="ctr" pos="6373800"/>
                <a:tab algn="ctr" pos="699624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15000"/>
              </a:lnSpc>
              <a:tabLst>
                <a:tab algn="l" pos="0"/>
                <a:tab algn="ctr" pos="179280"/>
                <a:tab algn="ctr" pos="2687760"/>
                <a:tab algn="ctr" pos="4129200"/>
                <a:tab algn="dec" pos="5735520"/>
                <a:tab algn="ctr" pos="6373800"/>
                <a:tab algn="ctr" pos="699624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600" spc="-1" strike="noStrike">
                <a:solidFill>
                  <a:srgbClr val="0000ff"/>
                </a:solidFill>
                <a:latin typeface="Wingdings"/>
                <a:ea typeface="Wingdings"/>
              </a:rPr>
              <a:t>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15000"/>
              </a:lnSpc>
              <a:tabLst>
                <a:tab algn="l" pos="0"/>
                <a:tab algn="ctr" pos="179280"/>
                <a:tab algn="ctr" pos="2687760"/>
                <a:tab algn="ctr" pos="4129200"/>
                <a:tab algn="dec" pos="5735520"/>
                <a:tab algn="ctr" pos="6373800"/>
                <a:tab algn="ctr" pos="699624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600" spc="-1" strike="noStrike">
                <a:solidFill>
                  <a:srgbClr val="0000ff"/>
                </a:solidFill>
                <a:latin typeface="Wingdings"/>
                <a:ea typeface="Wingdings"/>
              </a:rPr>
              <a:t>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15000"/>
              </a:lnSpc>
              <a:tabLst>
                <a:tab algn="l" pos="0"/>
                <a:tab algn="ctr" pos="179280"/>
                <a:tab algn="ctr" pos="2687760"/>
                <a:tab algn="ctr" pos="4129200"/>
                <a:tab algn="dec" pos="5735520"/>
                <a:tab algn="ctr" pos="6373800"/>
                <a:tab algn="ctr" pos="699624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... 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15000"/>
              </a:lnSpc>
              <a:tabLst>
                <a:tab algn="l" pos="0"/>
                <a:tab algn="ctr" pos="179280"/>
                <a:tab algn="ctr" pos="2687760"/>
                <a:tab algn="ctr" pos="4129200"/>
                <a:tab algn="dec" pos="5735520"/>
                <a:tab algn="ctr" pos="6373800"/>
                <a:tab algn="ctr" pos="699624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600" spc="-1" strike="noStrike">
                <a:solidFill>
                  <a:srgbClr val="0000ff"/>
                </a:solidFill>
                <a:latin typeface="Wingdings"/>
                <a:ea typeface="Wingdings"/>
              </a:rPr>
              <a:t>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82" name=""/>
          <p:cNvSpPr/>
          <p:nvPr/>
        </p:nvSpPr>
        <p:spPr>
          <a:xfrm>
            <a:off x="7885080" y="2421000"/>
            <a:ext cx="43200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ctr" pos="1081080"/>
                <a:tab algn="ctr" pos="2687760"/>
                <a:tab algn="ctr" pos="4129200"/>
                <a:tab algn="dec" pos="5735520"/>
                <a:tab algn="ctr" pos="6373800"/>
                <a:tab algn="ctr" pos="699624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Wingdings"/>
                <a:ea typeface="Wingdings"/>
              </a:rPr>
              <a:t></a:t>
            </a: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15000"/>
              </a:lnSpc>
              <a:tabLst>
                <a:tab algn="l" pos="0"/>
                <a:tab algn="ctr" pos="1081080"/>
                <a:tab algn="ctr" pos="2687760"/>
                <a:tab algn="ctr" pos="4129200"/>
                <a:tab algn="dec" pos="5735520"/>
                <a:tab algn="ctr" pos="6373800"/>
                <a:tab algn="ctr" pos="699624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15000"/>
              </a:lnSpc>
              <a:tabLst>
                <a:tab algn="l" pos="0"/>
                <a:tab algn="ctr" pos="1081080"/>
                <a:tab algn="ctr" pos="2687760"/>
                <a:tab algn="ctr" pos="4129200"/>
                <a:tab algn="dec" pos="5735520"/>
                <a:tab algn="ctr" pos="6373800"/>
                <a:tab algn="ctr" pos="699624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600" spc="-1" strike="noStrike">
                <a:solidFill>
                  <a:srgbClr val="0000ff"/>
                </a:solidFill>
                <a:latin typeface="Wingdings"/>
                <a:ea typeface="Wingdings"/>
              </a:rPr>
              <a:t></a:t>
            </a: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15000"/>
              </a:lnSpc>
              <a:tabLst>
                <a:tab algn="l" pos="0"/>
                <a:tab algn="ctr" pos="1081080"/>
                <a:tab algn="ctr" pos="2687760"/>
                <a:tab algn="ctr" pos="4129200"/>
                <a:tab algn="dec" pos="5735520"/>
                <a:tab algn="ctr" pos="6373800"/>
                <a:tab algn="ctr" pos="699624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600" spc="-1" strike="noStrike">
                <a:solidFill>
                  <a:srgbClr val="0000ff"/>
                </a:solidFill>
                <a:latin typeface="Wingdings"/>
                <a:ea typeface="Wingdings"/>
              </a:rPr>
              <a:t></a:t>
            </a: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15000"/>
              </a:lnSpc>
              <a:tabLst>
                <a:tab algn="l" pos="0"/>
                <a:tab algn="ctr" pos="1081080"/>
                <a:tab algn="ctr" pos="2687760"/>
                <a:tab algn="ctr" pos="4129200"/>
                <a:tab algn="dec" pos="5735520"/>
                <a:tab algn="ctr" pos="6373800"/>
                <a:tab algn="ctr" pos="699624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15000"/>
              </a:lnSpc>
              <a:tabLst>
                <a:tab algn="l" pos="0"/>
                <a:tab algn="ctr" pos="1081080"/>
                <a:tab algn="ctr" pos="2687760"/>
                <a:tab algn="ctr" pos="4129200"/>
                <a:tab algn="dec" pos="5735520"/>
                <a:tab algn="ctr" pos="6373800"/>
                <a:tab algn="ctr" pos="699624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600" spc="-1" strike="noStrike">
                <a:solidFill>
                  <a:srgbClr val="0000ff"/>
                </a:solidFill>
                <a:latin typeface="Wingdings"/>
                <a:ea typeface="Wingdings"/>
              </a:rPr>
              <a:t></a:t>
            </a: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83" name=""/>
          <p:cNvSpPr/>
          <p:nvPr/>
        </p:nvSpPr>
        <p:spPr>
          <a:xfrm>
            <a:off x="7236000" y="2421000"/>
            <a:ext cx="431640" cy="26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ctr" pos="179280"/>
                <a:tab algn="ctr" pos="2687760"/>
                <a:tab algn="ctr" pos="4129200"/>
                <a:tab algn="dec" pos="5735520"/>
                <a:tab algn="ctr" pos="6373800"/>
                <a:tab algn="ctr" pos="699624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600" spc="-1" strike="noStrike">
                <a:solidFill>
                  <a:srgbClr val="0000ff"/>
                </a:solidFill>
                <a:latin typeface="Wingdings"/>
                <a:ea typeface="Wingdings"/>
              </a:rPr>
              <a:t>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15000"/>
              </a:lnSpc>
              <a:tabLst>
                <a:tab algn="l" pos="0"/>
                <a:tab algn="ctr" pos="179280"/>
                <a:tab algn="ctr" pos="2687760"/>
                <a:tab algn="ctr" pos="4129200"/>
                <a:tab algn="dec" pos="5735520"/>
                <a:tab algn="ctr" pos="6373800"/>
                <a:tab algn="ctr" pos="699624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15000"/>
              </a:lnSpc>
              <a:tabLst>
                <a:tab algn="l" pos="0"/>
                <a:tab algn="ctr" pos="179280"/>
                <a:tab algn="ctr" pos="2687760"/>
                <a:tab algn="ctr" pos="4129200"/>
                <a:tab algn="dec" pos="5735520"/>
                <a:tab algn="ctr" pos="6373800"/>
                <a:tab algn="ctr" pos="699624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600" spc="-1" strike="noStrike">
                <a:solidFill>
                  <a:srgbClr val="0000ff"/>
                </a:solidFill>
                <a:latin typeface="Wingdings"/>
                <a:ea typeface="Wingdings"/>
              </a:rPr>
              <a:t>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15000"/>
              </a:lnSpc>
              <a:tabLst>
                <a:tab algn="l" pos="0"/>
                <a:tab algn="ctr" pos="179280"/>
                <a:tab algn="ctr" pos="2687760"/>
                <a:tab algn="ctr" pos="4129200"/>
                <a:tab algn="dec" pos="5735520"/>
                <a:tab algn="ctr" pos="6373800"/>
                <a:tab algn="ctr" pos="699624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600" spc="-1" strike="noStrike">
                <a:solidFill>
                  <a:srgbClr val="0000ff"/>
                </a:solidFill>
                <a:latin typeface="Wingdings"/>
                <a:ea typeface="Wingdings"/>
              </a:rPr>
              <a:t>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15000"/>
              </a:lnSpc>
              <a:tabLst>
                <a:tab algn="l" pos="0"/>
                <a:tab algn="ctr" pos="179280"/>
                <a:tab algn="ctr" pos="2687760"/>
                <a:tab algn="ctr" pos="4129200"/>
                <a:tab algn="dec" pos="5735520"/>
                <a:tab algn="ctr" pos="6373800"/>
                <a:tab algn="ctr" pos="699624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... 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15000"/>
              </a:lnSpc>
              <a:tabLst>
                <a:tab algn="l" pos="0"/>
                <a:tab algn="ctr" pos="179280"/>
                <a:tab algn="ctr" pos="2687760"/>
                <a:tab algn="ctr" pos="4129200"/>
                <a:tab algn="dec" pos="5735520"/>
                <a:tab algn="ctr" pos="6373800"/>
                <a:tab algn="ctr" pos="699624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600" spc="-1" strike="noStrike">
                <a:solidFill>
                  <a:srgbClr val="0000ff"/>
                </a:solidFill>
                <a:latin typeface="Wingdings"/>
                <a:ea typeface="Wingdings"/>
              </a:rPr>
              <a:t>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84" name=""/>
          <p:cNvSpPr/>
          <p:nvPr/>
        </p:nvSpPr>
        <p:spPr>
          <a:xfrm>
            <a:off x="8459640" y="2421000"/>
            <a:ext cx="43200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ctr" pos="1081080"/>
                <a:tab algn="ctr" pos="2687760"/>
                <a:tab algn="ctr" pos="4129200"/>
                <a:tab algn="dec" pos="5735520"/>
                <a:tab algn="ctr" pos="6373800"/>
                <a:tab algn="ctr" pos="699624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Wingdings"/>
                <a:ea typeface="Wingdings"/>
              </a:rPr>
              <a:t></a:t>
            </a: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15000"/>
              </a:lnSpc>
              <a:tabLst>
                <a:tab algn="l" pos="0"/>
                <a:tab algn="ctr" pos="1081080"/>
                <a:tab algn="ctr" pos="2687760"/>
                <a:tab algn="ctr" pos="4129200"/>
                <a:tab algn="dec" pos="5735520"/>
                <a:tab algn="ctr" pos="6373800"/>
                <a:tab algn="ctr" pos="699624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15000"/>
              </a:lnSpc>
              <a:tabLst>
                <a:tab algn="l" pos="0"/>
                <a:tab algn="ctr" pos="1081080"/>
                <a:tab algn="ctr" pos="2687760"/>
                <a:tab algn="ctr" pos="4129200"/>
                <a:tab algn="dec" pos="5735520"/>
                <a:tab algn="ctr" pos="6373800"/>
                <a:tab algn="ctr" pos="699624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600" spc="-1" strike="noStrike">
                <a:solidFill>
                  <a:srgbClr val="0000ff"/>
                </a:solidFill>
                <a:latin typeface="Wingdings"/>
                <a:ea typeface="Wingdings"/>
              </a:rPr>
              <a:t></a:t>
            </a: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15000"/>
              </a:lnSpc>
              <a:tabLst>
                <a:tab algn="l" pos="0"/>
                <a:tab algn="ctr" pos="1081080"/>
                <a:tab algn="ctr" pos="2687760"/>
                <a:tab algn="ctr" pos="4129200"/>
                <a:tab algn="dec" pos="5735520"/>
                <a:tab algn="ctr" pos="6373800"/>
                <a:tab algn="ctr" pos="699624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600" spc="-1" strike="noStrike">
                <a:solidFill>
                  <a:srgbClr val="0000ff"/>
                </a:solidFill>
                <a:latin typeface="Wingdings"/>
                <a:ea typeface="Wingdings"/>
              </a:rPr>
              <a:t></a:t>
            </a: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15000"/>
              </a:lnSpc>
              <a:tabLst>
                <a:tab algn="l" pos="0"/>
                <a:tab algn="ctr" pos="1081080"/>
                <a:tab algn="ctr" pos="2687760"/>
                <a:tab algn="ctr" pos="4129200"/>
                <a:tab algn="dec" pos="5735520"/>
                <a:tab algn="ctr" pos="6373800"/>
                <a:tab algn="ctr" pos="699624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15000"/>
              </a:lnSpc>
              <a:tabLst>
                <a:tab algn="l" pos="0"/>
                <a:tab algn="ctr" pos="1081080"/>
                <a:tab algn="ctr" pos="2687760"/>
                <a:tab algn="ctr" pos="4129200"/>
                <a:tab algn="dec" pos="5735520"/>
                <a:tab algn="ctr" pos="6373800"/>
                <a:tab algn="ctr" pos="699624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600" spc="-1" strike="noStrike">
                <a:solidFill>
                  <a:srgbClr val="0000ff"/>
                </a:solidFill>
                <a:latin typeface="Wingdings"/>
                <a:ea typeface="Wingdings"/>
              </a:rPr>
              <a:t></a:t>
            </a: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BDB1-BF38-47E5-B453-73ED1E8E8CDA}" type="slidenum">
              <a:t>5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1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10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500"/>
                            </p:stCondLst>
                            <p:childTnLst>
                              <p:par>
                                <p:cTn id="4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1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1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50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3000"/>
                            </p:stCondLst>
                            <p:childTnLst>
                              <p:par>
                                <p:cTn id="4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993600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56908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หน่วยงานที่ตรวจสอบ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โรงงานพลาสติ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โครงงาน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เรื่องที่ตรวจสอบ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สินค้าคงเหลือ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เพียงวันที่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:  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31/12/25X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วัตถุประสงค์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เพื่อระบุความครบถ้วนของบันทึกการส่งสินค้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ขอบเขต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เอกสารการส่งสินค้าของปี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25X1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เลขที่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24165 - 28458 (4293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รายการ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แผนการทดสอบและเก็บหลักฐาน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สุ่มตัวอย่างเอกสารการส่งสินค้า ตามรอยการบันทึกรายการไปยังสมุดรายวันขาย 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(1)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และรายละเอียดสินค้าคงเหลือ 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(2)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และเช็คสอบกับใบสั่งซื้อจากลูกค้า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(3)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และรายการรับชำระเงิน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(4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ขนาดตัวอย่างที่สุ่ม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            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45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วิธีการสุ่ม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เครื่องมือ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Simple Random / MS Exc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"/>
          <p:cNvSpPr/>
          <p:nvPr/>
        </p:nvSpPr>
        <p:spPr>
          <a:xfrm>
            <a:off x="468360" y="333360"/>
            <a:ext cx="835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748440" indent="-24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84120"/>
                <a:tab algn="r" pos="798516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ahoma"/>
                <a:cs typeface="Tahoma"/>
              </a:rPr>
              <a:t>กระดาษทำการ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  <a:ea typeface="Tahoma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ea typeface="Tahoma"/>
              </a:rPr>
              <a:t> ตัวอย่างจากกรณีศึกษาที่ 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ea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88" name=""/>
          <p:cNvSpPr/>
          <p:nvPr/>
        </p:nvSpPr>
        <p:spPr>
          <a:xfrm>
            <a:off x="250920" y="3500280"/>
            <a:ext cx="87138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0"/>
          </a:bodyPr>
          <a:p>
            <a:pPr marL="137160" indent="-13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จำนวนเบี่ยงเบนที่ยอมได้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: 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  <a:ea typeface="Tahoma"/>
              </a:rPr>
              <a:t>0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  <a:p>
            <a:pPr marL="137160" indent="-13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จำนวนเบี่ยงเบนที่พบ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: 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  <a:ea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  <a:p>
            <a:pPr marL="137160" indent="-13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  <a:cs typeface="Tahoma"/>
              </a:rPr>
              <a:t>สรุปได้ที่ระดับความเชื่อมั่น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90%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  <a:cs typeface="Tahoma"/>
              </a:rPr>
              <a:t>ว่าอัตราเบี่ยงเบนสูงสุดในประชากรไม่เกิน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5%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  <a:cs typeface="Tahoma"/>
              </a:rPr>
              <a:t>ซึ่งยังไม่เกิน เกณฑ์กำหนดของระดับอัตราเบี่ยงเบนที่จะทำให้การควบคุมไม่น่าเชื่อถือที่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5%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  <a:cs typeface="Tahoma"/>
              </a:rPr>
              <a:t>สำหรับการทดสอบการควบคุมประเภทที่ใช้กำจัดความเสี่ยง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  <a:p>
            <a:pPr marL="137160" indent="-13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  <a:p>
            <a:pPr marL="137160" indent="-13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สรุป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  <a:cs typeface="Tahoma"/>
              </a:rPr>
              <a:t>บันทึกการส่งสินค้าครบถ้วนตามที่ควร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89" name=""/>
          <p:cNvSpPr/>
          <p:nvPr/>
        </p:nvSpPr>
        <p:spPr>
          <a:xfrm>
            <a:off x="8244000" y="1197000"/>
            <a:ext cx="649080" cy="649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ngsana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90" name=""/>
          <p:cNvSpPr/>
          <p:nvPr/>
        </p:nvSpPr>
        <p:spPr>
          <a:xfrm>
            <a:off x="3060720" y="29973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ngsana New"/>
              </a:rPr>
              <a:t>F-1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91" name=""/>
          <p:cNvSpPr/>
          <p:nvPr/>
        </p:nvSpPr>
        <p:spPr>
          <a:xfrm>
            <a:off x="3038400" y="37893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ngsana New"/>
              </a:rPr>
              <a:t>F-2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708360" y="5805360"/>
            <a:ext cx="5256360" cy="863640"/>
            <a:chOff x="3708360" y="5805360"/>
            <a:chExt cx="5256360" cy="863640"/>
          </a:xfrm>
        </p:grpSpPr>
        <p:sp>
          <p:nvSpPr>
            <p:cNvPr id="393" name=""/>
            <p:cNvSpPr/>
            <p:nvPr/>
          </p:nvSpPr>
          <p:spPr>
            <a:xfrm>
              <a:off x="3708360" y="5805360"/>
              <a:ext cx="5256360" cy="86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marL="425160" indent="-425160">
                <a:lnSpc>
                  <a:spcPct val="100000"/>
                </a:lnSpc>
                <a:tabLst>
                  <a:tab algn="l" pos="0"/>
                  <a:tab algn="l" pos="995400"/>
                  <a:tab algn="l" pos="2682720"/>
                  <a:tab algn="l" pos="3860640"/>
                  <a:tab algn="l" pos="60148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rdia New"/>
              </a:endParaRPr>
            </a:p>
            <a:p>
              <a:pPr marL="425160" indent="-425160">
                <a:lnSpc>
                  <a:spcPct val="100000"/>
                </a:lnSpc>
                <a:tabLst>
                  <a:tab algn="l" pos="0"/>
                  <a:tab algn="l" pos="995400"/>
                  <a:tab algn="l" pos="2682720"/>
                  <a:tab algn="l" pos="3860640"/>
                  <a:tab algn="l" pos="60148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จัดทำโดย</a:t>
              </a:r>
              <a:r>
                <a:rPr b="0" lang="th-TH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th-TH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th-TH" sz="14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สอบทานโดย </a:t>
              </a:r>
              <a:r>
                <a:rPr b="0" lang="th-TH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Cordia New"/>
              </a:endParaRPr>
            </a:p>
            <a:p>
              <a:pPr marL="425160" indent="-425160">
                <a:lnSpc>
                  <a:spcPct val="100000"/>
                </a:lnSpc>
                <a:tabLst>
                  <a:tab algn="l" pos="0"/>
                  <a:tab algn="l" pos="995400"/>
                  <a:tab algn="l" pos="2682720"/>
                  <a:tab algn="l" pos="3860640"/>
                  <a:tab algn="l" pos="60148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วันที่</a:t>
              </a:r>
              <a:r>
                <a:rPr b="0" lang="th-TH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th-TH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i="1" lang="en-US" sz="1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10</a:t>
              </a:r>
              <a:r>
                <a:rPr b="0" i="1" lang="th-TH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/</a:t>
              </a:r>
              <a:r>
                <a:rPr b="0" i="1" lang="th-TH" sz="1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 1 </a:t>
              </a:r>
              <a:r>
                <a:rPr b="0" i="1" lang="th-TH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/</a:t>
              </a:r>
              <a:r>
                <a:rPr b="0" i="1" lang="th-TH" sz="1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 </a:t>
              </a:r>
              <a:r>
                <a:rPr b="0" i="1" lang="en-US" sz="1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X2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th-TH" sz="14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วันที่</a:t>
              </a:r>
              <a:r>
                <a:rPr b="0" lang="th-TH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i="1" lang="en-US" sz="1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20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i="1" lang="th-TH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/ </a:t>
              </a:r>
              <a:r>
                <a:rPr b="0" i="1" lang="th-TH" sz="1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1 </a:t>
              </a:r>
              <a:r>
                <a:rPr b="0" i="1" lang="th-TH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i="1" lang="en-US" sz="1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X2</a:t>
              </a:r>
              <a:r>
                <a:rPr b="0" i="1" lang="th-TH" sz="1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ordia New"/>
              </a:endParaRPr>
            </a:p>
          </p:txBody>
        </p:sp>
        <p:pic>
          <p:nvPicPr>
            <p:cNvPr id="394" name="" descr=""/>
            <p:cNvPicPr/>
            <p:nvPr/>
          </p:nvPicPr>
          <p:blipFill>
            <a:blip r:embed="rId3"/>
            <a:stretch/>
          </p:blipFill>
          <p:spPr>
            <a:xfrm>
              <a:off x="4932360" y="5833800"/>
              <a:ext cx="122544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" descr=""/>
            <p:cNvPicPr/>
            <p:nvPr/>
          </p:nvPicPr>
          <p:blipFill>
            <a:blip r:embed="rId4"/>
            <a:stretch/>
          </p:blipFill>
          <p:spPr>
            <a:xfrm>
              <a:off x="7956720" y="5846760"/>
              <a:ext cx="718920" cy="37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BECB-8A01-421C-94E7-97F04F8B01DC}" type="slidenum">
              <a:t>5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993600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56908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หน่วยงานที่ตรวจสอบ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โรงงานพลาสติ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โครงงาน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เรื่องที่ตรวจสอบ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สินค้าคงเหลือ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เพียงวันที่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:  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31/12/25X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วัตถุประสงค์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เพื่อระบุความครบถ้วนของบันทึกการส่งสินค้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ขอบเขต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เอกสารการส่งสินค้าของปี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25X1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เลขที่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24165 - 28458 (4293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รายการ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แผนการทดสอบและเก็บหลักฐาน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สุ่มตัวอย่างเอกสารการส่งสินค้า ตามรอยการบันทึกรายการไปยังสมุดรายวันขาย 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(1)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และรายละเอียดสินค้าคงเหลือ 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(2)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และเช็คสอบกับใบสั่งซื้อจากลูกค้า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(3)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และรายการรับชำระเงิน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(4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ขนาดตัวอย่างที่สุ่ม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            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45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วิธีการสุ่ม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เครื่องมือ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Simple Random / MS Exc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"/>
          <p:cNvSpPr/>
          <p:nvPr/>
        </p:nvSpPr>
        <p:spPr>
          <a:xfrm>
            <a:off x="468360" y="333360"/>
            <a:ext cx="835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748440" indent="-24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84120"/>
                <a:tab algn="r" pos="798516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ahoma"/>
                <a:cs typeface="Tahoma"/>
              </a:rPr>
              <a:t>กระดาษทำการ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  <a:ea typeface="Tahoma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ea typeface="Tahoma"/>
              </a:rPr>
              <a:t> ตัวอย่างจากกรณีศึกษาที่ 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ea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99" name=""/>
          <p:cNvSpPr/>
          <p:nvPr/>
        </p:nvSpPr>
        <p:spPr>
          <a:xfrm>
            <a:off x="250920" y="3500280"/>
            <a:ext cx="87138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0"/>
          </a:bodyPr>
          <a:p>
            <a:pPr marL="137160" indent="-13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จำนวนเบี่ยงเบนที่ยอมได้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: 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  <a:ea typeface="Tahoma"/>
              </a:rPr>
              <a:t>0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  <a:p>
            <a:pPr marL="137160" indent="-13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จำนวนเบี่ยงเบนที่พบ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: 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  <a:ea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  <a:p>
            <a:pPr marL="137160" indent="-13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  <a:cs typeface="Tahoma"/>
              </a:rPr>
              <a:t>สรุปได้ที่ระดับความเชื่อมั่น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90%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  <a:cs typeface="Tahoma"/>
              </a:rPr>
              <a:t>ว่าอัตราเบี่ยงเบนสูงสุดในประชากรไม่เกิน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5%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  <a:cs typeface="Tahoma"/>
              </a:rPr>
              <a:t>ซึ่งยังไม่เกิน เกณฑ์กำหนดของระดับอัตราเบี่ยงเบนที่จะทำให้การควบคุมไม่น่าเชื่อถือที่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5%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  <a:cs typeface="Tahoma"/>
              </a:rPr>
              <a:t>สำหรับการทดสอบการควบคุมประเภทที่ใช้กำจัดความเสี่ยง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  <a:p>
            <a:pPr marL="137160" indent="-13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  <a:p>
            <a:pPr marL="137160" indent="-13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สรุป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  <a:cs typeface="Tahoma"/>
              </a:rPr>
              <a:t>บันทึกการส่งสินค้าครบถ้วนตามที่ควร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00" name=""/>
          <p:cNvSpPr/>
          <p:nvPr/>
        </p:nvSpPr>
        <p:spPr>
          <a:xfrm>
            <a:off x="8244000" y="1197000"/>
            <a:ext cx="649080" cy="649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ngsana New"/>
              </a:rPr>
              <a:t>G-1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01" name=""/>
          <p:cNvSpPr/>
          <p:nvPr/>
        </p:nvSpPr>
        <p:spPr>
          <a:xfrm>
            <a:off x="3060720" y="29973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ngsana New"/>
              </a:rPr>
              <a:t>F-1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02" name=""/>
          <p:cNvSpPr/>
          <p:nvPr/>
        </p:nvSpPr>
        <p:spPr>
          <a:xfrm>
            <a:off x="3038400" y="37893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ngsana New"/>
              </a:rPr>
              <a:t>F-2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3708360" y="5805360"/>
            <a:ext cx="5256360" cy="863640"/>
            <a:chOff x="3708360" y="5805360"/>
            <a:chExt cx="5256360" cy="863640"/>
          </a:xfrm>
        </p:grpSpPr>
        <p:sp>
          <p:nvSpPr>
            <p:cNvPr id="404" name=""/>
            <p:cNvSpPr/>
            <p:nvPr/>
          </p:nvSpPr>
          <p:spPr>
            <a:xfrm>
              <a:off x="3708360" y="5805360"/>
              <a:ext cx="5256360" cy="86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marL="425160" indent="-425160">
                <a:lnSpc>
                  <a:spcPct val="100000"/>
                </a:lnSpc>
                <a:tabLst>
                  <a:tab algn="l" pos="0"/>
                  <a:tab algn="l" pos="995400"/>
                  <a:tab algn="l" pos="2682720"/>
                  <a:tab algn="l" pos="3860640"/>
                  <a:tab algn="l" pos="60148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rdia New"/>
              </a:endParaRPr>
            </a:p>
            <a:p>
              <a:pPr marL="425160" indent="-425160">
                <a:lnSpc>
                  <a:spcPct val="100000"/>
                </a:lnSpc>
                <a:tabLst>
                  <a:tab algn="l" pos="0"/>
                  <a:tab algn="l" pos="995400"/>
                  <a:tab algn="l" pos="2682720"/>
                  <a:tab algn="l" pos="3860640"/>
                  <a:tab algn="l" pos="60148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จัดทำโดย</a:t>
              </a:r>
              <a:r>
                <a:rPr b="0" lang="th-TH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th-TH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th-TH" sz="14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สอบทานโดย </a:t>
              </a:r>
              <a:r>
                <a:rPr b="0" lang="th-TH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Cordia New"/>
              </a:endParaRPr>
            </a:p>
            <a:p>
              <a:pPr marL="425160" indent="-425160">
                <a:lnSpc>
                  <a:spcPct val="100000"/>
                </a:lnSpc>
                <a:tabLst>
                  <a:tab algn="l" pos="0"/>
                  <a:tab algn="l" pos="995400"/>
                  <a:tab algn="l" pos="2682720"/>
                  <a:tab algn="l" pos="3860640"/>
                  <a:tab algn="l" pos="60148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วันที่</a:t>
              </a:r>
              <a:r>
                <a:rPr b="0" lang="th-TH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th-TH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i="1" lang="en-US" sz="1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10</a:t>
              </a:r>
              <a:r>
                <a:rPr b="0" i="1" lang="th-TH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/</a:t>
              </a:r>
              <a:r>
                <a:rPr b="0" i="1" lang="th-TH" sz="1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 1 </a:t>
              </a:r>
              <a:r>
                <a:rPr b="0" i="1" lang="th-TH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/</a:t>
              </a:r>
              <a:r>
                <a:rPr b="0" i="1" lang="th-TH" sz="1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 </a:t>
              </a:r>
              <a:r>
                <a:rPr b="0" i="1" lang="en-US" sz="1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X2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th-TH" sz="14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วันที่</a:t>
              </a:r>
              <a:r>
                <a:rPr b="0" lang="th-TH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i="1" lang="en-US" sz="1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20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i="1" lang="th-TH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/ </a:t>
              </a:r>
              <a:r>
                <a:rPr b="0" i="1" lang="th-TH" sz="1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1 </a:t>
              </a:r>
              <a:r>
                <a:rPr b="0" i="1" lang="th-TH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i="1" lang="en-US" sz="1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X2</a:t>
              </a:r>
              <a:r>
                <a:rPr b="0" i="1" lang="th-TH" sz="1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ordia New"/>
              </a:endParaRPr>
            </a:p>
          </p:txBody>
        </p:sp>
        <p:pic>
          <p:nvPicPr>
            <p:cNvPr id="405" name="" descr=""/>
            <p:cNvPicPr/>
            <p:nvPr/>
          </p:nvPicPr>
          <p:blipFill>
            <a:blip r:embed="rId3"/>
            <a:stretch/>
          </p:blipFill>
          <p:spPr>
            <a:xfrm>
              <a:off x="4932360" y="5833800"/>
              <a:ext cx="122544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" descr=""/>
            <p:cNvPicPr/>
            <p:nvPr/>
          </p:nvPicPr>
          <p:blipFill>
            <a:blip r:embed="rId4"/>
            <a:stretch/>
          </p:blipFill>
          <p:spPr>
            <a:xfrm>
              <a:off x="7956720" y="5846760"/>
              <a:ext cx="718920" cy="37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FDE8-257B-4F4A-8EE1-BAFAA1AAE31E}" type="slidenum">
              <a:t>5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993600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56908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หน่วยงานที่ตรวจสอบ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โรงงานพลาสติ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โครงงาน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เรื่องที่ตรวจสอบ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สินค้าคงเหลือ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เพียงวันที่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:  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31/12/25X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วัตถุประสงค์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เพื่อระบุความครบถ้วนของบันทึกการส่งสินค้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ขอบเขต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เอกสารการส่งสินค้าของปี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25X1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เลขที่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24165 - 28458 (4293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รายการ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แผนการทดสอบและเก็บหลักฐาน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สุ่มตัวอย่างเอกสารการส่งสินค้า ตามรอยการบันทึกรายการไปยังสมุดรายวันขาย 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(1)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และรายละเอียดสินค้าคงเหลือ 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(2)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และเช็คสอบกับใบสั่งซื้อจากลูกค้า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(3)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และรายการรับชำระเงิน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(4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ขนาดตัวอย่างที่สุ่ม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            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45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วิธีการสุ่ม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เครื่องมือ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Simple Random / MS Exc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"/>
          <p:cNvSpPr/>
          <p:nvPr/>
        </p:nvSpPr>
        <p:spPr>
          <a:xfrm>
            <a:off x="468360" y="333360"/>
            <a:ext cx="835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748440" indent="-24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84120"/>
                <a:tab algn="r" pos="798516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ahoma"/>
                <a:cs typeface="Tahoma"/>
              </a:rPr>
              <a:t>กระดาษทำการ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  <a:ea typeface="Tahoma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ea typeface="Tahoma"/>
              </a:rPr>
              <a:t> ตัวอย่างจากกรณีศึกษาที่ 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ea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10" name=""/>
          <p:cNvSpPr/>
          <p:nvPr/>
        </p:nvSpPr>
        <p:spPr>
          <a:xfrm>
            <a:off x="250920" y="3500280"/>
            <a:ext cx="87138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0"/>
          </a:bodyPr>
          <a:p>
            <a:pPr marL="137160" indent="-13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จำนวนเบี่ยงเบนที่ยอมได้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: 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  <a:ea typeface="Tahoma"/>
              </a:rPr>
              <a:t>0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  <a:p>
            <a:pPr marL="137160" indent="-13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จำนวนเบี่ยงเบนที่พบ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: 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  <a:ea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  <a:p>
            <a:pPr marL="137160" indent="-13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  <a:cs typeface="Tahoma"/>
              </a:rPr>
              <a:t>สรุปได้ที่ระดับความเชื่อมั่น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90%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  <a:cs typeface="Tahoma"/>
              </a:rPr>
              <a:t>ว่าอัตราเบี่ยงเบนสูงสุดในประชากรไม่เกิน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5%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  <a:cs typeface="Tahoma"/>
              </a:rPr>
              <a:t>ซึ่งยังไม่เกิน เกณฑ์กำหนดของระดับอัตราเบี่ยงเบนที่จะทำให้การควบคุมไม่น่าเชื่อถือที่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5%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  <a:cs typeface="Tahoma"/>
              </a:rPr>
              <a:t>สำหรับการทดสอบการควบคุมประเภทที่ใช้กำจัดความเสี่ยง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  <a:p>
            <a:pPr marL="137160" indent="-13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  <a:p>
            <a:pPr marL="137160" indent="-13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สรุป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  <a:cs typeface="Tahoma"/>
              </a:rPr>
              <a:t>บันทึกการส่งสินค้าครบถ้วนตามที่ควร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11" name=""/>
          <p:cNvSpPr/>
          <p:nvPr/>
        </p:nvSpPr>
        <p:spPr>
          <a:xfrm>
            <a:off x="8244000" y="1197000"/>
            <a:ext cx="649080" cy="649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ngsana New"/>
              </a:rPr>
              <a:t>G-2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12" name=""/>
          <p:cNvSpPr/>
          <p:nvPr/>
        </p:nvSpPr>
        <p:spPr>
          <a:xfrm>
            <a:off x="3060720" y="29973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ngsana New"/>
              </a:rPr>
              <a:t>F-1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13" name=""/>
          <p:cNvSpPr/>
          <p:nvPr/>
        </p:nvSpPr>
        <p:spPr>
          <a:xfrm>
            <a:off x="3038400" y="37893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ngsana New"/>
              </a:rPr>
              <a:t>F-2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08360" y="5805360"/>
            <a:ext cx="5256360" cy="863640"/>
            <a:chOff x="3708360" y="5805360"/>
            <a:chExt cx="5256360" cy="863640"/>
          </a:xfrm>
        </p:grpSpPr>
        <p:sp>
          <p:nvSpPr>
            <p:cNvPr id="415" name=""/>
            <p:cNvSpPr/>
            <p:nvPr/>
          </p:nvSpPr>
          <p:spPr>
            <a:xfrm>
              <a:off x="3708360" y="5805360"/>
              <a:ext cx="5256360" cy="86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marL="425160" indent="-425160">
                <a:lnSpc>
                  <a:spcPct val="100000"/>
                </a:lnSpc>
                <a:tabLst>
                  <a:tab algn="l" pos="0"/>
                  <a:tab algn="l" pos="995400"/>
                  <a:tab algn="l" pos="2682720"/>
                  <a:tab algn="l" pos="3860640"/>
                  <a:tab algn="l" pos="60148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rdia New"/>
              </a:endParaRPr>
            </a:p>
            <a:p>
              <a:pPr marL="425160" indent="-425160">
                <a:lnSpc>
                  <a:spcPct val="100000"/>
                </a:lnSpc>
                <a:tabLst>
                  <a:tab algn="l" pos="0"/>
                  <a:tab algn="l" pos="995400"/>
                  <a:tab algn="l" pos="2682720"/>
                  <a:tab algn="l" pos="3860640"/>
                  <a:tab algn="l" pos="60148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จัดทำโดย</a:t>
              </a:r>
              <a:r>
                <a:rPr b="0" lang="th-TH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th-TH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th-TH" sz="14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สอบทานโดย </a:t>
              </a:r>
              <a:r>
                <a:rPr b="0" lang="th-TH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Cordia New"/>
              </a:endParaRPr>
            </a:p>
            <a:p>
              <a:pPr marL="425160" indent="-425160">
                <a:lnSpc>
                  <a:spcPct val="100000"/>
                </a:lnSpc>
                <a:tabLst>
                  <a:tab algn="l" pos="0"/>
                  <a:tab algn="l" pos="995400"/>
                  <a:tab algn="l" pos="2682720"/>
                  <a:tab algn="l" pos="3860640"/>
                  <a:tab algn="l" pos="60148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วันที่</a:t>
              </a:r>
              <a:r>
                <a:rPr b="0" lang="th-TH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th-TH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i="1" lang="en-US" sz="1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10</a:t>
              </a:r>
              <a:r>
                <a:rPr b="0" i="1" lang="th-TH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/</a:t>
              </a:r>
              <a:r>
                <a:rPr b="0" i="1" lang="th-TH" sz="1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 1 </a:t>
              </a:r>
              <a:r>
                <a:rPr b="0" i="1" lang="th-TH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/</a:t>
              </a:r>
              <a:r>
                <a:rPr b="0" i="1" lang="th-TH" sz="1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 </a:t>
              </a:r>
              <a:r>
                <a:rPr b="0" i="1" lang="en-US" sz="1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X2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th-TH" sz="14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วันที่</a:t>
              </a:r>
              <a:r>
                <a:rPr b="0" lang="th-TH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i="1" lang="en-US" sz="1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20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i="1" lang="th-TH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/ </a:t>
              </a:r>
              <a:r>
                <a:rPr b="0" i="1" lang="th-TH" sz="1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1 </a:t>
              </a:r>
              <a:r>
                <a:rPr b="0" i="1" lang="th-TH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i="1" lang="en-US" sz="1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X2</a:t>
              </a:r>
              <a:r>
                <a:rPr b="0" i="1" lang="th-TH" sz="1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ordia New"/>
              </a:endParaRPr>
            </a:p>
          </p:txBody>
        </p:sp>
        <p:pic>
          <p:nvPicPr>
            <p:cNvPr id="416" name="" descr=""/>
            <p:cNvPicPr/>
            <p:nvPr/>
          </p:nvPicPr>
          <p:blipFill>
            <a:blip r:embed="rId3"/>
            <a:stretch/>
          </p:blipFill>
          <p:spPr>
            <a:xfrm>
              <a:off x="4932360" y="5833800"/>
              <a:ext cx="122544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4"/>
            <a:stretch/>
          </p:blipFill>
          <p:spPr>
            <a:xfrm>
              <a:off x="7956720" y="5846760"/>
              <a:ext cx="718920" cy="379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18" name="" descr=""/>
          <p:cNvPicPr/>
          <p:nvPr/>
        </p:nvPicPr>
        <p:blipFill>
          <a:blip r:embed="rId5"/>
          <a:stretch/>
        </p:blipFill>
        <p:spPr>
          <a:xfrm>
            <a:off x="4500720" y="189000"/>
            <a:ext cx="3147840" cy="568944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6"/>
          <a:stretch/>
        </p:blipFill>
        <p:spPr>
          <a:xfrm>
            <a:off x="-828720" y="1125360"/>
            <a:ext cx="3888000" cy="29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6A35-D1D4-49FC-8950-0D2550237E77}" type="slidenum">
              <a:t>5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250560" y="1378080"/>
            <a:ext cx="8497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455760" indent="0"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1706400"/>
                <a:tab algn="l" pos="215424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ผู้ตรวจสอบภายในได้เข้าตรวจสอบสาเหตุของเพลิงไหม้โรงงานเมื่อ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มีนาคม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5X1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ซึ่งทำให้เสียกำลังผลิตประมาณ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0%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ขณะที่ประกันภัยคุ้มครองเพียง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%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ของความเสียหาย ผู้บริหารคาดว่าต้องใช้เวลาแก้ไขถึง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เดือนกว่าที่จะกลับมาผลิตเต็มกำลังได้และรายได้ปีนี้อาจลดลงถึง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0%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ผู้ตรวจสอบสงสัยว่าความบกพร่องหรือการฝ่าฝืนการควบคุมภายในน่าจะเป็นสาเหตุของเพลิงไหม้ครั้งนี้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5760" indent="0"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1706400"/>
                <a:tab algn="l" pos="215424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ต่อไปนี้เป็นส่วนหนึ่งจากรายงานการตรวจสอบ ลงวันที่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พฤษภาคม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5X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5760" indent="0">
              <a:spcBef>
                <a:spcPts val="451"/>
              </a:spcBef>
              <a:buNone/>
              <a:tabLst>
                <a:tab algn="l" pos="0"/>
                <a:tab algn="l" pos="1706400"/>
                <a:tab algn="l" pos="215424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“ </a:t>
            </a:r>
            <a:r>
              <a:rPr b="0" lang="th-TH" sz="1800" spc="-1" strike="noStrike" u="sng">
                <a:solidFill>
                  <a:srgbClr val="0000ff"/>
                </a:solidFill>
                <a:uFillTx/>
                <a:latin typeface="Tahoma"/>
              </a:rPr>
              <a:t>วัตถุประสงค์การตรวจสอบ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เพื่อดูว่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54800" indent="0">
              <a:spcBef>
                <a:spcPts val="451"/>
              </a:spcBef>
              <a:buNone/>
              <a:tabLst>
                <a:tab algn="l" pos="0"/>
                <a:tab algn="l" pos="1706400"/>
                <a:tab algn="l" pos="215424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ก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มีการควบคุมภายในที่เหมาะสม ณ วันเกิดเหตุ โดยบริเวณที่จัดไว้เป็นสถานที่สำหรับสูบบุหรี่อยู่ห่างจากโรงงานผลิตอย่างเพียงพอ แล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54800" indent="0"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1706400"/>
                <a:tab algn="l" pos="215424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ข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ความบกพร่องหรือการฝ่าฝืนการควบคุมภายในดังกล่าวเป็นเหตุทำให้เพลิงไหม้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5760" indent="0"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1706400"/>
                <a:tab algn="l" pos="215424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th-TH" sz="1800" spc="-1" strike="noStrike" u="sng">
                <a:solidFill>
                  <a:srgbClr val="0000ff"/>
                </a:solidFill>
                <a:uFillTx/>
                <a:latin typeface="Tahoma"/>
              </a:rPr>
              <a:t>ผลการตรวจสอบ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มีบริเวณที่จัดไว้เป็นสถานที่สำหรับสูบบุหรี่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2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แห่งด้านนอกของทางเข้าโรงงานด้านทิศเหนือและทิศใต้ และมีป้ายสัญลักษณ์เตือนห้ามสูบบุหรี่นอกบริเวณดังกล่าว แต่ก็มีคนงานหลายคนที่ละเลยไม่สนใจคำเตือนและยังคงสูบบุหรี่ในโรงงา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5760" indent="0"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1706400"/>
                <a:tab algn="l" pos="215424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th-TH" sz="1800" spc="-1" strike="noStrike" u="sng">
                <a:solidFill>
                  <a:srgbClr val="0000ff"/>
                </a:solidFill>
                <a:uFillTx/>
                <a:latin typeface="Tahoma"/>
              </a:rPr>
              <a:t>ข้อเสนอแนะ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ผู้บริหารควรสั่งการหัวหน้าคนงานให้กำชับคนงานปฏิบัติตามนโยบายของบริษัทอย่างเคร่งครัด โดยให้สูบบุหรี่ในสถานที่ที่จัดไว้ด้านนอกโรงงานเท่านั้น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"/>
          <p:cNvSpPr/>
          <p:nvPr/>
        </p:nvSpPr>
        <p:spPr>
          <a:xfrm>
            <a:off x="468360" y="333360"/>
            <a:ext cx="771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lvl="1" marL="671040" indent="-222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84120"/>
                <a:tab algn="r" pos="7273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ahoma"/>
                <a:cs typeface="Tahoma"/>
              </a:rPr>
              <a:t>กรณีศึกษาที่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6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hi-IN" sz="2000" spc="-1" strike="noStrike">
                <a:solidFill>
                  <a:srgbClr val="0000ff"/>
                </a:solidFill>
                <a:latin typeface="Tahoma"/>
                <a:cs typeface="Tahoma"/>
              </a:rPr>
              <a:t>เพลิงไหม้โรงงาน</a:t>
            </a:r>
            <a:endParaRPr b="0" lang="en-US" sz="20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22" name=""/>
          <p:cNvSpPr/>
          <p:nvPr/>
        </p:nvSpPr>
        <p:spPr>
          <a:xfrm>
            <a:off x="7165800" y="655308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(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อ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3 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น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471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3049-7A33-473D-B54E-2A0B307D132C}" type="slidenum">
              <a:t>5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433440" y="1521000"/>
            <a:ext cx="853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ไม่เพียงพอที่จะเป็นประเด็น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ขาด </a:t>
            </a:r>
            <a:r>
              <a:rPr b="0" lang="th-TH" sz="1800" spc="-1" strike="noStrike" u="sng">
                <a:solidFill>
                  <a:srgbClr val="0000ff"/>
                </a:solidFill>
                <a:uFillTx/>
                <a:latin typeface="Tahoma"/>
              </a:rPr>
              <a:t>หลักเกณฑ์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th-TH" sz="1800" spc="-1" strike="noStrike" u="sng">
                <a:solidFill>
                  <a:srgbClr val="0000ff"/>
                </a:solidFill>
                <a:uFillTx/>
                <a:latin typeface="Tahoma"/>
              </a:rPr>
              <a:t>ข้อเท็จจริง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ไม่สัมพันธ์กับวัตถุประสงค์การตรวจสอบ ไม่มี </a:t>
            </a:r>
            <a:r>
              <a:rPr b="0" lang="th-TH" sz="1800" spc="-1" strike="noStrike" u="sng">
                <a:solidFill>
                  <a:srgbClr val="0000ff"/>
                </a:solidFill>
                <a:uFillTx/>
                <a:latin typeface="Tahoma"/>
              </a:rPr>
              <a:t>ผลกระทบ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และ </a:t>
            </a:r>
            <a:r>
              <a:rPr b="0" lang="th-TH" sz="1800" spc="-1" strike="noStrike" u="sng">
                <a:solidFill>
                  <a:srgbClr val="0000ff"/>
                </a:solidFill>
                <a:uFillTx/>
                <a:latin typeface="Tahoma"/>
              </a:rPr>
              <a:t>สาเหต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504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ไม่ได้ระบุว่า </a:t>
            </a:r>
            <a:r>
              <a:rPr b="0" lang="th-TH" sz="1800" spc="-1" strike="noStrike" u="sng">
                <a:solidFill>
                  <a:srgbClr val="0000ff"/>
                </a:solidFill>
                <a:uFillTx/>
                <a:latin typeface="Tahoma"/>
              </a:rPr>
              <a:t>ข้อเท็จจริง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เป็นข้อเท็จจริงในวันเกิดเหต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504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ไม่ได้เสนอ </a:t>
            </a:r>
            <a:r>
              <a:rPr b="0" lang="th-TH" sz="1800" spc="-1" strike="noStrike" u="sng">
                <a:solidFill>
                  <a:srgbClr val="0000ff"/>
                </a:solidFill>
                <a:uFillTx/>
                <a:latin typeface="Tahoma"/>
              </a:rPr>
              <a:t>ข้อสรุปของวัตถุประสงค์การตรวจ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504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 u="sng">
                <a:solidFill>
                  <a:srgbClr val="0000ff"/>
                </a:solidFill>
                <a:uFillTx/>
                <a:latin typeface="Tahoma"/>
              </a:rPr>
              <a:t>ข้อเสนอแนะ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ขาดน้ำหนักเหตุผล ซึ่งขึ้นกับว่า ก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ข้อเสนอแนะตรงกับสาเหตุของปัญหาหรือไม่ และ ข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มีความเป็นไปได้เพียงใดที่ข้อเสนอแนะจะช่วยแก้ปัญหาได้จริง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504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 u="sng">
                <a:solidFill>
                  <a:srgbClr val="0000ff"/>
                </a:solidFill>
                <a:uFillTx/>
                <a:latin typeface="Tahoma"/>
              </a:rPr>
              <a:t>หลักฐานการตรวจสอบ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ผู้ตรวจสอบน่าจะได้สังเกตป้ายสัญลักษณ์เตือน และพูดคุยกับพนักงานบางคน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504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504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แม้จะไม่ต้องถึงกับบรรยายวิธีการตรวจสอบโดยละเอียด อย่างน้อยผู้ตรวจสอบก็ควรสรุปลักษณะของหลักฐานที่รวบรวมได้ในรายงานพอสังเขป เพื่อสนับสนุนว่า ข้อสังเกต ผลสรุป และข้อเสนอแนะมาจากหลักฐานที่เชื่อถือได้  ถ้ามีหลักฐานประกอบเพียง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2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ข้อดังกล่าวก็ถือว่า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ไม่เพียงพออย่างยิ่ง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"/>
          <p:cNvSpPr/>
          <p:nvPr/>
        </p:nvSpPr>
        <p:spPr>
          <a:xfrm>
            <a:off x="8099280" y="6453360"/>
            <a:ext cx="360360" cy="331560"/>
          </a:xfrm>
          <a:custGeom>
            <a:avLst/>
            <a:gdLst>
              <a:gd name="textAreaLeft" fmla="*/ 21240 w 360360"/>
              <a:gd name="textAreaRight" fmla="*/ 339120 w 360360"/>
              <a:gd name="textAreaTop" fmla="*/ 21240 h 331560"/>
              <a:gd name="textAreaBottom" fmla="*/ 310320 h 331560"/>
            </a:gdLst>
            <a:ahLst/>
            <a:rect l="textAreaLeft" t="textAreaTop" r="textAreaRight" b="textAreaBottom"/>
            <a:pathLst>
              <a:path w="23474" h="21600">
                <a:moveTo>
                  <a:pt x="0" y="0"/>
                </a:moveTo>
                <a:lnTo>
                  <a:pt x="23474" y="0"/>
                </a:lnTo>
                <a:lnTo>
                  <a:pt x="23474" y="21600"/>
                </a:lnTo>
                <a:lnTo>
                  <a:pt x="0" y="21600"/>
                </a:lnTo>
                <a:close/>
              </a:path>
              <a:path fill="lightenLess" w="23474" h="21600">
                <a:moveTo>
                  <a:pt x="0" y="0"/>
                </a:moveTo>
                <a:lnTo>
                  <a:pt x="23474" y="0"/>
                </a:lnTo>
                <a:lnTo>
                  <a:pt x="22074" y="1400"/>
                </a:lnTo>
                <a:lnTo>
                  <a:pt x="1400" y="1400"/>
                </a:lnTo>
                <a:close/>
              </a:path>
              <a:path fill="darken" w="23474" h="21600">
                <a:moveTo>
                  <a:pt x="23474" y="0"/>
                </a:moveTo>
                <a:lnTo>
                  <a:pt x="23474" y="21600"/>
                </a:lnTo>
                <a:lnTo>
                  <a:pt x="22074" y="20200"/>
                </a:lnTo>
                <a:lnTo>
                  <a:pt x="22074" y="1400"/>
                </a:lnTo>
                <a:close/>
              </a:path>
              <a:path fill="darkenLess" w="23474" h="21600">
                <a:moveTo>
                  <a:pt x="234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74" y="20200"/>
                </a:lnTo>
                <a:close/>
              </a:path>
              <a:path fill="lighten" w="234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74" h="21600">
                <a:moveTo>
                  <a:pt x="4731" y="10800"/>
                </a:moveTo>
                <a:lnTo>
                  <a:pt x="18744" y="3794"/>
                </a:lnTo>
                <a:lnTo>
                  <a:pt x="1874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25" name=""/>
          <p:cNvSpPr/>
          <p:nvPr/>
        </p:nvSpPr>
        <p:spPr>
          <a:xfrm>
            <a:off x="468360" y="333360"/>
            <a:ext cx="771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748440" indent="-24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84120"/>
                <a:tab algn="r" pos="7273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ahoma"/>
                <a:cs typeface="Tahoma"/>
              </a:rPr>
              <a:t>กรณีศึกษาที่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hi-IN" sz="2000" spc="-1" strike="noStrike">
                <a:solidFill>
                  <a:srgbClr val="0000ff"/>
                </a:solidFill>
                <a:latin typeface="Tahoma"/>
                <a:cs typeface="Tahoma"/>
              </a:rPr>
              <a:t>เฉลย</a:t>
            </a:r>
            <a:endParaRPr b="0" lang="en-US" sz="20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26" name=""/>
          <p:cNvSpPr/>
          <p:nvPr/>
        </p:nvSpPr>
        <p:spPr>
          <a:xfrm>
            <a:off x="7165800" y="655308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(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อ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3 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น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471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1710-92C6-4669-A856-9BB88EAD39A7}" type="slidenum">
              <a:t>5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468360" y="333360"/>
            <a:ext cx="771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748440" indent="-24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84120"/>
                <a:tab algn="r" pos="7273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ahoma"/>
                <a:cs typeface="Tahoma"/>
              </a:rPr>
              <a:t>กรณีศึกษาพิเศษ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hi-IN" sz="2000" spc="-1" strike="noStrike">
                <a:solidFill>
                  <a:srgbClr val="0000ff"/>
                </a:solidFill>
                <a:latin typeface="Tahoma"/>
                <a:cs typeface="Tahoma"/>
              </a:rPr>
              <a:t>การเขียนรายงาน</a:t>
            </a:r>
            <a:endParaRPr b="0" lang="en-US" sz="20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28" name=""/>
          <p:cNvSpPr/>
          <p:nvPr/>
        </p:nvSpPr>
        <p:spPr>
          <a:xfrm>
            <a:off x="322200" y="1197000"/>
            <a:ext cx="83534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36504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รายงานการตรวจสอบ </a:t>
            </a:r>
            <a:br>
              <a:rPr sz="1800"/>
            </a:br>
            <a:r>
              <a:rPr b="1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การควบคุมภายในธุรกิจสินเชื่อเพื่อการบริโภครถยนต์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  <a:p>
            <a:pPr marL="365040" indent="-36504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...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จากการสุ่มหยิบแฟ้มลูกค้าตามโต๊ะมาตรวจในแง่ของความ</a:t>
            </a:r>
            <a:br>
              <a:rPr sz="1800"/>
            </a:b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ครบถ้วนถูกต้องของข้อมูลในระบบสินเชื่อและในแง่ของประสิทธิผล</a:t>
            </a:r>
            <a:br>
              <a:rPr sz="1800"/>
            </a:b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ของกระบวนการพิจารณาเครดิตโดยผู้ตรวจสอบ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ภายในผลการตรวจสอบปรากฏพบว่าเอกสารสำคัญไม่อยู่ในแฟ้มผู้กู้ ส่วนในแง่ของข้อมูลหลักประกันเงินให้กู้ยืมในสัญญาเช่าซื้อก็มีความไม่ถูกต้องและดูเหมือนกับว่าผู้บริหารมีการขาดความระมัดระวังในแง่ของการสังเกตุเงื่อนไขการปล่อยเงินกู้โดยยังคงมีการอนุมัตสินเชื่อเกินกว่าอำนาจที่คณะกรรมการทำการมอบหมายให้บ่อยครั้ง นอกจากนั้น ก็มีความแตกต่างกันในแง่ของข้อมูลยอด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aLance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ลูกหนี้ในระบบเช่าซื้อและระบบ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SAP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ณ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วันสิ้นเดือนที่แล้วถึง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215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,3222.5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บาท ซึ่งจำนวนที่แตกต่างกันถึงสองบาทนั้นมีการคลั่งค้างในระบบนี้มาเนิ่นนานแล้วและไม่ได้ถูกทำการกระทบยอดแล้วดำเนินการตรวจสอบหาสาเหตตั้งแต่ผังบัญชีใน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Module FI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ได้รับการปรับปรุงครั้งก่อนหน้านั้น ซึ่งผู้ตรวจสอบมีความเห็นว่านายองอาจ ญาติระอา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หรือผู้จัดการฝ่าย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ire Perchase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คนปัจจุบัน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ไม่ควรทำอะไรแบบนี้และควรได้รับการกำชับให้ซีเรียสกับการปฏิบัติหน้าที่เรื่องดังกล่าวนั้นให้มากกว่านี้และข้อบกพร่องอย่างที่เกิดขึ้นนี้นั้นควรได้รับการแก้เสียให้เรียบร้อย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...”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FD7E-9D63-4E7B-B010-19C8AEE305DA}" type="slidenum">
              <a:t>5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322200" y="1196640"/>
            <a:ext cx="8353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th-TH" sz="1800" spc="-1" strike="noStrike">
                <a:solidFill>
                  <a:srgbClr val="000000"/>
                </a:solidFill>
                <a:latin typeface="Tahoma"/>
              </a:rPr>
              <a:t>รายงานการตรวจสอบ </a:t>
            </a:r>
            <a:br>
              <a:rPr sz="1800"/>
            </a:br>
            <a:r>
              <a:rPr b="1" lang="th-TH" sz="1800" spc="-1" strike="noStrike">
                <a:solidFill>
                  <a:srgbClr val="000000"/>
                </a:solidFill>
                <a:latin typeface="Tahoma"/>
              </a:rPr>
              <a:t>การควบคุมภายในธุรกิจสินเชื่อเพื่อการบริโภครถยนต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504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จากการ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สุ่มหยิบแฟ้มลูกค้าตามโต๊ะมาตรวจในแง่ของความ</a:t>
            </a:r>
            <a:br>
              <a:rPr sz="1800"/>
            </a:b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ครบถ้วนถูกต้องของข้อมูลในระบบสินเชื่อและในแง่ของประสิทธิผล</a:t>
            </a:r>
            <a:br>
              <a:rPr sz="1800"/>
            </a:b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ของกระบวนการพิจารณาเครดิต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โดยผู้ตรวจสอบ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ภายในผลการตรวจสอบปรากฏพบว่าเอกสารสำคัญไม่อยู่ในแฟ้มผู้กู้ ส่วนในแง่ของข้อมูลหลักประกันเงินให้กู้ยืมในสัญญาเช่าซื้อก็มีความไม่ถูกต้องและดูเหมือนกับว่าผู้บริหารมีการขาดความระมัดระวังในแง่ของการสังเกตุเงื่อนไขการปล่อยเงินกู้โดยยังคงมีการอนุมัตสินเชื่อเกินกว่าอำนาจที่คณะกรรมการทำการมอบหมายให้บ่อยครั้ง นอกจากนั้น ก็มีความแตกต่างกันในแง่ของข้อมูลยอด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Lance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ลูกหนี้ในระบบเช่าซื้อและระบบ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AP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ณ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วันสิ้นเดือนที่แล้วถึง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215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3222.5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บาท ซึ่งจำนวนที่แตกต่างกันถึงสองบาทนั้นมีการคลั่งค้างในระบบนี้มาเนิ่นนานแล้วและไม่ได้ถูกทำการกระทบยอดแล้วดำเนินการตรวจสอบหาสาเหตตั้งแต่ผังบัญชีใน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dule FI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ได้รับการปรับปรุงครั้งก่อนหน้านั้น ซึ่งผู้ตรวจสอบมีความเห็นว่านายองอาจ ญาติระอา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หรือผู้จัดการฝ่าย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ire Perchase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คนปัจจุบัน ไม่ควรทำอะไรแบบนี้และควรได้รับการกำชับให้ซีเรียสกับการปฏิบัติหน้าที่เรื่องดังกล่าวนั้นให้มากกว่านี้และข้อบกพร่องอย่างที่เกิดขึ้นนี้นั้นควรได้รับการแก้เสียให้เรียบร้อย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..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6516720" y="1125360"/>
            <a:ext cx="2376360" cy="1079640"/>
          </a:xfrm>
          <a:prstGeom prst="wedgeRoundRectCallout">
            <a:avLst>
              <a:gd name="adj1" fmla="val -61356"/>
              <a:gd name="adj2" fmla="val 48087"/>
              <a:gd name="adj3" fmla="val 16667"/>
            </a:avLst>
          </a:prstGeom>
          <a:solidFill>
            <a:srgbClr val="cc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  <a:cs typeface="Tahoma"/>
              </a:rPr>
              <a:t>วิธีการตรวจสอบไม่สนับสนุนวัตถุประสงค์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31" name=""/>
          <p:cNvSpPr/>
          <p:nvPr/>
        </p:nvSpPr>
        <p:spPr>
          <a:xfrm>
            <a:off x="468360" y="333360"/>
            <a:ext cx="771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748440" indent="-24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84120"/>
                <a:tab algn="r" pos="7273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ahoma"/>
                <a:cs typeface="Tahoma"/>
              </a:rPr>
              <a:t>กรณีศึกษาพิเศษ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hi-IN" sz="2000" spc="-1" strike="noStrike">
                <a:solidFill>
                  <a:srgbClr val="0000ff"/>
                </a:solidFill>
                <a:latin typeface="Tahoma"/>
                <a:cs typeface="Tahoma"/>
              </a:rPr>
              <a:t>เฉลย</a:t>
            </a:r>
            <a:endParaRPr b="0" lang="en-US" sz="20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F4A9-23BF-42AF-8E74-69035A4278F7}" type="slidenum">
              <a:t>5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353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th-TH" sz="1800" spc="-1" strike="noStrike">
                <a:solidFill>
                  <a:srgbClr val="000000"/>
                </a:solidFill>
                <a:latin typeface="Tahoma"/>
              </a:rPr>
              <a:t>รายงานการตรวจสอบ </a:t>
            </a:r>
            <a:br>
              <a:rPr sz="1800"/>
            </a:br>
            <a:r>
              <a:rPr b="1" lang="th-TH" sz="1800" spc="-1" strike="noStrike">
                <a:solidFill>
                  <a:srgbClr val="000000"/>
                </a:solidFill>
                <a:latin typeface="Tahoma"/>
              </a:rPr>
              <a:t>การควบคุมภายในธุรกิจสินเชื่อเพื่อการบริโภครถยนต์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จากการสุ่มหยิบแฟ้มลูกค้าตามโต๊ะมาตรวจ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ในแง่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ของความ</a:t>
            </a:r>
            <a:br>
              <a:rPr sz="1800"/>
            </a:b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ครบถ้วนถูกต้องของข้อมูลในระบบสินเชื่อและ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ในแง่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ของประสิทธิผล</a:t>
            </a:r>
            <a:br>
              <a:rPr sz="1800"/>
            </a:b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ของกระบวนการพิจารณาเครดิตโดยผู้ตรวจสอบ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ภายใน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ผลการตรวจสอบปรากฏพบว่า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เอกสารสำคัญไม่อยู่ในแฟ้มผู้กู้ ส่วน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ในแง่ของ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ข้อมูลหลักประกันเงินให้กู้ยืมในสัญญาเช่าซื้อก็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มีความ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ไม่ถูกต้องและ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ดูเหมือนกับว่า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ผู้บริหาร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มีการขาดความ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ระมัดระวัง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ในแง่ของการสังเกตุ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เงื่อนไขการปล่อยเงินกู้โดยยังคง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มีการอนุมัต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สินเชื่อเกินกว่าอำนาจที่คณะกรรมการ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ทำการ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มอบหมายให้บ่อยครั้ง นอกจากนั้น ก็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มีความ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แตกต่างกันในแง่ของข้อมูลยอด</a:t>
            </a:r>
            <a:r>
              <a:rPr b="0" lang="th-TH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cc0000"/>
                </a:solidFill>
                <a:uFillTx/>
                <a:latin typeface="Tahoma"/>
              </a:rPr>
              <a:t>BaLan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ลูกหนี้ในระบบเช่าซื้อและระบบ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AP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ณ</a:t>
            </a:r>
            <a:r>
              <a:rPr b="0" lang="en-US" sz="1800" spc="-1" strike="noStrike" u="sng">
                <a:solidFill>
                  <a:srgbClr val="cc0000"/>
                </a:solidFill>
                <a:uFillTx/>
                <a:latin typeface="Tahoma"/>
              </a:rPr>
              <a:t>.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วันสิ้นเดือนที่แล้วถึง</a:t>
            </a:r>
            <a:r>
              <a:rPr b="0" lang="th-TH" sz="1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215</a:t>
            </a:r>
            <a:r>
              <a:rPr b="0" lang="en-US" sz="1800" spc="-1" strike="noStrike" u="sng">
                <a:solidFill>
                  <a:srgbClr val="cc0000"/>
                </a:solidFill>
                <a:uFillTx/>
                <a:latin typeface="Tahoma"/>
              </a:rPr>
              <a:t>,3222.5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บาท ซึ่งจำนวนที่แตกต่างกันถึง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สองบาท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นั้น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มีการคลั่งค้าง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ในระบบนี้มาเนิ่นนานแล้วและไม่ได้ถูก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ทำการ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กระทบยอดแล้ว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ดำเนินการตรวจสอบหาสาเหต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ตั้งแต่ผังบัญชีใน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dule FI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ได้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รับการ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ปรับปรุงครั้งก่อนหน้านั้น ซึ่ง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ผู้ตรวจสอบมีความเห็นว่า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นายองอาจ ญาติระอา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หรือผู้จัดการฝ่าย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ire </a:t>
            </a:r>
            <a:r>
              <a:rPr b="0" lang="en-US" sz="1800" spc="-1" strike="noStrike" u="sng">
                <a:solidFill>
                  <a:srgbClr val="cc0000"/>
                </a:solidFill>
                <a:uFillTx/>
                <a:latin typeface="Tahoma"/>
              </a:rPr>
              <a:t>Perchas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คนปัจจุบัน ไม่ควรทำอะไรแบบนี้และควร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ได้รับการ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กำชับให้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ซีเรียส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กับ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การ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ปฏิบัติหน้าที่เรื่องดังกล่าวนั้นให้มากกว่านี้และข้อบกพร่องอย่างที่เกิดขึ้นนี้นั้นควร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ได้รับการ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แก้เสียให้เรียบร้อย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..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"/>
          <p:cNvSpPr/>
          <p:nvPr/>
        </p:nvSpPr>
        <p:spPr>
          <a:xfrm>
            <a:off x="6877080" y="1484280"/>
            <a:ext cx="1942920" cy="792360"/>
          </a:xfrm>
          <a:prstGeom prst="wedgeRoundRectCallout">
            <a:avLst>
              <a:gd name="adj1" fmla="val -50328"/>
              <a:gd name="adj2" fmla="val 84870"/>
              <a:gd name="adj3" fmla="val 16667"/>
            </a:avLst>
          </a:prstGeom>
          <a:solidFill>
            <a:srgbClr val="cc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ผิดไวยากรณ์ </a:t>
            </a:r>
            <a:br>
              <a:rPr sz="1600"/>
            </a:br>
            <a:r>
              <a:rPr b="0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เยิ่นเย้อ เข้าใจยาก</a:t>
            </a: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34" name=""/>
          <p:cNvSpPr/>
          <p:nvPr/>
        </p:nvSpPr>
        <p:spPr>
          <a:xfrm>
            <a:off x="468360" y="333360"/>
            <a:ext cx="771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748440" indent="-24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84120"/>
                <a:tab algn="r" pos="7273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ahoma"/>
                <a:cs typeface="Tahoma"/>
              </a:rPr>
              <a:t>กรณีศึกษาพิเศษ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hi-IN" sz="2000" spc="-1" strike="noStrike">
                <a:solidFill>
                  <a:srgbClr val="0000ff"/>
                </a:solidFill>
                <a:latin typeface="Tahoma"/>
                <a:cs typeface="Tahoma"/>
              </a:rPr>
              <a:t>เฉลย</a:t>
            </a:r>
            <a:endParaRPr b="0" lang="en-US" sz="20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5E14-969B-4572-8F9E-1D1377AB0D12}" type="slidenum">
              <a:t>5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322200" y="1196640"/>
            <a:ext cx="8353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th-TH" sz="1800" spc="-1" strike="noStrike">
                <a:solidFill>
                  <a:srgbClr val="000000"/>
                </a:solidFill>
                <a:latin typeface="Tahoma"/>
              </a:rPr>
              <a:t>รายงานการตรวจสอบ </a:t>
            </a:r>
            <a:br>
              <a:rPr sz="1800"/>
            </a:br>
            <a:r>
              <a:rPr b="1" lang="th-TH" sz="1800" spc="-1" strike="noStrike">
                <a:solidFill>
                  <a:srgbClr val="000000"/>
                </a:solidFill>
                <a:latin typeface="Tahoma"/>
              </a:rPr>
              <a:t>การควบคุมภายในธุรกิจสินเชื่อเพื่อการบริโภครถยนต์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จากการสุ่มหยิบแฟ้ม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ลูกค้า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ตามโต๊ะมาตรวจในแง่ของความ</a:t>
            </a:r>
            <a:br>
              <a:rPr sz="1800"/>
            </a:b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ครบถ้วนถูกต้องของข้อมูลในระบบสินเชื่อและในแง่ของประสิทธิผล</a:t>
            </a:r>
            <a:br>
              <a:rPr sz="1800"/>
            </a:b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ของกระบวนการพิจารณาเครดิตโดยผู้ตรวจสอบ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ภายในผลการตรวจสอบปรากฏพบว่า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เอกสารสำคัญ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ไม่อยู่ในแฟ้ม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ผู้กู้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ส่วนในแง่ของข้อมูลหลักประกันเงินให้กู้ยืมในสัญญาเช่าซื้อ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ก็มีความไม่ถูกต้อง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และดูเหมือนกับว่าผู้บริหารมีการ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ขาดความระมัดระวัง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ในแง่ของการสังเกตุเงื่อนไขการปล่อยเงินกู้โดยยังคงมีการอนุมัตสินเชื่อเกินกว่าอำนาจที่คณะกรรมการทำการมอบหมายให้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บ่อยครั้ง</a:t>
            </a:r>
            <a:r>
              <a:rPr b="0" lang="th-TH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นอกจากนั้น ก็มีความ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แตกต่างกัน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ในแง่ของข้อมูลยอด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Lance 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ลูกหนี้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ในระบบเช่าซื้อและระบบ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AP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ณ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วัน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สิ้นเดือนที่แล้ว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ถึง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215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3222.5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บาท ซึ่งจำนวนที่แตกต่างกันถึงสองบาทนั้นมีการคลั่ง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ค้างในระบบนี้มาเนิ่นนานแล้ว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และไม่ได้ถูกทำการกระทบยอดแล้วดำเนินการตรวจสอบหาสาเหต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ตั้งแต่ผังบัญชีใน </a:t>
            </a:r>
            <a:r>
              <a:rPr b="0" lang="en-US" sz="1800" spc="-1" strike="noStrike" u="sng">
                <a:solidFill>
                  <a:srgbClr val="cc0000"/>
                </a:solidFill>
                <a:uFillTx/>
                <a:latin typeface="Tahoma"/>
              </a:rPr>
              <a:t>Module FI 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ได้รับการปรับปรุงครั้งก่อนหน้านั้น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ซึ่งผู้ตรวจสอบมีความเห็นว่า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นายองอาจ ญาติระอา</a:t>
            </a:r>
            <a:r>
              <a:rPr b="0" lang="en-US" sz="1800" spc="-1" strike="noStrike" u="sng">
                <a:solidFill>
                  <a:srgbClr val="cc0000"/>
                </a:solidFill>
                <a:uFillTx/>
                <a:latin typeface="Tahoma"/>
              </a:rPr>
              <a:t> 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หรือผู้จัดการฝ่าย </a:t>
            </a:r>
            <a:r>
              <a:rPr b="0" lang="en-US" sz="1800" spc="-1" strike="noStrike" u="sng">
                <a:solidFill>
                  <a:srgbClr val="cc0000"/>
                </a:solidFill>
                <a:uFillTx/>
                <a:latin typeface="Tahoma"/>
              </a:rPr>
              <a:t>Hire Perchase 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คนปัจจุบัน</a:t>
            </a:r>
            <a:r>
              <a:rPr b="0" lang="th-TH" sz="18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ไม่ควรทำ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อะไรแบบนี้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และควรได้รับการกำชับให้ซีเรียสกับการปฏิบัติหน้าที่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เรื่องดังกล่าวนั้น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ให้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มากกว่านี้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และ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ข้อบกพร่องอย่างที่เกิดขึ้นนี้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นั้นควรได้รับการ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แก้เสียให้เรียบร้อย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..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"/>
          <p:cNvSpPr/>
          <p:nvPr/>
        </p:nvSpPr>
        <p:spPr>
          <a:xfrm>
            <a:off x="468360" y="333360"/>
            <a:ext cx="771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748440" indent="-24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84120"/>
                <a:tab algn="r" pos="7273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ahoma"/>
                <a:cs typeface="Tahoma"/>
              </a:rPr>
              <a:t>กรณีศึกษาพิเศษ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hi-IN" sz="2000" spc="-1" strike="noStrike">
                <a:solidFill>
                  <a:srgbClr val="0000ff"/>
                </a:solidFill>
                <a:latin typeface="Tahoma"/>
                <a:cs typeface="Tahoma"/>
              </a:rPr>
              <a:t>เฉลย</a:t>
            </a:r>
            <a:endParaRPr b="0" lang="en-US" sz="20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37" name=""/>
          <p:cNvSpPr/>
          <p:nvPr/>
        </p:nvSpPr>
        <p:spPr>
          <a:xfrm>
            <a:off x="7380360" y="1484280"/>
            <a:ext cx="1439640" cy="792360"/>
          </a:xfrm>
          <a:prstGeom prst="wedgeRoundRectCallout">
            <a:avLst>
              <a:gd name="adj1" fmla="val -81203"/>
              <a:gd name="adj2" fmla="val 79657"/>
              <a:gd name="adj3" fmla="val 16667"/>
            </a:avLst>
          </a:prstGeom>
          <a:solidFill>
            <a:srgbClr val="cc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ffffff"/>
                </a:solidFill>
                <a:latin typeface="Tahoma"/>
                <a:cs typeface="Tahoma"/>
              </a:rPr>
              <a:t>ไม่ชัดเจน </a:t>
            </a:r>
            <a:br>
              <a:rPr sz="1600"/>
            </a:br>
            <a:r>
              <a:rPr b="0" lang="hi-IN" sz="1600" spc="-1" strike="noStrike">
                <a:solidFill>
                  <a:srgbClr val="ffffff"/>
                </a:solidFill>
                <a:latin typeface="Tahoma"/>
                <a:cs typeface="Tahoma"/>
              </a:rPr>
              <a:t>เป็นเชิงลบ</a:t>
            </a: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0C90-B897-4D4F-9D05-017D0F66197F}" type="slidenum">
              <a:t>5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16000" y="764640"/>
            <a:ext cx="8316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86580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408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5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ข้อความใดบรรยายได้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ถูกต้องใกล้เคียงที่สุด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ถึงวิธีการจัดทำเกณฑ์เปรียบเทียบ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criteria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ที่ผู้ตรวจสอบภายในใช้เพื่อระบุว่าเป้าหมายและวัตถุประสงค์ขององค์กรบรรลุหรือไม่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Part I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...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ข้อ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47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.]</a:t>
            </a:r>
            <a:r>
              <a:rPr b="1" lang="th-TH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 ...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6580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65800" indent="0">
              <a:spcBef>
                <a:spcPts val="1125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การจัดทำเกณฑ์เป็นความรับผิดชอบของผู้บริหาร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65800" indent="0">
              <a:spcBef>
                <a:spcPts val="1125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ผู้ตรวจสอบภายในใช้มาตรฐานการปฏิบัติงานวิชาชีพ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fessional standard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และกฏระเบียบของทางการ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vernment regulation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ในการจัดทำเกณฑ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65800" indent="0">
              <a:spcBef>
                <a:spcPts val="1125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อุตสาหกรรมที่องค์กรดังกล่าวเป็นสมาชิกจัดทำเกณฑ์เพื่อสมาชิกใช้เทียบวัด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nchmarks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และเป็นแนวปฏิบัติที่ดีที่สุดของอุตสาหกรรม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dustry best practices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65800" indent="0">
              <a:spcBef>
                <a:spcPts val="1125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ควรใช้มาตรฐานที่เหมาะสมทางบัญชีหรือการตรวจสอบ รวมถึงมาตรฐานสากลต่างๆ เป็นเกณฑ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6580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6580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*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ตอบ ข้อ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)</a:t>
            </a:r>
            <a:r>
              <a:rPr b="0" lang="th-TH" sz="1800" spc="-1" strike="noStrike">
                <a:solidFill>
                  <a:srgbClr val="ff505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สนับสนุนโดยมาตรฐาน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2120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.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A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333360"/>
            <a:ext cx="771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60400" indent="-285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Pre-Test</a:t>
            </a:r>
            <a:endParaRPr b="0" lang="en-US" sz="32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EC1F-7FD5-4E25-8644-6369644D9213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indefinite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indefinite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indefinite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322200" y="1196640"/>
            <a:ext cx="8353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3520" indent="-263520">
              <a:lnSpc>
                <a:spcPct val="115000"/>
              </a:lnSpc>
              <a:spcBef>
                <a:spcPts val="451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คำย้อมสี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นายทุน เผด็จการ ม็อบ ผู้ใช้แรงงาน ฝ่ายตรงข้าม คู่แข่ง ผู้ใหญ่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3520" indent="-263520">
              <a:lnSpc>
                <a:spcPct val="115000"/>
              </a:lnSpc>
              <a:spcBef>
                <a:spcPts val="451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คำฟุ่มเฟือย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การ ความ ทำการ ดำเนินการ ได้รับการ จากการตรวจสอบพบว่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3520" indent="-263520">
              <a:lnSpc>
                <a:spcPct val="115000"/>
              </a:lnSpc>
              <a:spcBef>
                <a:spcPts val="451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คำกำกวม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เร็ว ง่าย อ่อน ใหญ่ บ่อย มาก อิสระ ดี เพียงพอ เหมาะสม บางท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3520" indent="-263520">
              <a:lnSpc>
                <a:spcPct val="115000"/>
              </a:lnSpc>
              <a:spcBef>
                <a:spcPts val="451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คำหลายเกณฑ์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เจริญ ศิลปะ เหมาะสม ความรู้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ยุติธรรม เสมอภาค ธรรมดา สิทธ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3520" indent="-263520">
              <a:lnSpc>
                <a:spcPct val="115000"/>
              </a:lnSpc>
              <a:spcBef>
                <a:spcPts val="451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คำหลายนัย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หน่วยรักษาโรคปอดเคลื่อนที่ ระเบิดร้านน้ำชาโกหย่วนศพเล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3520" indent="-263520">
              <a:lnSpc>
                <a:spcPct val="115000"/>
              </a:lnSpc>
              <a:spcBef>
                <a:spcPts val="451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คำไม่สุภาพ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เยอะแยะ เครื่องหมายตกใจ ซีเรียส ขี้โกง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3520" indent="-263520">
              <a:lnSpc>
                <a:spcPct val="115000"/>
              </a:lnSpc>
              <a:spcBef>
                <a:spcPts val="451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ปิดตัวเลือก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ท่านคิดว่านายกฯ บริหารอย่างมีประสิทธิภาพหรือเชื่องช้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3520" indent="-263520">
              <a:lnSpc>
                <a:spcPct val="115000"/>
              </a:lnSpc>
              <a:spcBef>
                <a:spcPts val="451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ข้ออ้างน่าสงสัย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เหมาะสมแล้ว ดีที่สุด แน่นอน ไม่มีทางเกิดขึ้นได้ ผิดปกต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3520" indent="-263520">
              <a:lnSpc>
                <a:spcPct val="115000"/>
              </a:lnSpc>
              <a:spcBef>
                <a:spcPts val="451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ทำให้เป็นวัตถุ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ความมั่นคง ความสามัคคี ความเป็นธรรม ขวัญกำลังใจ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3520" indent="-263520">
              <a:lnSpc>
                <a:spcPct val="115000"/>
              </a:lnSpc>
              <a:spcBef>
                <a:spcPts val="451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เปรียบเทียบบกพร่อง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80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%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ของเด็กที่ไม่ได้เรียนพิเศษสอบเข้ามหาวิทยาลัยไม่ได้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3520" indent="-263520">
              <a:lnSpc>
                <a:spcPct val="115000"/>
              </a:lnSpc>
              <a:spcBef>
                <a:spcPts val="451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สถิติลำเอียง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ผลจากอินเตอร์เน็ตโพลระบุว่า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ill Gate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เก่งที่สุดในโล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3520" indent="-263520">
              <a:lnSpc>
                <a:spcPct val="115000"/>
              </a:lnSpc>
              <a:spcBef>
                <a:spcPts val="451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สถิติที่รู้ไม่ได้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ประเทศไทยเหลือช้างป่าตามธรรมชาติเพียง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9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,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554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ตัว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3520" indent="-263520">
              <a:lnSpc>
                <a:spcPct val="115000"/>
              </a:lnSpc>
              <a:spcBef>
                <a:spcPts val="451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อ้างความสัมพันธ์ที่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กรณีทุจริตเพิ่มขึ้นมากกว่าสามเท่าในช่วงสิบปีที่ผ่านมาเพราะ</a:t>
            </a:r>
            <a:br>
              <a:rPr sz="1800"/>
            </a:b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เกี่ยวกันโดยบังเอิญ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บริษัทเพิ่มจำนวนผู้ตรวจสอบภายในในช่วงเดียวกั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"/>
          <p:cNvSpPr/>
          <p:nvPr/>
        </p:nvSpPr>
        <p:spPr>
          <a:xfrm>
            <a:off x="468360" y="333360"/>
            <a:ext cx="771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60400" indent="-285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84120"/>
                <a:tab algn="r" pos="7273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ahoma"/>
                <a:cs typeface="Tahoma"/>
              </a:rPr>
              <a:t>ข้อควรระวังในการเขียน</a:t>
            </a:r>
            <a:endParaRPr b="0" lang="en-US" sz="32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40" name=""/>
          <p:cNvSpPr/>
          <p:nvPr/>
        </p:nvSpPr>
        <p:spPr>
          <a:xfrm>
            <a:off x="7165800" y="655308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(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อ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5 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น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151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C442-025A-4608-B3EB-C62A37F3AAD2}" type="slidenum">
              <a:t>6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178920" y="1052640"/>
            <a:ext cx="8858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Tahoma"/>
              </a:rPr>
              <a:t>รายงานการตรวจสอบ</a:t>
            </a:r>
            <a:r>
              <a:rPr b="1" lang="th-TH" sz="1800" spc="-1" strike="noStrike">
                <a:solidFill>
                  <a:srgbClr val="3366ff"/>
                </a:solidFill>
                <a:latin typeface="Tahoma"/>
              </a:rPr>
              <a:t>   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ธุรกิจสินเชื่อเช่าซื้อรถยนต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เพียงวันที่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31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ธ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ค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. 255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Tahoma"/>
              </a:rPr>
              <a:t>วัตถุประสงค์การตรวจสอบ</a:t>
            </a:r>
            <a:r>
              <a:rPr b="0" lang="th-TH" sz="1800" spc="-1" strike="noStrike">
                <a:solidFill>
                  <a:srgbClr val="3366ff"/>
                </a:solidFill>
                <a:latin typeface="Tahoma"/>
              </a:rPr>
              <a:t>    </a:t>
            </a:r>
            <a:r>
              <a:rPr b="0" lang="th-TH" sz="1800" spc="-1" strike="noStrike" u="sng">
                <a:solidFill>
                  <a:srgbClr val="0000ff"/>
                </a:solidFill>
                <a:uFillTx/>
                <a:latin typeface="Tahoma"/>
              </a:rPr>
              <a:t>เพื่อประเมินความถูกต้องครบถ้วนของยอดลูกหนี้และระบุการปฏิบัติตามกระบวนการพิจารณาเครดิตที่บริษัทกำหนด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Tahoma"/>
              </a:rPr>
              <a:t>สรุปผลการตรวจสอบ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   จากการสุ่มตัวอย่างลูกหนี้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400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ราย จากทั้งหมด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4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000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ราย ในระบบสินเชื่อ ณ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31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ธ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ค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. 255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เพื่อยืนยันยอดกับลูกหนี้ และตรวจตราเอกสารในแฟ้มลูกหนี้ </a:t>
            </a:r>
            <a:r>
              <a:rPr b="0" lang="th-TH" sz="1800" spc="-1" strike="noStrike" u="sng">
                <a:solidFill>
                  <a:srgbClr val="0000ff"/>
                </a:solidFill>
                <a:uFillTx/>
                <a:latin typeface="Tahoma"/>
              </a:rPr>
              <a:t>สรุปว่า ยอดลูกหนี้ถูกต้องครบถ้วน และการพิจารณาเครดิตเป็นไปตามกระบวนการที่บริษัทกำหนด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ยกเว้นประเด็นต่อไปนี้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5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แฟ้มลูกหนี้ขาดสำเนาบัตรประชาชน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ราย ขาดสัญญากู้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ราย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5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เลขเครื่องยนต์และตัวถังรถในสัญญาไม่ตรงกับในเล่มทะเบียน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ราย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5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ผู้จัดการฝ่ายเช่าซื้ออนุมัติสินเชื่อระหว่าง ก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ค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.-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ธ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ค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. 255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ไม่เป็นไปตามตารางอำนาจอนุมัติที่บริษัทกำหนด จำนวน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6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ราย เพราะไม่ทราบเงื่อนไขข้อ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8.4(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ฉ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ในตารางอำนาจอนุมัติที่เพิ่งปรับปรุงใหม่ว่า กรณีรถบรรทุกที่ดาวน์ต่ำกว่า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%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ผ่อนเกิน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0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งวดและผู้ค้ำประกันอายุเกิน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70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ปีจะต้องอนุมัติโดยผู้อำนวยการ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ยอดลูกหนี้ในระบบบัญชี ณ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31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ธ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ค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. 255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สูงกว่ายอดลูกหนี้ในระบบสินเชื่อ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215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322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5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บาท โดยส่วนต่างจำนวนดังกล่าวเกิดขึ้นตั้งแต่เดือน ก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พ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. 255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สาเหตุอาจมาจากการปรับผังระบบบัญชีในช่วงเวลาเดียวกัน ฝ่ายบัญชีควรเร่งกระทบยอดเพื่อหาสาเหตุและดำเนินการแก้ไ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"/>
          <p:cNvSpPr/>
          <p:nvPr/>
        </p:nvSpPr>
        <p:spPr>
          <a:xfrm>
            <a:off x="8101080" y="6481800"/>
            <a:ext cx="360360" cy="331920"/>
          </a:xfrm>
          <a:custGeom>
            <a:avLst/>
            <a:gdLst>
              <a:gd name="textAreaLeft" fmla="*/ 21240 w 360360"/>
              <a:gd name="textAreaRight" fmla="*/ 339120 w 360360"/>
              <a:gd name="textAreaTop" fmla="*/ 21240 h 331920"/>
              <a:gd name="textAreaBottom" fmla="*/ 310680 h 331920"/>
            </a:gdLst>
            <a:ahLst/>
            <a:rect l="textAreaLeft" t="textAreaTop" r="textAreaRight" b="textAreaBottom"/>
            <a:pathLst>
              <a:path w="23449" h="21600">
                <a:moveTo>
                  <a:pt x="0" y="0"/>
                </a:moveTo>
                <a:lnTo>
                  <a:pt x="23449" y="0"/>
                </a:lnTo>
                <a:lnTo>
                  <a:pt x="23449" y="21600"/>
                </a:lnTo>
                <a:lnTo>
                  <a:pt x="0" y="21600"/>
                </a:lnTo>
                <a:close/>
              </a:path>
              <a:path fill="lightenLess" w="23449" h="21600">
                <a:moveTo>
                  <a:pt x="0" y="0"/>
                </a:moveTo>
                <a:lnTo>
                  <a:pt x="23449" y="0"/>
                </a:lnTo>
                <a:lnTo>
                  <a:pt x="22049" y="1400"/>
                </a:lnTo>
                <a:lnTo>
                  <a:pt x="1400" y="1400"/>
                </a:lnTo>
                <a:close/>
              </a:path>
              <a:path fill="darken" w="23449" h="21600">
                <a:moveTo>
                  <a:pt x="23449" y="0"/>
                </a:moveTo>
                <a:lnTo>
                  <a:pt x="23449" y="21600"/>
                </a:lnTo>
                <a:lnTo>
                  <a:pt x="22049" y="20200"/>
                </a:lnTo>
                <a:lnTo>
                  <a:pt x="22049" y="1400"/>
                </a:lnTo>
                <a:close/>
              </a:path>
              <a:path fill="darkenLess" w="23449" h="21600">
                <a:moveTo>
                  <a:pt x="234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49" y="20200"/>
                </a:lnTo>
                <a:close/>
              </a:path>
              <a:path fill="lighten" w="234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49" h="21600">
                <a:moveTo>
                  <a:pt x="4718" y="10800"/>
                </a:moveTo>
                <a:lnTo>
                  <a:pt x="18731" y="3794"/>
                </a:lnTo>
                <a:lnTo>
                  <a:pt x="18731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43" name=""/>
          <p:cNvSpPr/>
          <p:nvPr/>
        </p:nvSpPr>
        <p:spPr>
          <a:xfrm>
            <a:off x="468360" y="333360"/>
            <a:ext cx="771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748440" indent="-24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84120"/>
                <a:tab algn="r" pos="7273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ahoma"/>
                <a:cs typeface="Tahoma"/>
              </a:rPr>
              <a:t>กรณีศึกษาพิเศษ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hi-IN" sz="2000" spc="-1" strike="noStrike">
                <a:solidFill>
                  <a:srgbClr val="0000ff"/>
                </a:solidFill>
                <a:latin typeface="Tahoma"/>
                <a:cs typeface="Tahoma"/>
              </a:rPr>
              <a:t>ตัวอย่าง</a:t>
            </a:r>
            <a:endParaRPr b="0" lang="en-US" sz="20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0384-169B-4B71-84A8-B1A27D39BF5F}" type="slidenum">
              <a:t>6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395280" y="1044360"/>
            <a:ext cx="8569440" cy="53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52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ผู้ตรวจสอบใหม่คนหนึ่งของบริษัทซึ่งมีโรงงานหลายแห่งในภูมิภาค </a:t>
            </a:r>
            <a:r>
              <a:rPr b="0" lang="th-TH" sz="1800" spc="-1" strike="noStrike" u="sng">
                <a:solidFill>
                  <a:srgbClr val="0000ff"/>
                </a:solidFill>
                <a:uFillTx/>
                <a:latin typeface="Tahoma"/>
              </a:rPr>
              <a:t>ได้พบสิ่งที่เขาแน่ใจว่าเป็นการทุจริต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เขาแจ้งข้อสงสัยของเขาต่อหัวหน้าฝ่ายตรวจสอบภายใน ซึ่งได้พาเขาเข้าพบรองประธานด้านการเงิน  รองประธานชมเชยความฉลาดและขยันขันแข็งของเขา และรับเรื่องไว้พิจารณา  แต่ในวันต่อมา เขากลับ</a:t>
            </a:r>
            <a:r>
              <a:rPr b="0" lang="th-TH" sz="1800" spc="-1" strike="noStrike" u="sng">
                <a:solidFill>
                  <a:srgbClr val="0000ff"/>
                </a:solidFill>
                <a:uFillTx/>
                <a:latin typeface="Tahoma"/>
              </a:rPr>
              <a:t>ได้รับแจ้งให้วางมือจากเรื่องนี้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โดยคณะผู้บริหารจะดำเนินการสืบสวนต่อเอง ผู้ตรวจสอบกลับมาทำงานต่อ แต่ก็ดูเหมือนว่าบริษัทไม่ได้ดำเนินการอะไร จนกระทั่งใกล้จบภารกิจตรวจสอบ เขาจึงลองตรวจดูและก็พบว่า</a:t>
            </a:r>
            <a:r>
              <a:rPr b="0" lang="th-TH" sz="1800" spc="-1" strike="noStrike" u="sng">
                <a:solidFill>
                  <a:srgbClr val="0000ff"/>
                </a:solidFill>
                <a:uFillTx/>
                <a:latin typeface="Tahoma"/>
              </a:rPr>
              <a:t>ปัญหานั้นยังคงดำเนินอยู่โดยไม่มีการสืบสวน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ใดๆ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52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ด้วยความสงสัย เขาได้ตรวจลึกลงไปและพบข้อมูลการทุจริตโดยประธานเจ้าหน้าที่บริหาร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O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และรองประธานหลายคน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! </a:t>
            </a:r>
            <a:r>
              <a:rPr b="0" lang="th-TH" sz="1800" spc="-1" strike="noStrike" u="sng">
                <a:solidFill>
                  <a:srgbClr val="0000ff"/>
                </a:solidFill>
                <a:uFillTx/>
                <a:latin typeface="Tahoma"/>
              </a:rPr>
              <a:t>เขารายงานข้อมูลใหม่นี้แก่หัวหน้าฝ่ายตรวจสอบภายใน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แต่กลับถูกยื่นคำขาดว่าฝ่ายตรวจสอบถูกสั่ง</a:t>
            </a:r>
            <a:r>
              <a:rPr b="0" lang="th-TH" sz="1800" spc="-1" strike="noStrike" u="sng">
                <a:solidFill>
                  <a:srgbClr val="0000ff"/>
                </a:solidFill>
                <a:uFillTx/>
                <a:latin typeface="Tahoma"/>
              </a:rPr>
              <a:t>ห้ามไม่ให้ดำเนินการใดๆ เรื่องนี้อีก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และทุกอย่างต้องเป็นไปตามนั้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52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ผู้ตรวจสอบมั่นใจว่าคณะผู้บริหารของบริษัทมีส่วนเกี่ยวข้องกับความผิดร้ายแรงครั้งนี้  ซึ่ง</a:t>
            </a:r>
            <a:r>
              <a:rPr b="0" lang="th-TH" sz="1800" spc="-1" strike="noStrike" u="sng">
                <a:solidFill>
                  <a:srgbClr val="0000ff"/>
                </a:solidFill>
                <a:uFillTx/>
                <a:latin typeface="Tahoma"/>
              </a:rPr>
              <a:t>หากเผยแพร่ออกไป บริษัทจะต้องตกเป็นข่าวอื้อฉาว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และผู้ถือหุ้นคงมีมติปลด หรืออาจถึงกับฟ้องร้องดำเนินคดีต่อคณะกรรมการบริษัทอย่างแน่นอน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52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จากข้อมูลที่มีอยู่ เขารู้สึกว่าการดำเนินคดีเอาผิดกับผู้บริหารมีความเป็นไปได้ แต่เขาก็รู้ว่าต่อให้ผู้บริหารกระทำผิดจริง ก็</a:t>
            </a:r>
            <a:r>
              <a:rPr b="0" lang="th-TH" sz="1800" spc="-1" strike="noStrike" u="sng">
                <a:solidFill>
                  <a:srgbClr val="0000ff"/>
                </a:solidFill>
                <a:uFillTx/>
                <a:latin typeface="Tahoma"/>
              </a:rPr>
              <a:t>มีวิธีการมากมายที่จะทำให้กระบวนการพิจารณาคดีพลิกไปในทางที่เป็นประโยชน์กับจำเลย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 ซึ่งไม่เป็นผลดีต่ออนาคตการงานของเขาเลย  ยิ่งไปกว่านั้น หัวหน้าฝ่ายตรวจสอบภายในเพิ่งบอกกับเขาว่าฝ่ายตรวจสอบจะไม่ดำเนินการใดๆ ต่อไปทั้งสิ้นสำหรับเรื่องนี้  เขาได้รับคำชมเชยในผลงานที่ทำ ขณะเดียวกัน ก็ได้รับมอบหมายงานตรวจสอบชิ้นใหม่ ซึ่งจะส่งเขาไปทำงานในพื้นที่อื่นหลายเดือ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"/>
          <p:cNvSpPr/>
          <p:nvPr/>
        </p:nvSpPr>
        <p:spPr>
          <a:xfrm>
            <a:off x="8101080" y="6481800"/>
            <a:ext cx="360360" cy="331920"/>
          </a:xfrm>
          <a:custGeom>
            <a:avLst/>
            <a:gdLst>
              <a:gd name="textAreaLeft" fmla="*/ 21240 w 360360"/>
              <a:gd name="textAreaRight" fmla="*/ 339120 w 360360"/>
              <a:gd name="textAreaTop" fmla="*/ 21240 h 331920"/>
              <a:gd name="textAreaBottom" fmla="*/ 310680 h 331920"/>
            </a:gdLst>
            <a:ahLst/>
            <a:rect l="textAreaLeft" t="textAreaTop" r="textAreaRight" b="textAreaBottom"/>
            <a:pathLst>
              <a:path w="23449" h="21600">
                <a:moveTo>
                  <a:pt x="0" y="0"/>
                </a:moveTo>
                <a:lnTo>
                  <a:pt x="23449" y="0"/>
                </a:lnTo>
                <a:lnTo>
                  <a:pt x="23449" y="21600"/>
                </a:lnTo>
                <a:lnTo>
                  <a:pt x="0" y="21600"/>
                </a:lnTo>
                <a:close/>
              </a:path>
              <a:path fill="lightenLess" w="23449" h="21600">
                <a:moveTo>
                  <a:pt x="0" y="0"/>
                </a:moveTo>
                <a:lnTo>
                  <a:pt x="23449" y="0"/>
                </a:lnTo>
                <a:lnTo>
                  <a:pt x="22049" y="1400"/>
                </a:lnTo>
                <a:lnTo>
                  <a:pt x="1400" y="1400"/>
                </a:lnTo>
                <a:close/>
              </a:path>
              <a:path fill="darken" w="23449" h="21600">
                <a:moveTo>
                  <a:pt x="23449" y="0"/>
                </a:moveTo>
                <a:lnTo>
                  <a:pt x="23449" y="21600"/>
                </a:lnTo>
                <a:lnTo>
                  <a:pt x="22049" y="20200"/>
                </a:lnTo>
                <a:lnTo>
                  <a:pt x="22049" y="1400"/>
                </a:lnTo>
                <a:close/>
              </a:path>
              <a:path fill="darkenLess" w="23449" h="21600">
                <a:moveTo>
                  <a:pt x="234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49" y="20200"/>
                </a:lnTo>
                <a:close/>
              </a:path>
              <a:path fill="lighten" w="234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49" h="21600">
                <a:moveTo>
                  <a:pt x="4718" y="10800"/>
                </a:moveTo>
                <a:lnTo>
                  <a:pt x="18731" y="3794"/>
                </a:lnTo>
                <a:lnTo>
                  <a:pt x="18731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46" name=""/>
          <p:cNvSpPr/>
          <p:nvPr/>
        </p:nvSpPr>
        <p:spPr>
          <a:xfrm>
            <a:off x="468360" y="333360"/>
            <a:ext cx="771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748440" indent="-24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84120"/>
                <a:tab algn="r" pos="7273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ahoma"/>
                <a:cs typeface="Tahoma"/>
              </a:rPr>
              <a:t>กรณีศึกษาที่ </a:t>
            </a:r>
            <a:r>
              <a:rPr b="1" lang="th-TH" sz="3200" spc="-1" strike="noStrike">
                <a:solidFill>
                  <a:srgbClr val="000000"/>
                </a:solidFill>
                <a:latin typeface="Tahoma"/>
                <a:ea typeface="Tahoma"/>
              </a:rPr>
              <a:t>7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  <a:ea typeface="Tahoma"/>
              </a:rPr>
              <a:t>Whistle Blowing</a:t>
            </a:r>
            <a:endParaRPr b="0" lang="en-US" sz="20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47" name=""/>
          <p:cNvSpPr/>
          <p:nvPr/>
        </p:nvSpPr>
        <p:spPr>
          <a:xfrm>
            <a:off x="7165800" y="655308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(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อ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3 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น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493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E89A-25C8-4CF8-8A06-05223B31BB8A}" type="slidenum">
              <a:t>6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178920" y="766440"/>
            <a:ext cx="871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lvl="1" marL="79632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708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ระหว่างตรวจสอบสัญญาจัดซื้อ หัวหน้าผู้บริหารงานตรวจสอบ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chief audit executive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สงสัยว่าผู้ขาย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supplier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รายหนึ่งได้เปรียบในการประมูลโดยไม่เป็นธรรม หลังจากได้ทราบว่ากรรมการอำนวยการ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chief executive officer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ของบริษัทดำรงตำแหน่งเป็นกรรมการของบริษัทผู้ขายด้วย หัวหน้าผู้บริหารงานตรวจสอบควร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Part I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...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ข้อ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50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.] ...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96320" indent="0">
              <a:spcBef>
                <a:spcPts val="1125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ส่งร่างรายงานให้แก่ผู้บริหารระดับสูง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ior management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โดยยกเว้นกรรมการอำนวยการ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ief executive officer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96320" indent="0">
              <a:spcBef>
                <a:spcPts val="1125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ติดต่อผู้สอบบัญชีภายนอก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rnal auditors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เพื่อขอความช่วยเหลือ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96320" indent="0">
              <a:spcBef>
                <a:spcPts val="1125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หาเอกสารหลักฐานสนับสนุน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pporting documentation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และรายงานสิ่งที่พบต่อประธานคณะกรรมการตรวจสอบ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irperson of the audit committee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96320" indent="0">
              <a:spcBef>
                <a:spcPts val="1125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แจ้งคณะกรรมการบริษัท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oard of directors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ทันท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96320" indent="0">
              <a:spcBef>
                <a:spcPts val="1576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*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ตอบ ข้อ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)</a:t>
            </a:r>
            <a:r>
              <a:rPr b="0" lang="th-TH" sz="1800" spc="-1" strike="noStrike">
                <a:solidFill>
                  <a:srgbClr val="ff5050"/>
                </a:solidFill>
                <a:latin typeface="Tahoma"/>
              </a:rPr>
              <a:t> 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ควรส่งร่างรายงานที่เกี่ยวพันกับกรรมการอำนวยการต่อประธานคณะกรรมการตรวจสอบก่อนดำเนินการใดๆ ต่อไป  การรายงานต่อคณะกรรมการบริษัทหรือคณะกรรมการตรวจสอบควรทำต่อเมื่อได้หลักฐานแน่ชัด ผู้บริหารระดับสูงและผู้สอบบัญชีภายนอกควรได้เฉพาะเมื่อออกรายงานขั้นสุดท้าย โดยในกรณีของผู้สอบบัญชีภายนอก รายงานที่ให้ควรผ่านความเห็นชอบของที่ปรึกษากฏหมายด้วย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"/>
          <p:cNvSpPr/>
          <p:nvPr/>
        </p:nvSpPr>
        <p:spPr>
          <a:xfrm>
            <a:off x="468360" y="333360"/>
            <a:ext cx="771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60400" indent="-285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Post-Test</a:t>
            </a:r>
            <a:endParaRPr b="0" lang="en-US" sz="32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9C9B-6385-4FD6-8C86-84B83BC5D116}" type="slidenum">
              <a:t>6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indefinite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indefinite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indefinite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2000" fill="hold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2000" fill="hold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250560" y="76644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1" marL="75708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768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ใช้ข้อมูลต่อไปนี้ตอบคำถามข้อ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2-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708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768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ฝ่ายการตลาด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marketing department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ของธุรกิจค้าปลีกชั้นนำแห่งหนึ่ง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a major retailer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มอบหมายให้มีผู้จัดการผลิตภัณฑ์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product manager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สำหรับแต่ละสายผลิตภัณฑ์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product line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แยกจากกัน โดยผู้จัดการแต่ละคนมีหน้าที่สั่งสินค้า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ordering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และระบุราคาขายปลีก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retail pricing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ของสินค้าในสายผลิตภัณฑ์ที่ตนรับผิดชอบ งบจัดซื้อ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purchasing budget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ของผู้จัดการผลิตภัณฑ์แต่ละคนถูกกำหนดโดยผู้จัดการฝ่ายการตลาด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marketing manager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สินค้าที่สั่งจะถูกส่งไปยังศูนย์กระจายสินค้ากลาง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central distribution center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ก่อนจะถูกแยกแยะ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segregated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เพื่อส่งต่อไปยังห้างสรรพสินค้า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department stores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52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แห่งของบริษัท ไม่มีการตรวจรับ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no receiving function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ที่ห้างสรรพสินค้าแต่ละแห่งอีกเนื่องจากได้บันทึกรับสินค้าทั้งหมดแล้ว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receipts are recorded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ที่ศูนย์กระจายสินค้ากลาง ผู้จัดการผลิตภัณฑ์ถูกประเมินผลงานโดยดูจากทั้งยอดขายและผลกำไร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sales and gross profit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ของสายผลิตภัณฑ์ที่ตนรับผิดชอบ สินค้าหลายอย่างเป็นสินค้าที่มียอดขายเปลี่ยนแปลงตามฤดูกาล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seasonal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และผู้จัดการประจำห้างสรรพสินค้าแต่ละแห่ง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individual store manager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สามารถย้ายสินค้าเก่าออกเพื่อเปลี่ยนเอาสินค้าของฤดูกาลใหม่วางแทนได้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7680" indent="0">
              <a:spcBef>
                <a:spcPts val="451"/>
              </a:spcBef>
              <a:buNone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"/>
          <p:cNvSpPr/>
          <p:nvPr/>
        </p:nvSpPr>
        <p:spPr>
          <a:xfrm>
            <a:off x="468360" y="333360"/>
            <a:ext cx="771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60400" indent="-285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Post-Test</a:t>
            </a:r>
            <a:endParaRPr b="0" lang="en-US" sz="32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4FE5-0675-441A-A2CD-204722553006}" type="slidenum">
              <a:t>6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178920" y="1198080"/>
            <a:ext cx="8317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5316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2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ข้อใดคือจุดอ่อนของการควบคุม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control deficiency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ในสถานการณ์นี้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Part I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...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ข้อ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61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.] ...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15480" indent="0">
              <a:spcBef>
                <a:spcPts val="1125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ผู้จัดการประจำห้างสรรพสินค้าสามารถย้ายสินค้าเก่าออกได้ อาจกระทบต่อการประเมินผลงาน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tential performance evaluation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ของผู้จัดการผลิตภัณฑ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15480" indent="0">
              <a:spcBef>
                <a:spcPts val="1125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การที่ผู้จัดการผลิตภัณฑ์เป็นทั้งผู้เจรจาต่อรองราคาเมื่อสั่งซื้อสินค้าและผู้ตั้งราคาขายปลี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15480" indent="0">
              <a:spcBef>
                <a:spcPts val="1125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การประเมินผลงานผู้จัดการผลิตภัณฑ์โดยดูจากผลกำไรจะทำให้เกิดพฤติกรรมทำงานโดยปราศจากความรับผิดชอบ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ysfunctional behavior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15480" indent="0">
              <a:spcBef>
                <a:spcPts val="1125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การที่ไม่มีการตรวจรับที่ห้างสรรพสินค้าแต่ละแห่ง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15480" indent="0">
              <a:spcBef>
                <a:spcPts val="1576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15480" indent="0">
              <a:spcBef>
                <a:spcPts val="1576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15480" indent="0">
              <a:spcBef>
                <a:spcPts val="1576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*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ตอบ ข้อ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d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)</a:t>
            </a:r>
            <a:r>
              <a:rPr b="0" lang="th-TH" sz="1800" spc="-1" strike="noStrike">
                <a:solidFill>
                  <a:srgbClr val="ff505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มีความเป็นไปได้ที่สินค้าจะไม่ถูกส่งไปยังห้างสรรพสินค้าที่กำหนด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"/>
          <p:cNvSpPr/>
          <p:nvPr/>
        </p:nvSpPr>
        <p:spPr>
          <a:xfrm>
            <a:off x="468360" y="333360"/>
            <a:ext cx="771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60400" indent="-285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Post-Test</a:t>
            </a:r>
            <a:endParaRPr b="0" lang="en-US" sz="32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BC6E-56E6-4D59-8E20-208C3D99B884}" type="slidenum">
              <a:t>6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indefinite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indefinite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indefinite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20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20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178920" y="1125000"/>
            <a:ext cx="8317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31860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3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คำขอจัดซื้อนอกเหนือจากที่ได้กำหนดงบจัดซื้อเอาไว้จะต้องได้รับอนุมัติจากผู้จัดการฝ่ายการตลาด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marketing manager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ขั้นตอนการปฏิบัติงานนี้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Part I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...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ข้อ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62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.]  ...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60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I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.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ควรมีเพื่อการจัดสรรทรัพยากรขององค์กรให้มีประสิทธิภาพสูงสุด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most efficient allocation of scarce resources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60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II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.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เป็นการควบคุมแบบสืบค้น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detective control procedure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60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III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.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ไม่จำเป็นเพราะผู้จัดการผลิตภัณฑ์ถูกประเมินตามผลกำไรที่ทำได้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25840" indent="0">
              <a:spcBef>
                <a:spcPts val="1576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เท่านั้น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25840" indent="0">
              <a:spcBef>
                <a:spcPts val="1125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เท่านั้น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25840" indent="0">
              <a:spcBef>
                <a:spcPts val="1125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และ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เท่านั้น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25840" indent="0">
              <a:spcBef>
                <a:spcPts val="1125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และ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25840" indent="0">
              <a:spcBef>
                <a:spcPts val="1576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*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ตอบ ข้อ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)</a:t>
            </a:r>
            <a:r>
              <a:rPr b="0" lang="th-TH" sz="1800" spc="-1" strike="noStrike">
                <a:solidFill>
                  <a:srgbClr val="ff505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องค์กรมีทรัพยากรสองอย่างที่ต้องจัดสรรให้มีประสิทธิภาพสูงสุดคืองบจัดซื้อและพื้นที่วางขายในห้าง จำเป็นต้องมีกลไกช่วยในการจัดสรรทรัพยากรทั้งสองอย่างเพื่อให้เกิดผลตอบแทนสูงสุด ข้อมูลที่ให้มาเหมาะสมดีแล้ว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600" indent="0">
              <a:spcBef>
                <a:spcPts val="451"/>
              </a:spcBef>
              <a:buNone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"/>
          <p:cNvSpPr/>
          <p:nvPr/>
        </p:nvSpPr>
        <p:spPr>
          <a:xfrm>
            <a:off x="468360" y="333360"/>
            <a:ext cx="771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60400" indent="-285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Post-Test</a:t>
            </a:r>
            <a:endParaRPr b="0" lang="en-US" sz="32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9FD7-34EA-4B6A-BACC-A33BE46E4F98}" type="slidenum">
              <a:t>6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indefinite"/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indefinite"/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indefinite"/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2000" fill="hold"/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2000" fill="hold"/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8640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6072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4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การควบคุม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control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ที่ช่วยให้ความเชื่อมั่นได้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ดีที่สุด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ว่าจำนวนเงินในเช็คเงินเดือนที่บริษัทออก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payroll checks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จะไม่เกินค่าที่ได้รับอนุมัติ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authorized amount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คือ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Part I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...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ข้อ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71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.]  ..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35640" indent="0">
              <a:spcBef>
                <a:spcPts val="1125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ตรวจสอบเจ้าหน้าที่ในแผนกจัดทำเงินเดือนเป็นประจำ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iodic floor verification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35640" indent="0">
              <a:spcBef>
                <a:spcPts val="1125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กำหนดให้ส่งเช็คตีกลับมาที่เจ้าหน้าที่ฝ่ายการเงิน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turn of undelivered checks to cashier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35640" indent="0">
              <a:spcBef>
                <a:spcPts val="1125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กำหนดให้หัวหน้าต้องอนุมัติบัตรลงเวลาของพนักงาน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pervisory approval of employee time cards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35640" indent="0">
              <a:spcBef>
                <a:spcPts val="1125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กำหนดให้มีพยานรู้เห็นในกระบวนการจัดส่งเช็คเงินเดือนเป็นประจำ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iodically witness the distribution of payroll checks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35640" indent="0">
              <a:spcBef>
                <a:spcPts val="1576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35640" indent="0">
              <a:spcBef>
                <a:spcPts val="1576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*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ตอบ ข้อ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)</a:t>
            </a:r>
            <a:r>
              <a:rPr b="0" lang="th-TH" sz="1800" spc="-1" strike="noStrike">
                <a:solidFill>
                  <a:srgbClr val="ff5050"/>
                </a:solidFill>
                <a:latin typeface="Tahoma"/>
              </a:rPr>
              <a:t> 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หัวหน้าเป็นผู้ที่เหมาะสมที่สุดในการยืนยันจำนวนเงินในเช็คเงินเดือ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"/>
          <p:cNvSpPr/>
          <p:nvPr/>
        </p:nvSpPr>
        <p:spPr>
          <a:xfrm>
            <a:off x="468360" y="333360"/>
            <a:ext cx="771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60400" indent="-285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Post-Test</a:t>
            </a:r>
            <a:endParaRPr b="0" lang="en-US" sz="32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2BEC-AC04-4D07-943C-CB5B9B915D93}" type="slidenum">
              <a:t>6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indefinite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indefinite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indefinite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2000" fill="hold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2000" fill="hold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179280" y="1198080"/>
            <a:ext cx="8640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3408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5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การควบคุม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control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ข้อใดที่ช่วยป้องกันการสั่งของในปริมาณที่เกินความต้องการขององค์กร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excess of an organization's needs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1" lang="th-TH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Part I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...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ข้อ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72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.] ..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65800" indent="0">
              <a:spcBef>
                <a:spcPts val="1125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หัวหน้าแผนกของผู้ซื้อ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pervisor in the user department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ตรวจสอบคำสั่งซื้อทุกรายการ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purchase requisitions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ก่อนส่งให้ฝ่ายจัดซื้อ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rchasing department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65800" indent="0">
              <a:spcBef>
                <a:spcPts val="1125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ฝ่ายจัดซื้อส่งคำสั่งซื้อโดยอัตโนมัติ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utomatic reorder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ทันทีที่ระบบแจ้งว่าระดับสินค้าในคลังเก็บต่ำกว่าที่กำหนด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w inventory level is indicated by the system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65800" indent="0">
              <a:spcBef>
                <a:spcPts val="1125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มีนโยบายกำหนดให้ตรวจสอบคำสั่งซื้อ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view of the purchase order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ก่อนรับสินค้าใหม่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ing a new shipment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65800" indent="0">
              <a:spcBef>
                <a:spcPts val="1125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มีนโยบายกำหนดให้ตรวจสอบความสอดคล้องต้องกัน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licy requiring agreement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ระหว่างรายงานการรับสินค้า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ing report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กับใบนำส่งสินค้า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cking slip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ก่อนนำสินค้าใหม่ที่รับมาเก็บเข้าคลัง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orage of new receipts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65800" indent="0">
              <a:spcBef>
                <a:spcPts val="1576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*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ตอบ ข้อ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)</a:t>
            </a:r>
            <a:r>
              <a:rPr b="0" lang="th-TH" sz="1800" spc="-1" strike="noStrike">
                <a:solidFill>
                  <a:srgbClr val="ff5050"/>
                </a:solidFill>
                <a:latin typeface="Tahoma"/>
              </a:rPr>
              <a:t> 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การตรวจสอบคำสั่งซื้อโดยหัวหน้าของแผนกที่สร้างรายการเป็นการควบคุมปริมาณการสั่งซื้อไม่ให้เกินความต้องการ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"/>
          <p:cNvSpPr/>
          <p:nvPr/>
        </p:nvSpPr>
        <p:spPr>
          <a:xfrm>
            <a:off x="468360" y="333360"/>
            <a:ext cx="771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60400" indent="-285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Post-Test</a:t>
            </a:r>
            <a:endParaRPr b="0" lang="en-US" sz="32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B90C-55C7-48EE-8E7E-512E31C0DED4}" type="slidenum">
              <a:t>6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indefinite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indefinite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indefinite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7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2000" fill="hold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2000" fill="hold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179280" y="910800"/>
            <a:ext cx="8964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30708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6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ข้อสังเกตของผู้ตรวจสอบภายใน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observation by an auditor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ข้อใดน่าจะเป็นการระบุว่ามีจุดอ่อนของการควบคุม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control weaknesses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เกี่ยวกับการดูแลรักษาทรัพย์สิน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safeguarding of assets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มากที่สุด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th-TH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Part I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...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ข้อ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73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.] ..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708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I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.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ที่ตั้งของแผนกบริการ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service department's location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ไม่เอื้ออำนวยให้สามารถให้บริการแก่หน่วยงานอื่นๆ ได้อย่างพอเพียง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708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II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.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ไม่มีการตรวจสอบภูมิหลัง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ackground check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ของพนักงานที่ถูกจ้างมาเพื่อรับหน้าที่สำคัญ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sensitive positions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708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III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.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ผู้จัดการไม่ได้รับรายงานที่แสดงผลการปฏิบัติงานรวม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profile overall performance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เปรียบเทียบกับขององค์กรอื่นที่ใช้เทียบวัดกัน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enchmarked organization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708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IV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.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ผู้บริหารไม่ได้สั่งการแก้ไข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take corrective action to resolve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ข้อสังเกตจากการตรวจสอบครั้งก่อน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past engagement observations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เกี่ยวกับการควบคุมสินค้าคงคลัง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inventory controls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9632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และ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เท่านั้น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9632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และ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V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เท่านั้น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9632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และ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เท่านั้น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9632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และ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V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เท่านั้น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9632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*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ตอบ ข้อ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d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)</a:t>
            </a:r>
            <a:r>
              <a:rPr b="0" lang="th-TH" sz="1800" spc="-1" strike="noStrike">
                <a:solidFill>
                  <a:srgbClr val="ff5050"/>
                </a:solidFill>
                <a:latin typeface="Tahoma"/>
              </a:rPr>
              <a:t> 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การไม่ตรวจสอบภูมิหลังพนักงานและไม่สั่งการแก้ไขข้อสังเกตจากการตรวจสอบเป็นจุดอ่อนของการควบคุมเกี่ยวกับการดูแลรักษาทรัพย์สินที่สำคัญ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"/>
          <p:cNvSpPr/>
          <p:nvPr/>
        </p:nvSpPr>
        <p:spPr>
          <a:xfrm>
            <a:off x="468360" y="333360"/>
            <a:ext cx="771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60400" indent="-285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Post-Test</a:t>
            </a:r>
            <a:endParaRPr b="0" lang="en-US" sz="32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296B-41C9-4CA2-8826-DEFAB2B4164F}" type="slidenum">
              <a:t>6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indefinite"/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indefinite"/>
                                        <p:tgtEl>
                                          <p:spTgt spid="4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indefinite"/>
                                        <p:tgtEl>
                                          <p:spTgt spid="4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2000" fill="hold"/>
                                        <p:tgtEl>
                                          <p:spTgt spid="4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2000" fill="hold"/>
                                        <p:tgtEl>
                                          <p:spTgt spid="4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78920" y="764640"/>
            <a:ext cx="8317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lvl="1" marL="83592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56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6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ข้อใดบรรยายการสำรวจหาข้อมูลเบื้องต้น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preliminary survey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ได้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ดีที่สุด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Part I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...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ข้อ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78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.]</a:t>
            </a:r>
            <a:r>
              <a:rPr b="1" lang="th-TH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 ..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5920" indent="0">
              <a:spcBef>
                <a:spcPts val="1125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แบบสอบถามมาตรฐาน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ardized questionnaire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ที่ใช้เพื่อทำความเข้าใจวัตถุประสงค์ของผู้บริหาร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5920" indent="0">
              <a:spcBef>
                <a:spcPts val="1125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ตัวอย่างทางสถิติ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istical sample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เพื่อทราบถึงทัศนคติ ทักษะ และความรู้หลักๆ ของพนักงาน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ey employee attitudes, skills and knowledge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5920" indent="0">
              <a:spcBef>
                <a:spcPts val="1125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การศึกษาทำความเข้าใจโดยตลอดกระบวนการ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alk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ugh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ของระบบการควบคุมทางการเงิน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nancial control system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เพื่อระบุความเสี่ยงและการควบคุมที่สามารถจัดการกับความเสี่ยงเหล่านั้น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s that can address those risks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5920" indent="0">
              <a:spcBef>
                <a:spcPts val="1125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กระบวนการ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cess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ที่ใช้เพื่อทำให้คุ้นเคยต่อกิจกรรมและความเสี่ยง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miliar with activities and risks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เพื่อที่จะระบุจุดที่ควรเน้นในภารกิจ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y areas for engagement emphasis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5920" indent="0">
              <a:spcBef>
                <a:spcPts val="2251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*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ตอบ ข้อ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d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)</a:t>
            </a:r>
            <a:r>
              <a:rPr b="0" lang="th-TH" sz="1800" spc="-1" strike="noStrike">
                <a:solidFill>
                  <a:srgbClr val="ff5050"/>
                </a:solidFill>
                <a:latin typeface="Tahoma"/>
              </a:rPr>
              <a:t> 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ตาม ข้อแนะนำในการใช้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practice advisory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2210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.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A1-1.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333360"/>
            <a:ext cx="771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60400" indent="-285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Pre-Test</a:t>
            </a:r>
            <a:endParaRPr b="0" lang="en-US" sz="32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2C37-F809-4081-8A41-FD7DDD689A35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indefinite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indefinite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178920" y="1125000"/>
            <a:ext cx="8317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3768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7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การควบคุม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control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ข้อใดที่น่าจะช่วยป้องกันไม่ให้เจ้าหน้าที่จัดซื้อ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purchasing agent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เอื้อประโยชน์แก่ผู้ขายเฉพาะบางรายเป็นพิเศษ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favoring specific suppliers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[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Part I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...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ข้อ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74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.] ..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75880" indent="0">
              <a:spcBef>
                <a:spcPts val="1125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กำหนดให้ผู้บริหารตรวจสอบรายงานประจำเดือน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nthly report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เกี่ยวกับปริมาณการใช้จ่ายรายผู้ขาย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spent by each buyer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75880" indent="0">
              <a:spcBef>
                <a:spcPts val="1125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กำหนดให้ผู้ซื้อต้องจัดซื้อวัสดุตามรายละเอียดคุณสมบัติที่กำหนด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here to detailed material specification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75880" indent="0">
              <a:spcBef>
                <a:spcPts val="1125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หมุนเวียนพนักงานที่ได้รับมอบหมายให้ทำหน้าที่จัดซื้อ 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tating buyer assignments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เป็นประจำ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75880" indent="0">
              <a:spcBef>
                <a:spcPts val="1125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คอยติดตามดูจำนวนคำสั่งซื้อที่ออกให้แก่ผู้ขายแต่ละราย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nitoring the number of orders placed by each buyer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75880" indent="0">
              <a:spcBef>
                <a:spcPts val="1576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75880" indent="0">
              <a:spcBef>
                <a:spcPts val="1576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*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ตอบ ข้อ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)</a:t>
            </a:r>
            <a:r>
              <a:rPr b="0" lang="th-TH" sz="1800" spc="-1" strike="noStrike">
                <a:solidFill>
                  <a:srgbClr val="ff505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ช่วยจำกัดโอกาสที่เจ้าหน้าที่จัดซื้อจะเอื้อประโยชน์แก่ผู้ขายเฉพาะบางราย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"/>
          <p:cNvSpPr/>
          <p:nvPr/>
        </p:nvSpPr>
        <p:spPr>
          <a:xfrm>
            <a:off x="468360" y="333360"/>
            <a:ext cx="771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60400" indent="-285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Post-Test</a:t>
            </a:r>
            <a:endParaRPr b="0" lang="en-US" sz="32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41CB-5A0D-4204-9189-786C105DA4D7}" type="slidenum">
              <a:t>7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indefinite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indefinite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indefinite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2000" fill="hold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2000" fill="hold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178920" y="1125000"/>
            <a:ext cx="8317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4164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8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ข้อใดที่น่าจะช่วยลดจำนวนของเสียในสินค้าที่ผลิต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defects in finished goods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เนื่องจากสาเหตุวัตถุดิบมีคุณภาพต่ำ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poor quality raw materials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1" lang="th-TH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Part I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...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ข้อ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75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.] ..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85600" indent="0">
              <a:spcBef>
                <a:spcPts val="1125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บันทึกขั้นตอนการปฏิบัติงาน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ed procedure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ของการเก็บรักษาและขนย้ายที่เหมาะสม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per handling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สำหรับวัสดุในระหว่างผลิต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ork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cess inventory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85600" indent="0">
              <a:spcBef>
                <a:spcPts val="1125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กำหนดให้ต้องมีรายละเอียดคุณสมบัติวัสดุ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quired material specifications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ทุกครั้งที่จัดซื้อ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85600" indent="0">
              <a:spcBef>
                <a:spcPts val="1125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ติดตามโดยทันที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mely follow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p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ทุกครั้งที่พบรายงานปริมาณการใช้วัสดุมากเกินมาตรฐาน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favorable usage variances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85600" indent="0">
              <a:spcBef>
                <a:spcPts val="1125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ระบุจำนวนของเสีย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mount of spoilage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ที่จุดปลายของกระบวนการผลิต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d of manufacturing process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85600" indent="0">
              <a:spcBef>
                <a:spcPts val="2701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*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ตอบ ข้อ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b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)</a:t>
            </a:r>
            <a:r>
              <a:rPr b="0" lang="th-TH" sz="1800" spc="-1" strike="noStrike">
                <a:solidFill>
                  <a:srgbClr val="ff5050"/>
                </a:solidFill>
                <a:latin typeface="Tahoma"/>
              </a:rPr>
              <a:t> 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การกำหนดรายละเอียดคุณสมบัติวัสดุ ให้บรรทัดฐานที่เที่ยงธรรมในการพิจารณาว่าวัสดุที่ซื้อได้คุณสมบัติขั้นต่ำที่จำเป็นสำหรับการผลิตหรือไม่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"/>
          <p:cNvSpPr/>
          <p:nvPr/>
        </p:nvSpPr>
        <p:spPr>
          <a:xfrm>
            <a:off x="468360" y="333360"/>
            <a:ext cx="771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60400" indent="-285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Post-Test</a:t>
            </a:r>
            <a:endParaRPr b="0" lang="en-US" sz="32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C604-B60E-4482-9073-F3C0941BE2D9}" type="slidenum">
              <a:t>7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indefinite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indefinite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indefinite"/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250920" y="837720"/>
            <a:ext cx="8316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040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ใช้ข้อมูลต่อไปนี้ตอบคำถามข้อ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9-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spcBef>
                <a:spcPts val="1576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ผู้จัดการสายการผลิต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manager of a production line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มีอำนาจสั่งซื้อและตรวจรับ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authority to order and receive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ชิ้นส่วนอะไหล่ของเครื่องจักรที่เปลี่ยน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replacement parts of machinery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ตามการซ่อมบำรุงตามช่วงเวลา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periodic maintenance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ผู้ตรวจสอบภายในได้รับบัตรสนเท่ห์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anonymous tip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ระบุว่า ผู้จัดการสายการผลิตสั่งซื้ออะไหล่มากเกินจำเป็นจากผู้ขายที่เป็นคนในครอบครัวเดียวกัน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family member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ผู้ขายไม่ได้ส่งมอบอะไหล่ส่วนเกินให้บริษัท แต่ผู้จัดการสายการผลิตได้จัดทำเอกสารรับมอบสินค้า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process receiving document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และบันทึกเข้าในรายการบัญชีซ่อมบำรุงเครื่องจักร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charge to machinery maintenance account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โดยได้ส่วนแบ่งจากเงินที่บริษัทชำระแก่ผู้ขายเป็นค่าอะไหล่ส่วนเกินดังกล่าว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"/>
          <p:cNvSpPr/>
          <p:nvPr/>
        </p:nvSpPr>
        <p:spPr>
          <a:xfrm>
            <a:off x="468360" y="333360"/>
            <a:ext cx="771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60400" indent="-285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Post-Test</a:t>
            </a:r>
            <a:endParaRPr b="0" lang="en-US" sz="32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AADA-8596-45E5-9AEA-EC792FAB44C3}" type="slidenum">
              <a:t>7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179280" y="1126800"/>
            <a:ext cx="8640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2616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9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ข้อใดเป็นการควบคุมภายใน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internal controls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ที่น่าจะช่วยป้องกันการทุจริตนี้ไม่ให้เกิดขึ้น ได้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ดีที่สุด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most likely prevent this fraud from occuring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[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Part I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...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ข้อ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87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.] ..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4600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กำหนดระดับมูลค่าการสั่งซื้อ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stablish predefined spending level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สำหรับผู้ขายทุกราย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vendors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ระหว่างขั้นตอนการประมูล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uring bidding process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4600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แบ่งแยกหน้าที่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gregating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การตรวจรับสินค้า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ing function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จากการอนุมัติสั่งซื้ออะไหล่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uthorization of part purchases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4600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เปรียบเทียบใบขนส่งสินค้าของชิ้นส่วนอะไหล่ของเครื่องจักรที่เปลี่ยน 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ill of lading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[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เป็นเอกสารที่บริษัทเดินเรือออกให้แก่ผู้รับหรือผู้ส่งของ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ผู้แปล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]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กับใบสั่งซื้อสินค้าที่ได้รับอนุมัติ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roved purchase order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4600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ใช้ระบบงานคลังสินค้า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ventory system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ของบริษัทในการเปรียบเทียบปริมาณ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tch quantities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สินค้าที่สั่งซื้อกับสินค้าที่ได้รับ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46000" indent="0">
              <a:spcBef>
                <a:spcPts val="1576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*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ตอบ ข้อ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b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)</a:t>
            </a:r>
            <a:r>
              <a:rPr b="0" lang="th-TH" sz="1800" spc="-1" strike="noStrike">
                <a:solidFill>
                  <a:srgbClr val="ff505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ช่วย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_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ป้องกัน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_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ทุจริตไม่ให้เกิดขึ้นได้ดีที่สุด ข้อ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a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ช่วยจำกัดขนาดของทุจริต ข้อ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c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ไม่มีประโยชน์เพราะใบขนส่งสินค้าย่อมตรงกับใบสั่งซื้อที่ได้รับอนุมัติ ควรมีบุคคลที่สามตรวจปริมาณสินค้าที่ได้รับเทียบกับเอกสารทั้งสองฉบับ ข้อ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d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เป็นการตรวจหาหลักฐานทุจริตที่เกิดขึ้นแล้ว ไม่ใช่การป้องกัน</a:t>
            </a:r>
            <a:r>
              <a:rPr b="0" lang="th-TH" sz="18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"/>
          <p:cNvSpPr/>
          <p:nvPr/>
        </p:nvSpPr>
        <p:spPr>
          <a:xfrm>
            <a:off x="468360" y="333360"/>
            <a:ext cx="771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60400" indent="-285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Post-Test</a:t>
            </a:r>
            <a:endParaRPr b="0" lang="en-US" sz="32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5E46-4DC3-4CA4-93D4-93711442CDE8}" type="slidenum">
              <a:t>7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indefinite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indefinite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indefinite"/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7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2000" fill="hold"/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2000" fill="hold"/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0" y="112680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30708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10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ข้อใดเป็นการทดสอบ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test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ที่จะช่วยผู้ตรวจสอบได้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ดีที่สุด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ในการตัดสินใจว่า ผู้ตรวจสอบควรสืบสวนตามบัตรสนเท่ห์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anonymous tip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นี้ต่อไปหรือไม่ 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Part I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...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ข้อ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88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.] ..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9632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เปรียบเทียบค่าใช้จ่ายซ่อมบำรุงของไตรมาสปัจจุบัน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quarter’s maintenance expense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กับค่าใช้จ่ายซ่อมบำรุงของไตรมาสก่อน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or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iod activity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9632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ทดสอบทางกายภาพ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hysical inventory testing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เพื่อยืนยันการมีอยู่จริงและมูลค่า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istence and valuation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ของชิ้นส่วนอะไหล่คงคลัง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placement parts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9632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วิเคราะห์ชิ้นส่วนอะไหล่ที่ถูกบันทึกเข้ารายการซ่อมบำรุง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rged to maintenance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เพื่อดูความสมเหตุสมผล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ableness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ของจำนวนชิ้นส่วนที่ใช้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9632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ทดสอบตัวอย่าง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view of a test sample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ใบสำคัญประกอบรายการจ่ายเงินค่าชิ้นส่วนอะไหล่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ts invoices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เพื่อดูความเหมาะสมของอำนาจอนุมัติในการทำรายการและการรับสินค้า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per authorization and receipt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708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*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ตอบ ข้อ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)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ช่วยให้ทราบจำนวนของชิ้นส่วนอะไหล่ที่ถูกบันทึกเข้ารายการซ่อมบำรุงเกินกว่าที่ควรจะเป็นและตรวจพบการทุจริตได้  ข้อ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a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ค่าใช้จ่ายซ่อมบำรุงอาจเท่ากับของไตรมาสก่อนนอกจากว่าการทุจริตจะเพิ่งเกิดขึ้นในไตรมาสปัจจุบัน ผู้ตรวจสอบไม่มีข้อมูลว่าการทุจริตเริ่มขึ้นเมื่อใด  ข้อ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การทดสอบทางกายภาพไม่สามารถตรวจพบชิ้นส่วนอะไหล่ที่ถูกบันทึกเข้ารายการซ่อมบำรุงไปแล้ว ข้อ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d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ทุจริตเกิดจากการขาดการแบ่งแยกหน้าที่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segregation of duties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เพราะผู้จัดการมีอำนาจทั้งการสั่งซื้อและตรวจรับ การทดสอบเป็นเพียงการตรวจทานเอกสารที่ตกแต่งขึ้นมาเพื่อปกปิดการทุจริต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fraudulent paperwork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เท่านั้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"/>
          <p:cNvSpPr/>
          <p:nvPr/>
        </p:nvSpPr>
        <p:spPr>
          <a:xfrm>
            <a:off x="8101080" y="6481800"/>
            <a:ext cx="360360" cy="331920"/>
          </a:xfrm>
          <a:custGeom>
            <a:avLst/>
            <a:gdLst>
              <a:gd name="textAreaLeft" fmla="*/ 21240 w 360360"/>
              <a:gd name="textAreaRight" fmla="*/ 339120 w 360360"/>
              <a:gd name="textAreaTop" fmla="*/ 21240 h 331920"/>
              <a:gd name="textAreaBottom" fmla="*/ 310680 h 331920"/>
            </a:gdLst>
            <a:ahLst/>
            <a:rect l="textAreaLeft" t="textAreaTop" r="textAreaRight" b="textAreaBottom"/>
            <a:pathLst>
              <a:path w="23449" h="21600">
                <a:moveTo>
                  <a:pt x="0" y="0"/>
                </a:moveTo>
                <a:lnTo>
                  <a:pt x="23449" y="0"/>
                </a:lnTo>
                <a:lnTo>
                  <a:pt x="23449" y="21600"/>
                </a:lnTo>
                <a:lnTo>
                  <a:pt x="0" y="21600"/>
                </a:lnTo>
                <a:close/>
              </a:path>
              <a:path fill="lightenLess" w="23449" h="21600">
                <a:moveTo>
                  <a:pt x="0" y="0"/>
                </a:moveTo>
                <a:lnTo>
                  <a:pt x="23449" y="0"/>
                </a:lnTo>
                <a:lnTo>
                  <a:pt x="22049" y="1400"/>
                </a:lnTo>
                <a:lnTo>
                  <a:pt x="1400" y="1400"/>
                </a:lnTo>
                <a:close/>
              </a:path>
              <a:path fill="darken" w="23449" h="21600">
                <a:moveTo>
                  <a:pt x="23449" y="0"/>
                </a:moveTo>
                <a:lnTo>
                  <a:pt x="23449" y="21600"/>
                </a:lnTo>
                <a:lnTo>
                  <a:pt x="22049" y="20200"/>
                </a:lnTo>
                <a:lnTo>
                  <a:pt x="22049" y="1400"/>
                </a:lnTo>
                <a:close/>
              </a:path>
              <a:path fill="darkenLess" w="23449" h="21600">
                <a:moveTo>
                  <a:pt x="234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49" y="20200"/>
                </a:lnTo>
                <a:close/>
              </a:path>
              <a:path fill="lighten" w="234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49" h="21600">
                <a:moveTo>
                  <a:pt x="4718" y="10800"/>
                </a:moveTo>
                <a:lnTo>
                  <a:pt x="18731" y="3794"/>
                </a:lnTo>
                <a:lnTo>
                  <a:pt x="18731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72" name=""/>
          <p:cNvSpPr/>
          <p:nvPr/>
        </p:nvSpPr>
        <p:spPr>
          <a:xfrm>
            <a:off x="468360" y="333360"/>
            <a:ext cx="771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60400" indent="-285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Post-Test</a:t>
            </a:r>
            <a:endParaRPr b="0" lang="en-US" sz="32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A51A-1AB4-44F7-B507-BDFE5B21CCC0}" type="slidenum">
              <a:t>7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indefinite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indefinite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indefinite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7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20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20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8785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lvl="1" marL="76644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556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7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ระหว่างการสำรวจหาข้อมูลเบื้องต้น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preliminary survey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ผู้ตรวจสอบพบว่ามีการปรับปรุงใบสำคัญประกอบรายการจ่ายเงินหลายรายการ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accounts payable vouchers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ของผู้ขายรายใหญ่ เพื่อยกเลิกเนื่องจากชำระเงินซ้ำ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duplicate payment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กับรายการก่อนหน้า สิ่งที่พบเป็นเครื่องบ่งชี้ว่า</a:t>
            </a:r>
            <a:r>
              <a:rPr b="1" lang="th-TH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Part I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...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ข้อ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79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.] ..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66440" indent="0">
              <a:spcBef>
                <a:spcPts val="1125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จำเป็นต้องมีการทดสอบเพิ่มเติม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itional testing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เพื่อประเมินการควบคุมที่เกี่ยวข้องและความเสียหายที่อาจจะเกิดขึ้นจากการชำระเงินซ้ำซ้อนแก่ผู้ขาย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66440" indent="0">
              <a:spcBef>
                <a:spcPts val="1125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ความเป็นไปได้ที่จะมีหนี้สินที่ไม่ได้รับการบันทึก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recorded liabilities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สำหรับจำนวนเงินที่ชำระเกิน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verpayments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66440" indent="0">
              <a:spcBef>
                <a:spcPts val="1125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การควบคุมที่ไม่เพียงพอในหน่วยรับสินค้า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ing area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ที่ไม่สามารถแจ้งหน่วยจ่ายเงิน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ounts payable area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อย่างทันกาล หลังตรวจรับมอบสินค้าจากผู้ขาย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66440" indent="0">
              <a:spcBef>
                <a:spcPts val="1125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แสดงถึงการมีระบบจ่ายเงินที่ซับซ้อน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phisticated accounts payable system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ซึ่งเกี่ยวโยงการชำระเกินเข้ากับการเปิดใบสำคัญประกอบรายการจ่ายเงิน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 invoices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ดังนั้นจึงไม่จำเป็นต้องตรวจสอบเพิ่มเติม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further audit concern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66440" indent="0">
              <a:spcBef>
                <a:spcPts val="1125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*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ตอบ ข้อ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)</a:t>
            </a:r>
            <a:r>
              <a:rPr b="0" lang="th-TH" sz="1800" spc="-1" strike="noStrike">
                <a:solidFill>
                  <a:srgbClr val="ff5050"/>
                </a:solidFill>
                <a:latin typeface="Tahoma"/>
              </a:rPr>
              <a:t> 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สิ่งที่พบจากการสำรวจหาข้อมูลเบื้องต้นน่าจะทำให้ผู้ตรวจสอบต้องเริ่มประเมินภาพความเสียหายทั้งหมดที่อาจจะเกิดขึ้นจากการชำระเงินซ้ำซ้อนดังกล่าวในทันท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333360"/>
            <a:ext cx="771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60400" indent="-285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Pre-Test</a:t>
            </a:r>
            <a:endParaRPr b="0" lang="en-US" sz="32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F939-FDF9-41F1-ADCA-E6AEE5C1C422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indefinite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indefinite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indefinite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16000" y="764640"/>
            <a:ext cx="8316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lvl="1" marL="82584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60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8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ระหว่างการประเมินความเสี่ยง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risk assessment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ของสัญญาขายและค่านายหน้า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sales contract and related commission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ปัจจัยใดน่าจะมีผล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th-TH" sz="1800" spc="-1" strike="noStrike" u="sng">
                <a:solidFill>
                  <a:srgbClr val="cc0000"/>
                </a:solidFill>
                <a:uFillTx/>
                <a:latin typeface="Tahoma"/>
              </a:rPr>
              <a:t>มากที่สุด</a:t>
            </a:r>
            <a:r>
              <a:rPr b="0" lang="en-US" sz="1800" spc="-1" strike="noStrike">
                <a:solidFill>
                  <a:srgbClr val="ff5050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ต่อการขยายขอบเขตการตรวจสอบ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expansion of the engagement scope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)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Part I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...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ข้อ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81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.] ..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2584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25840" indent="0">
              <a:spcBef>
                <a:spcPts val="1125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ยอดขายสินค้า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duct sales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และค่านายหน้า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ission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เพิ่มขึ้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25840" indent="0">
              <a:spcBef>
                <a:spcPts val="1125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ยอดสินค้าคืน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ale returns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และค่านายหน้าเพิ่มขึ้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25840" indent="0">
              <a:spcBef>
                <a:spcPts val="1125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ยอดขายสินค้าและค่านายหน้าลดลง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25840" indent="0">
              <a:spcBef>
                <a:spcPts val="1125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ยอดสินค้าคืนลดลงและยอดขายสินค้าเพิ่มขึ้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25840" indent="0">
              <a:spcBef>
                <a:spcPts val="1125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2584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2584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2584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*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ตอบ ข้อ 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b</a:t>
            </a:r>
            <a:r>
              <a:rPr b="0" lang="th-TH" sz="1800" spc="-1" strike="noStrike">
                <a:solidFill>
                  <a:srgbClr val="cc0000"/>
                </a:solidFill>
                <a:latin typeface="Tahoma"/>
              </a:rPr>
              <a:t>)</a:t>
            </a:r>
            <a:r>
              <a:rPr b="0" lang="th-TH" sz="1800" spc="-1" strike="noStrike">
                <a:solidFill>
                  <a:srgbClr val="ff5050"/>
                </a:solidFill>
                <a:latin typeface="Tahoma"/>
              </a:rPr>
              <a:t>  </a:t>
            </a:r>
            <a:r>
              <a:rPr b="0" lang="th-TH" sz="1800" spc="-1" strike="noStrike">
                <a:solidFill>
                  <a:srgbClr val="0000ff"/>
                </a:solidFill>
                <a:latin typeface="Tahoma"/>
              </a:rPr>
              <a:t>แนวโน้มดังกล่าวอาจเกิดจากการทุจริตตกแต่งยอดขายเกินจริงเพื่อรับค่านายหน้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333360"/>
            <a:ext cx="771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60400" indent="-285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Pre-Test</a:t>
            </a:r>
            <a:endParaRPr b="0" lang="en-US" sz="32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AA8A-C224-4865-868A-DB2C826B9A0C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12/06</a:t>
            </a: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indefinite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indefinite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indefinite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5T10:33:52Z</dcterms:created>
  <dc:creator>Revenue</dc:creator>
  <dc:description/>
  <dc:language>en-US</dc:language>
  <cp:lastModifiedBy>TISCO</cp:lastModifiedBy>
  <cp:lastPrinted>2004-09-17T08:11:13Z</cp:lastPrinted>
  <dcterms:modified xsi:type="dcterms:W3CDTF">2008-08-25T12:45:47Z</dcterms:modified>
  <cp:revision>803</cp:revision>
  <dc:subject/>
  <dc:title>การตรวจสอบการทุจริต</dc:title>
</cp:coreProperties>
</file>