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801600" cy="96012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A142-F34D-47A0-809B-01F17A5E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ED8-6CC2-4C0A-8515-8B87899E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80E2-3F0B-4EB7-930A-FD4BCA2C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516-FBE9-49B3-8B62-026D7FE3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6737-E4E0-4CFD-ABAF-8C1DF1E7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770-106D-4EF5-BEAA-EBF99F34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A15-3FF0-429B-80C1-7D1F39FB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845-68D4-4464-9D78-71282063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A984-7646-4CEF-B0C2-891E7202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D8E-046F-4D6E-AD5B-A42B756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6E2-1090-49BA-A683-717C94D9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818-601D-4575-844C-9703F40D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81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207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8200" indent="-31752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8200" indent="-31752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8200" indent="-317520"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2560" y="9291240"/>
            <a:ext cx="2987640" cy="2746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th-TH" sz="15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815CBFFC-86E7-4CFB-B01D-632F0C44CE64}" type="datetime">
              <a:rPr b="0" lang="th-TH" sz="1500" spc="-1" strike="noStrike">
                <a:solidFill>
                  <a:srgbClr val="000000"/>
                </a:solidFill>
                <a:latin typeface="Angsana New"/>
              </a:rPr>
              <a:t>28/07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77BEFA00-9E91-4F7E-9BA2-482605810951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90520" y="9034560"/>
            <a:ext cx="10485720" cy="412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FreesiaUPC"/>
              </a:rPr>
              <a:t>Compli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5680" y="120600"/>
            <a:ext cx="1120680" cy="1011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ilyUPC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ilyUPC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ilyUPC"/>
              </a:rPr>
              <a:t>Sr. M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9080" y="231840"/>
            <a:ext cx="1400040" cy="96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- Credit poli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redit Risk poli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sk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76560" y="231840"/>
            <a:ext cx="1160640" cy="96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us. obj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us. strate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40240" y="231840"/>
            <a:ext cx="1735200" cy="96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Operating  guideli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redit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pproval author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22360" y="1271520"/>
            <a:ext cx="1081080" cy="649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LilyUPC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3280" y="1271520"/>
            <a:ext cx="1081080" cy="649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LilyUPC"/>
              </a:rPr>
              <a:t>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LilyUPC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24200" y="1271520"/>
            <a:ext cx="1081080" cy="649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3080" y="2360520"/>
            <a:ext cx="1185840" cy="4827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Loan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11440" y="2354400"/>
            <a:ext cx="1008000" cy="501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63800" y="2354400"/>
            <a:ext cx="1008360" cy="501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-885960" y="4374000"/>
            <a:ext cx="3325680" cy="442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Underwriting stand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06440" y="3035160"/>
            <a:ext cx="2319480" cy="286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Loan object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Sensitivity of </a:t>
            </a:r>
            <a:r>
              <a:rPr b="1" lang="th-TH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A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Integ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Responsi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Repayment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Professional</a:t>
            </a:r>
            <a:r>
              <a:rPr b="1" lang="th-TH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f credi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Terms and condi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redit bureau check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3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Risk Ra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Collateral val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OT Regul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KYC/CD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38440" y="6357960"/>
            <a:ext cx="1585800" cy="5032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n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54" idx="1"/>
          </p:cNvCxnSpPr>
          <p:nvPr/>
        </p:nvCxnSpPr>
        <p:spPr>
          <a:xfrm flipH="1" flipV="1" rot="10800000">
            <a:off x="1422360" y="1596240"/>
            <a:ext cx="316440" cy="5013720"/>
          </a:xfrm>
          <a:prstGeom prst="bentConnector3">
            <a:avLst>
              <a:gd name="adj1" fmla="val -733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71440" y="6665760"/>
            <a:ext cx="14065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n going updated Inf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7" idx="4"/>
            <a:endCxn id="50" idx="0"/>
          </p:cNvCxnSpPr>
          <p:nvPr/>
        </p:nvCxnSpPr>
        <p:spPr>
          <a:xfrm>
            <a:off x="3114000" y="1920960"/>
            <a:ext cx="180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8" idx="4"/>
            <a:endCxn id="51" idx="0"/>
          </p:cNvCxnSpPr>
          <p:nvPr/>
        </p:nvCxnSpPr>
        <p:spPr>
          <a:xfrm>
            <a:off x="4264920" y="1920960"/>
            <a:ext cx="3240" cy="43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4380480" y="1935000"/>
            <a:ext cx="1107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39680" y="3235320"/>
            <a:ext cx="303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01880" y="391644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03320" y="454500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01880" y="516888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01880" y="5783400"/>
            <a:ext cx="30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19720" y="1271520"/>
            <a:ext cx="1081080" cy="649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redit  Admi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1120" y="2343240"/>
            <a:ext cx="1009440" cy="15555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vi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gree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- Credit li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1520" y="2546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2320920"/>
            <a:ext cx="4060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66ff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51" idx="2"/>
          </p:cNvCxnSpPr>
          <p:nvPr/>
        </p:nvCxnSpPr>
        <p:spPr>
          <a:xfrm>
            <a:off x="4267800" y="2855880"/>
            <a:ext cx="3240" cy="158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4274280" y="3662280"/>
            <a:ext cx="3542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56200" y="445788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05640" y="1271520"/>
            <a:ext cx="1204920" cy="649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dit Risk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gt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73960" y="2328840"/>
            <a:ext cx="1141200" cy="18108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Monit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Portfolio  monitoring /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 clas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o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ting Review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arly warni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llateral valu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 Revi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5" idx="4"/>
            <a:endCxn id="66" idx="0"/>
          </p:cNvCxnSpPr>
          <p:nvPr/>
        </p:nvCxnSpPr>
        <p:spPr>
          <a:xfrm>
            <a:off x="5860440" y="1920960"/>
            <a:ext cx="5760" cy="42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2" idx="4"/>
          </p:cNvCxnSpPr>
          <p:nvPr/>
        </p:nvCxnSpPr>
        <p:spPr>
          <a:xfrm>
            <a:off x="7208280" y="1920960"/>
            <a:ext cx="1440" cy="42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endCxn id="54" idx="2"/>
          </p:cNvCxnSpPr>
          <p:nvPr/>
        </p:nvCxnSpPr>
        <p:spPr>
          <a:xfrm flipV="1" rot="16200000">
            <a:off x="4917600" y="4474440"/>
            <a:ext cx="360360" cy="5133600"/>
          </a:xfrm>
          <a:prstGeom prst="bentConnector3">
            <a:avLst>
              <a:gd name="adj1" fmla="val 17800"/>
            </a:avLst>
          </a:prstGeom>
          <a:ln w="936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0036080" y="2589120"/>
            <a:ext cx="771480" cy="5382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oan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59800" y="1044720"/>
            <a:ext cx="657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66ff"/>
                </a:solidFill>
                <a:latin typeface="Times New Roman"/>
              </a:rPr>
              <a:t>Nor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861480" y="1339920"/>
            <a:ext cx="108108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oan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59960" y="7194600"/>
            <a:ext cx="1081080" cy="64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egal &amp; Litig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17160" y="2620800"/>
            <a:ext cx="752400" cy="6177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D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12480" y="3510000"/>
            <a:ext cx="754200" cy="6192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egal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1858760" y="695160"/>
            <a:ext cx="9360" cy="689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974680" y="2757600"/>
            <a:ext cx="671400" cy="11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5000"/>
              </a:lnSpc>
              <a:spcBef>
                <a:spcPts val="68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Sell/ transf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NP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NP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6080" y="8244000"/>
            <a:ext cx="10485360" cy="34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atabase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 I S/Re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28680" y="50472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26720" y="411120"/>
            <a:ext cx="2901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04440" y="411120"/>
            <a:ext cx="2901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378120" y="2682720"/>
            <a:ext cx="1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50" idx="3"/>
            <a:endCxn id="51" idx="1"/>
          </p:cNvCxnSpPr>
          <p:nvPr/>
        </p:nvCxnSpPr>
        <p:spPr>
          <a:xfrm>
            <a:off x="3619440" y="2604960"/>
            <a:ext cx="1447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7127280" y="46080"/>
            <a:ext cx="5290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Process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POR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SMEs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258800" y="2106720"/>
            <a:ext cx="1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8680" y="901800"/>
            <a:ext cx="552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04920" y="8643960"/>
            <a:ext cx="10485360" cy="3189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Audit + Quality Assur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720520" y="1322280"/>
            <a:ext cx="1081080" cy="646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pert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/>
          <p:nvPr/>
        </p:nvCxnSpPr>
        <p:spPr>
          <a:xfrm flipH="1" flipV="1" rot="10800000">
            <a:off x="10026360" y="2792520"/>
            <a:ext cx="2160" cy="1157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endCxn id="73" idx="3"/>
          </p:cNvCxnSpPr>
          <p:nvPr/>
        </p:nvCxnSpPr>
        <p:spPr>
          <a:xfrm flipH="1">
            <a:off x="7715160" y="1314360"/>
            <a:ext cx="142920" cy="1920240"/>
          </a:xfrm>
          <a:prstGeom prst="bentConnector3">
            <a:avLst>
              <a:gd name="adj1" fmla="val -626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7872480" y="132084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100" idx="4"/>
            <a:endCxn id="101" idx="2"/>
          </p:cNvCxnSpPr>
          <p:nvPr/>
        </p:nvCxnSpPr>
        <p:spPr>
          <a:xfrm flipV="1">
            <a:off x="5575320" y="6076800"/>
            <a:ext cx="1574280" cy="346680"/>
          </a:xfrm>
          <a:prstGeom prst="bentConnector2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1861640" y="8550360"/>
            <a:ext cx="939960" cy="2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37880" y="8091360"/>
            <a:ext cx="963720" cy="2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mmitte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6040" y="7724880"/>
            <a:ext cx="762120" cy="2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Bo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045800" y="3168720"/>
            <a:ext cx="771480" cy="5414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031400" y="3762360"/>
            <a:ext cx="792000" cy="5382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lateral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59880" y="266220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59880" y="3276720"/>
            <a:ext cx="51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370160" y="428760"/>
            <a:ext cx="2453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* SME </a:t>
            </a:r>
            <a:r>
              <a:rPr b="0" lang="th-TH" sz="1300" spc="-1" strike="noStrike">
                <a:solidFill>
                  <a:srgbClr val="000000"/>
                </a:solidFill>
                <a:latin typeface="Times New Roman"/>
              </a:rPr>
              <a:t>ที่มีลักษณะคล้าย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orpor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/>
          <p:nvPr/>
        </p:nvCxnSpPr>
        <p:spPr>
          <a:xfrm flipV="1" rot="16200000">
            <a:off x="5920920" y="5250600"/>
            <a:ext cx="3960000" cy="464400"/>
          </a:xfrm>
          <a:prstGeom prst="bentConnector2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 flipV="1" rot="10800000">
            <a:off x="7694280" y="2967840"/>
            <a:ext cx="8096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Times New Roman"/>
              </a:rPr>
              <a:t>Watch 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6920" y="2968560"/>
            <a:ext cx="1076040" cy="5414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losed monit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/>
          <p:nvPr/>
        </p:nvCxnSpPr>
        <p:spPr>
          <a:xfrm flipV="1">
            <a:off x="10860120" y="4128480"/>
            <a:ext cx="364320" cy="3399480"/>
          </a:xfrm>
          <a:prstGeom prst="bentConnector2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2249000" y="197172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70720" y="1101600"/>
            <a:ext cx="1057320" cy="552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ngoing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261280" y="1320840"/>
            <a:ext cx="6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5960" y="7358040"/>
            <a:ext cx="181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600" y="7402680"/>
            <a:ext cx="189000" cy="129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7402680"/>
            <a:ext cx="1003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8160" y="7329600"/>
            <a:ext cx="149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ront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0360" y="7661160"/>
            <a:ext cx="174600" cy="130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7921800"/>
            <a:ext cx="187200" cy="129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0880" y="7577280"/>
            <a:ext cx="149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iddle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280" y="7877160"/>
            <a:ext cx="1493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ack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4840" y="7432560"/>
            <a:ext cx="231840" cy="144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3760" y="7356600"/>
            <a:ext cx="149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oan Init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16000" y="7721640"/>
            <a:ext cx="231840" cy="144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20920" y="7632720"/>
            <a:ext cx="1492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Loan Monitoring and 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3280" y="8632800"/>
            <a:ext cx="812880" cy="333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spcBef>
                <a:spcPts val="2438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8080" y="9088560"/>
            <a:ext cx="811080" cy="334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9160" y="9240840"/>
            <a:ext cx="18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8688240"/>
            <a:ext cx="91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900" spc="-1" strike="noStrike">
                <a:solidFill>
                  <a:srgbClr val="000000"/>
                </a:solidFill>
                <a:latin typeface="Times New Roman"/>
              </a:rPr>
              <a:t>ตรวจสอบภายใ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7160" y="9169560"/>
            <a:ext cx="91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64240" y="4213080"/>
            <a:ext cx="1160640" cy="930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redit Risk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Back Tes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Basel 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59560" y="5205240"/>
            <a:ext cx="1179360" cy="871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10320" y="5288040"/>
            <a:ext cx="108900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Risk Analytic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del develop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del valid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ating Develop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53" idx="3"/>
            <a:endCxn id="100" idx="1"/>
          </p:cNvCxnSpPr>
          <p:nvPr/>
        </p:nvCxnSpPr>
        <p:spPr>
          <a:xfrm>
            <a:off x="3625920" y="4466880"/>
            <a:ext cx="1568880" cy="1566000"/>
          </a:xfrm>
          <a:prstGeom prst="bentConnector2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4813200" y="6032520"/>
            <a:ext cx="762120" cy="781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ca2eb"/>
              </a:gs>
              <a:gs pos="50000">
                <a:srgbClr val="ffffff"/>
              </a:gs>
              <a:gs pos="100000">
                <a:srgbClr val="fca2e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a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/>
          <p:nvPr/>
        </p:nvCxnSpPr>
        <p:spPr>
          <a:xfrm flipV="1" rot="16200000">
            <a:off x="2964240" y="6336000"/>
            <a:ext cx="1506960" cy="330840"/>
          </a:xfrm>
          <a:prstGeom prst="bentConnector2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 flipV="1" rot="10800000">
            <a:off x="5412600" y="4685400"/>
            <a:ext cx="1146960" cy="1362600"/>
          </a:xfrm>
          <a:prstGeom prst="bentConnector2">
            <a:avLst/>
          </a:prstGeom>
          <a:ln w="9360">
            <a:solidFill>
              <a:srgbClr val="ff00ff"/>
            </a:solidFill>
            <a:miter/>
            <a:headEnd len="med" type="triangle" w="med"/>
          </a:ln>
        </p:spPr>
      </p:cxnSp>
      <p:cxnSp>
        <p:nvCxnSpPr>
          <p:cNvPr id="139" name=""/>
          <p:cNvCxnSpPr/>
          <p:nvPr/>
        </p:nvCxnSpPr>
        <p:spPr>
          <a:xfrm flipH="1" flipV="1" rot="5400000">
            <a:off x="5082120" y="4383360"/>
            <a:ext cx="1818360" cy="1162440"/>
          </a:xfrm>
          <a:prstGeom prst="bentConnector2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9468000" y="325764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9426600" y="3001320"/>
            <a:ext cx="8064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Times New Roman"/>
              </a:rPr>
              <a:t>N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0410840" y="1990800"/>
            <a:ext cx="936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105760" y="4087800"/>
            <a:ext cx="19051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801440" y="282096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20520" y="2979720"/>
            <a:ext cx="295200" cy="54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96600" y="323856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1201400" y="3238560"/>
            <a:ext cx="0" cy="2570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/>
          <p:nvPr/>
        </p:nvCxnSpPr>
        <p:spPr>
          <a:xfrm flipH="1" rot="16200000">
            <a:off x="5853600" y="3830760"/>
            <a:ext cx="4226760" cy="4355280"/>
          </a:xfrm>
          <a:prstGeom prst="bentConnector2">
            <a:avLst/>
          </a:prstGeom>
          <a:ln w="9360">
            <a:solidFill>
              <a:srgbClr val="008000"/>
            </a:solidFill>
            <a:miter/>
            <a:headEnd len="med" type="triangle" w="med"/>
          </a:ln>
        </p:spPr>
      </p:cxnSp>
      <p:sp>
        <p:nvSpPr>
          <p:cNvPr id="149" name=""/>
          <p:cNvSpPr/>
          <p:nvPr/>
        </p:nvSpPr>
        <p:spPr>
          <a:xfrm flipV="1">
            <a:off x="10144080" y="7829280"/>
            <a:ext cx="0" cy="2840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3120" y="7094520"/>
            <a:ext cx="1287360" cy="649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pprais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01080" y="927000"/>
            <a:ext cx="0" cy="34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63800" y="1000080"/>
            <a:ext cx="6836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66ff"/>
                </a:solidFill>
                <a:latin typeface="Times New Roman"/>
              </a:rPr>
              <a:t>Feed b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1706120" y="7905600"/>
            <a:ext cx="15264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1715840" y="8334360"/>
            <a:ext cx="1620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715840" y="8391600"/>
            <a:ext cx="13320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40080" y="2616120"/>
            <a:ext cx="15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55880" y="1932120"/>
            <a:ext cx="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54080" y="8801280"/>
            <a:ext cx="13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12401640" y="9312120"/>
            <a:ext cx="371520" cy="88920"/>
          </a:xfrm>
          <a:custGeom>
            <a:avLst/>
            <a:gdLst>
              <a:gd name="textAreaLeft" fmla="*/ 5760 w 371520"/>
              <a:gd name="textAreaRight" fmla="*/ 365760 w 371520"/>
              <a:gd name="textAreaTop" fmla="*/ 5760 h 88920"/>
              <a:gd name="textAreaBottom" fmla="*/ 83160 h 88920"/>
            </a:gdLst>
            <a:ahLst/>
            <a:rect l="textAreaLeft" t="textAreaTop" r="textAreaRight" b="textAreaBottom"/>
            <a:pathLst>
              <a:path w="89971" h="21600">
                <a:moveTo>
                  <a:pt x="0" y="0"/>
                </a:moveTo>
                <a:lnTo>
                  <a:pt x="89971" y="0"/>
                </a:lnTo>
                <a:lnTo>
                  <a:pt x="89971" y="21600"/>
                </a:lnTo>
                <a:lnTo>
                  <a:pt x="0" y="21600"/>
                </a:lnTo>
                <a:close/>
              </a:path>
              <a:path fill="lightenLess" w="89971" h="21600">
                <a:moveTo>
                  <a:pt x="0" y="0"/>
                </a:moveTo>
                <a:lnTo>
                  <a:pt x="89971" y="0"/>
                </a:lnTo>
                <a:lnTo>
                  <a:pt x="88571" y="1400"/>
                </a:lnTo>
                <a:lnTo>
                  <a:pt x="1400" y="1400"/>
                </a:lnTo>
                <a:close/>
              </a:path>
              <a:path fill="darken" w="89971" h="21600">
                <a:moveTo>
                  <a:pt x="89971" y="0"/>
                </a:moveTo>
                <a:lnTo>
                  <a:pt x="89971" y="21600"/>
                </a:lnTo>
                <a:lnTo>
                  <a:pt x="88571" y="20200"/>
                </a:lnTo>
                <a:lnTo>
                  <a:pt x="88571" y="1400"/>
                </a:lnTo>
                <a:close/>
              </a:path>
              <a:path fill="darkenLess" w="89971" h="21600">
                <a:moveTo>
                  <a:pt x="899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71" y="20200"/>
                </a:lnTo>
                <a:close/>
              </a:path>
              <a:path fill="lighten" w="899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71" h="21600">
                <a:moveTo>
                  <a:pt x="37979" y="3794"/>
                </a:moveTo>
                <a:lnTo>
                  <a:pt x="51992" y="10800"/>
                </a:lnTo>
                <a:lnTo>
                  <a:pt x="37979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DF50C-6B16-4984-9701-2FD57869A6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28680" y="9051840"/>
            <a:ext cx="10485360" cy="4143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FreesiaUPC"/>
              </a:rPr>
              <a:t>Compli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5680" y="120600"/>
            <a:ext cx="1120680" cy="1011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ilyUPC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ilyUPC"/>
              </a:rPr>
              <a:t>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LilyUPC"/>
              </a:rPr>
              <a:t>Sr. M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96920" y="1271520"/>
            <a:ext cx="1081080" cy="649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LilyUPC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36520" y="2354400"/>
            <a:ext cx="1006560" cy="5014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-120240" y="4457520"/>
            <a:ext cx="3341520" cy="73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derwriting stand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45160" y="4440240"/>
            <a:ext cx="961920" cy="86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br>
              <a:rPr sz="1200"/>
            </a:br>
            <a:r>
              <a:rPr b="1" lang="th-TH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ey Are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4"/>
            <a:endCxn id="163" idx="0"/>
          </p:cNvCxnSpPr>
          <p:nvPr/>
        </p:nvCxnSpPr>
        <p:spPr>
          <a:xfrm>
            <a:off x="1638360" y="1920960"/>
            <a:ext cx="216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 flipV="1">
            <a:off x="5241960" y="2576520"/>
            <a:ext cx="83016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60840" y="2254320"/>
            <a:ext cx="4060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66ff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5" idx="3"/>
          </p:cNvCxnSpPr>
          <p:nvPr/>
        </p:nvCxnSpPr>
        <p:spPr>
          <a:xfrm flipV="1">
            <a:off x="5707080" y="2649240"/>
            <a:ext cx="70200" cy="2224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5897520" y="4133880"/>
            <a:ext cx="4060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66ff"/>
                </a:solidFill>
                <a:latin typeface="Times New Roman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endCxn id="165" idx="0"/>
          </p:cNvCxnSpPr>
          <p:nvPr/>
        </p:nvCxnSpPr>
        <p:spPr>
          <a:xfrm>
            <a:off x="5214600" y="2589120"/>
            <a:ext cx="11880" cy="185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840920" y="3662280"/>
            <a:ext cx="3542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/>
          <p:nvPr/>
        </p:nvCxnSpPr>
        <p:spPr>
          <a:xfrm>
            <a:off x="5223960" y="5310360"/>
            <a:ext cx="2520" cy="530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229720" y="5457960"/>
            <a:ext cx="348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11640" y="5846760"/>
            <a:ext cx="2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/>
          <p:nvPr/>
        </p:nvCxnSpPr>
        <p:spPr>
          <a:xfrm>
            <a:off x="6524280" y="1909440"/>
            <a:ext cx="1080" cy="33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/>
          <p:nvPr/>
        </p:nvCxnSpPr>
        <p:spPr>
          <a:xfrm>
            <a:off x="7857720" y="1919160"/>
            <a:ext cx="396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11909520" y="762120"/>
            <a:ext cx="0" cy="6470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80720" y="2676600"/>
            <a:ext cx="92088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5000"/>
              </a:lnSpc>
              <a:spcBef>
                <a:spcPts val="938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ngsana New"/>
              </a:rPr>
              <a:t>Sell/Transf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NP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938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ngsana New"/>
              </a:rPr>
              <a:t>Retail por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NP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28680" y="50472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12560" y="139680"/>
            <a:ext cx="621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Credit Process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(R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ETAILS+SMEs*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27680" y="3490920"/>
            <a:ext cx="862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Overrid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Auth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59600" y="835200"/>
            <a:ext cx="5530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28680" y="8169120"/>
            <a:ext cx="1048536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Database </a:t>
            </a:r>
            <a:r>
              <a:rPr b="1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M I S/Re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4280" y="8612280"/>
            <a:ext cx="10485720" cy="3207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Internal Audit + Quality Assur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97160" y="1271520"/>
            <a:ext cx="1081080" cy="649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LilyUPC"/>
              </a:rPr>
              <a:t>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71680" y="2355840"/>
            <a:ext cx="928800" cy="6541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Documents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mple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llater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KYC/CD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8960" y="629136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82720" y="565776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68320" y="4857840"/>
            <a:ext cx="33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86" idx="4"/>
            <a:endCxn id="187" idx="0"/>
          </p:cNvCxnSpPr>
          <p:nvPr/>
        </p:nvCxnSpPr>
        <p:spPr>
          <a:xfrm flipH="1">
            <a:off x="2836080" y="1920960"/>
            <a:ext cx="2520" cy="43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2141640" y="260496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11640" y="2579760"/>
            <a:ext cx="668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26000" y="409680"/>
            <a:ext cx="2948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03720" y="409680"/>
            <a:ext cx="2948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023840" y="500040"/>
            <a:ext cx="2623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ngsana New"/>
              </a:rPr>
              <a:t>* Characteristic similar to Retai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82720" y="418788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82720" y="336564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77800" y="176220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4600" y="9101160"/>
            <a:ext cx="900000" cy="276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5120" y="9113760"/>
            <a:ext cx="9144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4600" y="8680320"/>
            <a:ext cx="884160" cy="303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7200" y="8691480"/>
            <a:ext cx="9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nal Aud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030320" y="8839080"/>
            <a:ext cx="2476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44720" y="927432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3600" y="7402680"/>
            <a:ext cx="189000" cy="129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8160" y="7329600"/>
            <a:ext cx="149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0360" y="7661160"/>
            <a:ext cx="174600" cy="1303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7921800"/>
            <a:ext cx="187200" cy="129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280" y="7877160"/>
            <a:ext cx="1493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ck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0880" y="7577280"/>
            <a:ext cx="149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ddle 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04840" y="7678800"/>
            <a:ext cx="231840" cy="146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68360" y="7623000"/>
            <a:ext cx="149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an Init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06640" y="7939080"/>
            <a:ext cx="231840" cy="14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52520" y="7850160"/>
            <a:ext cx="2522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an Monitoring and 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957040" y="8124840"/>
            <a:ext cx="669960" cy="3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gsana New"/>
              </a:rPr>
              <a:t>Mg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961720" y="7701120"/>
            <a:ext cx="839880" cy="54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gsana New"/>
              </a:rPr>
              <a:t>Committe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999880" y="7277040"/>
            <a:ext cx="627120" cy="54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ngsana New"/>
              </a:rPr>
              <a:t>Boar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24360" y="6172200"/>
            <a:ext cx="1095480" cy="782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ca2eb"/>
              </a:gs>
              <a:gs pos="50000">
                <a:srgbClr val="ffffff"/>
              </a:gs>
              <a:gs pos="100000">
                <a:srgbClr val="fca2e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isk Sc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Application (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Behavior (B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"/>
          <p:cNvCxnSpPr>
            <a:endCxn id="219" idx="4"/>
          </p:cNvCxnSpPr>
          <p:nvPr/>
        </p:nvCxnSpPr>
        <p:spPr>
          <a:xfrm rot="5400000">
            <a:off x="7038000" y="5771880"/>
            <a:ext cx="573840" cy="1011960"/>
          </a:xfrm>
          <a:prstGeom prst="bentConnector2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H="1" flipV="1" rot="5400000">
            <a:off x="6280560" y="5137200"/>
            <a:ext cx="1430640" cy="657720"/>
          </a:xfrm>
          <a:prstGeom prst="bentConnector2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H="1" flipV="1" rot="5400000">
            <a:off x="6280560" y="3965760"/>
            <a:ext cx="1430640" cy="657720"/>
          </a:xfrm>
          <a:prstGeom prst="bentConnector2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rot="5400000">
            <a:off x="7813080" y="1954080"/>
            <a:ext cx="135036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8604360" y="139536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593200" y="2738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 rot="10800000">
            <a:off x="8353440" y="2756880"/>
            <a:ext cx="8064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Times New Roman"/>
              </a:rPr>
              <a:t>Watch 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28160" y="1054080"/>
            <a:ext cx="760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99ff"/>
                </a:solidFill>
                <a:latin typeface="Times New Roman"/>
              </a:rPr>
              <a:t>Norm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02560" y="334332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157120" y="2343240"/>
            <a:ext cx="750600" cy="6192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D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171160" y="3290760"/>
            <a:ext cx="752400" cy="6192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Legal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/>
          <p:nvPr/>
        </p:nvCxnSpPr>
        <p:spPr>
          <a:xfrm flipH="1" flipV="1" rot="10800000">
            <a:off x="10197720" y="2524320"/>
            <a:ext cx="2160" cy="11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10934640" y="25430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561760" y="2971800"/>
            <a:ext cx="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44360" y="2762280"/>
            <a:ext cx="24768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591920" y="1771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/>
          <p:nvPr/>
        </p:nvCxnSpPr>
        <p:spPr>
          <a:xfrm>
            <a:off x="8383680" y="3839760"/>
            <a:ext cx="475200" cy="3939480"/>
          </a:xfrm>
          <a:prstGeom prst="bentConnector2">
            <a:avLst/>
          </a:prstGeom>
          <a:ln w="9360">
            <a:solidFill>
              <a:srgbClr val="ff9900"/>
            </a:solidFill>
            <a:miter/>
            <a:headEnd len="med" type="triangle" w="med"/>
          </a:ln>
        </p:spPr>
      </p:cxnSp>
      <p:cxnSp>
        <p:nvCxnSpPr>
          <p:cNvPr id="237" name=""/>
          <p:cNvCxnSpPr>
            <a:endCxn id="238" idx="2"/>
          </p:cNvCxnSpPr>
          <p:nvPr/>
        </p:nvCxnSpPr>
        <p:spPr>
          <a:xfrm rot="10800000">
            <a:off x="3201120" y="6411240"/>
            <a:ext cx="5126400" cy="873720"/>
          </a:xfrm>
          <a:prstGeom prst="bentConnector2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8886960" y="3838680"/>
            <a:ext cx="12668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V="1">
            <a:off x="11278800" y="3909240"/>
            <a:ext cx="173880" cy="3552120"/>
          </a:xfrm>
          <a:prstGeom prst="bentConnector2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 flipV="1">
            <a:off x="11420640" y="2962440"/>
            <a:ext cx="0" cy="32544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810720" y="32288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 rot="10800000">
            <a:off x="9789840" y="2964600"/>
            <a:ext cx="8046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Times New Roman"/>
              </a:rPr>
              <a:t>NP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 flipV="1" rot="16200000">
            <a:off x="6754680" y="3438000"/>
            <a:ext cx="4498200" cy="4100760"/>
          </a:xfrm>
          <a:prstGeom prst="bentConnector3">
            <a:avLst>
              <a:gd name="adj1" fmla="val -5082"/>
            </a:avLst>
          </a:prstGeom>
          <a:ln w="93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524400" y="1290600"/>
            <a:ext cx="1081080" cy="647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7240" y="3316320"/>
            <a:ext cx="2149560" cy="1173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Check credit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redit bureau check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Website checking (eg.BO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redit Sco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10040" y="1962000"/>
            <a:ext cx="0" cy="130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19400" y="2579760"/>
            <a:ext cx="118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591080" y="3979800"/>
            <a:ext cx="0" cy="253368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356000" y="3971880"/>
            <a:ext cx="21744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26040" y="1224000"/>
            <a:ext cx="108108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redit  Admi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03800" y="2301840"/>
            <a:ext cx="1008360" cy="941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Revie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Agree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- Credit li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9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115040" y="2638440"/>
            <a:ext cx="1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77040" y="2290680"/>
            <a:ext cx="1144800" cy="18108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Monit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Portfolio  monitoring /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 class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o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ehavior sco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arly warning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llateral valu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an Revie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270920" y="4167360"/>
            <a:ext cx="1158840" cy="9284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Risk 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Back Tes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Basel I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254720" y="5146560"/>
            <a:ext cx="1179720" cy="87156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94680" y="5229360"/>
            <a:ext cx="109044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Risk Analytic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del develop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del valid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ating Develop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1212840"/>
            <a:ext cx="1203480" cy="649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redit Risk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gt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886880" y="867960"/>
            <a:ext cx="0" cy="344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11800" y="932040"/>
            <a:ext cx="6516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Times New Roman"/>
              </a:rPr>
              <a:t>Feed bac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948880" y="2968560"/>
            <a:ext cx="893520" cy="5414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losed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onito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12160" y="1101600"/>
            <a:ext cx="1060560" cy="5526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ngoing colle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071000" y="1111320"/>
            <a:ext cx="1081080" cy="646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oan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188720" y="2313000"/>
            <a:ext cx="771480" cy="5382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oan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198080" y="2894040"/>
            <a:ext cx="771480" cy="5382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visio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193400" y="3495600"/>
            <a:ext cx="792000" cy="5382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lateral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02600" y="7180200"/>
            <a:ext cx="1290600" cy="647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Apprais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217160" y="7110360"/>
            <a:ext cx="1081080" cy="646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Legal &amp; Litig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720520" y="1076400"/>
            <a:ext cx="1081080" cy="646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pert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1694960" y="7439040"/>
            <a:ext cx="277920" cy="80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1686680" y="7954920"/>
            <a:ext cx="24948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725200" y="8221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978800" y="6249960"/>
            <a:ext cx="266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05760" y="6256440"/>
            <a:ext cx="399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66ff"/>
                </a:solidFill>
                <a:latin typeface="Times New Roman"/>
              </a:rPr>
              <a:t>A,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67600" y="4605480"/>
            <a:ext cx="288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900" spc="-1" strike="noStrike">
                <a:solidFill>
                  <a:srgbClr val="0066ff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59080" y="231840"/>
            <a:ext cx="1400040" cy="96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Frame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- Credit poli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redit Risk polic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isk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76560" y="231840"/>
            <a:ext cx="1160640" cy="96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us. obj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us. strate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40240" y="231840"/>
            <a:ext cx="1735200" cy="96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Operating  guidel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redit pro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pproval author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1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97560" y="6527880"/>
            <a:ext cx="11062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27240" y="4489560"/>
            <a:ext cx="2149560" cy="1922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Verification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- Product criter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Underwriting criter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ollateral valu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OT reg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38640" y="2220840"/>
            <a:ext cx="914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ro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5160" y="3309840"/>
            <a:ext cx="2133720" cy="3089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887B7-242E-4771-8902-B49171EAC6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2:22:26Z</dcterms:created>
  <dc:creator>IT</dc:creator>
  <dc:description/>
  <dc:language>en-US</dc:language>
  <cp:lastModifiedBy>Information Technology</cp:lastModifiedBy>
  <dcterms:modified xsi:type="dcterms:W3CDTF">2008-09-22T03:28:18Z</dcterms:modified>
  <cp:revision>151</cp:revision>
  <dc:subject/>
  <dc:title>Slide 1</dc:title>
</cp:coreProperties>
</file>