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902825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85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1760" y="160452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085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1760" y="3682080"/>
            <a:ext cx="286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1960" y="368208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1960" y="1604520"/>
            <a:ext cx="434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2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832280" y="6527880"/>
            <a:ext cx="36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616800" y="6629400"/>
            <a:ext cx="293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rdia New"/>
                <a:ea typeface="Cordia New"/>
              </a:rPr>
              <a:t>Page</a:t>
            </a:r>
            <a:r>
              <a:rPr b="0" lang="th-TH" sz="1400" spc="-1" strike="noStrike">
                <a:solidFill>
                  <a:srgbClr val="808080"/>
                </a:solidFill>
                <a:latin typeface="Cordia New"/>
                <a:ea typeface="Cordia New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Cordia New"/>
                <a:ea typeface="Cordia New"/>
              </a:rPr>
              <a:t>  </a:t>
            </a:r>
            <a:fld id="{847FFBA8-DF55-487F-8606-FEF05A6AA266}" type="slidenum">
              <a:rPr b="0" lang="en-US" sz="1400" spc="-1" strike="noStrike">
                <a:solidFill>
                  <a:srgbClr val="808080"/>
                </a:solidFill>
                <a:latin typeface="Cordia New"/>
                <a:ea typeface="Cordi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91960" y="6553080"/>
            <a:ext cx="922032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324480"/>
            <a:ext cx="5943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www.bot.or.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dia New"/>
                <a:ea typeface="Cordia New"/>
              </a:rPr>
              <a:t>Supervision Group, Bank of Thai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141560" y="0"/>
          <a:ext cx="8761320" cy="7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1560" y="0"/>
                    <a:ext cx="87613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" name="" descr=""/>
          <p:cNvPicPr/>
          <p:nvPr/>
        </p:nvPicPr>
        <p:blipFill>
          <a:blip r:embed="rId4"/>
          <a:srcRect l="4559" t="2694" r="4227" b="6176"/>
          <a:stretch/>
        </p:blipFill>
        <p:spPr>
          <a:xfrm>
            <a:off x="0" y="0"/>
            <a:ext cx="1092240" cy="107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147680" y="104760"/>
            <a:ext cx="79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3333cc"/>
                </a:solidFill>
                <a:latin typeface="Cordia New"/>
                <a:cs typeface="Cordia New"/>
              </a:rPr>
              <a:t>เป็นองค์กรที่มองการณ์ไกล พนักงานมีความสามารถสูง และอุทิศตนเพื่อดูแลเศรษฐกิจให้ผ่านพ้นความผันผวนได้อย่างราบรื่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1292040"/>
            <a:ext cx="8416800" cy="61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th-TH" sz="5400" spc="-1" strike="noStrike">
                <a:solidFill>
                  <a:srgbClr val="000066"/>
                </a:solidFill>
                <a:latin typeface="Cordia New"/>
                <a:cs typeface="Cordia New"/>
              </a:rPr>
              <a:t>แนวทางการตรวจสอบด้านสินเชื่อ </a:t>
            </a:r>
            <a:br>
              <a:rPr sz="5400"/>
            </a:br>
            <a:br>
              <a:rPr sz="5400"/>
            </a:b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46240" y="1757160"/>
            <a:ext cx="9656640" cy="63370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6000"/>
          </a:bodyPr>
          <a:p>
            <a:pPr marL="822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    </a:t>
            </a:r>
            <a:r>
              <a:rPr b="1" lang="th-TH" sz="3600" spc="-1" strike="noStrike" u="sng">
                <a:solidFill>
                  <a:srgbClr val="3333cc"/>
                </a:solidFill>
                <a:uFillTx/>
                <a:latin typeface="Angsana New"/>
                <a:cs typeface="Angsana New"/>
              </a:rPr>
              <a:t>การอนุมัติสินเชื่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้องใช้ </a:t>
            </a:r>
            <a:r>
              <a:rPr b="1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Credit Rating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ป็นปัจจัยสำคัญในการพิจารณาอนุมัติสินเชื่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1680" indent="-603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ngsana New"/>
              <a:buChar char="•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นิยามของปัจจัยต่างๆใน </a:t>
            </a:r>
            <a:r>
              <a:rPr b="0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Credit Rating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้องชัดเจน เพื่อให้การกรอกข้อมูลเข้าระบบมีมาตรฐานเดียวกั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1680" indent="-603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ngsana New"/>
              <a:buChar char="•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สายงานสินเชื่อต้องไม่รู้น้ำหนักปัจจัยของ </a:t>
            </a:r>
            <a:r>
              <a:rPr b="0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Credit R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1680" indent="-603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ngsana New"/>
              <a:buChar char="•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หน่วยงานอิสระจาก </a:t>
            </a:r>
            <a:r>
              <a:rPr b="0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RM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สอบทานการให้ </a:t>
            </a:r>
            <a:r>
              <a:rPr b="0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Credit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rating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ของ </a:t>
            </a:r>
            <a:r>
              <a:rPr b="0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831680" indent="-603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ngsana New"/>
              <a:buChar char="•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มื่อได้รับ </a:t>
            </a:r>
            <a:r>
              <a:rPr b="0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Rating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ล้วไม่ควรเปลี่ยน  กรณีที่จะให้กู้แก่ลูกค้าที่ </a:t>
            </a:r>
            <a:r>
              <a:rPr b="0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Rating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่ำกว่าเกณฑ์ที่จะอนุมัติต้องมีคำอธิบา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ัจจัยพิจารณาอื่นนอกเหนือจาก </a:t>
            </a:r>
            <a:r>
              <a:rPr b="1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Credit Rating </a:t>
            </a:r>
            <a:r>
              <a:rPr b="1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้องมีกรอบชัดเจนว่าใช้ปัจจัยใดได้บ้า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8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2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185480" y="460080"/>
            <a:ext cx="79534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ประเด็นที่ควรระมัดระวัง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(Critical Points)</a:t>
            </a:r>
            <a:br>
              <a:rPr sz="4000"/>
            </a:b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ำหรับ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Corporate Lo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46000" y="1814040"/>
            <a:ext cx="8901360" cy="4535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76000"/>
          </a:bodyPr>
          <a:p>
            <a:pPr marL="651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</a:t>
            </a:r>
            <a:r>
              <a:rPr b="1" lang="th-TH" sz="3600" spc="-1" strike="noStrike" u="sng">
                <a:solidFill>
                  <a:srgbClr val="3333cc"/>
                </a:solidFill>
                <a:uFillTx/>
                <a:latin typeface="Angsana New"/>
                <a:cs typeface="Angsana New"/>
              </a:rPr>
              <a:t>หลักประก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น่วยงานประเมินหลักประกันต้องเป็นอิสระจากหน่วยงานพิจารณาสินเชื่อ และม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ณะกรรมการรับหลักประกัน ทั้งกรณีประเมินมูลค่าโดยหน่วยงานภายในแล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ภายนอก และต้องชี้แจงเหตุผลในการรับหลักประกันไว้ด้ว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รณีที่เป็น </a:t>
            </a:r>
            <a:r>
              <a:rPr b="0" lang="en-US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NPL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ล้วการประเมินราคาให้คำนึงถึงสภาพที่แท้จริงหากมีการขา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รณีหลักประกันเป็นที่ดิน รูปร่างและสภาพมีความสำค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ลักประกันอื่น ๆ ที่ไม่ใช่อสังหาริมทรัพย์ ต้องพิจารณารายละเอียดเงื่อนไขอื่นที่จ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2800" spc="-1" strike="noStrike">
                <a:solidFill>
                  <a:srgbClr val="3333cc"/>
                </a:solidFill>
                <a:latin typeface="Angsana New"/>
                <a:ea typeface="Angsana New"/>
              </a:rPr>
              <a:t>   </a:t>
            </a:r>
            <a:r>
              <a:rPr b="0" lang="th-TH" sz="28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ผลต่อความสามารถในการบังคับหลักประกั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80680" y="673200"/>
            <a:ext cx="7381800" cy="1295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ประเด็นที่ควรระมัดระวัง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(Critical Points)</a:t>
            </a:r>
            <a:br>
              <a:rPr sz="4000"/>
            </a:b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ำหรับ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Corporate Lo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3240" y="650520"/>
            <a:ext cx="7673760" cy="1143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ประเด็นที่ควรระมัดระวัง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(Critical Points) </a:t>
            </a:r>
            <a:br>
              <a:rPr sz="4000"/>
            </a:b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ำหรับ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Corporate Lo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4640" y="1998360"/>
            <a:ext cx="8727840" cy="39099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76000"/>
          </a:bodyPr>
          <a:p>
            <a:pPr marL="6512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</a:t>
            </a:r>
            <a:r>
              <a:rPr b="1" lang="th-TH" sz="3600" spc="-1" strike="noStrike" u="sng">
                <a:solidFill>
                  <a:srgbClr val="3333cc"/>
                </a:solidFill>
                <a:uFillTx/>
                <a:latin typeface="Angsana New"/>
                <a:cs typeface="Angsana New"/>
              </a:rPr>
              <a:t>ปฏิบัติการสินเชื่อ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(Credit Ope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0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่อนให้เบิกเงินกู้ สัญญากู้ต้องระบุเงื่อนไขครบตามมติอนุมัติสินเชื่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0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ถ้ามีเงื่อนไขให้เบิกเงินเป็น </a:t>
            </a:r>
            <a:r>
              <a:rPr b="0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phase </a:t>
            </a:r>
            <a:r>
              <a:rPr b="0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้อง </a:t>
            </a:r>
            <a:r>
              <a:rPr b="0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verify (</a:t>
            </a:r>
            <a:r>
              <a:rPr b="0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โดยภายในหรือภายนอก</a:t>
            </a:r>
            <a:r>
              <a:rPr b="0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  </a:t>
            </a:r>
            <a:r>
              <a:rPr b="0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ว่าเป็นไปตามเงื่อนไขแล้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0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้องมีหน่วยงานอิสระ ติดตามดูแลเรื่องเงื่อนไขบังคับหลังเบิกเงินกู้แล้ว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  </a:t>
            </a:r>
            <a:r>
              <a:rPr b="0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ช่น กรณีหลักประกันเป็น </a:t>
            </a:r>
            <a:r>
              <a:rPr b="0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inven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9160" y="637920"/>
            <a:ext cx="83854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ประเด็นที่ควรระมัดระวัง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(Critical Points) </a:t>
            </a:r>
            <a:br>
              <a:rPr sz="4000"/>
            </a:b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ำหรับ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Corporate Lo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74760" y="2189160"/>
            <a:ext cx="8385120" cy="37972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85000"/>
          </a:bodyPr>
          <a:p>
            <a:pPr marL="728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 u="sng">
                <a:solidFill>
                  <a:srgbClr val="3333cc"/>
                </a:solidFill>
                <a:uFillTx/>
                <a:latin typeface="Angsana New"/>
                <a:cs typeface="Angsana New"/>
              </a:rPr>
              <a:t>การสอบทานสินเชื่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76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0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ฝ่ายจัดการต้องไม่ </a:t>
            </a:r>
            <a:r>
              <a:rPr b="0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overrule </a:t>
            </a:r>
            <a:r>
              <a:rPr b="0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วามเห็นจากการสอบทา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76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</a:t>
            </a:r>
            <a:r>
              <a:rPr b="0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สินเชื่อโดยไม่มีเหตุผลอันคว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76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0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ัวใจของการสอบทานคือการสอบทาน </a:t>
            </a:r>
            <a:r>
              <a:rPr b="0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ability to pay </a:t>
            </a:r>
            <a:r>
              <a:rPr b="0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ล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76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</a:t>
            </a:r>
            <a:r>
              <a:rPr b="0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loan docu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60280" y="607680"/>
            <a:ext cx="77626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ประเด็นที่ควรระมัดระวัง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(Critical Points)</a:t>
            </a:r>
            <a:br>
              <a:rPr sz="4000"/>
            </a:b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ำหรับ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Retail Lo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2004480"/>
            <a:ext cx="9096120" cy="4280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75000"/>
          </a:bodyPr>
          <a:p>
            <a:pPr marL="6426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 u="sng">
                <a:solidFill>
                  <a:srgbClr val="3333cc"/>
                </a:solidFill>
                <a:uFillTx/>
                <a:latin typeface="Angsana New"/>
                <a:cs typeface="Angsana New"/>
              </a:rPr>
              <a:t>กระบวนการอนุมัติสินเชื่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้องมี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check and balance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ลอดกระบวน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้องใช้ระบบ</a:t>
            </a:r>
            <a:r>
              <a:rPr b="0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Credit Scoring</a:t>
            </a:r>
            <a:r>
              <a:rPr b="0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ป็นปัจจัยหลักในการอนุมัติสินเชื่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3960" indent="-4845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พนักงานที่นำข้อมูลเข้าต้องไม่รู้น้ำหนักปัจจัยของ </a:t>
            </a:r>
            <a:r>
              <a:rPr b="0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Credit Sc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Verify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ลูกหนี้เป็นสิ่งสำคัญ ป้องกันการทุจริต</a:t>
            </a:r>
            <a:r>
              <a:rPr b="0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- 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Override cut off score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วรมีเกณฑ์ชัดเจน และไม่ควรผ่อนปร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 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จากเกณฑ์ดังกล่าวอี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01680" y="855720"/>
            <a:ext cx="405648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6000" spc="-1" strike="noStrike">
                <a:solidFill>
                  <a:srgbClr val="000066"/>
                </a:solidFill>
                <a:latin typeface="Angsana New"/>
                <a:cs typeface="Angsana New"/>
              </a:rPr>
              <a:t>ธรรมาภิบา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38320" y="2073240"/>
            <a:ext cx="840744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marL="746280" indent="-74628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40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ทบาทของคณะกรรมกา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747720">
              <a:lnSpc>
                <a:spcPct val="100000"/>
              </a:lnSpc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ทบาทสำคัญในการกำหนดนโยบายสินเชื่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747720">
              <a:lnSpc>
                <a:spcPct val="100000"/>
              </a:lnSpc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ำกับดูแลการปล่อยสินเชื่อให้เป็นไปอย่างถูกทำนองคลองธ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747720">
              <a:lnSpc>
                <a:spcPct val="100000"/>
              </a:lnSpc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ดูแลมิให้เกิดการกระจุกตัวของสินเชื่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747720">
              <a:lnSpc>
                <a:spcPct val="100000"/>
              </a:lnSpc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้องกันการเอื้อประโยชน์ </a:t>
            </a:r>
            <a:r>
              <a:rPr b="1" lang="tn-ZA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Related parties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ู้มีอำนาจในบ้านเมื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747720">
              <a:lnSpc>
                <a:spcPct val="100000"/>
              </a:lnSpc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สินเชื่อมีปัญหาต้องกำหนดนโยบายและกระบวนการจัดการที่เพียงพ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747720">
              <a:lnSpc>
                <a:spcPct val="100000"/>
              </a:lnSpc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ดูแลให้มีการตั้งสำรองให้เพียงพ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747720">
              <a:lnSpc>
                <a:spcPct val="100000"/>
              </a:lnSpc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87440" indent="-747720">
              <a:lnSpc>
                <a:spcPct val="100000"/>
              </a:lnSpc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5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31840" y="65520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Times New Roman"/>
                <a:cs typeface="Angsana New"/>
              </a:rPr>
              <a:t>จุดอ่อนที่พบมักเกิดจากการอนุมัติลูกหนี้รายใหญ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ลัดขั้นตอน ไม่ผ่านคณะกลั่นกรอง แต่ไปคณะกรรมการเล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พิจารณาแต่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Credit Risk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ละรายได้ ไม่คำนึงถึง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Reputation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risk 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มื่อเกิดอื้อฉาวแล้ว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loan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ักเสี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ป็นสินเชื่อ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loan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ที่ซับซ้อนมาก  และต่างจากปกติ สายสินเชื่อ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ไม่อาจวิเคราะห์ให้ครบได้ทุกแง่มุม กรรมการมีเวลาน้อย     จึงพิจารณาเฉพาะประเด็นที่สายสินเชื่อเสนอ โดยเฉพาะ</a:t>
            </a:r>
            <a:r>
              <a:rPr b="1" lang="en-US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าง ธ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.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พ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ea typeface="Angsana New"/>
              </a:rPr>
              <a:t>. </a:t>
            </a:r>
            <a:r>
              <a:rPr b="1" lang="th-TH" sz="3200" spc="-1" strike="noStrike">
                <a:solidFill>
                  <a:srgbClr val="3333cc"/>
                </a:solidFill>
                <a:latin typeface="Angsana New"/>
                <a:cs typeface="Angsana New"/>
              </a:rPr>
              <a:t>ที่ไม่มีคณะกลั่นกรอ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98440" y="671040"/>
            <a:ext cx="8283600" cy="9018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Times New Roman"/>
                <a:cs typeface="Angsana New"/>
              </a:rPr>
              <a:t>การบริหารความเสี่ยงด้านเครดิ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893960" y="1690560"/>
            <a:ext cx="6824160" cy="4367520"/>
            <a:chOff x="1893960" y="1690560"/>
            <a:chExt cx="6824160" cy="4367520"/>
          </a:xfrm>
        </p:grpSpPr>
        <p:sp>
          <p:nvSpPr>
            <p:cNvPr id="78" name=""/>
            <p:cNvSpPr/>
            <p:nvPr/>
          </p:nvSpPr>
          <p:spPr>
            <a:xfrm>
              <a:off x="1893960" y="3863520"/>
              <a:ext cx="3424320" cy="219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94160" y="3863520"/>
              <a:ext cx="3423960" cy="219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93960" y="1690560"/>
              <a:ext cx="3424320" cy="219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4160" y="1690560"/>
              <a:ext cx="3423960" cy="21945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176640" y="3508200"/>
              <a:ext cx="864360" cy="457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135960" y="3832920"/>
              <a:ext cx="940320" cy="393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 rot="5400000">
              <a:off x="5232960" y="2422080"/>
              <a:ext cx="552600" cy="714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 rot="5400000">
              <a:off x="4780800" y="2470680"/>
              <a:ext cx="599760" cy="614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78640" y="3799800"/>
              <a:ext cx="857160" cy="4572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41560" y="3538800"/>
              <a:ext cx="934920" cy="393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 rot="16200000">
              <a:off x="4809600" y="4599720"/>
              <a:ext cx="548280" cy="7153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 rot="16200000">
              <a:off x="5210280" y="4647600"/>
              <a:ext cx="598680" cy="6210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132640" y="1908000"/>
            <a:ext cx="319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ดูแลโดย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ณะกรรมการและ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บริหารระดับสู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59440" y="2233440"/>
            <a:ext cx="250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วัดความเสี่ย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46040" y="4387680"/>
            <a:ext cx="270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ติดตามและ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รายงา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74240" y="4494240"/>
            <a:ext cx="30898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ควบคุมและ</a:t>
            </a:r>
            <a:br>
              <a:rPr sz="3200"/>
            </a:b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ดานความเสี่ย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84480" y="2463840"/>
            <a:ext cx="604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66"/>
                </a:solidFill>
                <a:latin typeface="Angsana New"/>
                <a:cs typeface="Angsana New"/>
              </a:rPr>
              <a:t>กรณีศึกษาที่ ธปท</a:t>
            </a:r>
            <a:r>
              <a:rPr b="1" lang="th-TH" sz="4800" spc="-1" strike="noStrike">
                <a:solidFill>
                  <a:srgbClr val="000066"/>
                </a:solidFill>
                <a:latin typeface="Angsana New"/>
                <a:ea typeface="Angsana New"/>
              </a:rPr>
              <a:t>. </a:t>
            </a:r>
            <a:r>
              <a:rPr b="1" lang="th-TH" sz="4800" spc="-1" strike="noStrike">
                <a:solidFill>
                  <a:srgbClr val="000066"/>
                </a:solidFill>
                <a:latin typeface="Angsana New"/>
                <a:cs typeface="Angsana New"/>
              </a:rPr>
              <a:t>ตรวจพ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44520" y="685800"/>
            <a:ext cx="69645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วัตถุประสงค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4000" y="1598760"/>
            <a:ext cx="882504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marL="746280" indent="-7462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1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ระดับและทิศทางของความเสี่ยงด้านสินเชื่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2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ุณภาพของการบริหารความเสี่ยงด้านสินเชื่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3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ุณภาพและความเพียงพอของเงินสำรองและเงินกองทุนที่รองรั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4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วามเหมาะสมและบทบาทของกรรมการและผู้บริหา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5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ปฏิบัติตามกฎหมาย กฎระเบียบต่าง ๆ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6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สั่งการ ติดตาม แก้ไ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28880" y="792000"/>
            <a:ext cx="8219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ปัจจัยที่พิจารณ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1920" y="1717560"/>
            <a:ext cx="730404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marL="746280" indent="-7462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1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วิเคราะห์ติดตา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2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ข้อมูลต่าง ๆ ที่ได้จากตลา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3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ผลการตรวจสอบครั้งก่อ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4.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สภาพแวดล้อ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5. 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60000"/>
              </a:lnSpc>
              <a:spcBef>
                <a:spcPts val="3124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5000" spc="-1" strike="noStrike">
                <a:solidFill>
                  <a:srgbClr val="ffff00"/>
                </a:solidFill>
                <a:latin typeface="Angsana New"/>
                <a:ea typeface="Angsana New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67960" y="425520"/>
            <a:ext cx="7978680" cy="11556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ตัวอย่าง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5960" y="1430280"/>
            <a:ext cx="7979040" cy="4183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Classified assets/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Loan loss reserves/classified lo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Largest borrowers/capital</a:t>
            </a:r>
            <a:r>
              <a:rPr b="0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Related lending/ capital</a:t>
            </a:r>
            <a:r>
              <a:rPr b="0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Largest sectoral exposure/capital</a:t>
            </a:r>
            <a:r>
              <a:rPr b="0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Growth in total loans</a:t>
            </a:r>
            <a:r>
              <a:rPr b="0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89280" y="681120"/>
            <a:ext cx="441792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ปริมาณการตรวจสอ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0440" y="1473120"/>
            <a:ext cx="766116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marL="746280" indent="-74628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1.</a:t>
            </a:r>
            <a:r>
              <a:rPr b="1" lang="th-TH" sz="5300" spc="-1" strike="noStrike">
                <a:solidFill>
                  <a:srgbClr val="ffff00"/>
                </a:solidFill>
                <a:latin typeface="Angsana New"/>
                <a:ea typeface="Angsana New"/>
              </a:rPr>
              <a:t> 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ขึ้นอยู่กับระดับความเสี่ยงรว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-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X  %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   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สู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-  Y  %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่อนข้างสู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-  Z%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านกลา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6280" indent="-746280">
              <a:lnSpc>
                <a:spcPct val="14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2.  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อาจผันแปรได้ตามความเหมาะส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1600" y="625320"/>
            <a:ext cx="7077240" cy="10670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Times New Roman"/>
                <a:cs typeface="Angsana New"/>
              </a:rPr>
              <a:t>เนื้อหาและขอบเขตหลั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87000" y="1566360"/>
            <a:ext cx="8372520" cy="42246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นโยบาย เป้าหมายและแผนงา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โครงสร้างองค์กรและบุคลาก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ระบวนการให้สินเชื่อ รายใหญ่ รายย่อ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บทบาทหน้าที่และความรับผิดชอบของกรรมการและผู้บริหา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ระบบการรายงานและระบบสารสนเท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บริหารความเสี่ย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06600" y="1839960"/>
            <a:ext cx="727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66"/>
                </a:solidFill>
                <a:latin typeface="Angsana New"/>
                <a:cs typeface="Angsana New"/>
              </a:rPr>
              <a:t>กระบวนการสินเชื่อที่ดี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Angsana New"/>
                <a:ea typeface="Angsana New"/>
              </a:rPr>
              <a:t>(Credit Proces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93520" y="766440"/>
            <a:ext cx="80038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ประเด็นที่ควรระมัดระวัง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(Critical Points) </a:t>
            </a:r>
            <a:br>
              <a:rPr sz="4000"/>
            </a:b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ำหรับ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Corporate Lo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5920" y="2450880"/>
            <a:ext cx="7556400" cy="3390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90000"/>
          </a:bodyPr>
          <a:p>
            <a:pPr marL="771120" indent="-771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วิเคราะห์สินเชื่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71120" indent="-771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อนุมัติสินเชื่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71120" indent="-771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หลักประกั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71120" indent="-771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ปฏิบัติการสินเชื่อ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(Loan Ope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71120" indent="-771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สอบทานสินเชื่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93400" y="429840"/>
            <a:ext cx="843588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ประเด็นที่ควรระมัดระวัง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(Critical Points)</a:t>
            </a:r>
            <a:br>
              <a:rPr sz="4000"/>
            </a:br>
            <a:r>
              <a:rPr b="1" lang="th-TH" sz="4000" spc="-1" strike="noStrike">
                <a:solidFill>
                  <a:srgbClr val="000066"/>
                </a:solidFill>
                <a:latin typeface="Angsana New"/>
                <a:cs typeface="Angsana New"/>
              </a:rPr>
              <a:t>สำหรับ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ngsana New"/>
                <a:ea typeface="Angsana New"/>
              </a:rPr>
              <a:t>Corporate Lo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71480" y="1765440"/>
            <a:ext cx="8648640" cy="4749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86000"/>
          </a:bodyPr>
          <a:p>
            <a:pPr marL="7369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     </a:t>
            </a:r>
            <a:r>
              <a:rPr b="1" lang="th-TH" sz="3600" spc="-1" strike="noStrike" u="sng">
                <a:solidFill>
                  <a:srgbClr val="3333cc"/>
                </a:solidFill>
                <a:uFillTx/>
                <a:latin typeface="Angsana New"/>
                <a:cs typeface="Angsana New"/>
              </a:rPr>
              <a:t>การวิเคราะห์สินเชื่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90160" indent="-6386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–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Credit Report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ที่จัดทำเพื่อเสนออนุมัติต้องมี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check and balance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ลอดทุกขั้นตอ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56000" indent="-555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RM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้องเป็นอิสระจาก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C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56000" indent="-555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จำนวน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CO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้องเพียงพอ และมีประสบการณ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56000" indent="-5554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Angsana New"/>
              <a:buChar char="•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ต้อง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verify </a:t>
            </a:r>
            <a:r>
              <a:rPr b="1" lang="th-TH" sz="3600" spc="-1" strike="noStrike">
                <a:solidFill>
                  <a:srgbClr val="3333cc"/>
                </a:solidFill>
                <a:latin typeface="Angsana New"/>
                <a:cs typeface="Angsana New"/>
              </a:rPr>
              <a:t>สมมติฐานที่ใช้ประมาณการรายได้ของ </a:t>
            </a:r>
            <a:r>
              <a:rPr b="1" lang="en-US" sz="3600" spc="-1" strike="noStrike">
                <a:solidFill>
                  <a:srgbClr val="3333cc"/>
                </a:solidFill>
                <a:latin typeface="Angsana New"/>
                <a:ea typeface="Angsana New"/>
              </a:rPr>
              <a:t>cash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06:43:07Z</dcterms:created>
  <dc:creator>Teerin Ratanayowong</dc:creator>
  <dc:description/>
  <dc:language>en-US</dc:language>
  <cp:lastModifiedBy>ITG</cp:lastModifiedBy>
  <dcterms:modified xsi:type="dcterms:W3CDTF">2008-09-22T04:11:02Z</dcterms:modified>
  <cp:revision>893</cp:revision>
  <dc:subject/>
  <dc:title>No Slide Title</dc:title>
</cp:coreProperties>
</file>