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2825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832280" y="6527880"/>
            <a:ext cx="36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616800" y="6629400"/>
            <a:ext cx="293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rdia New"/>
                <a:ea typeface="Cordia New"/>
              </a:rPr>
              <a:t>Page</a:t>
            </a:r>
            <a:r>
              <a:rPr b="0" lang="th-TH" sz="1400" spc="-1" strike="noStrike">
                <a:solidFill>
                  <a:srgbClr val="808080"/>
                </a:solidFill>
                <a:latin typeface="Cordia New"/>
                <a:ea typeface="Cordia New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Cordia New"/>
                <a:ea typeface="Cordia New"/>
              </a:rPr>
              <a:t>  </a:t>
            </a:r>
            <a:fld id="{A102BEA0-FECD-4F33-BF4D-927011825B68}" type="slidenum">
              <a:rPr b="0" lang="en-US" sz="1400" spc="-1" strike="noStrike">
                <a:solidFill>
                  <a:srgbClr val="808080"/>
                </a:solidFill>
                <a:latin typeface="Cordia New"/>
                <a:ea typeface="Cordi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91960" y="6553080"/>
            <a:ext cx="922032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324480"/>
            <a:ext cx="594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www.bot.or.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Supervision Group, Bank of Thai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141560" y="0"/>
          <a:ext cx="8761320" cy="7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1560" y="0"/>
                    <a:ext cx="87613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4"/>
          <a:srcRect l="4559" t="2694" r="4227" b="6176"/>
          <a:stretch/>
        </p:blipFill>
        <p:spPr>
          <a:xfrm>
            <a:off x="0" y="0"/>
            <a:ext cx="1092240" cy="107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47680" y="104760"/>
            <a:ext cx="79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3333cc"/>
                </a:solidFill>
                <a:latin typeface="Cordia New"/>
                <a:cs typeface="Cordia New"/>
              </a:rPr>
              <a:t>เป็นองค์กรที่มองการณ์ไกล พนักงานมีความสามารถสูง และอุทิศตนเพื่อดูแลเศรษฐกิจให้ผ่านพ้นความผันผวนได้อย่างราบรื่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66"/>
                </a:solidFill>
                <a:latin typeface="Times New Roman"/>
                <a:cs typeface="Cordia New"/>
              </a:rPr>
              <a:t>หลักเกณฑ์กำกับดูแล</a:t>
            </a:r>
            <a:br>
              <a:rPr sz="4800"/>
            </a:br>
            <a:r>
              <a:rPr b="1" lang="th-TH" sz="4800" spc="-1" strike="noStrike">
                <a:solidFill>
                  <a:srgbClr val="000066"/>
                </a:solidFill>
                <a:latin typeface="Times New Roman"/>
                <a:cs typeface="Cordia New"/>
              </a:rPr>
              <a:t>ความเสี่ยงด้านเครดิ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2040" y="1695600"/>
            <a:ext cx="932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3880" y="601560"/>
            <a:ext cx="9279000" cy="73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 u="sng">
                <a:solidFill>
                  <a:srgbClr val="000099"/>
                </a:solidFill>
                <a:uFillTx/>
                <a:latin typeface="Angsana New"/>
                <a:cs typeface="Angsana New"/>
              </a:rPr>
              <a:t>ผู้ที่เกี่ยวข้อง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มายความว่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buClr>
                <a:srgbClr val="3333cc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ู่สมรส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2.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ุต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ป็นบริษัทที่บุคคลนั้นมีอำนาจในการจัด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ป็นบริษัทที่บุคคลนั้นมีอำนาจควบคุมคะแนนเสียงส่วนใหญ่ในที่ประชุมผู้ถือหุ้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ป็นบริษัทที่บุคคลนั้นมีอำนาจควบคุมการแต่งตั้งหรือถอดถอนกรรม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ป็นบริษัทลูกของบริษัทตามข้อ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3, 4, 5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ป็นบริษัทร่วมของบริษัทตามข้อ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3, 4,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ป็นตัวการ ตัวแทน หรื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ุคคลอื่นที่มีลักษณะตามที่ ธปท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กำหน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ุคคลที่ถือหุ้นตั้งแต่ร้อยละยี่สิบขึ้นไปของหุ้นที่จำหน่ายได้แล้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73600" y="749160"/>
            <a:ext cx="220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3333cc"/>
                </a:solidFill>
                <a:uFillTx/>
                <a:latin typeface="Angsana New"/>
                <a:cs typeface="Angsana New"/>
              </a:rPr>
              <a:t>ผู้ที่เกี่ยวข้อ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89320" y="1625760"/>
            <a:ext cx="3340080" cy="372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3333cc"/>
                </a:solidFill>
                <a:uFillTx/>
                <a:latin typeface="Angsana New"/>
                <a:cs typeface="Angsana New"/>
              </a:rPr>
              <a:t>บริษั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8080"/>
                </a:solidFill>
                <a:latin typeface="Angsana New"/>
                <a:cs typeface="Angsana New"/>
              </a:rPr>
              <a:t>อำนาจจัดการ </a:t>
            </a:r>
            <a:r>
              <a:rPr b="1" lang="th-TH" sz="3200" spc="-1" strike="noStrike">
                <a:solidFill>
                  <a:srgbClr val="008080"/>
                </a:solidFill>
                <a:latin typeface="Angsana New"/>
                <a:ea typeface="Angsana New"/>
              </a:rPr>
              <a:t>(</a:t>
            </a:r>
            <a:r>
              <a:rPr b="1" lang="en-US" sz="3200" spc="-1" strike="noStrike">
                <a:solidFill>
                  <a:srgbClr val="008080"/>
                </a:solidFill>
                <a:latin typeface="Angsana New"/>
                <a:ea typeface="Angsana New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8080"/>
                </a:solidFill>
                <a:latin typeface="Angsana New"/>
                <a:cs typeface="Angsana New"/>
              </a:rPr>
              <a:t>คุมคะแนนเสียงส่วนใหญ่ </a:t>
            </a:r>
            <a:r>
              <a:rPr b="1" lang="en-US" sz="3200" spc="-1" strike="noStrike">
                <a:solidFill>
                  <a:srgbClr val="008080"/>
                </a:solidFill>
                <a:latin typeface="Angsana New"/>
                <a:ea typeface="Angsana New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8080"/>
                </a:solidFill>
                <a:latin typeface="Angsana New"/>
                <a:cs typeface="Angsana New"/>
              </a:rPr>
              <a:t>ควบคุมการแต่งตั้งกรรมการ</a:t>
            </a:r>
            <a:r>
              <a:rPr b="1" lang="en-US" sz="3200" spc="-1" strike="noStrike">
                <a:solidFill>
                  <a:srgbClr val="008080"/>
                </a:solidFill>
                <a:latin typeface="Angsana New"/>
                <a:ea typeface="Angsana New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42080" y="2463840"/>
            <a:ext cx="533160" cy="380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88120" y="3213000"/>
            <a:ext cx="1968480" cy="106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8080"/>
                </a:solidFill>
                <a:latin typeface="Angsana New"/>
                <a:cs typeface="Angsana New"/>
              </a:rPr>
              <a:t>บริษัทลูก </a:t>
            </a:r>
            <a:r>
              <a:rPr b="1" lang="en-US" sz="3200" spc="-1" strike="noStrike">
                <a:solidFill>
                  <a:srgbClr val="008080"/>
                </a:solidFill>
                <a:latin typeface="Angsana New"/>
                <a:ea typeface="Angsana New"/>
              </a:rPr>
              <a:t>(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88120" y="4229280"/>
            <a:ext cx="1968480" cy="106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8080"/>
                </a:solidFill>
                <a:latin typeface="Angsana New"/>
                <a:cs typeface="Angsana New"/>
              </a:rPr>
              <a:t>บริษัทร่วม </a:t>
            </a:r>
            <a:r>
              <a:rPr b="1" lang="en-US" sz="3200" spc="-1" strike="noStrike">
                <a:solidFill>
                  <a:srgbClr val="008080"/>
                </a:solidFill>
                <a:latin typeface="Angsana New"/>
                <a:ea typeface="Angsana New"/>
              </a:rPr>
              <a:t>(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645000"/>
            <a:ext cx="196848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8080"/>
                </a:solidFill>
                <a:latin typeface="Angsana New"/>
                <a:cs typeface="Angsana New"/>
              </a:rPr>
              <a:t>บุตร </a:t>
            </a:r>
            <a:r>
              <a:rPr b="1" lang="en-US" sz="3200" spc="-1" strike="noStrike">
                <a:solidFill>
                  <a:srgbClr val="008080"/>
                </a:solidFill>
                <a:latin typeface="Angsana New"/>
                <a:ea typeface="Angsana New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3200" y="2768760"/>
            <a:ext cx="196848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8080"/>
                </a:solidFill>
                <a:latin typeface="Angsana New"/>
                <a:cs typeface="Angsana New"/>
              </a:rPr>
              <a:t>ภรรยา </a:t>
            </a:r>
            <a:r>
              <a:rPr b="1" lang="en-US" sz="3200" spc="-1" strike="noStrike">
                <a:solidFill>
                  <a:srgbClr val="008080"/>
                </a:solidFill>
                <a:latin typeface="Angsana New"/>
                <a:ea typeface="Angsana Ne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3200" y="1828800"/>
            <a:ext cx="196848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8080"/>
                </a:solidFill>
                <a:latin typeface="Angsana New"/>
                <a:cs typeface="Angsana New"/>
              </a:rPr>
              <a:t>บุคคลนั้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67160" y="4622760"/>
            <a:ext cx="3022560" cy="106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8080"/>
                </a:solidFill>
                <a:latin typeface="Angsana New"/>
                <a:cs typeface="Angsana New"/>
              </a:rPr>
              <a:t>ตัวการตัวแทน  </a:t>
            </a:r>
            <a:r>
              <a:rPr b="1" lang="en-US" sz="3200" spc="-1" strike="noStrike">
                <a:solidFill>
                  <a:srgbClr val="008080"/>
                </a:solidFill>
                <a:latin typeface="Angsana New"/>
                <a:ea typeface="Angsana New"/>
              </a:rPr>
              <a:t>(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79760" y="5575320"/>
            <a:ext cx="298440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8080"/>
                </a:solidFill>
                <a:latin typeface="Angsana New"/>
                <a:cs typeface="Angsana New"/>
              </a:rPr>
              <a:t>ถือหุ้นเกิน </a:t>
            </a:r>
            <a:r>
              <a:rPr b="1" lang="en-US" sz="3200" spc="-1" strike="noStrike">
                <a:solidFill>
                  <a:srgbClr val="008080"/>
                </a:solidFill>
                <a:latin typeface="Angsana New"/>
                <a:ea typeface="Angsana New"/>
              </a:rPr>
              <a:t>20 %</a:t>
            </a:r>
            <a:r>
              <a:rPr b="1" lang="th-TH" sz="3200" spc="-1" strike="noStrike">
                <a:solidFill>
                  <a:srgbClr val="008080"/>
                </a:solidFill>
                <a:latin typeface="Angsana New"/>
                <a:ea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44067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13200" y="521964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41680" y="217188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41680" y="30351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41680" y="39877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08440" y="3390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70600" y="2400480"/>
            <a:ext cx="0" cy="321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8440" y="2171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18320" y="2349360"/>
            <a:ext cx="254160" cy="3530880"/>
          </a:xfrm>
          <a:custGeom>
            <a:avLst/>
            <a:gdLst>
              <a:gd name="textAreaLeft" fmla="*/ 0 w 254160"/>
              <a:gd name="textAreaRight" fmla="*/ 91800 w 254160"/>
              <a:gd name="textAreaTop" fmla="*/ 91800 h 3530880"/>
              <a:gd name="textAreaBottom" fmla="*/ 3439080 h 353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47640" y="2107800"/>
            <a:ext cx="8912160" cy="236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ิจการ ที่มีผลประโยชน์เกี่ยวข้องกับ สง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ถือหุ้นรายใหญ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ัวอย่างการให้สินเชื่อแก่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Related L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876240" y="744120"/>
            <a:ext cx="849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ngsana New"/>
                <a:cs typeface="Angsana New"/>
              </a:rPr>
              <a:t>หลักเกณฑ์การให้สินเชื่อแก่กิจการที่มีผลประโยชน์เกี่ยวข้อง </a:t>
            </a:r>
            <a:r>
              <a:rPr b="1" lang="th-TH" sz="3600" spc="-1" strike="noStrike">
                <a:solidFill>
                  <a:srgbClr val="000099"/>
                </a:solidFill>
                <a:latin typeface="Angsana New"/>
                <a:ea typeface="Angsana New"/>
              </a:rPr>
              <a:t>(</a:t>
            </a:r>
            <a:r>
              <a:rPr b="1" lang="en-US" sz="3600" spc="-1" strike="noStrike">
                <a:solidFill>
                  <a:srgbClr val="000099"/>
                </a:solidFill>
                <a:latin typeface="Angsana New"/>
                <a:ea typeface="Angsana New"/>
              </a:rPr>
              <a:t>Related Len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16271400">
            <a:off x="3997800" y="1491120"/>
            <a:ext cx="1152720" cy="197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บริหารระดับสู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ของ ธพ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ea typeface="Angsana New"/>
              </a:rPr>
              <a:t>. 3 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ระดั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38920" y="1759320"/>
            <a:ext cx="6006600" cy="4864680"/>
            <a:chOff x="538920" y="1759320"/>
            <a:chExt cx="6006600" cy="4864680"/>
          </a:xfrm>
        </p:grpSpPr>
        <p:grpSp>
          <p:nvGrpSpPr>
            <p:cNvPr id="86" name=""/>
            <p:cNvGrpSpPr/>
            <p:nvPr/>
          </p:nvGrpSpPr>
          <p:grpSpPr>
            <a:xfrm>
              <a:off x="2108160" y="3697200"/>
              <a:ext cx="3695760" cy="2328480"/>
              <a:chOff x="2108160" y="3697200"/>
              <a:chExt cx="3695760" cy="2328480"/>
            </a:xfrm>
          </p:grpSpPr>
          <p:sp>
            <p:nvSpPr>
              <p:cNvPr id="87" name=""/>
              <p:cNvSpPr/>
              <p:nvPr/>
            </p:nvSpPr>
            <p:spPr>
              <a:xfrm rot="16271400">
                <a:off x="2343240" y="4256280"/>
                <a:ext cx="676080" cy="11325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200" spc="-1" strike="noStrike">
                    <a:solidFill>
                      <a:srgbClr val="3333cc"/>
                    </a:solidFill>
                    <a:latin typeface="Angsana New"/>
                    <a:cs typeface="Angsana New"/>
                  </a:rPr>
                  <a:t>สง</a:t>
                </a:r>
                <a:r>
                  <a:rPr b="1" lang="th-TH" sz="2200" spc="-1" strike="noStrike">
                    <a:solidFill>
                      <a:srgbClr val="3333cc"/>
                    </a:solidFill>
                    <a:latin typeface="Angsana New"/>
                    <a:ea typeface="Angsana New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6271400">
                <a:off x="3642840" y="3432960"/>
                <a:ext cx="662040" cy="12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200" spc="-1" strike="noStrike">
                    <a:solidFill>
                      <a:srgbClr val="3333cc"/>
                    </a:solidFill>
                    <a:latin typeface="Angsana New"/>
                    <a:cs typeface="Angsana New"/>
                  </a:rPr>
                  <a:t>กรรมการ  สง</a:t>
                </a:r>
                <a:r>
                  <a:rPr b="1" lang="th-TH" sz="2200" spc="-1" strike="noStrike">
                    <a:solidFill>
                      <a:srgbClr val="3333cc"/>
                    </a:solidFill>
                    <a:latin typeface="Angsana New"/>
                    <a:ea typeface="Angsana New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6271400">
                <a:off x="4862880" y="4290120"/>
                <a:ext cx="652680" cy="12153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200" spc="-1" strike="noStrike">
                    <a:solidFill>
                      <a:srgbClr val="3333cc"/>
                    </a:solidFill>
                    <a:latin typeface="Angsana New"/>
                    <a:cs typeface="Angsana New"/>
                  </a:rPr>
                  <a:t>ผู้เกี่ยวข้อง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6271400">
                <a:off x="3560040" y="4661280"/>
                <a:ext cx="744480" cy="194400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200" spc="-1" strike="noStrike">
                    <a:solidFill>
                      <a:srgbClr val="3333cc"/>
                    </a:solidFill>
                    <a:latin typeface="Angsana New"/>
                    <a:cs typeface="Angsana New"/>
                  </a:rPr>
                  <a:t>ผู้มีอำนาจในการ</a:t>
                </a:r>
                <a:br>
                  <a:rPr sz="2200"/>
                </a:br>
                <a:r>
                  <a:rPr b="1" lang="th-TH" sz="2200" spc="-1" strike="noStrike">
                    <a:solidFill>
                      <a:srgbClr val="3333cc"/>
                    </a:solidFill>
                    <a:latin typeface="Angsana New"/>
                    <a:cs typeface="Angsana New"/>
                  </a:rPr>
                  <a:t>จัดการของ สง</a:t>
                </a:r>
                <a:r>
                  <a:rPr b="1" lang="th-TH" sz="2200" spc="-1" strike="noStrike">
                    <a:solidFill>
                      <a:srgbClr val="3333cc"/>
                    </a:solidFill>
                    <a:latin typeface="Angsana New"/>
                    <a:ea typeface="Angsana New"/>
                  </a:rPr>
                  <a:t>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3366360" y="4916520"/>
                <a:ext cx="1134720" cy="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4095000" y="4484520"/>
                <a:ext cx="405720" cy="43164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4014000" y="4916520"/>
                <a:ext cx="486360" cy="297000"/>
              </a:xfrm>
              <a:prstGeom prst="line">
                <a:avLst/>
              </a:prstGeom>
              <a:ln w="9360">
                <a:solidFill>
                  <a:srgbClr val="66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 rot="16271400">
              <a:off x="959400" y="1370520"/>
              <a:ext cx="1152720" cy="1970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ea typeface="Cordia New"/>
                </a:rPr>
                <a:t>1.  </a:t>
              </a: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กิจการที่มี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Cordia New"/>
                  <a:cs typeface="Cordia New"/>
                </a:rPr>
                <a:t>ผลประโยชน์เกี่ยวข้อ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050200">
              <a:off x="2593800" y="2565360"/>
              <a:ext cx="2815920" cy="4825440"/>
            </a:xfrm>
            <a:prstGeom prst="wedgeEllipseCallout">
              <a:avLst>
                <a:gd name="adj1" fmla="val -77976"/>
                <a:gd name="adj2" fmla="val 45101"/>
              </a:avLst>
            </a:prstGeom>
            <a:noFill/>
            <a:ln w="12600">
              <a:solidFill>
                <a:srgbClr val="66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0800" y="3462480"/>
              <a:ext cx="1837800" cy="1068840"/>
            </a:xfrm>
            <a:prstGeom prst="rect">
              <a:avLst/>
            </a:prstGeom>
            <a:noFill/>
            <a:ln cap="rnd" w="93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buClr>
                  <a:srgbClr val="3333cc"/>
                </a:buClr>
                <a:buFont typeface="Angsana Ne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  </a:t>
              </a:r>
              <a:r>
                <a:rPr b="1" lang="th-TH" sz="2000" spc="-1" strike="noStrike">
                  <a:solidFill>
                    <a:srgbClr val="3333cc"/>
                  </a:solidFill>
                  <a:latin typeface="Angsana New"/>
                  <a:cs typeface="Angsana New"/>
                </a:rPr>
                <a:t>ถือหุ้นในกิจการ</a:t>
              </a:r>
              <a:br>
                <a:rPr sz="2000"/>
              </a:br>
              <a:r>
                <a:rPr b="1" lang="th-TH" sz="20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  รวมกันเกิน </a:t>
              </a:r>
              <a:r>
                <a:rPr b="1" lang="th-TH" sz="20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747480" y="1773000"/>
            <a:ext cx="2840040" cy="3107160"/>
            <a:chOff x="6747480" y="1773000"/>
            <a:chExt cx="2840040" cy="3107160"/>
          </a:xfrm>
        </p:grpSpPr>
        <p:sp>
          <p:nvSpPr>
            <p:cNvPr id="98" name=""/>
            <p:cNvSpPr/>
            <p:nvPr/>
          </p:nvSpPr>
          <p:spPr>
            <a:xfrm rot="16271400">
              <a:off x="7474680" y="1084680"/>
              <a:ext cx="1198440" cy="2629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2</a:t>
              </a:r>
              <a:r>
                <a:rPr b="1" lang="th-TH" sz="22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.  </a:t>
              </a:r>
              <a:r>
                <a:rPr b="1" lang="th-TH" sz="2200" spc="-1" strike="noStrike">
                  <a:solidFill>
                    <a:srgbClr val="3333cc"/>
                  </a:solidFill>
                  <a:latin typeface="Angsana New"/>
                  <a:cs typeface="Angsana New"/>
                </a:rPr>
                <a:t>ผู้ถือหุ้นรายใหญ่ของ สง</a:t>
              </a:r>
              <a:r>
                <a:rPr b="1" lang="th-TH" sz="22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050200">
              <a:off x="7719480" y="2921400"/>
              <a:ext cx="974520" cy="2675880"/>
            </a:xfrm>
            <a:prstGeom prst="wedgeEllipseCallout">
              <a:avLst>
                <a:gd name="adj1" fmla="val -119837"/>
                <a:gd name="adj2" fmla="val -8018"/>
              </a:avLst>
            </a:prstGeom>
            <a:noFill/>
            <a:ln w="12600">
              <a:solidFill>
                <a:srgbClr val="6633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71400">
              <a:off x="7997040" y="3524040"/>
              <a:ext cx="501480" cy="1215360"/>
            </a:xfrm>
            <a:prstGeom prst="ellipse">
              <a:avLst/>
            </a:prstGeom>
            <a:solidFill>
              <a:srgbClr val="ffffcc"/>
            </a:solidFill>
            <a:ln w="255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3333cc"/>
                  </a:solidFill>
                  <a:latin typeface="Angsana New"/>
                  <a:cs typeface="Angsana New"/>
                </a:rPr>
                <a:t>ถือหุ้น </a:t>
              </a:r>
              <a:r>
                <a:rPr b="0" lang="th-TH" sz="1800" spc="-1" strike="noStrike">
                  <a:solidFill>
                    <a:srgbClr val="3333cc"/>
                  </a:solidFill>
                  <a:latin typeface="Angsana New"/>
                  <a:ea typeface="Angsana New"/>
                </a:rPr>
                <a:t>&gt; 5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048200" y="942840"/>
            <a:ext cx="927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0000"/>
                </a:solidFill>
                <a:latin typeface="Angsana New"/>
                <a:ea typeface="Angsana New"/>
              </a:rPr>
              <a:t>×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39120" y="5067360"/>
            <a:ext cx="19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Angsana New"/>
                <a:cs typeface="Angsana New"/>
              </a:rPr>
              <a:t>นับรวมหุ้นที่ถือโดยผู้ที่เกี่ยวข้องด้ว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32840" y="410832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68560" y="706320"/>
            <a:ext cx="78501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Angsana New"/>
                <a:ea typeface="Angsana New"/>
              </a:rPr>
              <a:t>I.  </a:t>
            </a:r>
            <a:r>
              <a:rPr b="1" lang="th-TH" sz="3800" spc="-1" strike="noStrike">
                <a:solidFill>
                  <a:srgbClr val="000099"/>
                </a:solidFill>
                <a:latin typeface="Angsana New"/>
                <a:cs typeface="Angsana New"/>
              </a:rPr>
              <a:t>การกำหนดบุคคล หรือ นิติบุคคล ที่มีผลประโยชน์เกี่ยวข้องกับ สง</a:t>
            </a:r>
            <a:r>
              <a:rPr b="1" lang="th-TH" sz="3800" spc="-1" strike="noStrike">
                <a:solidFill>
                  <a:srgbClr val="000099"/>
                </a:solidFill>
                <a:latin typeface="Angsana New"/>
                <a:ea typeface="Angsana New"/>
              </a:rPr>
              <a:t>. </a:t>
            </a:r>
            <a:r>
              <a:rPr b="1" lang="th-TH" sz="3800" spc="-1" strike="noStrike">
                <a:solidFill>
                  <a:srgbClr val="000099"/>
                </a:solidFill>
                <a:latin typeface="Angsana New"/>
                <a:cs typeface="Angsana New"/>
              </a:rPr>
              <a:t>และผู้ถือหุ้นรายใหญ่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47640" y="2107800"/>
            <a:ext cx="8912160" cy="236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ิจการ ที่มีผลประโยชน์เกี่ยวข้องกับ สง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สง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ก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มีอำนา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ถือหุ้นรายใหญ่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+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เกี่ยวข้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76240" y="744120"/>
            <a:ext cx="849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Angsana New"/>
                <a:ea typeface="Angsana New"/>
              </a:rPr>
              <a:t>2. </a:t>
            </a:r>
            <a:r>
              <a:rPr b="1" lang="th-TH" sz="4000" spc="-1" strike="noStrike">
                <a:solidFill>
                  <a:srgbClr val="000099"/>
                </a:solidFill>
                <a:latin typeface="Angsana New"/>
                <a:cs typeface="Angsana New"/>
              </a:rPr>
              <a:t>หลักเกณฑ์การให้สินเชื่อแก่กิจการที่มีผลประโยชน์เกี่ยวข้อง </a:t>
            </a:r>
            <a:r>
              <a:rPr b="1" lang="th-TH" sz="4000" spc="-1" strike="noStrike">
                <a:solidFill>
                  <a:srgbClr val="000099"/>
                </a:solidFill>
                <a:latin typeface="Angsana New"/>
                <a:ea typeface="Angsana New"/>
              </a:rPr>
              <a:t>(</a:t>
            </a:r>
            <a:r>
              <a:rPr b="1" lang="en-US" sz="4000" spc="-1" strike="noStrike">
                <a:solidFill>
                  <a:srgbClr val="000099"/>
                </a:solidFill>
                <a:latin typeface="Angsana New"/>
                <a:ea typeface="Angsana New"/>
              </a:rPr>
              <a:t>Related Lend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2997360"/>
            <a:ext cx="44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รวมผู้เกี่ยวข้อง ถือหุ้นเกิน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10</a:t>
            </a:r>
            <a:r>
              <a:rPr b="1" lang="tn-ZA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09960" y="2666880"/>
            <a:ext cx="177840" cy="1244880"/>
          </a:xfrm>
          <a:custGeom>
            <a:avLst/>
            <a:gdLst>
              <a:gd name="textAreaLeft" fmla="*/ 0 w 177840"/>
              <a:gd name="textAreaRight" fmla="*/ 64080 w 177840"/>
              <a:gd name="textAreaTop" fmla="*/ 32400 h 1244880"/>
              <a:gd name="textAreaBottom" fmla="*/ 1212480 h 124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8880" y="685800"/>
            <a:ext cx="8416800" cy="77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ngsana New"/>
                <a:cs typeface="Angsana New"/>
              </a:rPr>
              <a:t>ตัวอย่างการให้สินเชื่อแก่ </a:t>
            </a:r>
            <a:r>
              <a:rPr b="1" lang="en-US" sz="3600" spc="-1" strike="noStrike">
                <a:solidFill>
                  <a:srgbClr val="000099"/>
                </a:solidFill>
                <a:latin typeface="Angsana New"/>
                <a:ea typeface="Angsana New"/>
              </a:rPr>
              <a:t>Related L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65200" y="1870200"/>
            <a:ext cx="214632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าบันการเงิ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71400">
            <a:off x="6063480" y="3697920"/>
            <a:ext cx="1033200" cy="1724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71400">
            <a:off x="6030720" y="1617120"/>
            <a:ext cx="1033560" cy="1725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ถือหุ้น สง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78120" y="2496960"/>
            <a:ext cx="273384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13200" y="1992240"/>
            <a:ext cx="190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Angsana New"/>
                <a:cs typeface="Angsana New"/>
              </a:rPr>
              <a:t>ถือหุ้น สง</a:t>
            </a:r>
            <a:r>
              <a:rPr b="1" lang="th-TH" sz="2800" spc="-1" strike="noStrike">
                <a:solidFill>
                  <a:srgbClr val="000099"/>
                </a:solidFill>
                <a:latin typeface="Angsana New"/>
                <a:ea typeface="Angsana New"/>
              </a:rPr>
              <a:t>. </a:t>
            </a:r>
            <a:r>
              <a:rPr b="1" lang="en-US" sz="2800" spc="-1" strike="noStrike">
                <a:solidFill>
                  <a:srgbClr val="000099"/>
                </a:solidFill>
                <a:latin typeface="Angsana New"/>
                <a:ea typeface="Angsana New"/>
              </a:rPr>
              <a:t>&gt; 5</a:t>
            </a:r>
            <a:r>
              <a:rPr b="1" lang="th-TH" sz="2800" spc="-1" strike="noStrike">
                <a:solidFill>
                  <a:srgbClr val="000099"/>
                </a:solidFill>
                <a:latin typeface="Angsana New"/>
                <a:ea typeface="Angsana New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71400">
            <a:off x="3515400" y="3784680"/>
            <a:ext cx="1096920" cy="1648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71400">
            <a:off x="8285040" y="3755880"/>
            <a:ext cx="960480" cy="1709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46960" y="3003480"/>
            <a:ext cx="144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700440" y="3419280"/>
            <a:ext cx="50641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92520" y="3438360"/>
            <a:ext cx="144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73800" y="3427560"/>
            <a:ext cx="144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56640" y="342900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26000" y="513072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Angsana New"/>
                <a:cs typeface="Angsana New"/>
              </a:rPr>
              <a:t>คู่สมร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81960" y="5146560"/>
            <a:ext cx="232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Angsana New"/>
                <a:cs typeface="Angsana New"/>
              </a:rPr>
              <a:t>บริษัทที่ผู้ถือหุ้นมีอำนาจควบคุมคะแนนเสียงส่วนใหญ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08600" y="513396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Angsana New"/>
                <a:cs typeface="Angsana New"/>
              </a:rPr>
              <a:t>บริษัทที่ผู้ถือหุ้นมีอำนาจในการจัด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79640" y="1469880"/>
            <a:ext cx="7023240" cy="4981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2423880" y="4936680"/>
            <a:ext cx="842760" cy="846360"/>
          </a:xfrm>
          <a:custGeom>
            <a:avLst/>
            <a:gdLst>
              <a:gd name="textAreaLeft" fmla="*/ 280800 w 842760"/>
              <a:gd name="textAreaRight" fmla="*/ 721800 w 842760"/>
              <a:gd name="textAreaTop" fmla="*/ 487440 h 846360"/>
              <a:gd name="textAreaBottom" fmla="*/ 725040 h 846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77840" y="5694480"/>
            <a:ext cx="45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Angsana New"/>
                <a:cs typeface="Angsana New"/>
              </a:rPr>
              <a:t>นับรวมอยู่ใน </a:t>
            </a:r>
            <a:r>
              <a:rPr b="1" lang="en-US" sz="2400" spc="-1" strike="noStrike">
                <a:solidFill>
                  <a:srgbClr val="000099"/>
                </a:solidFill>
                <a:latin typeface="Angsana New"/>
                <a:ea typeface="Angsana New"/>
              </a:rPr>
              <a:t>Limit </a:t>
            </a:r>
            <a:r>
              <a:rPr b="1" lang="th-TH" sz="2400" spc="-1" strike="noStrike">
                <a:solidFill>
                  <a:srgbClr val="000099"/>
                </a:solidFill>
                <a:latin typeface="Angsana New"/>
                <a:cs typeface="Angsana New"/>
              </a:rPr>
              <a:t>เดียวกัน </a:t>
            </a:r>
            <a:r>
              <a:rPr b="1" lang="th-TH" sz="2400" spc="-1" strike="noStrike">
                <a:solidFill>
                  <a:srgbClr val="000099"/>
                </a:solidFill>
                <a:latin typeface="Angsana New"/>
                <a:ea typeface="Angsana New"/>
              </a:rPr>
              <a:t>5% </a:t>
            </a:r>
            <a:r>
              <a:rPr b="1" lang="th-TH" sz="2400" spc="-1" strike="noStrike">
                <a:solidFill>
                  <a:srgbClr val="000099"/>
                </a:solidFill>
                <a:latin typeface="Angsana New"/>
                <a:cs typeface="Angsana New"/>
              </a:rPr>
              <a:t>ของเงินกองทุน หรือ </a:t>
            </a:r>
            <a:r>
              <a:rPr b="1" lang="th-TH" sz="2400" spc="-1" strike="noStrike">
                <a:solidFill>
                  <a:srgbClr val="000099"/>
                </a:solidFill>
                <a:latin typeface="Angsana New"/>
                <a:ea typeface="Angsana New"/>
              </a:rPr>
              <a:t>25%</a:t>
            </a:r>
            <a:r>
              <a:rPr b="1" lang="en-US" sz="2400" spc="-1" strike="noStrike">
                <a:solidFill>
                  <a:srgbClr val="000099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000099"/>
                </a:solidFill>
                <a:latin typeface="Angsana New"/>
                <a:cs typeface="Angsana New"/>
              </a:rPr>
              <a:t>ของหนี้สินรวมของผู้ถือหุ้น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411360"/>
            <a:ext cx="1198440" cy="10368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247680" y="3479760"/>
            <a:ext cx="15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663300"/>
                </a:solidFill>
                <a:latin typeface="Cordia New"/>
                <a:cs typeface="Cordia New"/>
              </a:rPr>
              <a:t>กิจการที่มีผลประโยชน์เกี่ยวข้อ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800" y="2797200"/>
            <a:ext cx="17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rdia New"/>
                <a:ea typeface="Cordia New"/>
              </a:rPr>
              <a:t>&gt;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5080" y="4311720"/>
            <a:ext cx="25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rdia New"/>
                <a:ea typeface="Cordia New"/>
              </a:rPr>
              <a:t>Limit </a:t>
            </a:r>
            <a:r>
              <a:rPr b="1" lang="th-TH" sz="2000" spc="-1" strike="noStrike">
                <a:solidFill>
                  <a:srgbClr val="663300"/>
                </a:solidFill>
                <a:latin typeface="Cordia New"/>
                <a:cs typeface="Cordia New"/>
              </a:rPr>
              <a:t>บริษัทละ </a:t>
            </a:r>
            <a:r>
              <a:rPr b="1" lang="th-TH" sz="2000" spc="-1" strike="noStrike">
                <a:solidFill>
                  <a:srgbClr val="663300"/>
                </a:solidFill>
                <a:latin typeface="Cordia New"/>
                <a:ea typeface="Cordia New"/>
              </a:rPr>
              <a:t>5% </a:t>
            </a:r>
            <a:r>
              <a:rPr b="1" lang="th-TH" sz="2000" spc="-1" strike="noStrike">
                <a:solidFill>
                  <a:srgbClr val="663300"/>
                </a:solidFill>
                <a:latin typeface="Cordia New"/>
                <a:cs typeface="Cordia New"/>
              </a:rPr>
              <a:t>ของเงินกองทุน หรือ </a:t>
            </a:r>
            <a:r>
              <a:rPr b="1" lang="th-TH" sz="2000" spc="-1" strike="noStrike">
                <a:solidFill>
                  <a:srgbClr val="663300"/>
                </a:solidFill>
                <a:latin typeface="Cordia New"/>
                <a:ea typeface="Cordia New"/>
              </a:rPr>
              <a:t>25% </a:t>
            </a:r>
            <a:r>
              <a:rPr b="1" lang="th-TH" sz="2000" spc="-1" strike="noStrike">
                <a:solidFill>
                  <a:srgbClr val="663300"/>
                </a:solidFill>
                <a:latin typeface="Cordia New"/>
                <a:cs typeface="Cordia New"/>
              </a:rPr>
              <a:t>ของหนี้สินของลูกหนี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23960" y="3332160"/>
            <a:ext cx="1198440" cy="10368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82760" y="341316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663300"/>
                </a:solidFill>
                <a:latin typeface="Cordia New"/>
                <a:cs typeface="Cordia New"/>
              </a:rPr>
              <a:t>กิจการที่มีผลประโยชน์เกี่ยวข้อ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9440" y="2797200"/>
            <a:ext cx="620640" cy="60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87400" y="2811600"/>
            <a:ext cx="459000" cy="59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16271400">
            <a:off x="5548320" y="1220400"/>
            <a:ext cx="1239840" cy="229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ngsana New"/>
                <a:ea typeface="Angsana New"/>
              </a:rPr>
              <a:t>1.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รรมการ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ngsana New"/>
                <a:ea typeface="Angsana New"/>
              </a:rPr>
              <a:t>+ 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ที่เกี่ยวข้อ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9800" y="860400"/>
            <a:ext cx="9242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000099"/>
                </a:solidFill>
                <a:latin typeface="Angsana New"/>
                <a:cs typeface="Angsana New"/>
              </a:rPr>
              <a:t>ข้อห้ามให้สินเชื่อกับกรรมการ ผู้บริหารระดับสูง และผู้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71400">
            <a:off x="1630800" y="2916720"/>
            <a:ext cx="1152720" cy="197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3333cc"/>
                </a:solidFill>
                <a:latin typeface="Angsana New"/>
                <a:cs typeface="Angsana New"/>
              </a:rPr>
              <a:t>สถาบันการเงิ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71400">
            <a:off x="5961600" y="2288160"/>
            <a:ext cx="1238040" cy="304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Angsana New"/>
                <a:ea typeface="Angsana New"/>
              </a:rPr>
              <a:t>2.  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บริหารระดับสู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ของ สง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ea typeface="Angsana New"/>
              </a:rPr>
              <a:t>. 3 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ระดับแรก หรือผู้มี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ทียบเท่า</a:t>
            </a:r>
            <a:r>
              <a:rPr b="1" lang="en-US" sz="2200" spc="-1" strike="noStrike">
                <a:solidFill>
                  <a:srgbClr val="3333cc"/>
                </a:solidFill>
                <a:latin typeface="Angsana New"/>
                <a:ea typeface="Angsana New"/>
              </a:rPr>
              <a:t>+ 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ที่เกี่ยวข้อ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6271400">
            <a:off x="5726160" y="4254120"/>
            <a:ext cx="1239840" cy="2293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ngsana New"/>
                <a:ea typeface="Angsana New"/>
              </a:rPr>
              <a:t>3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ea typeface="Angsana New"/>
              </a:rPr>
              <a:t>.  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มีอำนาจจัดการใน สง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ngsana New"/>
                <a:ea typeface="Angsana New"/>
              </a:rPr>
              <a:t>+ </a:t>
            </a:r>
            <a:r>
              <a:rPr b="1" lang="th-TH" sz="22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ที่เกี่ยวข้อ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89160" y="2565360"/>
            <a:ext cx="1951200" cy="9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236760" y="3809520"/>
            <a:ext cx="1803600" cy="16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29040" y="4245120"/>
            <a:ext cx="2144520" cy="10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2520" y="2016000"/>
            <a:ext cx="927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Angsana New"/>
                <a:ea typeface="Angsana New"/>
              </a:rPr>
              <a:t>×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2000" y="2739960"/>
            <a:ext cx="927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Angsana New"/>
                <a:ea typeface="Angsana New"/>
              </a:rPr>
              <a:t>×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21160" y="3564000"/>
            <a:ext cx="9270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00"/>
                </a:solidFill>
                <a:latin typeface="Angsana New"/>
                <a:ea typeface="Angsana New"/>
              </a:rPr>
              <a:t>×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3960" y="5445000"/>
            <a:ext cx="47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Angsana New"/>
                <a:cs typeface="Angsana New"/>
              </a:rPr>
              <a:t>ยกเว้นบัตรเครดิต </a:t>
            </a:r>
            <a:r>
              <a:rPr b="1" lang="en-US" sz="3600" spc="-1" strike="noStrike">
                <a:solidFill>
                  <a:srgbClr val="000099"/>
                </a:solidFill>
                <a:latin typeface="Angsana New"/>
                <a:ea typeface="Angsana New"/>
              </a:rPr>
              <a:t>+ </a:t>
            </a:r>
            <a:r>
              <a:rPr b="1" lang="th-TH" sz="3600" spc="-1" strike="noStrike">
                <a:solidFill>
                  <a:srgbClr val="000099"/>
                </a:solidFill>
                <a:latin typeface="Angsana New"/>
                <a:cs typeface="Angsana New"/>
              </a:rPr>
              <a:t>สวัสดิกา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8077320" y="5587920"/>
            <a:ext cx="887400" cy="436680"/>
          </a:xfrm>
          <a:prstGeom prst="leftArrow">
            <a:avLst>
              <a:gd name="adj1" fmla="val 50000"/>
              <a:gd name="adj2" fmla="val 50804"/>
            </a:avLst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1035000"/>
            <a:ext cx="8921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FreesiaUPC"/>
              </a:rPr>
              <a:t>	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50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้ามมิให้สถาบันการเงินให้สินเชื่อ ลงทุน ก่อภาระผูกพัน หรือทำธุรกรรมที่มีลักษณะคล้ายการให้สินเชื่อแก่</a:t>
            </a:r>
            <a:r>
              <a:rPr b="1" lang="th-TH" sz="4000" spc="-1" strike="noStrike">
                <a:solidFill>
                  <a:srgbClr val="ff6600"/>
                </a:solidFill>
                <a:latin typeface="Angsana New"/>
                <a:cs typeface="Angsana New"/>
              </a:rPr>
              <a:t>บุคคลหนึ่งบุคคลใด หรือแก่บุคคลหลายคนรวมกันในโครงการหนึ่งโครงการใด หรือเพื่อใช้ในวัตถุประสงค์อย่างเดียวกัน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มื่อสิ้นวันหนึ่ง ๆ เกินร้อยละยี่สิบห้าของเงินกองทุนชนิดหนึ่งชนิดใด ทั้งนี้ ตามหลักเกณฑ์ที่ธนาคารแห่งประเทศไทยประกาศกำหน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2040" y="1695600"/>
            <a:ext cx="932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82680"/>
            <a:ext cx="880128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Angsana New"/>
                <a:ea typeface="Angsana New"/>
              </a:rPr>
              <a:t>	</a:t>
            </a:r>
            <a:r>
              <a:rPr b="1" lang="th-TH" sz="4000" spc="-1" strike="noStrike" u="sng">
                <a:solidFill>
                  <a:srgbClr val="000066"/>
                </a:solidFill>
                <a:uFillTx/>
                <a:latin typeface="Angsana New"/>
                <a:cs typeface="Angsana New"/>
              </a:rPr>
              <a:t>มาตรา </a:t>
            </a:r>
            <a:r>
              <a:rPr b="1" lang="en-US" sz="4000" spc="-1" strike="noStrike" u="sng">
                <a:solidFill>
                  <a:srgbClr val="000066"/>
                </a:solidFill>
                <a:uFillTx/>
                <a:latin typeface="Angsana New"/>
                <a:ea typeface="Angsana New"/>
              </a:rPr>
              <a:t>129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ในกรณีที่มีการกระทำที่เป็นการฝ่าฝืน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20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21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22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34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48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49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50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รือ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59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ล้วแต่กรณี โดยที่สถาบันการเงินสามารถพิสูจน์ได้ว่าได้ใช้ความระมัดระวังด้วยความรอบคอบในการตรวจสอบผู้ที่เกี่ยวข้องแล้ว แต่ไม่สามารถทราบและป้องกันมิให้เกิดการฝ่าฝืนดังกล่าวได้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</a:t>
            </a:r>
            <a:r>
              <a:rPr b="1" lang="th-TH" sz="4400" spc="-1" strike="noStrike" u="sng">
                <a:solidFill>
                  <a:srgbClr val="000099"/>
                </a:solidFill>
                <a:uFillTx/>
                <a:latin typeface="Angsana New"/>
                <a:cs typeface="Angsana New"/>
              </a:rPr>
              <a:t>ให้ถือว่าสถาบันการเงินมิได้กระทำความผิดตามมาตราดังกล่า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02880" y="794880"/>
            <a:ext cx="675324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Angsana New"/>
                <a:cs typeface="Angsana New"/>
              </a:rPr>
              <a:t>หลักเกณฑ์กำกับดูแลความเสี่ยงด้านเครดิ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91216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ประกาศและแนวนโยบายทั้งสิ้น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18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ฉบั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. 11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ฉบั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นวนโยบาย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7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ฉบั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84440" y="541080"/>
            <a:ext cx="59911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Angsana New"/>
                <a:cs typeface="Angsana New"/>
              </a:rPr>
              <a:t>หลักเกณฑ์กำกับดูแลความเสี่ยงด้านเครดิ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5520" y="1369800"/>
            <a:ext cx="8020080" cy="52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1.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นวปฏิบัติในการให้สินเชื่อ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1.1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นวนโยบายการทำธุรกรรมด้านสินเชื่อ 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ฉบับ </a:t>
            </a:r>
            <a:r>
              <a:rPr b="1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3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ส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ค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25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1.2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นวนโยบายการให้สินเชื่อแก่ภาคธุรกิจบางประเภท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ฉบับ </a:t>
            </a:r>
            <a:r>
              <a:rPr b="1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3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ส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ค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25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1.3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นวนโยบายการบริหารความเสี่ยงของประเทศคู่สัญญา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ฉบับ </a:t>
            </a:r>
            <a:r>
              <a:rPr b="1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3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ส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ค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r>
              <a:rPr b="1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25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65440" y="490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Angsana New"/>
                <a:cs typeface="Angsana New"/>
              </a:rPr>
              <a:t>หลักเกณฑ์กำกับดูแลความเสี่ยงด้านเครดิ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2.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กำกับดูแลด้านคุณภาพสินเชื่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2.1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รื่อง หลักเกณฑ์การจัดชั้นและการกันเงินสำรองของสถาบันการเงิน 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นส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31/25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2.2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นวนโยบายการประเมินมูลค่าหลักประกันและอสังหาริมทรัพย์รอการขายที่ได้มาจาก</a:t>
            </a:r>
            <a:br>
              <a:rPr sz="2400"/>
            </a:b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การชำระหนี้ของสถาบันการเงิน 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ฉบับ </a:t>
            </a:r>
            <a:r>
              <a:rPr b="1" lang="en-US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3 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ส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ค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25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2.3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นวนโยบายการปรับปรุงโครงสร้างหนี้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ฉบับ </a:t>
            </a:r>
            <a:r>
              <a:rPr b="1" lang="en-US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3 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ส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ค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25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2.4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รื่อง อสังหาริมทรัพย์รอการขายที่ได้มาจากการชำระหนี้ 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นส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. </a:t>
            </a:r>
            <a:r>
              <a:rPr b="1" lang="en-US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32/25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2.5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นวนโยบายการสอบทานเงินให้สินเชื่อเงินให้กู้ยืม ภาระผูกพัน และธุรกรรมที่มี</a:t>
            </a:r>
            <a:br>
              <a:rPr sz="2400"/>
            </a:b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ลักษณะคล้ายการให้สินเชื่อ  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ฉบับ </a:t>
            </a:r>
            <a:r>
              <a:rPr b="1" lang="en-US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3 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ส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ค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25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2.6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รื่อง การให้สินเชื่อในลักษณะที่เล็งเห็นว่าจะเรียกคืนไม่ได้ 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นส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33/25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2.7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รื่อง หลักประกันเป็นทรัพย์สินที่บริษัทเงินทุนต้องเรียก 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นส</a:t>
            </a:r>
            <a:r>
              <a:rPr b="1" lang="th-TH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. </a:t>
            </a:r>
            <a:r>
              <a:rPr b="1" lang="en-US" sz="2400" spc="-1" strike="noStrike">
                <a:solidFill>
                  <a:srgbClr val="000066"/>
                </a:solidFill>
                <a:latin typeface="Angsana New"/>
                <a:ea typeface="Angsana New"/>
              </a:rPr>
              <a:t>34/25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0920" y="706320"/>
            <a:ext cx="7489800" cy="7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Angsana New"/>
                <a:cs typeface="Angsana New"/>
              </a:rPr>
              <a:t>หลักเกณฑ์กำกับดูแลความเสี่ยงด้านเครดิ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1600" y="1641240"/>
            <a:ext cx="8754840" cy="34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3.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กำกับดูแลด้านการกระจุกตัวของสินเชื่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3.1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รื่อง หลักเกณฑ์การกำกับลูกหนี้รายใหญ่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(Single Lending</a:t>
            </a:r>
            <a:br>
              <a:rPr sz="2800"/>
            </a:b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Limit) 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นส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. </a:t>
            </a:r>
            <a:r>
              <a:rPr b="1" lang="en-US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35/25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3.2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รื่อง หลักเกณฑ์การกำกับการทำธุรกรรมกับผู้ถือหุ้น </a:t>
            </a:r>
            <a:br>
              <a:rPr sz="2800"/>
            </a:b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 รายใหญ่ หรือกิจการที่มีผลประโยชน์เกี่ยวข้อง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(Related Lending) 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นส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. </a:t>
            </a:r>
            <a:r>
              <a:rPr b="1" lang="en-US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36/25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3.3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รื่อง หลักเกณฑ์และวิธีการการลงทุนของสถาบันการเงิ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      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นส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. </a:t>
            </a:r>
            <a:r>
              <a:rPr b="1" lang="en-US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37/25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3.4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รื่อง การให้สินเชื่อบัตรเครดิตและสินเชื่อเพื่อเป็นสวัสดิการ</a:t>
            </a:r>
            <a:br>
              <a:rPr sz="2800"/>
            </a:b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แก่กรรมการ ผู้บริหารระดับสูง ผู้มีอำนาจในการจัดการของสถาบันการเงิ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      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นส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. </a:t>
            </a:r>
            <a:r>
              <a:rPr b="1" lang="en-US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38/25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7240" y="770040"/>
            <a:ext cx="6931080" cy="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66"/>
                </a:solidFill>
                <a:latin typeface="Angsana New"/>
                <a:cs typeface="Angsana New"/>
              </a:rPr>
              <a:t>หลักเกณฑ์กำกับดูแลความเสี่ยงด้านเครดิ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652760"/>
            <a:ext cx="9274320" cy="393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4.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ประกอบธุรกิจบัตรเครดิตและสินเชื่อส่วนบุคค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4.1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รื่อง การกำหนดหลักเกณฑ์ วิธีการ และเงื่อนไขในการ</a:t>
            </a:r>
            <a:br>
              <a:rPr sz="2800"/>
            </a:b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 ประกอบธุรกิจบัตรเครดิตของธนาคารพาณิชย์ 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นส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. </a:t>
            </a:r>
            <a:r>
              <a:rPr b="1" lang="en-US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72/25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4.2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รื่อง การกำหนดหลักเกณฑ์ วิธีการ และเงื่อนไขในการ</a:t>
            </a:r>
            <a:br>
              <a:rPr sz="2800"/>
            </a:b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ประกอบธุรกิจสินเชื่อส่วนบุคคลภายใต้การกำกับสำหรับสถาบันการเงิน 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นส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. </a:t>
            </a:r>
            <a:r>
              <a:rPr b="1" lang="en-US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73/25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5.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กำกับสถาบันการเงินเพื่อความเป็นธรรมต่อลูกค้าประชาชน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(Consumer Protec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5.1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นวปฏิบัติในการติดตามทวงถามหนี้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  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3 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cs typeface="Angsana New"/>
              </a:rPr>
              <a:t>ส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.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cs typeface="Angsana New"/>
              </a:rPr>
              <a:t>ค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. </a:t>
            </a:r>
            <a:r>
              <a:rPr b="1" lang="en-US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25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5.2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ระกาศ ธปท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รื่อง การทำสัญญาค้ำประกันด้วยบุคคลของสถาบันการเงิน</a:t>
            </a:r>
            <a:br>
              <a:rPr sz="2800"/>
            </a:b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(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นส</a:t>
            </a:r>
            <a:r>
              <a:rPr b="1" lang="th-TH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. </a:t>
            </a:r>
            <a:r>
              <a:rPr b="1" lang="en-US" sz="2800" spc="-1" strike="noStrike">
                <a:solidFill>
                  <a:srgbClr val="000066"/>
                </a:solidFill>
                <a:latin typeface="Angsana New"/>
                <a:ea typeface="Angsana New"/>
              </a:rPr>
              <a:t>78/255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2040" y="1695600"/>
            <a:ext cx="932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08240" y="647640"/>
            <a:ext cx="7632720" cy="84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66"/>
                </a:solidFill>
                <a:uFillTx/>
                <a:latin typeface="Angsana New"/>
                <a:cs typeface="Angsana New"/>
              </a:rPr>
              <a:t>ผู้ที่เกี่ยวข้อ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3333cc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นับจำนวนหุ้นของผู้ถือหุ้น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17, 18, 1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นับจำนวนหุ้นที่ สง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ถือ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3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ชื่อมโยงผู้บริหาร สง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.,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ถือหุ้นรายใหญ่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4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นับเงินให้สินเชื่อ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en-US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49, 50, 5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ใช้อำนาจตรวจสอบ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าตรา </a:t>
            </a:r>
            <a:r>
              <a:rPr b="1" lang="th-TH" sz="4000" spc="-1" strike="noStrike">
                <a:solidFill>
                  <a:srgbClr val="3333cc"/>
                </a:solidFill>
                <a:latin typeface="Angsana New"/>
                <a:ea typeface="Angsana New"/>
              </a:rPr>
              <a:t>8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อื่น 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9440" y="534960"/>
            <a:ext cx="9323280" cy="83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Angsana New"/>
                <a:ea typeface="Angsana New"/>
              </a:rPr>
              <a:t>                                            </a:t>
            </a:r>
            <a:r>
              <a:rPr b="1" lang="th-TH" sz="4000" spc="-1" strike="noStrike" u="sng">
                <a:solidFill>
                  <a:srgbClr val="000099"/>
                </a:solidFill>
                <a:uFillTx/>
                <a:latin typeface="Angsana New"/>
                <a:cs typeface="Angsana New"/>
              </a:rPr>
              <a:t>มาตรา </a:t>
            </a:r>
            <a:r>
              <a:rPr b="1" lang="en-US" sz="4000" spc="-1" strike="noStrike" u="sng">
                <a:solidFill>
                  <a:srgbClr val="000099"/>
                </a:solidFill>
                <a:uFillTx/>
                <a:latin typeface="Angsana New"/>
                <a:ea typeface="Angsana New"/>
              </a:rPr>
              <a:t>12 </a:t>
            </a:r>
            <a:r>
              <a:rPr b="1" lang="th-TH" sz="4000" spc="-1" strike="noStrike" u="sng">
                <a:solidFill>
                  <a:srgbClr val="000099"/>
                </a:solidFill>
                <a:uFillTx/>
                <a:latin typeface="Angsana New"/>
                <a:cs typeface="Angsana New"/>
              </a:rPr>
              <a:t>ทวิ</a:t>
            </a:r>
            <a:br>
              <a:rPr sz="4000"/>
            </a:br>
            <a:r>
              <a:rPr b="1" lang="th-TH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ให้สินเชื่อแก่หรือประกันหนี้ใด ๆ ของบุคคลหรือห้างหุ้นส่วนดังต่อไปนี้ หรือการรับรอง รับอาวั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รือสอดเข้าแก้หน้าในตั๋วเงินที่บุคคลหรือห้างหุ้นส่วน ดังต่อไปนี้เป็นผู้สั่งจ่ายหรือผู้ออกตั๋วหรือผู้สลักหลังให้ถื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ว่าเป็นการให้สินเชื่อ หรือประกันหนี้ หรือการรับรอง รับอาวัล หรือสอดเข้าแก้หน้าแก่กรรมการตาม ม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12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1.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ู่สมรสของกรรม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2.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ุตรที่ยังไม่บรรลุนิติภาวะของกรรม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3.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้างหุ้นส่วนสามัญที่กรรมการหรือบุคคลตาม</a:t>
            </a: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๑</a:t>
            </a: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รือ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๒</a:t>
            </a: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ป็นหุ้นส่ว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4.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้างหุ้นส่วนจำกัดที่กรรมการหรือบุคคลตาม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๑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รือ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๒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ป็นหุ้นส่วนจำพวกไม่จำกัดความรับผิด หรือเป็นหุ้นส่วนจำพวกจำกัดความรับผิดรวมกันเกินร้อยละ </a:t>
            </a: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30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ของทุนทั้งหมดของห้างหุ้นส่วนจำกัดนั้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5.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ริษัทจำกัดที่กรรมการหรือบุคคลตาม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๑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รือ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๒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รือห้างหุ้นส่วนตาม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๓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รือ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๔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ถือหุ้นรวมกันเกิน   ร้อยละ</a:t>
            </a: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30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ของจำนวนหุ้นที่จำหน่ายได้แล้วทั้งหมดของบริษัทจำกัดนั้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6.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ริษัทจำกัดที่กรรมการหรือบุคคลตาม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๑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รือ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๒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รือห้างหุ้นส่วนตาม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๓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รือ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๔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รือบริษัทจำกัด      ตาม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๕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)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ถือหุ้นรวมกันเกินร้อยละ</a:t>
            </a: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30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 New"/>
              </a:rPr>
              <a:t>ของจำนวนหุ้นที่จำหน่ายได้แล้วทั้งหมดของบริษัทจำกัด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FreesiaUPC"/>
              </a:rPr>
              <a:t>นั้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36560" y="851040"/>
            <a:ext cx="859464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99"/>
                </a:solidFill>
                <a:uFillTx/>
                <a:latin typeface="Angsana New"/>
                <a:cs typeface="Angsana New"/>
              </a:rPr>
              <a:t>มาตรา </a:t>
            </a:r>
            <a:r>
              <a:rPr b="1" lang="en-US" sz="4400" spc="-1" strike="noStrike" u="sng">
                <a:solidFill>
                  <a:srgbClr val="000099"/>
                </a:solidFill>
                <a:uFillTx/>
                <a:latin typeface="Angsana New"/>
                <a:ea typeface="Angsana New"/>
              </a:rPr>
              <a:t>12 </a:t>
            </a:r>
            <a:r>
              <a:rPr b="1" lang="th-TH" sz="4400" spc="-1" strike="noStrike" u="sng">
                <a:solidFill>
                  <a:srgbClr val="000099"/>
                </a:solidFill>
                <a:uFillTx/>
                <a:latin typeface="Angsana New"/>
                <a:cs typeface="Angsana New"/>
              </a:rPr>
              <a:t>ทว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1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รรมกา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2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ภรรย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3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ุต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4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จก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ที่มีบุคคลตาม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1 + 2 + 3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ถือหุ้นรวม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&gt;  30 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5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ริษัท ที่มีบุคคลตาม    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1 + 2 + 3 + 4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ถือหุ้นรวม  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&gt;  30 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6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ริษัท ที่มีบุคคลตาม    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1 + 2 + 3 + 4 + 5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ถือหุ้นรวม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&gt;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06:43:07Z</dcterms:created>
  <dc:creator>Teerin Ratanayowong</dc:creator>
  <dc:description/>
  <dc:language>en-US</dc:language>
  <cp:lastModifiedBy>ITG</cp:lastModifiedBy>
  <dcterms:modified xsi:type="dcterms:W3CDTF">2008-09-22T03:32:07Z</dcterms:modified>
  <cp:revision>889</cp:revision>
  <dc:subject/>
  <dc:title>No Slide Title</dc:title>
</cp:coreProperties>
</file>